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457-26D7-4D9E-9522-08191D3A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9BC-7F74-4E69-83D5-15A70DDC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B65-0F91-406F-A21B-37BDA05E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713-AD2B-43B8-BDA3-28148894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185-5051-49E6-9DEF-0EAC100E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DF6-2D16-4AF7-9B01-B07E895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255-C36E-49D0-98D1-DFB085F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80C-01F5-4597-9D10-58744500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789-B485-4E35-A2B6-F6B0B03D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561-AACA-435F-A31D-D8F618E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0E9-F959-4FDC-950E-085ACAD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454-C984-42A6-8C0F-45F49708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4A5-7DF7-4E38-AC00-03737D884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Cooper Black"/>
              </a:rPr>
              <a:t>Искрометный чеховский юмор</a:t>
            </a:r>
            <a:br>
              <a:rPr sz="4000"/>
            </a:br>
            <a:r>
              <a:rPr b="1" lang="ru-RU" sz="4000" spc="-1" strike="noStrike">
                <a:solidFill>
                  <a:srgbClr val="333333"/>
                </a:solidFill>
                <a:latin typeface="Cooper Black"/>
              </a:rPr>
              <a:t>(юморески А.П.Чех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icture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895480" y="1828800"/>
            <a:ext cx="2971800" cy="430524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4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3660840" y="409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Детво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1143000" y="990720"/>
            <a:ext cx="6705720" cy="5638680"/>
            <a:chOff x="1143000" y="990720"/>
            <a:chExt cx="6705720" cy="5638680"/>
          </a:xfrm>
        </p:grpSpPr>
        <p:pic>
          <p:nvPicPr>
            <p:cNvPr id="82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705720" cy="563868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3" name="Text Box 6"/>
            <p:cNvSpPr/>
            <p:nvPr/>
          </p:nvSpPr>
          <p:spPr>
            <a:xfrm>
              <a:off x="685872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6291360" y="38088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«Унтер Пришибе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311120" y="293760"/>
            <a:ext cx="4872240" cy="6356160"/>
            <a:chOff x="1311120" y="293760"/>
            <a:chExt cx="4872240" cy="6356160"/>
          </a:xfrm>
        </p:grpSpPr>
        <p:pic>
          <p:nvPicPr>
            <p:cNvPr id="86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311120" y="293760"/>
              <a:ext cx="4872240" cy="63561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7" name="Text Box 6"/>
            <p:cNvSpPr/>
            <p:nvPr/>
          </p:nvSpPr>
          <p:spPr>
            <a:xfrm>
              <a:off x="1524960" y="624852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081840" y="4968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Хирур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609480" y="228600"/>
            <a:ext cx="4647960" cy="6476760"/>
            <a:chOff x="609480" y="228600"/>
            <a:chExt cx="4647960" cy="6476760"/>
          </a:xfrm>
        </p:grpSpPr>
        <p:pic>
          <p:nvPicPr>
            <p:cNvPr id="90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609480" y="228600"/>
              <a:ext cx="4647960" cy="64767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1" name="Text Box 6"/>
            <p:cNvSpPr/>
            <p:nvPr/>
          </p:nvSpPr>
          <p:spPr>
            <a:xfrm>
              <a:off x="776520" y="63856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6464160" y="2682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Нал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80880" y="152280"/>
            <a:ext cx="5105520" cy="6477120"/>
            <a:chOff x="380880" y="152280"/>
            <a:chExt cx="5105520" cy="6477120"/>
          </a:xfrm>
        </p:grpSpPr>
        <p:pic>
          <p:nvPicPr>
            <p:cNvPr id="94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5105520" cy="64771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5" name="Text Box 6"/>
            <p:cNvSpPr/>
            <p:nvPr/>
          </p:nvSpPr>
          <p:spPr>
            <a:xfrm>
              <a:off x="534240" y="624852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Откуда эти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И для него ясно, что мир  изменился и что жить на свете уже никак невоз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можно. Мрачные унылые мысли овладевают им. Но… он по привычк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кричит хриплым, сердитым голосом: «Народ, расходись! Не толпись!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ома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Унтер Пришибее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Вы живете, как дикие звери, газет не читаете, не обращаете никакого вн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мания на гласность, а в газетах так много замечательного! Ежели что сл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чится, сейчас все известно. ничего не укроется! Как я счастлив! О господи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Радость» Митя Кулд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ела его идут неважно, и каждый вечер теперь, входя к себе, я все бою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что увижу около своей кровати белый мраморный памятник или катафа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Страшная ночь» Иван Петрович Панихи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Ишь ты, господи… Так это ихняя собачка? Очень рад… Шустрая така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Цап этого за палец! Ха-ха-ха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Хамелеон» Полицейский надзиратель Очум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Приезжай, милый дедушка. Христом-богом тебя молю, возьми меня отс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а. Пожалей ты меня, сироту несчастную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Ванька» Ванька Жу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Играют дети на деньги. Ставка- копейка. Условие: если кто смошеничает, 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немедленно вон… Играют с азарто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Детвор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5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50"/>
                            </p:stCondLst>
                            <p:childTnLst>
                              <p:par>
                                <p:cTn id="2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25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250"/>
                            </p:stCondLst>
                            <p:childTnLst>
                              <p:par>
                                <p:cTn id="2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25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5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5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5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800"/>
                            </p:stCondLst>
                            <p:childTnLst>
                              <p:par>
                                <p:cTn id="3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300"/>
                            </p:stCondLst>
                            <p:childTnLst>
                              <p:par>
                                <p:cTn id="3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80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300"/>
                            </p:stCondLst>
                            <p:childTnLst>
                              <p:par>
                                <p:cTn id="3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8750"/>
                            </p:stCondLst>
                            <p:childTnLst>
                              <p:par>
                                <p:cTn id="3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9250"/>
                            </p:stCondLst>
                            <p:childTnLst>
                              <p:par>
                                <p:cTn id="4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975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ка анализа расск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Действующие лица: главные, второстепенные (как вы думаете, почему автор не ограничился только главными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Характеристика действующих лиц (социальное положение, ч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Чего хотят главные герои, к чему стремя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Какими средствами, действиями добиваются желаемо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Каков результат предпринятых усил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2736720"/>
          <a:ext cx="8534520" cy="3962520"/>
        </p:xfrm>
        <a:graphic>
          <a:graphicData uri="http://schemas.openxmlformats.org/drawingml/2006/table">
            <a:tbl>
              <a:tblPr/>
              <a:tblGrid>
                <a:gridCol w="3340080"/>
                <a:gridCol w="2781360"/>
                <a:gridCol w="2413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дано литературное 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ская поз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размышле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озаклю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ема.Иде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южет (фабула – событийный ря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мпози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экспозиция- преды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завя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вит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кульми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д) развяз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ыразительные средства языка: сравнение, метафор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итет, гипербола, литота, аллегория, ирония и т.д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ая проблема, явление или событие волнует авт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 и побуждает его вз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пер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ма: гуманное 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человеку, животным; бережное отношение к т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нту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ам автор относится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ой теме? В чем он х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 убедить читателя?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 призывает? и т.д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думаю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кажется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читаю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чувство я испытал при чтен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выраж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мор и сатира рас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ов А.П.Чехов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ьность темы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Blackadder ITC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зовите годы жизни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е опубликованное произведение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ие два дела ненавидел Чехов-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А.П.Чехов, вспоминая о своих детских годах, не раз повторял грустную фразу: «В детстве у меня не было детств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поху какого императора писал А.П.Чех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зовите произведения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спомните псевдонимы А.П.Чехов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85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65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6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4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9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cbc"/>
            </a:gs>
            <a:gs pos="50000">
              <a:srgbClr val="ffffff"/>
            </a:gs>
            <a:gs pos="100000">
              <a:srgbClr val="bc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404400" y="22860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Вань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0" y="0"/>
            <a:ext cx="5334120" cy="6914160"/>
            <a:chOff x="0" y="0"/>
            <a:chExt cx="5334120" cy="6914160"/>
          </a:xfrm>
        </p:grpSpPr>
        <p:pic>
          <p:nvPicPr>
            <p:cNvPr id="47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4120" cy="6912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48" name="Text Box 8"/>
            <p:cNvSpPr/>
            <p:nvPr/>
          </p:nvSpPr>
          <p:spPr>
            <a:xfrm>
              <a:off x="4124880" y="66070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657600" y="228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28600" y="914400"/>
            <a:ext cx="4267080" cy="5791320"/>
            <a:chOff x="228600" y="914400"/>
            <a:chExt cx="4267080" cy="5791320"/>
          </a:xfrm>
        </p:grpSpPr>
        <p:pic>
          <p:nvPicPr>
            <p:cNvPr id="51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228600" y="914400"/>
              <a:ext cx="4267080" cy="57913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2" name="Text Box 7"/>
            <p:cNvSpPr/>
            <p:nvPr/>
          </p:nvSpPr>
          <p:spPr>
            <a:xfrm>
              <a:off x="457920" y="63244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5029200" y="914400"/>
            <a:ext cx="3841920" cy="5804640"/>
            <a:chOff x="5029200" y="914400"/>
            <a:chExt cx="3841920" cy="5804640"/>
          </a:xfrm>
        </p:grpSpPr>
        <p:pic>
          <p:nvPicPr>
            <p:cNvPr id="54" name="Picture 5" descr="picture"/>
            <p:cNvPicPr/>
            <p:nvPr/>
          </p:nvPicPr>
          <p:blipFill>
            <a:blip r:embed="rId2"/>
            <a:stretch/>
          </p:blipFill>
          <p:spPr>
            <a:xfrm>
              <a:off x="5029200" y="914400"/>
              <a:ext cx="3841920" cy="57913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5" name="Text Box 8"/>
            <p:cNvSpPr/>
            <p:nvPr/>
          </p:nvSpPr>
          <p:spPr>
            <a:xfrm>
              <a:off x="5319000" y="641196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5336280" y="8380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228600" y="228600"/>
            <a:ext cx="4876920" cy="6477120"/>
            <a:chOff x="228600" y="228600"/>
            <a:chExt cx="4876920" cy="6477120"/>
          </a:xfrm>
        </p:grpSpPr>
        <p:pic>
          <p:nvPicPr>
            <p:cNvPr id="58" name="Picture 5" descr="picture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4876920" cy="64771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9" name="Text Box 7"/>
            <p:cNvSpPr/>
            <p:nvPr/>
          </p:nvSpPr>
          <p:spPr>
            <a:xfrm>
              <a:off x="4191840" y="632448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ture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56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1" name="Text Box 5"/>
          <p:cNvSpPr/>
          <p:nvPr/>
        </p:nvSpPr>
        <p:spPr>
          <a:xfrm>
            <a:off x="3278880" y="48564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Страшная ноч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720" y="609588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.Тю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889440" y="2570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Рад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1295280" y="1143000"/>
            <a:ext cx="6705720" cy="5486400"/>
            <a:chOff x="1295280" y="1143000"/>
            <a:chExt cx="6705720" cy="5486400"/>
          </a:xfrm>
        </p:grpSpPr>
        <p:pic>
          <p:nvPicPr>
            <p:cNvPr id="65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295280" y="1143000"/>
              <a:ext cx="6705720" cy="54864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6" name="Text Box 6"/>
            <p:cNvSpPr/>
            <p:nvPr/>
          </p:nvSpPr>
          <p:spPr>
            <a:xfrm>
              <a:off x="190584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5775840" y="69696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«Толстый и тон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838080" y="228600"/>
            <a:ext cx="4724640" cy="6296040"/>
            <a:chOff x="838080" y="228600"/>
            <a:chExt cx="4724640" cy="6296040"/>
          </a:xfrm>
        </p:grpSpPr>
        <p:pic>
          <p:nvPicPr>
            <p:cNvPr id="69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838080" y="228600"/>
              <a:ext cx="4724640" cy="629604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0" name="Text Box 6"/>
            <p:cNvSpPr/>
            <p:nvPr/>
          </p:nvSpPr>
          <p:spPr>
            <a:xfrm>
              <a:off x="915120" y="617220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2729160" y="-363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Злоумышл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42800" y="64882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1055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2"/>
          <p:cNvGrpSpPr/>
          <p:nvPr/>
        </p:nvGrpSpPr>
        <p:grpSpPr>
          <a:xfrm>
            <a:off x="4800600" y="380880"/>
            <a:ext cx="4038480" cy="6248520"/>
            <a:chOff x="4800600" y="380880"/>
            <a:chExt cx="4038480" cy="6248520"/>
          </a:xfrm>
        </p:grpSpPr>
        <p:pic>
          <p:nvPicPr>
            <p:cNvPr id="75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4800600" y="380880"/>
              <a:ext cx="4038480" cy="62485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6" name="Text Box 9"/>
            <p:cNvSpPr/>
            <p:nvPr/>
          </p:nvSpPr>
          <p:spPr>
            <a:xfrm>
              <a:off x="784944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380880" y="380880"/>
            <a:ext cx="4038840" cy="6248520"/>
            <a:chOff x="380880" y="380880"/>
            <a:chExt cx="4038840" cy="6248520"/>
          </a:xfrm>
        </p:grpSpPr>
        <p:pic>
          <p:nvPicPr>
            <p:cNvPr id="78" name="Picture 5" descr="picture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4038840" cy="62485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9" name="Text Box 10"/>
            <p:cNvSpPr/>
            <p:nvPr/>
          </p:nvSpPr>
          <p:spPr>
            <a:xfrm>
              <a:off x="518400" y="62596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UCH</cp:lastModifiedBy>
  <dcterms:modified xsi:type="dcterms:W3CDTF">2009-12-02T04:47:4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