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C3D-9C1E-4183-9522-C56E70ED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359-A4B0-4638-9D07-B457728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2F3-B49D-4497-9500-C4E21431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6E2-08B1-4A66-BEBF-A57D0DD6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432-204D-4C39-972D-4ABAD72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7CF-79E0-4528-B450-C88EF1EC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C71-45C8-426D-84A3-691395C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8FB-6D00-4157-9E8C-86B70969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137-A17F-4F4A-A716-1B739DC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968-F342-4EC7-91E6-701DEFA8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447-2174-479B-9C65-E6BC209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99D-AFA9-4537-8EBA-09912F6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ACD8-62A8-4F18-A9FA-42E0DA8C9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c2"/>
            </a:gs>
            <a:gs pos="50000">
              <a:srgbClr val="ffffff"/>
            </a:gs>
            <a:gs pos="100000">
              <a:srgbClr val="c2c2c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Cooper Black"/>
              </a:rPr>
              <a:t>Искрометный чеховский юмор</a:t>
            </a:r>
            <a:br>
              <a:rPr sz="4000"/>
            </a:br>
            <a:r>
              <a:rPr b="1" lang="ru-RU" sz="4000" spc="-1" strike="noStrike">
                <a:solidFill>
                  <a:srgbClr val="333333"/>
                </a:solidFill>
                <a:latin typeface="Cooper Black"/>
              </a:rPr>
              <a:t>(юморески А.П.Чехо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icture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895480" y="1828800"/>
            <a:ext cx="2971800" cy="430524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4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3660840" y="4096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Детво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1143000" y="990720"/>
            <a:ext cx="6705720" cy="5638680"/>
            <a:chOff x="1143000" y="990720"/>
            <a:chExt cx="6705720" cy="5638680"/>
          </a:xfrm>
        </p:grpSpPr>
        <p:pic>
          <p:nvPicPr>
            <p:cNvPr id="82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705720" cy="563868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3" name="Text Box 6"/>
            <p:cNvSpPr/>
            <p:nvPr/>
          </p:nvSpPr>
          <p:spPr>
            <a:xfrm>
              <a:off x="6858720" y="62485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6291360" y="38088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«Унтер Пришибее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311120" y="293760"/>
            <a:ext cx="4872240" cy="6356160"/>
            <a:chOff x="1311120" y="293760"/>
            <a:chExt cx="4872240" cy="6356160"/>
          </a:xfrm>
        </p:grpSpPr>
        <p:pic>
          <p:nvPicPr>
            <p:cNvPr id="86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1311120" y="293760"/>
              <a:ext cx="4872240" cy="635616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87" name="Text Box 6"/>
            <p:cNvSpPr/>
            <p:nvPr/>
          </p:nvSpPr>
          <p:spPr>
            <a:xfrm>
              <a:off x="1524960" y="624852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6081840" y="4968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Хирур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609480" y="228600"/>
            <a:ext cx="4647960" cy="6476760"/>
            <a:chOff x="609480" y="228600"/>
            <a:chExt cx="4647960" cy="6476760"/>
          </a:xfrm>
        </p:grpSpPr>
        <p:pic>
          <p:nvPicPr>
            <p:cNvPr id="90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609480" y="228600"/>
              <a:ext cx="4647960" cy="647676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1" name="Text Box 6"/>
            <p:cNvSpPr/>
            <p:nvPr/>
          </p:nvSpPr>
          <p:spPr>
            <a:xfrm>
              <a:off x="776520" y="63856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6464160" y="2682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Нал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80880" y="152280"/>
            <a:ext cx="5105520" cy="6477120"/>
            <a:chOff x="380880" y="152280"/>
            <a:chExt cx="5105520" cy="6477120"/>
          </a:xfrm>
        </p:grpSpPr>
        <p:pic>
          <p:nvPicPr>
            <p:cNvPr id="94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380880" y="152280"/>
              <a:ext cx="5105520" cy="64771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95" name="Text Box 6"/>
            <p:cNvSpPr/>
            <p:nvPr/>
          </p:nvSpPr>
          <p:spPr>
            <a:xfrm>
              <a:off x="534240" y="624852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Откуда эти стр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И для него ясно, что мир  изменился и что жить на свете уже никак невоз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можно. Мрачные унылые мысли овладевают им. Но… он по привычк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кричит хриплым, сердитым голосом: «Народ, расходись! Не толпись!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ома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Унтер Пришибее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«Вы живете, как дикие звери, газет не читаете, не обращаете никакого вн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мания на гласность, а в газетах так много замечательного! Ежели что сл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чится, сейчас все известно. ничего не укроется! Как я счастлив! О господи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Радость» Митя Кулда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ела его идут неважно, и каждый вечер теперь, входя к себе, я все бою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что увижу около своей кровати белый мраморный памятник или катафал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Страшная ночь» Иван Петрович Панихид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«Ишь ты, господи… Так это ихняя собачка? Очень рад… Шустрая така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Цап этого за палец! Ха-ха-ха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Хамелеон» Полицейский надзиратель Очуме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«Приезжай, милый дедушка. Христом-богом тебя молю, возьми меня отс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да. Пожалей ты меня, сироту несчастную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Ванька» Ванька Жу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Играют дети на деньги. Ставка- копейка. Условие: если кто смошеничает, 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66"/>
                </a:solidFill>
                <a:latin typeface="Arial"/>
              </a:rPr>
              <a:t>немедленно вон… Играют с азарто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Arial"/>
              </a:rPr>
              <a:t>«Детвор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250"/>
                            </p:stCondLst>
                            <p:childTnLst>
                              <p:par>
                                <p:cTn id="2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250"/>
                            </p:stCondLst>
                            <p:childTnLst>
                              <p:par>
                                <p:cTn id="2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250"/>
                            </p:stCondLst>
                            <p:childTnLst>
                              <p:par>
                                <p:cTn id="2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250"/>
                            </p:stCondLst>
                            <p:childTnLst>
                              <p:par>
                                <p:cTn id="2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250"/>
                            </p:stCondLst>
                            <p:childTnLst>
                              <p:par>
                                <p:cTn id="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50"/>
                            </p:stCondLst>
                            <p:childTnLst>
                              <p:par>
                                <p:cTn id="3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5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55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800"/>
                            </p:stCondLst>
                            <p:childTnLst>
                              <p:par>
                                <p:cTn id="3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300"/>
                            </p:stCondLst>
                            <p:childTnLst>
                              <p:par>
                                <p:cTn id="3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3800"/>
                            </p:stCondLst>
                            <p:childTnLst>
                              <p:par>
                                <p:cTn id="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6300"/>
                            </p:stCondLst>
                            <p:childTnLst>
                              <p:par>
                                <p:cTn id="3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8750"/>
                            </p:stCondLst>
                            <p:childTnLst>
                              <p:par>
                                <p:cTn id="3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9250"/>
                            </p:stCondLst>
                            <p:childTnLst>
                              <p:par>
                                <p:cTn id="4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975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ка анализа расск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Действующие лица: главные, второстепенные (как вы думаете, почему автор не ограничился только главными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Характеристика действующих лиц (социальное положение, ч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Чего хотят главные герои, к чему стремя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Какими средствами, действиями добиваются желаемог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Каков результат предпринятых усил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2736720"/>
          <a:ext cx="8534520" cy="3962520"/>
        </p:xfrm>
        <a:graphic>
          <a:graphicData uri="http://schemas.openxmlformats.org/drawingml/2006/table">
            <a:tbl>
              <a:tblPr/>
              <a:tblGrid>
                <a:gridCol w="3340080"/>
                <a:gridCol w="2781360"/>
                <a:gridCol w="24130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дано литературное 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ская поз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е размышлен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озаклю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ема.Иде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южет (фабула – событийный ря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мпозиц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экспозиция- преды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завя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звити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кульми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д) развяз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Выразительные средства языка: сравнение, метафор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питет, гипербола, литота, аллегория, ирония и т.д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ая проблема, явление или событие волнует авт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 и побуждает его вз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пер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ма: гуманное отно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человеку, животным; бережное отношение к т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нту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ам автор относится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ой теме? В чем он х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 убедить читателя?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у призывает? и т.д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думаю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кажется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считаю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чувство я испытал при чтен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ем выраж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мор и сатира рас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ов А.П.Чехов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ьность темы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66"/>
                </a:solidFill>
                <a:latin typeface="Blackadder ITC"/>
              </a:rPr>
              <a:t>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зовите годы жизни А.П.Чех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рвое опубликованное произведение А.П.Чех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ие два дела ненавидел Чехов-мальч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А.П.Чехов, вспоминая о своих детских годах, не раз повторял грустную фразу: «В детстве у меня не было детств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 эпоху какого императора писал А.П.Чех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зовите произведения А.П.Чех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спомните псевдонимы А.П.Чехова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85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95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65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6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4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9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cbc"/>
            </a:gs>
            <a:gs pos="50000">
              <a:srgbClr val="ffffff"/>
            </a:gs>
            <a:gs pos="100000">
              <a:srgbClr val="bc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404400" y="22860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Вань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0" y="0"/>
            <a:ext cx="5334120" cy="6914160"/>
            <a:chOff x="0" y="0"/>
            <a:chExt cx="5334120" cy="6914160"/>
          </a:xfrm>
        </p:grpSpPr>
        <p:pic>
          <p:nvPicPr>
            <p:cNvPr id="47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4120" cy="69120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48" name="Text Box 8"/>
            <p:cNvSpPr/>
            <p:nvPr/>
          </p:nvSpPr>
          <p:spPr>
            <a:xfrm>
              <a:off x="4124880" y="66070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657600" y="228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Хамеле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28600" y="914400"/>
            <a:ext cx="4267080" cy="5791320"/>
            <a:chOff x="228600" y="914400"/>
            <a:chExt cx="4267080" cy="5791320"/>
          </a:xfrm>
        </p:grpSpPr>
        <p:pic>
          <p:nvPicPr>
            <p:cNvPr id="51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228600" y="914400"/>
              <a:ext cx="4267080" cy="57913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2" name="Text Box 7"/>
            <p:cNvSpPr/>
            <p:nvPr/>
          </p:nvSpPr>
          <p:spPr>
            <a:xfrm>
              <a:off x="457920" y="63244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5029200" y="914400"/>
            <a:ext cx="3841920" cy="5804640"/>
            <a:chOff x="5029200" y="914400"/>
            <a:chExt cx="3841920" cy="5804640"/>
          </a:xfrm>
        </p:grpSpPr>
        <p:pic>
          <p:nvPicPr>
            <p:cNvPr id="54" name="Picture 5" descr="picture"/>
            <p:cNvPicPr/>
            <p:nvPr/>
          </p:nvPicPr>
          <p:blipFill>
            <a:blip r:embed="rId2"/>
            <a:stretch/>
          </p:blipFill>
          <p:spPr>
            <a:xfrm>
              <a:off x="5029200" y="914400"/>
              <a:ext cx="3841920" cy="57913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5" name="Text Box 8"/>
            <p:cNvSpPr/>
            <p:nvPr/>
          </p:nvSpPr>
          <p:spPr>
            <a:xfrm>
              <a:off x="5319000" y="641196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5336280" y="83808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Лошадиная фамил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228600" y="228600"/>
            <a:ext cx="4876920" cy="6477120"/>
            <a:chOff x="228600" y="228600"/>
            <a:chExt cx="4876920" cy="6477120"/>
          </a:xfrm>
        </p:grpSpPr>
        <p:pic>
          <p:nvPicPr>
            <p:cNvPr id="58" name="Picture 5" descr="picture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4876920" cy="64771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59" name="Text Box 7"/>
            <p:cNvSpPr/>
            <p:nvPr/>
          </p:nvSpPr>
          <p:spPr>
            <a:xfrm>
              <a:off x="4191840" y="632448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ture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56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1" name="Text Box 5"/>
          <p:cNvSpPr/>
          <p:nvPr/>
        </p:nvSpPr>
        <p:spPr>
          <a:xfrm>
            <a:off x="3278880" y="48564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Страшная ноч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720" y="609588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.Тю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3889440" y="25704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Рад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1295280" y="1143000"/>
            <a:ext cx="6705720" cy="5486400"/>
            <a:chOff x="1295280" y="1143000"/>
            <a:chExt cx="6705720" cy="5486400"/>
          </a:xfrm>
        </p:grpSpPr>
        <p:pic>
          <p:nvPicPr>
            <p:cNvPr id="65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1295280" y="1143000"/>
              <a:ext cx="6705720" cy="548640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66" name="Text Box 6"/>
            <p:cNvSpPr/>
            <p:nvPr/>
          </p:nvSpPr>
          <p:spPr>
            <a:xfrm>
              <a:off x="1905840" y="62485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5775840" y="69696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«Толстый и тон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838080" y="228600"/>
            <a:ext cx="4724640" cy="6296040"/>
            <a:chOff x="838080" y="228600"/>
            <a:chExt cx="4724640" cy="6296040"/>
          </a:xfrm>
        </p:grpSpPr>
        <p:pic>
          <p:nvPicPr>
            <p:cNvPr id="69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838080" y="228600"/>
              <a:ext cx="4724640" cy="629604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0" name="Text Box 6"/>
            <p:cNvSpPr/>
            <p:nvPr/>
          </p:nvSpPr>
          <p:spPr>
            <a:xfrm>
              <a:off x="915120" y="617220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2729160" y="-3636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«Злоумышлен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42800" y="64882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10552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2"/>
          <p:cNvGrpSpPr/>
          <p:nvPr/>
        </p:nvGrpSpPr>
        <p:grpSpPr>
          <a:xfrm>
            <a:off x="4800600" y="380880"/>
            <a:ext cx="4038480" cy="6248520"/>
            <a:chOff x="4800600" y="380880"/>
            <a:chExt cx="4038480" cy="6248520"/>
          </a:xfrm>
        </p:grpSpPr>
        <p:pic>
          <p:nvPicPr>
            <p:cNvPr id="75" name="Picture 4" descr="picture"/>
            <p:cNvPicPr/>
            <p:nvPr/>
          </p:nvPicPr>
          <p:blipFill>
            <a:blip r:embed="rId1"/>
            <a:stretch/>
          </p:blipFill>
          <p:spPr>
            <a:xfrm>
              <a:off x="4800600" y="380880"/>
              <a:ext cx="4038480" cy="62485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6" name="Text Box 9"/>
            <p:cNvSpPr/>
            <p:nvPr/>
          </p:nvSpPr>
          <p:spPr>
            <a:xfrm>
              <a:off x="7849440" y="62485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.Тюн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380880" y="380880"/>
            <a:ext cx="4038840" cy="6248520"/>
            <a:chOff x="380880" y="380880"/>
            <a:chExt cx="4038840" cy="6248520"/>
          </a:xfrm>
        </p:grpSpPr>
        <p:pic>
          <p:nvPicPr>
            <p:cNvPr id="78" name="Picture 5" descr="picture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4038840" cy="6248520"/>
            </a:xfrm>
            <a:prstGeom prst="rect">
              <a:avLst/>
            </a:prstGeom>
            <a:ln w="9360">
              <a:solidFill>
                <a:srgbClr val="000000"/>
              </a:solidFill>
              <a:round/>
            </a:ln>
          </p:spPr>
        </p:pic>
        <p:sp>
          <p:nvSpPr>
            <p:cNvPr id="79" name="Text Box 10"/>
            <p:cNvSpPr/>
            <p:nvPr/>
          </p:nvSpPr>
          <p:spPr>
            <a:xfrm>
              <a:off x="518400" y="6259680"/>
              <a:ext cx="117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Кукрыник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UCH</cp:lastModifiedBy>
  <dcterms:modified xsi:type="dcterms:W3CDTF">2009-12-02T04:47:45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