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C29-18CB-4C8C-91C0-C8B9157A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DF8-E3C5-4C74-95AB-B719B098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E40-700E-4112-A821-9BD2C2FC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D95-1355-4F22-8296-612C05DD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3CB2-EEE5-4DA0-9BCB-2C574164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94F2-17B8-4647-A857-A31F1911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FC98-906D-476A-A1DD-E3D8AD3E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A676-1523-464E-ABFE-A7DFE607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4663-104B-466D-ABCD-51E5AFC3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9665-A3EE-4A1E-ABAF-537D04E7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AF53-2FC2-40D5-821E-F30538A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57B-98D5-482C-A8B9-4FDABC7C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33DC-4F22-477F-9547-6AB049AE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494B-23FA-4044-BAF0-A6B070B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E8F7-A3DD-4E72-9CC1-1CC84AAE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0349-6522-4B77-B045-5C7E94AE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2BD4-ACE1-49B2-884A-150DDE59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6B5-2316-4AFA-B16F-050B12F2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B28-3C2B-4144-B192-1C6E9BD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0CF-D21B-42C8-9252-77C9F347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A63-C2D8-4A11-BB6D-B8719F9D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B52-1519-4F23-B649-831C9607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277-001C-47EF-9AF9-419F3F0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974-8A3C-4C9A-B941-19F46C0C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5CA6-10B5-4BAE-93F8-DDFF44EE54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B989-9A62-41F3-968D-7352DCA0BBA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МОУ лицей №1 г.Волжский</a:t>
            </a:r>
            <a:br>
              <a:rPr sz="2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ила сопротивления в газах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4038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Проект по физик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Апрель 2009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едлож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спользуя результаты измерений можно сформулировать задачи для старших классов, так как сейчас их решить не представляется возможным, в следствии того, что движение не является равномерным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Благодарност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Я благодарю учащихся: Трофимова В., Порунова А., Прозорову В., Зима В. за помощь в проведении эксперимент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Я так же благодарна руководителю проекта Крученку Эрику Николаевич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результате работы я получила много дополнительных знаний и ум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ад проектом работ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окарева Еле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уководитель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рученок Эрик Николаеви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Цели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Исследовать зависимость силы сопротивления воздуха от площади поверхности те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Научиться планировать проектную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.Познакомиться с теорией по теме проект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.Продумать ход эксперимента и требуемые материал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.Провести эксперимент, для изучения зависимости падения груза на парашюте от площади поверхности и массы груз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.Научиться использовать для подготовки отчёта приложение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crosoft PowerPoint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Гипотез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ила сопротивления воздуха должна расти с увеличением площади поверхности те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боры и материал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05520" y="2205000"/>
            <a:ext cx="3643200" cy="3205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88620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хема опыт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3200400" cy="2361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3047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зультаты опыт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2280" y="1600200"/>
          <a:ext cx="8686800" cy="297180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600200"/>
                <a:gridCol w="1295640"/>
                <a:gridCol w="14475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см</a:t>
                      </a:r>
                      <a:r>
                        <a:rPr b="0" lang="en-US" sz="28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см</a:t>
                      </a:r>
                      <a:r>
                        <a:rPr b="0" lang="en-US" sz="28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0см</a:t>
                      </a:r>
                      <a:r>
                        <a:rPr b="0" lang="en-US" sz="24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0см</a:t>
                      </a:r>
                      <a:r>
                        <a:rPr b="0" lang="en-US" sz="24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00см</a:t>
                      </a:r>
                      <a:r>
                        <a:rPr b="0" lang="en-US" sz="24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,77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,13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,21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,5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,24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г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,64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,75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,89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,1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,94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Время падения груза, а значит и сила сопротивления нелинейно возрастают с увеличением площади поверхности те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При уменьшении массы груза время падения груза увеличивается, так как уменьшается сила тяже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K</cp:lastModifiedBy>
  <dcterms:modified xsi:type="dcterms:W3CDTF">2011-12-01T14:17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