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43B-3A4B-4739-8F49-54098ECF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4FE-E42E-4FD8-B3D8-84AD6B6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92F-E464-4152-88E7-6AF3DDA8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D95-7132-4B6B-A8A3-4C7A65FC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8978-AA3E-4C8D-BF6D-124E929D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4E5B-51CE-40DD-B2B7-FF94F1E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E5DF-7DA9-4F04-904B-6B84D2F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88A6-8655-48BA-8B35-68DE30C9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D237-926D-48EE-A9CD-F6F0EE78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FCBB-E5E0-4BBC-A0E3-D17491CC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7909-5421-4115-8B89-7E68895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F50-822B-4AF8-B550-8B9D840C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5E0B-D0C0-46C5-9A28-CBBE3D16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B93F-12BA-4E62-8168-4D41956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941-E2D0-4649-8A67-736E0ABB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B899-3867-46CE-99B6-ABC1FEE8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79C7-C011-4556-89C1-096EC80D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6CC-F318-4518-9F65-6FA2E1CF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300-7F2E-4D48-B43B-E5471BF8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33A-E01D-4081-B5E3-8EE062E9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050-202F-4F09-8BA0-7ECBD11E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9A3-68E3-432E-92F8-A4518087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B7C-ED53-4C07-B6E2-F282B6DC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8E5-39CE-493A-9A96-2719A63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95BF-E08E-4D93-BB21-FB93AF15FF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9177-704E-477F-8FD0-BA272796E27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МОУ лицей №1 г.Волжский</a:t>
            </a:r>
            <a:br>
              <a:rPr sz="2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ила сопротивления в газах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4038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роект по физик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Апрель 2009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едлож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спользуя результаты измерений можно сформулировать задачи для старших классов, так как сейчас их решить не представляется возможным, в следствии того, что движение не является равномерным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Благодарност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Я благодарю учащихся: Трофимова В., Порунова А., Прозорову В., Зима В. за помощь в проведении эксперимент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Я так же благодарна руководителю проекта Крученку Эрику Николаевич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результате работы я получила много дополнительных знаний и ум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ад проектом работ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окарева Еле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уководитель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рученок Эрик Николае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Исследовать зависимость силы сопротивления воздуха от площади поверхности те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Научиться планировать проектную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.Познакомиться с теорией по теме проек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.Продумать ход эксперимента и требуемые материа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.Провести эксперимент, для изучения зависимости падения груза на парашюте от площади поверхности и массы груз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.Научиться использовать для подготовки отчёта приложение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crosoft PowerPoint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Гипотез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ила сопротивления воздуха должна расти с увеличением площади поверхности те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боры и материал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05520" y="2205000"/>
            <a:ext cx="3643200" cy="3205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88620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хема опыт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320040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3047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зультаты опыт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280" y="1600200"/>
          <a:ext cx="8686800" cy="29718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600200"/>
                <a:gridCol w="1295640"/>
                <a:gridCol w="14475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см</a:t>
                      </a:r>
                      <a:r>
                        <a:rPr b="0" lang="en-US" sz="28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см</a:t>
                      </a:r>
                      <a:r>
                        <a:rPr b="0" lang="en-US" sz="28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0см</a:t>
                      </a:r>
                      <a:r>
                        <a:rPr b="0" lang="en-US" sz="24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0см</a:t>
                      </a:r>
                      <a:r>
                        <a:rPr b="0" lang="en-US" sz="24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0см</a:t>
                      </a:r>
                      <a:r>
                        <a:rPr b="0" lang="en-US" sz="24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,77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,13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,21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,5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,24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г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,64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,75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,89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,1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,94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Время падения груза, а значит и сила сопротивления нелинейно возрастают с увеличением площади поверхности те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При уменьшении массы груза время падения груза увеличивается, так как уменьшается сила тяже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K</cp:lastModifiedBy>
  <dcterms:modified xsi:type="dcterms:W3CDTF">2011-12-01T14:17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