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738C-9E16-4A57-872A-D8539225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930A-5329-43CD-A785-0D7187F5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2C02-9276-4750-A711-B7E0C2CB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B54F-45E0-4337-89A1-ED4BCD54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F02C-C5A5-451A-947D-1C7BF1CC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9954-CE9E-46F6-B988-7268F8ED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3118-3664-40F1-A013-0FF1862A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B02B-9705-4BEF-8CB4-DBC0BC72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C605-4C35-43CE-9FA3-6854AFC4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384A-4AE7-4A09-8696-ABD00AF7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29CA-AA62-4B35-843C-580693C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C12E-48A5-465C-B89D-E7389E0B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1824-B207-4F86-88EA-90250308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1178-DE7B-450A-8EF8-F118CD5F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AD3A-2BC4-4EC9-8012-9CDAC207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6600-6B9F-4715-98EE-9848CB56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9C7B-5340-444D-BE78-9E23A021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6874-A340-4583-839C-0C86CB38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246B-CB48-4157-9282-AF638AEE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00F4-B8D4-4BE0-8BE5-5421207C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7C2E-AFE1-456F-A359-C767F37F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B906-3ED5-48C7-AE69-69CCE772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B583-9EAE-4494-8FB5-B4F57C55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BE8B-5126-49C1-A870-06213241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DCC5-F0D9-4503-A270-90D3D2A6B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B773-96E3-4A22-9B4D-5E01D51F2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765000"/>
            <a:ext cx="864072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МЯ ЧИСЛИТЕЛЬН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ю  подгото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дерер Еле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765000"/>
            <a:ext cx="864072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6. Найдите подлежащее в пред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А через площадь, против 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Искусны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Умельцев – русских крепос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Приподнялись два льва рез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С зеркальными зра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Подлежащее – имя числительное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именительном пад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Подлежащее – неделимое словосочетание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ва ль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765000"/>
            <a:ext cx="8640720" cy="54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7. Укажите в предложении собирательное числительное, если известно, что оно обозначает совокупность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Он почти не спал двое суток, прошел пеш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верст сорок или пятьдесят, переволнов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дв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о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пятьдес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765000"/>
            <a:ext cx="86407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8. Какую совокупность можно обозначить с помощью собирательных имен числ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С – совокупность лиц мужского 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овокупность лиц женского 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Совокупность детей и детенышей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 Совокупность парных по строению предметов, состоящих из симметричных ча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765000"/>
            <a:ext cx="86407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9. Порядок предметов при счете называют порядковые числительные. Количественные называют число, в состав дробных входит как количественное (числитель дроби), так и порядковое (знаменатель). Укажите таки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Седьм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Одна седьм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Сем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 Ноль целых одна седьм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765000"/>
            <a:ext cx="864072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0. Назовите дробные числ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ставили термометр. Оказалось тридцать девять и семь деся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Семь десят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тридцать девять и семь десят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Тридцать дев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1.Найдите правильный вариант падежной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К полуторастам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к полуто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765000"/>
            <a:ext cx="86407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2. Какое числительное при склонении изменяет все свои ча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Тридцать 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Тридцать тре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765000"/>
            <a:ext cx="8640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,б                         7. 1 – б, 2 – б                            15. 1 – в, 2 – б, 3 –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,в                         8. в                                             16.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                            9. в                                             17.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                           10. б                                           18. 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                          11. а                                           19. 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                          12. б                                            20. 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а                                             21.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б                                            22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765000"/>
            <a:ext cx="8640720" cy="69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Укажите слова, которые называют число предметов и которые можно записать циф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Сем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едь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Семиб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Что обозначает имя числи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Количество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Признак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Порядок предметов при сч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620640"/>
            <a:ext cx="8640720" cy="76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. В каком предложении употреблено имя числи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Одноэтажный домик на краю маленького города, полузанесенный сне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Жилые комнаты (которых счетом было четыре) все выходили окнами в густой садик по Большому проспек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4. К какому разряду относится числите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Полетели по воде две косматые т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Колич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Порядк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765000"/>
            <a:ext cx="8640720" cy="72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5. 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Если порядковое числительное обозначает порядок предмета при счете, то определите по этому признаку ряд данных числ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3, 33, 3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1/3, 2/3, 1 2/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Третий, тридцать третий, триста тридцать тре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6. Какими морфологическими признаками обладают количественные имена числи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Пад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33360"/>
            <a:ext cx="9144000" cy="79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7. </a:t>
            </a: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Сколько слов следует писать в составе имен числительных, переданных цифрами?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22, 76, 93-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103, 216, 340-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Три сл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Два сл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8. Если простым называют имя числительное. В морфемном составе которого один корень. То найдите сложное по строению числитель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5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333360"/>
            <a:ext cx="8785440" cy="79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9. Если сложным называют имя числительное, в состав которого входит несколько корней, то найдите составное числитель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1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8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8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10. Укажите разряд имени числительного по морфологическому строен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Возраст преклонный – восемьдесят восемь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Прост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Состав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Слож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765000"/>
            <a:ext cx="8640720" cy="63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1. В каком числительном пишется Н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2. В каких числительных пишется Ь в середине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7, 17, 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60, 80,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620640"/>
            <a:ext cx="8640720" cy="69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13. В каких числительных Ь пишется на конце слов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6, 16, 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40, 90, 1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) 50, 70, 7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14. Если с именами  числительными </a:t>
            </a:r>
            <a:r>
              <a:rPr b="0" lang="en-US" sz="2600" spc="-1" strike="noStrike" u="sng">
                <a:solidFill>
                  <a:srgbClr val="00007d"/>
                </a:solidFill>
                <a:uFillTx/>
                <a:latin typeface="Arial"/>
              </a:rPr>
              <a:t>один, два, полтора</a:t>
            </a: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 можно употребить существительные мужского рода, а с формами </a:t>
            </a:r>
            <a:r>
              <a:rPr b="0" lang="en-US" sz="2600" spc="-1" strike="noStrike" u="sng">
                <a:solidFill>
                  <a:srgbClr val="00007d"/>
                </a:solidFill>
                <a:uFillTx/>
                <a:latin typeface="Arial"/>
              </a:rPr>
              <a:t>одна, две, полторы</a:t>
            </a: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 – женского, то говорит ли это о наличии рода у всех количественных числительных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) Да, утверждение вер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) Нет, утверждение не совсем верно: это слова-исключени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04640"/>
            <a:ext cx="9144000" cy="64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15. Определите главное слово в словосочетании и падеж имени числительного, указывая характер связи с именем существи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При трёх свеч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Нет трёх све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Три свечи на столе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Главное слово – имя числительное в именительном падеже. Управляет именем существительным и требует родительного пад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Главное слово – имя существительное, имя числительное. Имя числительное согласуется с ним в род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Главное слово – имя существительное, имя числительное согласуется с ним в предложном падеж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7:52:51Z</dcterms:created>
  <dc:creator>Александр</dc:creator>
  <dc:description/>
  <dc:language>en-US</dc:language>
  <cp:lastModifiedBy>Customer</cp:lastModifiedBy>
  <dcterms:modified xsi:type="dcterms:W3CDTF">2011-03-30T08:44:21Z</dcterms:modified>
  <cp:revision>3</cp:revision>
  <dc:subject/>
  <dc:title>Слайд 1</dc:title>
</cp:coreProperties>
</file>