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9B2D-EEB8-49D2-BB6C-6879AA00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EE5F-B0FC-4803-A4A5-75D0857E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7E2F-BA12-4A3F-9497-771AB8D5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DA6F-41AB-4BEB-B59F-C54CEF13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B045-9902-4031-A117-DF4393A7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94A-72BF-46B7-B045-20E8EB41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507-40DF-4124-9495-062C79D9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E88E-DCE0-4F47-B0B0-353849F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9CD8-AC6D-4E16-9D16-8BB72A6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D4A3-A755-4A03-8476-2448D7A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AE53-79B5-4A37-A019-2C260594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6FAD-0775-4987-9103-C8E00BB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C84-4D1E-4E5A-8347-5712988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036-44F6-4544-BC83-6D773A9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D27C-66B1-4B58-9E59-9CAE24B7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1C33-D950-4EC4-9E5D-4464B472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08D-2DE7-4E3E-B840-A39CF51A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238B-2381-48DC-B8E6-3A37E04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7CA7-43F0-44BB-915E-C82EF7F9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0722-4864-4511-B918-27924A72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4F6E-0B57-407E-9BC8-A57DE53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7AC2-62BA-41F5-9C0D-4A86AB3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28BD-1668-4B17-AA88-DABDEF85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0E1A-32B9-4364-9D3C-6CCFF5F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6A2-6851-4B08-8908-A1CBB4657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3843-5833-440E-8D18-332F16B78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765000"/>
            <a:ext cx="864072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МЯ ЧИСЛИТЕЛЬ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 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ерер Еле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765000"/>
            <a:ext cx="8640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6. Найдите подлежащее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А через площадь, против 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Искус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Умельцев – русских крепос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Приподнялись два льва рез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С зеркальными зра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одлежащее – имя числительное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именительном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одлежащее – неделимое словосочетание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ва ль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765000"/>
            <a:ext cx="864072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7. Укажите в предложении собирательное числительное, если известно, что оно обозначает совокупность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Он почти не спал двое суток, прошел пеш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ерст сорок или пятьдесят, переволнов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дв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ятьдес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765000"/>
            <a:ext cx="86407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8. Какую совокупность можно обозначить с помощью собирательных имен числ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 – совокупность лиц мужского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вокупность лиц женского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овокупность детей и детенышей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Совокупность парных по строению предметов, состоящих из симметричных ч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765000"/>
            <a:ext cx="8640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9. Порядок предметов при счете называют порядковые числительные. Количественные называют число, в состав дробных входит как количественное (числитель дроби), так и порядковое (знаменатель). Укажите таки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едь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дна седь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Ноль целых одна седь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765000"/>
            <a:ext cx="8640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0. Назовите дроб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ставили термометр. Оказалось тридцать девять и семь дес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емь десят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тридцать девять и семь десят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Тридцать дев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1.Найдите правильный вариант падежной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 полуторастам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к полуто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765000"/>
            <a:ext cx="86407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2. Какое числительное при склонении изменяет все свои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Тридцать 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Тридцать тре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765000"/>
            <a:ext cx="8640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,б                         7. 1 – б, 2 – б                            15. 1 – в, 2 – б, 3 –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,в                         8. в                                             16.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                           9. в                                             17.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                           10. б                                           18. 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                         11. а                                           19. 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                         12. б                                            20.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а                                             21.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б                                            22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765000"/>
            <a:ext cx="864072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Укажите слова, которые называют число предметов и которые можно записать циф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едь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емиб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Что обозначает имя числи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Количество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ризнак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640720" cy="76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. В каком предложении употреблено имя числи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Одноэтажный домик на краю маленького города, полузанесенный сне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Жилые комнаты (которых счетом было четыре) все выходили окнами в густой садик по Большому просп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4. К какому разряду относится числи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олетели по воде две косматые т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Колич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орядк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765000"/>
            <a:ext cx="8640720" cy="72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Если порядковое числительное обозначает порядок предмета при счете, то определите по этому признаку ряд данных числ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3, 33, 3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1/3, 2/3, 1 2/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ретий, тридцать третий, триста тридцать тре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6. Какими морфологическими признаками обладают количественные имена числи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Пад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33360"/>
            <a:ext cx="9144000" cy="79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7. 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Сколько слов следует писать в составе имен числительных, переданных цифрами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22, 76, 93-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103, 216, 340-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Три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Два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8. Если простым называют имя числительное. В морфемном составе которого один корень. То найдите сложное по строению числите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5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333360"/>
            <a:ext cx="8785440" cy="79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9. Если сложным называют имя числительное, в состав которого входит несколько корней, то найдите составное числите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1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8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8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10. Укажите разряд имени числительного по морфологическому строен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Возраст преклонный – восемьдесят восемь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ст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Состав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Слож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765000"/>
            <a:ext cx="864072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1. В каком числительном пишется Н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2. В каких числительных пишется Ь в середине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7, 17,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60, 80,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20640"/>
            <a:ext cx="864072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13. В каких числительных Ь пишется на конце слов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6, 16, 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40, 90, 1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50, 70, 7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14. Если с именами  числительными </a:t>
            </a:r>
            <a:r>
              <a:rPr b="0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один, два, полтора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 можно употребить существительные мужского рода, а с формами </a:t>
            </a:r>
            <a:r>
              <a:rPr b="0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одна, две, полторы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 – женского, то говорит ли это о наличии рода у всех количественных числительны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Да, утверждение вер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Нет, утверждение не совсем верно: это слова-исключ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04640"/>
            <a:ext cx="914400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. Определите главное слово в словосочетании и падеж имени числительного, указывая характер связи с именем существ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ри трёх свеч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Нет трёх све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Три свечи на столе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Главное слово – имя числительное в именительном падеже. Управляет именем существительным и требует родительного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Главное слово – имя существительное, имя числительное. Имя числительное согласуется с ним в род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Главное слово – имя существительное, имя числительное согласуется с ним в предложном падеж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7:52:51Z</dcterms:created>
  <dc:creator>Александр</dc:creator>
  <dc:description/>
  <dc:language>en-US</dc:language>
  <cp:lastModifiedBy>Customer</cp:lastModifiedBy>
  <dcterms:modified xsi:type="dcterms:W3CDTF">2011-03-30T08:44:21Z</dcterms:modified>
  <cp:revision>3</cp:revision>
  <dc:subject/>
  <dc:title>Слайд 1</dc:title>
</cp:coreProperties>
</file>