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D7A-B8DE-49B5-AEF2-2B3C5251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B51-6ACE-4ABF-A8DF-C6E7242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B9C-7424-4EA5-B017-5632B5EA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443-49C2-40A8-93DE-6332730F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2612-9556-4D84-8F51-1D481CFE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92D-30E3-41CE-9AB3-0FA1526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A7AC-AF8F-477C-BFC7-9F05F92F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2F1D-26F3-4CF1-BA53-0BEDC66E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08C7-960B-4612-8207-C788C5A3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93D3-392C-49F6-AAF1-98284C6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BDB-D8C3-4EB7-9D11-7269813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817-7FA7-4EA8-AF43-9ADA012A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3A92-0D68-4A1D-B5C4-D0AB973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0DD2-B5EA-4F98-B817-FC94520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F17-6670-4D82-AB45-98AE3AE4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F502-F3D6-4936-99BC-F500954F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AFBE-26EC-4F46-8A8C-6A941077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84B-BD60-4643-85D4-F733488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366-B3D8-4954-881B-7492495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56F-5554-4DF0-B5D2-337EED8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485-AEAF-4DB7-A8F0-10A3C4ED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357-B941-4514-B3A1-4FD7990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58D-D7DC-4882-BC5D-2A42981B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2F6-D725-4211-AA51-9C262F3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40CE-ACD1-4F3F-B5D5-7D488E0CA6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45EF-6B8D-4C19-86DB-0FB930BF95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в истории моей семь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040" y="51055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ла Артемье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«Березорядская О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лого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ый руководитель: Сорока Л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ртемьева Нелли Алексеевна – моя бабуш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38120" y="1523520"/>
            <a:ext cx="480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л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был всего один годик, когда началась война. Она мало что помнила, но то, как они с двоюродной сестрой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лазали через колючую проволоку с консервными банками, как пели фашистам песни, как было голодно и холодно  забыть невозмож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254400" cy="43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 оккупированной террит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1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мцы сгоняли по две, три семьи в один дом, а сами занимали пустые дома. Местные жители стирали немцам белье, за что они давали хлеб. Но были  немецкие солдаты, которые сочувствовали - ведь у них дома так же были жёны и дети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и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на фото), дочке Марии, немецкий солдат подарил чёрное хрустальное ожерелье и брошь в виде красной розочки, а однажды ночью в окно Марии постучал немец и передал буханку хлеб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092400" cy="46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н вернулся с вой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49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ж Марии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лекс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а фото слева) вернулся домой и Великая Победа для семьи  Артемьевых после гибели шестерых её представителей стала не столь горько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фото справа – Михаил Артемьев, пропавший без вести в 1943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224160" cy="452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ни выжили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4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аясь от голода,  моя прабабушка Валентина Михайловна с моей бабушкой Нелли, совсем маленькой девочкой, сразу после войны приехала в Березовский Рядок к родным погибшего мужа, а позже помогла приехать сюда и сестре Марии с детьми. Семья смогла выжить лишь потому, что родственники поддерживали друг друга, помогали в трудную год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321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917960" y="304560"/>
            <a:ext cx="3927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, Артемьева Виктория,  горжусь тем, что мои предки из рода Артемьевых честно воевали в годы Великой Отечественной войны и геройски погиб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щищая Родину от фашис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тлая им памя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854520" cy="586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244440"/>
            <a:ext cx="8690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з истории рода Артемьев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и предки из рода Артемьевых жили в селе Березовский Рядок Бологовского района Калининской области (ныне – Тверской). Особенно глубокий след в истории  семьи оставили Советско-Финская и Великая Отечественная войны.  Шестеро  не вернулись с фронта, остались сиротами семеро д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емья, опаленная вой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В большом доме проживали: отец – Фёдор (стоит справа), мать -Марфа Егоровна (стоит) и пятеро детей: Николай (1905-1939), Иван (1907-1943), Михаил (1910-1943),  Алексей (1915-1941) (стоит справа маленький) и Александра (на руках у матер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центре сидит  отец Федора – мой прапрад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6520" y="1905120"/>
            <a:ext cx="2790720" cy="41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29200" y="380520"/>
            <a:ext cx="3927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ександр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умерла в детс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кола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пропал без вести в 1939 году во время Советско-финской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в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был призван на фронт в 1941 году. Рядовой. Умер от ран в апреле 1943 года. Похоронен: Борисоглебский район Воронежской об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ихаи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на фото с семьей) был призван на фронт в 1941 году. Рядовой. Пропал без вести в  сентябре 194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72428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ртемьев Алексей Федорович – мой праде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ексе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был призван на фронт в 1941 году. Младший лейтенант. Пропал без вести в августе 1941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фа Егоров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осле потери всех своих детей умерла с горя, прожив после Победы несколько месяцев (1945 г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45744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24444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ртемьева Валентина Михайловна – моя прабабуш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2880" y="2438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гибели Алексея, оставшись  с маленькой дочкой на руках в г. Лиепая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лент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езжает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 Демидово Оленинского района Калининск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тцу, Светильникову Григорию Сидорови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25560" y="1905120"/>
            <a:ext cx="332892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асаясь от фашистов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38480" y="2133720"/>
            <a:ext cx="476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енинский район был оккупирован фашис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горий Сидорови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на фото) принял дочь и внучку, но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лен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пала в чёрный список - под расстрел, как только эсесовцы узнали, что она жена политрука и коммунис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3320" y="1676520"/>
            <a:ext cx="328788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62520" y="151920"/>
            <a:ext cx="48830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стр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р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а фото) пряче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лентин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одпол. Немцы пришли в дом и долго искал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ленти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но не нашли. От полицая Соловьева по кличке Соловей,  немцы узнали, что она прячется в том самом доме, где они уже были,  и пошли искать вновь. Тем временем Валентину, в прямом смысле,  заложили в поленницу дров, и смерть миновала её во второй раз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35736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9880" y="304920"/>
            <a:ext cx="503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тели деревни, спасаясь от немцев, бежали в лес, там строили землянки, а внутри ставили печурки. Один раз дочь Марии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а фото), как запоёт частушки, а из соседних землянок повыскакивали бабы и ну орать: «Уйми свою девку, самолёты ведь летают!», а Мария им в ответ: «Пусть хоть ребёнок войны не чувствует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365280" cy="502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7T20:27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