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9C2B-C319-415E-AC23-94595EE55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7A64-E855-480F-B1F1-246D6CE29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E9E9-6402-45FA-B6AB-740B290DD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1B5E-8CA0-4793-B353-AF05A1EA2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35FB0-1618-409D-85E1-156F537CF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2CBAE-2910-45DE-AE45-380293B1A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D9AB5-E91C-412B-B457-BE51604DF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E6D79-BCD9-4982-A0F0-E380CFBF2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B7E28-4176-4FBC-BC1C-3C7E3E771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22D55-0BC5-4D66-A44E-DC2F78E3D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7C0BA-9084-407C-B97C-3B538F3E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5F66-7BDE-46AF-A4C5-FFDE1FC50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86FC7-541D-40B6-8C3C-C15AE309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0CEA9-8A7F-4E82-B5F3-25A190E7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C3FFE-B120-4538-B8A6-77B6AC43F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50FBF-E914-4FA0-BE0C-D3CD69056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2568B-E81A-4346-85D1-31CBF4F5B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A8A8-E3B8-45B7-8FB1-DF4048BD9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1A19-70EE-4416-9EA5-001A0ABC9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3E05-2645-4E05-9083-3C1824FC7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FA7E-50D9-4F1D-B91C-55B9BBE8B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74DA-F1C8-451E-9B52-1EFDABF9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9B0F-3E01-46E5-8C21-5630317E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3C8E-712D-4E67-A6B2-4D965EC3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9DBAF-0928-4FD4-AF26-542EFA3A46D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216A4-BBEA-4DD8-8683-0EE61DF727D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915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b7"/>
                </a:solidFill>
                <a:latin typeface="Arial Black"/>
              </a:rPr>
              <a:t>Великая Отечественная война </a:t>
            </a:r>
            <a:br>
              <a:rPr sz="6000"/>
            </a:br>
            <a:r>
              <a:rPr b="1" lang="en-US" sz="6000" spc="-1" strike="noStrike">
                <a:solidFill>
                  <a:srgbClr val="ffffb7"/>
                </a:solidFill>
                <a:latin typeface="Arial Black"/>
              </a:rPr>
              <a:t>в истории моей семьи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14040" y="510552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ыполнила Артемьева Виктор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9 кла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ОУ «Березорядская ООШ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Бологовский рай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верская обла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аучный руководитель: Сорока Л. 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Артемьева Нелли Алексеевна – моя бабушк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038120" y="1523520"/>
            <a:ext cx="4807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елл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был всего один годик, когда началась война. Она мало что помнила, но то, как они с двоюродной сестрой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ино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лазали через колючую проволоку с консервными банками, как пели фашистам песни, как было голодно и холодно  забыть невозможн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254400" cy="4319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На оккупированной территори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733560" y="1905120"/>
            <a:ext cx="511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мцы сгоняли по две, три семьи в один дом, а сами занимали пустые дома. Местные жители стирали немцам белье, за что они давали хлеб. Но были  немецкие солдаты, которые сочувствовали - ведь у них дома так же были жёны и дети.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Лиде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на фото), дочке Марии, немецкий солдат подарил чёрное хрустальное ожерелье и брошь в виде красной розочки, а однажды ночью в окно Марии постучал немец и передал буханку хлеб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3092400" cy="4653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н вернулся с войн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352680" y="1371240"/>
            <a:ext cx="549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уж Марии –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Алексе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на фото слева) вернулся домой и Великая Победа для семьи  Артемьевых после гибели шестерых её представителей стала не столь горькой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 фото справа – Михаил Артемьев, пропавший без вести в 1943 год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3224160" cy="4521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ни выжили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8455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пасаясь от голода,  моя прабабушка Валентина Михайловна с моей бабушкой Нелли, совсем маленькой девочкой, сразу после войны приехала в Березовский Рядок к родным погибшего мужа, а позже помогла приехать сюда и сестре Марии с детьми. Семья смогла выжить лишь потому, что родственники поддерживали друг друга, помогали в трудную годин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6321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917960" y="304560"/>
            <a:ext cx="39276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Я, Артемьева Виктория,  горжусь тем, что мои предки из рода Артемьевых честно воевали в годы Великой Отечественной войны и геройски погибл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щищая Родину от фашист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ветлая им память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3854520" cy="5867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1920" y="244440"/>
            <a:ext cx="8690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Из истории рода Артемьевых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и предки из рода Артемьевых жили в селе Березовский Рядок Бологовского района Калининской области (ныне – Тверской). Особенно глубокий след в истории  семьи оставили Советско-Финская и Великая Отечественная войны.  Шестеро  не вернулись с фронта, остались сиротами семеро дете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емья, опаленная войно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В большом доме проживали: отец – Фёдор (стоит справа), мать -Марфа Егоровна (стоит) и пятеро детей: Николай (1905-1939), Иван (1907-1943), Михаил (1910-1943),  Алексей (1915-1941) (стоит справа маленький) и Александра (на руках у матери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центре сидит  отец Федора – мой прапраде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406520" y="1905120"/>
            <a:ext cx="2790720" cy="4190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5029200" y="380520"/>
            <a:ext cx="3927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лександр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умерла в детств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икола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пропал без вести в 1939 году во время Советско-финской вой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ва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был призван на фронт в 1941 году. Рядовой. Умер от ран в апреле 1943 года. Похоронен: Борисоглебский район Воронежской облас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ихаил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на фото с семьей) был призван на фронт в 1941 году. Рядовой. Пропал без вести в  сентябре 1943 год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4724280" cy="3146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Артемьев Алексей Федорович – мой прадед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лексей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был призван на фронт в 1941 году. Младший лейтенант. Пропал без вести в августе 1941 год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арфа Егоровн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после потери всех своих детей умерла с горя, прожив после Победы несколько месяцев (1945 г.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3457440" cy="4952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244440"/>
            <a:ext cx="8991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Артемьева Валентина Михайловна – моя прабабушк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52880" y="2438280"/>
            <a:ext cx="3927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ле гибели Алексея, оставшись  с маленькой дочкой на руках в г. Лиепая,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алентин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уезжает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. Демидово Оленинского района Калининской облас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 отцу, Светильникову Григорию Сидорович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25560" y="1905120"/>
            <a:ext cx="3328920" cy="4800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пасаясь от фашистов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038480" y="2133720"/>
            <a:ext cx="4765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ленинский район был оккупирован фашист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ригорий Сидорович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на фото) принял дочь и внучку, но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алентин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попала в чёрный список - под расстрел, как только эсесовцы узнали, что она жена политрука и коммунист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33320" y="1676520"/>
            <a:ext cx="3287880" cy="4952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962520" y="151920"/>
            <a:ext cx="488304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естра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ария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на фото) прячет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алентину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подпол. Немцы пришли в дом и долго искали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алентину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но не нашли. От полицая Соловьева по кличке Соловей,  немцы узнали, что она прячется в том самом доме, где они уже были,  и пошли искать вновь. Тем временем Валентину, в прямом смысле,  заложили в поленницу дров, и смерть миновала её во второй раз..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3357360" cy="5029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809880" y="304920"/>
            <a:ext cx="50356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Жители деревни, спасаясь от немцев, бежали в лес, там строили землянки, а внутри ставили печурки. Один раз дочь Марии –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ин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на фото), как запоёт частушки, а из соседних землянок повыскакивали бабы и ну орать: «Уйми свою девку, самолёты ведь летают!», а Мария им в ответ: «Пусть хоть ребёнок войны не чувствует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3365280" cy="5029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4-17T20:27:17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