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29.png" ContentType="image/png"/>
  <Override PartName="/ppt/media/image14.jpeg" ContentType="image/jpeg"/>
  <Override PartName="/ppt/media/image41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9.png" ContentType="image/pn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ABA7-DBB7-43D3-A2F2-A32D6F224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63D-7475-4F1F-8571-1416A9F78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ED5-C878-43FD-BA07-4575FA76B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EDA-900E-4C61-B858-6B76A0619B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B3A-32CF-4B39-8064-7EE01B1E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756-7E2B-48AD-9CDB-39A9D6A9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D40-A75C-44E8-8EBF-FEC2C954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B58-C50A-47B0-9E42-9EFB31E7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201-4E45-423E-939E-072FBD04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7DA-407F-4333-B514-FC020DE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AD9-5230-4496-96B4-5F5EB56A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16A-042F-421B-B48E-2FC94E91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B9A-09B7-49AC-B6F1-15B6B09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753-BF46-49F1-BC10-CEFF5C4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165-B281-4BA4-8BD6-BF33273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BE6-9E91-4F0D-A070-E47CE1A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8295-52A9-4730-AB22-C08333369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2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2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2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61" descr="http://www.greatbanner.ru/upload/information_items_12135395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2968560"/>
            <a:ext cx="878544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Юлда булсаң — бул өлгер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юл кагыйдәләрен син бел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684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1215_7"/>
          <p:cNvPicPr/>
          <p:nvPr/>
        </p:nvPicPr>
        <p:blipFill>
          <a:blip r:embed="rId4"/>
          <a:stretch/>
        </p:blipFill>
        <p:spPr>
          <a:xfrm>
            <a:off x="6443640" y="1285920"/>
            <a:ext cx="1986120" cy="100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5286240"/>
            <a:ext cx="91440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билгеләрен урыннарына куярга булышыгы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http://avtoliteratura.ru/files/plakati/1215_8.jpg"/>
          <p:cNvPicPr/>
          <p:nvPr/>
        </p:nvPicPr>
        <p:blipFill>
          <a:blip r:embed="rId4"/>
          <a:stretch/>
        </p:blipFill>
        <p:spPr>
          <a:xfrm>
            <a:off x="6300720" y="1285920"/>
            <a:ext cx="2129040" cy="124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040" y="54288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 үзен дөрес тотмы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-6480" y="-304920"/>
            <a:ext cx="915696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1215_9"/>
          <p:cNvPicPr/>
          <p:nvPr/>
        </p:nvPicPr>
        <p:blipFill>
          <a:blip r:embed="rId4"/>
          <a:stretch/>
        </p:blipFill>
        <p:spPr>
          <a:xfrm>
            <a:off x="5867280" y="1285920"/>
            <a:ext cx="2419560" cy="129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00040" y="521496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билгеләрен, тротуарны, урам чатын, юлның урта сызыгын күрсәтег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1215_10"/>
          <p:cNvPicPr/>
          <p:nvPr/>
        </p:nvPicPr>
        <p:blipFill>
          <a:blip r:embed="rId4"/>
          <a:stretch/>
        </p:blipFill>
        <p:spPr>
          <a:xfrm>
            <a:off x="5219640" y="1357200"/>
            <a:ext cx="3210120" cy="163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-360" y="5214960"/>
            <a:ext cx="90010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м чатындагы юлны аркылы чыгу урнында нинди кагыйдәләрне исәптә тотарга кирә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93560" y="-165240"/>
            <a:ext cx="824256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1215_11"/>
          <p:cNvPicPr/>
          <p:nvPr/>
        </p:nvPicPr>
        <p:blipFill>
          <a:blip r:embed="rId4"/>
          <a:stretch/>
        </p:blipFill>
        <p:spPr>
          <a:xfrm>
            <a:off x="5292720" y="1428840"/>
            <a:ext cx="3137040" cy="168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550080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 дөрес эшләм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929200"/>
            <a:ext cx="9144000" cy="9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1215_12"/>
          <p:cNvPicPr/>
          <p:nvPr/>
        </p:nvPicPr>
        <p:blipFill>
          <a:blip r:embed="rId4"/>
          <a:stretch/>
        </p:blipFill>
        <p:spPr>
          <a:xfrm>
            <a:off x="5940360" y="1214280"/>
            <a:ext cx="213192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28760" y="528624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ч белән урамда һәм юлда үзеңне ничек тотарга кирә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1215_14"/>
          <p:cNvPicPr/>
          <p:nvPr/>
        </p:nvPicPr>
        <p:blipFill>
          <a:blip r:embed="rId4"/>
          <a:stretch/>
        </p:blipFill>
        <p:spPr>
          <a:xfrm>
            <a:off x="6999120" y="1401840"/>
            <a:ext cx="974880" cy="123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йсы рәсемдә тормоз юлы озынрак була, ни өче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1215_14"/>
          <p:cNvPicPr/>
          <p:nvPr/>
        </p:nvPicPr>
        <p:blipFill>
          <a:blip r:embed="rId5"/>
          <a:stretch/>
        </p:blipFill>
        <p:spPr>
          <a:xfrm>
            <a:off x="3208320" y="1401840"/>
            <a:ext cx="979560" cy="1163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93560" y="13320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1215_15"/>
          <p:cNvPicPr/>
          <p:nvPr/>
        </p:nvPicPr>
        <p:blipFill>
          <a:blip r:embed="rId4"/>
          <a:stretch/>
        </p:blipFill>
        <p:spPr>
          <a:xfrm>
            <a:off x="5508720" y="1428840"/>
            <a:ext cx="2563560" cy="144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00040" y="528588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мер юлын аркылы чыгу кагыйдәлә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http://avtoliteratura.ru/files/plakati/1215_16.jpg"/>
          <p:cNvPicPr/>
          <p:nvPr/>
        </p:nvPicPr>
        <p:blipFill>
          <a:blip r:embed="rId4"/>
          <a:stretch/>
        </p:blipFill>
        <p:spPr>
          <a:xfrm>
            <a:off x="5508720" y="1341360"/>
            <a:ext cx="2466720" cy="147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28760" y="528624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йөрү кагыйдәләрен бозу күренешләрен әйтеп ч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Гаишник"/>
          <p:cNvPicPr/>
          <p:nvPr/>
        </p:nvPicPr>
        <p:blipFill>
          <a:blip r:embed="rId1"/>
          <a:stretch/>
        </p:blipFill>
        <p:spPr>
          <a:xfrm>
            <a:off x="6372360" y="2852640"/>
            <a:ext cx="2520720" cy="3341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1" descr="http://www.greatbanner.ru/upload/information_items_1213539518.jpg"/>
          <p:cNvPicPr/>
          <p:nvPr/>
        </p:nvPicPr>
        <p:blipFill>
          <a:blip r:embed="rId2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39640" y="1916280"/>
            <a:ext cx="784872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avtoliteratura.ru/artic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kat_ddb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ree-lancers.net/user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utikov/projects/252989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61" descr="http://www.greatbanner.ru/upload/information_items_1213539518.jpg"/>
          <p:cNvPicPr/>
          <p:nvPr/>
        </p:nvPicPr>
        <p:blipFill>
          <a:blip r:embed="rId4"/>
          <a:srcRect l="0" t="86381" r="0" b="0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одзаголовок 2" descr=""/>
          <p:cNvPicPr/>
          <p:nvPr/>
        </p:nvPicPr>
        <p:blipFill>
          <a:blip r:embed="rId1"/>
          <a:stretch/>
        </p:blipFill>
        <p:spPr>
          <a:xfrm>
            <a:off x="-36360" y="1146240"/>
            <a:ext cx="9381960" cy="2138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1" descr="http://www.greatbanner.ru/upload/information_items_1213539518.jpg"/>
          <p:cNvPicPr/>
          <p:nvPr/>
        </p:nvPicPr>
        <p:blipFill>
          <a:blip r:embed="rId2"/>
          <a:srcRect l="0" t="79752" r="0" b="0"/>
          <a:stretch/>
        </p:blipFill>
        <p:spPr>
          <a:xfrm>
            <a:off x="0" y="5643720"/>
            <a:ext cx="9144000" cy="1114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1" descr="http://www.greatbanner.ru/upload/information_items_1213539518.jpg"/>
          <p:cNvPicPr/>
          <p:nvPr/>
        </p:nvPicPr>
        <p:blipFill>
          <a:blip r:embed="rId3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2411280" y="0"/>
            <a:ext cx="4596120" cy="146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Local Settings\Temporary Internet Files\Content.IE5\Z46HZJV1\MC900342985[1].wmf"/>
          <p:cNvPicPr/>
          <p:nvPr/>
        </p:nvPicPr>
        <p:blipFill>
          <a:blip r:embed="rId5"/>
          <a:stretch/>
        </p:blipFill>
        <p:spPr>
          <a:xfrm>
            <a:off x="179280" y="189000"/>
            <a:ext cx="1148040" cy="117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Calibri"/>
              </a:rPr>
              <a:t>Һәләкәтләр булмасын дип   Телидер һәрбер йөрәк. </a:t>
            </a:r>
            <a:br>
              <a:rPr sz="2800"/>
            </a:br>
            <a:r>
              <a:rPr b="0" lang="tt-RU" sz="2800" spc="-1" strike="noStrike">
                <a:solidFill>
                  <a:srgbClr val="000099"/>
                </a:solidFill>
                <a:latin typeface="Calibri"/>
              </a:rPr>
              <a:t>Шуңа күрә юл йөргәндә,  Бик сак булырга кирәк 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360" y="159984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Әти белән әниеңне                          Яшең җитәр йөзгәчә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Кайгылардан сакла син.                       Имгәнүләр күрмәссең.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“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Юл фәне әлифбасы”ның                     Юл йөрү кагыйдәләрен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Һәр билгесен ятла син.                         Онытма син кич-ирт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Светофорның һәр әмерен                     Әти - әниең сине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Тиешенчә үтә син.                               Сау кайтуыңны көтә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61" descr="http://www.greatbanner.ru/upload/information_items_1213539518.jpg"/>
          <p:cNvPicPr/>
          <p:nvPr/>
        </p:nvPicPr>
        <p:blipFill>
          <a:blip r:embed="rId2"/>
          <a:srcRect l="0" t="80337" r="0" b="0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9" descr=""/>
          <p:cNvPicPr/>
          <p:nvPr/>
        </p:nvPicPr>
        <p:blipFill>
          <a:blip r:embed="rId3"/>
          <a:stretch/>
        </p:blipFill>
        <p:spPr>
          <a:xfrm>
            <a:off x="0" y="4076640"/>
            <a:ext cx="8656560" cy="86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Уголок безопасности (материалы для оформления классного Уголка безопасности)"/>
          <p:cNvPicPr/>
          <p:nvPr/>
        </p:nvPicPr>
        <p:blipFill>
          <a:blip r:embed="rId1"/>
          <a:stretch/>
        </p:blipFill>
        <p:spPr>
          <a:xfrm>
            <a:off x="6012000" y="1628640"/>
            <a:ext cx="234468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Admin\Local Settings\Temporary Internet Files\Content.IE5\Z46HZJV1\MC900342985[1].wmf"/>
          <p:cNvPicPr/>
          <p:nvPr/>
        </p:nvPicPr>
        <p:blipFill>
          <a:blip r:embed="rId2"/>
          <a:stretch/>
        </p:blipFill>
        <p:spPr>
          <a:xfrm>
            <a:off x="0" y="1125360"/>
            <a:ext cx="1076400" cy="11782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1" descr="http://www.greatbanner.ru/upload/information_items_1213539518.jpg"/>
          <p:cNvPicPr/>
          <p:nvPr/>
        </p:nvPicPr>
        <p:blipFill>
          <a:blip r:embed="rId3"/>
          <a:srcRect l="0" t="0" r="0" b="7872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1" descr="http://www.greatbanner.ru/upload/information_items_1213539518.jpg"/>
          <p:cNvPicPr/>
          <p:nvPr/>
        </p:nvPicPr>
        <p:blipFill>
          <a:blip r:embed="rId1"/>
          <a:srcRect l="0" t="79752" r="0" b="0"/>
          <a:stretch/>
        </p:blipFill>
        <p:spPr>
          <a:xfrm>
            <a:off x="0" y="6021360"/>
            <a:ext cx="914400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1" descr="http://www.greatbanner.ru/upload/information_items_1213539518.jpg"/>
          <p:cNvPicPr/>
          <p:nvPr/>
        </p:nvPicPr>
        <p:blipFill>
          <a:blip r:embed="rId2"/>
          <a:srcRect l="0" t="0" r="0" b="30821"/>
          <a:stretch/>
        </p:blipFill>
        <p:spPr>
          <a:xfrm>
            <a:off x="0" y="142920"/>
            <a:ext cx="9144000" cy="909720"/>
          </a:xfrm>
          <a:prstGeom prst="rect">
            <a:avLst/>
          </a:prstGeom>
          <a:ln w="0">
            <a:noFill/>
          </a:ln>
        </p:spPr>
      </p:pic>
      <p:pic>
        <p:nvPicPr>
          <p:cNvPr id="58" name="Подзаголовок 2" descr=""/>
          <p:cNvPicPr/>
          <p:nvPr/>
        </p:nvPicPr>
        <p:blipFill>
          <a:blip r:embed="rId3"/>
          <a:stretch/>
        </p:blipFill>
        <p:spPr>
          <a:xfrm>
            <a:off x="133200" y="4127400"/>
            <a:ext cx="8877600" cy="74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1" descr="http://www.greatbanner.ru/upload/information_items_1213539518.jpg"/>
          <p:cNvPicPr/>
          <p:nvPr/>
        </p:nvPicPr>
        <p:blipFill>
          <a:blip r:embed="rId2"/>
          <a:srcRect l="0" t="80337" r="0" b="0"/>
          <a:stretch/>
        </p:blipFill>
        <p:spPr>
          <a:xfrm>
            <a:off x="0" y="5286240"/>
            <a:ext cx="9144000" cy="157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9720" y="5072040"/>
            <a:ext cx="728676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өчен сул яктагы рәсемдә куркыныч очрак ту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1215_1"/>
          <p:cNvPicPr/>
          <p:nvPr/>
        </p:nvPicPr>
        <p:blipFill>
          <a:blip r:embed="rId3"/>
          <a:stretch/>
        </p:blipFill>
        <p:spPr>
          <a:xfrm>
            <a:off x="6300720" y="1214280"/>
            <a:ext cx="1914480" cy="9939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4"/>
          <a:stretch/>
        </p:blipFill>
        <p:spPr>
          <a:xfrm>
            <a:off x="133200" y="-109440"/>
            <a:ext cx="8729640" cy="133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976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http://www.rim3.ru/linkpics/Catalog/plakat/1215_2.jpg"/>
          <p:cNvPicPr/>
          <p:nvPr/>
        </p:nvPicPr>
        <p:blipFill>
          <a:blip r:embed="rId3"/>
          <a:stretch/>
        </p:blipFill>
        <p:spPr>
          <a:xfrm>
            <a:off x="6156360" y="928800"/>
            <a:ext cx="1844640" cy="112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1" descr="http://www.greatbanner.ru/upload/information_items_1213539518.jpg"/>
          <p:cNvPicPr/>
          <p:nvPr/>
        </p:nvPicPr>
        <p:blipFill>
          <a:blip r:embed="rId4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52146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айның мәктәпкә бара торган юлындагы куркыныч урыннарны әйтегез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1" descr="http://www.greatbanner.ru/upload/information_items_1213539518.jpg"/>
          <p:cNvPicPr/>
          <p:nvPr/>
        </p:nvPicPr>
        <p:blipFill>
          <a:blip r:embed="rId2"/>
          <a:srcRect l="0" t="80337" r="0" b="0"/>
          <a:stretch/>
        </p:blipFill>
        <p:spPr>
          <a:xfrm>
            <a:off x="0" y="542916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5" descr=""/>
          <p:cNvPicPr/>
          <p:nvPr/>
        </p:nvPicPr>
        <p:blipFill>
          <a:blip r:embed="rId3"/>
          <a:stretch/>
        </p:blipFill>
        <p:spPr>
          <a:xfrm>
            <a:off x="450720" y="1825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http://www.rim3.ru/linkpics/Catalog/plakat/1215_3.jpg"/>
          <p:cNvPicPr/>
          <p:nvPr/>
        </p:nvPicPr>
        <p:blipFill>
          <a:blip r:embed="rId4"/>
          <a:stretch/>
        </p:blipFill>
        <p:spPr>
          <a:xfrm>
            <a:off x="6372360" y="1071720"/>
            <a:ext cx="2057400" cy="1136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00040" y="50716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дминтон, волейбол уйнаучы балаларга нинди куркыныч я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1215_4.jpg (600×400)"/>
          <p:cNvPicPr/>
          <p:nvPr/>
        </p:nvPicPr>
        <p:blipFill>
          <a:blip r:embed="rId4"/>
          <a:stretch/>
        </p:blipFill>
        <p:spPr>
          <a:xfrm>
            <a:off x="6516720" y="1071720"/>
            <a:ext cx="1770120" cy="103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0" y="5286240"/>
            <a:ext cx="91440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з ничек уйлыйсыз, ни өчен юл аркылы чыкканда тагын бер тапкыр сулга карарга кирә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емиугольник 9"/>
          <p:cNvSpPr/>
          <p:nvPr/>
        </p:nvSpPr>
        <p:spPr>
          <a:xfrm>
            <a:off x="1571760" y="2643120"/>
            <a:ext cx="57132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емиугольник 11"/>
          <p:cNvSpPr/>
          <p:nvPr/>
        </p:nvSpPr>
        <p:spPr>
          <a:xfrm>
            <a:off x="1571760" y="4643280"/>
            <a:ext cx="57132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емиугольник 12"/>
          <p:cNvSpPr/>
          <p:nvPr/>
        </p:nvSpPr>
        <p:spPr>
          <a:xfrm>
            <a:off x="4572000" y="2643120"/>
            <a:ext cx="57168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емиугольник 13"/>
          <p:cNvSpPr/>
          <p:nvPr/>
        </p:nvSpPr>
        <p:spPr>
          <a:xfrm>
            <a:off x="4572000" y="4643280"/>
            <a:ext cx="57168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1215_5"/>
          <p:cNvPicPr/>
          <p:nvPr/>
        </p:nvPicPr>
        <p:blipFill>
          <a:blip r:embed="rId4"/>
          <a:stretch/>
        </p:blipFill>
        <p:spPr>
          <a:xfrm>
            <a:off x="6156360" y="1500120"/>
            <a:ext cx="2344680" cy="116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528588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аркылы кайсы урыннан чыгу куркынычсызр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1215_6"/>
          <p:cNvPicPr/>
          <p:nvPr/>
        </p:nvPicPr>
        <p:blipFill>
          <a:blip r:embed="rId4"/>
          <a:stretch/>
        </p:blipFill>
        <p:spPr>
          <a:xfrm>
            <a:off x="6443640" y="1285920"/>
            <a:ext cx="1914480" cy="111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564336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Җәмәгать транспортында үз-үзеңне тоту кагыйдәлә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3:12:33Z</dcterms:created>
  <dc:creator>Zver</dc:creator>
  <dc:description/>
  <dc:language>en-US</dc:language>
  <cp:lastModifiedBy>Admin</cp:lastModifiedBy>
  <dcterms:modified xsi:type="dcterms:W3CDTF">2011-12-01T12:56:18Z</dcterms:modified>
  <cp:revision>34</cp:revision>
  <dc:subject/>
  <dc:title>Слайд 1</dc:title>
</cp:coreProperties>
</file>