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29.png" ContentType="image/png"/>
  <Override PartName="/ppt/media/image14.jpeg" ContentType="image/jpeg"/>
  <Override PartName="/ppt/media/image41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9.png" ContentType="image/pn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DE4-4B7B-4BF9-AE45-4F87222FF6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6C2F-0483-44B7-A024-A30C5E480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D90-B750-42FF-AB9D-B74CA570D9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3CE6-F68E-4892-A658-D43A4B1CF7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BF6-F8BC-4355-875C-B980D9D3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F3E-C458-4A38-81F3-A3EB53DB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FEB-F485-42CB-9135-1729D8F1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071-BAF5-4A7D-871A-B7BDC450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6D5-EF88-43F1-98ED-100BAFA0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009-5658-42B0-B16D-9CF8750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FD5-DD59-495D-973A-EB499C94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4E6-0064-4738-B429-C2310F43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F94-7F72-49B5-856F-88D0C5FE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34F-28E1-4B93-B7A2-2785009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FAB-B73F-49C2-86A6-9951C89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58C-4EA5-473D-9334-D31000F3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2F04-B9BC-4254-B8DD-9A07A5C8B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2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2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image" Target="../media/image2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61" descr="http://www.greatbanner.ru/upload/information_items_12135395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2968560"/>
            <a:ext cx="878544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Юлда булсаң — бул өлгер,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юл кагыйдәләрен син бел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684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1215_7"/>
          <p:cNvPicPr/>
          <p:nvPr/>
        </p:nvPicPr>
        <p:blipFill>
          <a:blip r:embed="rId4"/>
          <a:stretch/>
        </p:blipFill>
        <p:spPr>
          <a:xfrm>
            <a:off x="6443640" y="1285920"/>
            <a:ext cx="1986120" cy="100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5286240"/>
            <a:ext cx="91440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билгеләрен урыннарына куярга булышыгы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http://avtoliteratura.ru/files/plakati/1215_8.jpg"/>
          <p:cNvPicPr/>
          <p:nvPr/>
        </p:nvPicPr>
        <p:blipFill>
          <a:blip r:embed="rId4"/>
          <a:stretch/>
        </p:blipFill>
        <p:spPr>
          <a:xfrm>
            <a:off x="6300720" y="1285920"/>
            <a:ext cx="2129040" cy="124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040" y="54288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 үзен дөрес тотмый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-6480" y="-304920"/>
            <a:ext cx="915696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1215_9"/>
          <p:cNvPicPr/>
          <p:nvPr/>
        </p:nvPicPr>
        <p:blipFill>
          <a:blip r:embed="rId4"/>
          <a:stretch/>
        </p:blipFill>
        <p:spPr>
          <a:xfrm>
            <a:off x="5867280" y="1285920"/>
            <a:ext cx="2419560" cy="1290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00040" y="521496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билгеләрен, тротуарны, урам чатын, юлның урта сызыгын күрсәтег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1215_10"/>
          <p:cNvPicPr/>
          <p:nvPr/>
        </p:nvPicPr>
        <p:blipFill>
          <a:blip r:embed="rId4"/>
          <a:stretch/>
        </p:blipFill>
        <p:spPr>
          <a:xfrm>
            <a:off x="5219640" y="1357200"/>
            <a:ext cx="3210120" cy="163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-360" y="5214960"/>
            <a:ext cx="90010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м чатындагы юлны аркылы чыгу урнында нинди кагыйдәләрне исәптә тотарга кирә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93560" y="-165240"/>
            <a:ext cx="8242560" cy="1646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1215_11"/>
          <p:cNvPicPr/>
          <p:nvPr/>
        </p:nvPicPr>
        <p:blipFill>
          <a:blip r:embed="rId4"/>
          <a:stretch/>
        </p:blipFill>
        <p:spPr>
          <a:xfrm>
            <a:off x="5292720" y="1428840"/>
            <a:ext cx="3137040" cy="168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550080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ем дөрес эшләм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929200"/>
            <a:ext cx="9144000" cy="9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1215_12"/>
          <p:cNvPicPr/>
          <p:nvPr/>
        </p:nvPicPr>
        <p:blipFill>
          <a:blip r:embed="rId4"/>
          <a:stretch/>
        </p:blipFill>
        <p:spPr>
          <a:xfrm>
            <a:off x="5940360" y="1214280"/>
            <a:ext cx="213192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28760" y="5286240"/>
            <a:ext cx="82296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ч белән урамда һәм юлда үзеңне ничек тотарга кирә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420840" y="133200"/>
            <a:ext cx="8242200" cy="1159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1215_14"/>
          <p:cNvPicPr/>
          <p:nvPr/>
        </p:nvPicPr>
        <p:blipFill>
          <a:blip r:embed="rId4"/>
          <a:stretch/>
        </p:blipFill>
        <p:spPr>
          <a:xfrm>
            <a:off x="6999120" y="1401840"/>
            <a:ext cx="974880" cy="123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йсы рәсемдә тормоз юлы озынрак була, ни өче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1215_14"/>
          <p:cNvPicPr/>
          <p:nvPr/>
        </p:nvPicPr>
        <p:blipFill>
          <a:blip r:embed="rId5"/>
          <a:stretch/>
        </p:blipFill>
        <p:spPr>
          <a:xfrm>
            <a:off x="3208320" y="1401840"/>
            <a:ext cx="979560" cy="1163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93560" y="13320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1215_15"/>
          <p:cNvPicPr/>
          <p:nvPr/>
        </p:nvPicPr>
        <p:blipFill>
          <a:blip r:embed="rId4"/>
          <a:stretch/>
        </p:blipFill>
        <p:spPr>
          <a:xfrm>
            <a:off x="5508720" y="1428840"/>
            <a:ext cx="2563560" cy="144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00040" y="528588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мер юлын аркылы чыгу кагыйдәлә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http://avtoliteratura.ru/files/plakati/1215_16.jpg"/>
          <p:cNvPicPr/>
          <p:nvPr/>
        </p:nvPicPr>
        <p:blipFill>
          <a:blip r:embed="rId4"/>
          <a:stretch/>
        </p:blipFill>
        <p:spPr>
          <a:xfrm>
            <a:off x="5508720" y="1341360"/>
            <a:ext cx="2466720" cy="1474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28760" y="528624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йөрү кагыйдәләрен бозу күренешләрен әйтеп ч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Гаишник"/>
          <p:cNvPicPr/>
          <p:nvPr/>
        </p:nvPicPr>
        <p:blipFill>
          <a:blip r:embed="rId1"/>
          <a:stretch/>
        </p:blipFill>
        <p:spPr>
          <a:xfrm>
            <a:off x="6372360" y="2852640"/>
            <a:ext cx="2520720" cy="3341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1" descr="http://www.greatbanner.ru/upload/information_items_1213539518.jpg"/>
          <p:cNvPicPr/>
          <p:nvPr/>
        </p:nvPicPr>
        <p:blipFill>
          <a:blip r:embed="rId2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Заголовок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39640" y="1916280"/>
            <a:ext cx="784872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avtoliteratura.ru/artic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kat_ddb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ree-lancers.net/user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utikov/projects/252989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61" descr="http://www.greatbanner.ru/upload/information_items_1213539518.jpg"/>
          <p:cNvPicPr/>
          <p:nvPr/>
        </p:nvPicPr>
        <p:blipFill>
          <a:blip r:embed="rId4"/>
          <a:srcRect l="0" t="86381" r="0" b="0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одзаголовок 2" descr=""/>
          <p:cNvPicPr/>
          <p:nvPr/>
        </p:nvPicPr>
        <p:blipFill>
          <a:blip r:embed="rId1"/>
          <a:stretch/>
        </p:blipFill>
        <p:spPr>
          <a:xfrm>
            <a:off x="-36360" y="1146240"/>
            <a:ext cx="9381960" cy="2138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1" descr="http://www.greatbanner.ru/upload/information_items_1213539518.jpg"/>
          <p:cNvPicPr/>
          <p:nvPr/>
        </p:nvPicPr>
        <p:blipFill>
          <a:blip r:embed="rId2"/>
          <a:srcRect l="0" t="79752" r="0" b="0"/>
          <a:stretch/>
        </p:blipFill>
        <p:spPr>
          <a:xfrm>
            <a:off x="0" y="5643720"/>
            <a:ext cx="9144000" cy="1114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1" descr="http://www.greatbanner.ru/upload/information_items_1213539518.jpg"/>
          <p:cNvPicPr/>
          <p:nvPr/>
        </p:nvPicPr>
        <p:blipFill>
          <a:blip r:embed="rId3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5" descr=""/>
          <p:cNvPicPr/>
          <p:nvPr/>
        </p:nvPicPr>
        <p:blipFill>
          <a:blip r:embed="rId4"/>
          <a:stretch/>
        </p:blipFill>
        <p:spPr>
          <a:xfrm>
            <a:off x="2411280" y="0"/>
            <a:ext cx="4596120" cy="146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Local Settings\Temporary Internet Files\Content.IE5\Z46HZJV1\MC900342985[1].wmf"/>
          <p:cNvPicPr/>
          <p:nvPr/>
        </p:nvPicPr>
        <p:blipFill>
          <a:blip r:embed="rId5"/>
          <a:stretch/>
        </p:blipFill>
        <p:spPr>
          <a:xfrm>
            <a:off x="179280" y="189000"/>
            <a:ext cx="1148040" cy="117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Calibri"/>
              </a:rPr>
              <a:t>Һәләкәтләр булмасын дип   Телидер һәрбер йөрәк. </a:t>
            </a:r>
            <a:br>
              <a:rPr sz="2800"/>
            </a:br>
            <a:r>
              <a:rPr b="0" lang="tt-RU" sz="2800" spc="-1" strike="noStrike">
                <a:solidFill>
                  <a:srgbClr val="000099"/>
                </a:solidFill>
                <a:latin typeface="Calibri"/>
              </a:rPr>
              <a:t>Шуңа күрә юл йөргәндә,  Бик сак булырга кирәк 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360" y="159984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Әти белән әниеңне                          Яшең җитәр йөзгәчә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Кайгылардан сакла син.                       Имгәнүләр күрмәссең.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“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Юл фәне әлифбасы”ның                     Юл йөрү кагыйдәләрен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Һәр билгесен ятла син.                         Онытма син кич-ирт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Светофорның һәр әмерен                     Әти - әниең сине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tt-RU" sz="2000" spc="-1" strike="noStrike">
                <a:solidFill>
                  <a:srgbClr val="009900"/>
                </a:solidFill>
                <a:latin typeface="Calibri"/>
              </a:rPr>
              <a:t>Тиешенчә үтә син.                               Сау кайтуыңны көтә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61" descr="http://www.greatbanner.ru/upload/information_items_1213539518.jpg"/>
          <p:cNvPicPr/>
          <p:nvPr/>
        </p:nvPicPr>
        <p:blipFill>
          <a:blip r:embed="rId2"/>
          <a:srcRect l="0" t="80337" r="0" b="0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9" descr=""/>
          <p:cNvPicPr/>
          <p:nvPr/>
        </p:nvPicPr>
        <p:blipFill>
          <a:blip r:embed="rId3"/>
          <a:stretch/>
        </p:blipFill>
        <p:spPr>
          <a:xfrm>
            <a:off x="0" y="4076640"/>
            <a:ext cx="8656560" cy="86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Уголок безопасности (материалы для оформления классного Уголка безопасности)"/>
          <p:cNvPicPr/>
          <p:nvPr/>
        </p:nvPicPr>
        <p:blipFill>
          <a:blip r:embed="rId1"/>
          <a:stretch/>
        </p:blipFill>
        <p:spPr>
          <a:xfrm>
            <a:off x="6012000" y="1628640"/>
            <a:ext cx="234468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Admin\Local Settings\Temporary Internet Files\Content.IE5\Z46HZJV1\MC900342985[1].wmf"/>
          <p:cNvPicPr/>
          <p:nvPr/>
        </p:nvPicPr>
        <p:blipFill>
          <a:blip r:embed="rId2"/>
          <a:stretch/>
        </p:blipFill>
        <p:spPr>
          <a:xfrm>
            <a:off x="0" y="1125360"/>
            <a:ext cx="1076400" cy="11782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1" descr="http://www.greatbanner.ru/upload/information_items_1213539518.jpg"/>
          <p:cNvPicPr/>
          <p:nvPr/>
        </p:nvPicPr>
        <p:blipFill>
          <a:blip r:embed="rId3"/>
          <a:srcRect l="0" t="0" r="0" b="7872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1" descr="http://www.greatbanner.ru/upload/information_items_1213539518.jpg"/>
          <p:cNvPicPr/>
          <p:nvPr/>
        </p:nvPicPr>
        <p:blipFill>
          <a:blip r:embed="rId1"/>
          <a:srcRect l="0" t="79752" r="0" b="0"/>
          <a:stretch/>
        </p:blipFill>
        <p:spPr>
          <a:xfrm>
            <a:off x="0" y="6021360"/>
            <a:ext cx="914400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1" descr="http://www.greatbanner.ru/upload/information_items_1213539518.jpg"/>
          <p:cNvPicPr/>
          <p:nvPr/>
        </p:nvPicPr>
        <p:blipFill>
          <a:blip r:embed="rId2"/>
          <a:srcRect l="0" t="0" r="0" b="30821"/>
          <a:stretch/>
        </p:blipFill>
        <p:spPr>
          <a:xfrm>
            <a:off x="0" y="142920"/>
            <a:ext cx="9144000" cy="909720"/>
          </a:xfrm>
          <a:prstGeom prst="rect">
            <a:avLst/>
          </a:prstGeom>
          <a:ln w="0">
            <a:noFill/>
          </a:ln>
        </p:spPr>
      </p:pic>
      <p:pic>
        <p:nvPicPr>
          <p:cNvPr id="58" name="Подзаголовок 2" descr=""/>
          <p:cNvPicPr/>
          <p:nvPr/>
        </p:nvPicPr>
        <p:blipFill>
          <a:blip r:embed="rId3"/>
          <a:stretch/>
        </p:blipFill>
        <p:spPr>
          <a:xfrm>
            <a:off x="133200" y="4127400"/>
            <a:ext cx="8877600" cy="741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1" descr="http://www.greatbanner.ru/upload/information_items_1213539518.jpg"/>
          <p:cNvPicPr/>
          <p:nvPr/>
        </p:nvPicPr>
        <p:blipFill>
          <a:blip r:embed="rId2"/>
          <a:srcRect l="0" t="80337" r="0" b="0"/>
          <a:stretch/>
        </p:blipFill>
        <p:spPr>
          <a:xfrm>
            <a:off x="0" y="5286240"/>
            <a:ext cx="9144000" cy="1571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9720" y="5072040"/>
            <a:ext cx="728676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 өчен сул яктагы рәсемдә куркыныч очрак ту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1215_1"/>
          <p:cNvPicPr/>
          <p:nvPr/>
        </p:nvPicPr>
        <p:blipFill>
          <a:blip r:embed="rId3"/>
          <a:stretch/>
        </p:blipFill>
        <p:spPr>
          <a:xfrm>
            <a:off x="6300720" y="1214280"/>
            <a:ext cx="1914480" cy="9939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9" descr=""/>
          <p:cNvPicPr/>
          <p:nvPr/>
        </p:nvPicPr>
        <p:blipFill>
          <a:blip r:embed="rId4"/>
          <a:stretch/>
        </p:blipFill>
        <p:spPr>
          <a:xfrm>
            <a:off x="133200" y="-109440"/>
            <a:ext cx="8729640" cy="133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976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http://www.rim3.ru/linkpics/Catalog/plakat/1215_2.jpg"/>
          <p:cNvPicPr/>
          <p:nvPr/>
        </p:nvPicPr>
        <p:blipFill>
          <a:blip r:embed="rId3"/>
          <a:stretch/>
        </p:blipFill>
        <p:spPr>
          <a:xfrm>
            <a:off x="6156360" y="928800"/>
            <a:ext cx="1844640" cy="1128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1" descr="http://www.greatbanner.ru/upload/information_items_1213539518.jpg"/>
          <p:cNvPicPr/>
          <p:nvPr/>
        </p:nvPicPr>
        <p:blipFill>
          <a:blip r:embed="rId4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521460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айның мәктәпкә бара торган юлындагы куркыныч урыннарны әйтегез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1" descr="http://www.greatbanner.ru/upload/information_items_1213539518.jpg"/>
          <p:cNvPicPr/>
          <p:nvPr/>
        </p:nvPicPr>
        <p:blipFill>
          <a:blip r:embed="rId2"/>
          <a:srcRect l="0" t="80337" r="0" b="0"/>
          <a:stretch/>
        </p:blipFill>
        <p:spPr>
          <a:xfrm>
            <a:off x="0" y="542916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5" descr=""/>
          <p:cNvPicPr/>
          <p:nvPr/>
        </p:nvPicPr>
        <p:blipFill>
          <a:blip r:embed="rId3"/>
          <a:stretch/>
        </p:blipFill>
        <p:spPr>
          <a:xfrm>
            <a:off x="450720" y="1825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http://www.rim3.ru/linkpics/Catalog/plakat/1215_3.jpg"/>
          <p:cNvPicPr/>
          <p:nvPr/>
        </p:nvPicPr>
        <p:blipFill>
          <a:blip r:embed="rId4"/>
          <a:stretch/>
        </p:blipFill>
        <p:spPr>
          <a:xfrm>
            <a:off x="6372360" y="1071720"/>
            <a:ext cx="2057400" cy="1136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00040" y="507168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дминтон, волейбол уйнаучы балаларга нинди куркыныч я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1215_4.jpg (600×400)"/>
          <p:cNvPicPr/>
          <p:nvPr/>
        </p:nvPicPr>
        <p:blipFill>
          <a:blip r:embed="rId4"/>
          <a:stretch/>
        </p:blipFill>
        <p:spPr>
          <a:xfrm>
            <a:off x="6516720" y="1071720"/>
            <a:ext cx="1770120" cy="103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0" y="5286240"/>
            <a:ext cx="91440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з ничек уйлыйсыз, ни өчен юл аркылы чыкканда тагын бер тапкыр сулга карарга кирәк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емиугольник 9"/>
          <p:cNvSpPr/>
          <p:nvPr/>
        </p:nvSpPr>
        <p:spPr>
          <a:xfrm>
            <a:off x="1571760" y="2643120"/>
            <a:ext cx="57132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емиугольник 11"/>
          <p:cNvSpPr/>
          <p:nvPr/>
        </p:nvSpPr>
        <p:spPr>
          <a:xfrm>
            <a:off x="1571760" y="4643280"/>
            <a:ext cx="57132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емиугольник 12"/>
          <p:cNvSpPr/>
          <p:nvPr/>
        </p:nvSpPr>
        <p:spPr>
          <a:xfrm>
            <a:off x="4572000" y="2643120"/>
            <a:ext cx="57168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емиугольник 13"/>
          <p:cNvSpPr/>
          <p:nvPr/>
        </p:nvSpPr>
        <p:spPr>
          <a:xfrm>
            <a:off x="4572000" y="4643280"/>
            <a:ext cx="571680" cy="55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1215_5"/>
          <p:cNvPicPr/>
          <p:nvPr/>
        </p:nvPicPr>
        <p:blipFill>
          <a:blip r:embed="rId4"/>
          <a:stretch/>
        </p:blipFill>
        <p:spPr>
          <a:xfrm>
            <a:off x="6156360" y="1500120"/>
            <a:ext cx="2344680" cy="116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528588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л аркылы кайсы урыннан чыгу куркынычсызр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61" descr="http://www.greatbanner.ru/upload/information_items_1213539518.jpg"/>
          <p:cNvPicPr/>
          <p:nvPr/>
        </p:nvPicPr>
        <p:blipFill>
          <a:blip r:embed="rId1"/>
          <a:srcRect l="0" t="0" r="0" b="7872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1" descr="http://www.greatbanner.ru/upload/information_items_1213539518.jpg"/>
          <p:cNvPicPr/>
          <p:nvPr/>
        </p:nvPicPr>
        <p:blipFill>
          <a:blip r:embed="rId3"/>
          <a:srcRect l="0" t="80337" r="0" b="0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1215_6"/>
          <p:cNvPicPr/>
          <p:nvPr/>
        </p:nvPicPr>
        <p:blipFill>
          <a:blip r:embed="rId4"/>
          <a:stretch/>
        </p:blipFill>
        <p:spPr>
          <a:xfrm>
            <a:off x="6443640" y="1285920"/>
            <a:ext cx="1914480" cy="111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564336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Җәмәгать транспортында үз-үзеңне тоту кагыйдәлә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3:12:33Z</dcterms:created>
  <dc:creator>Zver</dc:creator>
  <dc:description/>
  <dc:language>en-US</dc:language>
  <cp:lastModifiedBy>Admin</cp:lastModifiedBy>
  <dcterms:modified xsi:type="dcterms:W3CDTF">2011-12-01T12:56:18Z</dcterms:modified>
  <cp:revision>34</cp:revision>
  <dc:subject/>
  <dc:title>Слайд 1</dc:title>
</cp:coreProperties>
</file>