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4.png" ContentType="image/png"/>
  <Override PartName="/ppt/media/image25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9C6A2-1E12-46DC-AC32-ABE4DB010C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39273-9624-49B8-9E0B-FEA066BCE1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9947B-2F4B-4B09-947E-40B9F88184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DA968-23BF-4CAD-B929-94B0DFE243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23148-F592-40E8-843E-F1049CD06E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871F3-A49A-4603-8C00-17654FBD86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B8778-5C7B-4576-87FE-F887DAF31F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4F7E6-B1E0-4A38-B01B-AE9C05C25B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EB83F-1DB0-4073-82C3-C86F4528BD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53FA3-B467-4158-8B44-C05A450A60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37DC6-6665-45FB-BFC1-6DD14A3358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6A1C6-326B-4689-ADED-C57DA4BD9C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C:\Documents and Settings\Admin\Рабочий стол\для шаблонов\ввсс.gif"/>
          <p:cNvPicPr/>
          <p:nvPr/>
        </p:nvPicPr>
        <p:blipFill>
          <a:blip r:embed="rId5"/>
          <a:stretch/>
        </p:blipFill>
        <p:spPr>
          <a:xfrm>
            <a:off x="857160" y="1357200"/>
            <a:ext cx="7400880" cy="38926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6" descr="C:\Documents and Settings\Admin\Рабочий стол\угадай\Зелёный.gif"/>
          <p:cNvPicPr/>
          <p:nvPr/>
        </p:nvPicPr>
        <p:blipFill>
          <a:blip r:embed="rId6"/>
          <a:stretch/>
        </p:blipFill>
        <p:spPr>
          <a:xfrm>
            <a:off x="357120" y="6630840"/>
            <a:ext cx="1067040" cy="2271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3" descr="C:\Documents and Settings\Admin\Рабочий стол\для шаблонов\Копия прозр.gif"/>
          <p:cNvPicPr/>
          <p:nvPr/>
        </p:nvPicPr>
        <p:blipFill>
          <a:blip r:embed="rId7"/>
          <a:stretch/>
        </p:blipFill>
        <p:spPr>
          <a:xfrm>
            <a:off x="0" y="-214200"/>
            <a:ext cx="906480" cy="30718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4" descr="C:\Documents and Settings\Admin\Рабочий стол\для шаблонов\прозр2.gif"/>
          <p:cNvPicPr/>
          <p:nvPr/>
        </p:nvPicPr>
        <p:blipFill>
          <a:blip r:embed="rId8"/>
          <a:stretch/>
        </p:blipFill>
        <p:spPr>
          <a:xfrm>
            <a:off x="214200" y="0"/>
            <a:ext cx="2214720" cy="8604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3" descr="C:\Documents and Settings\Admin\Рабочий стол\для шаблонов\Копия прозр.gif"/>
          <p:cNvPicPr/>
          <p:nvPr/>
        </p:nvPicPr>
        <p:blipFill>
          <a:blip r:embed="rId9"/>
          <a:stretch/>
        </p:blipFill>
        <p:spPr>
          <a:xfrm>
            <a:off x="8364600" y="0"/>
            <a:ext cx="779400" cy="26431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4" descr="C:\Documents and Settings\Admin\Рабочий стол\для шаблонов\прозр2.gif"/>
          <p:cNvPicPr/>
          <p:nvPr/>
        </p:nvPicPr>
        <p:blipFill>
          <a:blip r:embed="rId10"/>
          <a:stretch/>
        </p:blipFill>
        <p:spPr>
          <a:xfrm>
            <a:off x="6929280" y="0"/>
            <a:ext cx="2071800" cy="80496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5EC51-DCE8-4D78-8009-BB6562BF8A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619280" y="-2799720"/>
            <a:ext cx="288720" cy="21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908000" y="549360"/>
            <a:ext cx="619308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 Е Р Е В Ь 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 rot="253800">
            <a:off x="1692000" y="2852280"/>
            <a:ext cx="601812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20644"/>
                <a:gd name="adj2" fmla="val 9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  М 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714920" y="5354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476360" y="907920"/>
            <a:ext cx="6264360" cy="4405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39640" y="537372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.Сделали план школы и посчитали деревья- 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124000" y="0"/>
            <a:ext cx="5256360" cy="14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ля расчётов мы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116000" y="476280"/>
            <a:ext cx="6769080" cy="4618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95280" y="5118120"/>
            <a:ext cx="820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. Посчитали количество учеников и  сотрудников школы – 2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. Прочитали и узнали, что 1 дерево выделяет кислор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за 1 сутки для 3 челов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. Выяснили, что автомобиль за 1 час работы поглощает столько кислорода, сколько 1 дерево вырабатывает за 1 го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2124000" y="189000"/>
            <a:ext cx="5184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лан школы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7345440" cy="47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763640" y="1727280"/>
            <a:ext cx="676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спосо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Х 81= 243(ч.) – могут получать достаточно кислор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4&lt; 2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спосо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4:3 = 68(д.)- необходимо иметь на территории шк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1&gt;6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692360" y="0"/>
            <a:ext cx="669600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ши расчёты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00000" y="333360"/>
            <a:ext cx="7920000" cy="68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Мы знаем, что автомобиль за 1час поглощает столько кислорода, сколько выделяет 1 дерево за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нашим наблюдениям мимо школы в среднем каждые 15 минут проезжает автомобиль. Допустим, что он тратит 5сек, следовательно за сутки набежит приблизительно (24ч =1440мин) \15=96 *5\60=8мин работы автомобиля,  следовательно 1час работы автомобиля набежит за 7 суток или неделю. Каждую неделю автомобиль поглощает кислород, выработанный 1 деревом за год. Следовательно 81 дерево исчерпает запас за 81 неделю или 16 месяцев а это 1 год 4 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 так как постоянно должно быть не меньше67деревьев, то через14 недель или 3 месяца кислорода будет не хват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4360" y="476280"/>
            <a:ext cx="7993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                                         </a:t>
            </a: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Выв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ши расчёты показали, что каким бы способом мы не решали, результат  соответствует нормам потребления кислорода. Но если учесть, что автомобиль за час поглощает кислород выделенный 1 деревом за год, то по нашим подсчётам уже через 3 месяца начнётся кислородное голодание, а это  приводит к ряду заболеваний, поэтому над этой проблемой должны задуматься все. Что собой представляет территория нашей школы – это малая песчинка в масштабах государства и всей планеты. Но в этом маленьком исследовании таятся глобальные проблемы. Давайте,  мы станем для дерева друго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403280" y="333360"/>
            <a:ext cx="7263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ервый шаг к решению проблемы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92360" y="1773360"/>
            <a:ext cx="6237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5905440" cy="51739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1332000" y="333360"/>
            <a:ext cx="63356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осадка пирамидального тополя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724360" y="692280"/>
            <a:ext cx="2519640" cy="4222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55640" y="1773360"/>
            <a:ext cx="424800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3346200" cy="4941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284720" y="1844640"/>
            <a:ext cx="458136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-5388480"/>
            <a:ext cx="2160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1835280" y="333360"/>
            <a:ext cx="6049800" cy="5376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908000" y="5875920"/>
            <a:ext cx="60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еса – это «лёгкие нашей планеты»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95280" y="230040"/>
            <a:ext cx="2655720" cy="35593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68360" y="3933720"/>
            <a:ext cx="3095640" cy="2743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995640" y="365040"/>
            <a:ext cx="48974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поль китайский пирамидальный / Populus chinensis pyramida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рево до 1 5 м высоты, чаще многостволь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но- двулетние побеги тополя тонкие, ребристые, как и ствол, зеленовато-серого цвета. Растут они вверх под острым углом, создавая красивую пирамидальную крон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стья ромбическо-эллиптической формы с узкоклиновидным основанием, круто заостренные на вершине, 12X8 см. Сверху светло-зеленые, снизу — беловато-сизоватые, с мелко остропильчатыми краями. Опадают листья после устойчивых мороз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поль китайский пирамидальный светолюбив, требователен к влаге, при недостатке ее сбрасывает лис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поль морозостоек. В обрезке не нужда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116000" y="907920"/>
            <a:ext cx="7308720" cy="554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0704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деемся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чт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ыпускники начальной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школы поддержа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ш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едложени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4103640" cy="37940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390920" y="2205000"/>
            <a:ext cx="4753080" cy="40734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4859280" y="692280"/>
            <a:ext cx="381636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х, уж э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95280" y="4365720"/>
            <a:ext cx="3816360" cy="107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ЕРЕВЬЯ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77080" y="2421000"/>
            <a:ext cx="22669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835280" y="333360"/>
            <a:ext cx="6049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налитическое обоснование.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16000" y="5373360"/>
            <a:ext cx="78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ы решили произвести расчёты, которые позволят увидеть, достаточно ли деревьев растёт на территории нашей школы, чтобы обеспечить кислородом всех учащихся и работников  шко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2050920" y="1150920"/>
            <a:ext cx="518508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-4260600" y="2945160"/>
            <a:ext cx="26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-4262400" y="3251160"/>
            <a:ext cx="166680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Гипотеза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58920" y="2206440"/>
            <a:ext cx="7165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 ходе работы над проектом мы выясним, что количество деревьев на территории школы недостаточно, чтобы выделить необходимое количество кислорода для учащихся и сотрудников нашей школы, то мы спланируем ряд мероприятий для устранения проблемы, через введение новой традиции для выпускников начальной школы «Деревце дружбы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763640" y="620640"/>
            <a:ext cx="6121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Гипотез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403280" y="549360"/>
            <a:ext cx="70563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ерево - наш друг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26920" y="1574640"/>
            <a:ext cx="7274160" cy="47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Воздух – смесь газ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Овальная выноска 9"/>
          <p:cNvSpPr/>
          <p:nvPr/>
        </p:nvSpPr>
        <p:spPr>
          <a:xfrm>
            <a:off x="500040" y="1571760"/>
            <a:ext cx="3429000" cy="857160"/>
          </a:xfrm>
          <a:prstGeom prst="wedgeEllipseCallout">
            <a:avLst>
              <a:gd name="adj1" fmla="val 45310"/>
              <a:gd name="adj2" fmla="val 140324"/>
            </a:avLst>
          </a:prstGeom>
          <a:solidFill>
            <a:srgbClr val="c0504d"/>
          </a:solidFill>
          <a:ln w="25560">
            <a:solidFill>
              <a:srgbClr val="adb6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углекислый газ  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Овальная выноска 12"/>
          <p:cNvSpPr/>
          <p:nvPr/>
        </p:nvSpPr>
        <p:spPr>
          <a:xfrm>
            <a:off x="5429160" y="1785960"/>
            <a:ext cx="3429000" cy="857160"/>
          </a:xfrm>
          <a:prstGeom prst="wedgeEllipseCallout">
            <a:avLst>
              <a:gd name="adj1" fmla="val -50398"/>
              <a:gd name="adj2" fmla="val 105254"/>
            </a:avLst>
          </a:prstGeom>
          <a:solidFill>
            <a:srgbClr val="2ce923"/>
          </a:solidFill>
          <a:ln w="25560">
            <a:solidFill>
              <a:srgbClr val="adb6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кислород 2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Овальная выноска 13"/>
          <p:cNvSpPr/>
          <p:nvPr/>
        </p:nvSpPr>
        <p:spPr>
          <a:xfrm>
            <a:off x="5357880" y="5429160"/>
            <a:ext cx="3429000" cy="857520"/>
          </a:xfrm>
          <a:prstGeom prst="wedgeEllipseCallout">
            <a:avLst>
              <a:gd name="adj1" fmla="val -54050"/>
              <a:gd name="adj2" fmla="val -103694"/>
            </a:avLst>
          </a:prstGeom>
          <a:solidFill>
            <a:srgbClr val="0000ff"/>
          </a:solidFill>
          <a:ln w="25560">
            <a:solidFill>
              <a:srgbClr val="adb6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азот  78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Содержимое 11" descr="Рисунок1.png"/>
          <p:cNvPicPr/>
          <p:nvPr/>
        </p:nvPicPr>
        <p:blipFill>
          <a:blip r:embed="rId1"/>
          <a:stretch/>
        </p:blipFill>
        <p:spPr>
          <a:xfrm rot="18685800">
            <a:off x="2896920" y="2106720"/>
            <a:ext cx="4101840" cy="35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33cc"/>
                </a:solidFill>
                <a:latin typeface="Calibri"/>
              </a:rPr>
              <a:t>Что  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необходимо</a:t>
            </a:r>
            <a:r>
              <a:rPr b="1" lang="en-US" sz="4000" spc="-1" strike="noStrike">
                <a:solidFill>
                  <a:srgbClr val="0033cc"/>
                </a:solidFill>
                <a:latin typeface="Calibri"/>
              </a:rPr>
              <a:t>  человек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у</a:t>
            </a:r>
            <a:r>
              <a:rPr b="1" lang="en-US" sz="4000" spc="-1" strike="noStrike">
                <a:solidFill>
                  <a:srgbClr val="0033cc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кислород  (О2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Calibri"/>
              </a:rPr>
              <a:t>Что  выдыхает  человек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углекислый  газ  (СО2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2044440" cy="21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30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33cc"/>
                </a:solidFill>
                <a:latin typeface="Calibri"/>
              </a:rPr>
              <a:t>Что  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поглощают</a:t>
            </a:r>
            <a:r>
              <a:rPr b="1" lang="en-US" sz="4000" spc="-1" strike="noStrike">
                <a:solidFill>
                  <a:srgbClr val="0033cc"/>
                </a:solidFill>
                <a:latin typeface="Calibri"/>
              </a:rPr>
              <a:t>  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деревья</a:t>
            </a:r>
            <a:r>
              <a:rPr b="1" lang="en-US" sz="4000" spc="-1" strike="noStrike">
                <a:solidFill>
                  <a:srgbClr val="0033cc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964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углекислый  газ  (СО2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Calibri"/>
              </a:rPr>
              <a:t>Что  выд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еляют</a:t>
            </a:r>
            <a:r>
              <a:rPr b="1" lang="en-US" sz="4400" spc="-1" strike="noStrike">
                <a:solidFill>
                  <a:srgbClr val="0033cc"/>
                </a:solidFill>
                <a:latin typeface="Calibri"/>
              </a:rPr>
              <a:t>  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деревья</a:t>
            </a:r>
            <a:r>
              <a:rPr b="1" lang="en-US" sz="4400" spc="-1" strike="noStrike">
                <a:solidFill>
                  <a:srgbClr val="0033cc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кислород  (О</a:t>
            </a:r>
            <a:r>
              <a:rPr b="1" lang="en-US" sz="1800" spc="-1" strike="noStrike">
                <a:solidFill>
                  <a:srgbClr val="c0504d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3T19:14:01Z</dcterms:created>
  <dc:creator>любовь</dc:creator>
  <dc:description/>
  <dc:language>en-US</dc:language>
  <cp:lastModifiedBy>User</cp:lastModifiedBy>
  <dcterms:modified xsi:type="dcterms:W3CDTF">2011-10-24T13:04:18Z</dcterms:modified>
  <cp:revision>4</cp:revision>
  <dc:subject/>
  <dc:title>Слайд 1</dc:title>
</cp:coreProperties>
</file>