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31C2-66B4-40A3-A419-44C163979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77FF-4A8F-414E-A6BE-78CDB771C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EDE3-C9C7-4E21-91BF-E75D13A9E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C29D-AC7A-49D7-A0F1-073C59F4A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E0C0-FAC4-41E2-BB1C-489D5A4FA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6575-2930-4DCE-BA88-F6D78F82B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EBA5-4E0C-4BA2-802C-DB4B6085F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6CB5-7A5A-4B3A-8D76-EA1993B4C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6224-780F-4A25-9200-974F8A5E2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F043-6A73-41B2-84F5-112C64A74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9F59A-F2DE-490B-B294-1EE8BD428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914A-38B6-410B-B73B-C421B69FD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D277-FEC1-4D8F-8AE6-7A024ECEA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619280" y="-2799720"/>
            <a:ext cx="288720" cy="21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8000" y="549360"/>
            <a:ext cx="6193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 Е Р Е В Ь 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253800">
            <a:off x="1692000" y="2852280"/>
            <a:ext cx="60181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 М 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14920" y="535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264360" cy="440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53737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Сделали план школы и посчитали деревья-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24000" y="0"/>
            <a:ext cx="52563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расчётов м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769080" cy="4618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511812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 Посчитали количество учеников и  сотрудников школы – 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 Прочитали и узнали, что 1 дерево выделяет кисло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 1 сутки для 3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 Выяснили, что автомобиль за 1 час работы поглощает столько кислорода, сколько 1 дерево вырабатывает за 1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24000" y="189000"/>
            <a:ext cx="51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 школ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47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3640" y="1727280"/>
            <a:ext cx="67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Х 81= 243(ч.) – могут получать достаточно кисл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4&lt; 2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4:3 = 68(д.)- необходимо иметь на территории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&gt;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92360" y="0"/>
            <a:ext cx="6696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ши расчёт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333360"/>
            <a:ext cx="79200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ы знаем, что автомобиль за 1час поглощает столько кислорода, сколько выделяет 1 дерево за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нашим наблюдениям мимо школы в среднем каждые 15 минут проезжает автомобиль. Допустим, что он тратит 5сек, следовательно за сутки набежит приблизительно (24ч =1440мин) \15=96 *5\60=8мин работы автомобиля,  следовательно 1час работы автомобиля набежит за 7 суток или неделю. Каждую неделю автомобиль поглощает кислород, выработанный 1 деревом за год. Следовательно 81 дерево исчерпает запас за 81 неделю или 16 месяцев а это 1 год 4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так как постоянно должно быть не меньше67деревьев, то через14 недель или 3 месяца кислорода будет не хва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476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и расчёты показали, что каким бы способом мы не решали, результат  соответствует нормам потребления кислорода. Но если учесть, что автомобиль за час поглощает кислород выделенный 1 деревом за год, то по нашим подсчётам уже через 3 месяца начнётся кислородное голодание, а это  приводит к ряду заболеваний, поэтому над этой проблемой должны задуматься все. Что собой представляет территория нашей школы – это малая песчинка в масштабах государства и всей планеты. Но в этом маленьком исследовании таятся глобальные проблемы. Давайте,  мы станем для дерева друг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03280" y="333360"/>
            <a:ext cx="7263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вый шаг к решению проблем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237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5905440" cy="5173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332000" y="333360"/>
            <a:ext cx="6335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садка пирамидального топо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24360" y="692280"/>
            <a:ext cx="2519640" cy="422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248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346200" cy="4941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4581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-538848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835280" y="333360"/>
            <a:ext cx="6049800" cy="5376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5875920"/>
            <a:ext cx="60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са – это «лёгкие нашей планеты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230040"/>
            <a:ext cx="2655720" cy="3559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095640" cy="2743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95640" y="365040"/>
            <a:ext cx="4897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поль китайский пирамидальный / Populus chinensis pyramid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о до 1 5 м высоты, чаще многоство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- двулетние побеги тополя тонкие, ребристые, как и ствол, зеленовато-серого цвета. Растут они вверх под острым углом, создавая красивую пирамидальную к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ья ромбическо-эллиптической формы с узкоклиновидным основанием, круто заостренные на вершине, 12X8 см. Сверху светло-зеленые, снизу — беловато-сизоватые, с мелко остропильчатыми краями. Опадают листья после устойчивых моро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поль китайский пирамидальный светолюбив, требователен к влаге, при недостатке ее сбрасывает л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поль морозостоек. В обрезке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16000" y="907920"/>
            <a:ext cx="7308720" cy="55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70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деемс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пускники началь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колы поддерж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ш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длож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103640" cy="3794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90920" y="2205000"/>
            <a:ext cx="4753080" cy="407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859280" y="692280"/>
            <a:ext cx="3816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х, уж э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4365720"/>
            <a:ext cx="381636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РЕВ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77080" y="2421000"/>
            <a:ext cx="2266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35280" y="333360"/>
            <a:ext cx="604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налитическое обоснование.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37336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решили произвести расчёты, которые позволят увидеть, достаточно ли деревьев растёт на территории нашей школы, чтобы обеспечить кислородом всех учащихся и работников 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050920" y="1150920"/>
            <a:ext cx="5185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4260600" y="294516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4262400" y="3251160"/>
            <a:ext cx="16668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2206440"/>
            <a:ext cx="716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ходе работы над проектом мы выясним, что количество деревьев на территории школы недостаточно, чтобы выделить необходимое количество кислорода для учащихся и сотрудников нашей школы, то мы спланируем ряд мероприятий для устранения проблемы, через введение новой традиции для выпускников начальной школы «Деревце дружб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63640" y="620640"/>
            <a:ext cx="6121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тез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03280" y="549360"/>
            <a:ext cx="70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рево - наш дру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1574640"/>
            <a:ext cx="72741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оздух – смесь га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ьная выноска 9"/>
          <p:cNvSpPr/>
          <p:nvPr/>
        </p:nvSpPr>
        <p:spPr>
          <a:xfrm>
            <a:off x="500040" y="1571760"/>
            <a:ext cx="3429000" cy="857160"/>
          </a:xfrm>
          <a:prstGeom prst="wedgeEllipseCallout">
            <a:avLst>
              <a:gd name="adj1" fmla="val 45310"/>
              <a:gd name="adj2" fmla="val 140324"/>
            </a:avLst>
          </a:prstGeom>
          <a:solidFill>
            <a:srgbClr val="c0504d"/>
          </a:solidFill>
          <a:ln w="25560">
            <a:solidFill>
              <a:srgbClr val="adb6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глекислый газ 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ьная выноска 12"/>
          <p:cNvSpPr/>
          <p:nvPr/>
        </p:nvSpPr>
        <p:spPr>
          <a:xfrm>
            <a:off x="5429160" y="1785960"/>
            <a:ext cx="3429000" cy="857160"/>
          </a:xfrm>
          <a:prstGeom prst="wedgeEllipseCallout">
            <a:avLst>
              <a:gd name="adj1" fmla="val -50398"/>
              <a:gd name="adj2" fmla="val 105254"/>
            </a:avLst>
          </a:prstGeom>
          <a:solidFill>
            <a:srgbClr val="2ce923"/>
          </a:solidFill>
          <a:ln w="25560">
            <a:solidFill>
              <a:srgbClr val="adb6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ислород 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ьная выноска 13"/>
          <p:cNvSpPr/>
          <p:nvPr/>
        </p:nvSpPr>
        <p:spPr>
          <a:xfrm>
            <a:off x="5357880" y="5429160"/>
            <a:ext cx="3429000" cy="85752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00ff"/>
          </a:solidFill>
          <a:ln w="25560">
            <a:solidFill>
              <a:srgbClr val="adb6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зот  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96920" y="2106720"/>
            <a:ext cx="41018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Что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необходимо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  человек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у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кислород  (О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Что  выдыхает  челове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углекислый  газ  (СО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04444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Что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поглощают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деревья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углекислый  газ  (СО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alibri"/>
              </a:rPr>
              <a:t>Что  выд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еляют</a:t>
            </a:r>
            <a:r>
              <a:rPr b="1" lang="en-US" sz="4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деревья</a:t>
            </a:r>
            <a:r>
              <a:rPr b="1" lang="en-US" sz="4400" spc="-1" strike="noStrike">
                <a:solidFill>
                  <a:srgbClr val="0033cc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кислород  (О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9:14:01Z</dcterms:created>
  <dc:creator>любовь</dc:creator>
  <dc:description/>
  <dc:language>en-US</dc:language>
  <cp:lastModifiedBy>User</cp:lastModifiedBy>
  <dcterms:modified xsi:type="dcterms:W3CDTF">2011-10-24T13:04:18Z</dcterms:modified>
  <cp:revision>4</cp:revision>
  <dc:subject/>
  <dc:title>Слайд 1</dc:title>
</cp:coreProperties>
</file>