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134-405A-455F-8736-9AEA9FE7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AA6-A7B2-4604-8BC3-65DE2DF1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67E-2106-46C8-A63F-382A4A18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AA7-BC51-40B5-BF7B-4B265307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75BBE-C586-429E-B167-EF3A480A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A7D4D-F11F-4484-9E0D-4AC1F258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4188A-EEBA-4A1B-9F07-E97CBC0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88E80-E2C2-4A9C-9651-AD7EB891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76F54-1DFB-419A-A845-06A7DCBD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4E74D-EFAC-41E7-B117-5DF337E7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56208-CDA2-4D2F-A9A7-66081E3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F86-DF47-4539-857D-4CEB7C11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20B90-0929-40DA-BB22-3B35C40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73A1-F007-4CFD-A5C6-2D8D3FD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EE131-2E03-4E90-ACAA-FD555F51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45F77-8970-4CF6-B692-D786C350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48E98-C0A9-4637-ABCB-560A7CCD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129-C481-41D6-87EA-B540502C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417-C6F5-42B9-AAF1-2B38656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9C2-1444-4615-9251-2D30195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749-FE31-425C-A4AD-AA46D3D4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643-61F3-41A5-8EE1-CBC91C27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675-1F25-4C44-8587-F3AB7BB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9BE-6B8B-42A5-9DE0-34BB308B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295D-9796-4A5B-924D-985EACE284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222-8048-4AE6-9820-75B2BC69AD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hyperlink" Target="http://vkontakte.ru/photo-4130279_118284250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kontakte.ru/photo-4130279_118628134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1700280"/>
            <a:ext cx="670536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шлавычта туган бу мал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бдулла дип исем кушылган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кан, суккан аны ачы язмыш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р канаты сынган кош сыма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2374920" cy="295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404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Tahoma"/>
              </a:rPr>
              <a:t>ГАБДУЛЛА ТУКАЙ</a:t>
            </a:r>
            <a:br>
              <a:rPr sz="2400"/>
            </a:br>
            <a:r>
              <a:rPr b="0" lang="tt-RU" sz="2400" spc="-1" strike="noStrike">
                <a:solidFill>
                  <a:srgbClr val="ff0000"/>
                </a:solidFill>
                <a:latin typeface="Tahoma"/>
              </a:rPr>
              <a:t>       (1886-1913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4"/>
          <p:cNvPicPr/>
          <p:nvPr/>
        </p:nvPicPr>
        <p:blipFill>
          <a:blip r:embed="rId2"/>
          <a:stretch/>
        </p:blipFill>
        <p:spPr>
          <a:xfrm>
            <a:off x="684360" y="1484280"/>
            <a:ext cx="3557520" cy="446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5"/>
          <p:cNvPicPr/>
          <p:nvPr/>
        </p:nvPicPr>
        <p:blipFill>
          <a:blip r:embed="rId3"/>
          <a:stretch/>
        </p:blipFill>
        <p:spPr>
          <a:xfrm>
            <a:off x="4788000" y="1484280"/>
            <a:ext cx="3328920" cy="4464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5003640" y="587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99"/>
                </a:solidFill>
                <a:latin typeface="Verdana"/>
              </a:rPr>
              <a:t>        </a:t>
            </a:r>
            <a:r>
              <a:rPr b="0" lang="tt-RU" sz="2400" spc="-1" strike="noStrike">
                <a:solidFill>
                  <a:srgbClr val="ff0000"/>
                </a:solidFill>
                <a:latin typeface="Verdana"/>
              </a:rPr>
              <a:t>Мәмдүд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9280" y="594828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ff0000"/>
                </a:solidFill>
                <a:latin typeface="Arial"/>
              </a:rPr>
              <a:t>Мөхәммәтгари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333360"/>
            <a:ext cx="5838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укайның әтисе һәм әнис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2827200">
            <a:off x="2772360" y="403560"/>
            <a:ext cx="1127160" cy="112896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576" stAng="10800000" swAng="5400000"/>
                <a:lnTo>
                  <a:pt x="18801" y="3584"/>
                </a:lnTo>
                <a:lnTo>
                  <a:pt x="18801" y="0"/>
                </a:lnTo>
                <a:lnTo>
                  <a:pt x="21600" y="6079"/>
                </a:lnTo>
                <a:lnTo>
                  <a:pt x="18801" y="12158"/>
                </a:lnTo>
                <a:lnTo>
                  <a:pt x="18801" y="8574"/>
                </a:lnTo>
                <a:lnTo>
                  <a:pt x="12427" y="8574"/>
                </a:lnTo>
                <a:arcTo wR="7437" hR="3586" stAng="16200000" swAng="-5400000"/>
                <a:lnTo>
                  <a:pt x="499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3" descr=""/>
          <p:cNvPicPr/>
          <p:nvPr/>
        </p:nvPicPr>
        <p:blipFill>
          <a:blip r:embed="rId2"/>
          <a:stretch/>
        </p:blipFill>
        <p:spPr>
          <a:xfrm>
            <a:off x="5514840" y="2592360"/>
            <a:ext cx="3143520" cy="138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8"/>
          <p:cNvSpPr/>
          <p:nvPr/>
        </p:nvSpPr>
        <p:spPr>
          <a:xfrm>
            <a:off x="395280" y="1700280"/>
            <a:ext cx="237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Кушлавы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564000" y="2637000"/>
            <a:ext cx="25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Өчи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3851280" y="5734080"/>
            <a:ext cx="2376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Кырл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6156360" y="350028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Каз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9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2361960" cy="136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2"/>
          <p:cNvSpPr/>
          <p:nvPr/>
        </p:nvSpPr>
        <p:spPr>
          <a:xfrm>
            <a:off x="0" y="479736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Җа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3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233856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6" descr="9"/>
          <p:cNvPicPr/>
          <p:nvPr/>
        </p:nvPicPr>
        <p:blipFill>
          <a:blip r:embed="rId5"/>
          <a:stretch/>
        </p:blipFill>
        <p:spPr>
          <a:xfrm>
            <a:off x="6588000" y="4869000"/>
            <a:ext cx="2133720" cy="114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5400000">
            <a:off x="6253920" y="145800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0" stAng="10800000" swAng="5400000"/>
                <a:lnTo>
                  <a:pt x="17136" y="3520"/>
                </a:lnTo>
                <a:lnTo>
                  <a:pt x="17136" y="0"/>
                </a:lnTo>
                <a:lnTo>
                  <a:pt x="21600" y="6079"/>
                </a:lnTo>
                <a:lnTo>
                  <a:pt x="17136" y="12158"/>
                </a:lnTo>
                <a:lnTo>
                  <a:pt x="17136" y="8638"/>
                </a:lnTo>
                <a:lnTo>
                  <a:pt x="12427" y="8638"/>
                </a:lnTo>
                <a:arcTo wR="7309" hR="3522" stAng="16200000" swAng="-5400000"/>
                <a:lnTo>
                  <a:pt x="511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9314400">
            <a:off x="8172000" y="407664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924360" y="1052640"/>
            <a:ext cx="2087640" cy="151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74520" y="6165720"/>
            <a:ext cx="964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Өчи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1002800">
            <a:off x="5580000" y="5084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4292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407664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3635280" y="400536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4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4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9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6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tt-RU" sz="4000" spc="-1" strike="noStrike">
                <a:solidFill>
                  <a:srgbClr val="ff0000"/>
                </a:solidFill>
                <a:latin typeface="Tahoma"/>
              </a:rPr>
              <a:t>җатыннан үрнәкләр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3457440" cy="4968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36716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816360" cy="561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374328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2"/>
          <a:srcRect l="0" t="4685" r="876" b="37047"/>
          <a:stretch/>
        </p:blipFill>
        <p:spPr>
          <a:xfrm>
            <a:off x="250920" y="260280"/>
            <a:ext cx="8642160" cy="612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rcRect l="0" t="4685" r="876" b="37047"/>
          <a:stretch/>
        </p:blipFill>
        <p:spPr>
          <a:xfrm>
            <a:off x="324000" y="189000"/>
            <a:ext cx="8569080" cy="6335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468360" y="2133720"/>
            <a:ext cx="842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Тау башында салынгандыр безнең авы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Бер чишмә бар, якын безнең авылга у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Авылыбызның ямен, суы тәмен белә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Шуңар күрә сөям җаным – тәнем белән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13200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Monotype Corsiva"/>
              </a:rPr>
              <a:t>Туган авы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22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Tahoma"/>
              </a:rPr>
              <a:t>Аның исеме үлемсез..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00"/>
                </a:solidFill>
                <a:latin typeface="Tahoma"/>
              </a:rPr>
              <a:t>Габдулла Тукай мәйда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773360"/>
            <a:ext cx="424476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6337080" cy="5184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00"/>
                </a:solidFill>
                <a:latin typeface="Tahoma"/>
              </a:rPr>
              <a:t>Кырлайда Тукай музе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743280" cy="6048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250920" y="645336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324000" y="549360"/>
            <a:ext cx="4038480" cy="6038280"/>
            <a:chOff x="324000" y="549360"/>
            <a:chExt cx="4038480" cy="6038280"/>
          </a:xfrm>
        </p:grpSpPr>
        <p:pic>
          <p:nvPicPr>
            <p:cNvPr id="131" name="Picture 5" descr="77"/>
            <p:cNvPicPr/>
            <p:nvPr/>
          </p:nvPicPr>
          <p:blipFill>
            <a:blip r:embed="rId3"/>
            <a:stretch/>
          </p:blipFill>
          <p:spPr>
            <a:xfrm>
              <a:off x="324000" y="549360"/>
              <a:ext cx="4038480" cy="60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3"/>
            <p:cNvSpPr/>
            <p:nvPr/>
          </p:nvSpPr>
          <p:spPr>
            <a:xfrm>
              <a:off x="324000" y="776160"/>
              <a:ext cx="39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ffff00"/>
                  </a:solidFill>
                  <a:latin typeface="Times New Roman"/>
                </a:rPr>
                <a:t>Казанда Г.Тукай исемендәге урамның гомуми күренеше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6360" y="692280"/>
            <a:ext cx="3381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imes New Roman"/>
              </a:rPr>
              <a:t>Г.Тукай исемендәге филормо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380360" y="5300640"/>
            <a:ext cx="1512720" cy="132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160720" cy="17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7:14:29Z</dcterms:created>
  <dc:creator>гульнара</dc:creator>
  <dc:description/>
  <dc:language>en-US</dc:language>
  <cp:lastModifiedBy>гульнара</cp:lastModifiedBy>
  <dcterms:modified xsi:type="dcterms:W3CDTF">2011-12-02T18:44:05Z</dcterms:modified>
  <cp:revision>13</cp:revision>
  <dc:subject/>
  <dc:title>Г</dc:title>
</cp:coreProperties>
</file>