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63-B05E-4A98-8F1E-0C81A17B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BBF-9784-46DC-BB69-A0FDE76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CC2-EBB2-4404-98ED-78690D7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1AE-ADE9-4D6D-B117-722877EF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3289-16EA-4138-B5C3-857BB25C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C8377-A2F8-4ABF-A832-A6CCDEDA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0F3B-7F9D-4E65-819F-426417CC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A67B6-51C7-4125-B3E9-0427641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07881-F0C7-4A6E-9B11-D471F477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5928D-C15D-4513-999E-B8C53A3D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579A2-64C5-4584-BCDD-796641E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A6F-EA8C-4A60-818C-997736B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EB8BD-8A49-428B-B3C5-DEA6EA4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14EC-CAEB-48CB-8A6C-948739A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BADA-F248-458C-8E9B-F831E7D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C0AE0-6BA1-4855-B308-167535C6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B7E70-8BD0-4088-A605-A54F720F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85E-C4D7-48EE-ABB7-4787C076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21C-2D81-4F76-AB62-D94F402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19B-7B66-428B-B1B6-A1E483D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87E-C875-4C3E-98B6-6FCE8ED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85D-977F-4ABA-9525-207EBFE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411-5A58-457E-99A1-ED370F9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818-AC1E-48B5-A0F2-EFB996F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185B-B023-45E3-B9CE-0C0BB324D1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A38-C2EA-4101-8258-6D494114C6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hyperlink" Target="http://vkontakte.ru/photo-4130279_118284250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kontakte.ru/photo-4130279_118628134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700280"/>
            <a:ext cx="670536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шлавычта туган бу мал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бдулла дип исем кушылган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ккан, суккан аны ачы язмыш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р канаты сынган кош сыма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2374920" cy="2952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404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0000"/>
                </a:solidFill>
                <a:latin typeface="Tahoma"/>
              </a:rPr>
              <a:t>ГАБДУЛЛА ТУКАЙ</a:t>
            </a:r>
            <a:br>
              <a:rPr sz="2400"/>
            </a:br>
            <a:r>
              <a:rPr b="0" lang="tt-RU" sz="2400" spc="-1" strike="noStrike">
                <a:solidFill>
                  <a:srgbClr val="ff0000"/>
                </a:solidFill>
                <a:latin typeface="Tahoma"/>
              </a:rPr>
              <a:t>       (1886-1913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4"/>
          <p:cNvPicPr/>
          <p:nvPr/>
        </p:nvPicPr>
        <p:blipFill>
          <a:blip r:embed="rId2"/>
          <a:stretch/>
        </p:blipFill>
        <p:spPr>
          <a:xfrm>
            <a:off x="684360" y="1484280"/>
            <a:ext cx="3557520" cy="446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5"/>
          <p:cNvPicPr/>
          <p:nvPr/>
        </p:nvPicPr>
        <p:blipFill>
          <a:blip r:embed="rId3"/>
          <a:stretch/>
        </p:blipFill>
        <p:spPr>
          <a:xfrm>
            <a:off x="4788000" y="1484280"/>
            <a:ext cx="3328920" cy="446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5003640" y="587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0" lang="tt-RU" sz="2400" spc="-1" strike="noStrike">
                <a:solidFill>
                  <a:srgbClr val="ff0000"/>
                </a:solidFill>
                <a:latin typeface="Verdana"/>
              </a:rPr>
              <a:t>Мәмдүд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9280" y="594828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ff0000"/>
                </a:solidFill>
                <a:latin typeface="Arial"/>
              </a:rPr>
              <a:t>Мөхәммәтгари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333360"/>
            <a:ext cx="5838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кайның әтисе һәм әнис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2827200">
            <a:off x="2772360" y="403560"/>
            <a:ext cx="1127160" cy="112896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576" stAng="10800000" swAng="5400000"/>
                <a:lnTo>
                  <a:pt x="18801" y="3584"/>
                </a:lnTo>
                <a:lnTo>
                  <a:pt x="18801" y="0"/>
                </a:lnTo>
                <a:lnTo>
                  <a:pt x="21600" y="6079"/>
                </a:lnTo>
                <a:lnTo>
                  <a:pt x="18801" y="12158"/>
                </a:lnTo>
                <a:lnTo>
                  <a:pt x="18801" y="8574"/>
                </a:lnTo>
                <a:lnTo>
                  <a:pt x="12427" y="8574"/>
                </a:lnTo>
                <a:arcTo wR="7437" hR="3586" stAng="16200000" swAng="-5400000"/>
                <a:lnTo>
                  <a:pt x="499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3" descr=""/>
          <p:cNvPicPr/>
          <p:nvPr/>
        </p:nvPicPr>
        <p:blipFill>
          <a:blip r:embed="rId2"/>
          <a:stretch/>
        </p:blipFill>
        <p:spPr>
          <a:xfrm>
            <a:off x="5514840" y="2592360"/>
            <a:ext cx="3143520" cy="138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8"/>
          <p:cNvSpPr/>
          <p:nvPr/>
        </p:nvSpPr>
        <p:spPr>
          <a:xfrm>
            <a:off x="395280" y="1700280"/>
            <a:ext cx="2376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ушлавы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564000" y="2637000"/>
            <a:ext cx="259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Өч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3851280" y="5734080"/>
            <a:ext cx="2376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ырл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6156360" y="350028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Каз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9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361960" cy="136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2"/>
          <p:cNvSpPr/>
          <p:nvPr/>
        </p:nvSpPr>
        <p:spPr>
          <a:xfrm>
            <a:off x="0" y="479736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Verdana"/>
              </a:rPr>
              <a:t>Җа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3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233856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6" descr="9"/>
          <p:cNvPicPr/>
          <p:nvPr/>
        </p:nvPicPr>
        <p:blipFill>
          <a:blip r:embed="rId5"/>
          <a:stretch/>
        </p:blipFill>
        <p:spPr>
          <a:xfrm>
            <a:off x="6588000" y="4869000"/>
            <a:ext cx="2133720" cy="114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5400000">
            <a:off x="6253920" y="145800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0" stAng="10800000" swAng="5400000"/>
                <a:lnTo>
                  <a:pt x="17136" y="3520"/>
                </a:lnTo>
                <a:lnTo>
                  <a:pt x="17136" y="0"/>
                </a:lnTo>
                <a:lnTo>
                  <a:pt x="21600" y="6079"/>
                </a:lnTo>
                <a:lnTo>
                  <a:pt x="17136" y="12158"/>
                </a:lnTo>
                <a:lnTo>
                  <a:pt x="17136" y="8638"/>
                </a:lnTo>
                <a:lnTo>
                  <a:pt x="12427" y="8638"/>
                </a:lnTo>
                <a:arcTo wR="7309" hR="3522" stAng="16200000" swAng="-5400000"/>
                <a:lnTo>
                  <a:pt x="511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9314400">
            <a:off x="8172000" y="407664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924360" y="1052640"/>
            <a:ext cx="2087640" cy="151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74520" y="6165720"/>
            <a:ext cx="964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ff0000"/>
                </a:solidFill>
                <a:latin typeface="Arial"/>
              </a:rPr>
              <a:t>Өч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1002800">
            <a:off x="5580000" y="5084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292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4076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3635280" y="4005360"/>
            <a:ext cx="194472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4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9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6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tt-RU" sz="4000" spc="-1" strike="noStrike">
                <a:solidFill>
                  <a:srgbClr val="ff0000"/>
                </a:solidFill>
                <a:latin typeface="Tahoma"/>
              </a:rPr>
              <a:t>җатыннан үрнәкләр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052640"/>
            <a:ext cx="3457440" cy="496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788000" y="112536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816360" cy="561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74328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2"/>
          <a:srcRect l="0" t="4685" r="876" b="37047"/>
          <a:stretch/>
        </p:blipFill>
        <p:spPr>
          <a:xfrm>
            <a:off x="250920" y="260280"/>
            <a:ext cx="8642160" cy="612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0" t="4685" r="876" b="37047"/>
          <a:stretch/>
        </p:blipFill>
        <p:spPr>
          <a:xfrm>
            <a:off x="324000" y="189000"/>
            <a:ext cx="8569080" cy="633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468360" y="213372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Тау башында салынгандыр безнең авы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Бер чишмә бар, якын безнең авылга у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Авылыбызның ямен, суы тәмен белә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tt-RU" sz="1800" spc="-1" strike="noStrike">
                <a:solidFill>
                  <a:srgbClr val="000099"/>
                </a:solidFill>
                <a:latin typeface="Verdana"/>
              </a:rPr>
              <a:t>Шуңар күрә сөям җаным – тәнем белән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132000" y="54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00"/>
                </a:solidFill>
                <a:latin typeface="Monotype Corsiva"/>
              </a:rPr>
              <a:t>Туган авы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22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0000"/>
                </a:solidFill>
                <a:latin typeface="Tahoma"/>
              </a:rPr>
              <a:t>Аның исеме үлемсез..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00"/>
                </a:solidFill>
                <a:latin typeface="Tahoma"/>
              </a:rPr>
              <a:t>Габдулла Тукай мәйда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773360"/>
            <a:ext cx="424476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337080" cy="5184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00"/>
                </a:solidFill>
                <a:latin typeface="Tahoma"/>
              </a:rPr>
              <a:t>Кырлайда Тукай музе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15843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743280" cy="6048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250920" y="645336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324000" y="549360"/>
            <a:ext cx="4038480" cy="6038280"/>
            <a:chOff x="324000" y="549360"/>
            <a:chExt cx="4038480" cy="6038280"/>
          </a:xfrm>
        </p:grpSpPr>
        <p:pic>
          <p:nvPicPr>
            <p:cNvPr id="131" name="Picture 5" descr="77"/>
            <p:cNvPicPr/>
            <p:nvPr/>
          </p:nvPicPr>
          <p:blipFill>
            <a:blip r:embed="rId3"/>
            <a:stretch/>
          </p:blipFill>
          <p:spPr>
            <a:xfrm>
              <a:off x="324000" y="549360"/>
              <a:ext cx="4038480" cy="60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/>
            <p:cNvSpPr/>
            <p:nvPr/>
          </p:nvSpPr>
          <p:spPr>
            <a:xfrm>
              <a:off x="324000" y="776160"/>
              <a:ext cx="39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2000" spc="-1" strike="noStrike">
                  <a:solidFill>
                    <a:srgbClr val="ffff00"/>
                  </a:solidFill>
                  <a:latin typeface="Times New Roman"/>
                </a:rPr>
                <a:t>Казанда Г.Тукай исемендәге урамның гомуми күренеше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381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imes New Roman"/>
              </a:rPr>
              <a:t>Г.Тукай исемендәге филормо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380360" y="5300640"/>
            <a:ext cx="1512720" cy="132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160720" cy="17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7:14:29Z</dcterms:created>
  <dc:creator>гульнара</dc:creator>
  <dc:description/>
  <dc:language>en-US</dc:language>
  <cp:lastModifiedBy>гульнара</cp:lastModifiedBy>
  <dcterms:modified xsi:type="dcterms:W3CDTF">2011-12-02T18:44:05Z</dcterms:modified>
  <cp:revision>13</cp:revision>
  <dc:subject/>
  <dc:title>Г</dc:title>
</cp:coreProperties>
</file>