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B114-C4AB-47CA-8D42-40AFE75A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1168-FE16-44DB-A23A-051429AD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4EC-6361-4D9E-B904-22B25AE0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6264-0CF4-4928-B70A-A5C6B0C7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F907-5775-4C2F-A15C-2476E3B6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44D5-4A8A-49F7-9E08-E3E82B7F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130D-50CE-47F4-9922-4081D2CE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83D2-FF77-4299-9DFA-787BBC47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D993-6085-4E9B-BF93-057066EB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069F-5C4E-4B34-B431-29847723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0CB4-AF61-4F52-B87F-33416920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8E9E-F791-4B91-A3DC-DFAC2CB0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3B604F-9042-435F-8CCC-A69AD69923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28680"/>
            <a:ext cx="7772400" cy="15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11640" y="4869000"/>
            <a:ext cx="468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4572000" cy="3205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268360" y="981000"/>
            <a:ext cx="6264360" cy="36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РДОЕ ИМЯ ОРЕ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3888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611280" y="404640"/>
            <a:ext cx="784836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енные действия на территории обла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157720"/>
            <a:ext cx="828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ffcc"/>
                </a:solidFill>
                <a:latin typeface="Arial"/>
              </a:rPr>
              <a:t>По территории области в течение 24 месяцев проходила линия фронта. Осенью 1941 года в ожесточенных боях в районе Орла и Мценска родилась танковая гвардия  - был отмечен героизм и подвиг танкистов из бригады полковника Картук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987640" y="2637000"/>
            <a:ext cx="5994360" cy="2530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4248360" cy="23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30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30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58920" y="260280"/>
            <a:ext cx="6840360" cy="4457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280" y="501336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ffcc"/>
                </a:solidFill>
                <a:latin typeface="Arial"/>
              </a:rPr>
              <a:t>В декабре 1941 года и январе 1942 наши войска перешли в контрнаступление под Москвой, а затем под Ельцом ( тогда входил в Орловскую область). Были освобождены 16 районов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486560" y="6021360"/>
            <a:ext cx="1657440" cy="6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356000" y="3141720"/>
            <a:ext cx="4591080" cy="3448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4876920" cy="3268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219640" y="333360"/>
            <a:ext cx="392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ffcc"/>
                </a:solidFill>
                <a:latin typeface="Arial"/>
              </a:rPr>
              <a:t>Нельзя забыть лето 1943 года, когда на Орловско – Курской дуге разыгралось невиданное в истории сражение одно из крупных в ходе Великой Отечественной вой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3716280"/>
            <a:ext cx="33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еликая битва продолжалась 50 трудных дней и ночей с 5 июля по 23 августа 1943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0" y="6021360"/>
            <a:ext cx="1657440" cy="6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30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79280" y="189000"/>
            <a:ext cx="871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33360"/>
            <a:ext cx="84247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В ходе Орловской наступательной операции рано ут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войска Брянского фронта при содейств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Западного и Центрального фронтов в результате ожесточ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боев овладели городом Ор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765000"/>
            <a:ext cx="216072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августа 1943 год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788000" y="2133720"/>
            <a:ext cx="4074840" cy="2638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979640" y="3213000"/>
            <a:ext cx="4753080" cy="3337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7236000" y="5950080"/>
            <a:ext cx="1657080" cy="6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30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2448000" cy="1834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356000" y="4292640"/>
            <a:ext cx="3567240" cy="2378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675080" cy="223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124000" y="189000"/>
            <a:ext cx="64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Победа над Орлом оплачена огромной ценой. Бережно хранится память о воинах, сложивших свои головы на орловской земле, всегда ухожены воинские мемориалы. На Орловщине их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8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250920" y="4365720"/>
            <a:ext cx="3529080" cy="2349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516720" y="2205000"/>
            <a:ext cx="2087640" cy="19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30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3000" fill="hold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-3240"/>
            <a:ext cx="9144000" cy="6861240"/>
            <a:chOff x="0" y="-3240"/>
            <a:chExt cx="9144000" cy="68612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0" y="-324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0" y="-3240"/>
              <a:ext cx="9144000" cy="68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68360" y="1989000"/>
            <a:ext cx="3095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С первого дня войны Указом президиума Верховного Совета Орловская область была объявлена на военном положении. 23 июня 1941 года началась мобилизация на фро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708360" y="1773360"/>
            <a:ext cx="5033880" cy="3743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843280" y="260280"/>
            <a:ext cx="352908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чало войн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1657440" cy="6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-3240"/>
            <a:ext cx="9144000" cy="6861240"/>
            <a:chOff x="0" y="-3240"/>
            <a:chExt cx="9144000" cy="686124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0" y="-324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0" y="-3240"/>
              <a:ext cx="9144000" cy="68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395280" y="573408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25 июня на Орел совершен первый налет вражеской ави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211640" y="260280"/>
            <a:ext cx="4778280" cy="3065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95640" y="2565360"/>
            <a:ext cx="4751280" cy="3206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179280" y="260280"/>
            <a:ext cx="3888000" cy="2830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7596360" y="6219720"/>
            <a:ext cx="1547640" cy="6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692360" y="549360"/>
            <a:ext cx="5715000" cy="4295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5445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Более 130 тысяч жителей Орловщины участвовали в строительстве оборонительных соору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440000" cy="59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50920" y="47628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57320" y="333360"/>
            <a:ext cx="5229360" cy="934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купация  Орловщи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484280"/>
            <a:ext cx="85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Оккупация немецко – фашистскими захватчиками – самая страшная страница в истории Орловской области. Из 66 районов, входивших тогда в состав области, не подверглись оккупации только два. На Орловской земле был установлен режим насилия, кровавого террора и принудительного труда по отношению к мирному населению и советским военноплен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050920" y="3357720"/>
            <a:ext cx="4321440" cy="3249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308720" y="5950080"/>
            <a:ext cx="1657440" cy="6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5761080" cy="3816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84720" y="270828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д расстр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450864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Немецко – фашистскими захватчиками за время оккупации было убито ( расстреляно, повешено, сожжено) 4243 мирных жителя. Оккупанты не щадили ни стариков, ни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308720" y="189000"/>
            <a:ext cx="1657440" cy="6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3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4000" y="26028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С особой жестокостью гитлеровцы уничтожили 8111 советских военнопленных. За годы войны в Орловской области в ее довоенных границах потери составили более 620 тысяч ж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7345440" cy="497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24000" y="260280"/>
            <a:ext cx="8351640" cy="7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ртизанское и подпольное движение в тылу вра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4319280" cy="3106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932360" y="1268280"/>
            <a:ext cx="3527280" cy="3359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5280" y="49417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Летом 1942 года в области было сформировано 72 партизанских отряда, 91 партизанская группа, 330 групп подрывников – диверса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236000" y="6021360"/>
            <a:ext cx="1657080" cy="6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105440" cy="2846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140360" y="3933720"/>
            <a:ext cx="4846320" cy="2698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427640" y="260280"/>
            <a:ext cx="4392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За период с августа 1941 года по сентябрь 1943 года партизанами уничтожено 148 тысяч гитлеровских солдат и офицеров, убито 3 немецких генерала, пущено под откос 850 военных эшелонов с живой силой и техник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3716280"/>
            <a:ext cx="367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Подорвано и уничтожено 284 км железнодорожного полотна, 81 железных и 169 деревянных мостов, уничтожено 164 орудия, 175 танков, 70 самолетов и много другой тех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0" y="6175440"/>
            <a:ext cx="1657440" cy="6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3:00:53Z</dcterms:created>
  <dc:creator>Илья</dc:creator>
  <dc:description/>
  <dc:language>en-US</dc:language>
  <cp:lastModifiedBy>Илья</cp:lastModifiedBy>
  <dcterms:modified xsi:type="dcterms:W3CDTF">2011-04-11T11:12:44Z</dcterms:modified>
  <cp:revision>33</cp:revision>
  <dc:subject/>
  <dc:title>Слайд 1</dc:title>
</cp:coreProperties>
</file>