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460-CBDB-4927-9D9C-E06A5A3B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1B1-3773-40AD-945D-F14403C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415-14AE-4853-8A84-96A904C8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6BB-C41D-4225-A27B-6B808D87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A94-4668-49A8-AD47-310BBD5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640-C75E-4359-967D-BDFA35F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598-B7D5-42F9-B6E0-F563AA9B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A38-754E-41F6-9B6F-8F47156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58E-1188-422E-B4E4-95F2662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380-B061-4C0F-A5E2-5866801D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46B-0F02-4C25-93D3-C7D65C7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21F-241C-4509-AD7B-476BA44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1F4E5-544A-4225-B086-1A080950F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1640" y="486900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572000" cy="32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268360" y="981000"/>
            <a:ext cx="6264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ДОЕ ИМЯ ОРЕ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888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1128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енные действия на территории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15772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По территории области в течение 24 месяцев проходила линия фронта. Осенью 1941 года в ожесточенных боях в районе Орла и Мценска родилась танковая гвардия  - был отмечен героизм и подвиг танкистов из бригады полковника Карту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599436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24836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840360" cy="445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013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В декабре 1941 года и январе 1942 наши войска перешли в контрнаступление под Москвой, а затем под Ельцом ( тогда входил в Орловскую область). Были освобождены 16 районов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86560" y="602136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591080" cy="3448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876920" cy="326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19640" y="333360"/>
            <a:ext cx="39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Нельзя забыть лето 1943 года, когда на Орловско – Курской дуге разыгралось невиданное в истории сражение одно из крупных в ходе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162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еликая битва продолжалась 50 трудных дней и ночей с 5 июля по 23 августа 1943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02136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18900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3360"/>
            <a:ext cx="8424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 ходе Орловской наступательной операции рано у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ойска Брянского фронта при содей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ападного и Центрального фронтов в результате ожесточ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боев овладели городом Ор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76500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августа 1943 год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4074840" cy="263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979640" y="3213000"/>
            <a:ext cx="4753080" cy="333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236000" y="5950080"/>
            <a:ext cx="165708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356000" y="4292640"/>
            <a:ext cx="3567240" cy="237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675080" cy="223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189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обеда над Орлом оплачена огромной ценой. Бережно хранится память о воинах, сложивших свои головы на орловской земле, всегда ухожены воинские мемориалы. На Орловщине 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352908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516720" y="2205000"/>
            <a:ext cx="208764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-3240"/>
              <a:ext cx="9144000" cy="68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68360" y="1989000"/>
            <a:ext cx="30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С первого дня войны Указом президиума Верховного Совета Орловская область была объявлена на военном положении. 23 июня 1941 года началась мобилизация на фр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08360" y="1773360"/>
            <a:ext cx="503388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43280" y="260280"/>
            <a:ext cx="352908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чало вой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-3240"/>
              <a:ext cx="9144000" cy="68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5 июня на Орел совершен первый налет вражеской ав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260280"/>
            <a:ext cx="4778280" cy="306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751280" cy="320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3888000" cy="283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596360" y="6219720"/>
            <a:ext cx="1547640" cy="6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5715000" cy="429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44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олее 130 тысяч жителей Орловщины участвовали в строительстве оборонительных соору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762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57320" y="333360"/>
            <a:ext cx="522936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купация  Орловщ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8428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ккупация немецко – фашистскими захватчиками – самая страшная страница в истории Орловской области. Из 66 районов, входивших тогда в состав области, не подверглись оккупации только два. На Орловской земле был установлен режим насилия, кровавого террора и принудительного труда по отношению к мирному населению и советским военнопл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4321440" cy="3249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595008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76108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84720" y="2708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расстр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5086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емецко – фашистскими захватчиками за время оккупации было убито ( расстреляно, повешено, сожжено) 4243 мирных жителя. Оккупанты не щадили ни стариков, н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260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С особой жестокостью гитлеровцы уничтожили 8111 советских военнопленных. За годы войны в Орловской области в ее довоенных границах потери составили более 620 тысяч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45440" cy="497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4000" y="260280"/>
            <a:ext cx="835164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тизанское и подпольное движение в тылу вра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319280" cy="310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527280" cy="335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4941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Летом 1942 года в области было сформировано 72 партизанских отряда, 91 партизанская группа, 330 групп подрывников – диверс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65708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4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48463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260280"/>
            <a:ext cx="43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а период с августа 1941 года по сентябрь 1943 года партизанами уничтожено 148 тысяч гитлеровских солдат и офицеров, убито 3 немецких генерала, пущено под откос 850 военных эшелонов с живой силой и техни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716280"/>
            <a:ext cx="367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дорвано и уничтожено 284 км железнодорожного полотна, 81 железных и 169 деревянных мостов, уничтожено 164 орудия, 175 танков, 70 самолетов и много другой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617544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00:53Z</dcterms:created>
  <dc:creator>Илья</dc:creator>
  <dc:description/>
  <dc:language>en-US</dc:language>
  <cp:lastModifiedBy>Илья</cp:lastModifiedBy>
  <dcterms:modified xsi:type="dcterms:W3CDTF">2011-04-11T11:12:44Z</dcterms:modified>
  <cp:revision>33</cp:revision>
  <dc:subject/>
  <dc:title>Слайд 1</dc:title>
</cp:coreProperties>
</file>