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16C-7F9D-4C68-804A-43632BB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829-CE9B-45B4-B2BB-229258C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CFE-8150-401F-85BE-E5669CA0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C95-F13D-4219-824D-1647DC60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ABDA-8D33-4193-AFBC-BE9C993F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8715-7B46-4E85-BEC8-AC664AC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9109-EE10-4656-BEB2-C39E346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8DB0-AABF-462A-9744-3FBF7518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C3C1F-CDF7-41D0-B5AC-7A8CEDCF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CDDA-D900-4367-9FDC-B12ABC4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960FE-848F-41B8-8C06-CA5F3B2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CB3-0B50-4785-8F7F-E4174A1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685D3-84D8-4D3A-AC9C-C007E56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79505-5318-4BA7-8FCF-D0C8719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9BBB2-4F75-4ACD-97F8-C3A9B2B9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542DE-94A6-47B5-808E-DB945B8C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9873-7000-4A38-ADB5-85BBB135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AB1-273A-4AAA-82B9-8F2461E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F80-2CC6-4332-A881-544F76BF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9B3-798E-4B00-93AE-A2BDDBBC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10B-ADCB-49AB-9A27-381FED58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18D-7A46-49B2-8D5C-3DACEA2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5DB-6E26-496B-A40E-C82C99C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8D9-7734-46E7-8AE4-1BF1958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AA27-FF56-4032-BF53-7141664F2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523-079D-47D5-889E-7DD472602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img0.liveinternet.ru/images/attach/c/0/45/284/45284808_800pxDecorated_Indian_elephant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search?p=10&amp;ed=1&amp;text=&#1078;&#1080;&#1079;&#1085;&#1100;%20&#1042;%20%20&#1080;&#1053;&#1044;&#1048;&#1048;&amp;spsite=www.indostan.ru&amp;img_url=photo.korsakov.ru%2Fdata%2Fmedia%2F8388645%2FIMG_9967.jpg&amp;rpt=simage" TargetMode="External"/><Relationship Id="rId4" Type="http://schemas.openxmlformats.org/officeDocument/2006/relationships/hyperlink" Target="http://images.yandex.ru/search?p=12&amp;ed=1&amp;text=&#1078;&#1080;&#1079;&#1085;&#1100;%20&#1042;%20%20&#1080;&#1053;&#1044;&#1048;&#1048;&amp;spsite=light.lifeisphoto.ru&amp;img_url=photos.lifeisphoto.ru%2F0%2F0%2F4702.jpg&amp;rpt=simage" TargetMode="External"/><Relationship Id="rId5" Type="http://schemas.openxmlformats.org/officeDocument/2006/relationships/hyperlink" Target="http://images.yandex.ru/search?p=0&amp;from_pos=11&amp;ed=1&amp;text=&#1078;&#1080;&#1079;&#1085;&#1100;%20&#1042;%20%20&#1080;&#1053;&#1044;&#1048;&#1048;&amp;rpt=image" TargetMode="External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 Black"/>
              </a:rPr>
              <a:t>И</a:t>
            </a: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НД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95640" y="5695920"/>
          <a:ext cx="5232240" cy="912960"/>
        </p:xfrm>
        <a:graphic>
          <a:graphicData uri="http://schemas.openxmlformats.org/drawingml/2006/table">
            <a:tbl>
              <a:tblPr/>
              <a:tblGrid>
                <a:gridCol w="4584240"/>
                <a:gridCol w="216000"/>
                <a:gridCol w="216000"/>
                <a:gridCol w="216000"/>
              </a:tblGrid>
              <a:tr h="441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Фото пользователя Татьяна Геннадьевна Защеринская"/>
          <p:cNvPicPr/>
          <p:nvPr/>
        </p:nvPicPr>
        <p:blipFill>
          <a:blip r:embed="rId2"/>
          <a:stretch/>
        </p:blipFill>
        <p:spPr>
          <a:xfrm>
            <a:off x="673200" y="3232080"/>
            <a:ext cx="571320" cy="676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2921400"/>
            <a:ext cx="7724520" cy="6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6b7"/>
                </a:solidFill>
                <a:latin typeface="Arial"/>
              </a:rPr>
              <a:t>Размещено: Татьяна Геннадьевна Защеринская - ср, 20/05/2009 - 11:25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080" y="2957760"/>
            <a:ext cx="2009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Данные об авто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928080" y="2957760"/>
            <a:ext cx="429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Автор(ы)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ренкова Оксана Юр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211480" y="2957760"/>
            <a:ext cx="6866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есто работы, должность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г. Ужур, МОУ "Ужурская СОШ №6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022480" y="2957760"/>
            <a:ext cx="6488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гион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сноярский край Характеристики урока (занят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67200" y="2957760"/>
            <a:ext cx="67777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ровень образован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реднее (полное) общее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054800" y="2957760"/>
            <a:ext cx="4552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ащийся (студент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54320" y="2957760"/>
            <a:ext cx="5151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итель (преподаватель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2957760"/>
            <a:ext cx="2123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ласс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22040" y="2957760"/>
            <a:ext cx="2687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едмет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еограф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894760" y="2957760"/>
            <a:ext cx="8233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ь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Знакомство учащихся с ЭГП, населением и хозяйством Инд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412000" y="2957760"/>
            <a:ext cx="7267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Тип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рок изучения и первичного закрепления новых зн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98120" y="2957760"/>
            <a:ext cx="40395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чащихся в классе (аудитории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408320" y="2942640"/>
            <a:ext cx="525996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ые учебники и учебные пособия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542760" y="2957760"/>
            <a:ext cx="952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 Агапов С. В., Соколов С.Н,. Географический словарь.Москва  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2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4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181880" y="2957760"/>
            <a:ext cx="4807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ая методическая литература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2462760" y="2957760"/>
            <a:ext cx="7369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.  География в школе №2,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532800" y="2942640"/>
            <a:ext cx="3508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ое оборудование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емонстрационный экран, проектор, атлас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1578680" y="2957760"/>
            <a:ext cx="25601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раткое описание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ткое описание: урок по теме "Индия" проводится среди учеников 10 класса. Урок изучения нового материала (работа учащихся с учебником, картой, работа в группах, выполнение учащимися практической работы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95080" y="2942640"/>
            <a:ext cx="72334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к географии 10 клас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560" y="2957760"/>
            <a:ext cx="1384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ема: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52320" y="2957760"/>
            <a:ext cx="3748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Продолжительность урока: 45 м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361160" y="2957760"/>
            <a:ext cx="516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сто проведения: СОШ №6 (филиал), г. Уж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67760" y="2957760"/>
            <a:ext cx="277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читель: Меренкова О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485800" y="2957760"/>
            <a:ext cx="7414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Знакомство учащихся с ЭГП, населением и хозяйством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6723080" y="2820600"/>
            <a:ext cx="358894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формировать представление об основных чертах ЭГП, природных и сырьевых ресурсов, национальном составе, размещении населения. Развивать умение составлять экономико -географическую характеристику страны, используя при этом различные источники географической информации. Обобщить знания учащихся об экономических, политических и культурных связей России и Индии. Способствовать воспитанию интереса к познанию жизни других народов и стран. Воспитывать ответственность, организованность, 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2785320" y="2957760"/>
            <a:ext cx="8013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Методические приемы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рассказ, беседа,   работа со схемами, видеомет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421000" y="2957760"/>
            <a:ext cx="7285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Формы работы на уроке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фронтальная, групповая, индивидуаль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41280" y="2957760"/>
            <a:ext cx="10325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Оформление урока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Политическ карта России, карта агроклиматических ресурсов, презент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2349360" y="2957760"/>
            <a:ext cx="7142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Оборудование урока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демонстрационный экран, проектор, атл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0000" y="2957760"/>
            <a:ext cx="1363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Литератур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446640" y="2957760"/>
            <a:ext cx="933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Агапов С. В., Соколов С.Н,. Географический словарь.Москва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2399040" y="2957760"/>
            <a:ext cx="72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. География в школе №2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3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4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5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440" y="2957760"/>
            <a:ext cx="10720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4960" y="3026520"/>
            <a:ext cx="20934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Организационный моме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5360" y="3026520"/>
            <a:ext cx="21726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Изучение нового материал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599040" y="2957760"/>
            <a:ext cx="36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О каком государстве идёт 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16220880" y="2820600"/>
            <a:ext cx="348850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осударство южной Азии. Территория этого государства напоминает треугольник, основанием прикрепленным к материку и отгороженный от остальной Азии горной системой Гималаев. Одно из древнейших государств мира, в течение почти 2 веков бала колонией Англии. Добилась независимости в 1947 г., а в 1950 г. была провозглашена 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6361640" y="2820600"/>
            <a:ext cx="351669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К началу нашей эры во всем государстве распространилось арийское деление общества на 4 касты – жрецов-брахманов, каштриев-воинов, вайшьев-земледельцев и шудр-слуг. Касты до сих пор играют важную рол в жизни населения этого государства. Каждый человек этой страны принадлежит к одной из каст по рождению, это определяет круг его знакомства, работу, выбор жениха или невесты, даже выбор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13703040" y="2957760"/>
            <a:ext cx="29849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В огромной стране важным источником информации является телевидение. Очень велика роль кино. В данной стране в год снимают больше кинофильмов, чем любая другая страна мира. Их смотрят и в городских кинотеатрах, и на деревенских площадях под звездным не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9270720" y="2957760"/>
            <a:ext cx="20984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2 крупнейших современных языков, а также английский и санскрит объявлены в этой стране государственными. Дети в школах учат родной язык и хинди, а в старших классах ещё и английск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2581640" y="2957760"/>
            <a:ext cx="2760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радиционная женская одежда – сари-кусок ткани, длиной от 4 до 9 м., искусным образом собранный на талии в виде юбки до пола и подхваченной свободным концом. перекинутым через плечо. Выходя на улицу, женщина накидывает край сари на голо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805840" y="2957760"/>
            <a:ext cx="80550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1. Визитная карточка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(при заполнении учащиеся работают с учебником)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2957760"/>
            <a:ext cx="1992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публика 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514600" y="2957760"/>
            <a:ext cx="7472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Площадь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 3 288млн. км². (7 м. в мире), 2,5% доля площади в су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957760"/>
            <a:ext cx="202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Столица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467720" y="2957760"/>
            <a:ext cx="5378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?Население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- 1. 095млн. чел. (2 м. в мире), 16,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2127600" y="2957760"/>
            <a:ext cx="6698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отяженность территории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с запада на восток – 2,9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738080" y="2957760"/>
            <a:ext cx="591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                                         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 юга на север – З.2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466600" y="2957760"/>
            <a:ext cx="13376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Длина сухопутных границ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1273320" y="2957760"/>
            <a:ext cx="4989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Форма правления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республика (презид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2331000" y="2957760"/>
            <a:ext cx="71056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Административно – территориальное устройство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29 ш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133280" y="2957760"/>
            <a:ext cx="4709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Официальный язык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– хинди и англи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3200" y="3232080"/>
          <a:ext cx="3208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992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855720" y="3306600"/>
          <a:ext cx="3143160" cy="3668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Денежная единица</a:t>
                      </a:r>
                      <a:r>
                        <a:rPr b="0" lang="en-US" sz="18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- руп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61440" y="2959200"/>
            <a:ext cx="9360" cy="85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Фото пользователя Татьяна Геннадьевна Защеринская"/>
          <p:cNvPicPr/>
          <p:nvPr/>
        </p:nvPicPr>
        <p:blipFill>
          <a:blip r:embed="rId4"/>
          <a:stretch/>
        </p:blipFill>
        <p:spPr>
          <a:xfrm>
            <a:off x="673200" y="3232080"/>
            <a:ext cx="571320" cy="676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00" y="2921400"/>
            <a:ext cx="7724520" cy="6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6b7"/>
                </a:solidFill>
                <a:latin typeface="Arial"/>
              </a:rPr>
              <a:t>Размещено: Татьяна Геннадьевна Защеринская - ср, 20/05/2009 - 11:25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080" y="2957760"/>
            <a:ext cx="2009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Данные об авто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928080" y="2957760"/>
            <a:ext cx="429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Автор(ы)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ренкова Оксана Юр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211480" y="2957760"/>
            <a:ext cx="6866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есто работы, должность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г. Ужур, МОУ "Ужурская СОШ №6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2022480" y="2957760"/>
            <a:ext cx="6488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гион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сноярский край Характеристики урока (занят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167200" y="2957760"/>
            <a:ext cx="67777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ровень образован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реднее (полное) общее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1054800" y="2957760"/>
            <a:ext cx="4552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ащийся (студент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1354320" y="2957760"/>
            <a:ext cx="5151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итель (преподаватель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840" y="2957760"/>
            <a:ext cx="2123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ласс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22040" y="2957760"/>
            <a:ext cx="2687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едмет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еограф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894760" y="2957760"/>
            <a:ext cx="8233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ь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Знакомство учащихся с ЭГП, населением и хозяйством Инд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2412000" y="2957760"/>
            <a:ext cx="7267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Тип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рок изучения и первичного закрепления новых зн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98120" y="2957760"/>
            <a:ext cx="40395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чащихся в классе (аудитории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1408320" y="2942640"/>
            <a:ext cx="525996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ые учебники и учебные пособия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3542760" y="2957760"/>
            <a:ext cx="952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 Агапов С. В., Соколов С.Н,. Географический словарь.Москва  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2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4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181880" y="2957760"/>
            <a:ext cx="4807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ая методическая литература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2462760" y="2957760"/>
            <a:ext cx="7369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.  География в школе №2,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532800" y="2942640"/>
            <a:ext cx="3508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ое оборудование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емонстрационный экран, проектор, атлас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1578680" y="2957760"/>
            <a:ext cx="25601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раткое описание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ткое описание: урок по теме "Индия" проводится среди учеников 10 класса. Урок изучения нового материала (работа учащихся с учебником, картой, работа в группах, выполнение учащимися практической работы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2395080" y="2942640"/>
            <a:ext cx="72334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к географии 10 клас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560" y="2957760"/>
            <a:ext cx="1384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ема: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652320" y="2957760"/>
            <a:ext cx="3748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Продолжительность урока: 45 м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361160" y="2957760"/>
            <a:ext cx="516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сто проведения: СОШ №6 (филиал), г. Уж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67760" y="2957760"/>
            <a:ext cx="277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читель: Меренкова О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2485800" y="2957760"/>
            <a:ext cx="7414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Знакомство учащихся с ЭГП, населением и хозяйством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7732080" y="2821320"/>
            <a:ext cx="349887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формировать представление об основных чертах ЭГП, природных и сырьевых ресурсов, национальном составе, размещении населения. Развивать умение составлять экономико -географическую характеристику страны, используя при этом различные источники географической информации. Обобщить знания учащихся об экономических, политических и культурных связей России и Индии. Способствовать воспитанию интереса к познанию жизни других народов и стран. Воспитывать ответственность, организованность, 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2785320" y="2957760"/>
            <a:ext cx="8013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Методические приемы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рассказ, беседа,   работа со схемами, видеомет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2421000" y="2957760"/>
            <a:ext cx="7285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Формы работы на уроке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фронтальная, групповая, индивидуаль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3941280" y="2957760"/>
            <a:ext cx="10325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Оформление урока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Политическ карта России, карта агроклиматических ресурсов, презент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49360" y="2957760"/>
            <a:ext cx="7142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Оборудование урока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демонстрационный экран, проектор, атл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00" y="2957760"/>
            <a:ext cx="1363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Литератур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3446640" y="2957760"/>
            <a:ext cx="933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Агапов С. В., Соколов С.Н,. Географический словарь.Москва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2399040" y="2957760"/>
            <a:ext cx="72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. География в школе №2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3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4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5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440" y="2957760"/>
            <a:ext cx="10720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4960" y="3026520"/>
            <a:ext cx="20934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Организационный моме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5360" y="3026520"/>
            <a:ext cx="21726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Изучение нового материал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599040" y="2957760"/>
            <a:ext cx="36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О каком государстве идёт 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6220880" y="2820600"/>
            <a:ext cx="348850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осударство южной Азии. Территория этого государства напоминает треугольник, основанием прикрепленным к материку и отгороженный от остальной Азии горной системой Гималаев. Одно из древнейших государств мира, в течение почти 2 веков бала колонией Англии. Добилась независимости в 1947 г., а в 1950 г. была провозглашена 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16361640" y="2820600"/>
            <a:ext cx="351669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К началу нашей эры во всем государстве распространилось арийское деление общества на 4 касты – жрецов-брахманов, каштриев-воинов, вайшьев-земледельцев и шудр-слуг. Касты до сих пор играют важную рол в жизни населения этого государства. Каждый человек этой страны принадлежит к одной из каст по рождению, это определяет круг его знакомства, работу, выбор жениха или невесты, даже выбор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3703040" y="2957760"/>
            <a:ext cx="29849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В огромной стране важным источником информации является телевидение. Очень велика роль кино. В данной стране в год снимают больше кинофильмов, чем любая другая страна мира. Их смотрят и в городских кинотеатрах, и на деревенских площадях под звездным не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9270720" y="2957760"/>
            <a:ext cx="20984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2 крупнейших современных языков, а также английский и санскрит объявлены в этой стране государственными. Дети в школах учат родной язык и хинди, а в старших классах ещё и английск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12581640" y="2957760"/>
            <a:ext cx="2760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радиционная женская одежда – сари-кусок ткани, длиной от 4 до 9 м., искусным образом собранный на талии в виде юбки до пола и подхваченной свободным концом. перекинутым через плечо. Выходя на улицу, женщина накидывает край сари на голо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2805840" y="2957760"/>
            <a:ext cx="80550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1. Визитная карточка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(при заполнении учащиеся работают с учебником)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5360" y="2957760"/>
            <a:ext cx="1992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публика 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514600" y="2957760"/>
            <a:ext cx="7472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Площадь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 3 288млн. км². (7 м. в мире), 2,5% доля площади в су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0960" y="2957760"/>
            <a:ext cx="202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Столица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467720" y="2957760"/>
            <a:ext cx="5378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?Население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- 1. 095млн. чел. (2 м. в мире), 16,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2127600" y="2957760"/>
            <a:ext cx="6698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отяженность территории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с запада на восток – 2,9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1738080" y="2957760"/>
            <a:ext cx="591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                                         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 юга на север – З.2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5466600" y="2957760"/>
            <a:ext cx="13376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Длина сухопутных границ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1273320" y="2957760"/>
            <a:ext cx="4989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Форма правления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республика (презид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2331000" y="2957760"/>
            <a:ext cx="71056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Административно – территориальное устройство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29 ш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465920"/>
            <a:ext cx="9144000" cy="283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Официальный язык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– хинди и англи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Площад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88млн. км². (7 м. в мире), 2,5% доля площади в су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Столиц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Д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?Население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- 1. 095млн. чел. (2 м. в мире), 16,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Протяженность территори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с запада на восток – 2,9 тыс. 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   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 юга на север – З.2 тыс. 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Длина сухопутных границ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Форма правления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республика (президен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Административно – территориальное устройство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29 шта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Официальный язык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– хинди и англий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Денежная единиц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руп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4360" y="3213000"/>
          <a:ext cx="32065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990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855720" y="3306600"/>
          <a:ext cx="1915920" cy="365400"/>
        </p:xfrm>
        <a:graphic>
          <a:graphicData uri="http://schemas.openxmlformats.org/drawingml/2006/table">
            <a:tbl>
              <a:tblPr/>
              <a:tblGrid>
                <a:gridCol w="1915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8461440" y="2959200"/>
            <a:ext cx="936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4654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дия – лидер(стр 227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зя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ахотные зем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лавные отрасли промышлен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стр.22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284720" y="1700280"/>
            <a:ext cx="2520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92360" y="292428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92428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8000" y="4076640"/>
            <a:ext cx="71640" cy="7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2852640"/>
            <a:ext cx="9367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95280" y="1772640"/>
            <a:ext cx="2519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ёгк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4360" y="1773360"/>
            <a:ext cx="1511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льское хозяйство(3-2 раза сбор урожа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ний сезон(муссон)-Хариф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мний сезон(сухо и жарко)раби исскуствен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а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364000" y="4724280"/>
            <a:ext cx="3456000" cy="2889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5000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ященное животное в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076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емледельческие зоны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одч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шени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масличных культ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сахаронос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тонизирующ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ультура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5715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мовение на реке Га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239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Индии слонов почитаю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79680" y="53352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-1096920" y="-2824200"/>
          <a:ext cx="11337840" cy="1339920"/>
        </p:xfrm>
        <a:graphic>
          <a:graphicData uri="http://schemas.openxmlformats.org/drawingml/2006/table">
            <a:tbl>
              <a:tblPr/>
              <a:tblGrid>
                <a:gridCol w="1817640"/>
                <a:gridCol w="216000"/>
                <a:gridCol w="9088200"/>
                <a:gridCol w="21600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←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артинка с сайта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из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80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→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Вернуться к результатам поиска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4" name="" descr="Картинка 20 из 118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1432080"/>
            <a:ext cx="62658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ЕОГРАФИЧЕСКОЕ ПОЛОЖ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стр.225, рис 74 на контурной карт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7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деративная республика(25 штатов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0 году добилась независим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улицах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5443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млрд. Челов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нический состав- многонациональный(1672 язык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ый язы –хиндустанский и англий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лигия- ислам и индуизм(деление 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аст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669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пные город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шите сколько население стр 2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м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др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ьку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ложение 2.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просы для карточек "БЛИЦ"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вященное животное Индии ( 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Государство, образовавшееся одновременно с Индией в результате крушения колон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Крупнейшая низменность Индии (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Крупный порт на западе Инд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Государство, граничащее с Индией на востоке (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Священная река Инд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Крупный порт на юго-востоке Индии (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толица Пакистана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Государство, с которым граничит Индия на северо-востоке (  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50400" y="32925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 Black"/>
              </a:rPr>
              <a:t>И</a:t>
            </a: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НД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1628640"/>
          <a:ext cx="5232240" cy="2570760"/>
        </p:xfrm>
        <a:graphic>
          <a:graphicData uri="http://schemas.openxmlformats.org/drawingml/2006/table">
            <a:tbl>
              <a:tblPr/>
              <a:tblGrid>
                <a:gridCol w="4584240"/>
                <a:gridCol w="216000"/>
                <a:gridCol w="216000"/>
                <a:gridCol w="216000"/>
              </a:tblGrid>
              <a:tr h="953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-252360" y="1557360"/>
            <a:ext cx="9899640" cy="48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"/>
          <p:cNvGraphicFramePr/>
          <p:nvPr/>
        </p:nvGraphicFramePr>
        <p:xfrm>
          <a:off x="563400" y="-239760"/>
          <a:ext cx="5169240" cy="1652760"/>
        </p:xfrm>
        <a:graphic>
          <a:graphicData uri="http://schemas.openxmlformats.org/drawingml/2006/table">
            <a:tbl>
              <a:tblPr/>
              <a:tblGrid>
                <a:gridCol w="4521240"/>
                <a:gridCol w="216000"/>
                <a:gridCol w="216000"/>
                <a:gridCol w="216000"/>
              </a:tblGrid>
              <a:tr h="612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/>
                        </a:rPr>
                        <a:t>←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Картинка с сайта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из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180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/>
                        </a:rPr>
                        <a:t>→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/>
                        </a:rPr>
                        <a:t>Вернуться к результатам поиска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зяйство Индии(страна контраст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П(объёму продукции) -5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п (на душу) –                10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 4 – бе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---уровень агротехники – самое низкое в ми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---во многих деревнях нет электр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2 –неграмо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ждом квартале – трущобы(басти) где миллионы безраб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762440" cy="263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35:24Z</dcterms:created>
  <dc:creator>Admin</dc:creator>
  <dc:description/>
  <dc:language>en-US</dc:language>
  <cp:lastModifiedBy>Admin</cp:lastModifiedBy>
  <dcterms:modified xsi:type="dcterms:W3CDTF">2009-12-23T03:35:57Z</dcterms:modified>
  <cp:revision>5</cp:revision>
  <dc:subject/>
  <dc:title>иНДИЯ</dc:title>
</cp:coreProperties>
</file>