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6C8C-6684-498E-A51D-1967203F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679B-09EE-4A09-BFA7-4C540D37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DE0F-77D0-43A1-AAA0-1B541E7E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A4D2-B7D2-46EE-B5AC-21CE175F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33B82-8778-44CC-B1BA-442AA9F4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7A011-69B6-4454-966C-FA44D848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8F803-F1EB-4F9B-9363-C88E4500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D3B1A-E602-46E4-9338-1F5ABB03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BDFD7-D696-47DF-B1E0-AFCA525C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E252C-C612-4810-9727-6DC154EC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7788C-C61E-4BBA-882B-AACF76B0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E12D-C316-41E0-B138-10230B60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22C90-280C-4ECD-9521-18F189E4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3FAAE-4315-44CA-90E6-72961BD3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3A274-B4BA-4620-8C67-F5EB6E2E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BDF60-5CA9-48E6-9AF7-D14D54D6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761DF-3FC7-4F0E-A3E5-E7DA417D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38BA-17BC-4AB6-A8E2-D16415C1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37F6-60DC-4FA0-8041-B296CC4A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3BED-A7A5-4AB5-810D-75094622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B43-1C68-4ADB-9FF7-3E92D532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DE96-DBD0-4022-B0B0-1365EFE4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869C-671C-4321-9130-E4ABD67A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801-08C1-49FC-A949-175A9924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AB51-97B7-4082-848A-79D32900C9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904C-8BE1-44E5-B1B3-D2FC19012B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hyperlink" Target="http://img0.liveinternet.ru/images/attach/c/0/45/284/45284808_800pxDecorated_Indian_elephant.jpg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http://images.yandex.ru/search?p=10&amp;ed=1&amp;text=&#1078;&#1080;&#1079;&#1085;&#1100;%20&#1042;%20%20&#1080;&#1053;&#1044;&#1048;&#1048;&amp;spsite=www.indostan.ru&amp;img_url=photo.korsakov.ru%2Fdata%2Fmedia%2F8388645%2FIMG_9967.jpg&amp;rpt=simage" TargetMode="External"/><Relationship Id="rId4" Type="http://schemas.openxmlformats.org/officeDocument/2006/relationships/hyperlink" Target="http://images.yandex.ru/search?p=12&amp;ed=1&amp;text=&#1078;&#1080;&#1079;&#1085;&#1100;%20&#1042;%20%20&#1080;&#1053;&#1044;&#1048;&#1048;&amp;spsite=light.lifeisphoto.ru&amp;img_url=photos.lifeisphoto.ru%2F0%2F0%2F4702.jpg&amp;rpt=simage" TargetMode="External"/><Relationship Id="rId5" Type="http://schemas.openxmlformats.org/officeDocument/2006/relationships/hyperlink" Target="http://images.yandex.ru/search?p=0&amp;from_pos=11&amp;ed=1&amp;text=&#1078;&#1080;&#1079;&#1085;&#1100;%20&#1042;%20%20&#1080;&#1053;&#1044;&#1048;&#1048;&amp;rpt=image" TargetMode="External"/><Relationship Id="rId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ffff"/>
                </a:solidFill>
                <a:uFillTx/>
                <a:latin typeface="Arial Black"/>
              </a:rPr>
              <a:t>И</a:t>
            </a:r>
            <a:r>
              <a:rPr b="0" i="1" lang="en-US" sz="4800" spc="-1" strike="noStrike" u="sng">
                <a:solidFill>
                  <a:srgbClr val="ffffff"/>
                </a:solidFill>
                <a:uFillTx/>
                <a:latin typeface="Arial Black"/>
              </a:rPr>
              <a:t>НД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195640" y="5695920"/>
          <a:ext cx="5232240" cy="912960"/>
        </p:xfrm>
        <a:graphic>
          <a:graphicData uri="http://schemas.openxmlformats.org/drawingml/2006/table">
            <a:tbl>
              <a:tblPr/>
              <a:tblGrid>
                <a:gridCol w="4584240"/>
                <a:gridCol w="216000"/>
                <a:gridCol w="216000"/>
                <a:gridCol w="216000"/>
              </a:tblGrid>
              <a:tr h="441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Фото пользователя Татьяна Геннадьевна Защеринская"/>
          <p:cNvPicPr/>
          <p:nvPr/>
        </p:nvPicPr>
        <p:blipFill>
          <a:blip r:embed="rId2"/>
          <a:stretch/>
        </p:blipFill>
        <p:spPr>
          <a:xfrm>
            <a:off x="673200" y="3232080"/>
            <a:ext cx="571320" cy="676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3200" y="2921400"/>
            <a:ext cx="7724520" cy="624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6b7"/>
                </a:solidFill>
                <a:latin typeface="Arial"/>
              </a:rPr>
              <a:t>Размещено: Татьяна Геннадьевна Защеринская - ср, 20/05/2009 - 11:25 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  </a:t>
            </a:r>
            <a:r>
              <a:rPr b="0" lang="ru-RU" sz="5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7080" y="2957760"/>
            <a:ext cx="20095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Данные об автор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928080" y="2957760"/>
            <a:ext cx="42998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7777"/>
                </a:solidFill>
                <a:latin typeface="Arial"/>
              </a:rPr>
              <a:t>Автор(ы): 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Меренкова Оксана Юрьев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2211480" y="2957760"/>
            <a:ext cx="68662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7777"/>
                </a:solidFill>
                <a:latin typeface="Arial"/>
              </a:rPr>
              <a:t>Место работы, должность: 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г. Ужур, МОУ "Ужурская СОШ №6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2022480" y="2957760"/>
            <a:ext cx="64886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Регион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Красноярский край Характеристики урока (занятия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2167200" y="2957760"/>
            <a:ext cx="67777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Уровень образования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среднее (полное) общее образов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1054800" y="2957760"/>
            <a:ext cx="45529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Целевая аудитория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Учащийся (студент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354320" y="2957760"/>
            <a:ext cx="51519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Целевая аудитория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Учитель (преподаватель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9840" y="2957760"/>
            <a:ext cx="21236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Класс(ы)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10 клас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122040" y="2957760"/>
            <a:ext cx="26874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Предмет(ы)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Географ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2894760" y="2957760"/>
            <a:ext cx="82332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Цель урока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Знакомство учащихся с ЭГП, населением и хозяйством Инд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2412000" y="2957760"/>
            <a:ext cx="72673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Тип урока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Урок изучения и первичного закрепления новых знан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798120" y="2957760"/>
            <a:ext cx="40395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Учащихся в классе (аудитории)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2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1408320" y="2942640"/>
            <a:ext cx="5259960" cy="5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Используемые учебники и учебные пособия: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3542760" y="2957760"/>
            <a:ext cx="95288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1.  Агапов С. В., Соколов С.Н,. Географический словарь.Москва   «Просвещение» 196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796560" y="2957760"/>
            <a:ext cx="100364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2. Максаковский В.П. Экономическая и социальная география мира. 10 кл. М. «Дрофа», 200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3399480" y="2957760"/>
            <a:ext cx="92422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3. В.И. Сиротин. Сборник заданий и упражнений 6-10 классы. Москва «Дрофа», 2003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3791160" y="2957760"/>
            <a:ext cx="100256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4. Максаковский В.П. Рабочая тетрадь по географии 10 класс. Москва «просвещение», 2004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181880" y="2957760"/>
            <a:ext cx="48074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Используемая методическая литература: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2462760" y="2957760"/>
            <a:ext cx="73692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1.  География в школе №2, 2006г. Горохов С.А. Современная Инд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532800" y="2942640"/>
            <a:ext cx="3508920" cy="5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Используемое оборудование: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демонстрационный экран, проектор, атласы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11578680" y="2957760"/>
            <a:ext cx="256010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Краткое описание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Краткое описание: урок по теме "Индия" проводится среди учеников 10 класса. Урок изучения нового материала (работа учащихся с учебником, картой, работа в группах, выполнение учащимися практической работы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2395080" y="2942640"/>
            <a:ext cx="7233480" cy="5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Ресурс для профильной школы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Ресурс для профильной школ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Урок географии 10 клас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9560" y="2957760"/>
            <a:ext cx="13842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тема: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Инд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652320" y="2957760"/>
            <a:ext cx="37483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Продолжительность урока: 45 ми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1361160" y="2957760"/>
            <a:ext cx="51656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Место проведения: СОШ №6 (филиал), г. Ужу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167760" y="2957760"/>
            <a:ext cx="27788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Учитель: Меренкова О.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2485800" y="2957760"/>
            <a:ext cx="74149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Цель: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Знакомство учащихся с ЭГП, населением и хозяйством Инд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16723080" y="2820600"/>
            <a:ext cx="35889480" cy="82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Задачи: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сформировать представление об основных чертах ЭГП, природных и сырьевых ресурсов, национальном составе, размещении населения. Развивать умение составлять экономико -географическую характеристику страны, используя при этом различные источники географической информации. Обобщить знания учащихся об экономических, политических и культурных связей России и Индии. Способствовать воспитанию интереса к познанию жизни других народов и стран. Воспитывать ответственность, организованность, самосто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2785320" y="2957760"/>
            <a:ext cx="80139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Методические приемы: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 рассказ, беседа,   работа со схемами, видеомет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421000" y="2957760"/>
            <a:ext cx="72853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Формы работы на уроке: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 фронтальная, групповая, индивидуальн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3941280" y="2957760"/>
            <a:ext cx="103258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Оформление урока: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 Политическ карта России, карта агроклиматических ресурсов, презента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2349360" y="2957760"/>
            <a:ext cx="71420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Оборудование урока: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демонстрационный экран, проектор, атла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0000" y="2957760"/>
            <a:ext cx="13633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Литератур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3446640" y="2957760"/>
            <a:ext cx="93366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1. Агапов С. В., Соколов С.Н,. Географический словарь.Москва «Просвещение» 196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2399040" y="2957760"/>
            <a:ext cx="72414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2. География в школе №2 2006г. Горохов С.А. Современная Инд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3796560" y="2957760"/>
            <a:ext cx="100364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3. Максаковский В.П. Экономическая и социальная география мира. 10 кл. М. «Дрофа», 200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3399480" y="2957760"/>
            <a:ext cx="92422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4. В.И. Сиротин. Сборник заданий и упражнений 6-10 классы. Москва «Дрофа», 2003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3791160" y="2957760"/>
            <a:ext cx="100256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5. Максаковский В.П. Рабочая тетрадь по географии 10 класс. Москва «просвещение», 2004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9080" y="2957760"/>
            <a:ext cx="648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440" y="2957760"/>
            <a:ext cx="10720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Ход у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4960" y="3026520"/>
            <a:ext cx="2093400" cy="411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I.</a:t>
            </a:r>
            <a:r>
              <a:rPr b="0" lang="en-US" sz="7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                  </a:t>
            </a:r>
            <a:r>
              <a:rPr b="0" lang="en-US" sz="900" spc="-1" strike="noStrike">
                <a:solidFill>
                  <a:srgbClr val="808000"/>
                </a:solidFill>
                <a:latin typeface="Tahoma"/>
              </a:rPr>
              <a:t>Организационный момент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89080" y="2957760"/>
            <a:ext cx="648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5360" y="3026520"/>
            <a:ext cx="2172600" cy="411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II.</a:t>
            </a:r>
            <a:r>
              <a:rPr b="0" lang="en-US" sz="7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               </a:t>
            </a:r>
            <a:r>
              <a:rPr b="0" lang="en-US" sz="900" spc="-1" strike="noStrike">
                <a:solidFill>
                  <a:srgbClr val="808000"/>
                </a:solidFill>
                <a:latin typeface="Tahoma"/>
              </a:rPr>
              <a:t>Изучение нового материал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599040" y="2957760"/>
            <a:ext cx="36414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 О каком государстве идёт реч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16220880" y="2820600"/>
            <a:ext cx="34885080" cy="82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Государство южной Азии. Территория этого государства напоминает треугольник, основанием прикрепленным к материку и отгороженный от остальной Азии горной системой Гималаев. Одно из древнейших государств мира, в течение почти 2 веков бала колонией Англии. Добилась независимости в 1947 г., а в 1950 г. была провозглашена республи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16361640" y="2820600"/>
            <a:ext cx="35166960" cy="82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К началу нашей эры во всем государстве распространилось арийское деление общества на 4 касты – жрецов-брахманов, каштриев-воинов, вайшьев-земледельцев и шудр-слуг. Касты до сих пор играют важную рол в жизни населения этого государства. Каждый человек этой страны принадлежит к одной из каст по рождению, это определяет круг его знакомства, работу, выбор жениха или невесты, даже выбор пищ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13703040" y="2957760"/>
            <a:ext cx="298497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В огромной стране важным источником информации является телевидение. Очень велика роль кино. В данной стране в год снимают больше кинофильмов, чем любая другая страна мира. Их смотрят и в городских кинотеатрах, и на деревенских площадях под звездным неб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9270720" y="2957760"/>
            <a:ext cx="209847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12 крупнейших современных языков, а также английский и санскрит объявлены в этой стране государственными. Дети в школах учат родной язык и хинди, а в старших классах ещё и английск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12581640" y="2957760"/>
            <a:ext cx="276066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Традиционная женская одежда – сари-кусок ткани, длиной от 4 до 9 м., искусным образом собранный на талии в виде юбки до пола и подхваченной свободным концом. перекинутым через плечо. Выходя на улицу, женщина накидывает край сари на голов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9080" y="2957760"/>
            <a:ext cx="648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2805840" y="2957760"/>
            <a:ext cx="80550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1. Визитная карточка   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(при заполнении учащиеся работают с учебником)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5360" y="2957760"/>
            <a:ext cx="19926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Республика Ин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2514600" y="2957760"/>
            <a:ext cx="74725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Площадь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– 3 288млн. км². (7 м. в мире), 2,5% доля площади в суш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957760"/>
            <a:ext cx="20214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? 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 Столица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– Д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1467720" y="2957760"/>
            <a:ext cx="53787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?Население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- 1. 095млн. чел. (2 м. в мире), 16,8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-2127600" y="2957760"/>
            <a:ext cx="66985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Протяженность территории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с запада на восток – 2,9 тыс. 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1738080" y="2957760"/>
            <a:ext cx="59198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                                             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с юга на север – З.2 тыс. 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5466600" y="2957760"/>
            <a:ext cx="133768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Длина сухопутных границ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в 2,5 раз длиннее морской и большей частью проходит по трудно доступным горным массив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1273320" y="2957760"/>
            <a:ext cx="49899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Форма правления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– республика (президен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-2331000" y="2957760"/>
            <a:ext cx="71056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Административно – территориальное устройство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– 29 шта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1133280" y="2957760"/>
            <a:ext cx="47098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Официальный язык 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– хинди и английс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73200" y="3232080"/>
          <a:ext cx="3208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992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cc"/>
                      </a:solidFill>
                    </a:lnL>
                    <a:lnR w="720">
                      <a:solidFill>
                        <a:srgbClr val="cccccc"/>
                      </a:solidFill>
                    </a:lnR>
                    <a:lnT w="720">
                      <a:solidFill>
                        <a:srgbClr val="cccccc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ccccc"/>
                      </a:solidFill>
                    </a:lnL>
                    <a:lnR w="720">
                      <a:solidFill>
                        <a:srgbClr val="cccccc"/>
                      </a:solidFill>
                    </a:lnR>
                    <a:lnT w="720">
                      <a:solidFill>
                        <a:srgbClr val="cccccc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855720" y="3306600"/>
          <a:ext cx="3143160" cy="366840"/>
        </p:xfrm>
        <a:graphic>
          <a:graphicData uri="http://schemas.openxmlformats.org/drawingml/2006/table">
            <a:tbl>
              <a:tblPr/>
              <a:tblGrid>
                <a:gridCol w="31431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Денежная единица</a:t>
                      </a:r>
                      <a:r>
                        <a:rPr b="0" lang="en-US" sz="18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- руп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461440" y="2959200"/>
            <a:ext cx="9360" cy="856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Фото пользователя Татьяна Геннадьевна Защеринская"/>
          <p:cNvPicPr/>
          <p:nvPr/>
        </p:nvPicPr>
        <p:blipFill>
          <a:blip r:embed="rId4"/>
          <a:stretch/>
        </p:blipFill>
        <p:spPr>
          <a:xfrm>
            <a:off x="673200" y="3232080"/>
            <a:ext cx="571320" cy="676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3200" y="2921400"/>
            <a:ext cx="7724520" cy="624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6b7"/>
                </a:solidFill>
                <a:latin typeface="Arial"/>
              </a:rPr>
              <a:t>Размещено: Татьяна Геннадьевна Защеринская - ср, 20/05/2009 - 11:25 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  </a:t>
            </a:r>
            <a:r>
              <a:rPr b="0" lang="ru-RU" sz="5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080" y="2957760"/>
            <a:ext cx="20095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Данные об автор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-928080" y="2957760"/>
            <a:ext cx="42998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7777"/>
                </a:solidFill>
                <a:latin typeface="Arial"/>
              </a:rPr>
              <a:t>Автор(ы): 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Меренкова Оксана Юрьев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2211480" y="2957760"/>
            <a:ext cx="68662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7777"/>
                </a:solidFill>
                <a:latin typeface="Arial"/>
              </a:rPr>
              <a:t>Место работы, должность: 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г. Ужур, МОУ "Ужурская СОШ №6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-2022480" y="2957760"/>
            <a:ext cx="64886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Регион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Красноярский край Характеристики урока (занятия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2167200" y="2957760"/>
            <a:ext cx="67777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Уровень образования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среднее (полное) общее образов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-1054800" y="2957760"/>
            <a:ext cx="45529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Целевая аудитория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Учащийся (студент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-1354320" y="2957760"/>
            <a:ext cx="51519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Целевая аудитория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Учитель (преподаватель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9840" y="2957760"/>
            <a:ext cx="21236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Класс(ы)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10 клас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122040" y="2957760"/>
            <a:ext cx="26874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Предмет(ы)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Географ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-2894760" y="2957760"/>
            <a:ext cx="82332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Цель урока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Знакомство учащихся с ЭГП, населением и хозяйством Инд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2412000" y="2957760"/>
            <a:ext cx="72673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Тип урока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Урок изучения и первичного закрепления новых знан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-798120" y="2957760"/>
            <a:ext cx="40395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Учащихся в классе (аудитории)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2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-1408320" y="2942640"/>
            <a:ext cx="5259960" cy="5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Используемые учебники и учебные пособия: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-3542760" y="2957760"/>
            <a:ext cx="95288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1.  Агапов С. В., Соколов С.Н,. Географический словарь.Москва   «Просвещение» 196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3796560" y="2957760"/>
            <a:ext cx="100364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2. Максаковский В.П. Экономическая и социальная география мира. 10 кл. М. «Дрофа», 200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-3399480" y="2957760"/>
            <a:ext cx="92422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3. В.И. Сиротин. Сборник заданий и упражнений 6-10 классы. Москва «Дрофа», 2003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-3791160" y="2957760"/>
            <a:ext cx="100256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4. Максаковский В.П. Рабочая тетрадь по географии 10 класс. Москва «просвещение», 2004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-1181880" y="2957760"/>
            <a:ext cx="48074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Используемая методическая литература: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-2462760" y="2957760"/>
            <a:ext cx="73692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1.  География в школе №2, 2006г. Горохов С.А. Современная Инд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-532800" y="2942640"/>
            <a:ext cx="3508920" cy="5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Используемое оборудование: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демонстрационный экран, проектор, атласы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-11578680" y="2957760"/>
            <a:ext cx="256010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Краткое описание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Краткое описание: урок по теме "Индия" проводится среди учеников 10 класса. Урок изучения нового материала (работа учащихся с учебником, картой, работа в группах, выполнение учащимися практической работы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3200" y="3232080"/>
            <a:ext cx="1096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-2395080" y="2942640"/>
            <a:ext cx="7233480" cy="5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Ресурс для профильной школы: 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Ресурс для профильной школ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Урок географии 10 клас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9560" y="2957760"/>
            <a:ext cx="13842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тема: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Инд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-652320" y="2957760"/>
            <a:ext cx="37483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Продолжительность урока: 45 ми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-1361160" y="2957760"/>
            <a:ext cx="51656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Место проведения: СОШ №6 (филиал), г. Ужу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-167760" y="2957760"/>
            <a:ext cx="27788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Учитель: Меренкова О.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-2485800" y="2957760"/>
            <a:ext cx="74149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Цель: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Знакомство учащихся с ЭГП, населением и хозяйством Инд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-7732080" y="2821320"/>
            <a:ext cx="34988760" cy="82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сформировать представление об основных чертах ЭГП, природных и сырьевых ресурсов, национальном составе, размещении населения. Развивать умение составлять экономико -географическую характеристику страны, используя при этом различные источники географической информации. Обобщить знания учащихся об экономических, политических и культурных связей России и Индии. Способствовать воспитанию интереса к познанию жизни других народов и стран. Воспитывать ответственность, организованность, самосто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-2785320" y="2957760"/>
            <a:ext cx="80139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Методические приемы: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 рассказ, беседа,   работа со схемами, видеомет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-2421000" y="2957760"/>
            <a:ext cx="72853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Формы работы на уроке: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 фронтальная, групповая, индивидуальн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-3941280" y="2957760"/>
            <a:ext cx="103258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Arial"/>
              </a:rPr>
              <a:t>Оформление урока: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 Политическ карта России, карта агроклиматических ресурсов, презента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2349360" y="2957760"/>
            <a:ext cx="71420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Оборудование урока: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демонстрационный экран, проектор, атла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0000" y="2957760"/>
            <a:ext cx="13633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Литератур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-3446640" y="2957760"/>
            <a:ext cx="93366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1. Агапов С. В., Соколов С.Н,. Географический словарь.Москва «Просвещение» 196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-2399040" y="2957760"/>
            <a:ext cx="72414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2. География в школе №2 2006г. Горохов С.А. Современная Инд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-3796560" y="2957760"/>
            <a:ext cx="100364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3. Максаковский В.П. Экономическая и социальная география мира. 10 кл. М. «Дрофа», 200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-3399480" y="2957760"/>
            <a:ext cx="92422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4. В.И. Сиротин. Сборник заданий и упражнений 6-10 классы. Москва «Дрофа», 2003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-3791160" y="2957760"/>
            <a:ext cx="100256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5. Максаковский В.П. Рабочая тетрадь по географии 10 класс. Москва «просвещение», 2004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89080" y="2957760"/>
            <a:ext cx="648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440" y="2957760"/>
            <a:ext cx="10720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Ход у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4960" y="3026520"/>
            <a:ext cx="2093400" cy="411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I.</a:t>
            </a:r>
            <a:r>
              <a:rPr b="0" lang="en-US" sz="7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                  </a:t>
            </a:r>
            <a:r>
              <a:rPr b="0" lang="en-US" sz="900" spc="-1" strike="noStrike">
                <a:solidFill>
                  <a:srgbClr val="808000"/>
                </a:solidFill>
                <a:latin typeface="Tahoma"/>
              </a:rPr>
              <a:t>Организационный момент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89080" y="2957760"/>
            <a:ext cx="648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5360" y="3026520"/>
            <a:ext cx="2172600" cy="411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00"/>
                </a:solidFill>
                <a:latin typeface="Arial"/>
              </a:rPr>
              <a:t>II.</a:t>
            </a:r>
            <a:r>
              <a:rPr b="0" lang="en-US" sz="7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               </a:t>
            </a:r>
            <a:r>
              <a:rPr b="0" lang="en-US" sz="900" spc="-1" strike="noStrike">
                <a:solidFill>
                  <a:srgbClr val="808000"/>
                </a:solidFill>
                <a:latin typeface="Tahoma"/>
              </a:rPr>
              <a:t>Изучение нового материал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-599040" y="2957760"/>
            <a:ext cx="36414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 О каком государстве идёт реч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16220880" y="2820600"/>
            <a:ext cx="34885080" cy="82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Государство южной Азии. Территория этого государства напоминает треугольник, основанием прикрепленным к материку и отгороженный от остальной Азии горной системой Гималаев. Одно из древнейших государств мира, в течение почти 2 веков бала колонией Англии. Добилась независимости в 1947 г., а в 1950 г. была провозглашена республи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-16361640" y="2820600"/>
            <a:ext cx="35166960" cy="82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777777"/>
                </a:solidFill>
                <a:latin typeface="Arial"/>
              </a:rPr>
              <a:t>К началу нашей эры во всем государстве распространилось арийское деление общества на 4 касты – жрецов-брахманов, каштриев-воинов, вайшьев-земледельцев и шудр-слуг. Касты до сих пор играют важную рол в жизни населения этого государства. Каждый человек этой страны принадлежит к одной из каст по рождению, это определяет круг его знакомства, работу, выбор жениха или невесты, даже выбор пищ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13703040" y="2957760"/>
            <a:ext cx="298497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В огромной стране важным источником информации является телевидение. Очень велика роль кино. В данной стране в год снимают больше кинофильмов, чем любая другая страна мира. Их смотрят и в городских кинотеатрах, и на деревенских площадях под звездным неб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-9270720" y="2957760"/>
            <a:ext cx="209847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12 крупнейших современных языков, а также английский и санскрит объявлены в этой стране государственными. Дети в школах учат родной язык и хинди, а в старших классах ещё и английск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-12581640" y="2957760"/>
            <a:ext cx="276066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Традиционная женская одежда – сари-кусок ткани, длиной от 4 до 9 м., искусным образом собранный на талии в виде юбки до пола и подхваченной свободным концом. перекинутым через плечо. Выходя на улицу, женщина накидывает край сари на голов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89080" y="2957760"/>
            <a:ext cx="648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-2805840" y="2957760"/>
            <a:ext cx="80550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1. Визитная карточка   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(при заполнении учащиеся работают с учебником)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5360" y="2957760"/>
            <a:ext cx="19926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Республика Ин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-2514600" y="2957760"/>
            <a:ext cx="74725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Площадь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– 3 288млн. км². (7 м. в мире), 2,5% доля площади в суш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10960" y="2957760"/>
            <a:ext cx="202140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? 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 Столица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– Д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-1467720" y="2957760"/>
            <a:ext cx="53787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?Население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- 1. 095млн. чел. (2 м. в мире), 16,8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-2127600" y="2957760"/>
            <a:ext cx="669852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Протяженность территории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с запада на восток – 2,9 тыс. 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-1738080" y="2957760"/>
            <a:ext cx="591984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                                             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с юга на север – З.2 тыс. 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-5466600" y="2957760"/>
            <a:ext cx="133768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Длина сухопутных границ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в 2,5 раз длиннее морской и большей частью проходит по трудно доступным горным массив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-1273320" y="2957760"/>
            <a:ext cx="498996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Форма правления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– республика (президен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-2331000" y="2957760"/>
            <a:ext cx="7105680" cy="54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Административно – территориальное устройство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 – 29 шта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465920"/>
            <a:ext cx="9144000" cy="283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Официальный язык </a:t>
            </a: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– хинди и английс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Площадь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–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288млн. км². (7 м. в мире), 2,5% доля площади в суш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?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 Столица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– Д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?Население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- 1. 095млн. чел. (2 м. в мире), 16,8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Протяженность территории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с запада на восток – 2,9 тыс. к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                                            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с юга на север – З.2 тыс. к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Длина сухопутных границ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в 2,5 раз длиннее морской и большей частью проходит по трудно доступным горным массива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Форма правления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– республика (президент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Административно – территориальное устройство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– 29 шта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Официальный язык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– хинди и английск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Денежная единица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руп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84360" y="3213000"/>
          <a:ext cx="32065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990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cccccc"/>
                      </a:solidFill>
                    </a:lnL>
                    <a:lnR w="720">
                      <a:solidFill>
                        <a:srgbClr val="cccccc"/>
                      </a:solidFill>
                    </a:lnR>
                    <a:lnT w="720">
                      <a:solidFill>
                        <a:srgbClr val="cccccc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ccccc"/>
                      </a:solidFill>
                    </a:lnL>
                    <a:lnR w="720">
                      <a:solidFill>
                        <a:srgbClr val="cccccc"/>
                      </a:solidFill>
                    </a:lnR>
                    <a:lnT w="720">
                      <a:solidFill>
                        <a:srgbClr val="cccccc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855720" y="3306600"/>
          <a:ext cx="1915920" cy="365400"/>
        </p:xfrm>
        <a:graphic>
          <a:graphicData uri="http://schemas.openxmlformats.org/drawingml/2006/table">
            <a:tbl>
              <a:tblPr/>
              <a:tblGrid>
                <a:gridCol w="1915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8461440" y="2959200"/>
            <a:ext cx="936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446544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ндия – лидер(стр 227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57200" y="1600200"/>
          <a:ext cx="8229600" cy="4714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озяй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мес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мес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 мес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пахотные зем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Главные отрасли промышленност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стр.22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4284720" y="1700280"/>
            <a:ext cx="252072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таллур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92360" y="292428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1280" y="292428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08000" y="4076640"/>
            <a:ext cx="71640" cy="73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700360" y="2852640"/>
            <a:ext cx="93672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395280" y="1772640"/>
            <a:ext cx="251928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ёгкая промышл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164360" y="1773360"/>
            <a:ext cx="151128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шиностро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ельское хозяйство(3-2 раза сбор урожая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тний сезон(муссон)-Хариф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имний сезон(сухо и жарко)раби исскуственно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раш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5364000" y="4724280"/>
            <a:ext cx="3456000" cy="28893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826920" y="2421000"/>
            <a:ext cx="50007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вященное животное в Инд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2195640" y="1773360"/>
            <a:ext cx="40766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емледельческие зоны Инд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соводчс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шенич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реалы масличных культу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реалы сахаронос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реалы тонизирующ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ультура Инд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5715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мовение на реке Ган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1908000" y="2060640"/>
            <a:ext cx="52390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 Индии слонов почитаю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3379680" y="533520"/>
            <a:ext cx="19044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3" name=""/>
          <p:cNvGraphicFramePr/>
          <p:nvPr/>
        </p:nvGraphicFramePr>
        <p:xfrm>
          <a:off x="-1096920" y="-2824200"/>
          <a:ext cx="11337840" cy="1339920"/>
        </p:xfrm>
        <a:graphic>
          <a:graphicData uri="http://schemas.openxmlformats.org/drawingml/2006/table">
            <a:tbl>
              <a:tblPr/>
              <a:tblGrid>
                <a:gridCol w="1817640"/>
                <a:gridCol w="216000"/>
                <a:gridCol w="9088200"/>
                <a:gridCol w="216000"/>
              </a:tblGrid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</a:rPr>
                        <a:t>←</a:t>
                      </a: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артинка с сайта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из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800</a:t>
                      </a: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1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</a:rPr>
                        <a:t>→</a:t>
                      </a: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1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</a:rPr>
                        <a:t>Вернуться к результатам поиска</a:t>
                      </a: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4" name="" descr="Картинка 20 из 118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19280" y="1432080"/>
            <a:ext cx="626580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ГЕОГРАФИЧЕСКОЕ ПОЛОЖЕНИ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стр.225, рис 74 на контурной карт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497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едеративная республика(25 штатов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50 году добилась независим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 улицах Инд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2484360" y="1628640"/>
            <a:ext cx="54435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сел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млрд. Челове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нический состав- многонациональный(1672 язык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сударственный язы –хиндустанский и англий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лигия- ислам и индуизм(деление н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каст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66960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рупные города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пишите сколько население стр 2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мб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дра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льку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иложение 2.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просы для карточек "БЛИЦ"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Священное животное Индии (  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Государство, образовавшееся одновременно с Индией в результате крушения колонии (  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Крупнейшая низменность Индии (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Крупный порт на западе Индии (  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Государство, граничащее с Индией на востоке ( 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Священная река Индии (  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I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Крупный порт на юго-востоке Индии ( 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Столица Пакистана (  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Государство, с которым граничит Индия на северо-востоке (  )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1850400" y="329256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ffff"/>
                </a:solidFill>
                <a:uFillTx/>
                <a:latin typeface="Arial Black"/>
              </a:rPr>
              <a:t>И</a:t>
            </a:r>
            <a:r>
              <a:rPr b="0" i="1" lang="en-US" sz="4800" spc="-1" strike="noStrike" u="sng">
                <a:solidFill>
                  <a:srgbClr val="ffffff"/>
                </a:solidFill>
                <a:uFillTx/>
                <a:latin typeface="Arial Black"/>
              </a:rPr>
              <a:t>НД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547640" y="1628640"/>
          <a:ext cx="5232240" cy="2570760"/>
        </p:xfrm>
        <a:graphic>
          <a:graphicData uri="http://schemas.openxmlformats.org/drawingml/2006/table">
            <a:tbl>
              <a:tblPr/>
              <a:tblGrid>
                <a:gridCol w="4584240"/>
                <a:gridCol w="216000"/>
                <a:gridCol w="216000"/>
                <a:gridCol w="216000"/>
              </a:tblGrid>
              <a:tr h="953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-252360" y="1557360"/>
            <a:ext cx="9899640" cy="489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" name=""/>
          <p:cNvGraphicFramePr/>
          <p:nvPr/>
        </p:nvGraphicFramePr>
        <p:xfrm>
          <a:off x="563400" y="-239760"/>
          <a:ext cx="5169240" cy="1652760"/>
        </p:xfrm>
        <a:graphic>
          <a:graphicData uri="http://schemas.openxmlformats.org/drawingml/2006/table">
            <a:tbl>
              <a:tblPr/>
              <a:tblGrid>
                <a:gridCol w="4521240"/>
                <a:gridCol w="216000"/>
                <a:gridCol w="216000"/>
                <a:gridCol w="216000"/>
              </a:tblGrid>
              <a:tr h="612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3"/>
                        </a:rPr>
                        <a:t>←</a:t>
                      </a: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Картинка с сайта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2</a:t>
                      </a: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 из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1800</a:t>
                      </a: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1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4"/>
                        </a:rPr>
                        <a:t>→</a:t>
                      </a: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1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5"/>
                        </a:rPr>
                        <a:t>Вернуться к результатам поиска</a:t>
                      </a:r>
                      <a:r>
                        <a:rPr b="0" lang="en-US" sz="900" spc="-1" strike="noStrike">
                          <a:solidFill>
                            <a:srgbClr val="333333"/>
                          </a:solidFill>
                          <a:latin typeface="Tahoma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Хозяйство Индии(страна контрасто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вП(объёму продукции) -5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вп (на душу) –                102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ждый  4 – бед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---уровень агротехники – самое низкое в ми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---во многих деревнях нет электриче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ждый 2 –неграмот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аждом квартале – трущобы(басти) где миллионы безработ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95280" y="4221000"/>
            <a:ext cx="4762440" cy="2637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53341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5:35:24Z</dcterms:created>
  <dc:creator>Admin</dc:creator>
  <dc:description/>
  <dc:language>en-US</dc:language>
  <cp:lastModifiedBy>Admin</cp:lastModifiedBy>
  <dcterms:modified xsi:type="dcterms:W3CDTF">2009-12-23T03:35:57Z</dcterms:modified>
  <cp:revision>5</cp:revision>
  <dc:subject/>
  <dc:title>иНДИЯ</dc:title>
</cp:coreProperties>
</file>