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8936-E1A0-4E20-886F-8709AA2BF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EE1C-8DD2-43EF-8BDE-C1A78AE7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A07E-2FC0-4ADE-84DD-5AC0D9778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5756-A02E-4774-89AE-579078DA2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F76B-5E3E-42A1-9DB9-B6C07F9C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9500-FE6F-49B9-8996-374942DB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687B-0832-495E-87F4-8D0764A9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B98A-6EA5-4007-B3E4-36ADFFED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13DF-98F7-4F2D-BBCD-80EFD8B7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0224-1095-46DE-9534-B17B2428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7FE5-B188-44AE-93AB-494D05C0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AAAE-4D59-48BC-8682-2A6174EE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3F34-6416-445E-B426-85A750C735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87560"/>
            <a:ext cx="19540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оящее достоинство человека гениального — то, что возвышает его над другими и делает его почтенным, — заключается в преобладании интеллекта — этой светлой, чистой стороны человеческого сущ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тур Шопенгауэ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Артур Шопенгауэр"/>
          <p:cNvPicPr/>
          <p:nvPr/>
        </p:nvPicPr>
        <p:blipFill>
          <a:blip r:embed="rId1"/>
          <a:stretch/>
        </p:blipFill>
        <p:spPr>
          <a:xfrm>
            <a:off x="247680" y="0"/>
            <a:ext cx="24526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467640" y="-5235840"/>
            <a:ext cx="36036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атент – документ, выда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полномоченным патентны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домством страны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достоверяющий право е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ладельца в течение определен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ока использовать предмет свое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атента, и в том числе пра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ключать третьих лиц от люб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ы использ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патентованного объекта бе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решения  патентовладельц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Patent"/>
          <p:cNvPicPr/>
          <p:nvPr/>
        </p:nvPicPr>
        <p:blipFill>
          <a:blip r:embed="rId1"/>
          <a:stretch/>
        </p:blipFill>
        <p:spPr>
          <a:xfrm>
            <a:off x="324000" y="189000"/>
            <a:ext cx="4692600" cy="6480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5076720" y="2152800"/>
            <a:ext cx="35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5148360" y="112536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оритет изобретения – первенство во времени, дата поступления правильно оформленной заявки в Патентное ведом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polzynov"/>
          <p:cNvPicPr/>
          <p:nvPr/>
        </p:nvPicPr>
        <p:blipFill>
          <a:blip r:embed="rId1"/>
          <a:stretch/>
        </p:blipFill>
        <p:spPr>
          <a:xfrm>
            <a:off x="611280" y="1125360"/>
            <a:ext cx="1876320" cy="2376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f11"/>
          <p:cNvPicPr/>
          <p:nvPr/>
        </p:nvPicPr>
        <p:blipFill>
          <a:blip r:embed="rId2"/>
          <a:stretch/>
        </p:blipFill>
        <p:spPr>
          <a:xfrm>
            <a:off x="2050920" y="4149720"/>
            <a:ext cx="2092320" cy="2374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f11_2"/>
          <p:cNvPicPr/>
          <p:nvPr/>
        </p:nvPicPr>
        <p:blipFill>
          <a:blip r:embed="rId3"/>
          <a:stretch/>
        </p:blipFill>
        <p:spPr>
          <a:xfrm>
            <a:off x="5580000" y="4149720"/>
            <a:ext cx="2065320" cy="2374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Картинка 1 из 2291"/>
          <p:cNvPicPr/>
          <p:nvPr/>
        </p:nvPicPr>
        <p:blipFill>
          <a:blip r:embed="rId4"/>
          <a:stretch/>
        </p:blipFill>
        <p:spPr>
          <a:xfrm>
            <a:off x="6227640" y="1197000"/>
            <a:ext cx="2144880" cy="24098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0"/>
          <p:cNvSpPr/>
          <p:nvPr/>
        </p:nvSpPr>
        <p:spPr>
          <a:xfrm>
            <a:off x="684720" y="3551400"/>
            <a:ext cx="145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.И. Ползун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7072560" y="3643200"/>
            <a:ext cx="91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ж. Уат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3780000" y="1989000"/>
            <a:ext cx="129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3851280" y="1428840"/>
            <a:ext cx="158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сональный компьюте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Файл:SovietComputerMC1504KlassnyTakojProstoSuperAga.jpg"/>
          <p:cNvPicPr/>
          <p:nvPr/>
        </p:nvPicPr>
        <p:blipFill>
          <a:blip r:embed="rId1"/>
          <a:stretch/>
        </p:blipFill>
        <p:spPr>
          <a:xfrm>
            <a:off x="3276720" y="836640"/>
            <a:ext cx="1904760" cy="1724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Картинка 121 из 3653"/>
          <p:cNvPicPr/>
          <p:nvPr/>
        </p:nvPicPr>
        <p:blipFill>
          <a:blip r:embed="rId2"/>
          <a:stretch/>
        </p:blipFill>
        <p:spPr>
          <a:xfrm>
            <a:off x="5364000" y="836640"/>
            <a:ext cx="3276720" cy="1881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UPLDw1eGZA"/>
          <p:cNvPicPr/>
          <p:nvPr/>
        </p:nvPicPr>
        <p:blipFill>
          <a:blip r:embed="rId3"/>
          <a:stretch/>
        </p:blipFill>
        <p:spPr>
          <a:xfrm>
            <a:off x="179280" y="0"/>
            <a:ext cx="2635200" cy="29782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2"/>
          <p:cNvSpPr/>
          <p:nvPr/>
        </p:nvSpPr>
        <p:spPr>
          <a:xfrm>
            <a:off x="179280" y="2349360"/>
            <a:ext cx="280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граммирующий прибор А. Горохова включал в себя монитор, отдельный системный блок с жестким диском, материнской платой, памятью, видеокартой и прочей начинкой. Не было только «мышки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ское свидетельство №383005    1968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3132000" y="337644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975 году первый персональный компьютер был изобретен американской компанией Apple Comput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5" descr="Картинка 2 из 2451"/>
          <p:cNvPicPr/>
          <p:nvPr/>
        </p:nvPicPr>
        <p:blipFill>
          <a:blip r:embed="rId4"/>
          <a:stretch/>
        </p:blipFill>
        <p:spPr>
          <a:xfrm>
            <a:off x="5076720" y="4292640"/>
            <a:ext cx="320364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рменные наименования, товарные знаки?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4 апреля 1891 года – Мадридское соглашение о санкциях за ложные и неправильные обозначения происхождения изделий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Китайские подделки известных брендов"/>
          <p:cNvPicPr/>
          <p:nvPr/>
        </p:nvPicPr>
        <p:blipFill>
          <a:blip r:embed="rId1"/>
          <a:stretch/>
        </p:blipFill>
        <p:spPr>
          <a:xfrm>
            <a:off x="250920" y="1557360"/>
            <a:ext cx="2592360" cy="1942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Китайские подделки известных брендов"/>
          <p:cNvPicPr/>
          <p:nvPr/>
        </p:nvPicPr>
        <p:blipFill>
          <a:blip r:embed="rId2"/>
          <a:stretch/>
        </p:blipFill>
        <p:spPr>
          <a:xfrm>
            <a:off x="4067280" y="1413000"/>
            <a:ext cx="3157560" cy="2371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Китайские подделки известных брендов"/>
          <p:cNvPicPr/>
          <p:nvPr/>
        </p:nvPicPr>
        <p:blipFill>
          <a:blip r:embed="rId3"/>
          <a:stretch/>
        </p:blipFill>
        <p:spPr>
          <a:xfrm>
            <a:off x="179280" y="3860640"/>
            <a:ext cx="3168720" cy="2378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Китайские подделки известных брендов"/>
          <p:cNvPicPr/>
          <p:nvPr/>
        </p:nvPicPr>
        <p:blipFill>
          <a:blip r:embed="rId4"/>
          <a:stretch/>
        </p:blipFill>
        <p:spPr>
          <a:xfrm>
            <a:off x="5219640" y="3860640"/>
            <a:ext cx="3708360" cy="27846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4121640" y="4222800"/>
            <a:ext cx="69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3112920" y="1701720"/>
            <a:ext cx="7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7794360" y="1773360"/>
            <a:ext cx="7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веты начинающи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Diagram 5"/>
          <p:cNvGrpSpPr/>
          <p:nvPr/>
        </p:nvGrpSpPr>
        <p:grpSpPr>
          <a:xfrm>
            <a:off x="782280" y="1544760"/>
            <a:ext cx="7507080" cy="4633200"/>
            <a:chOff x="782280" y="1544760"/>
            <a:chExt cx="7507080" cy="4633200"/>
          </a:xfrm>
        </p:grpSpPr>
        <p:sp>
          <p:nvSpPr>
            <p:cNvPr id="130" name="_s3076"/>
            <p:cNvSpPr/>
            <p:nvPr/>
          </p:nvSpPr>
          <p:spPr>
            <a:xfrm flipV="1">
              <a:off x="3283200" y="1544400"/>
              <a:ext cx="2504880" cy="1544040"/>
            </a:xfrm>
            <a:custGeom>
              <a:avLst/>
              <a:gdLst>
                <a:gd name="textAreaLeft" fmla="*/ 898560 w 2504880"/>
                <a:gd name="textAreaRight" fmla="*/ 1606320 w 2504880"/>
                <a:gd name="textAreaTop" fmla="*/ 554040 h 1544040"/>
                <a:gd name="textAreaBottom" fmla="*/ 990000 h 154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й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нвестора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Который вложи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Вас деньги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3077"/>
            <p:cNvSpPr/>
            <p:nvPr/>
          </p:nvSpPr>
          <p:spPr>
            <a:xfrm flipV="1">
              <a:off x="2034000" y="3088800"/>
              <a:ext cx="5003640" cy="1544040"/>
            </a:xfrm>
            <a:custGeom>
              <a:avLst/>
              <a:gdLst>
                <a:gd name="textAreaLeft" fmla="*/ 1100160 w 5003640"/>
                <a:gd name="textAreaRight" fmla="*/ 3903480 w 5003640"/>
                <a:gd name="textAreaTop" fmla="*/ 339480 h 1544040"/>
                <a:gd name="textAreaBottom" fmla="*/ 1204560 h 154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3078"/>
            <p:cNvSpPr/>
            <p:nvPr/>
          </p:nvSpPr>
          <p:spPr>
            <a:xfrm flipV="1">
              <a:off x="782280" y="4633200"/>
              <a:ext cx="7507080" cy="1544400"/>
            </a:xfrm>
            <a:custGeom>
              <a:avLst/>
              <a:gdLst>
                <a:gd name="textAreaLeft" fmla="*/ 1303200 w 7507080"/>
                <a:gd name="textAreaRight" fmla="*/ 6203880 w 7507080"/>
                <a:gd name="textAreaTop" fmla="*/ 267840 h 1544400"/>
                <a:gd name="textAreaBottom" fmla="*/ 1276560 h 154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Удостоверьтесь в новизне, чтобы вас не сочли плагиатором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ужно суметь защитить свою идею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Патент и опытный поверенный – лучшая гарантия безопасности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10"/>
          <p:cNvSpPr/>
          <p:nvPr/>
        </p:nvSpPr>
        <p:spPr>
          <a:xfrm>
            <a:off x="3059280" y="3068640"/>
            <a:ext cx="3168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обходимо иметь         способ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изнесмена, чтобы протолкнуть сво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зобретение на рынок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ении, способные успешно продавать свою идею, - редки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1835280" y="618480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975120" y="6256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0" y="6216480"/>
            <a:ext cx="13222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щита авторских прав</a:t>
            </a:r>
            <a:br>
              <a:rPr sz="2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 сентября 1886 года. Бернская конвенция об охране литературных и художественных произведений -  старейший международный договор в области авторского права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Organization Chart 5"/>
          <p:cNvGrpSpPr/>
          <p:nvPr/>
        </p:nvGrpSpPr>
        <p:grpSpPr>
          <a:xfrm>
            <a:off x="179280" y="1484280"/>
            <a:ext cx="8784360" cy="5183280"/>
            <a:chOff x="179280" y="1484280"/>
            <a:chExt cx="8784360" cy="5183280"/>
          </a:xfrm>
        </p:grpSpPr>
        <p:cxnSp>
          <p:nvCxnSpPr>
            <p:cNvPr id="139" name="_s4100"/>
            <p:cNvCxnSpPr>
              <a:stCxn id="140" idx="0"/>
              <a:endCxn id="141" idx="2"/>
            </p:cNvCxnSpPr>
            <p:nvPr/>
          </p:nvCxnSpPr>
          <p:spPr>
            <a:xfrm flipV="1" rot="16200000">
              <a:off x="5234760" y="2892240"/>
              <a:ext cx="1037160" cy="2366280"/>
            </a:xfrm>
            <a:prstGeom prst="bentConnector3">
              <a:avLst>
                <a:gd name="adj1" fmla="val 126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2" name="_s4101"/>
            <p:cNvCxnSpPr>
              <a:stCxn id="143" idx="0"/>
              <a:endCxn id="141" idx="2"/>
            </p:cNvCxnSpPr>
            <p:nvPr/>
          </p:nvCxnSpPr>
          <p:spPr>
            <a:xfrm flipH="1" flipV="1" rot="5400000">
              <a:off x="2870280" y="2892960"/>
              <a:ext cx="1037160" cy="2365200"/>
            </a:xfrm>
            <a:prstGeom prst="bentConnector3">
              <a:avLst>
                <a:gd name="adj1" fmla="val 126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1" name="_s4102"/>
            <p:cNvSpPr/>
            <p:nvPr/>
          </p:nvSpPr>
          <p:spPr>
            <a:xfrm>
              <a:off x="2543760" y="1484280"/>
              <a:ext cx="4054320" cy="2073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Меры защиты 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авторских прав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4103"/>
            <p:cNvSpPr/>
            <p:nvPr/>
          </p:nvSpPr>
          <p:spPr>
            <a:xfrm>
              <a:off x="179280" y="4594320"/>
              <a:ext cx="4054320" cy="2073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правоустановительные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(установление авторских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прав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4104"/>
            <p:cNvSpPr/>
            <p:nvPr/>
          </p:nvSpPr>
          <p:spPr>
            <a:xfrm>
              <a:off x="4909320" y="4594320"/>
              <a:ext cx="4054320" cy="2073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правовосстановительные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(возмещение убытков в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случае нарушения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авторского права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685080" y="-5234040"/>
            <a:ext cx="2156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ллектуалы делятся на две категории: одни поклоняются интеллекту, другие им пользу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лберт  Честерт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А вы к какой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атегории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тноситесь?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59522135_1274895338_000159"/>
          <p:cNvPicPr/>
          <p:nvPr/>
        </p:nvPicPr>
        <p:blipFill>
          <a:blip r:embed="rId1"/>
          <a:stretch/>
        </p:blipFill>
        <p:spPr>
          <a:xfrm>
            <a:off x="468360" y="2492280"/>
            <a:ext cx="309564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колай Дмитриевич Зелинский – известный русский ученый-хими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zelinsk005"/>
          <p:cNvPicPr/>
          <p:nvPr/>
        </p:nvPicPr>
        <p:blipFill>
          <a:blip r:embed="rId1"/>
          <a:stretch/>
        </p:blipFill>
        <p:spPr>
          <a:xfrm>
            <a:off x="539640" y="2276640"/>
            <a:ext cx="8280360" cy="4105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Zelinsky01"/>
          <p:cNvPicPr/>
          <p:nvPr/>
        </p:nvPicPr>
        <p:blipFill>
          <a:blip r:embed="rId2"/>
          <a:stretch/>
        </p:blipFill>
        <p:spPr>
          <a:xfrm>
            <a:off x="684360" y="333360"/>
            <a:ext cx="1485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хаил Калашников – великий изобрет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76720" y="2276640"/>
            <a:ext cx="554328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Изобретатели которые  не заработали ни гроша"/>
          <p:cNvPicPr/>
          <p:nvPr/>
        </p:nvPicPr>
        <p:blipFill>
          <a:blip r:embed="rId1"/>
          <a:stretch/>
        </p:blipFill>
        <p:spPr>
          <a:xfrm>
            <a:off x="684360" y="333360"/>
            <a:ext cx="1904760" cy="2666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Картинка 2 из 11330"/>
          <p:cNvPicPr/>
          <p:nvPr/>
        </p:nvPicPr>
        <p:blipFill>
          <a:blip r:embed="rId2"/>
          <a:stretch/>
        </p:blipFill>
        <p:spPr>
          <a:xfrm>
            <a:off x="3203640" y="2205000"/>
            <a:ext cx="56372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 ком звонит телефон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Файл:Antonio Meucci.jpg"/>
          <p:cNvPicPr/>
          <p:nvPr/>
        </p:nvPicPr>
        <p:blipFill>
          <a:blip r:embed="rId1"/>
          <a:stretch/>
        </p:blipFill>
        <p:spPr>
          <a:xfrm>
            <a:off x="571680" y="1628640"/>
            <a:ext cx="3052440" cy="3745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Alexander_Graham_Bell"/>
          <p:cNvPicPr/>
          <p:nvPr/>
        </p:nvPicPr>
        <p:blipFill>
          <a:blip r:embed="rId2"/>
          <a:stretch/>
        </p:blipFill>
        <p:spPr>
          <a:xfrm>
            <a:off x="5867280" y="1628640"/>
            <a:ext cx="2820960" cy="367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oldphone"/>
          <p:cNvPicPr/>
          <p:nvPr/>
        </p:nvPicPr>
        <p:blipFill>
          <a:blip r:embed="rId3"/>
          <a:stretch/>
        </p:blipFill>
        <p:spPr>
          <a:xfrm>
            <a:off x="3851280" y="1773360"/>
            <a:ext cx="1835280" cy="3168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1386000" y="539280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тонио Меуч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5940360" y="5321160"/>
            <a:ext cx="336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ександр Грэм Бел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а будет свет!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i?id=38590114-10"/>
          <p:cNvPicPr/>
          <p:nvPr/>
        </p:nvPicPr>
        <p:blipFill>
          <a:blip r:embed="rId1"/>
          <a:stretch/>
        </p:blipFill>
        <p:spPr>
          <a:xfrm>
            <a:off x="4140360" y="2708280"/>
            <a:ext cx="752400" cy="1238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i?id=102381350-07"/>
          <p:cNvPicPr/>
          <p:nvPr/>
        </p:nvPicPr>
        <p:blipFill>
          <a:blip r:embed="rId2"/>
          <a:stretch/>
        </p:blipFill>
        <p:spPr>
          <a:xfrm>
            <a:off x="900000" y="1628640"/>
            <a:ext cx="2513160" cy="388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thomasedison1"/>
          <p:cNvPicPr/>
          <p:nvPr/>
        </p:nvPicPr>
        <p:blipFill>
          <a:blip r:embed="rId3"/>
          <a:stretch/>
        </p:blipFill>
        <p:spPr>
          <a:xfrm>
            <a:off x="5867280" y="1628640"/>
            <a:ext cx="2847960" cy="4029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0"/>
          <p:cNvSpPr/>
          <p:nvPr/>
        </p:nvSpPr>
        <p:spPr>
          <a:xfrm>
            <a:off x="1116000" y="5537160"/>
            <a:ext cx="23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рих Геб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6568920" y="560880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мас Эди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ток от меланхолии и головной бол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16000" y="1484280"/>
            <a:ext cx="3692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Coca-Cola"/>
          <p:cNvPicPr/>
          <p:nvPr/>
        </p:nvPicPr>
        <p:blipFill>
          <a:blip r:embed="rId1"/>
          <a:stretch/>
        </p:blipFill>
        <p:spPr>
          <a:xfrm>
            <a:off x="468360" y="1628640"/>
            <a:ext cx="4019400" cy="4029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23424335_1208965588_Physician_and_Chemist_Dr_John_Stith_Pemberton_c1865"/>
          <p:cNvPicPr/>
          <p:nvPr/>
        </p:nvPicPr>
        <p:blipFill>
          <a:blip r:embed="rId2"/>
          <a:stretch/>
        </p:blipFill>
        <p:spPr>
          <a:xfrm>
            <a:off x="4716360" y="1413000"/>
            <a:ext cx="3668760" cy="4608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2"/>
          <p:cNvSpPr/>
          <p:nvPr/>
        </p:nvSpPr>
        <p:spPr>
          <a:xfrm>
            <a:off x="5211720" y="6093000"/>
            <a:ext cx="39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жон Стис Пембер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НОУ-ХАУ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brain"/>
          <p:cNvPicPr/>
          <p:nvPr/>
        </p:nvPicPr>
        <p:blipFill>
          <a:blip r:embed="rId1"/>
          <a:stretch/>
        </p:blipFill>
        <p:spPr>
          <a:xfrm>
            <a:off x="611280" y="1700280"/>
            <a:ext cx="3112920" cy="3529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3851280" y="1700280"/>
            <a:ext cx="504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4284720" y="1700280"/>
            <a:ext cx="410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3924360" y="2152800"/>
            <a:ext cx="1100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3780000" y="1647720"/>
            <a:ext cx="55036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у-хау в дословном словосочетании означ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знать, как это сделать», например, к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ладить производство какого-ли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ду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ли выполнить какую-либо работу, оказать услугу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204360" y="-2446200"/>
            <a:ext cx="863640" cy="43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Organization Chart 5"/>
          <p:cNvGrpSpPr/>
          <p:nvPr/>
        </p:nvGrpSpPr>
        <p:grpSpPr>
          <a:xfrm>
            <a:off x="539640" y="981000"/>
            <a:ext cx="8228520" cy="5143680"/>
            <a:chOff x="539640" y="981000"/>
            <a:chExt cx="8228520" cy="5143680"/>
          </a:xfrm>
        </p:grpSpPr>
        <p:cxnSp>
          <p:nvCxnSpPr>
            <p:cNvPr id="77" name="_s1028"/>
            <p:cNvCxnSpPr>
              <a:stCxn id="78" idx="0"/>
              <a:endCxn id="79" idx="2"/>
            </p:cNvCxnSpPr>
            <p:nvPr/>
          </p:nvCxnSpPr>
          <p:spPr>
            <a:xfrm flipV="1" rot="16200000">
              <a:off x="5246640" y="2444040"/>
              <a:ext cx="1028880" cy="2216160"/>
            </a:xfrm>
            <a:prstGeom prst="bentConnector3">
              <a:avLst>
                <a:gd name="adj1" fmla="val 126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" name="_s1029"/>
            <p:cNvCxnSpPr>
              <a:stCxn id="81" idx="0"/>
              <a:endCxn id="79" idx="2"/>
            </p:cNvCxnSpPr>
            <p:nvPr/>
          </p:nvCxnSpPr>
          <p:spPr>
            <a:xfrm flipH="1" flipV="1" rot="5400000">
              <a:off x="3031200" y="2444760"/>
              <a:ext cx="1028880" cy="2215440"/>
            </a:xfrm>
            <a:prstGeom prst="bentConnector3">
              <a:avLst>
                <a:gd name="adj1" fmla="val 126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9" name="_s1030"/>
            <p:cNvSpPr/>
            <p:nvPr/>
          </p:nvSpPr>
          <p:spPr>
            <a:xfrm>
              <a:off x="2754360" y="981000"/>
              <a:ext cx="3797640" cy="2057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нтеллектуаль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обствен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031"/>
            <p:cNvSpPr/>
            <p:nvPr/>
          </p:nvSpPr>
          <p:spPr>
            <a:xfrm>
              <a:off x="539640" y="4067280"/>
              <a:ext cx="3797640" cy="2057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ромышлен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обствен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32"/>
            <p:cNvSpPr/>
            <p:nvPr/>
          </p:nvSpPr>
          <p:spPr>
            <a:xfrm>
              <a:off x="4970520" y="4067280"/>
              <a:ext cx="3797640" cy="2057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авторское, смежно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ра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Text Box 15"/>
          <p:cNvSpPr/>
          <p:nvPr/>
        </p:nvSpPr>
        <p:spPr>
          <a:xfrm>
            <a:off x="0" y="208080"/>
            <a:ext cx="1280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883 году была принята знаменитая Парижская конвенция по охр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мышленной собствен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56720" y="-4898880"/>
            <a:ext cx="432000" cy="114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Diagram 5"/>
          <p:cNvGrpSpPr/>
          <p:nvPr/>
        </p:nvGrpSpPr>
        <p:grpSpPr>
          <a:xfrm>
            <a:off x="1442160" y="163440"/>
            <a:ext cx="7024320" cy="6530400"/>
            <a:chOff x="1442160" y="163440"/>
            <a:chExt cx="7024320" cy="6530400"/>
          </a:xfrm>
        </p:grpSpPr>
        <p:sp>
          <p:nvSpPr>
            <p:cNvPr id="85" name="_s2052"/>
            <p:cNvSpPr/>
            <p:nvPr/>
          </p:nvSpPr>
          <p:spPr>
            <a:xfrm flipH="1" flipV="1">
              <a:off x="3259080" y="2611440"/>
              <a:ext cx="850680" cy="41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2053"/>
            <p:cNvSpPr/>
            <p:nvPr/>
          </p:nvSpPr>
          <p:spPr>
            <a:xfrm>
              <a:off x="1442160" y="1390320"/>
              <a:ext cx="1952280" cy="1633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фирмен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наимен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2054"/>
            <p:cNvSpPr/>
            <p:nvPr/>
          </p:nvSpPr>
          <p:spPr>
            <a:xfrm flipH="1">
              <a:off x="3261600" y="3836520"/>
              <a:ext cx="85068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2055"/>
            <p:cNvSpPr/>
            <p:nvPr/>
          </p:nvSpPr>
          <p:spPr>
            <a:xfrm>
              <a:off x="1444680" y="3838680"/>
              <a:ext cx="1952280" cy="1633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Знак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обслуживани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2056"/>
            <p:cNvSpPr/>
            <p:nvPr/>
          </p:nvSpPr>
          <p:spPr>
            <a:xfrm>
              <a:off x="4955400" y="4240440"/>
              <a:ext cx="0" cy="82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2057"/>
            <p:cNvSpPr/>
            <p:nvPr/>
          </p:nvSpPr>
          <p:spPr>
            <a:xfrm>
              <a:off x="3981240" y="5060880"/>
              <a:ext cx="1952280" cy="1632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товарные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знак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2058"/>
            <p:cNvSpPr/>
            <p:nvPr/>
          </p:nvSpPr>
          <p:spPr>
            <a:xfrm>
              <a:off x="5795280" y="3834360"/>
              <a:ext cx="850680" cy="40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2059"/>
            <p:cNvSpPr/>
            <p:nvPr/>
          </p:nvSpPr>
          <p:spPr>
            <a:xfrm>
              <a:off x="6513840" y="3836520"/>
              <a:ext cx="1952640" cy="1632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промышленные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образцы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2060"/>
            <p:cNvSpPr/>
            <p:nvPr/>
          </p:nvSpPr>
          <p:spPr>
            <a:xfrm flipV="1">
              <a:off x="5795280" y="2609640"/>
              <a:ext cx="84816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2061"/>
            <p:cNvSpPr/>
            <p:nvPr/>
          </p:nvSpPr>
          <p:spPr>
            <a:xfrm>
              <a:off x="6513840" y="1387800"/>
              <a:ext cx="1952640" cy="1632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полезные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модел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062"/>
            <p:cNvSpPr/>
            <p:nvPr/>
          </p:nvSpPr>
          <p:spPr>
            <a:xfrm flipV="1">
              <a:off x="4952880" y="1794240"/>
              <a:ext cx="0" cy="82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063"/>
            <p:cNvSpPr/>
            <p:nvPr/>
          </p:nvSpPr>
          <p:spPr>
            <a:xfrm>
              <a:off x="3978000" y="163440"/>
              <a:ext cx="1952280" cy="1633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изобретени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2064"/>
            <p:cNvSpPr/>
            <p:nvPr/>
          </p:nvSpPr>
          <p:spPr>
            <a:xfrm>
              <a:off x="3978000" y="2614680"/>
              <a:ext cx="1952280" cy="1632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Объекты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промышленной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собственност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5:39:53Z</dcterms:created>
  <dc:creator>user5</dc:creator>
  <dc:description/>
  <dc:language>en-US</dc:language>
  <cp:lastModifiedBy>user</cp:lastModifiedBy>
  <dcterms:modified xsi:type="dcterms:W3CDTF">2011-03-11T17:27:12Z</dcterms:modified>
  <cp:revision>6</cp:revision>
  <dc:subject/>
  <dc:title>Интеллектуальная собственность – что это?</dc:title>
</cp:coreProperties>
</file>