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applause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986-1A45-45A7-9FDD-1B5BF4FB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A2F-0BAC-4CB2-AC90-8D6602C3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8DF-32CD-4D41-9A5E-5689B387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D7E-2B58-4236-9D8D-A2917D83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39B-7394-491D-851D-4A08E453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F5F7-2F5B-4D87-BF45-456E7C2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8A82-4C89-465C-BC1F-09DE4183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A87-7366-49FC-A8A0-AE209324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0ED4-4BF7-473A-BAA5-18825FC8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671-3686-465E-B3AB-CA2B20A1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37EB-54F9-44B7-A370-0030069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3E5-0EEE-4EED-A239-F99F9F9F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C8A8-970E-41B7-A737-37311E9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B2C8-26C4-4899-BB9D-2BF81C7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D92D-5A29-4AB6-A777-C69301A2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A6C6-F41A-43C3-BB72-9A4B947B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1D2D-4B13-4611-977E-59D6A6E2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F2CB-8C67-4C13-9891-B2A9DAA8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5EDC-1F57-4512-9372-D305A330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2D37-4C32-4320-850D-13C50135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EA56-E6E3-41B4-9DC9-38E7845A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5FD6-992C-4ACC-8593-BF48E84C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7EA-7220-4090-91E2-8422FA87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3041-9EAF-42E0-A6DA-2CD70BB3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3DE0-5263-480B-851F-192B0D3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37EE-C016-45C1-B470-D9A2CD71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65AE-8EE1-44B9-9DCC-533A704F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EBE7C-188A-4818-9014-56FA18BA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0113-9E88-4635-BDFC-CEC920D4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CA72-CC9D-4A7C-A8B0-DB623465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7C28-81B5-4134-A002-03677C9B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3759-F938-49DE-9AB4-22F7FEC6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441A-6AA0-4BA0-92E1-708CD316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262-1206-4C0E-A051-5FE4858C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9C3D-6DE4-4B9F-88DD-9AEE1D2A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7624-66E7-4E90-B544-C4D99292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B7C1D-C203-4B6F-B2FA-39E30E48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CB32C-5791-43A3-9B60-D08DC093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5BD2-90C6-48F9-B6CD-9AA17443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4549-2A33-4518-A30A-A820B78E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6DA2-680C-4F22-8FA9-9688320E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7A06-C11B-4E14-A2ED-D05A45BD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82EE-5737-485F-8FE3-CC156977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CDBE-7F64-45D7-BF66-63E8BF0D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8F3-9B26-4FE2-B7C9-204EB661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D7A49-B50E-4147-B315-ED732DEA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DBD44-AB62-4BFD-9B78-416A649A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3504-4EE8-4DAA-A213-2BD0B87E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C26A-0BFD-4B77-9830-FB3287A9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17ABC-6327-42AC-A5C7-086E066A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86472-B706-42A1-BF0B-74AD5E8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9D45A-7593-459B-9DA5-1F5EBFA5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F474-7810-4529-9C70-45CC4B7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9839-5235-4E6B-AE01-E39A813A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16DD-CB85-4129-943F-F11A0BCC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F7A-0F13-4AB6-BDD6-481814D6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F0F8-EC9C-4A63-BBF0-63016444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7E05-2580-4EC7-A3B7-A959A3D7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DD34-A5DC-4C3D-9D7C-73F7973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71ACD-5D79-4439-9A88-55223EC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10A0F-3D26-4BA9-AAD6-4C3C7AB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BE54C-0C39-43BC-846A-028AB52C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6B6AF-922A-4FAD-8A3B-58F9E3AC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43A06-F1BD-4C21-AEE6-FC00499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2281-F363-4918-8EC9-945BB3E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5046E-E3DF-49DA-8052-836E069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AE8-9FF3-4A81-8CBD-BEEB6618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078A-5669-4C82-A4A3-2E06289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F775-79BF-46B9-B384-40682EE1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356B-B2E7-46EC-8D06-03128D7C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AE4-57C0-44CA-8B80-5AC8E69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239-C3A4-44BE-A07B-4413033A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316A-BA67-44B8-871E-79D1FB09DDD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8532-FD35-42B1-8160-469A8246D3D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8FF3-6AB8-48E8-8B8E-92461CB570F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BEE4-0131-442C-9ED2-3790A3262DF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F0DD-DA8E-4993-B5DE-76E355A9728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3761-387B-445F-B8AD-A7CFC3DADF5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49260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2233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258920" y="1125360"/>
            <a:ext cx="7129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нституция Р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5444640"/>
            <a:ext cx="8351640" cy="7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Berlin Sans FB"/>
              </a:rPr>
              <a:t>Безопасность полета зависит от вас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32360" y="404280"/>
            <a:ext cx="3765600" cy="551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команди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Президен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2-й пил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Правитель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корпу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федеративное устройство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ассажи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нар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бортпроводни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местное самоуправл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5" descr="D:\Безымянный.JPG"/>
          <p:cNvPicPr/>
          <p:nvPr/>
        </p:nvPicPr>
        <p:blipFill>
          <a:blip r:embed="rId1"/>
          <a:stretch/>
        </p:blipFill>
        <p:spPr>
          <a:xfrm>
            <a:off x="500040" y="1500120"/>
            <a:ext cx="4214880" cy="2894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br>
              <a:rPr sz="4600"/>
            </a:b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СТИТУЦИЯ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мократическая, справедливая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авливает, гарантирует,                       защищает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верждает правосудие.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</a:t>
            </a: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lackadder ITC"/>
              </a:rPr>
              <a:t>Конституция  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lackadder ITC"/>
              </a:rPr>
              <a:t>основно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lackadder ITC"/>
              </a:rPr>
              <a:t>закон стран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Я ТРЕБУЮ, ЧТОБЫ ГОСУДАРСТВО ЗАЩИТИЛО НЕ ТОЛЬКО МЕНЯ, НО И ДРУГИХ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Я ТРЕБУЮ, ЧТОБЫ ОНО ЗАЩИТИЛО СВОБОДУ – И МОЮ СОБСТВЕННУЮ, И ВСЕХ ОКРУЖАЮЩИХ ЛЮДЕЙ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Карл Поппер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642600"/>
            <a:ext cx="4890960" cy="4879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Конститу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(от латинского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onstitutio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- устанавливаю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8" descr="i[45]"/>
          <p:cNvPicPr/>
          <p:nvPr/>
        </p:nvPicPr>
        <p:blipFill>
          <a:blip r:embed="rId1"/>
          <a:stretch/>
        </p:blipFill>
        <p:spPr>
          <a:xfrm>
            <a:off x="6215040" y="1000080"/>
            <a:ext cx="252252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 u="sng">
                <a:solidFill>
                  <a:srgbClr val="ff0000"/>
                </a:solidFill>
                <a:uFillTx/>
                <a:latin typeface="Franklin Gothic Book"/>
              </a:rPr>
              <a:t>Историческая справ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256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aavi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Raav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Pristina"/>
              </a:rPr>
              <a:t>США, 178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Pristina"/>
              </a:rPr>
              <a:t>- Франция, 179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0000"/>
                </a:solidFill>
                <a:latin typeface="Pristina"/>
              </a:rPr>
              <a:t>- Польша, 179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i[28]"/>
          <p:cNvPicPr/>
          <p:nvPr/>
        </p:nvPicPr>
        <p:blipFill>
          <a:blip r:embed="rId1"/>
          <a:stretch/>
        </p:blipFill>
        <p:spPr>
          <a:xfrm>
            <a:off x="1763640" y="1484280"/>
            <a:ext cx="1309680" cy="1584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[42]"/>
          <p:cNvPicPr/>
          <p:nvPr/>
        </p:nvPicPr>
        <p:blipFill>
          <a:blip r:embed="rId2"/>
          <a:stretch/>
        </p:blipFill>
        <p:spPr>
          <a:xfrm>
            <a:off x="1763640" y="3141720"/>
            <a:ext cx="1224000" cy="1650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i[33]"/>
          <p:cNvPicPr/>
          <p:nvPr/>
        </p:nvPicPr>
        <p:blipFill>
          <a:blip r:embed="rId3"/>
          <a:stretch/>
        </p:blipFill>
        <p:spPr>
          <a:xfrm>
            <a:off x="1692360" y="5013360"/>
            <a:ext cx="131436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56800" y="3714480"/>
            <a:ext cx="7618680" cy="216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yrillicOld"/>
              </a:rPr>
              <a:t>Конституция Р Ф принята 12 декабря 1993 года всенародным голосованием. 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i[18]"/>
          <p:cNvPicPr/>
          <p:nvPr/>
        </p:nvPicPr>
        <p:blipFill>
          <a:blip r:embed="rId1"/>
          <a:stretch/>
        </p:blipFill>
        <p:spPr>
          <a:xfrm>
            <a:off x="3571920" y="285840"/>
            <a:ext cx="2357280" cy="279216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Franklin Gothic Book"/>
              </a:rPr>
              <a:t>Конституция РФ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основной закон стра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ядро правовой систе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имеет высшую юридическую си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возглавляет всю систему   нормативно-правовых ак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 имеет прямое действ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221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Главная цель – 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признание, соблюдение и защита прав гражда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3141360"/>
            <a:ext cx="83628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Закрепить и гарантировать фундаментальные права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порядочить государственную вла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Утвердить правосуд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Bodoni MT Condensed"/>
              </a:rPr>
              <a:t>Структура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yrillicOld"/>
              </a:rPr>
              <a:t>Состоит из преамбулы, основной части (раздел </a:t>
            </a:r>
            <a:r>
              <a:rPr b="1" lang="en-US" sz="4400" spc="-1" strike="noStrike">
                <a:solidFill>
                  <a:srgbClr val="ff0000"/>
                </a:solidFill>
                <a:latin typeface="CyrillicOld"/>
              </a:rPr>
              <a:t>I</a:t>
            </a:r>
            <a:r>
              <a:rPr b="1" lang="ru-RU" sz="4400" spc="-1" strike="noStrike">
                <a:solidFill>
                  <a:srgbClr val="ff0000"/>
                </a:solidFill>
                <a:latin typeface="CyrillicOld"/>
              </a:rPr>
              <a:t>), заключительных и переходных положений (раздел </a:t>
            </a:r>
            <a:r>
              <a:rPr b="1" lang="en-US" sz="4400" spc="-1" strike="noStrike">
                <a:solidFill>
                  <a:srgbClr val="ff0000"/>
                </a:solidFill>
                <a:latin typeface="CyrillicOld"/>
              </a:rPr>
              <a:t>II</a:t>
            </a:r>
            <a:r>
              <a:rPr b="1" lang="ru-RU" sz="4400" spc="-1" strike="noStrike">
                <a:solidFill>
                  <a:srgbClr val="ff0000"/>
                </a:solidFill>
                <a:latin typeface="CyrillicOl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  <p:sndAc>
      <p:stSnd>
        <p:snd r:embed="rId1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Основная часть составляет текст Конституции. Она включает 9 глав, 137 статей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Franklin Gothic Book"/>
              </a:rPr>
              <a:t>Заключительные и переходные положения содержат 9 часте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54:41Z</dcterms:created>
  <dc:creator>ангелина</dc:creator>
  <dc:description/>
  <dc:language>en-US</dc:language>
  <cp:lastModifiedBy>Admin</cp:lastModifiedBy>
  <dcterms:modified xsi:type="dcterms:W3CDTF">2009-04-18T13:32:26Z</dcterms:modified>
  <cp:revision>25</cp:revision>
  <dc:subject/>
  <dc:title> </dc:title>
</cp:coreProperties>
</file>