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drumroll.wav" ContentType="audio/x-wav"/>
  <Override PartName="/ppt/media/applause.wav" ContentType="audio/x-wav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ADD-1857-4CBC-A6A3-488A518B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BAF-EB93-4E54-B2A8-2A78997F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5D1-BF6E-4D51-8D16-D1C5CFED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79E6-7533-42D5-8D45-954DAB9E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007B-6F55-4688-A128-DD3750B7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78DB-F452-4B1B-ADFA-000C0E0C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C317-0A06-4006-926B-E2DB2DD8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25C5-73DA-4756-A125-420CD4FC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40BD-B331-4C16-A74E-EE11049A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7129-4093-44A7-84F7-9E98F0BD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7EAD-94A9-4FFF-AAD1-1818E463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A666-1802-4F66-9499-C4412453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F6FD-528D-42CF-BBCE-34268FA3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8551-0E77-463C-8012-2670284A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D397-2486-40A8-95FC-B2476510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F1E8-D446-4C76-88E8-5ABB1E3B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7789-0536-4EEF-AC6C-34B78E2D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0BCBD-5B7D-4D3E-9C71-56B982EA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27702-FBE2-4CE4-954C-526E0534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E17C6-84A2-4923-87D6-71598D79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8BF17-6B7E-4FEA-85BC-E0E583C3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AB640-3357-4762-BC6C-1D357B28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96D-578E-43E6-A949-942AC7AC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96CEA-B1A0-4428-8728-2E5E7C4C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033C3-D9CF-481F-92BC-15A76C58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E6D95-C785-4619-B48B-7C855E1B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75334-1D68-4550-8626-1BD167CD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0C6DC-CC20-4AEC-8F8D-C8B038B0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8EE35-2987-45A7-AFC2-DC9172AB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9D279-824D-4D3C-B920-E07CAB62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BA1A9-0C20-4547-A60D-3B4648E7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43D71-D398-4D95-9EAB-F5878783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445FD-258B-4A64-86E9-F4B128C8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A9B-ADC6-46AA-A4D0-49523B3C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77EE9-0C9B-44FF-BA47-A0D74991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AB1DC-2A9A-4726-ABEB-0496AF81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6D001-AEE6-4BB0-BA75-0C7215F4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1A26F-4C06-4453-96D6-D7FF639C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DAAC4-39D4-4778-B941-5E1B3F1F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23D94-4F3E-4F0D-9B65-48F1C901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8F594-B18B-4D77-A4F5-7D1AED8D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F98E9-98C0-411E-A7A7-99CA3FBB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A6906-14EC-4E2B-B59C-4C7D6E40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976EF-4B25-444E-9814-068D8A48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1B9-15B4-4A65-80CF-388CF9EC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D40D5-E19C-4A31-8E2A-229A8C84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C6553-A44C-4E6B-8E48-ECE77791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895A8-041E-4A9B-BCDC-1F937C54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876DB-267B-4B1E-9776-4E10176D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5B949-3F7A-4691-9044-3C3CA92A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FF456-986C-422A-A967-57974BC0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4127E-C246-44AB-AE1F-C394271D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B185C-6791-494F-97A1-DC96D8AD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4B522-DDDE-4A90-9893-4DEDA42C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E9924-549C-48EE-A4B8-DFC31668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22D-DA7B-4ECD-ADBD-D8BE9DC5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AA54B-B685-447B-BFE8-AAB813E7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EECD3-437B-413E-9D0D-B8FA4BE8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4040F-246F-4E1F-AC43-264F8D27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647D6-4102-4A62-9EF4-850EB59D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706BA-D91F-46D8-81E8-5EEF564E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9FB81-2AD8-4A1A-B9D2-641713BE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1CEE8-9AC1-47D8-AAE9-1363232A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162B4-2231-4964-A783-3D81F89E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7C66A-1730-47A7-859D-F22983EB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33F61-080E-446B-AA01-3CCA1023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60B-80AB-4ACD-8112-CA0A0F47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EA985-C7A5-41EB-BAAB-8332F07E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4DE6F-B840-408E-BCAA-999AA5FC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0DFA7-D9BC-41B7-95BC-086199B9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A35-7498-4CF2-BC2C-721E85E8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ABF-6655-437F-B598-E5229B08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A2B9-4C5F-4927-9EC2-934C4BD1428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F67B-228D-462F-B642-C7E9B45B97A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AB7B-6582-4A4C-8962-35E162CBD61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95EB-FCD0-4248-A067-FC2AF3568D9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6299-834F-4199-A36E-02D77BAF4AB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B8DF-0D4B-4C26-8694-1FA52B95BBC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420840" y="3333600"/>
            <a:ext cx="6492600" cy="2311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03280" y="1700280"/>
            <a:ext cx="6400800" cy="22334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258920" y="1125360"/>
            <a:ext cx="712944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онституция Р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slow">
    <p:newsflash/>
    <p:sndAc>
      <p:stSnd>
        <p:snd r:embed="rId2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5444640"/>
            <a:ext cx="8351640" cy="79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Berlin Sans FB"/>
              </a:rPr>
              <a:t>Безопасность полета зависит от вас!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932360" y="404280"/>
            <a:ext cx="3765600" cy="551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команди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i="1" lang="ru-RU" sz="3000" spc="-1" strike="noStrike">
                <a:solidFill>
                  <a:srgbClr val="ff0000"/>
                </a:solidFill>
                <a:latin typeface="Arial"/>
              </a:rPr>
              <a:t>Президен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2-й пил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i="1" lang="ru-RU" sz="3000" spc="-1" strike="noStrike">
                <a:solidFill>
                  <a:srgbClr val="ff0000"/>
                </a:solidFill>
                <a:latin typeface="Arial"/>
              </a:rPr>
              <a:t>Правительств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корпу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федеративное устройство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пассажир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i="1" lang="ru-RU" sz="3000" spc="-1" strike="noStrike">
                <a:solidFill>
                  <a:srgbClr val="ff0000"/>
                </a:solidFill>
                <a:latin typeface="Arial"/>
              </a:rPr>
              <a:t>нар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бортпроводни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i="1" lang="ru-RU" sz="3000" spc="-1" strike="noStrike">
                <a:solidFill>
                  <a:srgbClr val="ff0000"/>
                </a:solidFill>
                <a:latin typeface="Arial"/>
              </a:rPr>
              <a:t>местное самоуправл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5" descr="D:\Безымянный.JPG"/>
          <p:cNvPicPr/>
          <p:nvPr/>
        </p:nvPicPr>
        <p:blipFill>
          <a:blip r:embed="rId1"/>
          <a:stretch/>
        </p:blipFill>
        <p:spPr>
          <a:xfrm>
            <a:off x="500040" y="1500120"/>
            <a:ext cx="4214880" cy="2894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929800" cy="1214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br>
              <a:rPr sz="4600"/>
            </a:br>
            <a:r>
              <a:rPr b="0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</a:t>
            </a: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r>
              <a:rPr b="0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</a:t>
            </a:r>
            <a:br>
              <a:rPr sz="4600"/>
            </a:br>
            <a:br>
              <a:rPr sz="4600"/>
            </a:br>
            <a:r>
              <a:rPr b="0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br>
              <a:rPr sz="4600"/>
            </a:br>
            <a:br>
              <a:rPr sz="4600"/>
            </a:br>
            <a:r>
              <a:rPr b="0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СТИТУЦИЯ</a:t>
            </a:r>
            <a:br>
              <a:rPr sz="4600"/>
            </a:br>
            <a:r>
              <a:rPr b="0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мократическая, справедливая</a:t>
            </a:r>
            <a:br>
              <a:rPr sz="4600"/>
            </a:br>
            <a:r>
              <a:rPr b="0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навливает, гарантирует,                       защищает</a:t>
            </a:r>
            <a:br>
              <a:rPr sz="4600"/>
            </a:br>
            <a:r>
              <a:rPr b="0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тверждает правосудие.</a:t>
            </a:r>
            <a:br>
              <a:rPr sz="4600"/>
            </a:br>
            <a:r>
              <a:rPr b="0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br>
              <a:rPr sz="4600"/>
            </a:br>
            <a:r>
              <a:rPr b="0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ОН </a:t>
            </a: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dissolv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Blackadder ITC"/>
              </a:rPr>
              <a:t>Конституция  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Blackadder ITC"/>
              </a:rPr>
              <a:t>основной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Blackadder ITC"/>
              </a:rPr>
              <a:t>закон стран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Я ТРЕБУЮ, ЧТОБЫ ГОСУДАРСТВО ЗАЩИТИЛО НЕ ТОЛЬКО МЕНЯ, НО И ДРУГИХ.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Я ТРЕБУЮ, ЧТОБЫ ОНО ЗАЩИТИЛО СВОБОДУ – И МОЮ СОБСТВЕННУЮ, И ВСЕХ ОКРУЖАЮЩИХ ЛЮДЕЙ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Карл Поппер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dissolv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143000" y="642600"/>
            <a:ext cx="4890960" cy="48798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Конституц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(от латинского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onstitutio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- устанавливаю)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8" descr="i[45]"/>
          <p:cNvPicPr/>
          <p:nvPr/>
        </p:nvPicPr>
        <p:blipFill>
          <a:blip r:embed="rId1"/>
          <a:stretch/>
        </p:blipFill>
        <p:spPr>
          <a:xfrm>
            <a:off x="6215040" y="1000080"/>
            <a:ext cx="2522520" cy="435780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 u="sng">
                <a:solidFill>
                  <a:srgbClr val="ff0000"/>
                </a:solidFill>
                <a:uFillTx/>
                <a:latin typeface="Franklin Gothic Book"/>
              </a:rPr>
              <a:t>Историческая справ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92000" y="1341000"/>
            <a:ext cx="5256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aavi"/>
              </a:rPr>
              <a:t>       </a:t>
            </a:r>
            <a:r>
              <a:rPr b="0" lang="ru-RU" sz="4000" spc="-1" strike="noStrike">
                <a:solidFill>
                  <a:srgbClr val="ff0000"/>
                </a:solidFill>
                <a:latin typeface="Raavi"/>
              </a:rPr>
              <a:t>- </a:t>
            </a:r>
            <a:r>
              <a:rPr b="0" lang="ru-RU" sz="4000" spc="-1" strike="noStrike">
                <a:solidFill>
                  <a:srgbClr val="ff0000"/>
                </a:solidFill>
                <a:latin typeface="Pristina"/>
              </a:rPr>
              <a:t>США, 178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ff0000"/>
                </a:solidFill>
                <a:latin typeface="Pristina"/>
              </a:rPr>
              <a:t>- Франция, 179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ff0000"/>
                </a:solidFill>
                <a:latin typeface="Pristina"/>
              </a:rPr>
              <a:t>- Польша, 179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4" descr="i[28]"/>
          <p:cNvPicPr/>
          <p:nvPr/>
        </p:nvPicPr>
        <p:blipFill>
          <a:blip r:embed="rId1"/>
          <a:stretch/>
        </p:blipFill>
        <p:spPr>
          <a:xfrm>
            <a:off x="1763640" y="1484280"/>
            <a:ext cx="1309680" cy="1584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i[42]"/>
          <p:cNvPicPr/>
          <p:nvPr/>
        </p:nvPicPr>
        <p:blipFill>
          <a:blip r:embed="rId2"/>
          <a:stretch/>
        </p:blipFill>
        <p:spPr>
          <a:xfrm>
            <a:off x="1763640" y="3141720"/>
            <a:ext cx="1224000" cy="16509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i[33]"/>
          <p:cNvPicPr/>
          <p:nvPr/>
        </p:nvPicPr>
        <p:blipFill>
          <a:blip r:embed="rId3"/>
          <a:stretch/>
        </p:blipFill>
        <p:spPr>
          <a:xfrm>
            <a:off x="1692360" y="5013360"/>
            <a:ext cx="1314360" cy="16556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56800" y="3714480"/>
            <a:ext cx="7618680" cy="216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yrillicOld"/>
              </a:rPr>
              <a:t>Конституция Р Ф принята 12 декабря 1993 года всенародным голосованием. </a:t>
            </a: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6" name="Picture 4" descr="i[18]"/>
          <p:cNvPicPr/>
          <p:nvPr/>
        </p:nvPicPr>
        <p:blipFill>
          <a:blip r:embed="rId1"/>
          <a:stretch/>
        </p:blipFill>
        <p:spPr>
          <a:xfrm>
            <a:off x="3571920" y="285840"/>
            <a:ext cx="2357280" cy="2792160"/>
          </a:xfrm>
          <a:prstGeom prst="rect">
            <a:avLst/>
          </a:prstGeom>
          <a:ln w="0">
            <a:noFill/>
          </a:ln>
        </p:spPr>
      </p:pic>
    </p:spTree>
  </p:cSld>
  <p:transition>
    <p:diamond/>
    <p:sndAc>
      <p:stSnd>
        <p:snd r:embed="rId2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Franklin Gothic Book"/>
              </a:rPr>
              <a:t>Конституция РФ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 основной закон стран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 ядро правовой систе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 имеет высшую юридическую сил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 возглавляет всю систему   нормативно-правовых акт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 имеет прямое действ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7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221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Главная цель – </a:t>
            </a:r>
            <a:br>
              <a:rPr sz="4600"/>
            </a:b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признание, соблюдение и защита прав граждан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3141360"/>
            <a:ext cx="8362800" cy="29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Задач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Закрепить и гарантировать фундаментальные права челове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Упорядочить государственную влас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Утвердить правосуд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Bodoni MT Condensed"/>
              </a:rPr>
              <a:t>Структура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yrillicOld"/>
              </a:rPr>
              <a:t>Состоит из преамбулы, основной части (раздел </a:t>
            </a:r>
            <a:r>
              <a:rPr b="1" lang="en-US" sz="4400" spc="-1" strike="noStrike">
                <a:solidFill>
                  <a:srgbClr val="ff0000"/>
                </a:solidFill>
                <a:latin typeface="CyrillicOld"/>
              </a:rPr>
              <a:t>I</a:t>
            </a:r>
            <a:r>
              <a:rPr b="1" lang="ru-RU" sz="4400" spc="-1" strike="noStrike">
                <a:solidFill>
                  <a:srgbClr val="ff0000"/>
                </a:solidFill>
                <a:latin typeface="CyrillicOld"/>
              </a:rPr>
              <a:t>), заключительных и переходных положений (раздел </a:t>
            </a:r>
            <a:r>
              <a:rPr b="1" lang="en-US" sz="4400" spc="-1" strike="noStrike">
                <a:solidFill>
                  <a:srgbClr val="ff0000"/>
                </a:solidFill>
                <a:latin typeface="CyrillicOld"/>
              </a:rPr>
              <a:t>II</a:t>
            </a:r>
            <a:r>
              <a:rPr b="1" lang="ru-RU" sz="4400" spc="-1" strike="noStrike">
                <a:solidFill>
                  <a:srgbClr val="ff0000"/>
                </a:solidFill>
                <a:latin typeface="CyrillicOld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  <p:sndAc>
      <p:stSnd>
        <p:snd r:embed="rId1" name="chimes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Основная часть составляет текст Конституции. Она включает 9 глав, 137 статей.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Заключительные и переходные положения содержат 9 частей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54:41Z</dcterms:created>
  <dc:creator>ангелина</dc:creator>
  <dc:description/>
  <dc:language>en-US</dc:language>
  <cp:lastModifiedBy>Admin</cp:lastModifiedBy>
  <dcterms:modified xsi:type="dcterms:W3CDTF">2009-04-18T13:32:26Z</dcterms:modified>
  <cp:revision>25</cp:revision>
  <dc:subject/>
  <dc:title> </dc:title>
</cp:coreProperties>
</file>