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D42-325F-4FDC-B7C0-127E6388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918-5387-41E4-91BC-EBE3ADAC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FC5-8F51-4984-97E2-7A852740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DE6-DD87-45C8-BA39-3C144A3D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0D7F-A170-40E1-B5FF-AFFC7763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1530-BF60-4124-901D-2D079BBE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94A3-273E-49D4-8EDA-741DEC81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F661-AB52-4B33-B08B-892302AD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6C33-620B-4632-ABF5-7EDB55CC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EDF7-6EF9-4E65-8A36-4A157749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921C-37D8-44E0-BBAD-60B04DA7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47D-D12B-4B22-AF4A-E1808B7D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6876-A956-45B8-ACAA-3984A57F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AF0D-ADA8-4DF8-893B-EC4DD303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A8B8-0994-4D68-9BCB-278BAAEA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CE45-83D7-47D1-9CB0-7DEE6EBB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2A62-9D0C-426D-A4B1-07CA7E95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4266-9764-40BB-9E8E-A376489A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130-9639-4077-9A73-88BD5602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0D6-B33B-4CCF-9270-92ED76F2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4A7-99A7-4724-9C3D-31EF0228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AAF-66A3-47F3-AD50-D1DF5E29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32D-0303-4751-BF4F-16A9F969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874-15D9-4D43-8485-BDAFB6B7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8B98-BCDC-4514-84E0-4B731B8208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D7D7-6579-4E6A-B66E-7DD0DF8F3A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92360" y="2541600"/>
            <a:ext cx="5997600" cy="399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971640" y="260280"/>
            <a:ext cx="6497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адога - дорога жиз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3624120" cy="3243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716360" y="3860640"/>
            <a:ext cx="3810240" cy="2695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27640" y="1341360"/>
            <a:ext cx="439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конце мая 1942 года моряки Ладожской военной флотилии и водники Северо – Западного пароходства открыли новую навигацию. Перевозились: продовольствие, эвакуированные жители, солдаты и офице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308720" y="260280"/>
            <a:ext cx="151128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5681520" cy="3627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4360" y="4437000"/>
            <a:ext cx="80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августе 1942 года началась прокладка линии электропередачи. В конце октября началась подготовительная работа по сооружению трассы через Ладожское озеро, не только автомобильной дороги, но и свайно – ледовой железнодорожной перепра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5112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781520" cy="3286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96000" y="333360"/>
            <a:ext cx="3029040" cy="4572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" y="522936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наступлением зимы 1942 – 43 года до 30 марта  действовала ледовая трасса. Значение Ладоги велико, она спасла ленинградцам жизнь, позволила городу выстоять в кольце блока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5112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5111640" cy="3404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3313080" cy="1690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724360" y="54936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620640"/>
            <a:ext cx="3240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пальцы свои дышу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е обморозить б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нова к тебе спеш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Ладожским озе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Фары сквозь снег            гор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ветят в открытый 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сохшийся Ленингр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орочки хлебной жд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е повернуть ру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Что – то мне муторн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лизко совсем земл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у что ж ты, полутор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. Розембаум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15272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25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25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225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175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675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75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25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500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189000"/>
            <a:ext cx="84978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германской армии не хватило ресурсов наступать одновременно и на Ленинград, и на Москву, и тогда немцы избрали голод своим инструментом смерти. Захватчикам нельзя было отказать в образности. Никто еще не говорил о Дороге Жизни, но начальник оперативного отдела 18-й немецкой армиии Ферч записал в своем дневнике: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«Путь домой и из дома пусть станет для этих людей дорогой смерти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4249800" cy="2401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1222200" cy="696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076720" y="2924280"/>
            <a:ext cx="3889440" cy="271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411280" y="3284640"/>
            <a:ext cx="3240360" cy="21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076720" y="1484280"/>
            <a:ext cx="38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 сентября 1941 год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гитлеровцы захватили у истока Невы город Шлиссельбург, окружив Ленинград с суши.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Началась 871 – дневная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блокада Ленинграда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условиях единственной возможной дорогой, связывающей Ленинград с тылом, если не считать воздушный путь, была Ладо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73880" cy="633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5112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4896000" cy="3376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4149720"/>
            <a:ext cx="8569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возки возлагались на Ладожскую флотилию и Северо – Западное речное пароходство. 12 сентября 1941 года к причалам мыса Осиновец с восточного берега Ладожского озера пришли две баржи, доставив 626 тонн зерна и 116 тонн муки. Так начала действовать блокадная «артерия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Ленинграда, которую народ назвал ДОРОГОЙ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51128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6840720" cy="431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5084640"/>
            <a:ext cx="83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наступлением ледостава перевозки водным путем прекратились. Началась подготовка к строительству зимней дороги по льду Ладожского озера. 20 ноября спустился на лед конно – санный обоз, около 350 саней направились на восточный берег оз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5112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786200" cy="5184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19640" y="1557360"/>
            <a:ext cx="367344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2 ноября ушла за продовольствием колонна из 60 автомашин ГАЗ –АА. Лед был настолько хрупким, что двухтонный грузовик вез лишь 2030 мешка продовольств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, родилась, ставшая знаменитой ледовая трасса, которую именовали Военно – автомобильной дорогой № 101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51128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9280" y="260280"/>
            <a:ext cx="849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первых числах декабря лед окреп и машины ездили не опасаясь провала. Движение грузового автотранспорта не прекращалось практически ни на один день. Было доставлено 16 449 т грузов, что позволило с 25 декабря несколько увеличить хлебный па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753080" cy="3062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00720" y="2637000"/>
            <a:ext cx="4228920" cy="3867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79280" y="5734080"/>
            <a:ext cx="15112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404640"/>
            <a:ext cx="842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довая дорога работала до последней возможности. В середине апреля температура воздуха стала подниматься до +12-15 градусов и ледовый покров стал быстро разрушаться. На поверхности льда накапливалось большое количество воды. В течение целой недели с 15 по 21 апреля – машины шли по сплошной воде, местами глубиной до 45 см. Дальнейшее движение по льду стало опасным, и 21 апреля Ладожская ледовая трасса была официально закрыт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4392360" cy="2744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3961080" cy="3040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79280" y="5805360"/>
            <a:ext cx="151128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672000" cy="3611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43280" y="1989000"/>
            <a:ext cx="6121440" cy="3170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280" y="537372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смотря на приказ о закрытии трассы, рейсы по Ладоге продолжались до 24 апр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51128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7:00:22Z</dcterms:created>
  <dc:creator>Илья</dc:creator>
  <dc:description/>
  <dc:language>en-US</dc:language>
  <cp:lastModifiedBy>Илья</cp:lastModifiedBy>
  <dcterms:modified xsi:type="dcterms:W3CDTF">2011-03-26T18:17:45Z</dcterms:modified>
  <cp:revision>21</cp:revision>
  <dc:subject/>
  <dc:title>Слайд 1</dc:title>
</cp:coreProperties>
</file>