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FAE-FD69-4167-AF93-7A094165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429-9C7D-453F-AAAE-14D19189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44F-FFB2-47E6-8DAB-32A5032E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6F2-5862-4FE3-B334-942762DE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AFC3-F358-41E3-A576-8C2076B0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69B8-8E3D-41DE-98C3-C7F8EE14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7E8C-F0F8-4AC6-B839-8FC27F1D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A914-E819-4686-A559-A29F1656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315F-C94B-46F6-9893-7F2B807D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5D65-D424-4C67-9824-167644C4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6322-150B-46CA-886A-4DA2E7C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F4D-6703-49A1-9916-5AEB4D85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0C0E-4E7A-463B-9622-B2FC0415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1053-D3FE-48D8-9716-C6D7C457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FE6A-1F03-4B0E-A18F-23C220E8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C36A-215A-44B0-B67A-C1EA6CC9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A5C9-20CA-4A0E-9F89-A140A818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40B-B45A-4E0B-AF68-AA7E6EAE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2F8-E5F2-4908-B273-C8114210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C15-58C7-4A76-8928-9C62928D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9BA-EED6-48BF-97BF-AD9E438D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329-2C21-4AA8-8E18-7EAB6A13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D9D-E0EE-4948-9028-EE4F3205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F92-31C4-48BA-A339-11F5C9B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B3C1-20D8-47C7-BF33-B54C4D80DA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2FA0-228E-4558-AEC2-C62DA818DE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92360" y="2541600"/>
            <a:ext cx="5997600" cy="39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971640" y="260280"/>
            <a:ext cx="6497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адога - дорога жиз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3624120" cy="3243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16360" y="3860640"/>
            <a:ext cx="3810240" cy="2695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27640" y="1341360"/>
            <a:ext cx="43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онце мая 1942 года моряки Ладожской военной флотилии и водники Северо – Западного пароходства открыли новую навигацию. Перевозились: продовольствие, эвакуированные жители, солдаты и офице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308720" y="260280"/>
            <a:ext cx="151128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5681520" cy="3627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4360" y="443700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августе 1942 года началась прокладка линии электропередачи. В конце октября началась подготовительная работа по сооружению трассы через Ладожское озеро, не только автомобильной дороги, но и свайно – ледовой железнодорожной перепра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5112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781520" cy="3286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3029040" cy="457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522936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наступлением зимы 1942 – 43 года до 30 марта  действовала ледовая трасса. Значение Ладоги велико, она спасла ленинградцам жизнь, позволила городу выстоять в кольце блока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5112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5111640" cy="3404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3313080" cy="1690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24360" y="54936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620640"/>
            <a:ext cx="3240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пальцы свои дышу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 обморозить б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нова к тебе спеш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Ладожским озе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ары сквозь снег            гор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ветят в открытый 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сохшийся Ленин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орочки хлебной жд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 повернуть ру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Что – то мне муторн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лизко совсем земл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у что ж ты, полутор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. Розембаум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15272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25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25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25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175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675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75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25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500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89000"/>
            <a:ext cx="8497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германской армии не хватило ресурсов наступать одновременно и на Ленинград, и на Москву, и тогда немцы избрали голод своим инструментом смерти. Захватчикам нельзя было отказать в образности. Никто еще не говорил о Дороге Жизни, но начальник оперативного отдела 18-й немецкой армиии Ферч записал в своем дневнике: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«Путь домой и из дома пусть станет для этих людей дорогой смерт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4249800" cy="2401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1222200" cy="696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076720" y="2924280"/>
            <a:ext cx="3889440" cy="271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411280" y="3284640"/>
            <a:ext cx="3240360" cy="21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076720" y="1484280"/>
            <a:ext cx="38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 сентября 1941 год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гитлеровцы захватили у истока Невы город Шлиссельбург, окружив Ленинград с суши.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Началась 871 – дневная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блокада Ленинград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условиях единственной возможной дорогой, связывающей Ленинград с тылом, если не считать воздушный путь, была Лад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73880" cy="633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5112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4896000" cy="3376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4149720"/>
            <a:ext cx="8569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возки возлагались на Ладожскую флотилию и Северо – Западное речное пароходство. 12 сентября 1941 года к причалам мыса Осиновец с восточного берега Ладожского озера пришли две баржи, доставив 626 тонн зерна и 116 тонн муки. Так начала действовать блокадная «артерия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Ленинграда, которую народ назвал ДОРОГО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51128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6840720" cy="431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508464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наступлением ледостава перевозки водным путем прекратились. Началась подготовка к строительству зимней дороги по льду Ладожского озера. 20 ноября спустился на лед конно – санный обоз, около 350 саней направились на восточный берег оз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5112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786200" cy="5184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19640" y="1557360"/>
            <a:ext cx="367344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2 ноября ушла за продовольствием колонна из 60 автомашин ГАЗ –АА. Лед был настолько хрупким, что двухтонный грузовик вез лишь 2030 мешка продовольств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, родилась, ставшая знаменитой ледовая трасса, которую именовали Военно – автомобильной дорогой № 101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51128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260280"/>
            <a:ext cx="849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первых числах декабря лед окреп и машины ездили не опасаясь провала. Движение грузового автотранспорта не прекращалось практически ни на один день. Было доставлено 16 449 т грузов, что позволило с 25 декабря несколько увеличить хлебный па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753080" cy="3062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00720" y="2637000"/>
            <a:ext cx="4228920" cy="3867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79280" y="5734080"/>
            <a:ext cx="15112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404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04640"/>
            <a:ext cx="842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довая дорога работала до последней возможности. В середине апреля температура воздуха стала подниматься до +12-15 градусов и ледовый покров стал быстро разрушаться. На поверхности льда накапливалось большое количество воды. В течение целой недели с 15 по 21 апреля – машины шли по сплошной воде, местами глубиной до 45 см. Дальнейшее движение по льду стало опасным, и 21 апреля Ладожская ледовая трасса была официально закрыт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392360" cy="2744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3961080" cy="304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9280" y="5805360"/>
            <a:ext cx="151128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611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989000"/>
            <a:ext cx="6121440" cy="3170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537372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смотря на приказ о закрытии трассы, рейсы по Ладоге продолжались до 24 апр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1128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7:00:22Z</dcterms:created>
  <dc:creator>Илья</dc:creator>
  <dc:description/>
  <dc:language>en-US</dc:language>
  <cp:lastModifiedBy>Илья</cp:lastModifiedBy>
  <dcterms:modified xsi:type="dcterms:W3CDTF">2011-03-26T18:17:45Z</dcterms:modified>
  <cp:revision>21</cp:revision>
  <dc:subject/>
  <dc:title>Слайд 1</dc:title>
</cp:coreProperties>
</file>