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6C4-A275-48D8-B9C3-9D173323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C79-5D9E-4774-9313-3E5DFCA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414-7072-416D-845E-763CD952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635-30D8-4535-8A7C-2C3BAE2C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9AD7-BA84-4CD6-AE71-1658FD0E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655-24BA-4046-A975-CDB65D33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F3C-B9E6-4C36-B384-477CDA6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9C1D-C22D-4166-8C10-1E80738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C5F-FA41-44B4-9CEB-F994488F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8D2-2630-44DE-A424-F96C17D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31D-5915-4BED-B41B-1D601BD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1DB-6874-45BD-AFD8-C603A22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A1DD-35F7-40DB-9635-6958919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251C-7F41-4251-BA45-9B4057D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17A5-7657-4353-A1EC-BD7885A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C26-77C2-4C66-A385-824E2677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DCB-8CF8-450B-B930-4363D83C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0BD54-557C-4117-ADB9-E4517F55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87ABA-A156-470B-9203-990C1BAF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A0A89-D1EA-49F5-BDFD-32F8537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903BD-E5BA-4818-98F1-0BEC7F62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0491-5541-4F9C-BA51-5327E5B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8B0-3DC2-42AC-B2FE-0BDF624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AA4B6-69E4-4D3A-814B-B0905A47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47D30-1EBF-4C06-9BF2-00706E99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5E9F7-4DE5-48C5-8475-121105D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24C92-F479-4FA5-83A1-53F8861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6030-74E5-4B2E-8E04-519C439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E21A9-5D61-481A-9B28-A2BEA011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755C2-0B18-4791-A057-F4CC25CA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C993-2754-40EE-95DF-4A1AFED4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410D-C635-409E-9FE2-943116E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1443-DCC3-4D2C-B346-86E21F7B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84C-232D-44F6-83C5-00DE6C22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C2D0-0DD6-47BB-B814-190AE97A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E902-381B-413F-8394-535B1DE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E4BA-9044-4083-B925-506AF7F4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EE36-2B17-465E-8543-86D037F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00C6-D55B-4CAB-9B73-9732AFB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BFE4-4C13-44AD-B36C-DDC8AE6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87A0-EFB8-4A63-BE85-D953344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528C-35A7-4499-9D88-EFA0870A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087D-1994-49E1-89E9-56412888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73C5E-AE64-464E-BD3B-19C62AB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65F-A4C6-4B5A-8B9C-D9818CD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83CA-CE3A-420A-A8F3-1819B3E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9161-382D-4F77-8F0B-CC5F14FC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8B5D-1866-4857-BB3F-5ED09E9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1001-0FC7-405D-AA4E-6037370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0DDC-99F3-436B-9D92-DD6617EE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399C-04F0-4427-88EE-805C9AF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D34D-3739-4C67-AE0A-4D141F0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7F35-988F-40DF-B001-387D05A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1FB6-2B7B-436B-BE33-DA0B205D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F5B6-1D2D-4FCF-B9E7-1D4B93D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184-2EBE-4DF5-8386-F2D530C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C7360-8EF8-4A9B-B356-F63EB51B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28ECA-8A89-43BD-80FD-F5420D4C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9132-2B01-4F54-9CA7-3537C6F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C3F5-9801-4870-8B56-F590F26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D89E3-CDFB-4F50-B20B-6B488DD1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5454-0D90-45F7-AAED-02B216C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2DEC-B7AF-4370-936E-0A25E16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3E7D-BE37-484D-8528-C125204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A7B0-B2A9-47D8-9182-E64DA451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4A471-72D0-429A-9159-475C22A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975-4D43-4925-A2A8-1187041C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5049-9551-4BC2-8974-2A5B1C0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97140-CAD8-4559-8DB5-3BE2D0F6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85DD-B558-4066-AA11-C89C6EC4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A67-988D-40CB-AD13-2E7C38E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4D9-5757-44AC-AF72-91455D3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5AC1-44F4-4A91-AD97-A78E346200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2B8-F38D-491E-8AE8-E1626596F6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6DF-A4E1-40A7-8FAD-F2531743536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BC9F-6CD7-45BE-AE87-E359C528E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F72D-2001-4374-AA13-DA72CD839A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447-E167-41B4-96BF-913E810FEDC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7" descr="Other-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30492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aa8456"/>
                </a:solidFill>
                <a:latin typeface="Arial"/>
              </a:rPr>
              <a:t>Музыка и наука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257800" y="4630680"/>
            <a:ext cx="3886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Климчук Руслан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Б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 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класс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ОУ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Гимназия №1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аркова Г. Н. педагог дополнительного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бразова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971800" y="304920"/>
            <a:ext cx="2895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ОУДОД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ЦДТ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 г.Сыктывкар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ходя из задач и целей данной работы, мы можем подвести итог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зыка, математика и физика связаны друг с другом и музыкальная информатика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вляется доказательством этой гипотез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писок использованной литератур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virartech.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лементарная теория музыки - И. В. Способи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habrahabr.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.А. Кузнецов - Акустика музыкальных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сем спасибо за вним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78 L 0 -0.53272 E">
                                      <p:cBhvr>
                                        <p:cTn id="236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3272 L 0 -1.12624 E">
                                      <p:cBhvr>
                                        <p:cTn id="240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0492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поставить музыку, математику и физику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ширение музыкального кругозо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304920" y="1752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казать связь музыки с математикой и физ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зыка имеет связь с математикой и физ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einst_fid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главл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1 Музыкальный зву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2 Музыка и математ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3 Музыка и ф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4 Практическая часть доказательств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(музыкальная информат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5 Список использованной литерату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7" descr="immortal_music"/>
          <p:cNvPicPr/>
          <p:nvPr/>
        </p:nvPicPr>
        <p:blipFill>
          <a:blip r:embed="rId1"/>
          <a:stretch/>
        </p:blipFill>
        <p:spPr>
          <a:xfrm>
            <a:off x="-228600" y="-304920"/>
            <a:ext cx="9677520" cy="7467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5640" y="2743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определённая высота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(от 16 до 4500 Гц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громкость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тембр</a:t>
            </a: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длительность</a:t>
            </a: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Garamond"/>
              </a:rPr>
              <a:t>Музыкальный зву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85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узыка и матема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Музыка есть таинственная арифметика души;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она вычисляет, сама того не сознавая.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еория гармонии Пифагор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3" name="Picture 8" descr="Пифагор4"/>
          <p:cNvPicPr/>
          <p:nvPr/>
        </p:nvPicPr>
        <p:blipFill>
          <a:blip r:embed="rId1"/>
          <a:stretch/>
        </p:blipFill>
        <p:spPr>
          <a:xfrm>
            <a:off x="457200" y="3048120"/>
            <a:ext cx="2919240" cy="349236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374" name="Picture 9" descr="Бах"/>
          <p:cNvPicPr/>
          <p:nvPr/>
        </p:nvPicPr>
        <p:blipFill>
          <a:blip r:embed="rId2"/>
          <a:stretch/>
        </p:blipFill>
        <p:spPr>
          <a:xfrm>
            <a:off x="5791320" y="3048120"/>
            <a:ext cx="2906640" cy="3528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375" name="Rectangle 11"/>
          <p:cNvSpPr/>
          <p:nvPr/>
        </p:nvSpPr>
        <p:spPr>
          <a:xfrm>
            <a:off x="5105520" y="1905120"/>
            <a:ext cx="37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Готфрид Лейбни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75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узыка и физ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корость (340—344 м/с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вуковое   давлени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енерация звук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ровни звукового давления от различных источник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33cc33"/>
                </a:solidFill>
                <a:latin typeface="Verdana"/>
              </a:rPr>
              <a:t>10 дБ — 2×10−5 Па — почти не слышно (порог слышимости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66ff33"/>
                </a:solidFill>
                <a:latin typeface="Verdana"/>
              </a:rPr>
              <a:t>60 дБ — шумно 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85 дБ — очень шум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120 дБ — почти невыносимо </a:t>
            </a:r>
            <a:br>
              <a:rPr sz="2800"/>
            </a:b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(порог болевого ощущения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150 дБ — контузия, травмы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00 дБ SPL — ударная волна давлением 0,2 МПа, возможна смер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4" descr="violin"/>
          <p:cNvPicPr/>
          <p:nvPr/>
        </p:nvPicPr>
        <p:blipFill>
          <a:blip r:embed="rId1"/>
          <a:stretch/>
        </p:blipFill>
        <p:spPr>
          <a:xfrm>
            <a:off x="-1143000" y="-1676520"/>
            <a:ext cx="12877920" cy="9658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Музыкальная информатика ― новая научная дисциплина, находящаяся с внешней стороны классической теории музыкальной науки, которая является её фундаментом и организующим ядро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рактическая часть доказательств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8T17:18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