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4F4-A117-4CE8-9C2D-53340836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DF9-DCB9-4FE4-94DA-B89E9BD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177-36EC-4133-BDC6-8598E9BD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2AA-1EE1-42F5-9B29-A4B091CE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50A-5178-4A79-95E3-7B61101C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4CB1-14EA-4721-B269-FACA583B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47FF-1494-4786-ABAB-C4C9A473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34C0-ACB5-472F-A299-32D53696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F1F8-E754-46DB-86EB-F5DF0B3B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76A2-D658-42DE-8820-E8670DCE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4C14-BDDB-4E8F-AE0B-29EB248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D24-7503-4455-8B04-0DF739A3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BB13-B304-4EEA-AA31-E6EFA4A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3F8E-EC97-4D5A-9C79-AF66DA86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0EEC-04B3-498D-B48E-519B5DD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393C-61B6-4E95-BAB8-684A6AD0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D221-638A-4665-B48C-576BB2B6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11094-E979-415B-BCCA-889E37AA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9C270-45F6-4FFC-925F-559D060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30EF6-DDED-41D7-BDC3-D6550EB2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FBCA1-DA72-45B1-AD09-C1A96BC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8D9F9-0496-45F3-9AA8-CEB2D04B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E3C-CDA2-4BFA-B71F-EF539941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1F817-EB80-44CF-A1EE-0DDC2B58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DAB02-3A9A-4765-ACB5-BEE37F0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5098C-9A96-4E9C-B39C-C3CD4D3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C5503-4E2D-42A8-BE1E-A783136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23BF9-F03B-439F-B60B-43F05A39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67984-BAF0-4C03-B615-E71C09E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BA685-42F7-441E-A8B4-5D1D7A4E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560D-597E-4C23-9B8A-080F4A06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7A0D-D159-4906-8C75-380848E6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E22F-181F-461C-BB33-6F61A8A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F90-37B4-4FD0-9938-E16A99EF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498F-3FBF-4407-BEEE-A3B8B559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E273-5C3C-4657-8EF9-D193327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2F14-D641-41AE-BBC4-36863621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C1A7B-7BF2-43E9-A9B0-7BBDDC2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C035-16C6-4D36-AAD0-9288D31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04EC-BA02-48BE-BE7D-5B7C7A1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64BD6-EFCF-49E7-8B31-CB25F2C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0E44-4A0E-471C-88E6-B4302C40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D67A-E88A-4289-9FEA-E42F7D0D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91E8-E4B0-4DBC-8EAF-ECE966F7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D47-CE6A-4FDA-9E1A-FC02810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82E8-CA7B-4829-8188-918919F1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3C3E-8DDF-421D-9DAA-33AC4708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9D5C6-1099-4E35-81B1-4364385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1013-94BB-4A52-AD48-7BF7B6E8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7E37-3B08-4339-AC0B-C9DCDB55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38A7-C15B-4BDB-825C-A0BCDF9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AFDB-04FD-4AED-A63C-7CCE9467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48DF-A6B2-4CC8-899A-BAFC4AA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D1DE-CA37-45F3-A24D-B732217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27E3-ECDC-4B2B-8FF4-3CBD59C9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B95-E196-43B6-B8B7-103F6C3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7D97-6692-4DF5-9FB3-0DCD5B36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CC792-8703-4DED-9613-F6992E2F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2361-F9B1-4023-9AB0-5A6B38BD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007CB-FC5D-4464-A29D-7145EA7D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5C57-933A-449C-8355-080791E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E732-7C5D-469C-9C0C-1CB07FC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D134-A112-48D9-85E6-6E0D354F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81B4-7099-4C78-AC73-F182F37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73110-2E15-4FF3-A433-CF40629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3E2E8-50D1-4573-A45A-EB5E8B48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448-D353-452E-A662-4058C4B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6B38-0D0E-4AA7-B22E-3593398A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20B3-9DE6-43A4-B20B-7F239BF8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6301-1E57-4D1D-A4E6-33EB148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908-4047-4411-AD12-DE474BE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E89-AA79-4867-B812-274F0400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C35E-9F5C-4B69-A63E-4EB21AB02D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0599-03A9-4D78-8044-9A0FE2EA1F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F93B-8CCF-4BB4-A37D-912239D73F6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AD1B-5861-4743-A677-2B6139FF94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C34-8E92-49F0-8578-4AA587507E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851B-CA65-4DEF-B5BF-BAA9F702672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7" descr="Other-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30492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aa8456"/>
                </a:solidFill>
                <a:latin typeface="Arial"/>
              </a:rPr>
              <a:t>Музыка и наука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5257800" y="4630680"/>
            <a:ext cx="3886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Климчук Руслан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Б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 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класс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МОУ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Гимназия №1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Маркова Г. Н. педагог дополнительного</a:t>
            </a:r>
            <a:br>
              <a:rPr sz="2400"/>
            </a:b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бразова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971800" y="304920"/>
            <a:ext cx="2895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МОУДОД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ЦДТ</a:t>
            </a:r>
            <a:r>
              <a:rPr b="0" lang="en-US" sz="2400" spc="-1" strike="noStrike">
                <a:solidFill>
                  <a:srgbClr val="aa8456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 г.Сыктывкар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сходя из задач и целей данной работы, мы можем подвести итог: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узыка, математика и физика связаны друг с другом и музыкальная информатика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вляется доказательством этой гипотез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Список использованной литератур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http://virartech.r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лементарная теория музыки - И. В. Способи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http://habrahabr.r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.А. Кузнецов - Акустика музыкальных инструмен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сем спасибо за вним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578 L 0 -0.53272 E">
                                      <p:cBhvr>
                                        <p:cTn id="236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53272 L 0 -1.12624 E">
                                      <p:cBhvr>
                                        <p:cTn id="240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609480" y="4302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0492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поставить музыку, математику и физику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ширение музыкального кругозо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304920" y="1752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казать связь музыки с математикой и физ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узыка имеет связь с математикой и физ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einst_fid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главл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1 Музыкальный звук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2 Музыка и математ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3 Музыка и ф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4 Практическая часть доказательства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(музыкальная информат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5 Список использованной литератур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7" descr="immortal_music"/>
          <p:cNvPicPr/>
          <p:nvPr/>
        </p:nvPicPr>
        <p:blipFill>
          <a:blip r:embed="rId1"/>
          <a:stretch/>
        </p:blipFill>
        <p:spPr>
          <a:xfrm>
            <a:off x="-228600" y="-304920"/>
            <a:ext cx="9677520" cy="7467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5640" y="274320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определённая высота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(от 16 до 4500 Гц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громкость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тембр</a:t>
            </a:r>
            <a:r>
              <a:rPr b="1" lang="en-US" sz="3600" spc="-1" strike="noStrike">
                <a:solidFill>
                  <a:srgbClr val="006666"/>
                </a:solidFill>
                <a:latin typeface="Garamond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aramond"/>
              </a:rPr>
              <a:t>длительность</a:t>
            </a:r>
            <a:r>
              <a:rPr b="1" lang="ru-RU" sz="3600" spc="-1" strike="noStrike">
                <a:solidFill>
                  <a:srgbClr val="33cccc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Garamond"/>
              </a:rPr>
              <a:t>Музыкальный звук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85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узыка и математ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Музыка есть таинственная арифметика души;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она вычисляет, сама того не сознавая.</a:t>
            </a:r>
            <a:r>
              <a:rPr b="0" i="1" lang="en-US" sz="24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еория гармонии Пифагор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73" name="Picture 8" descr="Пифагор4"/>
          <p:cNvPicPr/>
          <p:nvPr/>
        </p:nvPicPr>
        <p:blipFill>
          <a:blip r:embed="rId1"/>
          <a:stretch/>
        </p:blipFill>
        <p:spPr>
          <a:xfrm>
            <a:off x="457200" y="3048120"/>
            <a:ext cx="2919240" cy="349236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pic>
        <p:nvPicPr>
          <p:cNvPr id="374" name="Picture 9" descr="Бах"/>
          <p:cNvPicPr/>
          <p:nvPr/>
        </p:nvPicPr>
        <p:blipFill>
          <a:blip r:embed="rId2"/>
          <a:stretch/>
        </p:blipFill>
        <p:spPr>
          <a:xfrm>
            <a:off x="5791320" y="3048120"/>
            <a:ext cx="2906640" cy="3528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375" name="Rectangle 11"/>
          <p:cNvSpPr/>
          <p:nvPr/>
        </p:nvSpPr>
        <p:spPr>
          <a:xfrm>
            <a:off x="5105520" y="1905120"/>
            <a:ext cx="37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Готфрид Лейбниц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75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узыка и физ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корость (340—344 м/с)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вуковое   давлени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Генерация звук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ровни звукового давления от различных источник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33cc33"/>
                </a:solidFill>
                <a:latin typeface="Verdana"/>
              </a:rPr>
              <a:t>10 дБ — 2×10−5 Па — почти не слышно (порог слышимости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66ff33"/>
                </a:solidFill>
                <a:latin typeface="Verdana"/>
              </a:rPr>
              <a:t>60 дБ — шумно 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85 дБ — очень шум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120 дБ — почти невыносимо </a:t>
            </a:r>
            <a:br>
              <a:rPr sz="2800"/>
            </a:b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(порог болевого ощущения)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150 дБ — контузия, травмы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00 дБ SPL — ударная волна давлением 0,2 МПа, возможна смерть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4" descr="violin"/>
          <p:cNvPicPr/>
          <p:nvPr/>
        </p:nvPicPr>
        <p:blipFill>
          <a:blip r:embed="rId1"/>
          <a:stretch/>
        </p:blipFill>
        <p:spPr>
          <a:xfrm>
            <a:off x="-1143000" y="-1676520"/>
            <a:ext cx="12877920" cy="9658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Музыкальная информатика ― новая научная дисциплина, находящаяся с внешней стороны классической теории музыкальной науки, которая является её фундаментом и организующим ядром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Практическая часть доказательств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8T17:18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