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9ED-E401-4902-8A74-719B482B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383-FAC1-4453-80C7-1695006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663-706D-4211-9C25-1AB4595F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565-25FB-4B35-92FF-81078F0D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7A5-B9D1-4A24-943A-D54740B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962-32C4-4DF5-B9D7-896CD181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E96-0E1E-4904-B013-298129A0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E4C-4AEA-4D6A-9CB4-27788E47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5C-0625-4376-BCED-F5113B1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7AC-ADB5-4C2D-B456-5575CB9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6A8-9EE8-4057-AEA4-4ABE955C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D60-58C5-46D7-A1D1-0E0C981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C5B-3803-4D35-88FD-161B60E09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46" TargetMode="External"/><Relationship Id="rId2" Type="http://schemas.openxmlformats.org/officeDocument/2006/relationships/hyperlink" Target="http://ru.wikipedia.org/wiki/&#1055;&#1086;&#1083;&#1090;&#1072;&#1074;&#1072;" TargetMode="External"/><Relationship Id="rId3" Type="http://schemas.openxmlformats.org/officeDocument/2006/relationships/hyperlink" Target="http://ru.wikipedia.org/wiki/1898" TargetMode="External"/><Relationship Id="rId4" Type="http://schemas.openxmlformats.org/officeDocument/2006/relationships/hyperlink" Target="http://ru.wikipedia.org/wiki/&#1050;&#1080;&#1089;&#1083;&#1086;&#1074;&#1086;&#1076;&#1089;&#1082;" TargetMode="External"/><Relationship Id="rId5" Type="http://schemas.openxmlformats.org/officeDocument/2006/relationships/hyperlink" Target="http://ru.wikipedia.org/wiki/&#1060;&#1072;&#1081;&#1083;:Nikolay_YAroshenko_Avtoportret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g-gallery.ru/image.php?img_id=27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561636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Николай Александрович Ярош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005000"/>
            <a:ext cx="7921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икола́й Алекса́ндрович Яроше́нко (1 (13) декабр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1846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Полтав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— 25 июня (7 июля)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1898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Monotype Corsiva"/>
                <a:hlinkClick r:id="rId4"/>
              </a:rPr>
              <a:t>Кисловодск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) — русский и украинский живописец и портрет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Автопортрет (189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89640" y="0"/>
            <a:ext cx="2754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6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Михаила Евграфовича Салтыкова-Щед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481shenkoN_PtSaltySchedKIS"/>
          <p:cNvPicPr/>
          <p:nvPr/>
        </p:nvPicPr>
        <p:blipFill>
          <a:blip r:embed="rId1"/>
          <a:stretch/>
        </p:blipFill>
        <p:spPr>
          <a:xfrm>
            <a:off x="179280" y="0"/>
            <a:ext cx="31003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4869000"/>
            <a:ext cx="4967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рестантский вагон в знаменитом полотне "Всюду жизнь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Всюду жизнь"/>
          <p:cNvPicPr/>
          <p:nvPr/>
        </p:nvPicPr>
        <p:blipFill>
          <a:blip r:embed="rId1"/>
          <a:stretch/>
        </p:blipFill>
        <p:spPr>
          <a:xfrm>
            <a:off x="324000" y="0"/>
            <a:ext cx="2363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612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24000" y="5300280"/>
            <a:ext cx="521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каче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На качелях"/>
          <p:cNvPicPr/>
          <p:nvPr/>
        </p:nvPicPr>
        <p:blipFill>
          <a:blip r:embed="rId1"/>
          <a:stretch/>
        </p:blipFill>
        <p:spPr>
          <a:xfrm>
            <a:off x="5533920" y="0"/>
            <a:ext cx="3610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95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вто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Ярошенко. Автопортрет. 1895"/>
          <p:cNvPicPr/>
          <p:nvPr/>
        </p:nvPicPr>
        <p:blipFill>
          <a:blip r:embed="rId1"/>
          <a:stretch/>
        </p:blipFill>
        <p:spPr>
          <a:xfrm>
            <a:off x="0" y="0"/>
            <a:ext cx="3745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мер Ярошенко в Кисловодске 25 июня (7 июля) 189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Кисловодск - ул. Ярошенко."/>
          <p:cNvPicPr/>
          <p:nvPr/>
        </p:nvPicPr>
        <p:blipFill>
          <a:blip r:embed="rId1"/>
          <a:stretch/>
        </p:blipFill>
        <p:spPr>
          <a:xfrm>
            <a:off x="2000160" y="0"/>
            <a:ext cx="514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3573360"/>
            <a:ext cx="766764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енный по образованию и по служб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878 вступил в число членов Товарищества передвижных художественных выстав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1885 году приобрёл в Кисловодске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ворческ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000" y="1483920"/>
            <a:ext cx="73645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иболее известные творения Н. А. Ярошенко — «Кочегар», «Заключённый», «Всюду жизнь», «Студент», «Сестра милосердия», «Курсистка», «Старое и молодое», «Причины неизвестны» и «Невский проспект ночью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йза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6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художника Ивана Николаевича Крам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Ярошенко. Портрет художника Ивана Николаевича Крамского. 1876"/>
          <p:cNvPicPr/>
          <p:nvPr/>
        </p:nvPicPr>
        <p:blipFill>
          <a:blip r:embed="rId1"/>
          <a:stretch/>
        </p:blipFill>
        <p:spPr>
          <a:xfrm>
            <a:off x="684360" y="0"/>
            <a:ext cx="40035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5373360"/>
            <a:ext cx="68407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чег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очегар"/>
          <p:cNvPicPr/>
          <p:nvPr/>
        </p:nvPicPr>
        <p:blipFill>
          <a:blip r:embed="rId1"/>
          <a:stretch/>
        </p:blipFill>
        <p:spPr>
          <a:xfrm>
            <a:off x="2268360" y="0"/>
            <a:ext cx="3686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79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рестьян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Ярошенко. Крестьянин. 1879"/>
          <p:cNvPicPr/>
          <p:nvPr/>
        </p:nvPicPr>
        <p:blipFill>
          <a:blip r:embed="rId1"/>
          <a:stretch/>
        </p:blipFill>
        <p:spPr>
          <a:xfrm>
            <a:off x="0" y="0"/>
            <a:ext cx="4389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9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ртрет художника Николая Николаевича 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Ярошенко. Портрет художника Николая Николаевича Ге. 1890"/>
          <p:cNvPicPr/>
          <p:nvPr/>
        </p:nvPicPr>
        <p:blipFill>
          <a:blip r:embed="rId1"/>
          <a:stretch/>
        </p:blipFill>
        <p:spPr>
          <a:xfrm>
            <a:off x="0" y="0"/>
            <a:ext cx="38131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0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92000" y="4581360"/>
            <a:ext cx="452124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рс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78120" y="2080800"/>
            <a:ext cx="86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abc2af"/>
                </a:solidFill>
                <a:latin typeface="Arial"/>
                <a:ea typeface="Arial"/>
              </a:rPr>
              <a:t>всего картин: 2350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-74520" y="1679400"/>
            <a:ext cx="7920" cy="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-74520" y="1679400"/>
            <a:ext cx="7920" cy="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Курсист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76280"/>
            <a:ext cx="2278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881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404928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начале 1881 года Н. Ярошенко закончил картину «Террорист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1520" y="3716280"/>
            <a:ext cx="29224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77px-JaroshenkoTerroristka"/>
          <p:cNvPicPr/>
          <p:nvPr/>
        </p:nvPicPr>
        <p:blipFill>
          <a:blip r:embed="rId1"/>
          <a:stretch/>
        </p:blipFill>
        <p:spPr>
          <a:xfrm>
            <a:off x="0" y="0"/>
            <a:ext cx="2257560" cy="35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73px-Nikolaj_Alexandrowitsch_Jaroschenko_003"/>
          <p:cNvPicPr/>
          <p:nvPr/>
        </p:nvPicPr>
        <p:blipFill>
          <a:blip r:embed="rId2"/>
          <a:stretch/>
        </p:blipFill>
        <p:spPr>
          <a:xfrm>
            <a:off x="7101000" y="0"/>
            <a:ext cx="204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8:30:24Z</dcterms:created>
  <dc:creator>Veta</dc:creator>
  <dc:description/>
  <dc:language>en-US</dc:language>
  <cp:lastModifiedBy>OEM</cp:lastModifiedBy>
  <dcterms:modified xsi:type="dcterms:W3CDTF">2011-11-30T07:36:38Z</dcterms:modified>
  <cp:revision>4</cp:revision>
  <dc:subject/>
  <dc:title>Николай Александрович Ярошенко</dc:title>
</cp:coreProperties>
</file>