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592-7196-4592-9ED6-4B28CB74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3D4-E030-4BA7-AD35-1895E9D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E89-CE94-4869-93A9-65DA2A8A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0D4-FBFA-4EEC-8B77-25828EF0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49B-F186-45C0-BA34-051E851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3DE-6F57-403B-B79E-832C484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B43-1607-44D5-A789-1A0656B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71C-A2F8-4AD7-8296-0F5DAF6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BF2-C616-446A-98F4-EB3E259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3A5-97BC-4258-9112-B19433B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0B6-0F7C-416F-9150-AD50C21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F90-8FD5-4B1F-AB8C-85C1B0F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ABE-B49A-49AA-86F2-1190C5266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46" TargetMode="External"/><Relationship Id="rId2" Type="http://schemas.openxmlformats.org/officeDocument/2006/relationships/hyperlink" Target="http://ru.wikipedia.org/wiki/&#1055;&#1086;&#1083;&#1090;&#1072;&#1074;&#1072;" TargetMode="External"/><Relationship Id="rId3" Type="http://schemas.openxmlformats.org/officeDocument/2006/relationships/hyperlink" Target="http://ru.wikipedia.org/wiki/1898" TargetMode="External"/><Relationship Id="rId4" Type="http://schemas.openxmlformats.org/officeDocument/2006/relationships/hyperlink" Target="http://ru.wikipedia.org/wiki/&#1050;&#1080;&#1089;&#1083;&#1086;&#1074;&#1086;&#1076;&#1089;&#1082;" TargetMode="External"/><Relationship Id="rId5" Type="http://schemas.openxmlformats.org/officeDocument/2006/relationships/hyperlink" Target="http://ru.wikipedia.org/wiki/&#1060;&#1072;&#1081;&#1083;:Nikolay_YAroshenko_Avtoportret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g-gallery.ru/image.php?img_id=276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61636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Николай Александрович Ярош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005000"/>
            <a:ext cx="7921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икола́й Алекса́ндрович Яроше́нко (1 (13) декабр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1846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Полтав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— 25 июня (7 июля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1898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4"/>
              </a:rPr>
              <a:t>Кисловодск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) — русский и украинский живописец и портрет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Автопортрет (189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89640" y="0"/>
            <a:ext cx="2754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6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 Михаила Евграфовича Салтыкова-Щед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481shenkoN_PtSaltySchedKIS"/>
          <p:cNvPicPr/>
          <p:nvPr/>
        </p:nvPicPr>
        <p:blipFill>
          <a:blip r:embed="rId1"/>
          <a:stretch/>
        </p:blipFill>
        <p:spPr>
          <a:xfrm>
            <a:off x="179280" y="0"/>
            <a:ext cx="31003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869000"/>
            <a:ext cx="4967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рестантский вагон в знаменитом полотне "Всюду жизн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Всюду жизнь"/>
          <p:cNvPicPr/>
          <p:nvPr/>
        </p:nvPicPr>
        <p:blipFill>
          <a:blip r:embed="rId1"/>
          <a:stretch/>
        </p:blipFill>
        <p:spPr>
          <a:xfrm>
            <a:off x="324000" y="0"/>
            <a:ext cx="2363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612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24000" y="5300280"/>
            <a:ext cx="5219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каче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На качелях"/>
          <p:cNvPicPr/>
          <p:nvPr/>
        </p:nvPicPr>
        <p:blipFill>
          <a:blip r:embed="rId1"/>
          <a:stretch/>
        </p:blipFill>
        <p:spPr>
          <a:xfrm>
            <a:off x="5533920" y="0"/>
            <a:ext cx="3610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95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вто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Ярошенко. Автопортрет. 1895"/>
          <p:cNvPicPr/>
          <p:nvPr/>
        </p:nvPicPr>
        <p:blipFill>
          <a:blip r:embed="rId1"/>
          <a:stretch/>
        </p:blipFill>
        <p:spPr>
          <a:xfrm>
            <a:off x="0" y="0"/>
            <a:ext cx="3745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мер Ярошенко в Кисловодске 25 июня (7 июля) 189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Кисловодск - ул. Ярошенко."/>
          <p:cNvPicPr/>
          <p:nvPr/>
        </p:nvPicPr>
        <p:blipFill>
          <a:blip r:embed="rId1"/>
          <a:stretch/>
        </p:blipFill>
        <p:spPr>
          <a:xfrm>
            <a:off x="2000160" y="0"/>
            <a:ext cx="514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3573360"/>
            <a:ext cx="766764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енный по образованию и по служб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878 вступил в число членов Товарищества передвижных художественных выста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885 году приобрёл в Кисловодске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ворческая дея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6000" y="1483920"/>
            <a:ext cx="736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иболее известные творения Н. А. Ярошенко — «Кочегар», «Заключённый», «Всюду жизнь», «Студент», «Сестра милосердия», «Курсистка», «Старое и молодое», «Причины неизвестны» и «Невский проспект ночью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йз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76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 художника Ивана Николаевича Крам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Ярошенко. Портрет художника Ивана Николаевича Крамского. 1876"/>
          <p:cNvPicPr/>
          <p:nvPr/>
        </p:nvPicPr>
        <p:blipFill>
          <a:blip r:embed="rId1"/>
          <a:stretch/>
        </p:blipFill>
        <p:spPr>
          <a:xfrm>
            <a:off x="684360" y="0"/>
            <a:ext cx="40035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7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5373360"/>
            <a:ext cx="68407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чег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очегар"/>
          <p:cNvPicPr/>
          <p:nvPr/>
        </p:nvPicPr>
        <p:blipFill>
          <a:blip r:embed="rId1"/>
          <a:stretch/>
        </p:blipFill>
        <p:spPr>
          <a:xfrm>
            <a:off x="2268360" y="0"/>
            <a:ext cx="3686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79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естьян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Ярошенко. Крестьянин. 1879"/>
          <p:cNvPicPr/>
          <p:nvPr/>
        </p:nvPicPr>
        <p:blipFill>
          <a:blip r:embed="rId1"/>
          <a:stretch/>
        </p:blipFill>
        <p:spPr>
          <a:xfrm>
            <a:off x="0" y="0"/>
            <a:ext cx="4389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90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 художника Николая Николаевича 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Ярошенко. Портрет художника Николая Николаевича Ге. 1890"/>
          <p:cNvPicPr/>
          <p:nvPr/>
        </p:nvPicPr>
        <p:blipFill>
          <a:blip r:embed="rId1"/>
          <a:stretch/>
        </p:blipFill>
        <p:spPr>
          <a:xfrm>
            <a:off x="0" y="0"/>
            <a:ext cx="3813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0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92000" y="4581360"/>
            <a:ext cx="452124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рс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78120" y="2080800"/>
            <a:ext cx="86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abc2af"/>
                </a:solidFill>
                <a:latin typeface="Arial"/>
                <a:ea typeface="Arial"/>
              </a:rPr>
              <a:t>всего картин: 2350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-74520" y="1679400"/>
            <a:ext cx="7920" cy="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-74520" y="1679400"/>
            <a:ext cx="7920" cy="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5" descr="Курсист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476280"/>
            <a:ext cx="2278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1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04928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начале 1881 года Н. Ярошенко закончил картину «Террорист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1520" y="3716280"/>
            <a:ext cx="2922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77px-JaroshenkoTerroristka"/>
          <p:cNvPicPr/>
          <p:nvPr/>
        </p:nvPicPr>
        <p:blipFill>
          <a:blip r:embed="rId1"/>
          <a:stretch/>
        </p:blipFill>
        <p:spPr>
          <a:xfrm>
            <a:off x="0" y="0"/>
            <a:ext cx="2257560" cy="35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73px-Nikolaj_Alexandrowitsch_Jaroschenko_003"/>
          <p:cNvPicPr/>
          <p:nvPr/>
        </p:nvPicPr>
        <p:blipFill>
          <a:blip r:embed="rId2"/>
          <a:stretch/>
        </p:blipFill>
        <p:spPr>
          <a:xfrm>
            <a:off x="7101000" y="0"/>
            <a:ext cx="204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30:24Z</dcterms:created>
  <dc:creator>Veta</dc:creator>
  <dc:description/>
  <dc:language>en-US</dc:language>
  <cp:lastModifiedBy>OEM</cp:lastModifiedBy>
  <dcterms:modified xsi:type="dcterms:W3CDTF">2011-11-30T07:36:38Z</dcterms:modified>
  <cp:revision>4</cp:revision>
  <dc:subject/>
  <dc:title>Николай Александрович Ярошенко</dc:title>
</cp:coreProperties>
</file>