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73F-A85E-44EC-AC14-6711D6B8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60C-33AA-4CBB-A85E-3572FF1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274-2628-40F9-A6A3-4DD84E1A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5A-B3EB-41CA-90A2-A7BD4136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639-FF08-4CCD-AACF-64405AD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4C8-2866-4726-BC91-EA3CDD15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1BE-1E81-49B3-88A6-B2BF364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5F8-0859-435F-AAF7-9F73A82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6F2-2920-49F6-B39D-C0996E7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9E5-0BFD-4CCA-98F2-9F6F1AC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6B9-9332-4C25-861E-93C30BE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764-AB1C-428D-8808-B26FE40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875-830B-4956-B238-3CC895C1F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760" y="258840"/>
            <a:ext cx="850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аборатор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: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«Плазмолиз и деплазмолиз в растительной клет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3440" y="1881360"/>
            <a:ext cx="826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ель работы: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зучить изменения, происходящие в клетке в зависимости от концентрации соли в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38120" y="4395960"/>
            <a:ext cx="826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лазмолиз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тделение пристеночного слоя цитоплазмы от твёрдой оболочки растительной 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560" y="1965240"/>
            <a:ext cx="9061200" cy="2774880"/>
          </a:xfrm>
          <a:prstGeom prst="rect">
            <a:avLst/>
          </a:prstGeom>
          <a:ln w="0">
            <a:noFill/>
          </a:ln>
        </p:spPr>
      </p:pic>
      <p:sp>
        <p:nvSpPr>
          <p:cNvPr id="46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4915080"/>
            <a:ext cx="302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Плазмоли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-34920" y="107460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029040" y="107460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122880" y="107460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96920" y="1447920"/>
            <a:ext cx="6558120" cy="4917960"/>
          </a:xfrm>
          <a:prstGeom prst="rect">
            <a:avLst/>
          </a:prstGeom>
          <a:ln w="0">
            <a:noFill/>
          </a:ln>
        </p:spPr>
      </p:pic>
      <p:sp>
        <p:nvSpPr>
          <p:cNvPr id="52" name="Рамка 5"/>
          <p:cNvSpPr/>
          <p:nvPr/>
        </p:nvSpPr>
        <p:spPr>
          <a:xfrm>
            <a:off x="244440" y="174600"/>
            <a:ext cx="8640720" cy="6508800"/>
          </a:xfrm>
          <a:custGeom>
            <a:avLst/>
            <a:gdLst>
              <a:gd name="textAreaLeft" fmla="*/ 30240 w 8640720"/>
              <a:gd name="textAreaRight" fmla="*/ 8610480 w 8640720"/>
              <a:gd name="textAreaTop" fmla="*/ 30240 h 6508800"/>
              <a:gd name="textAreaBottom" fmla="*/ 6478560 h 6508800"/>
            </a:gdLst>
            <a:ahLst/>
            <a:rect l="textAreaLeft" t="textAreaTop" r="textAreaRight" b="textAreaBottom"/>
            <a:pathLst>
              <a:path w="8640763" h="6508750">
                <a:moveTo>
                  <a:pt x="0" y="0"/>
                </a:moveTo>
                <a:lnTo>
                  <a:pt x="8640763" y="0"/>
                </a:lnTo>
                <a:lnTo>
                  <a:pt x="8640763" y="6508750"/>
                </a:lnTo>
                <a:lnTo>
                  <a:pt x="0" y="6508750"/>
                </a:lnTo>
                <a:close/>
                <a:moveTo>
                  <a:pt x="30461" y="30461"/>
                </a:moveTo>
                <a:lnTo>
                  <a:pt x="30461" y="6478289"/>
                </a:lnTo>
                <a:lnTo>
                  <a:pt x="8610302" y="6478289"/>
                </a:lnTo>
                <a:lnTo>
                  <a:pt x="8610302" y="30461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38120" y="41904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змолиз в клетках кожицы л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59080" y="952560"/>
            <a:ext cx="622908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4920" y="25884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ычное состоян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76360" y="927000"/>
            <a:ext cx="6191280" cy="5705640"/>
          </a:xfrm>
          <a:prstGeom prst="rect">
            <a:avLst/>
          </a:prstGeom>
          <a:ln w="0">
            <a:noFill/>
          </a:ln>
        </p:spPr>
      </p:pic>
      <p:sp>
        <p:nvSpPr>
          <p:cNvPr id="58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04920" y="25884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змол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73040" y="1722600"/>
            <a:ext cx="8137440" cy="3859200"/>
          </a:xfrm>
          <a:prstGeom prst="rect">
            <a:avLst/>
          </a:prstGeom>
          <a:ln w="0">
            <a:noFill/>
          </a:ln>
        </p:spPr>
      </p:pic>
      <p:sp>
        <p:nvSpPr>
          <p:cNvPr id="61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34920" y="86040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029040" y="86040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122880" y="86040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6320" y="30240"/>
            <a:ext cx="896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форм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образить в тетради схему плазмолиза и деплазмо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43040" y="1922400"/>
            <a:ext cx="7661160" cy="3013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93600" y="5045040"/>
            <a:ext cx="896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ъяснить механизм эт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писать вывод. (Каким свойством обладает клеточная мембран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-34920" y="133344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029040" y="133344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122880" y="133344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5:06:22Z</dcterms:created>
  <dc:creator>Елена</dc:creator>
  <dc:description/>
  <dc:language>en-US</dc:language>
  <cp:lastModifiedBy>Елена</cp:lastModifiedBy>
  <dcterms:modified xsi:type="dcterms:W3CDTF">2011-12-02T14:14:08Z</dcterms:modified>
  <cp:revision>12</cp:revision>
  <dc:subject/>
  <dc:title>Слайд 1</dc:title>
</cp:coreProperties>
</file>