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E0F-D388-4DE1-BFEF-4D581DB8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C24-1ADD-4690-80E4-D48947F4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0F9-9794-40B1-A482-F3B7A366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8E6-48FA-427D-BD95-02EADDD1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894-ECCE-435D-8CA3-DFA5AE80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79F-711B-431F-9C84-36EC6622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619-AD9E-4AD0-A21A-FB203DB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8FC-2B80-4C89-8CE1-55E73F1B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308-23D1-46BC-98C1-A217D59D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AE3-8B2B-4059-89A8-7931F0A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8D0-0A7F-4A3B-B8B6-F299530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6B0-4CFB-437F-9A7F-752BB78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B86-2898-4E69-B82F-412F48485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0760" y="258840"/>
            <a:ext cx="850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аборатор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: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«Плазмолиз и деплазмолиз в растительной клет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3440" y="1881360"/>
            <a:ext cx="826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ель работы: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зучить изменения, происходящие в клетке в зависимости от концентрации соли в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438120" y="4395960"/>
            <a:ext cx="826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Плазмолиз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отделение пристеночного слоя цитоплазмы от твёрдой оболочки растительной 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560" y="1965240"/>
            <a:ext cx="9061200" cy="2774880"/>
          </a:xfrm>
          <a:prstGeom prst="rect">
            <a:avLst/>
          </a:prstGeom>
          <a:ln w="0">
            <a:noFill/>
          </a:ln>
        </p:spPr>
      </p:pic>
      <p:sp>
        <p:nvSpPr>
          <p:cNvPr id="46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4915080"/>
            <a:ext cx="302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Arial"/>
              </a:rPr>
              <a:t>Плазмоли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-34920" y="107460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029040" y="107460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122880" y="107460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96920" y="1447920"/>
            <a:ext cx="6558120" cy="4917960"/>
          </a:xfrm>
          <a:prstGeom prst="rect">
            <a:avLst/>
          </a:prstGeom>
          <a:ln w="0">
            <a:noFill/>
          </a:ln>
        </p:spPr>
      </p:pic>
      <p:sp>
        <p:nvSpPr>
          <p:cNvPr id="52" name="Рамка 5"/>
          <p:cNvSpPr/>
          <p:nvPr/>
        </p:nvSpPr>
        <p:spPr>
          <a:xfrm>
            <a:off x="244440" y="174600"/>
            <a:ext cx="8640720" cy="6508800"/>
          </a:xfrm>
          <a:custGeom>
            <a:avLst/>
            <a:gdLst>
              <a:gd name="textAreaLeft" fmla="*/ 30240 w 8640720"/>
              <a:gd name="textAreaRight" fmla="*/ 8610480 w 8640720"/>
              <a:gd name="textAreaTop" fmla="*/ 30240 h 6508800"/>
              <a:gd name="textAreaBottom" fmla="*/ 6478560 h 6508800"/>
            </a:gdLst>
            <a:ahLst/>
            <a:rect l="textAreaLeft" t="textAreaTop" r="textAreaRight" b="textAreaBottom"/>
            <a:pathLst>
              <a:path w="8640763" h="6508750">
                <a:moveTo>
                  <a:pt x="0" y="0"/>
                </a:moveTo>
                <a:lnTo>
                  <a:pt x="8640763" y="0"/>
                </a:lnTo>
                <a:lnTo>
                  <a:pt x="8640763" y="6508750"/>
                </a:lnTo>
                <a:lnTo>
                  <a:pt x="0" y="6508750"/>
                </a:lnTo>
                <a:close/>
                <a:moveTo>
                  <a:pt x="30461" y="30461"/>
                </a:moveTo>
                <a:lnTo>
                  <a:pt x="30461" y="6478289"/>
                </a:lnTo>
                <a:lnTo>
                  <a:pt x="8610302" y="6478289"/>
                </a:lnTo>
                <a:lnTo>
                  <a:pt x="8610302" y="30461"/>
                </a:lnTo>
                <a:close/>
              </a:path>
            </a:pathLst>
          </a:custGeom>
          <a:solidFill>
            <a:srgbClr val="d9d9d9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438120" y="419040"/>
            <a:ext cx="82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змолиз в клетках кожицы л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59080" y="952560"/>
            <a:ext cx="622908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4920" y="25884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ычное состояние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76360" y="927000"/>
            <a:ext cx="6191280" cy="5705640"/>
          </a:xfrm>
          <a:prstGeom prst="rect">
            <a:avLst/>
          </a:prstGeom>
          <a:ln w="0">
            <a:noFill/>
          </a:ln>
        </p:spPr>
      </p:pic>
      <p:sp>
        <p:nvSpPr>
          <p:cNvPr id="58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04920" y="258840"/>
            <a:ext cx="85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змол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73040" y="1722600"/>
            <a:ext cx="8137440" cy="3859200"/>
          </a:xfrm>
          <a:prstGeom prst="rect">
            <a:avLst/>
          </a:prstGeom>
          <a:ln w="0">
            <a:noFill/>
          </a:ln>
        </p:spPr>
      </p:pic>
      <p:sp>
        <p:nvSpPr>
          <p:cNvPr id="61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34920" y="86040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029040" y="86040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6122880" y="86040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Рамка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9320 w 9144000"/>
              <a:gd name="textAreaRight" fmla="*/ 9094680 w 9144000"/>
              <a:gd name="textAreaTop" fmla="*/ 49320 h 6858000"/>
              <a:gd name="textAreaBottom" fmla="*/ 6808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49515" y="49515"/>
                </a:moveTo>
                <a:lnTo>
                  <a:pt x="49515" y="6808485"/>
                </a:lnTo>
                <a:lnTo>
                  <a:pt x="9094485" y="6808485"/>
                </a:lnTo>
                <a:lnTo>
                  <a:pt x="9094485" y="49515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6320" y="30240"/>
            <a:ext cx="896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форм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образить в тетради схему плазмолиза и деплазмо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43040" y="1922400"/>
            <a:ext cx="7661160" cy="3013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93600" y="5045040"/>
            <a:ext cx="896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ъяснить механизм эт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писать вывод. (Каким свойством обладает клеточная мембран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-34920" y="133344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029040" y="1333440"/>
            <a:ext cx="30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з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122880" y="1333440"/>
            <a:ext cx="30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отонический раств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5:06:22Z</dcterms:created>
  <dc:creator>Елена</dc:creator>
  <dc:description/>
  <dc:language>en-US</dc:language>
  <cp:lastModifiedBy>Елена</cp:lastModifiedBy>
  <dcterms:modified xsi:type="dcterms:W3CDTF">2011-12-02T14:14:08Z</dcterms:modified>
  <cp:revision>12</cp:revision>
  <dc:subject/>
  <dc:title>Слайд 1</dc:title>
</cp:coreProperties>
</file>