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2307-9A23-45B4-9EE8-C95D8CEF86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551-F2EA-4033-963B-5EB80AF6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7AB-7CC9-463A-8246-75B7C7DC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58E-1CCD-455C-83F2-CF97A273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D38-3B63-443C-9456-BC3FB535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A9B1-9451-4123-8358-9DE3A2D5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836F-B5CE-4913-BD4C-9416BAC5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7171-BD08-4CFD-AC4F-A6456557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09C3-D487-48A8-8E9A-8D0815D0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38D2-A3F8-4016-9D02-5DFD946C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A8FD-0829-435F-BA13-7A489432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CB84-C178-4521-9FF4-167338CB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68C-6B88-4A38-8817-58D1672E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2026-D915-4A7D-BD29-A0726924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E5DC-163A-46F4-962F-9BCE6253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DE31-10BB-43FE-9470-2548349B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FFE6-3A98-4D1D-A69D-912AD4D5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8920-0130-4CBE-98A8-8153A85A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634-4C71-4D53-9570-81DF94B3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E3F-8EF2-488E-8F89-A42A060F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34A6-3EA0-4A86-8EF1-9B23C7D0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42D-F2B3-4FF1-A947-96D76BE7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BB8-8CE1-455F-83A1-29BB711F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836-68E8-4719-8029-711CE93F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6CA-C91B-4709-84B0-34FABA63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1ADA-78EB-437B-87FF-BE169016B9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B3A5-BC2B-4F48-8DF2-95B18EF06EB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verbs and their equivalent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ject is done by the pupils of the 7 “A” 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8. Имангазиева 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Better be alone, than in bad compan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 добрым дружись, а лукавых сторонис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9. Казимирова К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etter to ask the way than to go astr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учше спросить дорогу, чем сбиться с пу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За спрос не бьют в нос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0. Кондрашов Д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etter to do well than to say we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ольше дела, меньше сл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1. Корень 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Birds of feather flock toge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а сапога па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2. Кузнецова 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Brevity is the soul of w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аткость – сестра талан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3. Лоскутов 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 bully is always a cowar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дира всегда труслив. (Молодец среди овец, а на молодца и сам овца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4. Мареева 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 busy bee has no time for sorro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удолюбивой пчёлке некогда грустить. (Не бывает скуки, коли заняты руки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15. Медвецкая В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on’t look a gift horse in the mou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реному коню в зубы не смотря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6. Мезенцева 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Don’t put the cart before the hor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ставь телегу впереди лошади. ( Нужно всё делать в правильном порядке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7. Оленёв 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n’t teach fishes to swi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учи рыбу плавать. (Не учи ученого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ery pupil was given a proverb for translating and illustra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pics for discuss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 do people use proverbs and phraseological expressions in their speec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expressions do you use more ofte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proverbs didn’t you know before this investiga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8. Павлова К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ven a worm will tur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же червяк на дыбы встан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Всякому терпению приходит конец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19. Таминдаров Д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Grasp all, lose 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 всё браться – ничего не сдел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0. Улитушкин 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aste makes was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скоро делать –переделыв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Поспешишь –людей насмешишь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1. Хромова К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nowledge is no burd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ния на плечи не давя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2. Яковлева О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itch your wagon to a st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лкай свою тележку к звездам. ( Стремись к лучшему, возвышенному и идеальном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вод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пословицах и поговорках собран многовековой опыт народа, его мудр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очные выражения помогают образно, наглядно и доступно проиллюстрировать свои мысли, сделать речь богаче и ярч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, the first proverb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. Бондарь С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After a storm comes a cal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ле бури наступает затишь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ысл. В жизни может все случиться, но надо надеяться на лучшее; после плохих, горестных дней придут хорошие, полные рад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Бондарева С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fter us the delu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ле нас хоть потоп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. Веселов 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nger is a short madnes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нев – это краткое сумасшеств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.Гаганова Ю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As the tree, so is the fru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ово дерево, таков и плод. (Яблоко от яблони недалеко падает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. Ермолина 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s you brew, so must you drin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заварил, то и должен пи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ысл. Человек должен нести ответственность за свои поступ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6. Ешигин 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void evil and it will avoid y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бегай зла и зло избежит теб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ысл. Не причиняй никому зла; относись к людям так, как хотел бы, чтобы к тебе относилис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. Иванова В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cchus has drowend more men than Neptu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хус утопил больше людей, чем Нептун.( В вине больше погибает, чем в море утопает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6:18:59Z</dcterms:created>
  <dc:creator>XP GAME 2007</dc:creator>
  <dc:description/>
  <dc:language>en-US</dc:language>
  <cp:lastModifiedBy>XP GAME 2007</cp:lastModifiedBy>
  <dcterms:modified xsi:type="dcterms:W3CDTF">2008-12-01T15:53:59Z</dcterms:modified>
  <cp:revision>4</cp:revision>
  <dc:subject/>
  <dc:title>Proverbs and their equivalents</dc:title>
</cp:coreProperties>
</file>