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4CE-F779-4558-8011-A783827F3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828-3106-4600-9A48-7E52D0BC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808-1822-47F7-8525-5C80AC8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BFC-7294-43C8-939A-732C8EA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C12-023A-423A-AA5A-6EA8AA45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C55F-6C07-4D0C-B7C4-2387CFBF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B5B0-B9F1-4CAC-B8A0-6913202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0BA-F0D4-4BB9-9C58-9427F62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7BE4-4514-4695-95D5-8AF7C1F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712-F9FE-4053-AC6D-9998976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8A5-7149-40A5-856B-E6226F8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1A24-D3EF-474B-96B4-B69645FD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933-F33F-4C07-8793-D8C09E9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1C98-82EB-4CEE-92C5-B0C7CA9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8A5B-5FD2-4512-AAA5-A018EA5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4F6A-5850-457D-9601-5EC7BAE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D8B2-D6CF-4C84-AF25-DD5327AC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3E6-FE66-4F42-BB47-52E797B8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DE3-954A-4C4F-B253-94703A2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87D-EBC7-462B-8477-F2505779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3CB-F4B7-4B2E-AA26-8A23DC5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348-6DF4-4BEC-BC5B-7CBB05C1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3FF-FAF6-4CB5-A804-1729CB0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259-280F-4A35-AEB9-51A65F7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FDF-A6E8-43D6-A2C5-DFC3062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69C-FB02-455A-9A6B-DF6D7704B2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4CBF-1532-4B45-BF90-6A0CB93E62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erbs and their equivale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ject is done by the pupils of the 7 “A”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8. Имангазиева 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etter be alone, than in bad comp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добрым дружись, а лукавых сторони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9. Казимир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etter to ask the way than to go astr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чше спросить дорогу, чем сбиться с пу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За спрос не бьют в нос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. Кондрашов 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tter to do well than to say w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ьше дела, меньше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1. Корень 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irds of feather flock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сапога па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. Кузнецова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Brevity is the soul of w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ткость – сестра талан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3. Лоскутов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bully is always a co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ира всегда труслив. (Молодец среди овец, а на молодца и сам овц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4. Мареева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busy bee has no time for s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долюбивой пчёлке некогда грустить. (Не бывает скуки, коли заняты рук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5. Медвецкая 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look a gift horse in the mou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реному коню в зубы не смотр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6. Мезенцева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Don’t put the cart before the hor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тавь телегу впереди лошади. ( Нужно всё делать в правильном порядк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7. Оленёв 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teach fishes to swi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учи рыбу плавать. (Не учи ученог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pupil was given a proverb for translating and illustra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s for discuss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 people use proverbs and phraseological expressions in their spee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expressions do you use more oft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verbs didn’t you know before this investig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8. Павл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ven a worm will tur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же червяк на дыбы вста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Всякому терпению приходит конец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9. Таминдаров 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Grasp all, lose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всё браться – ничего не сдел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0. Улитушкин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aste makes was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коро делать –переделы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спешишь –людей насмешишь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1. Хром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ledge is no burd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ния на плечи не дав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2. Яковлева 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itch your wagon to a st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кай свою тележку к звездам. ( Стремись к лучшему, возвышенному и идеальном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ословицах и поговорках собран многовековой опыт народа, его мудр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очные выражения помогают образно, наглядно и доступно проиллюстрировать свои мысли, сделать речь богаче и ярч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, the first proverb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. Бондарь 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fter a storm comes a cal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бури наступает затишь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В жизни может все случиться, но надо надеяться на лучшее; после плохих, горестных дней придут хорошие, полные рад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Бондарева 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fter us the delu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нас хоть потоп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 Веселов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nger is a short madn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нев – это краткое сумасшеств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.Гаганова 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s the tree, so is the fru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во дерево, таков и плод. (Яблоко от яблони недалеко падает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. Ермолина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 you brew, so must you drin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заварил, то и должен пи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Человек должен нести ответственность за свои поступ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Ешигин 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void evil and it will avoid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бегай зла и зло избежит теб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Не причиняй никому зла; относись к людям так, как хотел бы, чтобы к тебе относили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. Иванова 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cchus has drowend more men than Neptu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хус утопил больше людей, чем Нептун.( В вине больше погибает, чем в море утопает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18:59Z</dcterms:created>
  <dc:creator>XP GAME 2007</dc:creator>
  <dc:description/>
  <dc:language>en-US</dc:language>
  <cp:lastModifiedBy>XP GAME 2007</cp:lastModifiedBy>
  <dcterms:modified xsi:type="dcterms:W3CDTF">2008-12-01T15:53:59Z</dcterms:modified>
  <cp:revision>4</cp:revision>
  <dc:subject/>
  <dc:title>Proverbs and their equivalents</dc:title>
</cp:coreProperties>
</file>