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2BD1-420A-45DD-B2B2-0D4E69648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7641-8BAC-45E8-8E22-6C3B27D01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0A6-F6B7-4646-AE43-DEE81183E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BC3-1B6A-476E-8857-725949FF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94A-EF1B-40B7-93AE-76834809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96C-CFC9-4D88-8E69-5C15025C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401-7F2D-4A49-9A9A-645E1069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BE1-E0BF-4C61-B954-0D86819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CC4-0127-4052-A833-96FC6EBD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CB6-A33A-40B7-B4C6-2C2E5CEF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275-485F-4977-A679-03B9A5E6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ED4-4832-41E2-AC7E-9F64BB23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520-0970-49F9-8D99-B62CC6BD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39C-CE62-4D3C-AAA2-491FE82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15D-89C8-44A6-9075-B761344F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9DA-9BE5-4E64-B121-4EABEE530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3300"/>
                </a:solidFill>
                <a:uFillTx/>
                <a:latin typeface="Times New Roman"/>
              </a:rPr>
              <a:t>ТЕМА №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7704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«Мероприятия по предупреждению и минимизации последствий проявлений терроризма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B95-BE41-4B0D-B2E3-19972852FC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438000">
            <a:off x="188640" y="-171360"/>
            <a:ext cx="8962920" cy="7034040"/>
          </a:xfrm>
          <a:prstGeom prst="irregularSeal1">
            <a:avLst/>
          </a:prstGeom>
          <a:gradFill rotWithShape="0">
            <a:gsLst>
              <a:gs pos="0">
                <a:srgbClr val="ffd5d5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0920" y="1413000"/>
            <a:ext cx="8642160" cy="2592360"/>
            <a:chOff x="250920" y="1413000"/>
            <a:chExt cx="8642160" cy="2592360"/>
          </a:xfrm>
        </p:grpSpPr>
        <p:sp>
          <p:nvSpPr>
            <p:cNvPr id="69" name=""/>
            <p:cNvSpPr/>
            <p:nvPr/>
          </p:nvSpPr>
          <p:spPr>
            <a:xfrm>
              <a:off x="7236000" y="3357360"/>
              <a:ext cx="165708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ГОЛО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71640" y="1413000"/>
              <a:ext cx="4032360" cy="855360"/>
            </a:xfrm>
            <a:prstGeom prst="rect">
              <a:avLst/>
            </a:prstGeom>
            <a:solidFill>
              <a:srgbClr val="ffd5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иды террориз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9280" y="2898720"/>
              <a:ext cx="605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9280" y="2898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45560" y="2898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51280" y="2925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2000" y="2925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920" y="3357360"/>
              <a:ext cx="253044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ЛИТ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3357360"/>
              <a:ext cx="179712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ЭТ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3640" y="3357360"/>
              <a:ext cx="201168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ЛИГИОЗ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16360" y="2278080"/>
              <a:ext cx="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24000" y="4508640"/>
            <a:ext cx="8569080" cy="1800000"/>
            <a:chOff x="324000" y="4508640"/>
            <a:chExt cx="8569080" cy="180000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324000" y="4508640"/>
              <a:ext cx="23763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2916360" y="4508640"/>
              <a:ext cx="18000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7236000" y="4508640"/>
              <a:ext cx="16570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5076720" y="4508640"/>
              <a:ext cx="1943280" cy="16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CF6-C526-4594-BA8E-28E42D8EDA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00160" y="190440"/>
            <a:ext cx="5334120" cy="838440"/>
          </a:xfrm>
          <a:custGeom>
            <a:avLst/>
            <a:gdLst>
              <a:gd name="textAreaLeft" fmla="*/ 1333440 w 5334120"/>
              <a:gd name="textAreaRight" fmla="*/ 4000680 w 53341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410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и терр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752480"/>
            <a:ext cx="304776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752480"/>
            <a:ext cx="335268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рально-псих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здействие на 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30477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окация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2819520"/>
            <a:ext cx="32763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ранение соп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733920"/>
            <a:ext cx="30477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не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кономического ущер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733920"/>
            <a:ext cx="32763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сть за какую-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7524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здействие на органы государствен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80060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могатель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48006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уг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7913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имин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104760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352320" y="15238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523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347640" y="1557360"/>
            <a:ext cx="12193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523880"/>
            <a:ext cx="9907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52320" y="1523880"/>
            <a:ext cx="121932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600200"/>
            <a:ext cx="99072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160020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0952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E2A-B193-4C31-A9D9-F960F5DF33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95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8120" y="2057400"/>
            <a:ext cx="3047760" cy="2362320"/>
          </a:xfrm>
          <a:prstGeom prst="pentagon">
            <a:avLst/>
          </a:prstGeom>
          <a:solidFill>
            <a:srgbClr val="ffd5d5"/>
          </a:solidFill>
          <a:ln w="0">
            <a:noFill/>
          </a:ln>
          <a:effectLst>
            <a:outerShdw dist="52300" dir="4563564" blurRad="0" rotWithShape="0">
              <a:srgbClr val="98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И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ЕРА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57200"/>
            <a:ext cx="1752840" cy="916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хват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457200"/>
            <a:ext cx="1905120" cy="1059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зрывы зданий и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57200"/>
            <a:ext cx="2057400" cy="1059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зрывы в местах скопления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57200"/>
            <a:ext cx="1752840" cy="1059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хищение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36880"/>
            <a:ext cx="1752840" cy="1233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зятие в зало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637080"/>
            <a:ext cx="1752840" cy="10501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би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5257800"/>
            <a:ext cx="1752840" cy="95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а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5257800"/>
            <a:ext cx="1752840" cy="885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ругие при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637080"/>
            <a:ext cx="1752840" cy="10501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2036880"/>
            <a:ext cx="1752840" cy="916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ничтож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257800"/>
            <a:ext cx="1752480" cy="95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5257800"/>
            <a:ext cx="1752480" cy="95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57800" y="1371240"/>
            <a:ext cx="4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1371240"/>
            <a:ext cx="2666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9588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29000" y="1371240"/>
            <a:ext cx="380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066320" y="1371240"/>
            <a:ext cx="2667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13372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3372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82844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CD9-99F8-4B7B-8A8E-741570850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Терроризм, осуществляемый с применением взрывных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24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d5d5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53753" dir="2700000" blurRad="0" rotWithShape="0">
              <a:srgbClr val="4c000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ольшинстве случаев террористы-бандиты применяют взрывоопасные устройства, пред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зрывоопасный предмет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ВОП)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о устройство или вещество, способное при определенных условиях быстро выделить химическую, электромагнитную, механическую и др. виды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  подразделяются на штатные и самод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04000" y="5445000"/>
            <a:ext cx="158436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F84-0FFC-4CAC-AE0B-F6C9E5D7C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329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dd8c1"/>
              </a:gs>
            </a:gsLst>
            <a:lin ang="13500000"/>
          </a:gradFill>
          <a:ln w="5724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Штатные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зрывные устройства, произведенные в промышленности и применяемые в армии, правоохранительных орг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ним принадлежат авиабомбы, кассеты, зажигательные баки, ракеты, снаряды РС, артиллерийские, танковые зенитные, мины от минометов, патроны крупных калибров и стрелкового оружия, ручные гранаты б/п, ВВ, химические и специальные, другие устройства, содержащие ВВ. Все они имеют характерный внешний вид, в основном хорошо известный населению по кинофильмам, телепередачам, кни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CB2-88C8-4BC9-8C1B-68A41745B7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2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cc"/>
              </a:gs>
            </a:gsLst>
            <a:lin ang="13500000"/>
          </a:gradFill>
          <a:ln w="57240">
            <a:solidFill>
              <a:srgbClr val="996600"/>
            </a:solidFill>
            <a:miter/>
          </a:ln>
        </p:spPr>
        <p:txBody>
          <a:bodyPr lIns="180000" rIns="18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Самодельные ВОП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личаются огромным разнообразием типов ВВ и предохранительно-исполнительных механизмов, формы, веса, радиуса поражения, порядка срабатывания и т.д. Их особенностью является непредсказуемость момента и порядка срабатывания взрывного устройства, его мощность. Используются твердые, пластичные, гранулированные, порошкообразные вещества, различные виды пороха, жидкости и разнообразные сме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324-0E4E-42DE-B79E-A170DD795B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6640"/>
            <a:ext cx="9144000" cy="5761080"/>
          </a:xfrm>
          <a:custGeom>
            <a:avLst/>
            <a:gdLst>
              <a:gd name="textAreaLeft" fmla="*/ 21960 w 9144000"/>
              <a:gd name="textAreaRight" fmla="*/ 9166320 w 9144000"/>
              <a:gd name="textAreaTop" fmla="*/ 379800 h 5761080"/>
              <a:gd name="textAreaBottom" fmla="*/ 5381280 h 5761080"/>
            </a:gdLst>
            <a:ahLst/>
            <a:rect l="textAreaLeft" t="textAreaTop" r="textAreaRight" b="textAreaBottom"/>
            <a:pathLst>
              <a:path w="21600" h="21600">
                <a:moveTo>
                  <a:pt x="52" y="712"/>
                </a:moveTo>
                <a:cubicBezTo>
                  <a:pt x="3626" y="-1810"/>
                  <a:pt x="7252" y="3234"/>
                  <a:pt x="10826" y="712"/>
                </a:cubicBezTo>
                <a:cubicBezTo>
                  <a:pt x="14400" y="-1810"/>
                  <a:pt x="18026" y="3234"/>
                  <a:pt x="21600" y="712"/>
                </a:cubicBezTo>
                <a:lnTo>
                  <a:pt x="21548" y="20888"/>
                </a:lnTo>
                <a:cubicBezTo>
                  <a:pt x="17974" y="23410"/>
                  <a:pt x="14348" y="18366"/>
                  <a:pt x="10774" y="20888"/>
                </a:cubicBezTo>
                <a:cubicBezTo>
                  <a:pt x="7200" y="23410"/>
                  <a:pt x="3574" y="18366"/>
                  <a:pt x="0" y="20888"/>
                </a:cubicBezTo>
                <a:close/>
              </a:path>
            </a:pathLst>
          </a:custGeom>
          <a:gradFill rotWithShape="0">
            <a:gsLst>
              <a:gs pos="0">
                <a:srgbClr val="fdd8c1"/>
              </a:gs>
              <a:gs pos="50000">
                <a:srgbClr val="ccffff"/>
              </a:gs>
              <a:gs pos="100000">
                <a:srgbClr val="fdd8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d5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нципы борьбы с террориз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мер предупреждения террор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твратимость наказания за осуществление террорис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етание гласных и негласных методов борьбы с терроризм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ное использование профилактических правовых, политических, социально-экономических, пропагандистских м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защиты прав лиц, подвергшихся опасности в результате террористической 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ые уступки террорис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оначалие в руководстве привлекаемыми силами и средствами при проведении контртеррористических опер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ая огласка технических приемов и тактики проведения контртеррористических операций, а также состава участников указанных опер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03B2-76C5-4CB3-BF19-6B3415ABECB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DBB-779D-4108-BEB6-6490F1EFDC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115920"/>
            <a:ext cx="8497800" cy="1225440"/>
          </a:xfrm>
          <a:prstGeom prst="downArrow">
            <a:avLst>
              <a:gd name="adj1" fmla="val 84648"/>
              <a:gd name="adj2" fmla="val 57407"/>
            </a:avLst>
          </a:prstGeom>
          <a:solidFill>
            <a:srgbClr val="fbdf53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 Российской Федерации борьба с терроризмом вед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100000">
                <a:srgbClr val="ccffff"/>
              </a:gs>
            </a:gsLst>
            <a:lin ang="8100000"/>
          </a:gradFill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5b3c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ой службой безопасности (ФС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стерством внутренних дел (МВ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стерством обороны (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жбой внешней разведки (СВ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ой службой охраны (ФС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ой пограничной службой (ФП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Ч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лы и сред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ов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04360" y="64911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1C12-AAEC-4F2F-9CCF-89BCA147D05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7A5-7DF0-425B-BFA4-D2D956F906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50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ля координации деятельности органов исполнительной власти (федеральных и субъектов РФ) и органов местного самоуправления созд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056360" cy="720720"/>
          </a:xfrm>
          <a:prstGeom prst="rect">
            <a:avLst/>
          </a:prstGeom>
          <a:solidFill>
            <a:srgbClr val="ccffcc"/>
          </a:solidFill>
          <a:ln w="2844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7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циональный антитеррористический ком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седат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директор ФС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981000"/>
            <a:ext cx="40431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9280" y="5373720"/>
            <a:ext cx="6265440" cy="1007640"/>
            <a:chOff x="1619280" y="5373720"/>
            <a:chExt cx="6265440" cy="1007640"/>
          </a:xfrm>
        </p:grpSpPr>
        <p:sp>
          <p:nvSpPr>
            <p:cNvPr id="149" name=""/>
            <p:cNvSpPr/>
            <p:nvPr/>
          </p:nvSpPr>
          <p:spPr>
            <a:xfrm>
              <a:off x="2115000" y="5517720"/>
              <a:ext cx="5769720" cy="8636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9280" y="5373720"/>
              <a:ext cx="6068160" cy="8636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ременные штабы по подготовке и обеспечению безопасности проведения культурно-зрелищных, спортивных и общественно-массовых мероприят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47640" y="1916280"/>
            <a:ext cx="6264360" cy="576000"/>
          </a:xfrm>
          <a:prstGeom prst="rect">
            <a:avLst/>
          </a:prstGeom>
          <a:solidFill>
            <a:srgbClr val="cc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57760" indent="-257760" algn="ctr">
              <a:lnSpc>
                <a:spcPts val="18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ый оперативный шт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 algn="ctr">
              <a:lnSpc>
                <a:spcPts val="18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назначается председателем ком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03280" y="2781360"/>
            <a:ext cx="6697800" cy="1008000"/>
            <a:chOff x="1403280" y="2781360"/>
            <a:chExt cx="6697800" cy="1008000"/>
          </a:xfrm>
        </p:grpSpPr>
        <p:sp>
          <p:nvSpPr>
            <p:cNvPr id="153" name=""/>
            <p:cNvSpPr/>
            <p:nvPr/>
          </p:nvSpPr>
          <p:spPr>
            <a:xfrm>
              <a:off x="1868400" y="3092400"/>
              <a:ext cx="6232680" cy="6969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6560" y="2906640"/>
              <a:ext cx="6320160" cy="7462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2781360"/>
              <a:ext cx="6465960" cy="74772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Антитеррористические комиссии в субъектах Р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Руководител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высшие должностные лица  субъектов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547640" y="3500280"/>
            <a:ext cx="6335640" cy="792360"/>
            <a:chOff x="1547640" y="3500280"/>
            <a:chExt cx="6335640" cy="792360"/>
          </a:xfrm>
        </p:grpSpPr>
        <p:sp>
          <p:nvSpPr>
            <p:cNvPr id="157" name=""/>
            <p:cNvSpPr/>
            <p:nvPr/>
          </p:nvSpPr>
          <p:spPr>
            <a:xfrm>
              <a:off x="1724760" y="3613320"/>
              <a:ext cx="6158520" cy="67932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7640" y="3500280"/>
              <a:ext cx="6158520" cy="67932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перативные шта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Руководител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руководители территориальных органов ФС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72000" y="2492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4221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6453360"/>
            <a:ext cx="5905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Указ Президента РФ от 15.02.2006 №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19280" y="4508640"/>
            <a:ext cx="6265440" cy="648720"/>
            <a:chOff x="1619280" y="4508640"/>
            <a:chExt cx="6265440" cy="648720"/>
          </a:xfrm>
        </p:grpSpPr>
        <p:sp>
          <p:nvSpPr>
            <p:cNvPr id="163" name=""/>
            <p:cNvSpPr/>
            <p:nvPr/>
          </p:nvSpPr>
          <p:spPr>
            <a:xfrm>
              <a:off x="2115000" y="4601160"/>
              <a:ext cx="5769720" cy="5562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19280" y="4508640"/>
              <a:ext cx="6068160" cy="5562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6960" indent="-24696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униципальные постоянно действующие антитеррористические коми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643280" y="508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B0B-2A35-4FB2-9E5D-3E3BFD98DC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5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0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5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8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8500"/>
                            </p:stCondLst>
                            <p:childTnLst>
                              <p:par>
                                <p:cTn id="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стема безопасности объекта, предприятия, учреждения, организации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81080" y="776160"/>
          <a:ext cx="8655120" cy="628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776160"/>
                    <a:ext cx="865512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E35-27DD-4ECB-973B-30DC05C298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тивные правовые и организационные основы противодействия терроризму. Сущность, виды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оприятия по минимизации последствий террористических а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и проведение мероприятий по снятию возникшего стресса выработке психологической устойчивости и социальной реабилитации пострадав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937-B2D8-44C0-A67C-FD695B441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8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8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78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чень важно своевременно и качественно на каждом объекте экономики, в организации, учреждении, учебном, лечебном заведении разработать следующие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642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лан по защите и прикрытию объекта, который состоит и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перативной ч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этажной структурной сх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яснительной запи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олжностные инструк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уководителю, заместител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дседателям, членам КЧС и П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олжностным лицам ГОЧ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ерсоналу, (сотрудникам)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599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 этих инструкциях должны быть конкретно определены их действия с учетом конкретных условий производства, графика работ в случа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угрозы по телефо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угрозы в письменной фор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бнаружения взрывоопасных предметов (ВОП) или предметов похожих на ВО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хвата залож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овершения тера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лан проведения тренировки на случай теракта, пожа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2E7-A260-4844-9A68-231F039B4A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Департамент гражданской защиты МЧС России рекоменду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спределить обязанности среди руководящего состава, назначить ответственного за безопасность и защиту сотруд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оответствии с «Планами ГО» и «Планами действий...» подготовить руководящий состав, обучать сотрудников, население умелым действиям в ЧС, оказанию само-, взаимопомощи и первой медицинской помощи пострадавш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рганизовать тщательный подбор сотрудников, контроль за их деятель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жесточить пропускной ре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еспечить сотрудников охраны средствами связи, наблюдения, оповещения, видео-звуко-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держать в исправном состоянии внешние ограждения, освещение, средства пожаротушения, оповещения и сигнализации, систему видео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зучить с персоналом должностные инструкции, научить действовать практически в разное время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орудовать рабочее место секретаря (диспетчера) установить: АОН, кнопку вызова охраны объекта и вневедомственной охраны, руководителя, звукозаписывающую аппарату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вободить от лишних предметов помещения, лестничные клетки, основные и запасные пожарные вых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еспечить беспрепятственный доступ в любое время года и суток к ПГ, колонкам, водоемам иметь светоотражающие зна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 необходимости определить зоны ограниченного досту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жедневно комиссионно осматривать помещения, здания, склады, имущество, особенно в арендованных помеще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99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4C6-BF1E-40E6-AC58-E5E22A77D2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4960" indent="-534960" algn="just"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мотре и проверке несения дежурства СБ необходимо особое внимание обратить на демаскирующие признаки, которые могут указывать на наличие взрывоопасных предметов (ВОП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тянутая проволока, шнур, веревка, кабель и т.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ичие на обнаруженном предмете проводов, изоленты, антен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озрительные звуки, щелчки, тиканье часов, издаваемые предме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жиданный незнакомый за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схозные сумки, коробки, свертки, пакеты, конверты в помещениях, на территории, в припаркованной маш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еды ремонтных работ, участки с нарушенной окраской, поверхность которых отличается от общего ф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менты, остатки материалов не характерные для данного предмета или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яющиеся участки свежевырытой или засохшей земли на территории вблизи з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18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1DC-F3DD-4D46-9E09-BDA3C19798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орально-психологическая подготовка к действия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о система деятельности руководителей всех уровней, по формированию у спасателей и населения качеств, позволяющих успешно переносить высокие моральные, психологические и физические нагрузки при выполн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3573360"/>
            <a:ext cx="82296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Моральная подготов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это формирование в сознании людей чувств гражданского долга, высокой ответственности за порученн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Психологическая подготов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это формирование у людей таких качеств, которые усиливают их способность активно, и умело действовать в экстремаль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6E9-6BAF-45A6-B3C7-76D4BEFF92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В повседневной деятельности для выработки таких качеств при подготовке спасателей и населения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высокую сознательность, и ответственность, мужество, уверенность в достижении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ть психологическую стойкость при выполнении задач в чрезвычайн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и совершенствовать навыки выполнения задач в условиях психологических и моральных перегру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янно проводить работу по сплочению коллектива для успешного выполнения задач в любой обстан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762-0B70-44A6-A0E6-9DE33AC3BB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Морально-психологическую подготовку необходимо планировать и проводить по следующим направл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в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ядка напряж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ально-психологическая поддер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циальная реабилитация пострадав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9D2-86F9-4F10-BA48-9F32409F5E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Социальная реабилитация лиц, пострадавших в результате теракта</a:t>
            </a: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определена в ст.19 Федерального закона № 35-ФЗ и включа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ихологическ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ональную реабилита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вую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трудоустрой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оставление жи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A6D-B8AD-4714-B746-50A9E228D0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ts val="3197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т.205 Федерального закона № 63-ФЗ предусмотрена ответственность за терроризм, то есть совершение взрыва, поджога, иных действий, создающих опасность гибели людей, причинения ущерба в целях нарушения общественной безопасности, устрашении населения наказывается лишением свободы на срок от 8 до 12 лет, если действия повлекли смерть человека или иные тяжкие последствия наказываются лишением свободы до 20 лет или пожизнен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C25-9E34-4332-A8E9-86EA1D6686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Л и т е р а т у р 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«О противодействии терроризму» от 6 марта 2006 года № 35-ФЗ. (в ред.федерального закона от 27.07.2006 № 153-Ф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 Президента Российской Федерации от 15 февраля 2006 года      № 1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5.09.1999 г. № 1040 "О мерах по противодействию терроризму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ие Администрации РО от 15.10.2004 № 409 «О дополнительных мерах по обеспечению безопасности на объектах социальной сферы и жизнеобеспечения, а также в местах массового пребывания люд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ические рекомендации МЧС РФ по предупреждению террористических акций на территории муниципальных образований от 29.09.1999г. № 33-2957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омендации начальника департамента гражданской защиты МЧС РФ от 28.03.2003г. № 14/6/1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я населения по предупреждению террористических акций. Библиотечка "Военные знания". М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и ведение ГО и защиты населения и территорий от ЧС природного и техногенного характера. Учебное пособие. Институт риска и безопасности МЧС РФ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оловный Кодекс РФ от 13 июня 1996 г. № 63-ФЗ.                                 (в ред.федерального закона от 24.07.2007 № 214-Ф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37E-1529-4F59-9883-FD9F414ED0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569080" cy="4535640"/>
          </a:xfrm>
          <a:prstGeom prst="rect">
            <a:avLst/>
          </a:prstGeom>
          <a:noFill/>
          <a:ln w="38160">
            <a:solidFill>
              <a:srgbClr val="d60093"/>
            </a:solidFill>
            <a:miter/>
          </a:ln>
          <a:effectLst>
            <a:outerShdw dist="17819" dir="2700000" blurRad="0" rotWithShape="0">
              <a:srgbClr val="7f0057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деология насилия и практика воздействия на принятие решения органами государственной власти, органами местного само-управления или международными органи-зациями, связанные с устрашением населения и (или) иными формами противоправных насильственны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57340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 Федерального закона от 06.03.2006 № 35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339-F2B0-4F51-84CF-04C479078E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еррористическая деятельность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  <a:effectLst>
            <a:outerShdw dist="17819" dir="2700000" blurRad="0" rotWithShape="0">
              <a:srgbClr val="985b79"/>
            </a:outerShdw>
          </a:effectLst>
        </p:spPr>
        <p:txBody>
          <a:bodyPr lIns="36000" rIns="36000" tIns="46800" bIns="46800" anchor="t">
            <a:normAutofit/>
          </a:bodyPr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Организацию, планирование, подготовку, финансирование и реализацию тера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подстрекательство к терак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организацию незаконного вооруженного формирования, организованной группы для реализации теракта, а равно участие в такой структу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вербовку, вооружение, обучение и использование террори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информационное или иное пособничество в планировании, подготовке или реализации тера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пропаганду идей терроризма, распространение материалов или информации, призывающих к осуществлению террорис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9B1-1FE4-41B8-A713-491B40C45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260280"/>
            <a:ext cx="8353440" cy="1224000"/>
          </a:xfrm>
          <a:prstGeom prst="downArrow">
            <a:avLst>
              <a:gd name="adj1" fmla="val 69741"/>
              <a:gd name="adj2" fmla="val 5862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561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Террористический акт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solidFill>
            <a:srgbClr val="fdd8c1"/>
          </a:solidFill>
          <a:ln w="28440">
            <a:solidFill>
              <a:srgbClr val="996600"/>
            </a:solidFill>
            <a:miter/>
          </a:ln>
          <a:effectLst>
            <a:outerShdw dist="17819" dir="2700000" blurRad="0" rotWithShape="0">
              <a:srgbClr val="5b3c0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ршение взрыва, поджога или иных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страшающих население и создающих опасность гибели человека, причинения значительного имуществен-ного ущерба, либо наступления иных тяжких последствий, в целях воздействия на принятие решения органами власти или международными организациями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ро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вершения указанных действий в тех же ц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A20-D9E7-4530-8298-AD4E37BEB2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33360"/>
            <a:ext cx="8209080" cy="1727280"/>
          </a:xfrm>
          <a:prstGeom prst="downArrow">
            <a:avLst>
              <a:gd name="adj1" fmla="val 91796"/>
              <a:gd name="adj2" fmla="val 4348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тиводействие террориз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ятельность органов государственной власти и органов местного самоуправления 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упреждению терроризма, в том числе по выявлению и последующему устранению причин и условий, способствующих совершению террористических актов (профилактика террориз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лению, предупреждению, пресечению, раскрытию и расследованию террористического акта (борьба с терроризм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изации и (или) ликвидации последствий проявлений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5C6-0443-45AC-BA5F-A5117F1F76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На распространение терроризма в России влияют следующие социальные фа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d60093"/>
            </a:solidFill>
            <a:miter/>
          </a:ln>
          <a:effectLst>
            <a:outerShdw dist="17819" dir="2700000" blurRad="0" rotWithShape="0">
              <a:srgbClr val="7f005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борьбы за политическую вла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трение межнациональных противоречий на почве мнимого ущемления национальных прав отдельных этно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остранение сепаратистских, антифедералистских, антирусских настроений и политических тенден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вальный рост преступности, организованной с вооружением, финансиров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остранение уголовного терро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к переделу собственности и наж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263-C0C8-4DC7-B884-1D90FCBACE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Основными причинами терроризма в РФ могут бы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решенность социальных, национальных, религиоз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лоение общества по уровню материального состояния, культуре и обра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ование незаконных организаций (религиозных, сектантских и друг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ованная преступность и криминализация ряда государственных и коммерческих струк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желание части населения выполнять требования 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187-0874-4C0A-A2E7-E7BBF2C0E7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2:22:14Z</dcterms:created>
  <dc:creator>Подгородецкая</dc:creator>
  <dc:description/>
  <dc:language>en-US</dc:language>
  <cp:lastModifiedBy>Подгородецкая Т.А.</cp:lastModifiedBy>
  <dcterms:modified xsi:type="dcterms:W3CDTF">2009-03-16T12:19:03Z</dcterms:modified>
  <cp:revision>45</cp:revision>
  <dc:subject/>
  <dc:title>ТЕМА № 14</dc:title>
</cp:coreProperties>
</file>