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781ED-5318-4315-AB69-5B17B3F94CE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59B07-DB5A-4F8F-A3C2-14C14FF6ADE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35A54-4B97-4BAF-9E93-07B7C1D3F0B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168C5-D9D1-47A4-88C2-CDDD5A1BD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4B74A-B125-4E68-BC20-366A8ED22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759B0-D65B-4BC5-9404-87F6D7262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91C77-61F4-48D6-99F0-D2B327481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EB452-4BA8-4C77-8FCD-4CF48A103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F988C-3838-4AA1-985B-120566A59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61912-A4A0-4EFD-845B-14C0F7DAA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8ECF3-38EA-4756-BE20-75E5EED60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B5A01-D5C8-43C2-ACA9-609F3DF2B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DA853-1BBA-4247-BB86-797647E78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FA838-FC4E-4852-9AF1-C9F5EB441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1090D-9CDC-4909-811F-37E28C99B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13D59-AF98-4947-A1A9-D571F6DE971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1557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993300"/>
                </a:solidFill>
                <a:uFillTx/>
                <a:latin typeface="Times New Roman"/>
              </a:rPr>
              <a:t>ТЕМА № 1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826560" y="3068640"/>
            <a:ext cx="770436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60093"/>
                </a:solidFill>
                <a:latin typeface="Arial"/>
              </a:rPr>
              <a:t>«Мероприятия по предупреждению и минимизации последствий проявлений терроризма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5C50C-27BC-4A0A-A3E0-33A2296D80A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1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 rot="438000">
            <a:off x="188640" y="-171360"/>
            <a:ext cx="8962920" cy="7034040"/>
          </a:xfrm>
          <a:prstGeom prst="irregularSeal1">
            <a:avLst/>
          </a:prstGeom>
          <a:gradFill rotWithShape="0">
            <a:gsLst>
              <a:gs pos="0">
                <a:srgbClr val="ffd5d5"/>
              </a:gs>
              <a:gs pos="100000">
                <a:srgbClr val="ffff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250920" y="1413000"/>
            <a:ext cx="8642160" cy="2592360"/>
            <a:chOff x="250920" y="1413000"/>
            <a:chExt cx="8642160" cy="2592360"/>
          </a:xfrm>
        </p:grpSpPr>
        <p:sp>
          <p:nvSpPr>
            <p:cNvPr id="69" name=""/>
            <p:cNvSpPr/>
            <p:nvPr/>
          </p:nvSpPr>
          <p:spPr>
            <a:xfrm>
              <a:off x="7236000" y="3357360"/>
              <a:ext cx="1657080" cy="648000"/>
            </a:xfrm>
            <a:prstGeom prst="rect">
              <a:avLst/>
            </a:prstGeom>
            <a:solidFill>
              <a:srgbClr val="fbdf5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УГОЛОВНЫ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771640" y="1413000"/>
              <a:ext cx="4032360" cy="855360"/>
            </a:xfrm>
            <a:prstGeom prst="rect">
              <a:avLst/>
            </a:prstGeom>
            <a:solidFill>
              <a:srgbClr val="ffd5d5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Виды терроризм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889280" y="2898720"/>
              <a:ext cx="6056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89280" y="28987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7945560" y="28987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851280" y="29257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6012000" y="29257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50920" y="3357360"/>
              <a:ext cx="2530440" cy="648000"/>
            </a:xfrm>
            <a:prstGeom prst="rect">
              <a:avLst/>
            </a:prstGeom>
            <a:solidFill>
              <a:srgbClr val="fbdf5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ПОЛИТИЧЕСКИ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87640" y="3357360"/>
              <a:ext cx="1797120" cy="648000"/>
            </a:xfrm>
            <a:prstGeom prst="rect">
              <a:avLst/>
            </a:prstGeom>
            <a:solidFill>
              <a:srgbClr val="fbdf5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ЭТНИЧЕСКИ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03640" y="3357360"/>
              <a:ext cx="2011680" cy="648000"/>
            </a:xfrm>
            <a:prstGeom prst="rect">
              <a:avLst/>
            </a:prstGeom>
            <a:solidFill>
              <a:srgbClr val="fbdf5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РЕЛИГИОЗНЫ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16360" y="2278080"/>
              <a:ext cx="0" cy="593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324000" y="4508640"/>
            <a:ext cx="8569080" cy="1800000"/>
            <a:chOff x="324000" y="4508640"/>
            <a:chExt cx="8569080" cy="1800000"/>
          </a:xfrm>
        </p:grpSpPr>
        <p:pic>
          <p:nvPicPr>
            <p:cNvPr id="81" name="" descr=""/>
            <p:cNvPicPr/>
            <p:nvPr/>
          </p:nvPicPr>
          <p:blipFill>
            <a:blip r:embed="rId2"/>
            <a:stretch/>
          </p:blipFill>
          <p:spPr>
            <a:xfrm>
              <a:off x="324000" y="4508640"/>
              <a:ext cx="2376360" cy="165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" descr=""/>
            <p:cNvPicPr/>
            <p:nvPr/>
          </p:nvPicPr>
          <p:blipFill>
            <a:blip r:embed="rId3"/>
            <a:stretch/>
          </p:blipFill>
          <p:spPr>
            <a:xfrm>
              <a:off x="2916360" y="4508640"/>
              <a:ext cx="1800000" cy="165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" descr=""/>
            <p:cNvPicPr/>
            <p:nvPr/>
          </p:nvPicPr>
          <p:blipFill>
            <a:blip r:embed="rId4"/>
            <a:stretch/>
          </p:blipFill>
          <p:spPr>
            <a:xfrm>
              <a:off x="7236000" y="4508640"/>
              <a:ext cx="1657080" cy="180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" descr=""/>
            <p:cNvPicPr/>
            <p:nvPr/>
          </p:nvPicPr>
          <p:blipFill>
            <a:blip r:embed="rId5"/>
            <a:stretch/>
          </p:blipFill>
          <p:spPr>
            <a:xfrm>
              <a:off x="5076720" y="4508640"/>
              <a:ext cx="1943280" cy="1657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EE44E-06F0-4426-8102-1F4F06D623F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0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9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500"/>
                            </p:stCondLst>
                            <p:childTnLst>
                              <p:par>
                                <p:cTn id="25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3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2000160" y="190440"/>
            <a:ext cx="5334120" cy="838440"/>
          </a:xfrm>
          <a:custGeom>
            <a:avLst/>
            <a:gdLst>
              <a:gd name="textAreaLeft" fmla="*/ 1333440 w 5334120"/>
              <a:gd name="textAreaRight" fmla="*/ 4000680 w 5334120"/>
              <a:gd name="textAreaTop" fmla="*/ 104760 h 838440"/>
              <a:gd name="textAreaBottom" fmla="*/ 8388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980720" y="304560"/>
            <a:ext cx="54104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Цели терро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920" y="1752480"/>
            <a:ext cx="3047760" cy="7621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86400" y="1752480"/>
            <a:ext cx="3352680" cy="7621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Морально-психологическ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воздействие на насел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04920" y="2819520"/>
            <a:ext cx="3047760" cy="6094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Провокация вой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562720" y="2819520"/>
            <a:ext cx="3276360" cy="6094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Устранение соперн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04920" y="3733920"/>
            <a:ext cx="3047760" cy="7617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Нанесен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экономического ущерб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562720" y="3733920"/>
            <a:ext cx="3276360" cy="7617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Месть за какую-т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деятель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04920" y="1752480"/>
            <a:ext cx="3047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Воздействие на органы государственной вла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066680" y="4800600"/>
            <a:ext cx="2743200" cy="6094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Вымогательств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4800600"/>
            <a:ext cx="2971800" cy="6094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Другие це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00400" y="5791320"/>
            <a:ext cx="2743200" cy="685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Криминализац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обще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076640" y="1047600"/>
            <a:ext cx="990720" cy="5335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3352320" y="1523880"/>
            <a:ext cx="129564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572000" y="1523880"/>
            <a:ext cx="91440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3347640" y="1557360"/>
            <a:ext cx="1219320" cy="167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572000" y="1523880"/>
            <a:ext cx="990720" cy="167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3352320" y="1523880"/>
            <a:ext cx="1219320" cy="2743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1600200"/>
            <a:ext cx="990720" cy="2666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572000" y="1600200"/>
            <a:ext cx="0" cy="4191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3809520" y="4267080"/>
            <a:ext cx="762120" cy="762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572000" y="4267080"/>
            <a:ext cx="762120" cy="762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444FA-36EC-4A61-A89F-0F6AB1FB51E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0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500"/>
                            </p:stCondLst>
                            <p:childTnLst>
                              <p:par>
                                <p:cTn id="263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1000"/>
                            </p:stCondLst>
                            <p:childTnLst>
                              <p:par>
                                <p:cTn id="2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1500"/>
                            </p:stCondLst>
                            <p:childTnLst>
                              <p:par>
                                <p:cTn id="2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2000"/>
                            </p:stCondLst>
                            <p:childTnLst>
                              <p:par>
                                <p:cTn id="27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2500"/>
                            </p:stCondLst>
                            <p:childTnLst>
                              <p:par>
                                <p:cTn id="28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3000"/>
                            </p:stCondLst>
                            <p:childTnLst>
                              <p:par>
                                <p:cTn id="2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3500"/>
                            </p:stCondLst>
                            <p:childTnLst>
                              <p:par>
                                <p:cTn id="2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4000"/>
                            </p:stCondLst>
                            <p:childTnLst>
                              <p:par>
                                <p:cTn id="2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4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5000"/>
                            </p:stCondLst>
                            <p:childTnLst>
                              <p:par>
                                <p:cTn id="3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5500"/>
                            </p:stCondLst>
                            <p:childTnLst>
                              <p:par>
                                <p:cTn id="3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6000"/>
                            </p:stCondLst>
                            <p:childTnLst>
                              <p:par>
                                <p:cTn id="3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6500"/>
                            </p:stCondLst>
                            <p:childTnLst>
                              <p:par>
                                <p:cTn id="3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7000"/>
                            </p:stCondLst>
                            <p:childTnLst>
                              <p:par>
                                <p:cTn id="3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7500"/>
                            </p:stCondLst>
                            <p:childTnLst>
                              <p:par>
                                <p:cTn id="3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8000"/>
                            </p:stCondLst>
                            <p:childTnLst>
                              <p:par>
                                <p:cTn id="3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8500"/>
                            </p:stCondLst>
                            <p:childTnLst>
                              <p:par>
                                <p:cTn id="3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9000"/>
                            </p:stCondLst>
                            <p:childTnLst>
                              <p:par>
                                <p:cTn id="3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9500"/>
                            </p:stCondLst>
                            <p:childTnLst>
                              <p:par>
                                <p:cTn id="33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10000"/>
                            </p:stCondLst>
                            <p:childTnLst>
                              <p:par>
                                <p:cTn id="3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500"/>
                            </p:stCondLst>
                            <p:childTnLst>
                              <p:par>
                                <p:cTn id="3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048120" y="2057400"/>
            <a:ext cx="3047760" cy="2362320"/>
          </a:xfrm>
          <a:prstGeom prst="pentagon">
            <a:avLst/>
          </a:prstGeom>
          <a:solidFill>
            <a:srgbClr val="ffd5d5"/>
          </a:solidFill>
          <a:ln w="0">
            <a:noFill/>
          </a:ln>
          <a:effectLst>
            <a:outerShdw dist="52300" dir="4563564" blurRad="0" rotWithShape="0">
              <a:srgbClr val="987f7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ПРИЕМЫ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МЕТОД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ТЕРАКТО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457200"/>
            <a:ext cx="1752840" cy="916920"/>
          </a:xfrm>
          <a:prstGeom prst="rect">
            <a:avLst/>
          </a:prstGeom>
          <a:solidFill>
            <a:srgbClr val="ccffff"/>
          </a:solidFill>
          <a:ln w="19080">
            <a:solidFill>
              <a:srgbClr val="000000"/>
            </a:solidFill>
            <a:miter/>
          </a:ln>
          <a:effectLst>
            <a:outerShdw dist="107932" dir="135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Захват транспортных средст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438280" y="457200"/>
            <a:ext cx="1905120" cy="1059840"/>
          </a:xfrm>
          <a:prstGeom prst="rect">
            <a:avLst/>
          </a:prstGeom>
          <a:solidFill>
            <a:srgbClr val="ccffff"/>
          </a:solidFill>
          <a:ln w="19080">
            <a:solidFill>
              <a:srgbClr val="000000"/>
            </a:solidFill>
            <a:miter/>
          </a:ln>
          <a:effectLst>
            <a:outerShdw dist="107932" dir="135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Взрывы зданий и сооруж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648320" y="457200"/>
            <a:ext cx="2057400" cy="1059840"/>
          </a:xfrm>
          <a:prstGeom prst="rect">
            <a:avLst/>
          </a:prstGeom>
          <a:solidFill>
            <a:srgbClr val="ccffff"/>
          </a:solidFill>
          <a:ln w="19080">
            <a:solidFill>
              <a:srgbClr val="000000"/>
            </a:solidFill>
            <a:miter/>
          </a:ln>
          <a:effectLst>
            <a:outerShdw dist="107932" dir="189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Взрывы в местах скопления люде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010280" y="457200"/>
            <a:ext cx="1752840" cy="1059840"/>
          </a:xfrm>
          <a:prstGeom prst="rect">
            <a:avLst/>
          </a:prstGeom>
          <a:solidFill>
            <a:srgbClr val="ccffff"/>
          </a:solidFill>
          <a:ln w="19080">
            <a:solidFill>
              <a:srgbClr val="000000"/>
            </a:solidFill>
            <a:miter/>
          </a:ln>
          <a:effectLst>
            <a:outerShdw dist="107932" dir="189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Похищение люде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80880" y="2036880"/>
            <a:ext cx="1752840" cy="1233360"/>
          </a:xfrm>
          <a:prstGeom prst="rect">
            <a:avLst/>
          </a:prstGeom>
          <a:solidFill>
            <a:srgbClr val="ccffff"/>
          </a:solidFill>
          <a:ln w="19080">
            <a:solidFill>
              <a:srgbClr val="000000"/>
            </a:solidFill>
            <a:miter/>
          </a:ln>
          <a:effectLst>
            <a:outerShdw dist="107932" dir="135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Взятие в заложн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80880" y="3637080"/>
            <a:ext cx="1752840" cy="1050120"/>
          </a:xfrm>
          <a:prstGeom prst="rect">
            <a:avLst/>
          </a:prstGeom>
          <a:solidFill>
            <a:srgbClr val="ccffff"/>
          </a:solidFill>
          <a:ln w="19080">
            <a:solidFill>
              <a:srgbClr val="000000"/>
            </a:solidFill>
            <a:miter/>
          </a:ln>
          <a:effectLst>
            <a:outerShdw dist="107932" dir="135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Убийств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80880" y="5257800"/>
            <a:ext cx="1752840" cy="959040"/>
          </a:xfrm>
          <a:prstGeom prst="rect">
            <a:avLst/>
          </a:prstGeom>
          <a:solidFill>
            <a:srgbClr val="ccffff"/>
          </a:solidFill>
          <a:ln w="19080">
            <a:solidFill>
              <a:srgbClr val="000000"/>
            </a:solidFill>
            <a:miter/>
          </a:ln>
          <a:effectLst>
            <a:outerShdw dist="107932" dir="135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Напад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010280" y="5257800"/>
            <a:ext cx="1752840" cy="885600"/>
          </a:xfrm>
          <a:prstGeom prst="rect">
            <a:avLst/>
          </a:prstGeom>
          <a:solidFill>
            <a:srgbClr val="ccffff"/>
          </a:solidFill>
          <a:ln w="19080">
            <a:solidFill>
              <a:srgbClr val="000000"/>
            </a:solidFill>
            <a:miter/>
          </a:ln>
          <a:effectLst>
            <a:outerShdw dist="107932" dir="189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Другие прием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010280" y="3637080"/>
            <a:ext cx="1752840" cy="1050120"/>
          </a:xfrm>
          <a:prstGeom prst="rect">
            <a:avLst/>
          </a:prstGeom>
          <a:solidFill>
            <a:srgbClr val="ccffff"/>
          </a:solidFill>
          <a:ln w="19080">
            <a:solidFill>
              <a:srgbClr val="000000"/>
            </a:solidFill>
            <a:miter/>
          </a:ln>
          <a:effectLst>
            <a:outerShdw dist="107932" dir="189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Угроз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010280" y="2036880"/>
            <a:ext cx="1752840" cy="916920"/>
          </a:xfrm>
          <a:prstGeom prst="rect">
            <a:avLst/>
          </a:prstGeom>
          <a:solidFill>
            <a:srgbClr val="ccffff"/>
          </a:solidFill>
          <a:ln w="19080">
            <a:solidFill>
              <a:srgbClr val="000000"/>
            </a:solidFill>
            <a:miter/>
          </a:ln>
          <a:effectLst>
            <a:outerShdw dist="107932" dir="189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Уничтожение материальных средст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514600" y="5257800"/>
            <a:ext cx="1752480" cy="959040"/>
          </a:xfrm>
          <a:prstGeom prst="rect">
            <a:avLst/>
          </a:prstGeom>
          <a:solidFill>
            <a:srgbClr val="ccffff"/>
          </a:solidFill>
          <a:ln w="19080">
            <a:solidFill>
              <a:srgbClr val="000000"/>
            </a:solidFill>
            <a:miter/>
          </a:ln>
          <a:effectLst>
            <a:outerShdw dist="107932" dir="135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Отравл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876920" y="5257800"/>
            <a:ext cx="1752480" cy="959040"/>
          </a:xfrm>
          <a:prstGeom prst="rect">
            <a:avLst/>
          </a:prstGeom>
          <a:solidFill>
            <a:srgbClr val="ccffff"/>
          </a:solidFill>
          <a:ln w="19080">
            <a:solidFill>
              <a:srgbClr val="000000"/>
            </a:solidFill>
            <a:miter/>
          </a:ln>
          <a:effectLst>
            <a:outerShdw dist="107932" dir="189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Зараж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5257800" y="1371240"/>
            <a:ext cx="457200" cy="1143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5257800" y="1371240"/>
            <a:ext cx="2666880" cy="1143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6095880" y="2057400"/>
            <a:ext cx="91440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095880" y="2971800"/>
            <a:ext cx="91440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91320" y="3733920"/>
            <a:ext cx="1523880" cy="1523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3352320" y="4419720"/>
            <a:ext cx="304920" cy="838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486400" y="4419720"/>
            <a:ext cx="304920" cy="838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 flipV="1">
            <a:off x="3429000" y="1371240"/>
            <a:ext cx="380880" cy="1143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H="1" flipV="1">
            <a:off x="1066320" y="1371240"/>
            <a:ext cx="2667240" cy="1143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 flipV="1">
            <a:off x="2133720" y="2057400"/>
            <a:ext cx="91440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2133720" y="2971800"/>
            <a:ext cx="91440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1828440" y="3733920"/>
            <a:ext cx="1523880" cy="1523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F34B5-EB48-4954-AD09-6FA5E90F5E3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5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000"/>
                            </p:stCondLst>
                            <p:childTnLst>
                              <p:par>
                                <p:cTn id="35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1500"/>
                            </p:stCondLst>
                            <p:childTnLst>
                              <p:par>
                                <p:cTn id="36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2000"/>
                            </p:stCondLst>
                            <p:childTnLst>
                              <p:par>
                                <p:cTn id="36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2500"/>
                            </p:stCondLst>
                            <p:childTnLst>
                              <p:par>
                                <p:cTn id="37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3000"/>
                            </p:stCondLst>
                            <p:childTnLst>
                              <p:par>
                                <p:cTn id="3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3500"/>
                            </p:stCondLst>
                            <p:childTnLst>
                              <p:par>
                                <p:cTn id="40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4000"/>
                            </p:stCondLst>
                            <p:childTnLst>
                              <p:par>
                                <p:cTn id="40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4500"/>
                            </p:stCondLst>
                            <p:childTnLst>
                              <p:par>
                                <p:cTn id="4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5000"/>
                            </p:stCondLst>
                            <p:childTnLst>
                              <p:par>
                                <p:cTn id="4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5500"/>
                            </p:stCondLst>
                            <p:childTnLst>
                              <p:par>
                                <p:cTn id="4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1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Терроризм, осуществляемый с применением взрывных устройст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2480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ffd5d5"/>
              </a:gs>
            </a:gsLst>
            <a:lin ang="13500000"/>
          </a:gradFill>
          <a:ln w="38160">
            <a:solidFill>
              <a:srgbClr val="800000"/>
            </a:solidFill>
            <a:miter/>
          </a:ln>
          <a:effectLst>
            <a:outerShdw dist="153753" dir="2700000" blurRad="0" rotWithShape="0">
              <a:srgbClr val="4c0000"/>
            </a:outerShdw>
          </a:effectLst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большинстве случаев террористы-бандиты применяют взрывоопасные устройства, предме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Взрывоопасный предмет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(ВОП) 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это устройство или вещество, способное при определенных условиях быстро выделить химическую, электромагнитную, механическую и др. виды энерг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ОП  подразделяются на штатные и самодельны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6804000" y="5445000"/>
            <a:ext cx="1584360" cy="1413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5D659-D02E-44EB-9170-DCCC97941BC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fill="hold">
                      <p:stCondLst>
                        <p:cond delay="0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4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1000"/>
                            </p:stCondLst>
                            <p:childTnLst>
                              <p:par>
                                <p:cTn id="45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5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500"/>
                            </p:stCondLst>
                            <p:childTnLst>
                              <p:par>
                                <p:cTn id="46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62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2000"/>
                            </p:stCondLst>
                            <p:childTnLst>
                              <p:par>
                                <p:cTn id="46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66" dur="5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2500"/>
                            </p:stCondLst>
                            <p:childTnLst>
                              <p:par>
                                <p:cTn id="46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70" dur="50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3000"/>
                            </p:stCondLst>
                            <p:childTnLst>
                              <p:par>
                                <p:cTn id="47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539640" y="691920"/>
            <a:ext cx="8229600" cy="532908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fdd8c1"/>
              </a:gs>
            </a:gsLst>
            <a:lin ang="13500000"/>
          </a:gradFill>
          <a:ln w="57240">
            <a:solidFill>
              <a:srgbClr val="9966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3300"/>
                </a:solidFill>
                <a:latin typeface="Arial"/>
              </a:rPr>
              <a:t>Штатные 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зрывные устройства, произведенные в промышленности и применяемые в армии, правоохранительных орган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 ним принадлежат авиабомбы, кассеты, зажигательные баки, ракеты, снаряды РС, артиллерийские, танковые зенитные, мины от минометов, патроны крупных калибров и стрелкового оружия, ручные гранаты б/п, ВВ, химические и специальные, другие устройства, содержащие ВВ. Все они имеют характерный внешний вид, в основном хорошо известный населению по кинофильмам, телепередачам, книга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C7E12-E69B-4D56-9B49-8BAE57BF54B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fill="hold">
                      <p:stCondLst>
                        <p:cond delay="0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4" dur="10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fill="hold">
                            <p:stCondLst>
                              <p:cond delay="1000"/>
                            </p:stCondLst>
                            <p:childTnLst>
                              <p:par>
                                <p:cTn id="48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88" dur="20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468360" y="620640"/>
            <a:ext cx="8229600" cy="532944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ffcccc"/>
              </a:gs>
            </a:gsLst>
            <a:lin ang="13500000"/>
          </a:gradFill>
          <a:ln w="57240">
            <a:solidFill>
              <a:srgbClr val="996600"/>
            </a:solidFill>
            <a:miter/>
          </a:ln>
        </p:spPr>
        <p:txBody>
          <a:bodyPr lIns="180000" rIns="180000" tIns="46800" bIns="46800" anchor="t">
            <a:normAutofit/>
          </a:bodyPr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3300"/>
                </a:solidFill>
                <a:latin typeface="Arial"/>
              </a:rPr>
              <a:t>Самодельные ВОП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тличаются огромным разнообразием типов ВВ и предохранительно-исполнительных механизмов, формы, веса, радиуса поражения, порядка срабатывания и т.д. Их особенностью является непредсказуемость момента и порядка срабатывания взрывного устройства, его мощность. Используются твердые, пластичные, гранулированные, порошкообразные вещества, различные виды пороха, жидкости и разнообразные смес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253CD-8F52-43CF-8EC6-0E11AD8619E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fill="hold">
                      <p:stCondLst>
                        <p:cond delay="0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9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500"/>
                            </p:stCondLst>
                            <p:childTnLst>
                              <p:par>
                                <p:cTn id="497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99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0" y="836640"/>
            <a:ext cx="9144000" cy="5761080"/>
          </a:xfrm>
          <a:custGeom>
            <a:avLst/>
            <a:gdLst>
              <a:gd name="textAreaLeft" fmla="*/ 21960 w 9144000"/>
              <a:gd name="textAreaRight" fmla="*/ 9166320 w 9144000"/>
              <a:gd name="textAreaTop" fmla="*/ 379800 h 5761080"/>
              <a:gd name="textAreaBottom" fmla="*/ 5381280 h 5761080"/>
            </a:gdLst>
            <a:ahLst/>
            <a:rect l="textAreaLeft" t="textAreaTop" r="textAreaRight" b="textAreaBottom"/>
            <a:pathLst>
              <a:path w="21600" h="21600">
                <a:moveTo>
                  <a:pt x="52" y="712"/>
                </a:moveTo>
                <a:cubicBezTo>
                  <a:pt x="3626" y="-1810"/>
                  <a:pt x="7252" y="3234"/>
                  <a:pt x="10826" y="712"/>
                </a:cubicBezTo>
                <a:cubicBezTo>
                  <a:pt x="14400" y="-1810"/>
                  <a:pt x="18026" y="3234"/>
                  <a:pt x="21600" y="712"/>
                </a:cubicBezTo>
                <a:lnTo>
                  <a:pt x="21548" y="20888"/>
                </a:lnTo>
                <a:cubicBezTo>
                  <a:pt x="17974" y="23410"/>
                  <a:pt x="14348" y="18366"/>
                  <a:pt x="10774" y="20888"/>
                </a:cubicBezTo>
                <a:cubicBezTo>
                  <a:pt x="7200" y="23410"/>
                  <a:pt x="3574" y="18366"/>
                  <a:pt x="0" y="20888"/>
                </a:cubicBezTo>
                <a:close/>
              </a:path>
            </a:pathLst>
          </a:custGeom>
          <a:gradFill rotWithShape="0">
            <a:gsLst>
              <a:gs pos="0">
                <a:srgbClr val="fdd8c1"/>
              </a:gs>
              <a:gs pos="50000">
                <a:srgbClr val="ccffff"/>
              </a:gs>
              <a:gs pos="100000">
                <a:srgbClr val="fdd8c1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fd5d5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Принципы борьбы с терроризм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24000" y="907560"/>
            <a:ext cx="88200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конность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оритет мер предупреждения терроризм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еотвратимость наказания за осуществление террористической деятельност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очетание гласных и негласных методов борьбы с терроризмо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мплексное использование профилактических правовых, политических, социально-экономических, пропагандистских мер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оритет защиты прав лиц, подвергшихся опасности в результате террористической акци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инимальные уступки террорист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единоначалие в руководстве привлекаемыми силами и средствами при проведении контртеррористических операци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инимальная огласка технических приемов и тактики проведения контртеррористических операций, а также состава участников указанных операц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675640" y="6524640"/>
            <a:ext cx="4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D356D-3FEE-47D3-8055-C6C0FBE0BC9A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4B9FD-1356-4874-9EF8-85384B71243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fill="hold">
                      <p:stCondLst>
                        <p:cond delay="0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1000"/>
                            </p:stCondLst>
                            <p:childTnLst>
                              <p:par>
                                <p:cTn id="5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1500"/>
                            </p:stCondLst>
                            <p:childTnLst>
                              <p:par>
                                <p:cTn id="5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5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2000"/>
                            </p:stCondLst>
                            <p:childTnLst>
                              <p:par>
                                <p:cTn id="5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9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2500"/>
                            </p:stCondLst>
                            <p:childTnLst>
                              <p:par>
                                <p:cTn id="5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3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fill="hold">
                            <p:stCondLst>
                              <p:cond delay="3000"/>
                            </p:stCondLst>
                            <p:childTnLst>
                              <p:par>
                                <p:cTn id="5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7" dur="5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3500"/>
                            </p:stCondLst>
                            <p:childTnLst>
                              <p:par>
                                <p:cTn id="5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1" dur="5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4000"/>
                            </p:stCondLst>
                            <p:childTnLst>
                              <p:par>
                                <p:cTn id="5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fill="hold">
                            <p:stCondLst>
                              <p:cond delay="4500"/>
                            </p:stCondLst>
                            <p:childTnLst>
                              <p:par>
                                <p:cTn id="5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9" dur="500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fill="hold">
                            <p:stCondLst>
                              <p:cond delay="5000"/>
                            </p:stCondLst>
                            <p:childTnLst>
                              <p:par>
                                <p:cTn id="5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3" dur="500"/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5500"/>
                            </p:stCondLst>
                            <p:childTnLst>
                              <p:par>
                                <p:cTn id="5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7" dur="500"/>
                                        <p:tgtEl>
                                          <p:spTgt spid="1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395280" y="115920"/>
            <a:ext cx="8497800" cy="1225440"/>
          </a:xfrm>
          <a:prstGeom prst="downArrow">
            <a:avLst>
              <a:gd name="adj1" fmla="val 84648"/>
              <a:gd name="adj2" fmla="val 57407"/>
            </a:avLst>
          </a:prstGeom>
          <a:solidFill>
            <a:srgbClr val="fbdf53"/>
          </a:solidFill>
          <a:ln w="2844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В Российской Федерации борьба с терроризмом ведетс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824720"/>
          </a:xfrm>
          <a:prstGeom prst="rect">
            <a:avLst/>
          </a:prstGeom>
          <a:gradFill rotWithShape="0">
            <a:gsLst>
              <a:gs pos="0">
                <a:srgbClr val="ffebeb"/>
              </a:gs>
              <a:gs pos="100000">
                <a:srgbClr val="ccffff"/>
              </a:gs>
            </a:gsLst>
            <a:lin ang="8100000"/>
          </a:gradFill>
          <a:ln w="28440">
            <a:solidFill>
              <a:srgbClr val="996600"/>
            </a:solidFill>
            <a:miter/>
          </a:ln>
          <a:effectLst>
            <a:outerShdw dist="153753" dir="2700000" blurRad="0" rotWithShape="0">
              <a:srgbClr val="5b3c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ts val="2599"/>
              </a:lnSpc>
              <a:spcBef>
                <a:spcPts val="400"/>
              </a:spcBef>
              <a:spcAft>
                <a:spcPts val="7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федеральной службой безопасности (ФСБ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599"/>
              </a:lnSpc>
              <a:spcBef>
                <a:spcPts val="400"/>
              </a:spcBef>
              <a:spcAft>
                <a:spcPts val="7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инистерством внутренних дел (МВД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599"/>
              </a:lnSpc>
              <a:spcBef>
                <a:spcPts val="400"/>
              </a:spcBef>
              <a:spcAft>
                <a:spcPts val="7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инистерством обороны (МО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599"/>
              </a:lnSpc>
              <a:spcBef>
                <a:spcPts val="400"/>
              </a:spcBef>
              <a:spcAft>
                <a:spcPts val="7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лужбой внешней разведки (СВР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599"/>
              </a:lnSpc>
              <a:spcBef>
                <a:spcPts val="400"/>
              </a:spcBef>
              <a:spcAft>
                <a:spcPts val="7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федеральной службой охраны (ФСО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599"/>
              </a:lnSpc>
              <a:spcBef>
                <a:spcPts val="400"/>
              </a:spcBef>
              <a:spcAft>
                <a:spcPts val="7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федеральной пограничной службой (ФПС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599"/>
              </a:lnSpc>
              <a:spcBef>
                <a:spcPts val="400"/>
              </a:spcBef>
              <a:spcAft>
                <a:spcPts val="7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ЧС Росс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599"/>
              </a:lnSpc>
              <a:spcBef>
                <a:spcPts val="400"/>
              </a:spcBef>
              <a:spcAft>
                <a:spcPts val="7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илы и средств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599"/>
              </a:lnSpc>
              <a:spcBef>
                <a:spcPts val="400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убъектов РФ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599"/>
              </a:lnSpc>
              <a:spcBef>
                <a:spcPts val="400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рганов местного самоуправ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ts val="2599"/>
              </a:lnSpc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604360" y="6491160"/>
            <a:ext cx="5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A474C-61E8-4E97-8F6C-7E7CEC410BE2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2EC44-AB12-44AE-A40D-638ECFEE8CE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8" dur="indefinite" restart="never" nodeType="tmRoot">
          <p:childTnLst>
            <p:seq>
              <p:cTn id="549" dur="indefinite" nodeType="mainSeq">
                <p:childTnLst>
                  <p:par>
                    <p:cTn id="550" fill="hold">
                      <p:stCondLst>
                        <p:cond delay="0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6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9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2000"/>
                            </p:stCondLst>
                            <p:childTnLst>
                              <p:par>
                                <p:cTn id="56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63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fill="hold">
                            <p:stCondLst>
                              <p:cond delay="2500"/>
                            </p:stCondLst>
                            <p:childTnLst>
                              <p:par>
                                <p:cTn id="56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67" dur="5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fill="hold">
                            <p:stCondLst>
                              <p:cond delay="3000"/>
                            </p:stCondLst>
                            <p:childTnLst>
                              <p:par>
                                <p:cTn id="56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71" dur="5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fill="hold">
                            <p:stCondLst>
                              <p:cond delay="3500"/>
                            </p:stCondLst>
                            <p:childTnLst>
                              <p:par>
                                <p:cTn id="57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75" dur="50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4000"/>
                            </p:stCondLst>
                            <p:childTnLst>
                              <p:par>
                                <p:cTn id="57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79" dur="500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fill="hold">
                            <p:stCondLst>
                              <p:cond delay="4500"/>
                            </p:stCondLst>
                            <p:childTnLst>
                              <p:par>
                                <p:cTn id="58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83" dur="500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5000"/>
                            </p:stCondLst>
                            <p:childTnLst>
                              <p:par>
                                <p:cTn id="58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87" dur="500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5500"/>
                            </p:stCondLst>
                            <p:childTnLst>
                              <p:par>
                                <p:cTn id="58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91" dur="500"/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6000"/>
                            </p:stCondLst>
                            <p:childTnLst>
                              <p:par>
                                <p:cTn id="59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95" dur="500"/>
                                        <p:tgtEl>
                                          <p:spTgt spid="1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6500"/>
                            </p:stCondLst>
                            <p:childTnLst>
                              <p:par>
                                <p:cTn id="59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99" dur="500"/>
                                        <p:tgtEl>
                                          <p:spTgt spid="1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Для координации деятельности органов исполнительной власти (федеральных и субъектов РФ) и органов местного самоуправления создаютс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15640" y="1268280"/>
            <a:ext cx="7056360" cy="720720"/>
          </a:xfrm>
          <a:prstGeom prst="rect">
            <a:avLst/>
          </a:prstGeom>
          <a:solidFill>
            <a:srgbClr val="ccffcc"/>
          </a:solidFill>
          <a:ln w="28440">
            <a:solidFill>
              <a:srgbClr val="9966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17784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Национальный антитеррористический комит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Председател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директор ФС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788000" y="981000"/>
            <a:ext cx="4043160" cy="53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619280" y="5373720"/>
            <a:ext cx="6265440" cy="1007640"/>
            <a:chOff x="1619280" y="5373720"/>
            <a:chExt cx="6265440" cy="1007640"/>
          </a:xfrm>
        </p:grpSpPr>
        <p:sp>
          <p:nvSpPr>
            <p:cNvPr id="149" name=""/>
            <p:cNvSpPr/>
            <p:nvPr/>
          </p:nvSpPr>
          <p:spPr>
            <a:xfrm>
              <a:off x="2115000" y="5517720"/>
              <a:ext cx="5769720" cy="863640"/>
            </a:xfrm>
            <a:prstGeom prst="rect">
              <a:avLst/>
            </a:prstGeom>
            <a:solidFill>
              <a:srgbClr val="ccccff"/>
            </a:solidFill>
            <a:ln w="28440">
              <a:solidFill>
                <a:srgbClr val="9966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271440" indent="-271440"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619280" y="5373720"/>
              <a:ext cx="6068160" cy="863640"/>
            </a:xfrm>
            <a:prstGeom prst="rect">
              <a:avLst/>
            </a:prstGeom>
            <a:solidFill>
              <a:srgbClr val="ccccff"/>
            </a:solidFill>
            <a:ln w="2844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271440" indent="-271440" algn="ctr">
                <a:lnSpc>
                  <a:spcPts val="1998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Временные штабы по подготовке и обеспечению безопасности проведения культурно-зрелищных, спортивных и общественно-массовых мероприяти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1547640" y="1916280"/>
            <a:ext cx="6264360" cy="576000"/>
          </a:xfrm>
          <a:prstGeom prst="rect">
            <a:avLst/>
          </a:prstGeom>
          <a:solidFill>
            <a:srgbClr val="ccffcc"/>
          </a:solidFill>
          <a:ln w="2844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257760" indent="-257760" algn="ctr">
              <a:lnSpc>
                <a:spcPts val="18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Федеральный оперативный шта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7760" indent="-257760" algn="ctr">
              <a:lnSpc>
                <a:spcPts val="18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Руководитель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назначается председателем комите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403280" y="2781360"/>
            <a:ext cx="6697800" cy="1008000"/>
            <a:chOff x="1403280" y="2781360"/>
            <a:chExt cx="6697800" cy="1008000"/>
          </a:xfrm>
        </p:grpSpPr>
        <p:sp>
          <p:nvSpPr>
            <p:cNvPr id="153" name=""/>
            <p:cNvSpPr/>
            <p:nvPr/>
          </p:nvSpPr>
          <p:spPr>
            <a:xfrm>
              <a:off x="1868400" y="3092400"/>
              <a:ext cx="6232680" cy="696960"/>
            </a:xfrm>
            <a:prstGeom prst="rect">
              <a:avLst/>
            </a:prstGeom>
            <a:solidFill>
              <a:srgbClr val="ccffff"/>
            </a:solidFill>
            <a:ln w="28440">
              <a:solidFill>
                <a:srgbClr val="9966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271440" indent="-271440"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636560" y="2906640"/>
              <a:ext cx="6320160" cy="746280"/>
            </a:xfrm>
            <a:prstGeom prst="rect">
              <a:avLst/>
            </a:prstGeom>
            <a:solidFill>
              <a:srgbClr val="ccffff"/>
            </a:solidFill>
            <a:ln w="28440">
              <a:solidFill>
                <a:srgbClr val="9966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271440" indent="-271440"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403280" y="2781360"/>
              <a:ext cx="6465960" cy="747720"/>
            </a:xfrm>
            <a:prstGeom prst="rect">
              <a:avLst/>
            </a:prstGeom>
            <a:solidFill>
              <a:srgbClr val="ccffff"/>
            </a:solidFill>
            <a:ln w="2844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271440" indent="-271440"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Антитеррористические комиссии в субъектах Р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271440" indent="-271440"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 u="sng">
                  <a:solidFill>
                    <a:srgbClr val="000000"/>
                  </a:solidFill>
                  <a:uFillTx/>
                  <a:latin typeface="Arial"/>
                </a:rPr>
                <a:t>Руководители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– высшие должностные лица  субъектов Р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1547640" y="3500280"/>
            <a:ext cx="6335640" cy="792360"/>
            <a:chOff x="1547640" y="3500280"/>
            <a:chExt cx="6335640" cy="792360"/>
          </a:xfrm>
        </p:grpSpPr>
        <p:sp>
          <p:nvSpPr>
            <p:cNvPr id="157" name=""/>
            <p:cNvSpPr/>
            <p:nvPr/>
          </p:nvSpPr>
          <p:spPr>
            <a:xfrm>
              <a:off x="1724760" y="3613320"/>
              <a:ext cx="6158520" cy="679320"/>
            </a:xfrm>
            <a:prstGeom prst="rect">
              <a:avLst/>
            </a:prstGeom>
            <a:solidFill>
              <a:srgbClr val="66ffff"/>
            </a:solidFill>
            <a:ln w="28440">
              <a:solidFill>
                <a:srgbClr val="9966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271440" indent="-271440"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547640" y="3500280"/>
              <a:ext cx="6158520" cy="679320"/>
            </a:xfrm>
            <a:prstGeom prst="rect">
              <a:avLst/>
            </a:prstGeom>
            <a:solidFill>
              <a:srgbClr val="66ffff"/>
            </a:solidFill>
            <a:ln w="2844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271440" indent="-271440"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Оперативные штаб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271440" indent="-271440"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 u="sng">
                  <a:solidFill>
                    <a:srgbClr val="000000"/>
                  </a:solidFill>
                  <a:uFillTx/>
                  <a:latin typeface="Arial"/>
                </a:rPr>
                <a:t>Руководители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– руководители территориальных органов ФСБ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4572000" y="2492280"/>
            <a:ext cx="0" cy="289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43280" y="4221000"/>
            <a:ext cx="0" cy="287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59280" y="6453360"/>
            <a:ext cx="59054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1440" indent="-271440"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993300"/>
                </a:solidFill>
                <a:latin typeface="Times New Roman"/>
              </a:rPr>
              <a:t>Указ Президента РФ от 15.02.2006 № 1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1619280" y="4508640"/>
            <a:ext cx="6265440" cy="648720"/>
            <a:chOff x="1619280" y="4508640"/>
            <a:chExt cx="6265440" cy="648720"/>
          </a:xfrm>
        </p:grpSpPr>
        <p:sp>
          <p:nvSpPr>
            <p:cNvPr id="163" name=""/>
            <p:cNvSpPr/>
            <p:nvPr/>
          </p:nvSpPr>
          <p:spPr>
            <a:xfrm>
              <a:off x="2115000" y="4601160"/>
              <a:ext cx="5769720" cy="556200"/>
            </a:xfrm>
            <a:prstGeom prst="rect">
              <a:avLst/>
            </a:prstGeom>
            <a:solidFill>
              <a:srgbClr val="ccccff"/>
            </a:solidFill>
            <a:ln w="28440">
              <a:solidFill>
                <a:srgbClr val="9966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271440" indent="-271440"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619280" y="4508640"/>
              <a:ext cx="6068160" cy="556200"/>
            </a:xfrm>
            <a:prstGeom prst="rect">
              <a:avLst/>
            </a:prstGeom>
            <a:solidFill>
              <a:srgbClr val="ccccff"/>
            </a:solidFill>
            <a:ln w="2844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1000"/>
            </a:bodyPr>
            <a:p>
              <a:pPr marL="246960" indent="-246960" algn="ctr">
                <a:lnSpc>
                  <a:spcPts val="1998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Муниципальные постоянно действующие антитеррористические комисси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4643280" y="5084640"/>
            <a:ext cx="0" cy="287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524EC-15DB-4653-91B1-97E2C6D4F19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fill="hold">
                      <p:stCondLst>
                        <p:cond delay="0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fill="hold">
                            <p:stCondLst>
                              <p:cond delay="1000"/>
                            </p:stCondLst>
                            <p:childTnLst>
                              <p:par>
                                <p:cTn id="609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fill="hold">
                            <p:stCondLst>
                              <p:cond delay="2000"/>
                            </p:stCondLst>
                            <p:childTnLst>
                              <p:par>
                                <p:cTn id="614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6" dur="1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7" dur="1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fill="hold">
                            <p:stCondLst>
                              <p:cond delay="3000"/>
                            </p:stCondLst>
                            <p:childTnLst>
                              <p:par>
                                <p:cTn id="619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10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10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fill="hold">
                            <p:stCondLst>
                              <p:cond delay="4000"/>
                            </p:stCondLst>
                            <p:childTnLst>
                              <p:par>
                                <p:cTn id="624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fill="hold">
                            <p:stCondLst>
                              <p:cond delay="5000"/>
                            </p:stCondLst>
                            <p:childTnLst>
                              <p:par>
                                <p:cTn id="6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fill="hold">
                            <p:stCondLst>
                              <p:cond delay="5500"/>
                            </p:stCondLst>
                            <p:childTnLst>
                              <p:par>
                                <p:cTn id="6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6000"/>
                            </p:stCondLst>
                            <p:childTnLst>
                              <p:par>
                                <p:cTn id="6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fill="hold">
                            <p:stCondLst>
                              <p:cond delay="6500"/>
                            </p:stCondLst>
                            <p:childTnLst>
                              <p:par>
                                <p:cTn id="6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fill="hold">
                            <p:stCondLst>
                              <p:cond delay="7000"/>
                            </p:stCondLst>
                            <p:childTnLst>
                              <p:par>
                                <p:cTn id="6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8" fill="hold">
                            <p:stCondLst>
                              <p:cond delay="7500"/>
                            </p:stCondLst>
                            <p:childTnLst>
                              <p:par>
                                <p:cTn id="6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1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fill="hold">
                            <p:stCondLst>
                              <p:cond delay="8000"/>
                            </p:stCondLst>
                            <p:childTnLst>
                              <p:par>
                                <p:cTn id="6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5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6" fill="hold">
                            <p:stCondLst>
                              <p:cond delay="8500"/>
                            </p:stCondLst>
                            <p:childTnLst>
                              <p:par>
                                <p:cTn id="65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9" dur="8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0" dur="8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1" dur="8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5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Система безопасности объекта, предприятия, учреждения, организации</a:t>
            </a:r>
            <a:r>
              <a:rPr b="0" lang="en-US" sz="40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181080" y="776160"/>
          <a:ext cx="8655120" cy="62834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1080" y="776160"/>
                    <a:ext cx="8655120" cy="628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DA8FC-EE3F-4F7A-B14C-BE26F1C6AAB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2" dur="indefinite" restart="never" nodeType="tmRoot">
          <p:childTnLst>
            <p:seq>
              <p:cTn id="663" dur="indefinite" nodeType="mainSeq">
                <p:childTnLst>
                  <p:par>
                    <p:cTn id="664" fill="hold">
                      <p:stCondLst>
                        <p:cond delay="0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8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9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fill="hold">
                            <p:stCondLst>
                              <p:cond delay="1000"/>
                            </p:stCondLst>
                            <p:childTnLst>
                              <p:par>
                                <p:cTn id="671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90756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3300"/>
                </a:solidFill>
                <a:latin typeface="Arial"/>
              </a:rPr>
              <a:t>Учебные вопрос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2133360"/>
            <a:ext cx="8229600" cy="36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>
              <a:lnSpc>
                <a:spcPct val="80000"/>
              </a:lnSpc>
              <a:spcBef>
                <a:spcPts val="1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ормативные правовые и организационные основы противодействия терроризму. Сущность, виды терроризм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1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ероприятия по минимизации последствий террористических акт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1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рганизация и проведение мероприятий по снятию возникшего стресса выработке психологической устойчивости и социальной реабилитации пострадавши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0E8C5-1875-404B-A927-98959E648F4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780"/>
                            </p:stCondLst>
                            <p:childTnLst>
                              <p:par>
                                <p:cTn id="2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280"/>
                            </p:stCondLst>
                            <p:childTnLst>
                              <p:par>
                                <p:cTn id="2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780"/>
                            </p:stCondLst>
                            <p:childTnLst>
                              <p:par>
                                <p:cTn id="2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0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3300"/>
                </a:solidFill>
                <a:latin typeface="Arial"/>
              </a:rPr>
              <a:t>Очень важно своевременно и качественно на каждом объекте экономики, в организации, учреждении, учебном, лечебном заведении разработать следующие документ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50920" y="1456920"/>
            <a:ext cx="8642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>
              <a:lnSpc>
                <a:spcPts val="1599"/>
              </a:lnSpc>
              <a:spcAft>
                <a:spcPts val="799"/>
              </a:spcAft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План по защите и прикрытию объекта, который состоит из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41360" indent="-176040">
              <a:lnSpc>
                <a:spcPts val="1599"/>
              </a:lnSpc>
              <a:spcAft>
                <a:spcPts val="799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оперативной час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41360" indent="-176040">
              <a:lnSpc>
                <a:spcPts val="1599"/>
              </a:lnSpc>
              <a:spcAft>
                <a:spcPts val="799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поэтажной структурной схемы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41360" indent="-176040">
              <a:lnSpc>
                <a:spcPts val="1599"/>
              </a:lnSpc>
              <a:spcAft>
                <a:spcPts val="799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пояснительной записк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spcAft>
                <a:spcPts val="799"/>
              </a:spcAft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Должностные инструкции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41360" indent="-176040">
              <a:lnSpc>
                <a:spcPts val="1599"/>
              </a:lnSpc>
              <a:spcAft>
                <a:spcPts val="799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руководителю, заместителям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41360" indent="-176040">
              <a:lnSpc>
                <a:spcPts val="1599"/>
              </a:lnSpc>
              <a:spcAft>
                <a:spcPts val="799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председателям, членам КЧС и ПБ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41360" indent="-176040">
              <a:lnSpc>
                <a:spcPts val="1599"/>
              </a:lnSpc>
              <a:spcAft>
                <a:spcPts val="799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должностным лицам ГОЧС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41360" indent="-176040">
              <a:lnSpc>
                <a:spcPts val="1599"/>
              </a:lnSpc>
              <a:spcAft>
                <a:spcPts val="799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персоналу, (сотрудникам) организац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ts val="1599"/>
              </a:lnSpc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В этих инструкциях должны быть конкретно определены их действия с учетом конкретных условий производства, графика работ в случае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41360" indent="-176040">
              <a:lnSpc>
                <a:spcPts val="1599"/>
              </a:lnSpc>
              <a:spcAft>
                <a:spcPts val="799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поступления угрозы по телефону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41360" indent="-176040">
              <a:lnSpc>
                <a:spcPts val="1599"/>
              </a:lnSpc>
              <a:spcAft>
                <a:spcPts val="799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поступления угрозы в письменной форме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41360" indent="-176040">
              <a:lnSpc>
                <a:spcPts val="1599"/>
              </a:lnSpc>
              <a:spcAft>
                <a:spcPts val="799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обнаружения взрывоопасных предметов (ВОП) или предметов похожих на ВОП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41360" indent="-176040">
              <a:lnSpc>
                <a:spcPts val="1599"/>
              </a:lnSpc>
              <a:spcAft>
                <a:spcPts val="799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захвата заложников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41360" indent="-176040">
              <a:lnSpc>
                <a:spcPts val="1599"/>
              </a:lnSpc>
              <a:spcAft>
                <a:spcPts val="799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совершения теракт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spcAft>
                <a:spcPts val="799"/>
              </a:spcAft>
              <a:buClr>
                <a:srgbClr val="000000"/>
              </a:buClr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План проведения тренировки на случай теракта, пожар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12E7B-B95B-43F9-92E7-3231BFD51D9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79280" y="115920"/>
            <a:ext cx="878544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ahoma"/>
              </a:rPr>
              <a:t>Департамент гражданской защиты МЧС России рекомендуе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79280" y="620640"/>
            <a:ext cx="878544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ts val="1599"/>
              </a:lnSpc>
              <a:spcAft>
                <a:spcPts val="1001"/>
              </a:spcAft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Распределить обязанности среди руководящего состава, назначить ответственного за безопасность и защиту сотрудник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1599"/>
              </a:lnSpc>
              <a:spcAft>
                <a:spcPts val="1001"/>
              </a:spcAft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В соответствии с «Планами ГО» и «Планами действий...» подготовить руководящий состав, обучать сотрудников, население умелым действиям в ЧС, оказанию само-, взаимопомощи и первой медицинской помощи пострадавши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1599"/>
              </a:lnSpc>
              <a:spcAft>
                <a:spcPts val="1001"/>
              </a:spcAft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Организовать тщательный подбор сотрудников, контроль за их деятельностью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1599"/>
              </a:lnSpc>
              <a:spcAft>
                <a:spcPts val="1001"/>
              </a:spcAft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Ужесточить пропускной режи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1599"/>
              </a:lnSpc>
              <a:spcAft>
                <a:spcPts val="1001"/>
              </a:spcAft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Обеспечить сотрудников охраны средствами связи, наблюдения, оповещения, видео-звуко-запис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1599"/>
              </a:lnSpc>
              <a:spcAft>
                <a:spcPts val="1001"/>
              </a:spcAft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Содержать в исправном состоянии внешние ограждения, освещение, средства пожаротушения, оповещения и сигнализации, систему видеозапис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1599"/>
              </a:lnSpc>
              <a:spcAft>
                <a:spcPts val="1001"/>
              </a:spcAft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Изучить с персоналом должностные инструкции, научить действовать практически в разное время суток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1599"/>
              </a:lnSpc>
              <a:spcAft>
                <a:spcPts val="1001"/>
              </a:spcAft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Оборудовать рабочее место секретаря (диспетчера) установить: АОН, кнопку вызова охраны объекта и вневедомственной охраны, руководителя, звукозаписывающую аппаратур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1599"/>
              </a:lnSpc>
              <a:spcAft>
                <a:spcPts val="1001"/>
              </a:spcAft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Освободить от лишних предметов помещения, лестничные клетки, основные и запасные пожарные выход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1599"/>
              </a:lnSpc>
              <a:spcAft>
                <a:spcPts val="1001"/>
              </a:spcAft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Обеспечить беспрепятственный доступ в любое время года и суток к ПГ, колонкам, водоемам иметь светоотражающие знак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1599"/>
              </a:lnSpc>
              <a:spcAft>
                <a:spcPts val="1001"/>
              </a:spcAft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При необходимости определить зоны ограниченного доступ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1599"/>
              </a:lnSpc>
              <a:spcAft>
                <a:spcPts val="1001"/>
              </a:spcAft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Ежедневно комиссионно осматривать помещения, здания, склады, имущество, особенно в арендованных помещения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ts val="1599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D21DF-F734-4F12-BC3A-AC1E0AC6F29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50920" y="765000"/>
            <a:ext cx="864216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534960" indent="-534960" algn="just">
              <a:buClr>
                <a:srgbClr val="000000"/>
              </a:buClr>
              <a:buFont typeface="Arial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и осмотре и проверке несения дежурства СБ необходимо особое внимание обратить на демаскирующие признаки, которые могут указывать на наличие взрывоопасных предметов (ВОП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ts val="1998"/>
              </a:lnSpc>
              <a:spcAft>
                <a:spcPts val="1001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атянутая проволока, шнур, веревка, кабель и т.д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ts val="1998"/>
              </a:lnSpc>
              <a:spcAft>
                <a:spcPts val="1001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аличие на обнаруженном предмете проводов, изоленты, антенн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ts val="1998"/>
              </a:lnSpc>
              <a:spcAft>
                <a:spcPts val="1001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одозрительные звуки, щелчки, тиканье часов, издаваемые предмето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ts val="1998"/>
              </a:lnSpc>
              <a:spcAft>
                <a:spcPts val="1001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еожиданный незнакомый запах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ts val="1998"/>
              </a:lnSpc>
              <a:spcAft>
                <a:spcPts val="1001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бесхозные сумки, коробки, свертки, пакеты, конверты в помещениях, на территории, в припаркованной машин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ts val="1998"/>
              </a:lnSpc>
              <a:spcAft>
                <a:spcPts val="1001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леды ремонтных работ, участки с нарушенной окраской, поверхность которых отличается от общего фон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ts val="1998"/>
              </a:lnSpc>
              <a:spcAft>
                <a:spcPts val="1001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элементы, остатки материалов не характерные для данного предмета или местност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ts val="1998"/>
              </a:lnSpc>
              <a:spcAft>
                <a:spcPts val="1001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выделяющиеся участки свежевырытой или засохшей земли на территории вблизи зд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189000"/>
            <a:ext cx="237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Продолж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849C6-1CBC-4817-926A-81C81560706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468360" y="62028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Морально-психологическая подготовка к действия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это система деятельности руководителей всех уровней, по формированию у спасателей и населения качеств, позволяющих успешно переносить высокие моральные, психологические и физические нагрузки при выполнении задач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68360" y="3573360"/>
            <a:ext cx="8229600" cy="269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just">
              <a:lnSpc>
                <a:spcPts val="2599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3300"/>
                </a:solidFill>
                <a:latin typeface="Arial"/>
              </a:rPr>
              <a:t>Моральная подготовка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– это формирование в сознании людей чувств гражданского долга, высокой ответственности за порученное дел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3300"/>
                </a:solidFill>
                <a:latin typeface="Arial"/>
              </a:rPr>
              <a:t>Психологическая подготовка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– это формирование у людей таких качеств, которые усиливают их способность активно, и умело действовать в экстремальных условия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30AEF-8DC5-4111-A07E-1F6F335396B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993300"/>
                </a:solidFill>
                <a:uFillTx/>
                <a:latin typeface="Arial"/>
              </a:rPr>
              <a:t>В повседневной деятельности для выработки таких качеств при подготовке спасателей и населения необходим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Формировать высокую сознательность, и ответственность, мужество, уверенность в достижении цел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ырабатывать психологическую стойкость при выполнении задач в чрезвычайных ситуация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азвивать и совершенствовать навыки выполнения задач в условиях психологических и моральных перегрузо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стоянно проводить работу по сплочению коллектива для успешного выполнения задач в любой обстановк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6E029-F8FF-449C-90E5-4AE6B895473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993300"/>
                </a:solidFill>
                <a:uFillTx/>
                <a:latin typeface="Arial"/>
              </a:rPr>
              <a:t>Морально-психологическую подготовку необходимо планировать и проводить по следующим направления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бщая подготов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пециальная подготов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целевая подготов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азрядка напряжен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орально-психологическая поддерж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оциальная реабилитация пострадавши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4C3B0-B332-4F62-9537-1D8D401E8AB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93300"/>
                </a:solidFill>
                <a:latin typeface="Arial"/>
              </a:rPr>
              <a:t>Социальная реабилитация лиц, пострадавших в результате теракта</a:t>
            </a:r>
            <a:r>
              <a:rPr b="0" lang="en-US" sz="26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993300"/>
                </a:solidFill>
                <a:latin typeface="Arial"/>
              </a:rPr>
              <a:t>определена в ст.19 Федерального закона № 35-ФЗ и включает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68360" y="184428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сихологическую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едицинскую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офессиональную реабилитацию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авовую помощ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одействие в трудоустройств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едоставление жиль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13E6B-BB7B-4140-ABF1-2D1BE8F70E35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ts val="3197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В ст.205 Федерального закона № 63-ФЗ предусмотрена ответственность за терроризм, то есть совершение взрыва, поджога, иных действий, создающих опасность гибели людей, причинения ущерба в целях нарушения общественной безопасности, устрашении населения наказывается лишением свободы на срок от 8 до 12 лет, если действия повлекли смерть человека или иные тяжкие последствия наказываются лишением свободы до 20 лет или пожизненно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59109-5FDD-4B04-8205-2215CC38B1E7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Times New Roman"/>
              </a:rPr>
              <a:t>Л и т е р а т у р а 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50560" y="549360"/>
            <a:ext cx="878508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3556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Федеральный закон Российской Федерации «О противодействии терроризму» от 6 марта 2006 года № 35-ФЗ. (в ред.федерального закона от 27.07.2006 № 153-ФЗ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Указ Президента Российской Федерации от 15 февраля 2006 года      № 116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становление Правительства РФ от 15.09.1999 г. № 1040 "О мерах по противодействию терроризму"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становление Администрации РО от 15.10.2004 № 409 «О дополнительных мерах по обеспечению безопасности на объектах социальной сферы и жизнеобеспечения, а также в местах массового пребывания людей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Методические рекомендации МЧС РФ по предупреждению террористических акций на территории муниципальных образований от 29.09.1999г. № 33-2957-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екомендации начальника департамента гражданской защиты МЧС РФ от 28.03.2003г. № 14/6/156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ействия населения по предупреждению террористических акций. Библиотечка "Военные знания". М., 2004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рганизация и ведение ГО и защиты населения и территорий от ЧС природного и техногенного характера. Учебное пособие. Институт риска и безопасности МЧС РФ, 200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Уголовный Кодекс РФ от 13 июня 1996 г. № 63-ФЗ.                                 (в ред.федерального закона от 24.07.2007 № 214-ФЗ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0266E-6881-4D8C-BE68-11D36749A04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000"/>
                            </p:stCondLst>
                            <p:childTnLst>
                              <p:par>
                                <p:cTn id="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500"/>
                            </p:stCondLst>
                            <p:childTnLst>
                              <p:par>
                                <p:cTn id="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2500"/>
                            </p:stCondLst>
                            <p:childTnLst>
                              <p:par>
                                <p:cTn id="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3000"/>
                            </p:stCondLst>
                            <p:childTnLst>
                              <p:par>
                                <p:cTn id="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3500"/>
                            </p:stCondLst>
                            <p:childTnLst>
                              <p:par>
                                <p:cTn id="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4000"/>
                            </p:stCondLst>
                            <p:childTnLst>
                              <p:par>
                                <p:cTn id="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4500"/>
                            </p:stCondLst>
                            <p:childTnLst>
                              <p:par>
                                <p:cTn id="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5000"/>
                            </p:stCondLst>
                            <p:childTnLst>
                              <p:par>
                                <p:cTn id="7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323640" y="764640"/>
            <a:ext cx="8569080" cy="4535640"/>
          </a:xfrm>
          <a:prstGeom prst="rect">
            <a:avLst/>
          </a:prstGeom>
          <a:noFill/>
          <a:ln w="38160">
            <a:solidFill>
              <a:srgbClr val="d60093"/>
            </a:solidFill>
            <a:miter/>
          </a:ln>
          <a:effectLst>
            <a:outerShdw dist="17819" dir="2700000" blurRad="0" rotWithShape="0">
              <a:srgbClr val="7f0057"/>
            </a:outerShdw>
          </a:effectLst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Терроризм</a:t>
            </a:r>
            <a:r>
              <a:rPr b="0" lang="ru-RU" sz="3200" spc="-1" strike="noStrike">
                <a:solidFill>
                  <a:srgbClr val="cc3300"/>
                </a:solidFill>
                <a:latin typeface="Arial"/>
              </a:rPr>
              <a:t> –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идеология насилия и практика воздействия на принятие решения органами государственной власти, органами местного само-управления или международными органи-зациями, связанные с устрашением населения и (или) иными формами противоправных насильственных действ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908000" y="5734080"/>
            <a:ext cx="691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Из Федерального закона от 06.03.2006 № 35-Ф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2B215-E221-4644-B479-BAAC3413793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000"/>
                            </p:stCondLst>
                            <p:childTnLst>
                              <p:par>
                                <p:cTn id="84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1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1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2000"/>
                            </p:stCondLst>
                            <p:childTnLst>
                              <p:par>
                                <p:cTn id="8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1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2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Террористическая деятельность включает в себ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50920" y="981000"/>
            <a:ext cx="8642160" cy="5616720"/>
          </a:xfrm>
          <a:prstGeom prst="rect">
            <a:avLst/>
          </a:prstGeom>
          <a:noFill/>
          <a:ln w="38160">
            <a:solidFill>
              <a:srgbClr val="ff99cc"/>
            </a:solidFill>
            <a:miter/>
          </a:ln>
          <a:effectLst>
            <a:outerShdw dist="17819" dir="2700000" blurRad="0" rotWithShape="0">
              <a:srgbClr val="985b79"/>
            </a:outerShdw>
          </a:effectLst>
        </p:spPr>
        <p:txBody>
          <a:bodyPr lIns="36000" rIns="36000" tIns="46800" bIns="46800" anchor="t">
            <a:normAutofit/>
          </a:bodyPr>
          <a:p>
            <a:pPr marL="8892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)Организацию, планирование, подготовку, финансирование и реализацию теракт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892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)подстрекательство к теракт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892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)организацию незаконного вооруженного формирования, организованной группы для реализации теракта, а равно участие в такой структур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892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)вербовку, вооружение, обучение и использование террорист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892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)информационное или иное пособничество в планировании, подготовке или реализации теракт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892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е)пропаганду идей терроризма, распространение материалов или информации, призывающих к осуществлению террористической деятель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2CA69-7113-4063-B7DC-15A636E6FF9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5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9" dur="1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3000"/>
                            </p:stCondLst>
                            <p:childTnLst>
                              <p:par>
                                <p:cTn id="11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3" dur="10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4000"/>
                            </p:stCondLst>
                            <p:childTnLst>
                              <p:par>
                                <p:cTn id="115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7" dur="10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0"/>
                            </p:stCondLst>
                            <p:childTnLst>
                              <p:par>
                                <p:cTn id="119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1" dur="10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6000"/>
                            </p:stCondLst>
                            <p:childTnLst>
                              <p:par>
                                <p:cTn id="12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5" dur="10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7000"/>
                            </p:stCondLst>
                            <p:childTnLst>
                              <p:par>
                                <p:cTn id="12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9" dur="1000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24000" y="260280"/>
            <a:ext cx="8353440" cy="1224000"/>
          </a:xfrm>
          <a:prstGeom prst="downArrow">
            <a:avLst>
              <a:gd name="adj1" fmla="val 69741"/>
              <a:gd name="adj2" fmla="val 58625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63640" y="475920"/>
            <a:ext cx="56167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Террористический акт 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23640" y="1600200"/>
            <a:ext cx="8569080" cy="4525920"/>
          </a:xfrm>
          <a:prstGeom prst="rect">
            <a:avLst/>
          </a:prstGeom>
          <a:solidFill>
            <a:srgbClr val="fdd8c1"/>
          </a:solidFill>
          <a:ln w="28440">
            <a:solidFill>
              <a:srgbClr val="996600"/>
            </a:solidFill>
            <a:miter/>
          </a:ln>
          <a:effectLst>
            <a:outerShdw dist="17819" dir="2700000" blurRad="0" rotWithShape="0">
              <a:srgbClr val="5b3c00"/>
            </a:outerShdw>
          </a:effectLst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овершение взрыва, поджога или иных действий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устрашающих население и создающих опасность гибели человека, причинения значительного имуществен-ного ущерба, либо наступления иных тяжких последствий, в целях воздействия на принятие решения органами власти или международными организациями, а также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гроз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совершения указанных действий в тех же целя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F472C-19CF-4FD5-880B-0B0900B986E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1000"/>
                            </p:stCondLst>
                            <p:childTnLst>
                              <p:par>
                                <p:cTn id="1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2000"/>
                            </p:stCondLst>
                            <p:childTnLst>
                              <p:par>
                                <p:cTn id="14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4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3000"/>
                            </p:stCondLst>
                            <p:childTnLst>
                              <p:par>
                                <p:cTn id="14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8" dur="1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539640" y="333360"/>
            <a:ext cx="8209080" cy="1727280"/>
          </a:xfrm>
          <a:prstGeom prst="downArrow">
            <a:avLst>
              <a:gd name="adj1" fmla="val 91796"/>
              <a:gd name="adj2" fmla="val 43486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Противодействие терроризм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деятельность органов государственной власти и органов местного самоуправления п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599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едупреждению терроризма, в том числе по выявлению и последующему устранению причин и условий, способствующих совершению террористических актов (профилактика терроризма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599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ыявлению, предупреждению, пресечению, раскрытию и расследованию террористического акта (борьба с терроризмом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599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инимизации и (или) ликвидации последствий проявлений террориз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60353-76EC-48F8-9971-902248B17B7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7" dur="1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2000"/>
                            </p:stCondLst>
                            <p:childTnLst>
                              <p:par>
                                <p:cTn id="16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2500"/>
                            </p:stCondLst>
                            <p:childTnLst>
                              <p:par>
                                <p:cTn id="16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3000"/>
                            </p:stCondLst>
                            <p:childTnLst>
                              <p:par>
                                <p:cTn id="17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На распространение терроризма в России влияют следующие социальные фактор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ebeb"/>
              </a:gs>
              <a:gs pos="100000">
                <a:srgbClr val="ccffff"/>
              </a:gs>
            </a:gsLst>
            <a:lin ang="5400000"/>
          </a:gradFill>
          <a:ln w="38160">
            <a:solidFill>
              <a:srgbClr val="d60093"/>
            </a:solidFill>
            <a:miter/>
          </a:ln>
          <a:effectLst>
            <a:outerShdw dist="17819" dir="2700000" blurRad="0" rotWithShape="0">
              <a:srgbClr val="7f005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ктивизация борьбы за политическую власт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острение межнациональных противоречий на почве мнимого ущемления национальных прав отдельных этнос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спространение сепаратистских, антифедералистских, антирусских настроений и политических тенденци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вальный рост преступности, организованной с вооружением, финансирование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спространение уголовного терроризм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тремление к переделу собственности и нажив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03853-31DF-404B-915E-7F6B0FED81C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1000"/>
                            </p:stCondLst>
                            <p:childTnLst>
                              <p:par>
                                <p:cTn id="18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1500"/>
                            </p:stCondLst>
                            <p:childTnLst>
                              <p:par>
                                <p:cTn id="18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8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2000"/>
                            </p:stCondLst>
                            <p:childTnLst>
                              <p:par>
                                <p:cTn id="19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2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2500"/>
                            </p:stCondLst>
                            <p:childTnLst>
                              <p:par>
                                <p:cTn id="19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6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3000"/>
                            </p:stCondLst>
                            <p:childTnLst>
                              <p:par>
                                <p:cTn id="19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0" dur="5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3500"/>
                            </p:stCondLst>
                            <p:childTnLst>
                              <p:par>
                                <p:cTn id="20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4" dur="5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4000"/>
                            </p:stCondLst>
                            <p:childTnLst>
                              <p:par>
                                <p:cTn id="20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8" dur="500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Основными причинами терроризма в РФ могут быть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23640" y="1773360"/>
            <a:ext cx="8569080" cy="43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ts val="2599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ерешенность социальных, национальных, религиозных пробл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ts val="2599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асслоение общества по уровню материального состояния, культуре и образован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ts val="2599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уществование незаконных организаций (религиозных, сектантских и других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ts val="2599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рганизованная преступность и криминализация ряда государственных и коммерческих структу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ts val="2599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ежелание части населения выполнять требования закон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706FC-C09A-48CD-8CFB-05ECDB01A24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500"/>
                            </p:stCondLst>
                            <p:childTnLst>
                              <p:par>
                                <p:cTn id="21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2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500"/>
                            </p:stCondLst>
                            <p:childTnLst>
                              <p:par>
                                <p:cTn id="2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2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2500"/>
                            </p:stCondLst>
                            <p:childTnLst>
                              <p:par>
                                <p:cTn id="2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" dur="50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8T12:22:14Z</dcterms:created>
  <dc:creator>Подгородецкая</dc:creator>
  <dc:description/>
  <dc:language>en-US</dc:language>
  <cp:lastModifiedBy>Подгородецкая Т.А.</cp:lastModifiedBy>
  <dcterms:modified xsi:type="dcterms:W3CDTF">2009-03-16T12:19:03Z</dcterms:modified>
  <cp:revision>45</cp:revision>
  <dc:subject/>
  <dc:title>ТЕМА № 14</dc:title>
</cp:coreProperties>
</file>