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C65-162A-4511-B981-EDC989EC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782-8201-437A-BD1C-4A240EB5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9D1-4AA1-43D1-8F7D-C440A1EB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658-E78D-4140-B9F1-4A83240F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08D-AA7F-4CF4-AC12-EE654E0A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4D5-E135-4847-B358-F2C91C2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F1B-9BAA-4F91-AFDD-63DF3477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B96-CC56-43FE-BED7-F59A86B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B8B-CE88-4C68-90A8-BE4D3653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E86-862D-4F1C-8533-D10D50C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162-8B97-4B03-B396-3BCBFC1D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F79-A059-483E-997E-835B083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408-A885-4560-A8E8-83988F8B0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ebturizm.ru/photo/" TargetMode="External"/><Relationship Id="rId2" Type="http://schemas.openxmlformats.org/officeDocument/2006/relationships/hyperlink" Target="http://www.webturizm.ru/photo/country_photos.php?country_id=208" TargetMode="External"/><Relationship Id="rId3" Type="http://schemas.openxmlformats.org/officeDocument/2006/relationships/hyperlink" Target="http://www.webturizm.ru/country/" TargetMode="External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1.png"/><Relationship Id="rId18" Type="http://schemas.openxmlformats.org/officeDocument/2006/relationships/image" Target="../media/image23.jpe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jpe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912000" cy="817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есто по густоте ж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м крупным совр.торговым флотом «дешёвые фла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27640" y="3141720"/>
            <a:ext cx="3803400" cy="37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4356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зование и наука на выском м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889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ые партнёры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говые партнёры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азиатско –тихоокеанский регио2)европ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северная аме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715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еб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нс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и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йные цере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атр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м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360" y="1143000"/>
            <a:ext cx="2603520" cy="29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3348000" cy="302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16216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96000" y="3978360"/>
            <a:ext cx="3348000" cy="28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0" y="5084640"/>
            <a:ext cx="3421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зю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ат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120" y="-1067040"/>
            <a:ext cx="9079560" cy="83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ото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 »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 фото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63636"/>
                </a:solidFill>
                <a:latin typeface="Arial"/>
                <a:ea typeface="Arial"/>
              </a:rPr>
              <a:t>Япония фо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ерея фотографий /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пония фо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траны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» Яп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5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6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4538520" y="2289240"/>
            <a:ext cx="19080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1920" y="7288200"/>
          <a:ext cx="1981080" cy="6382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1280" y="7297560"/>
          <a:ext cx="1962360" cy="638280"/>
        </p:xfrm>
        <a:graphic>
          <a:graphicData uri="http://schemas.openxmlformats.org/drawingml/2006/table">
            <a:tbl>
              <a:tblPr/>
              <a:tblGrid>
                <a:gridCol w="1094040"/>
                <a:gridCol w="623880"/>
                <a:gridCol w="244440"/>
              </a:tblGrid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Япония фото"/>
          <p:cNvPicPr/>
          <p:nvPr/>
        </p:nvPicPr>
        <p:blipFill>
          <a:blip r:embed="rId18"/>
          <a:stretch/>
        </p:blipFill>
        <p:spPr>
          <a:xfrm>
            <a:off x="3828960" y="1125360"/>
            <a:ext cx="5315040" cy="2664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195120" y="74008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Рейтинг@Mail.ru"/>
          <p:cNvPicPr/>
          <p:nvPr/>
        </p:nvPicPr>
        <p:blipFill>
          <a:blip r:embed="rId20"/>
          <a:stretch/>
        </p:blipFill>
        <p:spPr>
          <a:xfrm>
            <a:off x="1289160" y="7334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1913040" y="75391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109 из 642597"/>
          <p:cNvPicPr/>
          <p:nvPr/>
        </p:nvPicPr>
        <p:blipFill>
          <a:blip r:embed="rId22"/>
          <a:stretch/>
        </p:blipFill>
        <p:spPr>
          <a:xfrm>
            <a:off x="395280" y="3284640"/>
            <a:ext cx="5076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ио –столица 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23960" y="1428840"/>
            <a:ext cx="5896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итка(1 форзац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-0,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еление- 1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ица -Ток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 правления –к.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2852640"/>
            <a:ext cx="5489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волы Япо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ые:фудзияма,сакура,гейши,саму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Фудзияма 3"/>
          <p:cNvPicPr/>
          <p:nvPr/>
        </p:nvPicPr>
        <p:blipFill>
          <a:blip r:embed="rId1"/>
          <a:stretch/>
        </p:blipFill>
        <p:spPr>
          <a:xfrm>
            <a:off x="5095800" y="2133720"/>
            <a:ext cx="4048200" cy="278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7448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вые символы Япо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,металлургия, супертанкеры,мосты и туннели,скоростные ж,д.современные автомобили(«тоёта»,»хонда»,»ниссан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6012000" cy="378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46920" y="2997360"/>
            <a:ext cx="3097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ья –символ япон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% земли и 4 мил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л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мчужный промы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ва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о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924360" cy="44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924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4:57:41Z</dcterms:created>
  <dc:creator>Admin</dc:creator>
  <dc:description/>
  <dc:language>en-US</dc:language>
  <cp:lastModifiedBy>Admin</cp:lastModifiedBy>
  <dcterms:modified xsi:type="dcterms:W3CDTF">2010-01-18T17:36:57Z</dcterms:modified>
  <cp:revision>4</cp:revision>
  <dc:subject/>
  <dc:title>япония</dc:title>
</cp:coreProperties>
</file>