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C1C-5C7F-4FB1-B470-3FC338EC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296-BE71-4389-8969-8A40A7E5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198-BBC8-4A46-ABA0-CDF51103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873-7C02-4703-BA4E-4F9B63AC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FD4-1D3C-463E-BA6F-5770FF83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67D-04FB-49F4-AEC7-44D73321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D60-FEE3-4CFF-BC6E-883CA826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104-B924-42EF-B852-BDAA1091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C70-5F1E-451A-8491-866D78B9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460-F81C-4EF5-91DD-59AF927C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CEF-9725-49D7-8CA5-71641A96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76D-2E1E-416F-B081-03174103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5ED9-DAC9-44C1-892E-915CBAD0E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ebturizm.ru/photo/" TargetMode="External"/><Relationship Id="rId2" Type="http://schemas.openxmlformats.org/officeDocument/2006/relationships/hyperlink" Target="http://www.webturizm.ru/photo/country_photos.php?country_id=208" TargetMode="External"/><Relationship Id="rId3" Type="http://schemas.openxmlformats.org/officeDocument/2006/relationships/hyperlink" Target="http://www.webturizm.ru/country/" TargetMode="External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1.png"/><Relationship Id="rId18" Type="http://schemas.openxmlformats.org/officeDocument/2006/relationships/image" Target="../media/image23.jpe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jpeg"/><Relationship Id="rId2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6912000" cy="8172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61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место по густоте ж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м крупным совр.торговым флотом «дешёвые флаг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427640" y="3141720"/>
            <a:ext cx="3803400" cy="371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4356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зование и наука на выском м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68896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рговые партнёры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говые партнёры</a:t>
            </a: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азиатско –тихоокеанский регио2)европ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северная аме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57150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кеб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нс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игра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йные церем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атр те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м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360" y="1143000"/>
            <a:ext cx="2603520" cy="293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96000" y="1125360"/>
            <a:ext cx="3348000" cy="3024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492360" y="4365720"/>
            <a:ext cx="2162160" cy="16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796000" y="3978360"/>
            <a:ext cx="3348000" cy="287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0" y="5084640"/>
            <a:ext cx="34210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зю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ат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120" y="-1067040"/>
            <a:ext cx="9079560" cy="83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ото</a:t>
            </a:r>
            <a:r>
              <a:rPr b="0" lang="en-US" sz="1800" spc="-1" strike="noStrike" u="sng">
                <a:solidFill>
                  <a:srgbClr val="808080"/>
                </a:solidFill>
                <a:uFillTx/>
                <a:latin typeface="Arial"/>
              </a:rPr>
              <a:t> »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Япония фото</a:t>
            </a:r>
            <a:r>
              <a:rPr b="0" lang="en-US" sz="1800" spc="-1" strike="noStrike" u="sng">
                <a:solidFill>
                  <a:srgbClr val="80808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63636"/>
                </a:solidFill>
                <a:latin typeface="Arial"/>
                <a:ea typeface="Arial"/>
              </a:rPr>
              <a:t>Япония фо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лерея фотографий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пония фо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траны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» Яп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4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5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61920" y="7288200"/>
          <a:ext cx="1981080" cy="63828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1280" y="7297560"/>
          <a:ext cx="1962360" cy="638280"/>
        </p:xfrm>
        <a:graphic>
          <a:graphicData uri="http://schemas.openxmlformats.org/drawingml/2006/table">
            <a:tbl>
              <a:tblPr/>
              <a:tblGrid>
                <a:gridCol w="1094040"/>
                <a:gridCol w="623880"/>
                <a:gridCol w="244440"/>
              </a:tblGrid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Япония фото"/>
          <p:cNvPicPr/>
          <p:nvPr/>
        </p:nvPicPr>
        <p:blipFill>
          <a:blip r:embed="rId18"/>
          <a:stretch/>
        </p:blipFill>
        <p:spPr>
          <a:xfrm>
            <a:off x="3828960" y="1125360"/>
            <a:ext cx="5315040" cy="2664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9"/>
          <a:stretch/>
        </p:blipFill>
        <p:spPr>
          <a:xfrm>
            <a:off x="195120" y="74008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Рейтинг@Mail.ru"/>
          <p:cNvPicPr/>
          <p:nvPr/>
        </p:nvPicPr>
        <p:blipFill>
          <a:blip r:embed="rId20"/>
          <a:stretch/>
        </p:blipFill>
        <p:spPr>
          <a:xfrm>
            <a:off x="1289160" y="73342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1"/>
          <a:stretch/>
        </p:blipFill>
        <p:spPr>
          <a:xfrm>
            <a:off x="1913040" y="75391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Картинка 109 из 642597"/>
          <p:cNvPicPr/>
          <p:nvPr/>
        </p:nvPicPr>
        <p:blipFill>
          <a:blip r:embed="rId22"/>
          <a:stretch/>
        </p:blipFill>
        <p:spPr>
          <a:xfrm>
            <a:off x="395280" y="3284640"/>
            <a:ext cx="5076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ио –столица 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23960" y="1428840"/>
            <a:ext cx="58960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зитка(1 форзац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ощадь -0,3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еление- 1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лица -Ток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 правления –к.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2852640"/>
            <a:ext cx="5489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волы Япо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ые:фудзияма,сакура,гейши,саму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Фудзияма 3"/>
          <p:cNvPicPr/>
          <p:nvPr/>
        </p:nvPicPr>
        <p:blipFill>
          <a:blip r:embed="rId1"/>
          <a:stretch/>
        </p:blipFill>
        <p:spPr>
          <a:xfrm>
            <a:off x="5095800" y="2133720"/>
            <a:ext cx="4048200" cy="2781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47448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вые символы Япо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ЭС,металлургия, супертанкеры,мосты и туннели,скоростные ж,д.современные автомобили(«тоёта»,»хонда»,»ниссан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6012000" cy="3789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46920" y="2997360"/>
            <a:ext cx="30970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мья –символ япон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% земли и 4 мил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лов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мчужный промы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вакуль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до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о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219640" y="2997360"/>
            <a:ext cx="3924360" cy="446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3924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4:57:41Z</dcterms:created>
  <dc:creator>Admin</dc:creator>
  <dc:description/>
  <dc:language>en-US</dc:language>
  <cp:lastModifiedBy>Admin</cp:lastModifiedBy>
  <dcterms:modified xsi:type="dcterms:W3CDTF">2010-01-18T17:36:57Z</dcterms:modified>
  <cp:revision>4</cp:revision>
  <dc:subject/>
  <dc:title>япония</dc:title>
</cp:coreProperties>
</file>