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6.jpeg" ContentType="image/jpeg"/>
  <Override PartName="/ppt/media/image10.gif" ContentType="image/gif"/>
  <Override PartName="/ppt/media/image5.gif" ContentType="image/gif"/>
  <Override PartName="/ppt/media/image13.gif" ContentType="image/gif"/>
  <Override PartName="/ppt/media/image23.jpeg" ContentType="image/jpeg"/>
  <Override PartName="/ppt/media/image8.gif" ContentType="image/gif"/>
  <Override PartName="/ppt/media/image18.jpeg" ContentType="image/jpeg"/>
  <Override PartName="/ppt/media/image21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16.gif" ContentType="image/gif"/>
  <Override PartName="/ppt/media/image15.gif" ContentType="image/gif"/>
  <Override PartName="/ppt/media/image2.gif" ContentType="image/gif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E04-C92E-4591-A2B1-09DE2A00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37C-4FD3-439D-B709-579B5406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05A-954B-4A01-950B-B66EAB38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2FB-FA7D-4A5C-AEEA-64E9B46D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C3A-133F-47C4-BAD3-8F5A0D74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5AE-7868-4115-A2C1-10F6CCC1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A35-DAD7-4658-9E37-315B431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F6F-A30A-4C53-987F-13A98D6E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5A1-101E-4694-9F0F-9EF3BF29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E23-7E3A-4A60-B53C-9B6E9A2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D92-36D3-4BD2-A098-E349C6D0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CF8-CB4A-4608-9974-44CFA68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5595-2E75-4A0D-82B3-952A95833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sy.tom.ru/photo/image/food_stuffs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42920" y="620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ный час для выпуск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и 11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755640" y="2492280"/>
            <a:ext cx="6985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 ждут экзамены...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2200" y="4221000"/>
            <a:ext cx="77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подготовка выпускников к экзаменам и знакомство с эффективными способами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639720"/>
            <a:ext cx="7451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хорошей зрительной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дчёркивать опорные (ключевые ме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Фиксировать их на маленьких карто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оставить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оставить опорную схему или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крыть глаза и мысленно воспроизвести то, что запомин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На карточки крупно , разными цветами выписать основные понят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ы, развесить их по стенам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всегда были перед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3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4000" y="568440"/>
            <a:ext cx="7632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сли память слух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йте всл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тайте трудный материал на ауди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сету и периодически прослушив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чтении и прослушивании чётко проговаривать слова с небольшими пау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учить себя пересказывать вслух, но не заучивайте наиз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попытаться зарифмовать трудное в небольшие стихотворения или при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GOOGOO"/>
          <p:cNvPicPr/>
          <p:nvPr/>
        </p:nvPicPr>
        <p:blipFill>
          <a:blip r:embed="rId1"/>
          <a:stretch/>
        </p:blipFill>
        <p:spPr>
          <a:xfrm>
            <a:off x="6659640" y="549360"/>
            <a:ext cx="2303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250920" y="476280"/>
            <a:ext cx="7273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ажное условие успеха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дежда на себя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веренность в себ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450360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т и поддержка товарищей тоже необход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:\анимашки 1\big_smiles_138.gif"/>
          <p:cNvPicPr/>
          <p:nvPr/>
        </p:nvPicPr>
        <p:blipFill>
          <a:blip r:embed="rId1"/>
          <a:stretch/>
        </p:blipFill>
        <p:spPr>
          <a:xfrm>
            <a:off x="6948360" y="2205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1779"/>
          <p:cNvPicPr/>
          <p:nvPr/>
        </p:nvPicPr>
        <p:blipFill>
          <a:blip r:embed="rId2"/>
          <a:stretch/>
        </p:blipFill>
        <p:spPr>
          <a:xfrm>
            <a:off x="3780000" y="3933720"/>
            <a:ext cx="3528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68360" y="549360"/>
            <a:ext cx="47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тание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292428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ёхразовое, богатое витам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чтение молочным продуктам, овощам, фру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ить в питание белок (мясо и рыб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итаться всухомятку и на скорую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ает память морковь с раститель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день половинку репчатого лука (улучшает снабжение мозга кислор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ь травяные ча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мон освежает мысли за счёт витамин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уста снимает нерво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нан поддержит хороше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артинка 55 из 3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79280" y="0"/>
            <a:ext cx="87854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212724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 экзаменом следует хорошо выспаться, собраться с мыс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95280" y="32796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те одеты и причёсаны соответственно случ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24000" y="45036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ходите в аудиторию спокойно. Не паникуйте, будьте уверены, что у вас всё полу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908000" y="297000"/>
            <a:ext cx="6115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49400" y="450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63480" y="21985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мотрите вопросы и начните с тех, в ответах на которые вы не сомневае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84360" y="34225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да приступаете к новому заданию, сосредоточьтесь на нём и временно забудьте о предыду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63480" y="5079960"/>
            <a:ext cx="72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язательно оставьте время для проверки свое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89000"/>
            <a:ext cx="70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экзамен сдан успешно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527120" y="104760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хвалите себя за положительные действия и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1547640" y="292428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вы "завалили " экзамен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4000" y="3573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Задумайтесь, почему это произош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Скажите себе: «Отрицательный результат – это тоже определённый опыт, из которого надо извлечь у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Хорошенько разозлитесь на себя и с удвоенной силой беритесь за изуч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BGFAQ"/>
          <p:cNvPicPr/>
          <p:nvPr/>
        </p:nvPicPr>
        <p:blipFill>
          <a:blip r:embed="rId1"/>
          <a:stretch/>
        </p:blipFill>
        <p:spPr>
          <a:xfrm>
            <a:off x="0" y="2205000"/>
            <a:ext cx="133200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BGHELP"/>
          <p:cNvPicPr/>
          <p:nvPr/>
        </p:nvPicPr>
        <p:blipFill>
          <a:blip r:embed="rId2"/>
          <a:stretch/>
        </p:blipFill>
        <p:spPr>
          <a:xfrm>
            <a:off x="0" y="0"/>
            <a:ext cx="1403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-main-pic" descr="Картинка 149 из 1577"/>
          <p:cNvPicPr/>
          <p:nvPr/>
        </p:nvPicPr>
        <p:blipFill>
          <a:blip r:embed="rId1"/>
          <a:stretch/>
        </p:blipFill>
        <p:spPr>
          <a:xfrm>
            <a:off x="1979640" y="1197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i-main-pic" descr="Картинка 211 из 1577"/>
          <p:cNvPicPr/>
          <p:nvPr/>
        </p:nvPicPr>
        <p:blipFill>
          <a:blip r:embed="rId2"/>
          <a:stretch/>
        </p:blipFill>
        <p:spPr>
          <a:xfrm>
            <a:off x="0" y="242100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611280" y="3933720"/>
            <a:ext cx="821052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всем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ешной сдачи экзаменов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22"/>
          <p:cNvPicPr/>
          <p:nvPr/>
        </p:nvPicPr>
        <p:blipFill>
          <a:blip r:embed="rId1"/>
          <a:stretch/>
        </p:blipFill>
        <p:spPr>
          <a:xfrm>
            <a:off x="179280" y="4292640"/>
            <a:ext cx="3672000" cy="25653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476360" y="0"/>
            <a:ext cx="7667640" cy="4292640"/>
          </a:xfrm>
          <a:prstGeom prst="wedgeRoundRectCallout">
            <a:avLst>
              <a:gd name="adj1" fmla="val -48055"/>
              <a:gd name="adj2" fmla="val 67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176560" y="549360"/>
            <a:ext cx="563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ь – это вечный экзам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 жаль, расписания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жизни мы часто тя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ыученный би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поминаем стар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чиво в пол гляд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кому подсказать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с жизнью один на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08000" y="189000"/>
            <a:ext cx="648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ы –это ответственный период в жизни любого человека и от их результатов во многом зависит будущее. Давайте поговорим о проблемах и трудностях экзаменационного периода, попытаемся найти возможные пути их преодоления. Продумаем своё поведение и состояние перед экзаменом, ведь на экзамене происходит не только проверка знаний, но и  проверка сил личности, мобилизация умственных и душевных 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 – сложная стрессовая сит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чень важно не теряться в экстремаль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170 из 1577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292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0_e90a_1c37734f_XL"/>
          <p:cNvPicPr/>
          <p:nvPr/>
        </p:nvPicPr>
        <p:blipFill>
          <a:blip r:embed="rId2"/>
          <a:stretch/>
        </p:blipFill>
        <p:spPr>
          <a:xfrm>
            <a:off x="6400800" y="4365720"/>
            <a:ext cx="27432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835280" y="692280"/>
            <a:ext cx="504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играем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47840" y="1190520"/>
            <a:ext cx="80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м надо выбрать соответствие и описать ситуацию.           Экзамен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00000" y="227160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Смелый поступ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Тяжёл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Бор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5. Экстремальная си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6. Ничего особ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7. Будущая не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8. Предстоящ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ECREATIONALSWING1-T"/>
          <p:cNvPicPr/>
          <p:nvPr/>
        </p:nvPicPr>
        <p:blipFill>
          <a:blip r:embed="rId3"/>
          <a:stretch/>
        </p:blipFill>
        <p:spPr>
          <a:xfrm>
            <a:off x="5364000" y="2133720"/>
            <a:ext cx="309564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3132000" y="189000"/>
            <a:ext cx="5761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замен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шность его сдачи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332000" y="335772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H="1">
            <a:off x="1835280" y="3933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392436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5148360" y="4005360"/>
            <a:ext cx="1008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03120" y="488952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700360" y="53928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н.способность выдержать 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084720" y="467352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преодол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2009061915045189740c41d3b4f4b5aa8a01ee8ed26af0de10_t2"/>
          <p:cNvPicPr/>
          <p:nvPr/>
        </p:nvPicPr>
        <p:blipFill>
          <a:blip r:embed="rId1"/>
          <a:stretch/>
        </p:blipFill>
        <p:spPr>
          <a:xfrm>
            <a:off x="0" y="260280"/>
            <a:ext cx="29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0" y="0"/>
            <a:ext cx="8753400" cy="589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Эмоции - это ветер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торый надувает парус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может привести корабл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вижение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может потопить его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280200" y="386064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6200" y="32688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Учись на экзамене владеть своими эмо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i0742rp"/>
          <p:cNvPicPr/>
          <p:nvPr/>
        </p:nvPicPr>
        <p:blipFill>
          <a:blip r:embed="rId1"/>
          <a:stretch/>
        </p:blipFill>
        <p:spPr>
          <a:xfrm>
            <a:off x="250920" y="981000"/>
            <a:ext cx="1585800" cy="17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122"/>
          <p:cNvPicPr/>
          <p:nvPr/>
        </p:nvPicPr>
        <p:blipFill>
          <a:blip r:embed="rId2"/>
          <a:stretch/>
        </p:blipFill>
        <p:spPr>
          <a:xfrm>
            <a:off x="7380360" y="515772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187280" y="333360"/>
            <a:ext cx="711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чи предложени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808200" y="1289160"/>
            <a:ext cx="743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4000" y="136044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Откровенно гово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думаю о предстоящих экзаменах, т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волнуюсь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не могу собраться с мыслями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прихожу на консультаци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готовлюсь к экзамена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83 из 1577"/>
          <p:cNvPicPr/>
          <p:nvPr/>
        </p:nvPicPr>
        <p:blipFill>
          <a:blip r:embed="rId1"/>
          <a:stretch/>
        </p:blipFill>
        <p:spPr>
          <a:xfrm>
            <a:off x="6372360" y="3933720"/>
            <a:ext cx="2574720" cy="273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80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692360" y="404640"/>
            <a:ext cx="6551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подготовитьс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ологически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50760" y="1792440"/>
            <a:ext cx="736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4000" y="1865160"/>
            <a:ext cx="59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ерять головы и не ставить перед собой сверх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ть готовиться к экзаменам за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повторить то, что даётся легко, затем перейти к более слож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ить себя на то, что экзамен – необходимость и сдавать его всё равно прид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l_book"/>
          <p:cNvPicPr/>
          <p:nvPr/>
        </p:nvPicPr>
        <p:blipFill>
          <a:blip r:embed="rId1"/>
          <a:stretch/>
        </p:blipFill>
        <p:spPr>
          <a:xfrm>
            <a:off x="6227640" y="4149720"/>
            <a:ext cx="2737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3492360" y="189000"/>
            <a:ext cx="4967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поддержать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ботоспособнос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00" y="1989000"/>
            <a:ext cx="756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довать умственный и физически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чь от переутомления глаза, давать им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ся быстро переключаться с одного вида умственной работы на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телевизионных пере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работы на компью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лабые стороны и пытаться их искоренять  (н-р, лен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ильные стороны и умение их использовать на благо себе( выносливость, навыки составления плана, зрительная память, слухов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каждого часа работы делать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ть своё рабочее место  так, чтобы ник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ичто не отвлекало во врем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w06"/>
          <p:cNvPicPr/>
          <p:nvPr/>
        </p:nvPicPr>
        <p:blipFill>
          <a:blip r:embed="rId1"/>
          <a:stretch/>
        </p:blipFill>
        <p:spPr>
          <a:xfrm>
            <a:off x="755640" y="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47"/>
          <p:cNvPicPr/>
          <p:nvPr/>
        </p:nvPicPr>
        <p:blipFill>
          <a:blip r:embed="rId2"/>
          <a:stretch/>
        </p:blipFill>
        <p:spPr>
          <a:xfrm>
            <a:off x="7524720" y="4941720"/>
            <a:ext cx="16192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15:27Z</dcterms:created>
  <dc:creator>татьяна</dc:creator>
  <dc:description/>
  <dc:language>en-US</dc:language>
  <cp:lastModifiedBy>Лариса</cp:lastModifiedBy>
  <dcterms:modified xsi:type="dcterms:W3CDTF">2010-12-03T17:08:11Z</dcterms:modified>
  <cp:revision>14</cp:revision>
  <dc:subject/>
  <dc:title>Слайд 1</dc:title>
</cp:coreProperties>
</file>