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9.jpeg" ContentType="image/jpeg"/>
  <Override PartName="/ppt/media/image12.gif" ContentType="image/gif"/>
  <Override PartName="/ppt/media/image3.jpeg" ContentType="image/jpeg"/>
  <Override PartName="/ppt/media/image24.jpeg" ContentType="image/jpeg"/>
  <Override PartName="/ppt/media/image7.gif" ContentType="image/gif"/>
  <Override PartName="/ppt/media/image6.jpeg" ContentType="image/jpeg"/>
  <Override PartName="/ppt/media/image10.gif" ContentType="image/gif"/>
  <Override PartName="/ppt/media/image5.gif" ContentType="image/gif"/>
  <Override PartName="/ppt/media/image13.gif" ContentType="image/gif"/>
  <Override PartName="/ppt/media/image23.jpeg" ContentType="image/jpeg"/>
  <Override PartName="/ppt/media/image8.gif" ContentType="image/gif"/>
  <Override PartName="/ppt/media/image18.jpeg" ContentType="image/jpeg"/>
  <Override PartName="/ppt/media/image21.gif" ContentType="image/gif"/>
  <Override PartName="/ppt/media/image20.jpeg" ContentType="image/jpeg"/>
  <Override PartName="/ppt/media/image14.gif" ContentType="image/gif"/>
  <Override PartName="/ppt/media/image19.jpeg" ContentType="image/jpeg"/>
  <Override PartName="/ppt/media/image1.jpeg" ContentType="image/jpeg"/>
  <Override PartName="/ppt/media/image17.jpeg" ContentType="image/jpeg"/>
  <Override PartName="/ppt/media/image16.gif" ContentType="image/gif"/>
  <Override PartName="/ppt/media/image15.gif" ContentType="image/gif"/>
  <Override PartName="/ppt/media/image2.gif" ContentType="image/gif"/>
  <Override PartName="/ppt/media/image22.gif" ContentType="image/gif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104F-D980-4568-8EA0-387DB1A74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B03C-4506-419D-90A3-5EB12BD80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89EB-5FF4-4339-AF44-65B714C55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0F1D-D6D3-43CB-B36A-6DE51536D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C3FD-85EE-4C7A-9B8F-E8B3B38C4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AF98-C964-4A95-A581-8F81E1F4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9F84-4794-4E9F-98C0-BE378F04C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9259-37B2-4093-B4D6-229DD644E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0E53-170C-41D1-8C73-6F7661A75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8427-C692-4A29-9F20-84C01287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40BC-45F3-4DAF-9ED5-4E7D045F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6BD8-AF2C-4E8F-8D90-2CFA77D5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405DB-7647-4C5F-A687-670F8615B5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psy.tom.ru/photo/image/food_stuffs.jpg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042920" y="620640"/>
            <a:ext cx="69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ассный час для выпускни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 и 11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755640" y="2492280"/>
            <a:ext cx="6985080" cy="156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Нас ждут экзамены...</a:t>
            </a:r>
            <a:endParaRPr b="0" lang="en-US" sz="2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592200" y="4221000"/>
            <a:ext cx="779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Цель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сихологическая подготовка выпускников к экзаменам и знакомство с эффективными способами подготов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0" y="639720"/>
            <a:ext cx="745164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и хорошей зрительной памя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Подчёркивать опорные (ключевые мес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Фиксировать их на маленьких карточ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Составить пл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Составить опорную схему или таблиц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Закрыть глаза и мысленно воспроизвести то, что запоминало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. На карточки крупно , разными цветами выписать основные понятия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улы, развесить их по стенам, чтоб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и всегда были перед глаз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53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324000" y="568440"/>
            <a:ext cx="763272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Если память слухов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итайте вслу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читайте трудный материал на ауди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ссету и периодически прослушивай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чтении и прослушивании чётко проговаривать слова с небольшими пауз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учить себя пересказывать вслух, но не заучивайте наизу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жно попытаться зарифмовать трудное в небольшие стихотворения или присказ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8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2" descr="GOOGOO"/>
          <p:cNvPicPr/>
          <p:nvPr/>
        </p:nvPicPr>
        <p:blipFill>
          <a:blip r:embed="rId1"/>
          <a:stretch/>
        </p:blipFill>
        <p:spPr>
          <a:xfrm>
            <a:off x="6659640" y="549360"/>
            <a:ext cx="23032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4"/>
          <p:cNvSpPr txBox="1"/>
          <p:nvPr/>
        </p:nvSpPr>
        <p:spPr>
          <a:xfrm>
            <a:off x="250920" y="476280"/>
            <a:ext cx="727380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ажное условие успеха-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надежда на себя,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уверенность в себе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0" y="4503600"/>
            <a:ext cx="493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вет и поддержка товарищей тоже необходи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4219560" y="3110040"/>
            <a:ext cx="70488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9"/>
          <p:cNvSpPr/>
          <p:nvPr/>
        </p:nvSpPr>
        <p:spPr>
          <a:xfrm>
            <a:off x="4219560" y="3110040"/>
            <a:ext cx="70488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1"/>
          <p:cNvSpPr/>
          <p:nvPr/>
        </p:nvSpPr>
        <p:spPr>
          <a:xfrm>
            <a:off x="4219560" y="3110040"/>
            <a:ext cx="70488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H:\анимашки 1\big_smiles_138.gif"/>
          <p:cNvPicPr/>
          <p:nvPr/>
        </p:nvPicPr>
        <p:blipFill>
          <a:blip r:embed="rId1"/>
          <a:stretch/>
        </p:blipFill>
        <p:spPr>
          <a:xfrm>
            <a:off x="6948360" y="2205000"/>
            <a:ext cx="2195640" cy="2232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1779"/>
          <p:cNvPicPr/>
          <p:nvPr/>
        </p:nvPicPr>
        <p:blipFill>
          <a:blip r:embed="rId2"/>
          <a:stretch/>
        </p:blipFill>
        <p:spPr>
          <a:xfrm>
            <a:off x="3780000" y="3933720"/>
            <a:ext cx="352872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4"/>
          <p:cNvSpPr txBox="1"/>
          <p:nvPr/>
        </p:nvSpPr>
        <p:spPr>
          <a:xfrm>
            <a:off x="468360" y="549360"/>
            <a:ext cx="4751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итание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324000" y="2924280"/>
            <a:ext cx="7200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етырёхразовое, богатое витамин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почтение молочным продуктам, овощам, фрукт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ключить в питание белок (мясо и рыб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питаться всухомятку и на скорую ру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лучшает память морковь с растительным мас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ждый день половинку репчатого лука (улучшает снабжение мозга кислородо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ить травяные ча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мон освежает мысли за счёт витамина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пуста снимает нервоз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анан поддержит хорошее настро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Картинка 55 из 36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92720" y="0"/>
            <a:ext cx="385128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4"/>
          <p:cNvSpPr txBox="1"/>
          <p:nvPr/>
        </p:nvSpPr>
        <p:spPr>
          <a:xfrm>
            <a:off x="179280" y="0"/>
            <a:ext cx="878544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оветы психолога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468360" y="2127240"/>
            <a:ext cx="75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еред экзаменом следует хорошо выспаться, собраться с мысл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231840" y="3135240"/>
            <a:ext cx="77248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395280" y="327960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удьте одеты и причёсаны соответственно случа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324000" y="4503600"/>
            <a:ext cx="84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ходите в аудиторию спокойно. Не паникуйте, будьте уверены, что у вас всё получ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1908000" y="297000"/>
            <a:ext cx="6115320" cy="12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оветы психолога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231840" y="3135240"/>
            <a:ext cx="77248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149400" y="4503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663480" y="2198520"/>
            <a:ext cx="786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смотрите вопросы и начните с тех, в ответах на которые вы не сомневаете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684360" y="342252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гда приступаете к новому заданию, сосредоточьтесь на нём и временно забудьте о предыдущ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663480" y="5079960"/>
            <a:ext cx="722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язательно оставьте время для проверки своей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4"/>
          <p:cNvSpPr txBox="1"/>
          <p:nvPr/>
        </p:nvSpPr>
        <p:spPr>
          <a:xfrm>
            <a:off x="1835280" y="189000"/>
            <a:ext cx="7057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сли экзамен сдан успешно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527120" y="1047600"/>
            <a:ext cx="6500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хвалите себя за положительные действия и ка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WordArt 6"/>
          <p:cNvSpPr txBox="1"/>
          <p:nvPr/>
        </p:nvSpPr>
        <p:spPr>
          <a:xfrm>
            <a:off x="1547640" y="2924280"/>
            <a:ext cx="69850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сли вы "завалили " экзамен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324000" y="3573360"/>
            <a:ext cx="8820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1. Задумайтесь, почему это произош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2. Скажите себе: «Отрицательный результат – это тоже определённый опыт, из которого надо извлечь уро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3. Хорошенько разозлитесь на себя и с удвоенной силой беритесь за изучение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9" descr="BGFAQ"/>
          <p:cNvPicPr/>
          <p:nvPr/>
        </p:nvPicPr>
        <p:blipFill>
          <a:blip r:embed="rId1"/>
          <a:stretch/>
        </p:blipFill>
        <p:spPr>
          <a:xfrm>
            <a:off x="0" y="2205000"/>
            <a:ext cx="1332000" cy="1295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BGHELP"/>
          <p:cNvPicPr/>
          <p:nvPr/>
        </p:nvPicPr>
        <p:blipFill>
          <a:blip r:embed="rId2"/>
          <a:stretch/>
        </p:blipFill>
        <p:spPr>
          <a:xfrm>
            <a:off x="0" y="0"/>
            <a:ext cx="140328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i-main-pic" descr="Картинка 149 из 1577"/>
          <p:cNvPicPr/>
          <p:nvPr/>
        </p:nvPicPr>
        <p:blipFill>
          <a:blip r:embed="rId1"/>
          <a:stretch/>
        </p:blipFill>
        <p:spPr>
          <a:xfrm>
            <a:off x="1979640" y="11970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21" name="i-main-pic" descr="Картинка 211 из 1577"/>
          <p:cNvPicPr/>
          <p:nvPr/>
        </p:nvPicPr>
        <p:blipFill>
          <a:blip r:embed="rId2"/>
          <a:stretch/>
        </p:blipFill>
        <p:spPr>
          <a:xfrm>
            <a:off x="0" y="2421000"/>
            <a:ext cx="2286000" cy="2592360"/>
          </a:xfrm>
          <a:prstGeom prst="rect">
            <a:avLst/>
          </a:prstGeom>
          <a:ln w="0">
            <a:noFill/>
          </a:ln>
        </p:spPr>
      </p:pic>
      <p:sp>
        <p:nvSpPr>
          <p:cNvPr id="122" name="WordArt 6"/>
          <p:cNvSpPr txBox="1"/>
          <p:nvPr/>
        </p:nvSpPr>
        <p:spPr>
          <a:xfrm>
            <a:off x="611280" y="3933720"/>
            <a:ext cx="8210520" cy="17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елаю всем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спешной сдачи экзаменов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a22"/>
          <p:cNvPicPr/>
          <p:nvPr/>
        </p:nvPicPr>
        <p:blipFill>
          <a:blip r:embed="rId1"/>
          <a:stretch/>
        </p:blipFill>
        <p:spPr>
          <a:xfrm>
            <a:off x="179280" y="4292640"/>
            <a:ext cx="3672000" cy="256536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6"/>
          <p:cNvSpPr/>
          <p:nvPr/>
        </p:nvSpPr>
        <p:spPr>
          <a:xfrm>
            <a:off x="1476360" y="0"/>
            <a:ext cx="7667640" cy="4292640"/>
          </a:xfrm>
          <a:prstGeom prst="wedgeRoundRectCallout">
            <a:avLst>
              <a:gd name="adj1" fmla="val -48055"/>
              <a:gd name="adj2" fmla="val 6775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2176560" y="549360"/>
            <a:ext cx="5635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изнь – это вечный экзаме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 жаль, расписания 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в жизни мы часто тян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ыученный би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вспоминаем старательн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умчиво в пол гляди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 некому подсказать н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ы с жизнью один на од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108000" y="189000"/>
            <a:ext cx="6480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замены –это ответственный период в жизни любого человека и от их результатов во многом зависит будущее. Давайте поговорим о проблемах и трудностях экзаменационного периода, попытаемся найти возможные пути их преодоления. Продумаем своё поведение и состояние перед экзаменом, ведь на экзамене происходит не только проверка знаний, но и  проверка сил личности, мобилизация умственных и душевных  с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замен – сложная стрессовая ситу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очень важно не теряться в экстремальной ситу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i-main-pic" descr="Картинка 170 из 1577"/>
          <p:cNvPicPr/>
          <p:nvPr/>
        </p:nvPicPr>
        <p:blipFill>
          <a:blip r:embed="rId1"/>
          <a:stretch/>
        </p:blipFill>
        <p:spPr>
          <a:xfrm>
            <a:off x="6588000" y="0"/>
            <a:ext cx="2556000" cy="2924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0_e90a_1c37734f_XL"/>
          <p:cNvPicPr/>
          <p:nvPr/>
        </p:nvPicPr>
        <p:blipFill>
          <a:blip r:embed="rId2"/>
          <a:stretch/>
        </p:blipFill>
        <p:spPr>
          <a:xfrm>
            <a:off x="6400800" y="4365720"/>
            <a:ext cx="274320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4"/>
          <p:cNvSpPr txBox="1"/>
          <p:nvPr/>
        </p:nvSpPr>
        <p:spPr>
          <a:xfrm>
            <a:off x="1835280" y="692280"/>
            <a:ext cx="5041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оиграем</a:t>
            </a:r>
            <a:endParaRPr b="0" lang="en-US" sz="2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447840" y="1190520"/>
            <a:ext cx="808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ам надо выбрать соответствие и описать ситуацию.           Экзамен – э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900000" y="2271600"/>
            <a:ext cx="4032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1. Празд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2. Смелый поступ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3. Тяжёла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4. Борь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5. Экстремальная ситу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6. Ничего особ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7. Будущая независи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8. Предстоящая своб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RECREATIONALSWING1-T"/>
          <p:cNvPicPr/>
          <p:nvPr/>
        </p:nvPicPr>
        <p:blipFill>
          <a:blip r:embed="rId3"/>
          <a:stretch/>
        </p:blipFill>
        <p:spPr>
          <a:xfrm>
            <a:off x="5364000" y="2133720"/>
            <a:ext cx="3095640" cy="359892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2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2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2"/>
          <p:cNvSpPr txBox="1"/>
          <p:nvPr/>
        </p:nvSpPr>
        <p:spPr>
          <a:xfrm>
            <a:off x="3132000" y="189000"/>
            <a:ext cx="576108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Экзамен.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спешность его сдачи.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332000" y="3357720"/>
            <a:ext cx="69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акторы, влияющие на успе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4"/>
          <p:cNvSpPr/>
          <p:nvPr/>
        </p:nvSpPr>
        <p:spPr>
          <a:xfrm flipH="1">
            <a:off x="1835280" y="3933720"/>
            <a:ext cx="10080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5"/>
          <p:cNvSpPr/>
          <p:nvPr/>
        </p:nvSpPr>
        <p:spPr>
          <a:xfrm>
            <a:off x="3924360" y="3933720"/>
            <a:ext cx="0" cy="13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6"/>
          <p:cNvSpPr/>
          <p:nvPr/>
        </p:nvSpPr>
        <p:spPr>
          <a:xfrm>
            <a:off x="5148360" y="4005360"/>
            <a:ext cx="100800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303120" y="4889520"/>
            <a:ext cx="239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ровень зн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2700360" y="5392800"/>
            <a:ext cx="30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моцион.способность выдержать экзам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6084720" y="4673520"/>
            <a:ext cx="266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мение преодоле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руд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0" descr="2009061915045189740c41d3b4f4b5aa8a01ee8ed26af0de10_t2"/>
          <p:cNvPicPr/>
          <p:nvPr/>
        </p:nvPicPr>
        <p:blipFill>
          <a:blip r:embed="rId1"/>
          <a:stretch/>
        </p:blipFill>
        <p:spPr>
          <a:xfrm>
            <a:off x="0" y="260280"/>
            <a:ext cx="29876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WordArt 4"/>
          <p:cNvSpPr txBox="1"/>
          <p:nvPr/>
        </p:nvSpPr>
        <p:spPr>
          <a:xfrm>
            <a:off x="0" y="0"/>
            <a:ext cx="8753400" cy="589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 Эмоции - это ветер,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оторый надувает паруса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н может привести корабль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 движение,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 может потопить его"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6280200" y="3860640"/>
            <a:ext cx="210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льт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76200" y="326880"/>
            <a:ext cx="84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d60093"/>
                </a:solidFill>
                <a:uFillTx/>
                <a:latin typeface="Arial"/>
              </a:rPr>
              <a:t>Учись на экзамене владеть своими эмоц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i0742rp"/>
          <p:cNvPicPr/>
          <p:nvPr/>
        </p:nvPicPr>
        <p:blipFill>
          <a:blip r:embed="rId1"/>
          <a:stretch/>
        </p:blipFill>
        <p:spPr>
          <a:xfrm>
            <a:off x="250920" y="981000"/>
            <a:ext cx="1585800" cy="1727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122"/>
          <p:cNvPicPr/>
          <p:nvPr/>
        </p:nvPicPr>
        <p:blipFill>
          <a:blip r:embed="rId2"/>
          <a:stretch/>
        </p:blipFill>
        <p:spPr>
          <a:xfrm>
            <a:off x="7380360" y="5157720"/>
            <a:ext cx="145728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4"/>
          <p:cNvSpPr txBox="1"/>
          <p:nvPr/>
        </p:nvSpPr>
        <p:spPr>
          <a:xfrm>
            <a:off x="1187280" y="333360"/>
            <a:ext cx="7112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кончи предложение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808200" y="1289160"/>
            <a:ext cx="7435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324000" y="1360440"/>
            <a:ext cx="864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0093"/>
                </a:solidFill>
                <a:latin typeface="Arial"/>
              </a:rPr>
              <a:t>Откровенно говор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гда я думаю о предстоящих экзаменах, то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гда я волнуюсь, т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гда я не могу собраться с мыслями, т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гда я прихожу на консультацию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гда я готовлюсь к экзаменам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i-main-pic" descr="Картинка 183 из 1577"/>
          <p:cNvPicPr/>
          <p:nvPr/>
        </p:nvPicPr>
        <p:blipFill>
          <a:blip r:embed="rId1"/>
          <a:stretch/>
        </p:blipFill>
        <p:spPr>
          <a:xfrm>
            <a:off x="6372360" y="3933720"/>
            <a:ext cx="2574720" cy="2739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180"/>
          <p:cNvPicPr/>
          <p:nvPr/>
        </p:nvPicPr>
        <p:blipFill>
          <a:blip r:embed="rId2"/>
          <a:stretch/>
        </p:blipFill>
        <p:spPr>
          <a:xfrm>
            <a:off x="539640" y="4076640"/>
            <a:ext cx="22320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WordArt 4"/>
          <p:cNvSpPr txBox="1"/>
          <p:nvPr/>
        </p:nvSpPr>
        <p:spPr>
          <a:xfrm>
            <a:off x="1692360" y="404640"/>
            <a:ext cx="65516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к подготовиться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сихологически?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950760" y="1792440"/>
            <a:ext cx="7366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324000" y="1865160"/>
            <a:ext cx="5976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терять головы и не ставить перед собой сверхза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чинать готовиться к экзаменам заран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начала повторить то, что даётся легко, затем перейти к более сложн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строить себя на то, что экзамен – необходимость и сдавать его всё равно придёт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girl_book"/>
          <p:cNvPicPr/>
          <p:nvPr/>
        </p:nvPicPr>
        <p:blipFill>
          <a:blip r:embed="rId1"/>
          <a:stretch/>
        </p:blipFill>
        <p:spPr>
          <a:xfrm>
            <a:off x="6227640" y="4149720"/>
            <a:ext cx="27370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69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4"/>
          <p:cNvSpPr txBox="1"/>
          <p:nvPr/>
        </p:nvSpPr>
        <p:spPr>
          <a:xfrm>
            <a:off x="3492360" y="189000"/>
            <a:ext cx="49672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Как поддержать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работоспособность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324000" y="1989000"/>
            <a:ext cx="7561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ередовать умственный и физический тру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еречь от переутомления глаза, давать им отд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учиться быстро переключаться с одного вида умственной работы на друг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инимум телевизионных пере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инимум работы на компьюте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нать свои слабые стороны и пытаться их искоренять  (н-р, лень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нать свои сильные стороны и умение их использовать на благо себе( выносливость, навыки составления плана, зрительная память, слухова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ле каждого часа работы делать заряд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рганизовать своё рабочее место  так, чтобы ник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ничто не отвлекало во время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hw06"/>
          <p:cNvPicPr/>
          <p:nvPr/>
        </p:nvPicPr>
        <p:blipFill>
          <a:blip r:embed="rId1"/>
          <a:stretch/>
        </p:blipFill>
        <p:spPr>
          <a:xfrm>
            <a:off x="755640" y="0"/>
            <a:ext cx="2087640" cy="2133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47"/>
          <p:cNvPicPr/>
          <p:nvPr/>
        </p:nvPicPr>
        <p:blipFill>
          <a:blip r:embed="rId2"/>
          <a:stretch/>
        </p:blipFill>
        <p:spPr>
          <a:xfrm>
            <a:off x="7524720" y="4941720"/>
            <a:ext cx="161928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08:15:27Z</dcterms:created>
  <dc:creator>татьяна</dc:creator>
  <dc:description/>
  <dc:language>en-US</dc:language>
  <cp:lastModifiedBy>Лариса</cp:lastModifiedBy>
  <dcterms:modified xsi:type="dcterms:W3CDTF">2010-12-03T17:08:11Z</dcterms:modified>
  <cp:revision>14</cp:revision>
  <dc:subject/>
  <dc:title>Слайд 1</dc:title>
</cp:coreProperties>
</file>