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png" ContentType="image/png"/>
  <Override PartName="/ppt/media/image57.gif" ContentType="image/gif"/>
  <Override PartName="/ppt/media/image27.jpeg" ContentType="image/jpe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gif" ContentType="image/gif"/>
  <Override PartName="/ppt/media/image44.png" ContentType="image/png"/>
  <Override PartName="/ppt/media/image75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78.gif" ContentType="image/gif"/>
  <Override PartName="/ppt/media/image31.png" ContentType="image/png"/>
  <Override PartName="/ppt/media/image30.jpeg" ContentType="image/jpeg"/>
  <Override PartName="/ppt/media/image13.jpeg" ContentType="image/jpeg"/>
  <Override PartName="/ppt/media/image49.gif" ContentType="image/gif"/>
  <Override PartName="/ppt/media/image16.jpeg" ContentType="image/jpeg"/>
  <Override PartName="/ppt/media/image69.jpeg" ContentType="image/jpeg"/>
  <Override PartName="/ppt/media/image9.gif" ContentType="image/gif"/>
  <Override PartName="/ppt/media/image39.gif" ContentType="image/gif"/>
  <Override PartName="/ppt/media/image23.jpeg" ContentType="image/jpeg"/>
  <Override PartName="/ppt/media/image82.jpeg" ContentType="image/jpeg"/>
  <Override PartName="/ppt/media/image17.gif" ContentType="image/gif"/>
  <Override PartName="/ppt/media/image52.png" ContentType="image/png"/>
  <Override PartName="/ppt/media/image21.jpeg" ContentType="image/jpeg"/>
  <Override PartName="/ppt/media/image22.png" ContentType="image/png"/>
  <Override PartName="/ppt/media/image2.gif" ContentType="image/gif"/>
  <Override PartName="/ppt/media/image19.jpeg" ContentType="image/jpeg"/>
  <Override PartName="/ppt/media/image60.gif" ContentType="image/gif"/>
  <Override PartName="/ppt/media/image61.gif" ContentType="image/gif"/>
  <Override PartName="/ppt/media/image14.jpeg" ContentType="image/jpeg"/>
  <Override PartName="/ppt/media/image54.png" ContentType="image/png"/>
  <Override PartName="/ppt/media/image62.png" ContentType="image/png"/>
  <Override PartName="/ppt/media/image28.jpeg" ContentType="image/jpeg"/>
  <Override PartName="/ppt/media/image84.gif" ContentType="image/gif"/>
  <Override PartName="/ppt/media/image81.jpeg" ContentType="image/jpeg"/>
  <Override PartName="/ppt/media/image65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80.gif" ContentType="image/gif"/>
  <Override PartName="/ppt/media/image73.png" ContentType="image/png"/>
  <Override PartName="/ppt/media/image85.gif" ContentType="image/gif"/>
  <Override PartName="/ppt/media/image8.gif" ContentType="image/gif"/>
  <Override PartName="/ppt/media/image38.gif" ContentType="image/gif"/>
  <Override PartName="/ppt/media/image79.gif" ContentType="image/gif"/>
  <Override PartName="/ppt/media/image24.jpeg" ContentType="image/jpeg"/>
  <Override PartName="/ppt/media/image83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74.jpeg" ContentType="image/jpeg"/>
  <Override PartName="/ppt/media/image25.jpeg" ContentType="image/jpeg"/>
  <Override PartName="/ppt/media/image66.jpeg" ContentType="image/jpeg"/>
  <Override PartName="/ppt/media/image76.gif" ContentType="image/gif"/>
  <Override PartName="/ppt/media/image68.jpeg" ContentType="image/jpeg"/>
  <Override PartName="/ppt/media/image67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77.gif" ContentType="image/gif"/>
  <Override PartName="/ppt/media/image29.jpeg" ContentType="image/jpeg"/>
  <Override PartName="/ppt/media/image18.jpeg" ContentType="image/jpeg"/>
  <Override PartName="/ppt/media/image59.gif" ContentType="image/gif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72.jpeg" ContentType="image/jpeg"/>
  <Override PartName="/ppt/media/image11.gif" ContentType="image/gif"/>
  <Override PartName="/ppt/media/image10.gif" ContentType="image/gif"/>
  <Override PartName="/ppt/media/image3.jpeg" ContentType="image/jpeg"/>
  <Override PartName="/ppt/media/image37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B399-E36E-4E00-964C-1851DFF2C3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8B0-0D6B-41B2-A9FE-1BBDD1DB3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F54-1A1A-4719-A888-41D244D7E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7AC9-F158-49D5-A305-A6B09140F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1A4D-315A-45EC-9928-84C82D79F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8799-3FEF-4128-BE85-D4F5A1486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9F42-3197-4DF4-8FAB-0C8951F6C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4AA3-61CA-4B44-A528-B45FBD58F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EDB-314E-40C9-B905-82D2BD9E1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12C9-0490-4A7A-8C85-05F962D1B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FC77-D368-40EB-BBB5-6783D53BE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B63F-ED02-4D38-A839-0AE0FA0C4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272A-0C99-4DBE-9C6B-00F36AC78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473C-734F-4288-B298-E95F74A27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86E0-6179-4182-AD64-B3475FE73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A0D-636D-4C40-B071-EE46F2F2C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2725-9072-4127-9597-31463198D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CE37-C022-437C-931B-AECC6E31C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8B50-C9B4-4D44-8246-97C20B347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5B8D-ECDC-434A-A31E-B6B8F9CA3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89EE-D6A2-4E8C-8CD9-5B7355D1D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60AE-E866-4214-8E1C-96AF93D99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64EE-3419-4A8B-AF50-F7902B304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09DA-EE81-475D-9D6E-68F87703C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BAC-4C5C-46FC-B9C4-5A4F3CC3D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E0F9-A761-4A1A-A022-18AB448A8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6023-94A5-43A9-A84A-D3FB8C7E6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A13A-B73F-4747-8F3A-F7099FA14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1F52-D49E-4A7B-99FB-5B44D1188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A171-F0F7-4655-BA54-58A28974F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3FAF-A581-4843-9E3D-3AFFC398F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C5E7-F6BB-424F-8522-FA8219436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2649-4D13-4C58-9AE4-DAF2CB93C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947-D977-4F6F-9819-1D986CD91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F11-3B44-4D2E-98D5-089AE19943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772F-4778-47BA-9C64-B7B901DCD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8CBB-6ABE-4980-9B47-B3A916A35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7B41-8CBF-4020-9ECB-1D80663AF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EE54-9D03-4130-8BD1-73FFF64C3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C08-0D8F-4FA1-A5CC-62326166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C1C-7D8E-4E2A-83DF-45A412BC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091-C97B-4455-9C99-B8CD81A9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3CD-5FCC-449B-99BF-E0C0B63E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D5F0-DCCA-4EFE-9C25-FDDD9C9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C56-D2BD-4D66-91AD-0EE39291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FF96-B672-465E-85A7-3D94B0EE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75DA-2423-4AA6-9563-CEF0CCD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8ECC-4DA1-40C4-99E9-6121E67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4A23-F97E-41EE-832A-62268972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E39A-6679-4E07-93C7-8D365B24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DE2-BFAC-463D-A29A-358A312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8FF-5BE6-4C0D-AC14-F3E0ED9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EC75-4E38-4894-865F-3A0DF94D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3B57-4094-45D9-A8ED-5DE4815E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0F3-19A4-4C04-9D24-24182B41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6618-A675-423F-BCF6-0DFC0FF8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FCE6-47D5-436E-9F8B-9B022519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EE60-F958-44A7-A3D1-B0B6E0E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8A0A-9B09-4630-AE90-708D91AA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CDBB-5FCE-43D4-AD44-F9E1E429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2566-59D6-42C6-9D97-B0571632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761-9899-4010-956C-56467874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518B-F278-4B4A-8316-BBA88ED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7C94-0A28-4919-A39D-342E1024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B6F8-B044-41D7-84CB-37FE318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EB61-B3B3-4C72-B98C-BB2F37F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C9CD-BCE7-4987-B385-EE192FD8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B8AF-05CC-4247-9653-C4D55EC2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3404-56DC-4EBF-A4D8-C5645B03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730-416D-479F-AB13-B5DC9C90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C26-9E89-4D9E-B18D-90541965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321-D3AA-46A5-A015-4C71F07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DD4-04E7-49A3-A46F-44A81F6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092-EA1F-4B37-AC67-FB5C04C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644-F908-442A-8EA5-1D42A011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117-A790-4AD0-B733-B26B1244B5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CF8-3F6D-4165-A6D2-20FA74CB02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0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5D03-EED5-46F0-BA98-D77F6AC9B0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10.gif"/><Relationship Id="rId9" Type="http://schemas.openxmlformats.org/officeDocument/2006/relationships/image" Target="../media/image49.gif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53.png"/><Relationship Id="rId14" Type="http://schemas.openxmlformats.org/officeDocument/2006/relationships/image" Target="../media/image54.png"/><Relationship Id="rId15" Type="http://schemas.openxmlformats.org/officeDocument/2006/relationships/image" Target="../media/image55.png"/><Relationship Id="rId16" Type="http://schemas.openxmlformats.org/officeDocument/2006/relationships/image" Target="../media/image56.png"/><Relationship Id="rId17" Type="http://schemas.openxmlformats.org/officeDocument/2006/relationships/image" Target="../media/image8.gif"/><Relationship Id="rId18" Type="http://schemas.openxmlformats.org/officeDocument/2006/relationships/image" Target="../media/image57.gif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60.gif"/><Relationship Id="rId5" Type="http://schemas.openxmlformats.org/officeDocument/2006/relationships/image" Target="../media/image9.gif"/><Relationship Id="rId6" Type="http://schemas.openxmlformats.org/officeDocument/2006/relationships/image" Target="../media/image17.gif"/><Relationship Id="rId7" Type="http://schemas.openxmlformats.org/officeDocument/2006/relationships/image" Target="../media/image61.gif"/><Relationship Id="rId8" Type="http://schemas.openxmlformats.org/officeDocument/2006/relationships/image" Target="../media/image6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image" Target="../media/image5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8.gif"/><Relationship Id="rId2" Type="http://schemas.openxmlformats.org/officeDocument/2006/relationships/image" Target="../media/image7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4.gif"/><Relationship Id="rId2" Type="http://schemas.openxmlformats.org/officeDocument/2006/relationships/image" Target="../media/image8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Питание и здоровье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Picture 3" descr="j0177956"/>
          <p:cNvPicPr/>
          <p:nvPr/>
        </p:nvPicPr>
        <p:blipFill>
          <a:blip r:embed="rId1"/>
          <a:stretch/>
        </p:blipFill>
        <p:spPr>
          <a:xfrm>
            <a:off x="3492360" y="3860640"/>
            <a:ext cx="2867040" cy="1909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«Прежде чем за стол мне сесть, </a:t>
            </a:r>
            <a:br>
              <a:rPr sz="4200"/>
            </a:b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Я подумаю, что съесть»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7" name="Picture 8" descr="каша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3280" y="1741320"/>
            <a:ext cx="6580080" cy="5116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Кашу можно сделать более вкусной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9" name="Picture 16" descr="55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140360" y="1628640"/>
            <a:ext cx="1717560" cy="1100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16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403280" y="3645000"/>
            <a:ext cx="1722600" cy="1855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17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403280" y="1643040"/>
            <a:ext cx="2219400" cy="153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j0223774"/>
          <p:cNvPicPr/>
          <p:nvPr/>
        </p:nvPicPr>
        <p:blipFill>
          <a:blip r:embed="rId4"/>
          <a:stretch/>
        </p:blipFill>
        <p:spPr>
          <a:xfrm>
            <a:off x="6804000" y="4581360"/>
            <a:ext cx="21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орех3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284720" y="3933720"/>
            <a:ext cx="1073160" cy="852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орех3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5364000" y="4221000"/>
            <a:ext cx="1070280" cy="851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орех3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4788000" y="2916360"/>
            <a:ext cx="1152360" cy="915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смородина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6732720" y="2349360"/>
            <a:ext cx="1509480" cy="1579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малина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2556000" y="5373720"/>
            <a:ext cx="3463920" cy="1484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одные закус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ff33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негре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ff33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ые салаты (овощны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ольник, борщ, рыбный с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ыба, картофельное пю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тлета, мака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т, сок (яблочный, апельсинов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8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8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8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8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2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Меню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л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картофельное пю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 ябло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меню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557360"/>
            <a:ext cx="2462400" cy="5300640"/>
          </a:xfrm>
          <a:prstGeom prst="rect">
            <a:avLst/>
          </a:prstGeom>
          <a:ln w="0">
            <a:noFill/>
          </a:ln>
        </p:spPr>
      </p:pic>
      <p:sp>
        <p:nvSpPr>
          <p:cNvPr id="203" name="WordArt 10"/>
          <p:cNvSpPr txBox="1"/>
          <p:nvPr/>
        </p:nvSpPr>
        <p:spPr>
          <a:xfrm>
            <a:off x="4500720" y="4797360"/>
            <a:ext cx="388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в пору и обед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ли хлеба нет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8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2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44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96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2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Чем можно заняться после обеда?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ры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тать 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ис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анце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грать с конструк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j0178720"/>
          <p:cNvPicPr/>
          <p:nvPr/>
        </p:nvPicPr>
        <p:blipFill>
          <a:blip r:embed="rId1"/>
          <a:stretch/>
        </p:blipFill>
        <p:spPr>
          <a:xfrm>
            <a:off x="6950160" y="4005360"/>
            <a:ext cx="1887480" cy="285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4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2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4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44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4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олдник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на полдник есть булочки, вафли, печенье с чаем, соком или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j0316971"/>
          <p:cNvPicPr/>
          <p:nvPr/>
        </p:nvPicPr>
        <p:blipFill>
          <a:blip r:embed="rId1"/>
          <a:stretch/>
        </p:blipFill>
        <p:spPr>
          <a:xfrm>
            <a:off x="3203640" y="3500280"/>
            <a:ext cx="3548160" cy="2376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i6.jpg"/>
          <p:cNvPicPr/>
          <p:nvPr/>
        </p:nvPicPr>
        <p:blipFill>
          <a:blip r:embed="rId2"/>
          <a:stretch/>
        </p:blipFill>
        <p:spPr>
          <a:xfrm>
            <a:off x="7000920" y="3500280"/>
            <a:ext cx="1735200" cy="23767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8" descr="CA6YFXPK.jpg"/>
          <p:cNvPicPr/>
          <p:nvPr/>
        </p:nvPicPr>
        <p:blipFill>
          <a:blip r:embed="rId3"/>
          <a:stretch/>
        </p:blipFill>
        <p:spPr>
          <a:xfrm>
            <a:off x="1143000" y="3500280"/>
            <a:ext cx="1782720" cy="2376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Молочные продукты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3" name="Picture 5" descr="j0177957"/>
          <p:cNvPicPr/>
          <p:nvPr/>
        </p:nvPicPr>
        <p:blipFill>
          <a:blip r:embed="rId1"/>
          <a:stretch/>
        </p:blipFill>
        <p:spPr>
          <a:xfrm>
            <a:off x="1357200" y="1785960"/>
            <a:ext cx="6859800" cy="4570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ора ужинать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ин – последняя еда перед сном. Чтобы хорошо спать и отдыхать ночью, на ужин можно есть только легкую пищ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ек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ф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ква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5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7451640" y="4149720"/>
            <a:ext cx="1144800" cy="215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3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851280" y="3213000"/>
            <a:ext cx="2017800" cy="1086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38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443640" y="2997360"/>
            <a:ext cx="1944720" cy="114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26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492360" y="5692680"/>
            <a:ext cx="2162160" cy="1165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12"/>
          <p:cNvPicPr/>
          <p:nvPr/>
        </p:nvPicPr>
        <p:blipFill>
          <a:blip r:embed="rId5"/>
          <a:stretch/>
        </p:blipFill>
        <p:spPr>
          <a:xfrm>
            <a:off x="4500720" y="4581360"/>
            <a:ext cx="1942920" cy="1014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6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4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3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6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8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8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78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28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78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28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Два условия правильного питания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WordArt 5"/>
          <p:cNvSpPr txBox="1"/>
          <p:nvPr/>
        </p:nvSpPr>
        <p:spPr>
          <a:xfrm rot="561600">
            <a:off x="3552480" y="4329000"/>
            <a:ext cx="524340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образ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5"/>
          <p:cNvSpPr txBox="1"/>
          <p:nvPr/>
        </p:nvSpPr>
        <p:spPr>
          <a:xfrm rot="21080400">
            <a:off x="1571400" y="2493720"/>
            <a:ext cx="47415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52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ерен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52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«Овощи – кладовая здоровья»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25" name="Picture 4" descr="моркрвь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85880" y="1571760"/>
            <a:ext cx="2259000" cy="134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огурцы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121520" y="1643040"/>
            <a:ext cx="2022480" cy="1309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редиска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27640" y="4100400"/>
            <a:ext cx="1702080" cy="1051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редиска2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214880" y="1500120"/>
            <a:ext cx="1657440" cy="1643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тыква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357120" y="4956120"/>
            <a:ext cx="2205000" cy="1901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11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3071880" y="4437000"/>
            <a:ext cx="2757600" cy="202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J0076170"/>
          <p:cNvPicPr/>
          <p:nvPr/>
        </p:nvPicPr>
        <p:blipFill>
          <a:blip r:embed="rId7"/>
          <a:stretch/>
        </p:blipFill>
        <p:spPr>
          <a:xfrm>
            <a:off x="2214720" y="2558880"/>
            <a:ext cx="2023920" cy="1852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J0076177"/>
          <p:cNvPicPr/>
          <p:nvPr/>
        </p:nvPicPr>
        <p:blipFill>
          <a:blip r:embed="rId8"/>
          <a:stretch/>
        </p:blipFill>
        <p:spPr>
          <a:xfrm>
            <a:off x="5572080" y="2143080"/>
            <a:ext cx="1560600" cy="209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j0223773"/>
          <p:cNvPicPr/>
          <p:nvPr/>
        </p:nvPicPr>
        <p:blipFill>
          <a:blip r:embed="rId9"/>
          <a:stretch/>
        </p:blipFill>
        <p:spPr>
          <a:xfrm>
            <a:off x="6948360" y="5229360"/>
            <a:ext cx="216720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Здоровый образ жизни – это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режима д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режима питания, правильное пи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й 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правила гиги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ди крепкого здоровья – мойте руки чащ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поведения за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гда я ем, я глух и не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ем «Нет!» вредным привычкам (употребление алкоголя, табакокур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е отношение к людям, к окружающей нас природе, живо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ая организация отдыха и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Кроссворд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0"/>
            <a:ext cx="8532720" cy="6937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140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981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629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13344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781800" y="83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428616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78144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81800" y="17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378144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71016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781440" y="29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78144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15852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6423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7145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77947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8369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4195080" y="2584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76928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43744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608652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1386000" y="3448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1818000" y="344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2465280" y="3448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3042000" y="3448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621072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664236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2183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>
            <a:off x="779472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5058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541836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59947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9"/>
          <p:cNvSpPr/>
          <p:nvPr/>
        </p:nvSpPr>
        <p:spPr>
          <a:xfrm>
            <a:off x="656928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721836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1"/>
          <p:cNvSpPr/>
          <p:nvPr/>
        </p:nvSpPr>
        <p:spPr>
          <a:xfrm>
            <a:off x="779472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2"/>
          <p:cNvSpPr/>
          <p:nvPr/>
        </p:nvSpPr>
        <p:spPr>
          <a:xfrm>
            <a:off x="2537640" y="3016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3"/>
          <p:cNvSpPr/>
          <p:nvPr/>
        </p:nvSpPr>
        <p:spPr>
          <a:xfrm>
            <a:off x="253728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4"/>
          <p:cNvSpPr/>
          <p:nvPr/>
        </p:nvSpPr>
        <p:spPr>
          <a:xfrm>
            <a:off x="608688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5"/>
          <p:cNvSpPr/>
          <p:nvPr/>
        </p:nvSpPr>
        <p:spPr>
          <a:xfrm>
            <a:off x="608652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6"/>
          <p:cNvSpPr/>
          <p:nvPr/>
        </p:nvSpPr>
        <p:spPr>
          <a:xfrm>
            <a:off x="608652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7"/>
          <p:cNvSpPr/>
          <p:nvPr/>
        </p:nvSpPr>
        <p:spPr>
          <a:xfrm>
            <a:off x="6137280" y="3448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8"/>
          <p:cNvSpPr/>
          <p:nvPr/>
        </p:nvSpPr>
        <p:spPr>
          <a:xfrm>
            <a:off x="73108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7290000" y="43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0"/>
          <p:cNvSpPr/>
          <p:nvPr/>
        </p:nvSpPr>
        <p:spPr>
          <a:xfrm>
            <a:off x="7290360" y="4745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1"/>
          <p:cNvSpPr/>
          <p:nvPr/>
        </p:nvSpPr>
        <p:spPr>
          <a:xfrm>
            <a:off x="7290360" y="5248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7866360" y="78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788688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4"/>
          <p:cNvSpPr/>
          <p:nvPr/>
        </p:nvSpPr>
        <p:spPr>
          <a:xfrm>
            <a:off x="7886880" y="162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500"/>
                            </p:stCondLst>
                            <p:childTnLst>
                              <p:par>
                                <p:cTn id="7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Люди с самого рождения</a:t>
            </a:r>
            <a:br>
              <a:rPr sz="3800"/>
            </a:b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Жить не могут без движения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84" name="Picture 5" descr="j0303458"/>
          <p:cNvPicPr/>
          <p:nvPr/>
        </p:nvPicPr>
        <p:blipFill>
          <a:blip r:embed="rId1"/>
          <a:stretch/>
        </p:blipFill>
        <p:spPr>
          <a:xfrm>
            <a:off x="5929200" y="2357280"/>
            <a:ext cx="2880000" cy="1997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14240" y="1928880"/>
            <a:ext cx="5643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мка, хомка, хомя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сатенький боч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мка раненько вс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ечки моей, шейку т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метает  хомка ха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ходит на заря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, два, три, четыре, пят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мка хочет сильным с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755640" y="1557360"/>
          <a:ext cx="7920000" cy="2727360"/>
        </p:xfrm>
        <a:graphic>
          <a:graphicData uri="http://schemas.openxmlformats.org/drawingml/2006/table">
            <a:tbl>
              <a:tblPr/>
              <a:tblGrid>
                <a:gridCol w="2376360"/>
                <a:gridCol w="462240"/>
                <a:gridCol w="2273040"/>
                <a:gridCol w="433440"/>
                <a:gridCol w="237492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уктах животного происхож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ясе, молоке, сале, в маслянистых растен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рупах, муке, крахмал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Line 90"/>
          <p:cNvSpPr/>
          <p:nvPr/>
        </p:nvSpPr>
        <p:spPr>
          <a:xfrm>
            <a:off x="1908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1"/>
          <p:cNvSpPr/>
          <p:nvPr/>
        </p:nvSpPr>
        <p:spPr>
          <a:xfrm>
            <a:off x="464328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2"/>
          <p:cNvSpPr/>
          <p:nvPr/>
        </p:nvSpPr>
        <p:spPr>
          <a:xfrm>
            <a:off x="738036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0" descr="10"/>
          <p:cNvPicPr/>
          <p:nvPr/>
        </p:nvPicPr>
        <p:blipFill>
          <a:blip r:embed="rId1"/>
          <a:stretch/>
        </p:blipFill>
        <p:spPr>
          <a:xfrm>
            <a:off x="0" y="5157720"/>
            <a:ext cx="1332000" cy="820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1" descr="12"/>
          <p:cNvPicPr/>
          <p:nvPr/>
        </p:nvPicPr>
        <p:blipFill>
          <a:blip r:embed="rId2"/>
          <a:stretch/>
        </p:blipFill>
        <p:spPr>
          <a:xfrm>
            <a:off x="1258920" y="5661000"/>
            <a:ext cx="1008000" cy="525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2" descr="13"/>
          <p:cNvPicPr/>
          <p:nvPr/>
        </p:nvPicPr>
        <p:blipFill>
          <a:blip r:embed="rId3"/>
          <a:stretch/>
        </p:blipFill>
        <p:spPr>
          <a:xfrm>
            <a:off x="1116000" y="4941720"/>
            <a:ext cx="936720" cy="613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3" descr="14"/>
          <p:cNvPicPr/>
          <p:nvPr/>
        </p:nvPicPr>
        <p:blipFill>
          <a:blip r:embed="rId4"/>
          <a:stretch/>
        </p:blipFill>
        <p:spPr>
          <a:xfrm>
            <a:off x="2411280" y="6093000"/>
            <a:ext cx="606600" cy="765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4" descr="49"/>
          <p:cNvPicPr/>
          <p:nvPr/>
        </p:nvPicPr>
        <p:blipFill>
          <a:blip r:embed="rId5"/>
          <a:stretch/>
        </p:blipFill>
        <p:spPr>
          <a:xfrm>
            <a:off x="684360" y="4551480"/>
            <a:ext cx="647640" cy="512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5" descr="47"/>
          <p:cNvPicPr/>
          <p:nvPr/>
        </p:nvPicPr>
        <p:blipFill>
          <a:blip r:embed="rId6"/>
          <a:stretch/>
        </p:blipFill>
        <p:spPr>
          <a:xfrm>
            <a:off x="971640" y="6165720"/>
            <a:ext cx="1116000" cy="497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6" descr="56"/>
          <p:cNvPicPr/>
          <p:nvPr/>
        </p:nvPicPr>
        <p:blipFill>
          <a:blip r:embed="rId7"/>
          <a:stretch/>
        </p:blipFill>
        <p:spPr>
          <a:xfrm>
            <a:off x="0" y="6516720"/>
            <a:ext cx="1009800" cy="341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7" descr="j0223776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908000" y="4365720"/>
            <a:ext cx="1229040" cy="895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9" descr="j0223779"/>
          <p:cNvPicPr/>
          <p:nvPr/>
        </p:nvPicPr>
        <p:blipFill>
          <a:blip r:embed="rId9"/>
          <a:stretch/>
        </p:blipFill>
        <p:spPr>
          <a:xfrm>
            <a:off x="2195640" y="5262480"/>
            <a:ext cx="1152360" cy="666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0" descr="55"/>
          <p:cNvPicPr/>
          <p:nvPr/>
        </p:nvPicPr>
        <p:blipFill>
          <a:blip r:embed="rId10"/>
          <a:stretch/>
        </p:blipFill>
        <p:spPr>
          <a:xfrm>
            <a:off x="4788000" y="4724280"/>
            <a:ext cx="934920" cy="59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1" descr="45"/>
          <p:cNvPicPr/>
          <p:nvPr/>
        </p:nvPicPr>
        <p:blipFill>
          <a:blip r:embed="rId11"/>
          <a:stretch/>
        </p:blipFill>
        <p:spPr>
          <a:xfrm>
            <a:off x="3708360" y="4437000"/>
            <a:ext cx="1044720" cy="662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2" descr="50"/>
          <p:cNvPicPr/>
          <p:nvPr/>
        </p:nvPicPr>
        <p:blipFill>
          <a:blip r:embed="rId12"/>
          <a:stretch/>
        </p:blipFill>
        <p:spPr>
          <a:xfrm>
            <a:off x="3851280" y="5229360"/>
            <a:ext cx="468360" cy="1047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3" descr="орех"/>
          <p:cNvPicPr/>
          <p:nvPr/>
        </p:nvPicPr>
        <p:blipFill>
          <a:blip r:embed="rId13"/>
          <a:stretch/>
        </p:blipFill>
        <p:spPr>
          <a:xfrm>
            <a:off x="4356000" y="6093000"/>
            <a:ext cx="1008000" cy="545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4" descr="орех2"/>
          <p:cNvPicPr/>
          <p:nvPr/>
        </p:nvPicPr>
        <p:blipFill>
          <a:blip r:embed="rId14"/>
          <a:stretch/>
        </p:blipFill>
        <p:spPr>
          <a:xfrm>
            <a:off x="4716360" y="5373720"/>
            <a:ext cx="863640" cy="674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1" descr="20"/>
          <p:cNvPicPr/>
          <p:nvPr/>
        </p:nvPicPr>
        <p:blipFill>
          <a:blip r:embed="rId15"/>
          <a:stretch/>
        </p:blipFill>
        <p:spPr>
          <a:xfrm>
            <a:off x="7596360" y="4365720"/>
            <a:ext cx="1547640" cy="81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3" descr="27"/>
          <p:cNvPicPr/>
          <p:nvPr/>
        </p:nvPicPr>
        <p:blipFill>
          <a:blip r:embed="rId16"/>
          <a:stretch/>
        </p:blipFill>
        <p:spPr>
          <a:xfrm>
            <a:off x="7093080" y="5373720"/>
            <a:ext cx="1224000" cy="660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4" descr="j0189212"/>
          <p:cNvPicPr/>
          <p:nvPr/>
        </p:nvPicPr>
        <p:blipFill>
          <a:blip r:embed="rId17"/>
          <a:stretch/>
        </p:blipFill>
        <p:spPr>
          <a:xfrm>
            <a:off x="6372360" y="4575240"/>
            <a:ext cx="104616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5" descr="j0254480"/>
          <p:cNvPicPr/>
          <p:nvPr/>
        </p:nvPicPr>
        <p:blipFill>
          <a:blip r:embed="rId18"/>
          <a:stretch/>
        </p:blipFill>
        <p:spPr>
          <a:xfrm>
            <a:off x="7819920" y="5951520"/>
            <a:ext cx="1324080" cy="906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7" descr="48"/>
          <p:cNvPicPr/>
          <p:nvPr/>
        </p:nvPicPr>
        <p:blipFill>
          <a:blip r:embed="rId19"/>
          <a:stretch/>
        </p:blipFill>
        <p:spPr>
          <a:xfrm>
            <a:off x="6227640" y="5919840"/>
            <a:ext cx="1152720" cy="67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500"/>
                            </p:stCondLst>
                            <p:childTnLst>
                              <p:par>
                                <p:cTn id="9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65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7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85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500"/>
                            </p:stCondLst>
                            <p:childTnLst>
                              <p:par>
                                <p:cTn id="9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3716640" y="1557360"/>
            <a:ext cx="186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500640" y="2708280"/>
            <a:ext cx="22183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вощи, фр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464328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AG00327_"/>
          <p:cNvPicPr/>
          <p:nvPr/>
        </p:nvPicPr>
        <p:blipFill>
          <a:blip r:embed="rId1"/>
          <a:stretch/>
        </p:blipFill>
        <p:spPr>
          <a:xfrm>
            <a:off x="3132000" y="515772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J0076170"/>
          <p:cNvPicPr/>
          <p:nvPr/>
        </p:nvPicPr>
        <p:blipFill>
          <a:blip r:embed="rId2"/>
          <a:stretch/>
        </p:blipFill>
        <p:spPr>
          <a:xfrm>
            <a:off x="3276720" y="3357720"/>
            <a:ext cx="1871640" cy="1712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J0076177"/>
          <p:cNvPicPr/>
          <p:nvPr/>
        </p:nvPicPr>
        <p:blipFill>
          <a:blip r:embed="rId3"/>
          <a:stretch/>
        </p:blipFill>
        <p:spPr>
          <a:xfrm>
            <a:off x="5435640" y="3429000"/>
            <a:ext cx="1231920" cy="1657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J0095684"/>
          <p:cNvPicPr/>
          <p:nvPr/>
        </p:nvPicPr>
        <p:blipFill>
          <a:blip r:embed="rId4"/>
          <a:stretch/>
        </p:blipFill>
        <p:spPr>
          <a:xfrm>
            <a:off x="5003640" y="4941720"/>
            <a:ext cx="1301760" cy="1700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j0223773"/>
          <p:cNvPicPr/>
          <p:nvPr/>
        </p:nvPicPr>
        <p:blipFill>
          <a:blip r:embed="rId5"/>
          <a:stretch/>
        </p:blipFill>
        <p:spPr>
          <a:xfrm>
            <a:off x="755640" y="5013360"/>
            <a:ext cx="1944720" cy="1461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j0223774"/>
          <p:cNvPicPr/>
          <p:nvPr/>
        </p:nvPicPr>
        <p:blipFill>
          <a:blip r:embed="rId6"/>
          <a:stretch/>
        </p:blipFill>
        <p:spPr>
          <a:xfrm>
            <a:off x="7056360" y="3284640"/>
            <a:ext cx="2087640" cy="1523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j0213504"/>
          <p:cNvPicPr/>
          <p:nvPr/>
        </p:nvPicPr>
        <p:blipFill>
          <a:blip r:embed="rId7"/>
          <a:stretch/>
        </p:blipFill>
        <p:spPr>
          <a:xfrm>
            <a:off x="900000" y="3068640"/>
            <a:ext cx="1800360" cy="1692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17"/>
          <p:cNvPicPr/>
          <p:nvPr/>
        </p:nvPicPr>
        <p:blipFill>
          <a:blip r:embed="rId8"/>
          <a:stretch/>
        </p:blipFill>
        <p:spPr>
          <a:xfrm>
            <a:off x="6588000" y="4724280"/>
            <a:ext cx="2556000" cy="1766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5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2558520" y="47973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6229080" y="47973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2" descr="капуста"/>
          <p:cNvPicPr/>
          <p:nvPr/>
        </p:nvPicPr>
        <p:blipFill>
          <a:blip r:embed="rId1"/>
          <a:stretch/>
        </p:blipFill>
        <p:spPr>
          <a:xfrm>
            <a:off x="2195640" y="2349360"/>
            <a:ext cx="1672920" cy="1978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0" descr="яблоко"/>
          <p:cNvPicPr/>
          <p:nvPr/>
        </p:nvPicPr>
        <p:blipFill>
          <a:blip r:embed="rId2"/>
          <a:stretch/>
        </p:blipFill>
        <p:spPr>
          <a:xfrm>
            <a:off x="5762520" y="1916280"/>
            <a:ext cx="1906560" cy="252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6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6"/>
          <p:cNvSpPr/>
          <p:nvPr/>
        </p:nvSpPr>
        <p:spPr>
          <a:xfrm>
            <a:off x="2629080" y="4724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6661440" y="47242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колбаса"/>
          <p:cNvPicPr/>
          <p:nvPr/>
        </p:nvPicPr>
        <p:blipFill>
          <a:blip r:embed="rId1"/>
          <a:stretch/>
        </p:blipFill>
        <p:spPr>
          <a:xfrm>
            <a:off x="1403280" y="306864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рыба"/>
          <p:cNvPicPr/>
          <p:nvPr/>
        </p:nvPicPr>
        <p:blipFill>
          <a:blip r:embed="rId2"/>
          <a:stretch/>
        </p:blipFill>
        <p:spPr>
          <a:xfrm>
            <a:off x="5796000" y="2462040"/>
            <a:ext cx="2592360" cy="1770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7166520" y="4869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4645080" y="364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" descr="мясо"/>
          <p:cNvPicPr/>
          <p:nvPr/>
        </p:nvPicPr>
        <p:blipFill>
          <a:blip r:embed="rId1"/>
          <a:stretch/>
        </p:blipFill>
        <p:spPr>
          <a:xfrm>
            <a:off x="6300720" y="3357720"/>
            <a:ext cx="2195640" cy="1222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орех"/>
          <p:cNvPicPr/>
          <p:nvPr/>
        </p:nvPicPr>
        <p:blipFill>
          <a:blip r:embed="rId2"/>
          <a:stretch/>
        </p:blipFill>
        <p:spPr>
          <a:xfrm>
            <a:off x="399564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7" descr="творог"/>
          <p:cNvPicPr/>
          <p:nvPr/>
        </p:nvPicPr>
        <p:blipFill>
          <a:blip r:embed="rId3"/>
          <a:stretch/>
        </p:blipFill>
        <p:spPr>
          <a:xfrm>
            <a:off x="1187280" y="3213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22"/>
          <p:cNvSpPr/>
          <p:nvPr/>
        </p:nvSpPr>
        <p:spPr>
          <a:xfrm>
            <a:off x="1837800" y="494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4" descr="вещества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молоко"/>
          <p:cNvPicPr/>
          <p:nvPr/>
        </p:nvPicPr>
        <p:blipFill>
          <a:blip r:embed="rId1"/>
          <a:stretch/>
        </p:blipFill>
        <p:spPr>
          <a:xfrm>
            <a:off x="1924200" y="2205000"/>
            <a:ext cx="1603080" cy="2303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2270160" y="48690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5" descr="сметана"/>
          <p:cNvPicPr/>
          <p:nvPr/>
        </p:nvPicPr>
        <p:blipFill>
          <a:blip r:embed="rId2"/>
          <a:stretch/>
        </p:blipFill>
        <p:spPr>
          <a:xfrm>
            <a:off x="5724360" y="2276640"/>
            <a:ext cx="1446480" cy="21603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20"/>
          <p:cNvSpPr/>
          <p:nvPr/>
        </p:nvSpPr>
        <p:spPr>
          <a:xfrm>
            <a:off x="6014520" y="47973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6" descr="сыр"/>
          <p:cNvPicPr/>
          <p:nvPr/>
        </p:nvPicPr>
        <p:blipFill>
          <a:blip r:embed="rId1"/>
          <a:stretch/>
        </p:blipFill>
        <p:spPr>
          <a:xfrm>
            <a:off x="5508720" y="1916280"/>
            <a:ext cx="2808360" cy="2601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9" descr="масло"/>
          <p:cNvPicPr/>
          <p:nvPr/>
        </p:nvPicPr>
        <p:blipFill>
          <a:blip r:embed="rId2"/>
          <a:stretch/>
        </p:blipFill>
        <p:spPr>
          <a:xfrm>
            <a:off x="1187280" y="2463840"/>
            <a:ext cx="3673800" cy="2097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1"/>
          <p:cNvSpPr/>
          <p:nvPr/>
        </p:nvSpPr>
        <p:spPr>
          <a:xfrm>
            <a:off x="2773440" y="49417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6734880" y="4869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кие продукты растительного происхождения, а какие – животного происхождения?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ур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72480" y="2606760"/>
            <a:ext cx="28645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живот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426640" y="2589120"/>
            <a:ext cx="3417840" cy="764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раст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725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925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6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3750"/>
                            </p:stCondLst>
                            <p:childTnLst>
                              <p:par>
                                <p:cTn id="1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4750"/>
                            </p:stCondLst>
                            <p:childTnLst>
                              <p:par>
                                <p:cTn id="1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25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о утром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бе, людям улыб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зарядкой заним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ивайся, вытир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правильно пит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у смело отправля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j0236446"/>
          <p:cNvPicPr/>
          <p:nvPr/>
        </p:nvPicPr>
        <p:blipFill>
          <a:blip r:embed="rId1"/>
          <a:stretch/>
        </p:blipFill>
        <p:spPr>
          <a:xfrm>
            <a:off x="6300720" y="378468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70800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ур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72480" y="2606760"/>
            <a:ext cx="28645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живот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426640" y="2589120"/>
            <a:ext cx="3417840" cy="764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раст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00231 L 0.32986 0.27523 E">
                                      <p:cBhvr>
                                        <p:cTn id="1130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0138 L -0.28611 0.21134 E">
                                      <p:cBhvr>
                                        <p:cTn id="1133" dur="2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0047 L -0.28767 0.24213 E">
                                      <p:cBhvr>
                                        <p:cTn id="1136" dur="2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-0.05277 L 0.32934 0.15718 E">
                                      <p:cBhvr>
                                        <p:cTn id="1139" dur="2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84 -0.04328 L -0.28472 0.20857 E">
                                      <p:cBhvr>
                                        <p:cTn id="1142" dur="2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73 -0.06505 L 0.32743 0.11343 E">
                                      <p:cBhvr>
                                        <p:cTn id="1145" dur="2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48 -0.08704 L 0.3283 0.13356 E">
                                      <p:cBhvr>
                                        <p:cTn id="1148" dur="2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14 -0.03542 L -0.28802 0.11157 E">
                                      <p:cBhvr>
                                        <p:cTn id="1151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19 -0.05718 L 0.32882 0.08981 E">
                                      <p:cBhvr>
                                        <p:cTn id="1154" dur="2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2 -0.00556 L 0.32986 0.10995 E">
                                      <p:cBhvr>
                                        <p:cTn id="1157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Золотые правила питания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– не переед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о пережевывайте пищу, не спешите гло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те фрукты и овощи перед 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приемом пищи мысленно поблагодарите всех, кто принял участие в создании продуктов, из которых приготовлена пища. И конечно, тех, кто приготовил вам 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j0289577"/>
          <p:cNvPicPr/>
          <p:nvPr/>
        </p:nvPicPr>
        <p:blipFill>
          <a:blip r:embed="rId1"/>
          <a:stretch/>
        </p:blipFill>
        <p:spPr>
          <a:xfrm>
            <a:off x="7885080" y="1628640"/>
            <a:ext cx="987480" cy="1224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880"/>
                            </p:stCondLst>
                            <p:childTnLst>
                              <p:par>
                                <p:cTn id="1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360"/>
                            </p:stCondLst>
                            <p:childTnLst>
                              <p:par>
                                <p:cTn id="1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7160"/>
                            </p:stCondLst>
                            <p:childTnLst>
                              <p:par>
                                <p:cTn id="1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8280"/>
                            </p:stCondLst>
                            <p:childTnLst>
                              <p:par>
                                <p:cTn id="1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Игра «Приготовь блюдо»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8102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, молоко, ча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фель, капуста, свекла, огурец, помидор, лук, реди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ь, сах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онез, сме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76560" y="2852640"/>
            <a:ext cx="380988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невая к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, моло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ароны, рис, пшено, гре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ь, сах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ло растительное, масло сливо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826920" y="1628640"/>
            <a:ext cx="7940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приготовьте традиционные русские блюда (выберите продукты, необходимые для приготовления блю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" descr="j0223780"/>
          <p:cNvPicPr/>
          <p:nvPr/>
        </p:nvPicPr>
        <p:blipFill>
          <a:blip r:embed="rId1"/>
          <a:stretch/>
        </p:blipFill>
        <p:spPr>
          <a:xfrm>
            <a:off x="1908000" y="5597640"/>
            <a:ext cx="1656000" cy="1260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j0254480"/>
          <p:cNvPicPr/>
          <p:nvPr/>
        </p:nvPicPr>
        <p:blipFill>
          <a:blip r:embed="rId2"/>
          <a:stretch/>
        </p:blipFill>
        <p:spPr>
          <a:xfrm>
            <a:off x="6372360" y="5726160"/>
            <a:ext cx="1655640" cy="1131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Выберите слова для характеристики здорового человека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34560" y="1628640"/>
            <a:ext cx="788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в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у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д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клю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мя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тяну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BD13694_"/>
          <p:cNvPicPr/>
          <p:nvPr/>
        </p:nvPicPr>
        <p:blipFill>
          <a:blip r:embed="rId1"/>
          <a:stretch/>
        </p:blipFill>
        <p:spPr>
          <a:xfrm>
            <a:off x="4140360" y="4221000"/>
            <a:ext cx="1176120" cy="2376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9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90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9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600"/>
                            </p:stCondLst>
                            <p:childTnLst>
                              <p:par>
                                <p:cTn id="1297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9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934560" y="1628640"/>
            <a:ext cx="788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в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мя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тяну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AG00222_"/>
          <p:cNvPicPr/>
          <p:nvPr/>
        </p:nvPicPr>
        <p:blipFill>
          <a:blip r:embed="rId1"/>
          <a:stretch/>
        </p:blipFill>
        <p:spPr>
          <a:xfrm>
            <a:off x="5940360" y="4581360"/>
            <a:ext cx="2016360" cy="1901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AG00584_"/>
          <p:cNvPicPr/>
          <p:nvPr/>
        </p:nvPicPr>
        <p:blipFill>
          <a:blip r:embed="rId2"/>
          <a:stretch/>
        </p:blipFill>
        <p:spPr>
          <a:xfrm>
            <a:off x="1835280" y="4005360"/>
            <a:ext cx="185256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emph" presetID="28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  <p:set>
                                      <p:cBhvr>
                                        <p:cTn id="131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31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должен заботиться о своем здоровье. Ведь никто не позаботится о тебе лучше, чем ты 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j0316971"/>
          <p:cNvPicPr/>
          <p:nvPr/>
        </p:nvPicPr>
        <p:blipFill>
          <a:blip r:embed="rId1"/>
          <a:stretch/>
        </p:blipFill>
        <p:spPr>
          <a:xfrm>
            <a:off x="3203640" y="3836880"/>
            <a:ext cx="3529080" cy="2363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3" dur="500" autoRev="1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4" dur="500" autoRev="1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autoRev="1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Правила, которые обеспечивают хорошее состояние здоровья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е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(физические упражнения, спор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ая организация труда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правил гиги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е сердце, добрые дела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D13666_"/>
          <p:cNvPicPr/>
          <p:nvPr/>
        </p:nvPicPr>
        <p:blipFill>
          <a:blip r:embed="rId1"/>
          <a:stretch/>
        </p:blipFill>
        <p:spPr>
          <a:xfrm>
            <a:off x="3571920" y="5157720"/>
            <a:ext cx="1584360" cy="1700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0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8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760"/>
                            </p:stCondLst>
                            <p:childTnLst>
                              <p:par>
                                <p:cTn id="1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4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600"/>
                            </p:stCondLst>
                            <p:childTnLst>
                              <p:par>
                                <p:cTn id="1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1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3240"/>
                            </p:stCondLst>
                            <p:childTnLst>
                              <p:par>
                                <p:cTn id="1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7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464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640"/>
                            </p:stCondLst>
                            <p:childTnLst>
                              <p:par>
                                <p:cTn id="1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мог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буду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2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3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760"/>
                            </p:stCondLst>
                            <p:childTnLst>
                              <p:par>
                                <p:cTn id="138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386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2760"/>
                            </p:stCondLst>
                            <p:childTnLst>
                              <p:par>
                                <p:cTn id="138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9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9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4360"/>
                            </p:stCondLst>
                            <p:childTnLst>
                              <p:par>
                                <p:cTn id="139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400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6360"/>
                            </p:stCondLst>
                            <p:childTnLst>
                              <p:par>
                                <p:cTn id="140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7200"/>
                            </p:stCondLst>
                            <p:childTnLst>
                              <p:par>
                                <p:cTn id="1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800"/>
                            </p:stCondLst>
                            <p:childTnLst>
                              <p:par>
                                <p:cTn id="1413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414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9800"/>
                            </p:stCondLst>
                            <p:childTnLst>
                              <p:par>
                                <p:cTn id="141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560"/>
                            </p:stCondLst>
                            <p:childTnLst>
                              <p:par>
                                <p:cTn id="14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2560"/>
                            </p:stCondLst>
                            <p:childTnLst>
                              <p:par>
                                <p:cTn id="14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4560"/>
                            </p:stCondLst>
                            <p:childTnLst>
                              <p:par>
                                <p:cTn id="14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жи о своем любимом блю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оно полез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2340000" y="3166920"/>
            <a:ext cx="532764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дьте здоровы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8" name="Picture 6" descr="J0076157"/>
          <p:cNvPicPr/>
          <p:nvPr/>
        </p:nvPicPr>
        <p:blipFill>
          <a:blip r:embed="rId1"/>
          <a:stretch/>
        </p:blipFill>
        <p:spPr>
          <a:xfrm>
            <a:off x="7451640" y="4952880"/>
            <a:ext cx="126072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J0076156"/>
          <p:cNvPicPr/>
          <p:nvPr/>
        </p:nvPicPr>
        <p:blipFill>
          <a:blip r:embed="rId2"/>
          <a:stretch/>
        </p:blipFill>
        <p:spPr>
          <a:xfrm>
            <a:off x="1042920" y="4952880"/>
            <a:ext cx="136836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3600"/>
                            </p:stCondLst>
                            <p:childTnLst>
                              <p:par>
                                <p:cTn id="14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"/>
                            </p:stCondLst>
                            <p:childTnLst>
                              <p:par>
                                <p:cTn id="1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Зачем человек ест?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9" name="Picture 5" descr="j0345946"/>
          <p:cNvPicPr/>
          <p:nvPr/>
        </p:nvPicPr>
        <p:blipFill>
          <a:blip r:embed="rId1"/>
          <a:stretch/>
        </p:blipFill>
        <p:spPr>
          <a:xfrm>
            <a:off x="1619280" y="2133720"/>
            <a:ext cx="2786040" cy="348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316874"/>
          <p:cNvPicPr/>
          <p:nvPr/>
        </p:nvPicPr>
        <p:blipFill>
          <a:blip r:embed="rId2"/>
          <a:stretch/>
        </p:blipFill>
        <p:spPr>
          <a:xfrm>
            <a:off x="5508720" y="2133720"/>
            <a:ext cx="2408040" cy="3484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Дерево держится своими корнями, а человек пищей»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2" name="Picture 4" descr="111111"/>
          <p:cNvPicPr/>
          <p:nvPr/>
        </p:nvPicPr>
        <p:blipFill>
          <a:blip r:embed="rId1"/>
          <a:stretch/>
        </p:blipFill>
        <p:spPr>
          <a:xfrm>
            <a:off x="1233360" y="2421000"/>
            <a:ext cx="355464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j0316874"/>
          <p:cNvPicPr/>
          <p:nvPr/>
        </p:nvPicPr>
        <p:blipFill>
          <a:blip r:embed="rId2"/>
          <a:stretch/>
        </p:blipFill>
        <p:spPr>
          <a:xfrm>
            <a:off x="5796000" y="2421000"/>
            <a:ext cx="2486160" cy="3598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Человеку необходимо пи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316873"/>
          <p:cNvPicPr/>
          <p:nvPr/>
        </p:nvPicPr>
        <p:blipFill>
          <a:blip r:embed="rId1"/>
          <a:stretch/>
        </p:blipFill>
        <p:spPr>
          <a:xfrm>
            <a:off x="1928880" y="2571840"/>
            <a:ext cx="2309760" cy="34941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i6.jpg"/>
          <p:cNvPicPr/>
          <p:nvPr/>
        </p:nvPicPr>
        <p:blipFill>
          <a:blip r:embed="rId2"/>
          <a:stretch/>
        </p:blipFill>
        <p:spPr>
          <a:xfrm>
            <a:off x="5148360" y="2565360"/>
            <a:ext cx="2547720" cy="349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ыберите продукты, которые полезны для вас и разделите на две группы: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11560" y="1916280"/>
            <a:ext cx="2788200" cy="429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879480" y="2728800"/>
            <a:ext cx="76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, пепси, кефир, фанта, чипсы, геркулес, жирное мясо, подсолнечное масло, торты, «Сникерс», морковь, капуста, шоколадные конфеты, яблоки, груши,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11560" y="1916280"/>
            <a:ext cx="2788200" cy="429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78136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ф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ку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олнечное масло,  морк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у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ш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148360" y="2781360"/>
            <a:ext cx="333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п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н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п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ное мяс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никерс», шоколадные 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" descr="j0189212"/>
          <p:cNvPicPr/>
          <p:nvPr/>
        </p:nvPicPr>
        <p:blipFill>
          <a:blip r:embed="rId1"/>
          <a:stretch/>
        </p:blipFill>
        <p:spPr>
          <a:xfrm>
            <a:off x="6948360" y="5415120"/>
            <a:ext cx="1979640" cy="1442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j0223773"/>
          <p:cNvPicPr/>
          <p:nvPr/>
        </p:nvPicPr>
        <p:blipFill>
          <a:blip r:embed="rId2"/>
          <a:stretch/>
        </p:blipFill>
        <p:spPr>
          <a:xfrm>
            <a:off x="2916360" y="5665680"/>
            <a:ext cx="1584360" cy="119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j0223776"/>
          <p:cNvPicPr/>
          <p:nvPr/>
        </p:nvPicPr>
        <p:blipFill>
          <a:blip r:embed="rId3"/>
          <a:stretch/>
        </p:blipFill>
        <p:spPr>
          <a:xfrm>
            <a:off x="611280" y="5805360"/>
            <a:ext cx="14446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j0234740"/>
          <p:cNvPicPr/>
          <p:nvPr/>
        </p:nvPicPr>
        <p:blipFill>
          <a:blip r:embed="rId4"/>
          <a:stretch/>
        </p:blipFill>
        <p:spPr>
          <a:xfrm>
            <a:off x="5508720" y="5445000"/>
            <a:ext cx="1054080" cy="141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Сколько раз в день необходимо питаться?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(до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(второй в школ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223785"/>
          <p:cNvPicPr/>
          <p:nvPr/>
        </p:nvPicPr>
        <p:blipFill>
          <a:blip r:embed="rId1"/>
          <a:stretch/>
        </p:blipFill>
        <p:spPr>
          <a:xfrm>
            <a:off x="5867280" y="3645000"/>
            <a:ext cx="2901960" cy="2146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2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6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12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3:01Z</dcterms:created>
  <dc:creator>asu</dc:creator>
  <dc:description/>
  <dc:language>en-US</dc:language>
  <cp:lastModifiedBy>User</cp:lastModifiedBy>
  <dcterms:modified xsi:type="dcterms:W3CDTF">2010-09-26T09:13:37Z</dcterms:modified>
  <cp:revision>41</cp:revision>
  <dc:subject/>
  <dc:title>Слайд 1</dc:title>
</cp:coreProperties>
</file>