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263-5C44-4CD8-9E01-848D3773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E53-9F8A-4C0C-9068-709074F4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56D-9861-470B-A6F6-495B7B25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EE9-B4A2-4271-9A49-9B2F04DF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C9C-763B-4269-8E84-FA5D4FB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847-2F20-43C5-AAEE-F04310E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723-8AEF-40D0-86FC-589FF852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38F-974A-4D6B-9206-EAE75CB1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38A-5E5C-4825-A250-349BCD8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2D-6ABF-4E9E-ADF9-217E820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11D-B463-4913-A35C-1CA775D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8E1-7C1A-40FD-8045-710C984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7F0F-DB84-4AB4-B590-B8FAFC21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92280"/>
            <a:ext cx="648036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ктивизация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вательно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ятельност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математик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40360" y="692280"/>
            <a:ext cx="2946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981000"/>
            <a:ext cx="4427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ровн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1125360"/>
            <a:ext cx="2951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торо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претир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2133720"/>
            <a:ext cx="2951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ети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189000"/>
            <a:ext cx="2951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189000"/>
            <a:ext cx="35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ервый 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оизводя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068640"/>
            <a:ext cx="828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нципы активизации познавательной деятельн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005360"/>
            <a:ext cx="2881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проблем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013360"/>
            <a:ext cx="2881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само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3645000"/>
            <a:ext cx="309708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взаимо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3860640"/>
            <a:ext cx="320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индивиду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365720"/>
            <a:ext cx="2881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аемых проблем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5013360"/>
            <a:ext cx="2881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мотив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5589720"/>
            <a:ext cx="7488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ально возможной адеква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о-позна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характеру практ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124000" y="3500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500280"/>
            <a:ext cx="7308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380360" y="3500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720" y="472428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500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3500280"/>
            <a:ext cx="43164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24360" y="3500280"/>
            <a:ext cx="43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69192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155736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557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189000"/>
            <a:ext cx="4968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Факто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обуждающие учащихся к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484280"/>
            <a:ext cx="29509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е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484280"/>
            <a:ext cx="295128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рчески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2720" y="836640"/>
            <a:ext cx="287964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грово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0"/>
            <a:ext cx="30974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яза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349360"/>
            <a:ext cx="8640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пособы активизации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ащихся на уроках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52320"/>
            <a:ext cx="3887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Учебные заняти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явление индивидуальных особенносте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фференцированно-групповая форма учебн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зач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лексно-творческие уро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конкур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с использованием рабочих тетрадей, составленных мн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-те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лабораторно-практиче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рческие домашние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с карточками-инструкто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386748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Внеурочные заня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матические виктор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лимпи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ематический 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064360" cy="439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56360" y="4292640"/>
            <a:ext cx="2449440" cy="288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 rot="10785000">
            <a:off x="6084000" y="4291920"/>
            <a:ext cx="25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465300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чень актуальны слова Л.Г. Петерс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 Сегодня ценность является не там,  где мир воспринимается по сх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знаю – не знаю, умею – не умею, владею – не владею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где есть 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«ищу и нахожу, думаю и узнаю, тренируюсь и дел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472000" cy="3241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51280" y="3429000"/>
            <a:ext cx="4910040" cy="3021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479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фик личных дост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83664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иторинг достижений при изучении трех 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651640" y="3213000"/>
            <a:ext cx="3240000" cy="331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1700280"/>
            <a:ext cx="2736720" cy="1728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852640"/>
            <a:ext cx="2448000" cy="360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068640"/>
            <a:ext cx="237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скрытие, развитие способностей и потребностей, заложенных в ученике, при этом образование должно выступать как средство для эт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1844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уществление личностно-ориентированного подхода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3716280"/>
            <a:ext cx="27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учение самостоятельности в добывании и переработке знаний и в применении их на практике в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00"/>
            <a:ext cx="88930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сновные цели и направления современ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и пути их реализации в практиче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00" y="3645000"/>
            <a:ext cx="1511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620640"/>
            <a:ext cx="828180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83664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Деяте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динамическая система активного взаимодействия субъекта с внешним миром на основе своих потребностей, все многообразие занятий человека, все, что он дел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2133720"/>
            <a:ext cx="2376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я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22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кономерность: чем больше человек работает в данной области, тем выше его уровень развития в этой обла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3357720"/>
            <a:ext cx="1944720" cy="720720"/>
          </a:xfrm>
          <a:prstGeom prst="rightArrow">
            <a:avLst>
              <a:gd name="adj1" fmla="val 50000"/>
              <a:gd name="adj2" fmla="val 67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3716280"/>
            <a:ext cx="1295280" cy="793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378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8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716280"/>
            <a:ext cx="194472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3716280"/>
            <a:ext cx="1873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40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4797360"/>
            <a:ext cx="1042920" cy="1656000"/>
          </a:xfrm>
          <a:prstGeom prst="downArrow">
            <a:avLst>
              <a:gd name="adj1" fmla="val 50000"/>
              <a:gd name="adj2" fmla="val 396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869000"/>
            <a:ext cx="748836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94172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оцессе деятельности  происходит всестороннее и целостное развитие личности, так как в действительности задействуются все ее сущностные силы:  интеллект, эмоции, воля, духовность, способность к творчеству, вер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333800">
            <a:off x="399600" y="2046240"/>
            <a:ext cx="1366920" cy="9367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125360"/>
            <a:ext cx="403200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1773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иды деятельности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620640"/>
            <a:ext cx="3311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125360"/>
            <a:ext cx="3240000" cy="3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70028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20500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56000" y="907920"/>
            <a:ext cx="8636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356000" y="1341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1773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1773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221000"/>
            <a:ext cx="39607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аправления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357336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407664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515772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458136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573408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ическая,  рем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6308640"/>
            <a:ext cx="331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доническ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427640" y="4723920"/>
            <a:ext cx="649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5013360"/>
            <a:ext cx="64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084640"/>
            <a:ext cx="649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013360"/>
            <a:ext cx="649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27640" y="4220640"/>
            <a:ext cx="649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427640" y="3715920"/>
            <a:ext cx="649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87280" y="476280"/>
            <a:ext cx="71298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 может бы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557360"/>
            <a:ext cx="23749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557360"/>
            <a:ext cx="266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907920"/>
            <a:ext cx="504720" cy="1150920"/>
          </a:xfrm>
          <a:custGeom>
            <a:avLst/>
            <a:gdLst>
              <a:gd name="textAreaLeft" fmla="*/ 67320 w 504720"/>
              <a:gd name="textAreaRight" fmla="*/ 437400 w 5047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565360"/>
            <a:ext cx="8640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Активность челов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епременное усло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 адекватного развития, как развития его способностей, дар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есть вех  сущностных  сил, достижения успех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предпосылка и результат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221000"/>
            <a:ext cx="3529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труктура 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400536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43700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4869000"/>
            <a:ext cx="367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780000" y="4149720"/>
            <a:ext cx="936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80000" y="4653000"/>
            <a:ext cx="93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724280"/>
            <a:ext cx="936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373720"/>
            <a:ext cx="8351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цип единства деятельности и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ывает их связь таким образом, что посредством 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 и организу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огащается, в ней возникают новые межличностные связи и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26920" y="404640"/>
            <a:ext cx="7632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Процессы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6440" y="2603520"/>
            <a:ext cx="200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268280"/>
          <a:ext cx="4030560" cy="1523880"/>
        </p:xfrm>
        <a:graphic>
          <a:graphicData uri="http://schemas.openxmlformats.org/drawingml/2006/table">
            <a:tbl>
              <a:tblPr/>
              <a:tblGrid>
                <a:gridCol w="2027160"/>
                <a:gridCol w="2003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ци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уиция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ление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012000" y="258120"/>
            <a:ext cx="28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аглядно- образно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ловесно- 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Наглядно- дей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73360"/>
            <a:ext cx="22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716280"/>
            <a:ext cx="2590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3429000"/>
            <a:ext cx="2448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00360" y="2997360"/>
            <a:ext cx="215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95640" y="2997360"/>
            <a:ext cx="2520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2997360"/>
            <a:ext cx="2303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96900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з и синт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бстр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рет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45162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Умозаклю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150080"/>
            <a:ext cx="35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ук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части к общ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дуктив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общего к част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д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т частного к частному, от общего к общ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1197000"/>
            <a:ext cx="3311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сновные эта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овладения зн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692280"/>
            <a:ext cx="424836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но- мотивацио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268280"/>
            <a:ext cx="43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ционно- позна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своение содержани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ов действий с ни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2421000"/>
            <a:ext cx="431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флексивно-оце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лаборатория мыс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нализ собственной   деятельност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80000" y="1700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780000" y="836280"/>
            <a:ext cx="57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84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637000"/>
            <a:ext cx="5256360" cy="180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дакты вы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движени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 незнания к зн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ледующие эта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080" y="4581360"/>
            <a:ext cx="8251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познавательной задачи (стимул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иятие нового материала в различных фор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мысление воспринимаемого материала (поним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и совершенствование приобретен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знаний в новой 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ов обучения (оценка, рефлексия и  само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Ак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учения, освоения, содержания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яет степень (интенсивность, про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оприкосновения» обучаемого с предметом его 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товность выпол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бные за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328464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т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206064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21300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повы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 личны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1989000"/>
            <a:ext cx="2376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н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ения зад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35280" y="170028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87280" y="1844640"/>
            <a:ext cx="7164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1844640"/>
            <a:ext cx="71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1700280"/>
            <a:ext cx="358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9144000" cy="278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ктивизацию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определить как постоянно текущий 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уждения учащихся к энергичному, целенаправленному уч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доление пассивной и стерео типичной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да и застоя в умствен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Главная цель активиз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формирование активности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ение качества учебно-воспитатель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557360"/>
            <a:ext cx="770400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тстаивать свое мн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принимать участие в дискуссиях и обсуждени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тавить вопросы своим товарищам и учител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рецензировать ответы товари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ценивать ответы и письменные работы товари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заниматься обучением отстающ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объяснять более слабым учащимся непонятные ме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амостоятельно выбирать посильное зад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находить несколько вариантов возмож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вательной задачи (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создавать ситуации самопроверки, анализа 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вательных и практических действ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       решать познавательные задачи путем комплек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ения   известных им способов реш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Наибольший активизирующий эффект на занятиях дают ситуации,  в которых,  учащиеся сами должны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8:19:19Z</dcterms:created>
  <dc:creator>александр</dc:creator>
  <dc:description/>
  <dc:language>en-US</dc:language>
  <cp:lastModifiedBy>александр</cp:lastModifiedBy>
  <dcterms:modified xsi:type="dcterms:W3CDTF">2011-12-02T19:40:26Z</dcterms:modified>
  <cp:revision>188</cp:revision>
  <dc:subject/>
  <dc:title>Слайд 1</dc:title>
</cp:coreProperties>
</file>