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8337-2659-4CA2-83B3-7D98BE7E17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4700-BB5E-4FA0-A188-41B429D4E5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DCF-955A-4439-B110-515D15FB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9EA-C1D1-4038-8DA5-39EDF364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075-2EF0-4AF0-8DDC-03301DF0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058-92C7-44A7-B13E-E4C6F694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C396-5BB9-4035-8F01-34F64A3B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D210-75BB-4BC3-8C6F-9AF1379B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5C44-A209-4CC2-B1BC-74D40DA1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2002-082B-4AA9-9A9F-6207AAAF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B4D8-1B80-484F-9854-DEDDAA3D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87D1-6821-42CC-BEF4-DB3FE610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08EF-4F96-4D1F-AC51-9BC1F59E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979-3E07-42EA-A1B4-5C245BD6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598F-A00A-4A08-B5FC-F9BD7DA2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C9A6-4486-4320-A826-D7AABDBC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CA36-6518-4120-A78B-AD53FE53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0300-74AC-449F-9AA6-659C656A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BFC1-5B7F-4B22-AEBD-AD8B7077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90E6-79A5-4ADC-AD97-48540A2C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9BF4-3643-4934-A29F-61EA438C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3FC7-A705-4F5E-9C3F-84EBEB25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C777-ECC8-4E91-A84E-65532983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1B6E-AB8F-4C37-B39A-03933775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054-E075-4250-8FE4-67FCD867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81D5-12ED-4644-8464-F599088C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F0B3-85F4-4333-B62F-4298F08C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90E8-70BB-4729-A2B0-0D599B8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0BBA-D8D0-4C66-A747-CEAC98CF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DADA4-5C8A-4D28-A84A-35D65F54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4FDBD-9F8D-4417-B0F5-851C7531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9961-951D-435D-A924-E7276C27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645C-3CE9-4B34-B86C-B74B2B5F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4811-7807-42F6-8C28-89493E45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F4AC6-FE31-417B-BFBF-C60AE3CF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C11-B0E1-417F-9943-E3CD1C1B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A26A-A6B1-4C27-A2AC-1819DAFE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C409-A656-4CC8-A2C8-BC393B61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CBEEA-73EB-4282-8C26-4C73A973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DE8EA-40B2-448A-9557-6B342825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D36E-FE2A-477F-945F-06D463D9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8ECA9-961B-4C07-A12B-03F671E0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0557C-AC13-46D7-AAAD-3D509F68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626A-F4ED-46F6-95AB-21164E77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FB28-F4A9-4EDB-A157-D9DE90FF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FD423-C450-40A6-AD41-3C882745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656-1F55-40CB-8324-8DEC924E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36A8-A815-4AD8-9DDA-026D882E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7D333-889C-4340-8A36-EE746BBD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9C77B-3528-47E8-8F91-75B5691B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2D91-B80B-4A26-98D7-F41C8D87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DFCC9-95F9-4EB5-A9F4-E2300ACB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97A01-9385-44E6-BCF7-B3C6BC05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37E2D-C32E-47A2-8807-71FBCB64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BA886-5484-4E05-A1E6-469103D0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26D1C-0244-4340-82E9-95765DFD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486D7-60AA-4639-8392-DC72A372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94E-EC02-4055-B041-DEAB22B4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E2EEE-9724-4FEC-996F-A8EF3E89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154-4565-402A-BC30-BB0CFC2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556-1420-4D92-87B4-6EA6430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4CF-5FCA-40C0-A870-4016017D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B267-E577-49C5-B42B-A312B99B004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6B97-FF9A-4557-B4B2-97CD9091DC1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3937-25C4-4239-947E-0CED9362247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D76D-8D2C-4535-ADEF-5BDE11757DA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76CC-309F-4370-B8A4-34959C09F7B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5" descr="Геогиевская ленточка.png"/>
          <p:cNvPicPr/>
          <p:nvPr/>
        </p:nvPicPr>
        <p:blipFill>
          <a:blip r:embed="rId1"/>
          <a:stretch/>
        </p:blipFill>
        <p:spPr>
          <a:xfrm>
            <a:off x="103320" y="255600"/>
            <a:ext cx="3468600" cy="963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347640" y="1125000"/>
            <a:ext cx="504036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рои московской битвы</a:t>
            </a:r>
            <a:br>
              <a:rPr sz="18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0-летию битвы под Москвой посвящается</a:t>
            </a:r>
            <a:endParaRPr b="1" lang="en-US" sz="1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0" y="2503080"/>
            <a:ext cx="46080" cy="1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0" name="Рисунок 3" descr="789396172_tonnel.gif"/>
          <p:cNvPicPr/>
          <p:nvPr/>
        </p:nvPicPr>
        <p:blipFill>
          <a:blip r:embed="rId2"/>
          <a:stretch/>
        </p:blipFill>
        <p:spPr>
          <a:xfrm>
            <a:off x="390600" y="2127240"/>
            <a:ext cx="2181240" cy="25304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7"/>
          <p:cNvSpPr/>
          <p:nvPr/>
        </p:nvSpPr>
        <p:spPr>
          <a:xfrm>
            <a:off x="3348000" y="3573360"/>
            <a:ext cx="54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7 г. Подоль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арова На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елин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работы Печкурова Е.А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льск, 201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ведение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99640" y="1628640"/>
            <a:ext cx="5256360" cy="4824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роев битвы за Москву очень мн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 образцовое выполнение боевых заданий и проявленные в битве под Москвой мужество и героизм свыше 180 человек удостоены звания Героя Советского Союза, позже - Героя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Рисунок 5" descr="getfile.aspx.jpg"/>
          <p:cNvPicPr/>
          <p:nvPr/>
        </p:nvPicPr>
        <p:blipFill>
          <a:blip r:embed="rId1"/>
          <a:stretch/>
        </p:blipFill>
        <p:spPr>
          <a:xfrm>
            <a:off x="6510240" y="1547640"/>
            <a:ext cx="1957320" cy="261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4167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сковская битв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30 сентября 1941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0 апреля1942) 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557360"/>
            <a:ext cx="7848720" cy="4508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итва за Москву— это боевые действия советских и немецких войск на московском направлении. Делится на 2 периода: оборонительный (30 сентября —4 декабря 1941) и наступательный, который состоит из 2 этапов: контрнаступления (5-6 декабря 1941 — 7-8 января 1942) и общего наступления советских войск (7-10 января —20 апреля 1942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дольф Гитлер рассматривал взятие Москвы, столицы СССР и самого большого советского города, как одну из главных военных и политических целей операции «Барбаросса».В германской и западной военной истории известна как «Операция Тайфун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12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Жуков Георгий Константинович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55280" y="1052280"/>
            <a:ext cx="5111640" cy="504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ршал Советского Союза, четырежды Герой Советского Союз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битве под Москвой участвовал в должности командующего Западным фрон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в сентябрьской оборонительной операции Западный фронт практически развалился, то под командованием Жукова заново восстановленный в ходе тяжёлых боёв этот же самый фронт в октябре-ноябре 1941 года впервые за время войны провёл успешные оборонительные операции и смог не только отразить наступление немцев, но и отбросить их от Мос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Рисунок 8" descr="64116bbd3c04.jpg"/>
          <p:cNvPicPr/>
          <p:nvPr/>
        </p:nvPicPr>
        <p:blipFill>
          <a:blip r:embed="rId1"/>
          <a:stretch/>
        </p:blipFill>
        <p:spPr>
          <a:xfrm>
            <a:off x="6510240" y="2054160"/>
            <a:ext cx="2036880" cy="23893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548080" y="530280"/>
            <a:ext cx="3902040" cy="530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394920" y="1196640"/>
            <a:ext cx="6480360" cy="55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 московском небе совершил первый в истории авиации ночной таран младший лейтенант Виктор Талалихин. В ночь на 7 августа 1941 года наши звукоуловители засекли фашистский бомбардировщик, пытавшийся прорваться к Москве с высоты 4500м. Навстречу фашистскому пирату вылетел летчик, Виктор Талалихин. На высоте 4 км Талалихин настиг врага и зашел ему в хвост. Первая пулеметная очередь - и правый мотор противника начинает дымить. Фашист делает крутой вираж и устремляется в бегство. К Москве он уже не прорвется. Но Талалихин не хочет отпустить врага живым. Он расстреливает его, пока есть боеприпасы, затем таранит его. Таран произошел в 23 часа 28 минут на высоте 2,5 км. От удара самолет Талалихина перевернулся. Фашистский самолет загорелся. Пылающая масса пронеслась мимо Талалихина. Снизу донесся взрыв. Талалихин сел на спокойную поверхность озера в 55 км от Москвы, быстро выбрался на берег и вернулся в свою ча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Рисунок 3" descr="talalih9.jpg"/>
          <p:cNvPicPr/>
          <p:nvPr/>
        </p:nvPicPr>
        <p:blipFill>
          <a:blip r:embed="rId2"/>
          <a:stretch/>
        </p:blipFill>
        <p:spPr>
          <a:xfrm>
            <a:off x="7083360" y="1908000"/>
            <a:ext cx="1573200" cy="2292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5" descr="PODOLSK-3.JPG"/>
          <p:cNvPicPr/>
          <p:nvPr/>
        </p:nvPicPr>
        <p:blipFill>
          <a:blip r:embed="rId1"/>
          <a:stretch/>
        </p:blipFill>
        <p:spPr>
          <a:xfrm>
            <a:off x="5864400" y="1122480"/>
            <a:ext cx="2779560" cy="194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40323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ольские курсанты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684360" y="1557360"/>
            <a:ext cx="5111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ольские курсанты — сводные отряды, оборонявшие вместе с 43-й армией юго-западные подступы к Москве в октябре 1941 года. В боях на Ильинском фронте подольские курсанты уничтожили около 5 тысяч немецких солдат и офицеров и подбили (или вывели из строя) около 100 танков, при этом потеряли около 2 5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074080" cy="7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оя Космодемьянска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Содержимое 8" descr=""/>
          <p:cNvPicPr/>
          <p:nvPr/>
        </p:nvPicPr>
        <p:blipFill>
          <a:blip r:embed="rId1"/>
          <a:stretch/>
        </p:blipFill>
        <p:spPr>
          <a:xfrm>
            <a:off x="895320" y="1682640"/>
            <a:ext cx="5511960" cy="427356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9" descr="cosmo.jpg"/>
          <p:cNvPicPr/>
          <p:nvPr/>
        </p:nvPicPr>
        <p:blipFill>
          <a:blip r:embed="rId2"/>
          <a:stretch/>
        </p:blipFill>
        <p:spPr>
          <a:xfrm>
            <a:off x="6724800" y="2560680"/>
            <a:ext cx="169380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6408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8 героев-панфиловцев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57000"/>
            <a:ext cx="5051520" cy="511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Рисунок 3" descr="101.jpg"/>
          <p:cNvPicPr/>
          <p:nvPr/>
        </p:nvPicPr>
        <p:blipFill>
          <a:blip r:embed="rId1"/>
          <a:stretch/>
        </p:blipFill>
        <p:spPr>
          <a:xfrm>
            <a:off x="6004080" y="1189080"/>
            <a:ext cx="2616120" cy="196848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395280" y="1268280"/>
            <a:ext cx="475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15-16 ноября 1941 года на левом фланге одного из пол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16-й стрелковой дивизии генерала И.В.Панфилова, у разъезда Дубосеково, группа бойцов во главе с политруком В. Г. Клочковым преградила путь немецким танкам. "Велика Россия, а отступать некуда, позади Москва!" - сказал своим воинам политрук. Показывая пример бесстрашия, Клочков бросился с гранатами к фашистскому танку. Взрыв - и танк завертелся на месте, но в следующую секунду пулеметная очередь сразила Василия Клочкова. Панфиловцы не пропустили к Москве 50 фашистских танков. Они не дрогнули: на несколько часов задержали врага, пока их однополчане не заняли в глубине обороны удобные пози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266400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вод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280" y="1341000"/>
            <a:ext cx="4032360" cy="35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делав эту презентацию мы узнали имена тех, кто отстоял свою Родину в битве под Москвой и это далеко не все, ведь их так много, а сколько погибло неизвестных солдат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3214800" y="4365720"/>
            <a:ext cx="49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пасибо за внимани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0" descr="Hero_of_the_USSR.pn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732720" y="1413000"/>
            <a:ext cx="608040" cy="11952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3" descr="58691.gif"/>
          <p:cNvPicPr/>
          <p:nvPr/>
        </p:nvPicPr>
        <p:blipFill>
          <a:blip r:embed="rId2"/>
          <a:stretch/>
        </p:blipFill>
        <p:spPr>
          <a:xfrm>
            <a:off x="6443640" y="1052640"/>
            <a:ext cx="1217520" cy="1217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8:37:58Z</dcterms:created>
  <dc:creator>BadBarmaley</dc:creator>
  <dc:description/>
  <dc:language>en-US</dc:language>
  <cp:lastModifiedBy>www.PHILka.RU</cp:lastModifiedBy>
  <dcterms:modified xsi:type="dcterms:W3CDTF">2011-12-03T15:42:48Z</dcterms:modified>
  <cp:revision>131</cp:revision>
  <dc:subject/>
  <dc:title>Слайд 1</dc:title>
</cp:coreProperties>
</file>