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8159-862C-43A1-85D2-149C00C5C7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2C1-683C-4A4F-A85E-367496E32F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CB0-46E7-41BA-9A71-D88B0948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82C-C99C-4C8B-B7E8-8F8C6247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EE1-6FC6-4E05-8600-FAE3F0A8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4FE-D06E-4B08-BF4C-DE052ED6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CE06-9353-4E0F-8112-482E8C60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0C83-AA56-4497-B565-8D5D215F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F813-3E03-4807-8B7D-C672D920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EFC7-C416-40E0-8D5E-5DC3ABC9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1463-BBDB-4C17-BC68-2FAD84A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D6A1-5890-449D-9EA9-BB0A3F3E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CC9B-093B-4EC4-8990-CBEE61B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9F5-0A5C-4B09-AAC5-69A277D0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2EF7-9D74-4C94-A644-5849119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9D27-6EA1-49A5-9F96-0A23802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DFED-05BA-4531-9A26-D316EC69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51A4-4152-43F6-9A5A-FFC0B940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5B47-5588-4F42-92FB-A43B4970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427C-E4A9-4364-B8CF-E3F3499A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0928-1BE4-40EA-B5A3-46CDE7F3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B1C0-CACC-4996-8860-6E9EB856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44AC-D6F7-4B68-84E2-C9D0BBB5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D0A2-0A48-47C5-91CB-29C7B888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936-ABB5-4382-8651-1BCE55AA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B263-3F28-433E-B8EB-C291E8D2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38DA-4554-4E19-B07D-8E909500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4A13-F1C5-43A9-BC5F-65E80110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D847-0FF4-4FF9-A25A-BBE704C1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4872F-D2D4-4CA2-8C27-68660C6B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9882-30E8-4E0E-90E9-F14667A9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0C84-8B4A-4607-9FB8-5C9390DF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31C7E-55C8-49B4-A1F2-2A4554E0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8D38-D2D0-471B-A9F2-E6B5B29F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6CB9-F14E-4469-AF6A-2EC19532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8D0-25E4-4344-9343-3B1A3C31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7DE1-0C63-48ED-A895-DE19CBE9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641B0-B035-489C-A576-EEF43881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D5BA-784F-4D38-B1ED-145C923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0367A-0800-4001-A3AF-90198E0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8D8F-EB7E-4722-88C6-D9DB923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17F2-981C-47F7-B839-951EA61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E62A-940C-4B97-BB5D-60FB67CC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5375-D8A6-43F6-8036-70C3FBEE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606E4-DEAA-4D2B-BB01-62C2FF6F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E313D-D26A-4E60-98CA-8C73EA79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6DC-8C1C-4148-BC5A-481A16C7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829F5-97FB-4845-A94E-585B7267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3345E-29B6-43C6-A00A-AEDB82BD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B8479-66BD-4389-96BC-D4731D82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483B-D721-46DA-A797-BA150AFD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6A260-3102-443C-B9EA-A54EB263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E2790-95D4-484F-BAFA-7072B8A8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73C02-5D4B-41AE-A918-39C1F21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53CFF-A91F-4CDA-B62E-B6E9F6B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1877-5347-4207-8EBC-AB997654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BEB4-36F2-4FB7-9D8E-E23D1A23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1A2-A040-4950-9747-0B3D99F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45FF1-44E9-455F-A184-216F4720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146-C5B6-43E1-8499-7960B053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326-47C3-4D71-9D96-78CC0687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4A6-1F08-4C16-AF99-3F33777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F9D8-2F65-42E2-B20B-72287D340FA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3D4D-C81D-4B7D-8814-E99A3F6A252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4F9D-D25C-4BDA-8A6D-94E9D899FD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CA0D-F66D-4FA7-BD24-F8E286E5045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F591-5B00-41DF-AC27-FA2A4FB060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5" descr="Геогиевская ленточка.png"/>
          <p:cNvPicPr/>
          <p:nvPr/>
        </p:nvPicPr>
        <p:blipFill>
          <a:blip r:embed="rId1"/>
          <a:stretch/>
        </p:blipFill>
        <p:spPr>
          <a:xfrm>
            <a:off x="103320" y="255600"/>
            <a:ext cx="3468600" cy="963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347640" y="1125000"/>
            <a:ext cx="504036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рои московской битвы</a:t>
            </a: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0-летию битвы под Москвой посвящается</a:t>
            </a:r>
            <a:endParaRPr b="1" lang="en-US" sz="1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0" y="2503080"/>
            <a:ext cx="46080" cy="1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0" name="Рисунок 3" descr="789396172_tonnel.gif"/>
          <p:cNvPicPr/>
          <p:nvPr/>
        </p:nvPicPr>
        <p:blipFill>
          <a:blip r:embed="rId2"/>
          <a:stretch/>
        </p:blipFill>
        <p:spPr>
          <a:xfrm>
            <a:off x="390600" y="2127240"/>
            <a:ext cx="2181240" cy="25304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7"/>
          <p:cNvSpPr/>
          <p:nvPr/>
        </p:nvSpPr>
        <p:spPr>
          <a:xfrm>
            <a:off x="3348000" y="357336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7 г. Подо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арова На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елин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работы Печкурова Е.А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льск, 201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ведение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99640" y="1628640"/>
            <a:ext cx="5256360" cy="482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роев битвы за Москву очень мн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 образцовое выполнение боевых заданий и проявленные в битве под Москвой мужество и героизм свыше 180 человек удостоены звания Героя Советского Союза, позже - Героя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Рисунок 5" descr="getfile.aspx.jpg"/>
          <p:cNvPicPr/>
          <p:nvPr/>
        </p:nvPicPr>
        <p:blipFill>
          <a:blip r:embed="rId1"/>
          <a:stretch/>
        </p:blipFill>
        <p:spPr>
          <a:xfrm>
            <a:off x="6510240" y="1547640"/>
            <a:ext cx="1957320" cy="261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16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сковская битв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30 сентября 1941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 апреля1942) 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557360"/>
            <a:ext cx="7848720" cy="4508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итва за Москву— это боевые действия советских и немецких войск на московском направлении. Делится на 2 периода: оборонительный (30 сентября —4 декабря 1941) и наступательный, который состоит из 2 этапов: контрнаступления (5-6 декабря 1941 — 7-8 января 1942) и общего наступления советских войск (7-10 января —20 апреля 1942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ольф Гитлер рассматривал взятие Москвы, столицы СССР и самого большого советского города, как одну из главных военных и политических целей операции «Барбаросса».В германской и западной военной истории известна как «Операция Тайфун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1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Жуков Георгий Константинович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55280" y="1052280"/>
            <a:ext cx="511164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ршал Советского Союза, четырежды Герой Советского Союз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битве под Москвой участвовал в должности командующего Западным фрон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в сентябрьской оборонительной операции Западный фронт практически развалился, то под командованием Жукова заново восстановленный в ходе тяжёлых боёв этот же самый фронт в октябре-ноябре 1941 года впервые за время войны провёл успешные оборонительные операции и смог не только отразить наступление немцев, но и отбросить их от Мос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8" descr="64116bbd3c04.jpg"/>
          <p:cNvPicPr/>
          <p:nvPr/>
        </p:nvPicPr>
        <p:blipFill>
          <a:blip r:embed="rId1"/>
          <a:stretch/>
        </p:blipFill>
        <p:spPr>
          <a:xfrm>
            <a:off x="6510240" y="2054160"/>
            <a:ext cx="2036880" cy="2389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548080" y="530280"/>
            <a:ext cx="3902040" cy="530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394920" y="1196640"/>
            <a:ext cx="648036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московском небе совершил первый в истории авиации ночной таран младший лейтенант Виктор Талалихин. В ночь на 7 августа 1941 года наши звукоуловители засекли фашистский бомбардировщик, пытавшийся прорваться к Москве с высоты 4500м. Навстречу фашистскому пирату вылетел летчик, Виктор Талалихин. На высоте 4 км Талалихин настиг врага и зашел ему в хвост. Первая пулеметная очередь - и правый мотор противника начинает дымить. Фашист делает крутой вираж и устремляется в бегство. К Москве он уже не прорвется. Но Талалихин не хочет отпустить врага живым. Он расстреливает его, пока есть боеприпасы, затем таранит его. Таран произошел в 23 часа 28 минут на высоте 2,5 км. От удара самолет Талалихина перевернулся. Фашистский самолет загорелся. Пылающая масса пронеслась мимо Талалихина. Снизу донесся взрыв. Талалихин сел на спокойную поверхность озера в 55 км от Москвы, быстро выбрался на берег и вернулся в свою ча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Рисунок 3" descr="talalih9.jpg"/>
          <p:cNvPicPr/>
          <p:nvPr/>
        </p:nvPicPr>
        <p:blipFill>
          <a:blip r:embed="rId2"/>
          <a:stretch/>
        </p:blipFill>
        <p:spPr>
          <a:xfrm>
            <a:off x="7083360" y="1908000"/>
            <a:ext cx="1573200" cy="2292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5" descr="PODOLSK-3.JPG"/>
          <p:cNvPicPr/>
          <p:nvPr/>
        </p:nvPicPr>
        <p:blipFill>
          <a:blip r:embed="rId1"/>
          <a:stretch/>
        </p:blipFill>
        <p:spPr>
          <a:xfrm>
            <a:off x="5864400" y="1122480"/>
            <a:ext cx="2779560" cy="194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4032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ольские курсанты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684360" y="1557360"/>
            <a:ext cx="511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ольские курсанты — сводные отряды, оборонявшие вместе с 43-й армией юго-западные подступы к Москве в октябре 1941 года. В боях на Ильинском фронте подольские курсанты уничтожили около 5 тысяч немецких солдат и офицеров и подбили (или вывели из строя) около 100 танков, при этом потеряли около 2 5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7408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оя Космодемьянска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Содержимое 8" descr=""/>
          <p:cNvPicPr/>
          <p:nvPr/>
        </p:nvPicPr>
        <p:blipFill>
          <a:blip r:embed="rId1"/>
          <a:stretch/>
        </p:blipFill>
        <p:spPr>
          <a:xfrm>
            <a:off x="895320" y="1682640"/>
            <a:ext cx="5511960" cy="42735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9" descr="cosmo.jpg"/>
          <p:cNvPicPr/>
          <p:nvPr/>
        </p:nvPicPr>
        <p:blipFill>
          <a:blip r:embed="rId2"/>
          <a:stretch/>
        </p:blipFill>
        <p:spPr>
          <a:xfrm>
            <a:off x="6724800" y="2560680"/>
            <a:ext cx="169380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6408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8 героев-панфиловцев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57000"/>
            <a:ext cx="5051520" cy="511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Рисунок 3" descr="101.jpg"/>
          <p:cNvPicPr/>
          <p:nvPr/>
        </p:nvPicPr>
        <p:blipFill>
          <a:blip r:embed="rId1"/>
          <a:stretch/>
        </p:blipFill>
        <p:spPr>
          <a:xfrm>
            <a:off x="6004080" y="1189080"/>
            <a:ext cx="2616120" cy="196848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395280" y="1268280"/>
            <a:ext cx="475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15-16 ноября 1941 года на левом фланге одного из пол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16-й стрелковой дивизии генерала И.В.Панфилова, у разъезда Дубосеково, группа бойцов во главе с политруком В. Г. Клочковым преградила путь немецким танкам. "Велика Россия, а отступать некуда, позади Москва!" - сказал своим воинам политрук. Показывая пример бесстрашия, Клочков бросился с гранатами к фашистскому танку. Взрыв - и танк завертелся на месте, но в следующую секунду пулеметная очередь сразила Василия Клочкова. Панфиловцы не пропустили к Москве 50 фашистских танков. Они не дрогнули: на несколько часов задержали врага, пока их однополчане не заняли в глубине обороны удобные пози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266400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вод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280" y="1341000"/>
            <a:ext cx="4032360" cy="35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делав эту презентацию мы узнали имена тех, кто отстоял свою Родину в битве под Москвой и это далеко не все, ведь их так много, а сколько погибло неизвестных солдат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3214800" y="4365720"/>
            <a:ext cx="49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пасибо за внимани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0" descr="Hero_of_the_USSR.pn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732720" y="1413000"/>
            <a:ext cx="608040" cy="11952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3" descr="58691.gif"/>
          <p:cNvPicPr/>
          <p:nvPr/>
        </p:nvPicPr>
        <p:blipFill>
          <a:blip r:embed="rId2"/>
          <a:stretch/>
        </p:blipFill>
        <p:spPr>
          <a:xfrm>
            <a:off x="6443640" y="1052640"/>
            <a:ext cx="1217520" cy="1217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8:37:58Z</dcterms:created>
  <dc:creator>BadBarmaley</dc:creator>
  <dc:description/>
  <dc:language>en-US</dc:language>
  <cp:lastModifiedBy>www.PHILka.RU</cp:lastModifiedBy>
  <dcterms:modified xsi:type="dcterms:W3CDTF">2011-12-03T15:42:48Z</dcterms:modified>
  <cp:revision>131</cp:revision>
  <dc:subject/>
  <dc:title>Слайд 1</dc:title>
</cp:coreProperties>
</file>