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56D-C66B-4581-B77D-FF965EA6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5A2-A059-49DA-B402-5A6200C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BDC-987C-4C16-A4B2-A0CA18D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C67-D70B-446C-A7D6-FC522828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7CFCA-8D34-48AC-8C27-E477E51A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D001A-A726-496F-916F-EE5E253D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50B55-EFFA-4954-82DB-5D41513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B50E-F9F3-486A-A66E-553E535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6C5A-3476-49F8-BE66-0795A3E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58938-558C-4B4A-BC13-D53A0508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7358-2F03-4F5C-B518-DE267C4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849-3B59-46C3-9D80-721A4F8F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3BBCB-1861-449F-A38C-BCD1432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0A4CB-AA55-4A38-B923-4BBDBC66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C9E01-3803-40FE-95E5-8B0D1BB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7CEFA-9301-42AD-B558-B9065E8D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54E1D-AF5A-48D1-AC34-D70AFB28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9595-6521-4A5D-AA4D-0E9B8D0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14E7-5143-4429-A136-95090DE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7B2D-2421-4705-9D15-452BD4B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2C69-21E6-4B5A-BC19-0DEA77E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6D07-2597-49FE-B35A-44DCD34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875-7928-4604-AA6A-1A93049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0EE6-D444-49D0-A60B-3EFFBB8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4CC0-4463-4888-8EEF-EB894E5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728D-5FD6-442D-9F97-FFC6071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BD9D-9785-4F30-824E-A5BCE05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A505-6809-4930-9075-715DB45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C5BF-8FB9-4AA7-BA7F-06D8D9C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E750-7B39-4794-9597-B4543965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7B5B6-F007-418A-B1B5-6C5E4C2A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5AE27-173D-403F-BCB0-7CF03B6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5A038-820C-4A81-B49D-4C91B47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865-A191-40BB-BD7D-D6D5495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477B2-22B0-4552-BEAA-298E29FE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D15F3-17CE-4F35-A521-C4ADE875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48C17-04AA-409F-A0F5-815CF71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32A24-A5AE-4124-8EED-5D3661E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8BC05-BA7C-4B54-8FB3-D6B51B0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1C2C9-8C8B-4F71-94D2-6A00034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5FF4A-1176-4C31-94D8-12F3723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0E593-8434-4F66-9790-1A9E12C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D2A5E-4921-497B-BBAB-4FCAEB2E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65D-DA8C-4E00-9DF0-1BE0410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408-8C34-4BDA-AF1F-B7250B2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A0F-1889-45C4-8CBD-E765AE9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528-2BDE-46A2-9184-0774038B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831-940D-451F-9543-D2F2947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665-3B31-4E8E-9D10-AFDD73349FD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0D41-AA5C-4DC5-A70B-9887BB529EB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2F0-F878-41BC-881D-84B871E0CCC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25A-3E73-41AB-8233-7AF0B9D3F35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6960" y="4361760"/>
            <a:ext cx="8001000" cy="21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ыполнил ученик 9а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Хачатурян Кар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Учитель МХК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Печкурова Елена Анатолье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Подольск, 201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33440" y="2438280"/>
            <a:ext cx="8356680" cy="1231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i.jpg"/>
          <p:cNvPicPr/>
          <p:nvPr/>
        </p:nvPicPr>
        <p:blipFill>
          <a:blip r:embed="rId2"/>
          <a:stretch/>
        </p:blipFill>
        <p:spPr>
          <a:xfrm>
            <a:off x="6473880" y="249120"/>
            <a:ext cx="2322360" cy="2249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post-10-1233863088.jpg"/>
          <p:cNvPicPr/>
          <p:nvPr/>
        </p:nvPicPr>
        <p:blipFill>
          <a:blip r:embed="rId3"/>
          <a:stretch/>
        </p:blipFill>
        <p:spPr>
          <a:xfrm>
            <a:off x="981000" y="115920"/>
            <a:ext cx="331632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99640" y="1196640"/>
            <a:ext cx="4752000" cy="47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Илья́ Муромец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или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Илья́ Муровец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(полное былинное имя Илья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Муромец сын 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Иван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) — один из главных героев древнерусского былинного эпоса, богатырь, воплощающий народный идеал героя-воина, народного заступника. . По данным украинских историков и первым исследованиям, что были проведены в КПЛ, в 17-м веке, его малой родиной было древнее селение Моровийск (современное село Моровск, Козелецкого р-на, Черниговской обл. Украины) на Черниговщине, недалеко от древней «дуковой дороги», что ведет с Чернигова в Кие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Рисунок 3" descr="250px-Vastnetsov_1914.jpg"/>
          <p:cNvPicPr/>
          <p:nvPr/>
        </p:nvPicPr>
        <p:blipFill>
          <a:blip r:embed="rId1"/>
          <a:stretch/>
        </p:blipFill>
        <p:spPr>
          <a:xfrm>
            <a:off x="5764320" y="1700280"/>
            <a:ext cx="298440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i.jpg"/>
          <p:cNvPicPr/>
          <p:nvPr/>
        </p:nvPicPr>
        <p:blipFill>
          <a:blip r:embed="rId1"/>
          <a:stretch/>
        </p:blipFill>
        <p:spPr>
          <a:xfrm>
            <a:off x="5162400" y="847800"/>
            <a:ext cx="4000680" cy="43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6840" y="1916280"/>
            <a:ext cx="49784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гласно былинам, богатырь Илья Муромец до 33-х лет «не владел» руками и ногами, а затем получил чудесное исцеление от старцев. После чего  по просьбе старцев Илья отправляется на службу к князю Владимир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тотипом былинного персонажа некоторыми исследователями считается исторический силач по прозванию «Чоботок», родом из Мурома, принявший монашество в Киево-Печерской лавре  под именем Ильи, причисленный к лику святых православной церкви как « преподобный Илия Муромец» (канонизирован в 1643 году) Илия Печерск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этой теории Илья Муромец жил в XII веке и скончался в Киево-Печерской лавре около 1188 года. Память по церковному календарю — 19 декабря (1 января. Современные антропологи и врачи-ортопеды при исследовании мощей Ильи подтверждают, что нижние конечности этого человека длительное время по каким-то причинам не действовали, вследствие или врождённого паралича или родовой травм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н является главным действующим лицом не только наших былин, но и германских эпических поэм XIII в., основанных на более ранних сказаниях. В них он представлен могучим витязем, княжеского рода Ильей Русским. Мощи преподобного не менее ярко свидетельствуют о яркой воинской биографии .После вполне успешной воинской карьеры и, видимо, вследствие тяжелого ранения, Илья принимает решение окончить свои дни иноком и постригается в Феодосиев монастырь, ныне Киево-Печерскую лавру. Следует отметить, что это вполне традиционный шаг для православного воина - сменить меч железный на меч духовный и проводить дни в сражении не за земные блага, а за небесны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еографические объект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ходящийся на полуострове Медвежий один из самых высоких водопадов России носит имя Илья Муромец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районе Киева на Днепре находится Остров Муромец — ландшафтный парк и любимое место отдыха горожа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рганизаци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иностудия детских и юношеских фильмов «Илья Муромец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крытый паевой инвестиционный фонд «Тройка Диалог — Илья Муромец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и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лья Муромец — фрегат Российского императорского флот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13 году имя богатыря получил самолёт-бомбардировщик, созданный авиаконструктором Игорем Сикорск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352760" y="146160"/>
            <a:ext cx="4340520" cy="1231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85928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1999 году в городском парке Мурома был установлен памятник Илье Муромцу скульптора В. М. Клыко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Рисунок 6" descr="220px-Muromets2.jpg"/>
          <p:cNvPicPr/>
          <p:nvPr/>
        </p:nvPicPr>
        <p:blipFill>
          <a:blip r:embed="rId2"/>
          <a:stretch/>
        </p:blipFill>
        <p:spPr>
          <a:xfrm>
            <a:off x="539640" y="534960"/>
            <a:ext cx="3816360" cy="527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Живопис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лья Муромец — персонаж картины Виктора Васнецова «Богатыри» , под впечатлением былины «Илья Муромец и разбойники» он же написал картину «Витязь на распутье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Илья Муромец на пиру у князя Владимира» — картина В.П.Верещагина, Илья Муромец — картина Николая Рериха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Илья Муромец освобождает узников», Илья Муромец и голь кабацкая, «Илья Муромец в ссоре с князем Владимиром»,, «Дар Святогора» — картины Константина Василье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allbest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ru.wikipedia.or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1:53:29Z</dcterms:created>
  <dc:creator>user</dc:creator>
  <dc:description/>
  <dc:language>en-US</dc:language>
  <cp:lastModifiedBy>www.PHILka.RU</cp:lastModifiedBy>
  <dcterms:modified xsi:type="dcterms:W3CDTF">2011-12-03T11:42:42Z</dcterms:modified>
  <cp:revision>14</cp:revision>
  <dc:subject/>
  <dc:title>Презентация на тему: «Герой народного эпоса Илья Муромец»</dc:title>
</cp:coreProperties>
</file>