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533-E573-4ED1-8992-7F57D492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BFA-C2A7-4264-B83C-5FF1F178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DD1-E5AA-4370-A2A9-09C87C16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3CC-2382-4F45-A1FB-3355FD08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8531-E5C4-491E-B85F-9C9CCE57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95EA-9006-4BB8-B268-FD61E94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07AB6-E5FA-4C47-96F3-B8C3724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E3D68-BD79-4472-9805-C58D8093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F962B-46ED-4CDC-B75C-219A754D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96EAC-539A-4C22-BCF1-24A69082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A0B6B-0951-4ACA-8D07-D2339D6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381-60CA-4758-A9A8-62C33CB1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18314-3B5A-4626-A562-63C3F3D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B41E-5B2B-4F8A-BCA6-C22717B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64B0-DD47-4077-9D22-FC80F5C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E749D-7354-48F0-A229-DCE79DC9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B7B6-2109-4519-B455-C29C4844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BB4E-A911-4AF5-96B0-E4BD4D35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C22C-110E-4473-B3EA-D3DB22B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BB85-0EF6-430B-8703-79E6CB3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FCD3-D259-4A93-AE9B-98A30A0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87D9-7D8D-4AA9-A168-75DF51F5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948-2ABD-407E-A88D-3E15ABDC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F1C8-E480-4AE4-AB66-1472799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522F-731B-4CA0-9C26-AC6F5A8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5A3B-0A01-4B78-A745-DD6BF07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92AD-FED1-47D8-ACE4-BC1977F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3491-F200-4A54-B4A7-49D8DB4E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8EE9-1804-4111-8881-95BC5A2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8F8D-5AC0-4224-8B3C-C6938312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F63C9-0B59-429B-82B9-F096A320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C59D2-CD66-486F-B844-AE0FF9F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CE81F-F122-4E7D-8FCC-24B9CDCC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6B2-7C17-4781-9961-3389771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181EF-D3F4-4694-9ACA-22049049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64996-2C0D-40DC-BB28-46A9DE4D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3A825-35AC-4CD4-90D2-5B105F14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A9083-BF04-4BDD-842A-A73BEC5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36292-E6B5-4688-B353-6D811A9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1710D-A390-4005-8FE6-946CA2A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0FDBC-22EC-4353-849F-58AB73C7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1396D-B0E0-4E20-9C0F-4D4E9290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2B4E6-E472-486E-87D8-60D20319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F2F-1C8F-461B-B0EA-6F56D9DB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084-1B9D-421E-A6DC-B27EAF95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0D0-26A7-4BB4-9CB6-F40A343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7EA-B370-4988-B104-02257F0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FBA-654F-46AB-B603-52E7CF21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0EA-FC3D-4ABA-ABE8-179B5289B55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DC6-8509-468A-BC98-72E96092C5E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48B-D185-4C16-AA47-BD2DCCF38C2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0246-2F7F-45FB-8F09-644527FBB75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6960" y="4361760"/>
            <a:ext cx="8001000" cy="21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ыполнил ученик 9а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Хачатурян Кар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Учитель МХК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Печкурова Елена Анатолье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Подольск, 201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33440" y="2438280"/>
            <a:ext cx="8356680" cy="1231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i.jpg"/>
          <p:cNvPicPr/>
          <p:nvPr/>
        </p:nvPicPr>
        <p:blipFill>
          <a:blip r:embed="rId2"/>
          <a:stretch/>
        </p:blipFill>
        <p:spPr>
          <a:xfrm>
            <a:off x="6473880" y="249120"/>
            <a:ext cx="2322360" cy="2249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post-10-1233863088.jpg"/>
          <p:cNvPicPr/>
          <p:nvPr/>
        </p:nvPicPr>
        <p:blipFill>
          <a:blip r:embed="rId3"/>
          <a:stretch/>
        </p:blipFill>
        <p:spPr>
          <a:xfrm>
            <a:off x="981000" y="115920"/>
            <a:ext cx="331632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99640" y="1196640"/>
            <a:ext cx="4752000" cy="475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Илья́ Муромец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или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Илья́ Муровец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(полное былинное имя Илья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Муромец сын 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Constantia"/>
              </a:rPr>
              <a:t>Иван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) — один из главных героев древнерусского былинного эпоса, богатырь, воплощающий народный идеал героя-воина, народного заступника. . По данным украинских историков и первым исследованиям, что были проведены в КПЛ, в 17-м веке, его малой родиной было древнее селение Моровийск (современное село Моровск, Козелецкого р-на, Черниговской обл. Украины) на Черниговщине, недалеко от древней «дуковой дороги», что ведет с Чернигова в Киев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Рисунок 3" descr="250px-Vastnetsov_1914.jpg"/>
          <p:cNvPicPr/>
          <p:nvPr/>
        </p:nvPicPr>
        <p:blipFill>
          <a:blip r:embed="rId1"/>
          <a:stretch/>
        </p:blipFill>
        <p:spPr>
          <a:xfrm>
            <a:off x="5764320" y="1700280"/>
            <a:ext cx="2984400" cy="252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i.jpg"/>
          <p:cNvPicPr/>
          <p:nvPr/>
        </p:nvPicPr>
        <p:blipFill>
          <a:blip r:embed="rId1"/>
          <a:stretch/>
        </p:blipFill>
        <p:spPr>
          <a:xfrm>
            <a:off x="5162400" y="847800"/>
            <a:ext cx="4000680" cy="43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6840" y="1916280"/>
            <a:ext cx="49784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гласно былинам, богатырь Илья Муромец до 33-х лет «не владел» руками и ногами, а затем получил чудесное исцеление от старцев. После чего  по просьбе старцев Илья отправляется на службу к князю Владимир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тотипом былинного персонажа некоторыми исследователями считается исторический силач по прозванию «Чоботок», родом из Мурома, принявший монашество в Киево-Печерской лавре  под именем Ильи, причисленный к лику святых православной церкви как « преподобный Илия Муромец» (канонизирован в 1643 году) Илия Печерск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этой теории Илья Муромец жил в XII веке и скончался в Киево-Печерской лавре около 1188 года. Память по церковному календарю — 19 декабря (1 января. Современные антропологи и врачи-ортопеды при исследовании мощей Ильи подтверждают, что нижние конечности этого человека длительное время по каким-то причинам не действовали, вследствие или врождённого паралича или родовой травм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н является главным действующим лицом не только наших былин, но и германских эпических поэм XIII в., основанных на более ранних сказаниях. В них он представлен могучим витязем, княжеского рода Ильей Русским. Мощи преподобного не менее ярко свидетельствуют о яркой воинской биографии .После вполне успешной воинской карьеры и, видимо, вследствие тяжелого ранения, Илья принимает решение окончить свои дни иноком и постригается в Феодосиев монастырь, ныне Киево-Печерскую лавру. Следует отметить, что это вполне традиционный шаг для православного воина - сменить меч железный на меч духовный и проводить дни в сражении не за земные блага, а за небесны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Географические объект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ходящийся на полуострове Медвежий один из самых высоких водопадов России носит имя Илья Муромец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районе Киева на Днепре находится Остров Муромец — ландшафтный парк и любимое место отдыха горожа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рганизаци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иностудия детских и юношеских фильмов «Илья Муромец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крытый паевой инвестиционный фонд «Тройка Диалог — Илья Муромец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ик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лья Муромец — фрегат Российского императорского флот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13 году имя богатыря получил самолёт-бомбардировщик, созданный авиаконструктором Игорем Сикорск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352760" y="146160"/>
            <a:ext cx="4340520" cy="1231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85928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1999 году в городском парке Мурома был установлен памятник Илье Муромцу скульптора В. М. Клыков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Рисунок 6" descr="220px-Muromets2.jpg"/>
          <p:cNvPicPr/>
          <p:nvPr/>
        </p:nvPicPr>
        <p:blipFill>
          <a:blip r:embed="rId2"/>
          <a:stretch/>
        </p:blipFill>
        <p:spPr>
          <a:xfrm>
            <a:off x="539640" y="534960"/>
            <a:ext cx="3816360" cy="527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Живопис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лья Муромец — персонаж картины Виктора Васнецова «Богатыри» , под впечатлением былины «Илья Муромец и разбойники» он же написал картину «Витязь на распутье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Илья Муромец на пиру у князя Владимира» — картина В.П.Верещагина, Илья Муромец — картина Николая Рериха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«Илья Муромец освобождает узников», Илья Муромец и голь кабацкая, «Илья Муромец в ссоре с князем Владимиром»,, «Дар Святогора» — картины Константина Василье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allbest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ww.ru.wikipedia.or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1:53:29Z</dcterms:created>
  <dc:creator>user</dc:creator>
  <dc:description/>
  <dc:language>en-US</dc:language>
  <cp:lastModifiedBy>www.PHILka.RU</cp:lastModifiedBy>
  <dcterms:modified xsi:type="dcterms:W3CDTF">2011-12-03T11:42:42Z</dcterms:modified>
  <cp:revision>14</cp:revision>
  <dc:subject/>
  <dc:title>Презентация на тему: «Герой народного эпоса Илья Муромец»</dc:title>
</cp:coreProperties>
</file>