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530-34A3-41E1-B6CD-1A24B6EC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6A7-C14C-4798-86BB-CF13D93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ACA-3933-4CB0-8171-9AE1786D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A4C-075A-46B9-ABD6-90E467CD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95EA-D52B-457C-A59E-A30948E7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F8E8-8148-439C-8B66-EB205BA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78B8-773C-45C6-A828-01C43D91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905-605D-4938-B0D8-6C2C5F7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C4E0-5B9B-4AAA-B9F0-47AF35C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D1DD-005F-4CFC-8C43-FF5AA3B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4C8-89AA-48C2-B863-6E86059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241-ACA7-4752-9398-747764F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9E0F-5133-4DD0-9BE5-4D4B08BA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B5D0-9EA3-4438-AC13-F1A1BED5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82CE-331D-48D4-B035-06ABFD5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9F9B-9C3B-4E79-9E61-AE8DA089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436-42F7-490D-B6B7-E156B565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6A8-9CA3-478C-B60A-CA626E2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DB0-6928-4142-88C7-FDA91E1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554-0AF8-4D4E-9A0A-6C21A12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4DB-59DD-43B8-9C64-D1E6C7B4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B51-827E-4CFB-BE87-8F4F05C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A2A-4E21-4AF6-B12D-500DA09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AEA-E8A9-4900-96B6-1BA577F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1EB1-C408-46CB-B4EB-4F59338C2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8D77-85A8-4400-B4F4-C177E0E40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hemistry.narod.ru/" TargetMode="External"/><Relationship Id="rId2" Type="http://schemas.openxmlformats.org/officeDocument/2006/relationships/hyperlink" Target="http://chemistry.narod.ru/" TargetMode="External"/><Relationship Id="rId3" Type="http://schemas.openxmlformats.org/officeDocument/2006/relationships/hyperlink" Target="http://chemistry.narod.ru/" TargetMode="External"/><Relationship Id="rId4" Type="http://schemas.openxmlformats.org/officeDocument/2006/relationships/hyperlink" Target="http://chemistry.narod.ru/" TargetMode="External"/><Relationship Id="rId5" Type="http://schemas.openxmlformats.org/officeDocument/2006/relationships/hyperlink" Target="http://www.xumuk.ru/" TargetMode="External"/><Relationship Id="rId6" Type="http://schemas.openxmlformats.org/officeDocument/2006/relationships/hyperlink" Target="http://www.xumuk.ru/" TargetMode="External"/><Relationship Id="rId7" Type="http://schemas.openxmlformats.org/officeDocument/2006/relationships/hyperlink" Target="http://www.xumuk.ru/" TargetMode="External"/><Relationship Id="rId8" Type="http://schemas.openxmlformats.org/officeDocument/2006/relationships/hyperlink" Target="http://www.xumuk.ru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Antiqua"/>
              </a:rPr>
              <a:t>Кристаллические решётки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МЕТАЛЛИЧЕСК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1125360"/>
            <a:ext cx="489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Металлическ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катионы металла и атомы, между которыми свободно перемещаются электро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005360"/>
            <a:ext cx="8713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ntiqua"/>
              </a:rPr>
              <a:t>Общие физические свойства ме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Твёрдое агрегатное состояние (кроме рту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Металлический бле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Ковкость и пласт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Электро и теплопров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600360" cy="2886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МЕТАЛЛИЧЕСК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3095640" cy="2697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492360" y="1198440"/>
            <a:ext cx="3095640" cy="2710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804000" y="1198440"/>
            <a:ext cx="2206800" cy="2735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50920" y="3645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422748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ntiqua"/>
              </a:rPr>
              <a:t>Кубическая объёмноцентр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42274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tiqua"/>
              </a:rPr>
              <a:t>Кубическая гранецентр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371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tiqua"/>
              </a:rPr>
              <a:t>Гексагон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4960" y="51195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a"/>
              </a:rPr>
              <a:t>Li, Na, K, Cs, Ba, 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00920" y="511956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a"/>
              </a:rPr>
              <a:t>Ca, Al, P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29800" y="511956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a"/>
              </a:rPr>
              <a:t>Mg, Zn,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3645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052640"/>
            <a:ext cx="734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3"/>
              </a:rPr>
              <a:t>chemistry.narod.ru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1628640"/>
            <a:ext cx="395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7"/>
              </a:rPr>
              <a:t>www.xumuk.ru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8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981000"/>
            <a:ext cx="82087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1" action="ppaction://hlinksldjump"/>
              </a:rPr>
              <a:t>1. Понятие о кристаллической решёт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2" action="ppaction://hlinksldjump"/>
              </a:rPr>
              <a:t>2. Типы кристаллических решё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3" action="ppaction://hlinksldjump"/>
              </a:rPr>
              <a:t>3. Ионн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4" action="ppaction://hlinksldjump"/>
              </a:rPr>
              <a:t>4. Атомн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5" action="ppaction://hlinksldjump"/>
              </a:rPr>
              <a:t>5. Молекулярн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6" action="ppaction://hlinksldjump"/>
              </a:rPr>
              <a:t>6. Металлическ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7" action="ppaction://hlinksldjump"/>
              </a:rPr>
              <a:t>7. Информацион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386064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Кристаллическая решётка</a:t>
            </a:r>
            <a:r>
              <a:rPr b="0" lang="en-US" sz="3200" spc="-1" strike="noStrike">
                <a:solidFill>
                  <a:srgbClr val="ffffff"/>
                </a:solidFill>
                <a:latin typeface="Antiqua"/>
              </a:rPr>
              <a:t> представляет собой упорядоченное расположение частиц в пространстве. Точки, в которых размещены частицы – </a:t>
            </a: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узлы кристаллической решё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3911760" cy="32018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68360" y="1069920"/>
            <a:ext cx="8228520" cy="4734720"/>
            <a:chOff x="468360" y="1069920"/>
            <a:chExt cx="8228520" cy="4734720"/>
          </a:xfrm>
        </p:grpSpPr>
        <p:cxnSp>
          <p:nvCxnSpPr>
            <p:cNvPr id="219" name="_s37968"/>
            <p:cNvCxnSpPr>
              <a:stCxn id="220" idx="1"/>
              <a:endCxn id="221" idx="2"/>
            </p:cNvCxnSpPr>
            <p:nvPr/>
          </p:nvCxnSpPr>
          <p:spPr>
            <a:xfrm rot="10800000">
              <a:off x="4582080" y="2252880"/>
              <a:ext cx="588240" cy="29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37966"/>
            <p:cNvCxnSpPr>
              <a:stCxn id="223" idx="3"/>
              <a:endCxn id="221" idx="2"/>
            </p:cNvCxnSpPr>
            <p:nvPr/>
          </p:nvCxnSpPr>
          <p:spPr>
            <a:xfrm flipV="1">
              <a:off x="3994920" y="2253240"/>
              <a:ext cx="588240" cy="295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37964"/>
            <p:cNvCxnSpPr>
              <a:stCxn id="225" idx="1"/>
              <a:endCxn id="221" idx="2"/>
            </p:cNvCxnSpPr>
            <p:nvPr/>
          </p:nvCxnSpPr>
          <p:spPr>
            <a:xfrm rot="10800000">
              <a:off x="4582080" y="2252880"/>
              <a:ext cx="588240" cy="1184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37962"/>
            <p:cNvCxnSpPr>
              <a:stCxn id="227" idx="3"/>
              <a:endCxn id="221" idx="2"/>
            </p:cNvCxnSpPr>
            <p:nvPr/>
          </p:nvCxnSpPr>
          <p:spPr>
            <a:xfrm flipV="1">
              <a:off x="3994920" y="2253240"/>
              <a:ext cx="588240" cy="1184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37946"/>
            <p:cNvSpPr/>
            <p:nvPr/>
          </p:nvSpPr>
          <p:spPr>
            <a:xfrm>
              <a:off x="2819160" y="106992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ntiqua"/>
                </a:rPr>
                <a:t>ТИП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ntiqua"/>
                </a:rPr>
                <a:t>КРИСТАЛЛИЧЕСКИ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ntiqua"/>
                </a:rPr>
                <a:t>РЕШЁТОК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37961"/>
            <p:cNvSpPr/>
            <p:nvPr/>
          </p:nvSpPr>
          <p:spPr>
            <a:xfrm>
              <a:off x="468360" y="284544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Ионн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37963"/>
            <p:cNvSpPr/>
            <p:nvPr/>
          </p:nvSpPr>
          <p:spPr>
            <a:xfrm>
              <a:off x="5170320" y="284544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Молекулярн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37965"/>
            <p:cNvSpPr/>
            <p:nvPr/>
          </p:nvSpPr>
          <p:spPr>
            <a:xfrm>
              <a:off x="468360" y="462096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Атомн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37967"/>
            <p:cNvSpPr/>
            <p:nvPr/>
          </p:nvSpPr>
          <p:spPr>
            <a:xfrm>
              <a:off x="5170320" y="4620960"/>
              <a:ext cx="3526560" cy="1179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Металлическ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ИОН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95640" y="1413000"/>
            <a:ext cx="4897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Ионн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ионы, соединённые между собой ионной связ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6920" y="4149720"/>
            <a:ext cx="8713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Физические свойства ионных крис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Большая твё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Малая летуч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Хорошая растворимость 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Высокая температура пл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4480" y="4083120"/>
            <a:ext cx="2153880" cy="2154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ИОН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652480" cy="3168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132000" y="981000"/>
            <a:ext cx="5761080" cy="3152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4000" y="450864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Примеры веществ: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большинство со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щёло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оксиды и гидриды щелочных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АТОМ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1413000"/>
            <a:ext cx="4897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Атомн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атомы, соединённые между собой ковалентными связ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66920" y="4149720"/>
            <a:ext cx="8713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Физические свойства атомных крис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Очень высокая твё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Нелетуч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Нерастворимость 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Очень высокая температура пл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10080" cy="3029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АТОМ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508464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Примеры веществ: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алмаз, графит, кварц, крем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79560" y="981000"/>
            <a:ext cx="3160800" cy="338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981680" y="981000"/>
            <a:ext cx="2975040" cy="338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71640" y="4292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ntiqua"/>
              </a:rPr>
              <a:t>алмаз                                        граф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МОЛЕКУЛЯР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907920"/>
            <a:ext cx="547344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Молекулярн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молекулы (полярные или неполярны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ntiqua"/>
              </a:rPr>
              <a:t>Примеры веществ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ntiqua"/>
              </a:rPr>
              <a:t> газы, йод, сахароза, вода, сера, 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0200" y="4149720"/>
            <a:ext cx="8713800" cy="27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Физические свойства молекулярных крис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Хрупкост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Летучест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Нерастворимость в воде, если в узлах неполярные молекулы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Растворимость в воде, если в узлах полярные молекулы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Низкая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температура пл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6600" y="765000"/>
            <a:ext cx="2795400" cy="3313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26:14Z</dcterms:created>
  <dc:creator/>
  <dc:description/>
  <dc:language>en-US</dc:language>
  <cp:lastModifiedBy>Master_1</cp:lastModifiedBy>
  <dcterms:modified xsi:type="dcterms:W3CDTF">2011-11-14T15:47:20Z</dcterms:modified>
  <cp:revision>4</cp:revision>
  <dc:subject/>
  <dc:title>Кристаллические решётки</dc:title>
</cp:coreProperties>
</file>