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AAD8-5611-4AA9-86FF-8FD532C20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2A8D-D0DD-4437-9372-97E7C988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C314-8937-415E-93A1-403309D5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6809-AF99-498C-9D9E-DAFBBE83E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70C9-CC09-4112-8012-ECCAB4F2A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0E33-80D5-4436-9617-78B938B3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61BC-317D-4CA3-903C-63EEE78D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CE55-BE5F-412A-B8B9-7BFAB399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FEF7-BAC8-4FDB-8B51-0F3ACFAA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D7DB-D68D-4A07-818C-761F522A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E38F-140A-497F-BD76-7F578608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8AE9-7B46-44C6-B4C5-30629EAA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1421-A9C0-489F-8782-E4EE2523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6C02-759D-49AB-AAF8-DA37EE49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2BEF-710E-405A-A984-2B44CB2B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02FD-7AF4-411B-B13A-FD53846AF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1A59-BA01-4073-9CFE-567561193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08AB-69E5-4947-BE79-424DCF86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7586-BD43-47D0-B71A-7FD22299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D7C9-09F2-4E66-9C4D-826F5667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EE20-34CD-4908-912C-DF9CD743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4FFE-22E2-4EC5-8213-72053D73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06E5-74E4-437E-9BEB-EC8E25BC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0592-5607-451E-96FB-C7E0098D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6CBC-1BBF-4CFA-90DD-07410799EB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020B-FE30-4DD0-8964-D8D2AB145E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hemistry.narod.ru/" TargetMode="External"/><Relationship Id="rId2" Type="http://schemas.openxmlformats.org/officeDocument/2006/relationships/hyperlink" Target="http://chemistry.narod.ru/" TargetMode="External"/><Relationship Id="rId3" Type="http://schemas.openxmlformats.org/officeDocument/2006/relationships/hyperlink" Target="http://chemistry.narod.ru/" TargetMode="External"/><Relationship Id="rId4" Type="http://schemas.openxmlformats.org/officeDocument/2006/relationships/hyperlink" Target="http://chemistry.narod.ru/" TargetMode="External"/><Relationship Id="rId5" Type="http://schemas.openxmlformats.org/officeDocument/2006/relationships/hyperlink" Target="http://www.xumuk.ru/" TargetMode="External"/><Relationship Id="rId6" Type="http://schemas.openxmlformats.org/officeDocument/2006/relationships/hyperlink" Target="http://www.xumuk.ru/" TargetMode="External"/><Relationship Id="rId7" Type="http://schemas.openxmlformats.org/officeDocument/2006/relationships/hyperlink" Target="http://www.xumuk.ru/" TargetMode="External"/><Relationship Id="rId8" Type="http://schemas.openxmlformats.org/officeDocument/2006/relationships/hyperlink" Target="http://www.xumuk.ru/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2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ecff"/>
                </a:solidFill>
                <a:latin typeface="Antiqua"/>
              </a:rPr>
              <a:t>Кристаллические решётки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826920" y="1890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tiqua"/>
              </a:rPr>
              <a:t>МЕТАЛЛИЧЕСКАЯ РЕШЁ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95640" y="1125360"/>
            <a:ext cx="4897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ntiqua"/>
              </a:rPr>
              <a:t>Металлической</a:t>
            </a:r>
            <a:r>
              <a:rPr b="0" lang="en-US" sz="2600" spc="-1" strike="noStrike">
                <a:solidFill>
                  <a:srgbClr val="ffffff"/>
                </a:solidFill>
                <a:latin typeface="Antiqua"/>
              </a:rPr>
              <a:t> называется решётка, в узлах которой расположены катионы металла и атомы, между которыми свободно перемещаются электроны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0920" y="4005360"/>
            <a:ext cx="871380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ntiqua"/>
              </a:rPr>
              <a:t>Общие физические свойства металл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ntiqua"/>
              </a:rPr>
              <a:t>Твёрдое агрегатное состояние (кроме ртут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ru-RU" sz="2400" spc="-1" strike="noStrike">
                <a:solidFill>
                  <a:srgbClr val="ffffff"/>
                </a:solidFill>
                <a:latin typeface="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ntiqua"/>
              </a:rPr>
              <a:t>Металлический блес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ru-RU" sz="2400" spc="-1" strike="noStrike">
                <a:solidFill>
                  <a:srgbClr val="ffffff"/>
                </a:solidFill>
                <a:latin typeface="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ntiqua"/>
              </a:rPr>
              <a:t>Ковкость и пластич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ru-RU" sz="2400" spc="-1" strike="noStrike">
                <a:solidFill>
                  <a:srgbClr val="ffffff"/>
                </a:solidFill>
                <a:latin typeface="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ntiqua"/>
              </a:rPr>
              <a:t>Электро и теплопровод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3600360" cy="28861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7956720" y="638172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ntiqua"/>
              </a:rPr>
              <a:t>Оглавл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826920" y="1890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tiqua"/>
              </a:rPr>
              <a:t>МЕТАЛЛИЧЕСКАЯ РЕШЁ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79280" y="1198440"/>
            <a:ext cx="3095640" cy="26971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3492360" y="1198440"/>
            <a:ext cx="3095640" cy="27100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6804000" y="1198440"/>
            <a:ext cx="2206800" cy="27352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50920" y="3645000"/>
            <a:ext cx="871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9280" y="4227480"/>
            <a:ext cx="30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ntiqua"/>
              </a:rPr>
              <a:t>Кубическая объёмноцентрирова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92360" y="42274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ntiqua"/>
              </a:rPr>
              <a:t>Кубическая гранецентрирова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804000" y="43718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ntiqua"/>
              </a:rPr>
              <a:t>Гексагона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44960" y="5119560"/>
            <a:ext cx="24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qua"/>
              </a:rPr>
              <a:t>Li, Na, K, Cs, Ba, 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300920" y="5119560"/>
            <a:ext cx="129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qua"/>
              </a:rPr>
              <a:t>Ca, Al, P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129800" y="5119560"/>
            <a:ext cx="145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qua"/>
              </a:rPr>
              <a:t>Mg, Zn, 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956720" y="638172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ntiqua"/>
              </a:rPr>
              <a:t>Оглавл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826920" y="1890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tiqua"/>
              </a:rPr>
              <a:t>ИНФОРМАЦИОННЫЕ РЕСУР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0920" y="3645000"/>
            <a:ext cx="871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4000" y="1052640"/>
            <a:ext cx="734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ff99"/>
                </a:solidFill>
                <a:uFillTx/>
                <a:latin typeface="Antiqua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ntiqua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ntiqua"/>
                <a:hlinkClick r:id="rId3"/>
              </a:rPr>
              <a:t>chemistry.narod.ru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ntiqua"/>
                <a:hlinkClick r:id="rId4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4000" y="1628640"/>
            <a:ext cx="395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ff99"/>
                </a:solidFill>
                <a:uFillTx/>
                <a:latin typeface="Antiqua"/>
                <a:hlinkClick r:id="rId5"/>
              </a:rPr>
              <a:t>http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ntiqua"/>
                <a:hlinkClick r:id="rId6"/>
              </a:rPr>
              <a:t>://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ntiqua"/>
                <a:hlinkClick r:id="rId7"/>
              </a:rPr>
              <a:t>www.xumuk.ru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ntiqua"/>
                <a:hlinkClick r:id="rId8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956720" y="638172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ntiqua"/>
              </a:rPr>
              <a:t>Оглавл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826920" y="1890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tiqua"/>
              </a:rPr>
              <a:t>ОГЛАВ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1280" y="981000"/>
            <a:ext cx="820872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Antiqua"/>
                <a:hlinkClick r:id="rId1" action="ppaction://hlinksldjump"/>
              </a:rPr>
              <a:t>1. Понятие о кристаллической решёт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Antiqua"/>
                <a:hlinkClick r:id="rId2" action="ppaction://hlinksldjump"/>
              </a:rPr>
              <a:t>2. Типы кристаллических решёт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Antiqua"/>
                <a:hlinkClick r:id="rId3" action="ppaction://hlinksldjump"/>
              </a:rPr>
              <a:t>3. Ионная решё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Antiqua"/>
                <a:hlinkClick r:id="rId4" action="ppaction://hlinksldjump"/>
              </a:rPr>
              <a:t>4. Атомная решё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Antiqua"/>
                <a:hlinkClick r:id="rId5" action="ppaction://hlinksldjump"/>
              </a:rPr>
              <a:t>5. Молекулярная решё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Antiqua"/>
                <a:hlinkClick r:id="rId6" action="ppaction://hlinksldjump"/>
              </a:rPr>
              <a:t>6. Металлическая решё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Antiqua"/>
                <a:hlinkClick r:id="rId7" action="ppaction://hlinksldjump"/>
              </a:rPr>
              <a:t>7. Информационные ресур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50920" y="3860640"/>
            <a:ext cx="864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tiqua"/>
              </a:rPr>
              <a:t>Кристаллическая решётка</a:t>
            </a:r>
            <a:r>
              <a:rPr b="0" lang="en-US" sz="3200" spc="-1" strike="noStrike">
                <a:solidFill>
                  <a:srgbClr val="ffffff"/>
                </a:solidFill>
                <a:latin typeface="Antiqua"/>
              </a:rPr>
              <a:t> представляет собой упорядоченное расположение частиц в пространстве. Точки, в которых размещены частицы – </a:t>
            </a:r>
            <a:r>
              <a:rPr b="1" lang="en-US" sz="3200" spc="-1" strike="noStrike">
                <a:solidFill>
                  <a:srgbClr val="ffffff"/>
                </a:solidFill>
                <a:latin typeface="Antiqua"/>
              </a:rPr>
              <a:t>узлы кристаллической решёт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3911760" cy="3201840"/>
          </a:xfrm>
          <a:prstGeom prst="rect">
            <a:avLst/>
          </a:prstGeom>
          <a:ln w="0">
            <a:noFill/>
          </a:ln>
        </p:spPr>
      </p:pic>
      <p:sp>
        <p:nvSpPr>
          <p:cNvPr id="217" name="">
            <a:hlinkClick r:id="rId2" action="ppaction://hlinksldjump"/>
          </p:cNvPr>
          <p:cNvSpPr/>
          <p:nvPr/>
        </p:nvSpPr>
        <p:spPr>
          <a:xfrm>
            <a:off x="7956720" y="638172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ntiqua"/>
              </a:rPr>
              <a:t>Оглавл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468360" y="1069920"/>
            <a:ext cx="8228520" cy="4734720"/>
            <a:chOff x="468360" y="1069920"/>
            <a:chExt cx="8228520" cy="4734720"/>
          </a:xfrm>
        </p:grpSpPr>
        <p:cxnSp>
          <p:nvCxnSpPr>
            <p:cNvPr id="219" name="_s37968"/>
            <p:cNvCxnSpPr>
              <a:stCxn id="220" idx="1"/>
              <a:endCxn id="221" idx="2"/>
            </p:cNvCxnSpPr>
            <p:nvPr/>
          </p:nvCxnSpPr>
          <p:spPr>
            <a:xfrm rot="10800000">
              <a:off x="4582080" y="2252880"/>
              <a:ext cx="588240" cy="2955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2" name="_s37966"/>
            <p:cNvCxnSpPr>
              <a:stCxn id="223" idx="3"/>
              <a:endCxn id="221" idx="2"/>
            </p:cNvCxnSpPr>
            <p:nvPr/>
          </p:nvCxnSpPr>
          <p:spPr>
            <a:xfrm flipV="1">
              <a:off x="3994920" y="2253240"/>
              <a:ext cx="588240" cy="2959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4" name="_s37964"/>
            <p:cNvCxnSpPr>
              <a:stCxn id="225" idx="1"/>
              <a:endCxn id="221" idx="2"/>
            </p:cNvCxnSpPr>
            <p:nvPr/>
          </p:nvCxnSpPr>
          <p:spPr>
            <a:xfrm rot="10800000">
              <a:off x="4582080" y="2252880"/>
              <a:ext cx="588240" cy="1184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6" name="_s37962"/>
            <p:cNvCxnSpPr>
              <a:stCxn id="227" idx="3"/>
              <a:endCxn id="221" idx="2"/>
            </p:cNvCxnSpPr>
            <p:nvPr/>
          </p:nvCxnSpPr>
          <p:spPr>
            <a:xfrm flipV="1">
              <a:off x="3994920" y="2253240"/>
              <a:ext cx="588240" cy="1184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21" name="_s37946"/>
            <p:cNvSpPr/>
            <p:nvPr/>
          </p:nvSpPr>
          <p:spPr>
            <a:xfrm>
              <a:off x="2819160" y="1069920"/>
              <a:ext cx="3526560" cy="11836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ntiqua"/>
                </a:rPr>
                <a:t>ТИПЫ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ntiqua"/>
                </a:rPr>
                <a:t>КРИСТАЛЛИЧЕСКИХ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ntiqua"/>
                </a:rPr>
                <a:t>РЕШЁТОК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37961"/>
            <p:cNvSpPr/>
            <p:nvPr/>
          </p:nvSpPr>
          <p:spPr>
            <a:xfrm>
              <a:off x="468360" y="2845440"/>
              <a:ext cx="3526560" cy="11836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ntiqua"/>
                </a:rPr>
                <a:t>Ионна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37963"/>
            <p:cNvSpPr/>
            <p:nvPr/>
          </p:nvSpPr>
          <p:spPr>
            <a:xfrm>
              <a:off x="5170320" y="2845440"/>
              <a:ext cx="3526560" cy="11836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ntiqua"/>
                </a:rPr>
                <a:t>Молекулярна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_s37965"/>
            <p:cNvSpPr/>
            <p:nvPr/>
          </p:nvSpPr>
          <p:spPr>
            <a:xfrm>
              <a:off x="468360" y="4620960"/>
              <a:ext cx="3526560" cy="11836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ntiqua"/>
                </a:rPr>
                <a:t>Атомна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_s37967"/>
            <p:cNvSpPr/>
            <p:nvPr/>
          </p:nvSpPr>
          <p:spPr>
            <a:xfrm>
              <a:off x="5170320" y="4620960"/>
              <a:ext cx="3526560" cy="11797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ntiqua"/>
                </a:rPr>
                <a:t>Металлическа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7956720" y="638172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ntiqua"/>
              </a:rPr>
              <a:t>Оглавл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826920" y="1890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tiqua"/>
              </a:rPr>
              <a:t>ИОННАЯ РЕШЁ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08000" y="8366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995640" y="1413000"/>
            <a:ext cx="4897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ntiqua"/>
              </a:rPr>
              <a:t>Ионной</a:t>
            </a:r>
            <a:r>
              <a:rPr b="0" lang="en-US" sz="2600" spc="-1" strike="noStrike">
                <a:solidFill>
                  <a:srgbClr val="ffffff"/>
                </a:solidFill>
                <a:latin typeface="Antiqua"/>
              </a:rPr>
              <a:t> называется решётка, в узлах которой расположены ионы, соединённые между собой ионной связью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66920" y="4149720"/>
            <a:ext cx="871380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tiqua"/>
              </a:rPr>
              <a:t>Физические свойства ионных кристалл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Большая твёрд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Малая летуче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Хорошая растворимость в во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Высокая температура пл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14480" y="4083120"/>
            <a:ext cx="2153880" cy="21542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7956720" y="638172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ntiqua"/>
              </a:rPr>
              <a:t>Оглавл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26920" y="1890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tiqua"/>
              </a:rPr>
              <a:t>ИОННАЯ РЕШЁ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2652480" cy="31687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3132000" y="981000"/>
            <a:ext cx="5761080" cy="31528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24000" y="4508640"/>
            <a:ext cx="85690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tiqua"/>
              </a:rPr>
              <a:t>Примеры веществ:</a:t>
            </a: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большинство со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щёло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оксиды и гидриды щелочных металл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956720" y="638172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ntiqua"/>
              </a:rPr>
              <a:t>Оглавл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826920" y="1890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tiqua"/>
              </a:rPr>
              <a:t>АТОМНАЯ РЕШЁ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95640" y="1413000"/>
            <a:ext cx="4897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ntiqua"/>
              </a:rPr>
              <a:t>Атомной</a:t>
            </a:r>
            <a:r>
              <a:rPr b="0" lang="en-US" sz="2600" spc="-1" strike="noStrike">
                <a:solidFill>
                  <a:srgbClr val="ffffff"/>
                </a:solidFill>
                <a:latin typeface="Antiqua"/>
              </a:rPr>
              <a:t> называется решётка, в узлах которой расположены атомы, соединённые между собой ковалентными связям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66920" y="4149720"/>
            <a:ext cx="871380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tiqua"/>
              </a:rPr>
              <a:t>Физические свойства атомных кристалл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Очень высокая твёрд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Нелетуче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Нерастворимость в во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Очень высокая температура пл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3610080" cy="30290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250920" y="4437000"/>
            <a:ext cx="1944720" cy="1656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7956720" y="638172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ntiqua"/>
              </a:rPr>
              <a:t>Оглавл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826920" y="1890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tiqua"/>
              </a:rPr>
              <a:t>АТОМНАЯ РЕШЁ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71640" y="508464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tiqua"/>
              </a:rPr>
              <a:t>Примеры веществ:</a:t>
            </a: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алмаз, графит, кварц, крем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79560" y="981000"/>
            <a:ext cx="3160800" cy="3382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981680" y="981000"/>
            <a:ext cx="2975040" cy="3382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971640" y="429264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ntiqua"/>
              </a:rPr>
              <a:t>алмаз                                        графи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956720" y="638172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ntiqua"/>
              </a:rPr>
              <a:t>Оглавл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826920" y="1890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tiqua"/>
              </a:rPr>
              <a:t>МОЛЕКУЛЯРНАЯ РЕШЁ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19640" y="907920"/>
            <a:ext cx="5473440" cy="28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ntiqua"/>
              </a:rPr>
              <a:t>Молекулярной</a:t>
            </a:r>
            <a:r>
              <a:rPr b="0" lang="en-US" sz="2600" spc="-1" strike="noStrike">
                <a:solidFill>
                  <a:srgbClr val="ffffff"/>
                </a:solidFill>
                <a:latin typeface="Antiqua"/>
              </a:rPr>
              <a:t> называется решётка, в узлах которой расположены молекулы (полярные или неполярные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ntiqua"/>
              </a:rPr>
              <a:t>Примеры веществ: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ntiqua"/>
              </a:rPr>
              <a:t> газы, йод, сахароза, вода, сера, кисл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0200" y="4149720"/>
            <a:ext cx="8713800" cy="27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tiqua"/>
              </a:rPr>
              <a:t>Физические свойства молекулярных кристалл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ntiqua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Antiqua"/>
              </a:rPr>
              <a:t>Хрупкость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ntiqua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Antiqua"/>
              </a:rPr>
              <a:t>Летучесть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ntiqua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Antiqua"/>
              </a:rPr>
              <a:t>Нерастворимость в воде, если в узлах неполярные молекулы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ntiqua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Antiqua"/>
              </a:rPr>
              <a:t>Растворимость в воде, если в узлах полярные молекулы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ntiqua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Antiqua"/>
              </a:rPr>
              <a:t>Низкая</a:t>
            </a:r>
            <a:r>
              <a:rPr b="0" lang="en-US" sz="2400" spc="-1" strike="noStrike">
                <a:solidFill>
                  <a:srgbClr val="ffffff"/>
                </a:solidFill>
                <a:latin typeface="Antiqua"/>
              </a:rPr>
              <a:t> температура пл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36600" y="765000"/>
            <a:ext cx="2795400" cy="33134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956720" y="638172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ntiqua"/>
              </a:rPr>
              <a:t>Оглавл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12:26:14Z</dcterms:created>
  <dc:creator/>
  <dc:description/>
  <dc:language>en-US</dc:language>
  <cp:lastModifiedBy>Master_1</cp:lastModifiedBy>
  <dcterms:modified xsi:type="dcterms:W3CDTF">2011-11-14T15:47:20Z</dcterms:modified>
  <cp:revision>4</cp:revision>
  <dc:subject/>
  <dc:title>Кристаллические решётки</dc:title>
</cp:coreProperties>
</file>