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53F-231C-42DB-B022-19453EB8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F79-50DC-4D2E-8007-F5CEFE1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8AB-FA6A-42EA-B9E9-11826233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6F0-7143-4BE3-8825-1989AEF3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837-B3F9-48F7-8216-5142198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1FA-79B7-48C4-B827-701B4AC3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FC9-BF5E-4A22-B884-57BC360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4EA-64C0-4310-A153-A4D5471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2E6-96F7-4697-99BD-9206DD6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64-7936-4660-B7A9-CF32218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141-EAE7-42CD-9BC3-00597E3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ABD-4355-4FAF-ACCD-4921A69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7BB-58EC-4B49-88AB-D1CA4D7E4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00"/>
                </a:solidFill>
                <a:latin typeface="Times New Roman"/>
              </a:rPr>
              <a:t>Логическая математи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414936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Занятие математического кружка в 4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МОУ лицей № 14 г.о. Жуков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учитель Михайлова Е.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Катерина\Desktop\Рисунки\Картинки\0109-300x270.png"/>
          <p:cNvPicPr/>
          <p:nvPr/>
        </p:nvPicPr>
        <p:blipFill>
          <a:blip r:embed="rId2"/>
          <a:stretch/>
        </p:blipFill>
        <p:spPr>
          <a:xfrm>
            <a:off x="684360" y="378936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ведены три рисунка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На одном из них стрелка от человечка к человечку идет в случае, когда первый является дедом второго, на другом – когда первый является отцом второго, а на третьем – когда первый является братом второго. На каком именно рисунке стрелки идут от деда к внуку, а на каком от отца к сыну? На оставшемся рисунке найдите Катю и обведите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4 класс 2f"/>
          <p:cNvPicPr/>
          <p:nvPr/>
        </p:nvPicPr>
        <p:blipFill>
          <a:blip r:embed="rId2"/>
          <a:stretch/>
        </p:blipFill>
        <p:spPr>
          <a:xfrm>
            <a:off x="468360" y="2133720"/>
            <a:ext cx="82580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кольный огород имеет форму прямоугольника длиной в 60 метров и шириной в 40 метров. Вычисли, сколько вёдер дождя выпало на этот огород, если на каждые 100 квадратных метров выпало 96 литров дождя, и в ведре помещается 12 литров вод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 четырех проволочек разного цвета длиной по 9 см составь прямоугольный параллелепипед с длинами ребер 2, 3 и 4 см. Проволочки разрезать нельзя. Решение нарису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саду росли яблони и вишни. Если взять половину всех вишен и четверть всех яблонь, то тех и других деревьев будет поровну. А всего деревьев в саду 360. Сколько яблонь и  сколько вишен было в саду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овы больше тысячи книг, – сказал В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т,  книг у него меньше тысячи,  – возразила 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на-то книга у него наверняка есть, – сказала М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олько книг у Вовы, если истинно только одно из этих утверждений? Ответ объяс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городе разбили квадратный сквер и обнесли его со всех сторон забором. Какая площадь сквера, если известно, что плотникам заплатили за забор 16000 рублей, причем за погонный метр его платили по 20 рубле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599840"/>
            <a:ext cx="66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шина выезжает из А в В и, доехав до В, тут же возвращается обратно. Через 1 час машина была на расстоянии 80 км от В, а еще через 3 часа – в 80 км от А. Известно, что на весь путь туда и обратно машина затратила менее 9 часов. Определи расстояние от А до В.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AUTO_02"/>
          <p:cNvPicPr/>
          <p:nvPr/>
        </p:nvPicPr>
        <p:blipFill>
          <a:blip r:embed="rId2"/>
          <a:stretch/>
        </p:blipFill>
        <p:spPr>
          <a:xfrm>
            <a:off x="6516720" y="5373720"/>
            <a:ext cx="2260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меется 5 ящиков. В некоторых из них лежат 5 ящиков меньшего размера, а в некоторых из меньших ящиков лежат еще по 5 ящиков. Сколько всего ящиков, если заполнено всего 13 ящ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31640" y="1599840"/>
            <a:ext cx="5472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вух хозяек было 70 птиц, причем 5/9 птиц первой составляли курицы, а 7/17 птиц второй – гуси. Сколько птиц было у каждой хозяй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Классная Кура"/>
          <p:cNvPicPr/>
          <p:nvPr/>
        </p:nvPicPr>
        <p:blipFill>
          <a:blip r:embed="rId2"/>
          <a:stretch/>
        </p:blipFill>
        <p:spPr>
          <a:xfrm>
            <a:off x="250920" y="2781360"/>
            <a:ext cx="32414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00"/>
                </a:solidFill>
                <a:latin typeface="Monotype Corsiva"/>
              </a:rPr>
              <a:t>Задача № 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исунке изображена схема дорог в селении Плания. Нужно кратчайшим путем попасть от перекрестка А до перекрестка В. Сколькими способами это можно сдел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3 класс 4"/>
          <p:cNvPicPr/>
          <p:nvPr/>
        </p:nvPicPr>
        <p:blipFill>
          <a:blip r:embed="rId2"/>
          <a:stretch/>
        </p:blipFill>
        <p:spPr>
          <a:xfrm>
            <a:off x="6084720" y="2349360"/>
            <a:ext cx="27259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Кролик"/>
          <p:cNvPicPr/>
          <p:nvPr/>
        </p:nvPicPr>
        <p:blipFill>
          <a:blip r:embed="rId3"/>
          <a:stretch/>
        </p:blipFill>
        <p:spPr>
          <a:xfrm>
            <a:off x="8055000" y="0"/>
            <a:ext cx="1089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1599840"/>
            <a:ext cx="770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ля приготовления сметанного соуса берут 100 г сметаны, 5 г масла и 3 г муки. Мама смешала 100 г сметаны и 3 г муки и попросила дочь добавить необходимое по рецепту количество масла. Дочь ошиблась и положила 15 г масла. Сколько надо добавить сметаны и муки, чтобы приготовить соус  строго по рецепту? Сколько граммов соуса получи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девочка2"/>
          <p:cNvPicPr/>
          <p:nvPr/>
        </p:nvPicPr>
        <p:blipFill>
          <a:blip r:embed="rId2"/>
          <a:stretch/>
        </p:blipFill>
        <p:spPr>
          <a:xfrm>
            <a:off x="0" y="4869000"/>
            <a:ext cx="1415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 клубнику решили выделить участок земли площадью 144 кв. м. Одни предлагали выделить для этого участок прямоугольной формы, а другие – квадратной. При какой форме длина забора вокруг участка будет самой короткой? Напиши реш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64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ый из четырех гномов – Беня, Веня, Женя и Сеня либо всегда говорит правду, либо всегда врет. Мы услышали разговор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ня –  Вене: «Ты вру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ня – Бене: «Сам ты вру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ня – Жене: «Оба они вруны, да и ты тоже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то из них говорит правд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гном"/>
          <p:cNvPicPr/>
          <p:nvPr/>
        </p:nvPicPr>
        <p:blipFill>
          <a:blip r:embed="rId2"/>
          <a:stretch/>
        </p:blipFill>
        <p:spPr>
          <a:xfrm>
            <a:off x="6516720" y="2852640"/>
            <a:ext cx="22795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8147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ружочках написали числа 1, 2, 3, 4, 6, 12 и от каждого числа направили стрелку к его делителю. Затем числа и некоторые стрелки стерли. Запиши числа в их кружочки и восстанови стертые стрел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755640" y="4437000"/>
            <a:ext cx="2736720" cy="1944360"/>
            <a:chOff x="755640" y="4437000"/>
            <a:chExt cx="2736720" cy="1944360"/>
          </a:xfrm>
        </p:grpSpPr>
        <p:sp>
          <p:nvSpPr>
            <p:cNvPr id="59" name="Line 3"/>
            <p:cNvSpPr/>
            <p:nvPr/>
          </p:nvSpPr>
          <p:spPr>
            <a:xfrm>
              <a:off x="2048760" y="4728600"/>
              <a:ext cx="96192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4"/>
            <p:cNvSpPr/>
            <p:nvPr/>
          </p:nvSpPr>
          <p:spPr>
            <a:xfrm>
              <a:off x="1733040" y="44370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H="1">
              <a:off x="1086840" y="4728600"/>
              <a:ext cx="67320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6"/>
            <p:cNvSpPr/>
            <p:nvPr/>
          </p:nvSpPr>
          <p:spPr>
            <a:xfrm>
              <a:off x="3107160" y="44370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7"/>
            <p:cNvSpPr/>
            <p:nvPr/>
          </p:nvSpPr>
          <p:spPr>
            <a:xfrm>
              <a:off x="2979000" y="5214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val 8"/>
            <p:cNvSpPr/>
            <p:nvPr/>
          </p:nvSpPr>
          <p:spPr>
            <a:xfrm>
              <a:off x="755640" y="5160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9"/>
            <p:cNvSpPr/>
            <p:nvPr/>
          </p:nvSpPr>
          <p:spPr>
            <a:xfrm>
              <a:off x="1664280" y="5214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1728360" y="59922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>
              <a:off x="1086840" y="5506200"/>
              <a:ext cx="67320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V="1">
              <a:off x="1856520" y="4825800"/>
              <a:ext cx="9612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 flipH="1">
              <a:off x="3203280" y="4825800"/>
              <a:ext cx="9576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втопоезд длиной 20 м проезжает мост длиной 20 м за 10 секунд. Сколько времени ему понадобится, чтобы проехать мост длиной 40 м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дав продавцу 100 рублей, покупатель получил столько рублей сдачи, сколько он купил литров молока. Найти стоимость литра молока, если известно, что она выражается четным количеством руб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3280" y="1600200"/>
            <a:ext cx="590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ность городо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угле составляет 4, 8 и 5 тысяч тонн, соответственно. Стоимость перевозки тонны угля (в тысячах рублей) на каждом участке дороги указана на рисунке. Как перевезти уголь из шах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, 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ода, чтобы об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оимость перевозок была наименьшей? Запиши ре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4%20класс%201"/>
          <p:cNvPicPr/>
          <p:nvPr/>
        </p:nvPicPr>
        <p:blipFill>
          <a:blip r:embed="rId2"/>
          <a:stretch/>
        </p:blipFill>
        <p:spPr>
          <a:xfrm>
            <a:off x="179280" y="2852640"/>
            <a:ext cx="2927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4:35:36Z</dcterms:created>
  <dc:creator>Михайлова</dc:creator>
  <dc:description/>
  <dc:language>en-US</dc:language>
  <cp:lastModifiedBy>Mamy</cp:lastModifiedBy>
  <dcterms:modified xsi:type="dcterms:W3CDTF">2011-12-03T16:47:48Z</dcterms:modified>
  <cp:revision>7</cp:revision>
  <dc:subject/>
  <dc:title>Слайд 1</dc:title>
</cp:coreProperties>
</file>