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62AF-6C3C-4D37-B77A-67421D959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B7B1-93B0-4143-976C-64F757E0D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A73C-55BD-4D82-8F83-15830581B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F224-0CF5-4E27-BA31-EFF4473C3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7BA3-AC2A-4AF3-B85D-01E0B39D6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9AC9-5E9A-4D72-AB10-44FC9FB6A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B7AC-F9AE-40AF-AD5B-6FE8EB3AD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63AD-2BBA-4B42-9485-2C840235E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B1D4-D1F2-4D8C-822D-B781CCACF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66C4-D696-45F3-A921-BAFAC5D65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524F-C33B-4413-9C18-A416FA06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C64F-7B8B-47E7-B99F-D921EB51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B1216-7736-47E6-921D-E0B965942E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269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3300"/>
                </a:solidFill>
                <a:latin typeface="Times New Roman"/>
              </a:rPr>
              <a:t>Логическая математика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427640" y="4149360"/>
            <a:ext cx="417672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00"/>
                </a:solidFill>
                <a:latin typeface="Times New Roman"/>
              </a:rPr>
              <a:t>Занятие математического кружка в 4 класс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00"/>
                </a:solidFill>
                <a:latin typeface="Times New Roman"/>
              </a:rPr>
              <a:t>МОУ лицей № 14 г.о. Жуковск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00"/>
                </a:solidFill>
                <a:latin typeface="Times New Roman"/>
              </a:rPr>
              <a:t>учитель Михайлова Е.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Users\Катерина\Desktop\Рисунки\Картинки\0109-300x270.png"/>
          <p:cNvPicPr/>
          <p:nvPr/>
        </p:nvPicPr>
        <p:blipFill>
          <a:blip r:embed="rId2"/>
          <a:stretch/>
        </p:blipFill>
        <p:spPr>
          <a:xfrm>
            <a:off x="684360" y="3789360"/>
            <a:ext cx="28573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00"/>
                </a:solidFill>
                <a:latin typeface="Monotype Corsiva"/>
              </a:rPr>
              <a:t>Задача № 9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риведены три рисунка: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На одном из них стрелка от человечка к человечку идет в случае, когда первый является дедом второго, на другом – когда первый является отцом второго, а на третьем – когда первый является братом второго. На каком именно рисунке стрелки идут от деда к внуку, а на каком от отца к сыну? На оставшемся рисунке найдите Катю и обведите е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00"/>
                </a:solidFill>
                <a:latin typeface="Monotype Corsiva"/>
              </a:rPr>
              <a:t>Задача № 9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4 класс 2f"/>
          <p:cNvPicPr/>
          <p:nvPr/>
        </p:nvPicPr>
        <p:blipFill>
          <a:blip r:embed="rId2"/>
          <a:stretch/>
        </p:blipFill>
        <p:spPr>
          <a:xfrm>
            <a:off x="468360" y="2133720"/>
            <a:ext cx="825804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00"/>
                </a:solidFill>
                <a:latin typeface="Monotype Corsiva"/>
              </a:rPr>
              <a:t>Задача № 10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Школьный огород имеет форму прямоугольника длиной в 60 метров и шириной в 40 метров. Вычисли, сколько вёдер дождя выпало на этот огород, если на каждые 100 квадратных метров выпало 96 литров дождя, и в ведре помещается 12 литров воды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00"/>
                </a:solidFill>
                <a:latin typeface="Monotype Corsiva"/>
              </a:rPr>
              <a:t>Задача № 11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Из четырех проволочек разного цвета длиной по 9 см составь прямоугольный параллелепипед с длинами ребер 2, 3 и 4 см. Проволочки разрезать нельзя. Решение нарисуй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00"/>
                </a:solidFill>
                <a:latin typeface="Monotype Corsiva"/>
              </a:rPr>
              <a:t>Задача № 12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50560" y="160020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В саду росли яблони и вишни. Если взять половину всех вишен и четверть всех яблонь, то тех и других деревьев будет поровну. А всего деревьев в саду 360. Сколько яблонь и  сколько вишен было в саду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00"/>
                </a:solidFill>
                <a:latin typeface="Monotype Corsiva"/>
              </a:rPr>
              <a:t>Задача № 13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 Вовы больше тысячи книг, – сказал Ван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Нет,  книг у него меньше тысячи,  – возразила Ан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дна-то книга у него наверняка есть, – сказала Ман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колько книг у Вовы, если истинно только одно из этих утверждений? Ответ объясн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00"/>
                </a:solidFill>
                <a:latin typeface="Monotype Corsiva"/>
              </a:rPr>
              <a:t>Задача № 14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В городе разбили квадратный сквер и обнесли его со всех сторон забором. Какая площадь сквера, если известно, что плотникам заплатили за забор 16000 рублей, причем за погонный метр его платили по 20 рублей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00"/>
                </a:solidFill>
                <a:latin typeface="Monotype Corsiva"/>
              </a:rPr>
              <a:t>Задача № 15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50920" y="1599840"/>
            <a:ext cx="66247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Машина выезжает из А в В и, доехав до В, тут же возвращается обратно. Через 1 час машина была на расстоянии 80 км от В, а еще через 3 часа – в 80 км от А. Известно, что на весь путь туда и обратно машина затратила менее 9 часов. Определи расстояние от А до В.</a:t>
            </a: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AUTO_02"/>
          <p:cNvPicPr/>
          <p:nvPr/>
        </p:nvPicPr>
        <p:blipFill>
          <a:blip r:embed="rId2"/>
          <a:stretch/>
        </p:blipFill>
        <p:spPr>
          <a:xfrm>
            <a:off x="6516720" y="5373720"/>
            <a:ext cx="226044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00"/>
                </a:solidFill>
                <a:latin typeface="Monotype Corsiva"/>
              </a:rPr>
              <a:t>Задача № 16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Имеется 5 ящиков. В некоторых из них лежат 5 ящиков меньшего размера, а в некоторых из меньших ящиков лежат еще по 5 ящиков. Сколько всего ящиков, если заполнено всего 13 ящиков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00"/>
                </a:solidFill>
                <a:latin typeface="Monotype Corsiva"/>
              </a:rPr>
              <a:t>Задача № 17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131640" y="1599840"/>
            <a:ext cx="547236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двух хозяек было 70 птиц, причем 5/9 птиц первой составляли курицы, а 7/17 птиц второй – гуси. Сколько птиц было у каждой хозяйк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Классная Кура"/>
          <p:cNvPicPr/>
          <p:nvPr/>
        </p:nvPicPr>
        <p:blipFill>
          <a:blip r:embed="rId2"/>
          <a:stretch/>
        </p:blipFill>
        <p:spPr>
          <a:xfrm>
            <a:off x="250920" y="2781360"/>
            <a:ext cx="3241440" cy="37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3300"/>
                </a:solidFill>
                <a:latin typeface="Monotype Corsiva"/>
              </a:rPr>
              <a:t>Задача № 1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6840" y="1600200"/>
            <a:ext cx="548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 рисунке изображена схема дорог в селении Плания. Нужно кратчайшим путем попасть от перекрестка А до перекрестка В. Сколькими способами это можно сделать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3 класс 4"/>
          <p:cNvPicPr/>
          <p:nvPr/>
        </p:nvPicPr>
        <p:blipFill>
          <a:blip r:embed="rId2"/>
          <a:stretch/>
        </p:blipFill>
        <p:spPr>
          <a:xfrm>
            <a:off x="6084720" y="2349360"/>
            <a:ext cx="2725920" cy="2951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Кролик"/>
          <p:cNvPicPr/>
          <p:nvPr/>
        </p:nvPicPr>
        <p:blipFill>
          <a:blip r:embed="rId3"/>
          <a:stretch/>
        </p:blipFill>
        <p:spPr>
          <a:xfrm>
            <a:off x="8055000" y="0"/>
            <a:ext cx="108900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00"/>
                </a:solidFill>
                <a:latin typeface="Monotype Corsiva"/>
              </a:rPr>
              <a:t>Задача № 2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71640" y="1599840"/>
            <a:ext cx="77040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ля приготовления сметанного соуса берут 100 г сметаны, 5 г масла и 3 г муки. Мама смешала 100 г сметаны и 3 г муки и попросила дочь добавить необходимое по рецепту количество масла. Дочь ошиблась и положила 15 г масла. Сколько надо добавить сметаны и муки, чтобы приготовить соус  строго по рецепту? Сколько граммов соуса получитс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девочка2"/>
          <p:cNvPicPr/>
          <p:nvPr/>
        </p:nvPicPr>
        <p:blipFill>
          <a:blip r:embed="rId2"/>
          <a:stretch/>
        </p:blipFill>
        <p:spPr>
          <a:xfrm>
            <a:off x="0" y="4869000"/>
            <a:ext cx="141588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00"/>
                </a:solidFill>
                <a:latin typeface="Monotype Corsiva"/>
              </a:rPr>
              <a:t>Задача № 3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Под клубнику решили выделить участок земли площадью 144 кв. м. Одни предлагали выделить для этого участок прямоугольной формы, а другие – квадратной. При какой форме длина забора вокруг участка будет самой короткой? Напиши решени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00"/>
                </a:solidFill>
                <a:latin typeface="Monotype Corsiva"/>
              </a:rPr>
              <a:t>Задача № 4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6840" y="1600200"/>
            <a:ext cx="641844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ждый из четырех гномов – Беня, Веня, Женя и Сеня либо всегда говорит правду, либо всегда врет. Мы услышали разговор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Беня –  Вене: «Ты врун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Женя – Бене: «Сам ты врун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еня – Жене: «Оба они вруны, да и ты тоже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то из них говорит правду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гном"/>
          <p:cNvPicPr/>
          <p:nvPr/>
        </p:nvPicPr>
        <p:blipFill>
          <a:blip r:embed="rId2"/>
          <a:stretch/>
        </p:blipFill>
        <p:spPr>
          <a:xfrm>
            <a:off x="6516720" y="2852640"/>
            <a:ext cx="227952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00"/>
                </a:solidFill>
                <a:latin typeface="Monotype Corsiva"/>
              </a:rPr>
              <a:t>Задача № 5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1599840"/>
            <a:ext cx="8147160" cy="29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 кружочках написали числа 1, 2, 3, 4, 6, 12 и от каждого числа направили стрелку к его делителю. Затем числа и некоторые стрелки стерли. Запиши числа в их кружочки и восстанови стертые стрел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" name="Group 2"/>
          <p:cNvGrpSpPr/>
          <p:nvPr/>
        </p:nvGrpSpPr>
        <p:grpSpPr>
          <a:xfrm>
            <a:off x="755640" y="4437000"/>
            <a:ext cx="2736720" cy="1944360"/>
            <a:chOff x="755640" y="4437000"/>
            <a:chExt cx="2736720" cy="1944360"/>
          </a:xfrm>
        </p:grpSpPr>
        <p:sp>
          <p:nvSpPr>
            <p:cNvPr id="59" name="Line 3"/>
            <p:cNvSpPr/>
            <p:nvPr/>
          </p:nvSpPr>
          <p:spPr>
            <a:xfrm>
              <a:off x="2048760" y="4728600"/>
              <a:ext cx="961920" cy="58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Oval 4"/>
            <p:cNvSpPr/>
            <p:nvPr/>
          </p:nvSpPr>
          <p:spPr>
            <a:xfrm>
              <a:off x="1733040" y="4437000"/>
              <a:ext cx="385200" cy="389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Line 5"/>
            <p:cNvSpPr/>
            <p:nvPr/>
          </p:nvSpPr>
          <p:spPr>
            <a:xfrm flipH="1">
              <a:off x="1086840" y="4728600"/>
              <a:ext cx="673200" cy="4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Oval 6"/>
            <p:cNvSpPr/>
            <p:nvPr/>
          </p:nvSpPr>
          <p:spPr>
            <a:xfrm>
              <a:off x="3107160" y="4437000"/>
              <a:ext cx="385200" cy="389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Oval 7"/>
            <p:cNvSpPr/>
            <p:nvPr/>
          </p:nvSpPr>
          <p:spPr>
            <a:xfrm>
              <a:off x="2979000" y="5214600"/>
              <a:ext cx="385200" cy="389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Oval 8"/>
            <p:cNvSpPr/>
            <p:nvPr/>
          </p:nvSpPr>
          <p:spPr>
            <a:xfrm>
              <a:off x="755640" y="5160600"/>
              <a:ext cx="385200" cy="389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Oval 9"/>
            <p:cNvSpPr/>
            <p:nvPr/>
          </p:nvSpPr>
          <p:spPr>
            <a:xfrm>
              <a:off x="1664280" y="5214600"/>
              <a:ext cx="385200" cy="389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Oval 10"/>
            <p:cNvSpPr/>
            <p:nvPr/>
          </p:nvSpPr>
          <p:spPr>
            <a:xfrm>
              <a:off x="1728360" y="5992200"/>
              <a:ext cx="385200" cy="389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Line 11"/>
            <p:cNvSpPr/>
            <p:nvPr/>
          </p:nvSpPr>
          <p:spPr>
            <a:xfrm>
              <a:off x="1086840" y="5506200"/>
              <a:ext cx="673200" cy="58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Line 12"/>
            <p:cNvSpPr/>
            <p:nvPr/>
          </p:nvSpPr>
          <p:spPr>
            <a:xfrm flipV="1">
              <a:off x="1856520" y="4825800"/>
              <a:ext cx="96120" cy="38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Line 13"/>
            <p:cNvSpPr/>
            <p:nvPr/>
          </p:nvSpPr>
          <p:spPr>
            <a:xfrm flipH="1">
              <a:off x="3203280" y="4825800"/>
              <a:ext cx="95760" cy="38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00"/>
                </a:solidFill>
                <a:latin typeface="Monotype Corsiva"/>
              </a:rPr>
              <a:t>Задача № 6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Автопоезд длиной 20 м проезжает мост длиной 20 м за 10 секунд. Сколько времени ему понадобится, чтобы проехать мост длиной 40 м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00"/>
                </a:solidFill>
                <a:latin typeface="Monotype Corsiva"/>
              </a:rPr>
              <a:t>Задача № 7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Отдав продавцу 100 рублей, покупатель получил столько рублей сдачи, сколько он купил литров молока. Найти стоимость литра молока, если известно, что она выражается четным количеством рублей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00"/>
                </a:solidFill>
                <a:latin typeface="Monotype Corsiva"/>
              </a:rPr>
              <a:t>Задача № 8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843280" y="1600200"/>
            <a:ext cx="59054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требность городов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Q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угле составляет 4, 8 и 5 тысяч тонн, соответственно. Стоимость перевозки тонны угля (в тысячах рублей) на каждом участке дороги указана на рисунке. Как перевезти уголь из шахт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, В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С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города, чтобы общ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стоимость перевозок была наименьшей? Запиши реше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4%20класс%201"/>
          <p:cNvPicPr/>
          <p:nvPr/>
        </p:nvPicPr>
        <p:blipFill>
          <a:blip r:embed="rId2"/>
          <a:stretch/>
        </p:blipFill>
        <p:spPr>
          <a:xfrm>
            <a:off x="179280" y="2852640"/>
            <a:ext cx="29275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8T14:35:36Z</dcterms:created>
  <dc:creator>Михайлова</dc:creator>
  <dc:description/>
  <dc:language>en-US</dc:language>
  <cp:lastModifiedBy>Mamy</cp:lastModifiedBy>
  <dcterms:modified xsi:type="dcterms:W3CDTF">2011-12-03T16:47:48Z</dcterms:modified>
  <cp:revision>7</cp:revision>
  <dc:subject/>
  <dc:title>Слайд 1</dc:title>
</cp:coreProperties>
</file>