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AB9-B231-4F1D-8DCD-EA3983C5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F73-6C32-4F7C-9FF6-82DD1A57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9E1-5776-41ED-9211-47F8703F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C27-61D5-42CD-8D20-62837075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D81E-4A87-4A2C-A790-91A8B40A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E119-1920-4582-8300-D0D8CF4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2F75-E686-4230-8E0F-CA14C982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B06D-153C-4DDD-A445-B1F0CDDA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B82B-26D0-40D0-9538-7B9CF13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6390-215A-41BD-BD51-4983AF00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DA89-0DAF-420E-8484-F38B548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C1E-42D8-4BDB-AEAD-0E98929D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824F-5829-4575-BCF7-228C7CD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6DD7-A3CE-40D5-8B7D-BD74164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E3B8-469A-4163-AEFC-0BA7545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641F-54F6-420B-89D0-5EF65B6F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B17B-7958-41AC-BCD2-F5BB8963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EF7-E4A9-419A-9B72-57B57FE0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B32-563B-4763-B1BC-A63A8B41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554-38DA-4C62-A3CB-4E9A3EA3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CF3-97F6-40B3-B4FB-EA72B54A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2A1-7E41-49E6-BC9D-8B9E3AED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EA8-275F-4289-B250-415DBBA4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CD6-C297-4CB2-B090-FA9450E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4A01-E985-44ED-906F-309295E1AA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A27-0048-402B-BF6B-275C34C056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1636560"/>
            <a:ext cx="6400800" cy="1611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Местоим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1871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мостоятельная часть речи, которая указывает на предметы, признаки, количество, но не называет 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Местоимения делятся на 4 групп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69608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существительны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кто, ничего, вы, что-либо, себя, она, нечт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прилагательны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ваш, какой, ничей, каждый, тот, свой, весь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числительны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сколько, некоторый, нисколько, стольк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естоимения-наречия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негде, всюду, куда-нибудь, так, никогда, почем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5445000"/>
            <a:ext cx="3382920" cy="1224000"/>
          </a:xfrm>
          <a:prstGeom prst="wedgeEllipseCallout">
            <a:avLst>
              <a:gd name="adj1" fmla="val -155444"/>
              <a:gd name="adj2" fmla="val 585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53480" y="56865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то по соотно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другими частям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зряды местоимений по значени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Лич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я, ты, он, мы, вы, он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Возвратно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себ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Притяжа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мой, твой, ваш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Вопроси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то? чей? куда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Относи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то, как, который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6.  Неопределён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екто, что-то, где-либо, кто-нибудь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Отрица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ичто, нискольк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Определительны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весь, сам, каждый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Указательны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этот, тот, такой, столько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5373720"/>
            <a:ext cx="3024000" cy="934920"/>
          </a:xfrm>
          <a:prstGeom prst="wedgeEllipseCallout">
            <a:avLst>
              <a:gd name="adj1" fmla="val -140972"/>
              <a:gd name="adj2" fmla="val 7597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77200" y="554184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орию вспомнили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правил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рфограммы местоим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Кое-, -то, -либо, -нибудь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рез дефис написать не забудь!                               (в неопределённых местоимениях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При отрицани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не забывай – в местоимени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бирай!     (н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леднее правило просто предельно: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предлог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НЕ, 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КО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иши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аздельно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(н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чем, ни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кем, ко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ё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643280" y="5445000"/>
            <a:ext cx="3240360" cy="1008360"/>
          </a:xfrm>
          <a:prstGeom prst="wedgeEllipseCallout">
            <a:avLst>
              <a:gd name="adj1" fmla="val -152106"/>
              <a:gd name="adj2" fmla="val 4070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49640" y="5541840"/>
            <a:ext cx="29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его три прави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еперь потренируйте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ис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5634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литно, раздельно или через дефис?</a:t>
            </a:r>
            <a:br>
              <a:rPr sz="28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пишите, раскрывая скоб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…ректор поинт…ресовался, нет (ли)(у) меня (к) нему какой (нибудь) прос…б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…(о) чём, совершенно н…(о) чём (не) надо было думать, кроме как о ра…казе, который я пис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вою долю художника н…(на) что (не) променя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тали какие (то) чайки, (о) чём (то) кр…чали е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5300640"/>
            <a:ext cx="3794040" cy="1224000"/>
          </a:xfrm>
          <a:prstGeom prst="wedgeEllipseCallout">
            <a:avLst>
              <a:gd name="adj1" fmla="val -137282"/>
              <a:gd name="adj2" fmla="val 5791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554184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черкните местои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к члены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97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У подчёркнутых вами местоимений определите  морфологические  признаки (группу, разряд, падеж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37720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ме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нем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-нибуд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 о чё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тор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9800" y="2349360"/>
            <a:ext cx="37717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во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 на ч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ую-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 чём-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4724280"/>
            <a:ext cx="2953080" cy="1773360"/>
          </a:xfrm>
          <a:prstGeom prst="wedgeEllipseCallout">
            <a:avLst>
              <a:gd name="adj1" fmla="val -173120"/>
              <a:gd name="adj2" fmla="val 5349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482112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дею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е справи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стоимения каких разрядов вам не встрети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6:01:05Z</dcterms:created>
  <dc:creator>Елена</dc:creator>
  <dc:description/>
  <dc:language>en-US</dc:language>
  <cp:lastModifiedBy>Елена</cp:lastModifiedBy>
  <dcterms:modified xsi:type="dcterms:W3CDTF">2008-05-12T15:17:31Z</dcterms:modified>
  <cp:revision>4</cp:revision>
  <dc:subject/>
  <dc:title>Местоимение</dc:title>
</cp:coreProperties>
</file>