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D0D-D9A5-4D15-A05D-769D9041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2AEF-82FA-4525-AE43-6301F211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086-7D69-4EF1-B0F7-889FF843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493-29EA-49D8-AC7F-561182E3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D7DE-1B29-434D-BA71-FFF3D08C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6E27-052F-4715-8A03-579C6A9F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9C12-D2AA-4447-842C-46B56B38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549E-C54B-4E85-B1B1-E78465FA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AB80-58B0-4244-833F-FE709A4E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5D78-CDEA-4914-9528-86AC85CC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F4D6-2534-46EA-AD7C-AE99DDDA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D75-99E9-48FF-A291-6383567C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2A84-9C84-42F4-9C96-225A63CD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60E4-B09C-455C-9CC4-AB7B2955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99C0-086E-4C8F-A914-175E5C3B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603B-7C96-4898-BA8D-BCFFC6DB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40E9-EA1B-4826-BFC3-995245AF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CE4-E018-484E-AEAD-1EA96058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958-761B-4FD7-8E7C-802EECFF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92B-0CCD-4FC8-B620-3EAB7BAE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434-C28B-4558-A7B3-386F8A7A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F9E-BC90-432F-8703-4C5C1665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293-0B57-4B2F-A581-E62A206C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B16-F557-448B-AE33-79E1E31F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66F4-FE1A-4913-9BE8-A90ADBD6607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87A3-61FB-485C-86B8-08675EEB192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1636560"/>
            <a:ext cx="6400800" cy="1611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Местоиме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18716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амостоятельная часть речи, которая указывает на предметы, признаки, количество, но не называет 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Местоимения делятся на 4 групп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69608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Местоимения-существительны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кто, ничего, вы, что-либо, себя, она, нечт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Местоимения-прилагательны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ваш, какой, ничей, каждый, тот, свой, весь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Местоимения-числительны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сколько, некоторый, нисколько, стольк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Местоимения-наречия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негде, всюду, куда-нибудь, так, никогда, почему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5445000"/>
            <a:ext cx="3382920" cy="1224000"/>
          </a:xfrm>
          <a:prstGeom prst="wedgeEllipseCallout">
            <a:avLst>
              <a:gd name="adj1" fmla="val -155444"/>
              <a:gd name="adj2" fmla="val 585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53480" y="5686560"/>
            <a:ext cx="29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Это по соотнош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 другими частями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азряды местоимений по значени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Личны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я, ты, он, мы, вы, они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Возвратно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себя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Притяжательны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мой, твой, ваш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Вопросительны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кто? чей? куда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Относительны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кто, как, который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6.  Неопределённы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некто, что-то, где-либо, кто-нибудь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Отрицательны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ничто, нисколько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Определительны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весь, сам, каждый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Указательны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этот, тот, такой, столько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427640" y="5373720"/>
            <a:ext cx="3024000" cy="934920"/>
          </a:xfrm>
          <a:prstGeom prst="wedgeEllipseCallout">
            <a:avLst>
              <a:gd name="adj1" fmla="val -140972"/>
              <a:gd name="adj2" fmla="val 7597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77200" y="5541840"/>
            <a:ext cx="24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еорию вспомнили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 правил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Орфограммы местоим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Кое-, -то, -либо, -нибудь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ерез дефис написать не забудь!                               (в неопределённых местоимениях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При отрицани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не забывай – в местоимении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Н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ыбирай!     (н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т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леднее правило просто предельно: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предлог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ле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НЕ, Н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КО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иши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раздельно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(не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чем, ни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кем, кое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ём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4643280" y="5445000"/>
            <a:ext cx="3240360" cy="1008360"/>
          </a:xfrm>
          <a:prstGeom prst="wedgeEllipseCallout">
            <a:avLst>
              <a:gd name="adj1" fmla="val -152106"/>
              <a:gd name="adj2" fmla="val 4070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49640" y="5541840"/>
            <a:ext cx="29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сего три правил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еперь потренируйте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ис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6870600" cy="15634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Слитно, раздельно или через дефис?</a:t>
            </a: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Спишите, раскрывая скобк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…ректор поинт…ресовался, нет (ли)(у) меня (к) нему какой (нибудь) прос…б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…(о) чём, совершенно н…(о) чём (не) надо было думать, кроме как о ра…казе, который я писа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 свою долю художника н…(на) что (не) променя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етали какие (то) чайки, (о) чём (то) кр…чали ем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5300640"/>
            <a:ext cx="3794040" cy="1224000"/>
          </a:xfrm>
          <a:prstGeom prst="wedgeEllipseCallout">
            <a:avLst>
              <a:gd name="adj1" fmla="val -137282"/>
              <a:gd name="adj2" fmla="val 5791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554184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дчеркните местои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ак члены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97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У подчёркнутых вами местоимений определите  морфологические  признаки (группу, разряд, падеж и т.д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377208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 ме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 нем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-нибуд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 о чё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тор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09800" y="2349360"/>
            <a:ext cx="37717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во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 на чт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ую-т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 чём-т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4724280"/>
            <a:ext cx="2953080" cy="1773360"/>
          </a:xfrm>
          <a:prstGeom prst="wedgeEllipseCallout">
            <a:avLst>
              <a:gd name="adj1" fmla="val -173120"/>
              <a:gd name="adj2" fmla="val 5349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482112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дею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се справил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естоимения каких разрядов вам не встретил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6:01:05Z</dcterms:created>
  <dc:creator>Елена</dc:creator>
  <dc:description/>
  <dc:language>en-US</dc:language>
  <cp:lastModifiedBy>Елена</cp:lastModifiedBy>
  <dcterms:modified xsi:type="dcterms:W3CDTF">2008-05-12T15:17:31Z</dcterms:modified>
  <cp:revision>4</cp:revision>
  <dc:subject/>
  <dc:title>Местоимение</dc:title>
</cp:coreProperties>
</file>