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856-3066-4859-81F2-CCEA4B9F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5CD-BB63-4F74-BA3A-B52F8A57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646-528F-40E6-9614-FE012465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9DD-0341-4401-8D04-E86199EC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13F-233D-4F76-A89C-0F7B1B80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FF5-31EC-43CA-872B-28CCAF81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340-BDD5-4600-A791-037C782E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8EA-8F4D-495F-8E2D-47EFB86A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73A3-873A-4770-8274-E3DDC953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78F4-CDDF-4671-A844-1D7C7855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43F-AF49-4F96-A15E-7060337A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98D-4B37-44DD-A1CC-F5FFF921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BC22-3B6A-4C80-834E-09912F970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609480"/>
            <a:ext cx="72388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м отличается </a:t>
            </a:r>
            <a:endParaRPr b="1" lang="en-US" sz="1800" spc="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ький миндаль от сладкого?</a:t>
            </a:r>
            <a:endParaRPr b="1" lang="en-US" sz="1800" spc="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3138480"/>
            <a:ext cx="6782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71720" indent="-1971720"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ту выполнила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ЗВОВА Екатерин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ащаяся 8 класса Б  МСОШ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327560"/>
            <a:ext cx="57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ководитель ПУЗЫРЁВА М.Д.,                     учитель химии МСОШ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0199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гдагачи, 2008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38080" y="762120"/>
            <a:ext cx="769644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,</a:t>
            </a:r>
            <a:endParaRPr b="1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я старалась!</a:t>
            </a:r>
            <a:endParaRPr b="1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4874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Проблема данного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327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блема данного исследования заключается в определении различия между сладким и горьким минда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31543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Объект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88620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ом исследования являются  сладкий миндаль, горький миндаль, ядра абрикосовых косточек из сухофруктов и ядра абрикосовых косточек из стерилизованного консервированного комп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Цель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6094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ь разницу в  химическом составе горького и сладкого минд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6002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0574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сти эксперимент по определению амигдалина в горьком миндале;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сти эксперимент по определению амигдалина в сладком миндале;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сти эксперимент по определению амигдалина в ядрах абрикосовых косточек из сухофру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сти эксперимент по определению амигдалина в ядрах абрикосовых косточек из консервированного комп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сти эксперимент по определению ферментов, разрушающих амигдалин, в ядрах абрикосовых косточек из консервированного комп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29200" y="3733920"/>
            <a:ext cx="3733920" cy="2803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4920" y="3276720"/>
            <a:ext cx="1619280" cy="3238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289440"/>
            <a:ext cx="853452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Гипотеза исследования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рький миндаль содержит вещество, которого     нет в сладком миндале; в ядрах косточек растений семейства розоцветных содержится такое же вещество, оно разрушается при термической обработке пл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Результаты исследования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533520"/>
            <a:ext cx="6629400" cy="62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орький миндаль дал  красивую цветную реакцию, выпал осадок синего цвета. Горький миндаль содержит сложное вещество, которое называется амигдалином. И в этом же миндале есть фермент гликозидаза, который способен разлагать амигдалин в присутствии воды на более простые вещества. После сложной цепочки превращений, которую мы проделали, образуется ферроцианид натрия N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[Fe(CN)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]. Именно он с последней каплей хлорида железа и дает такое яркое окрашивание - берлинскую лазурь KFe[Fe(CN)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   В результате  проведенных реакций со сладким миндалем  синий осадок не образовал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0" r="41554" b="0"/>
          <a:stretch/>
        </p:blipFill>
        <p:spPr>
          <a:xfrm>
            <a:off x="152280" y="914400"/>
            <a:ext cx="2438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60" y="75960"/>
            <a:ext cx="62485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рикосовые косточки из сухофруктов также образовали осадок красивого синего цвета  в результате проведенных реакций - берлинскую лазурь KFe[Fe(CN)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езультате  проведенных реакций с косточками из компота  синий осадок не образов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  При проведении опыта с косточками абрикоса из компота  в присутствии сладкого миндаля,  как только я  добавила  в конце последнюю каплю раствора хлорида железа, вновь образовался  синий осадок -  берлинская лазурь KFe[Fe(CN)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7409" t="0" r="25927" b="13583"/>
          <a:stretch/>
        </p:blipFill>
        <p:spPr>
          <a:xfrm>
            <a:off x="6553080" y="228600"/>
            <a:ext cx="2362320" cy="229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25493" t="26803" r="31792" b="-10446"/>
          <a:stretch/>
        </p:blipFill>
        <p:spPr>
          <a:xfrm>
            <a:off x="6248520" y="3657600"/>
            <a:ext cx="281916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238880" y="2286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ький миндаль содержит вещество амигдалин.     И в этом же миндале есть фермент гликозидаза, который способен разлагать амигдалин в присутствии воды на более просты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14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адкий миндаль не содержит вещества амигда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   Ядра косточек абрикоса из сухофруктов содержат вещество амигдалин и фермент гликозидазу,  которые придают абрикосовым косточкам сходство с горьким  миндал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11001" t="0" r="4835" b="13607"/>
          <a:stretch/>
        </p:blipFill>
        <p:spPr>
          <a:xfrm>
            <a:off x="6095880" y="4554360"/>
            <a:ext cx="2895840" cy="2227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447920" y="4724280"/>
            <a:ext cx="30477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  Ядра косточек абрикоса из консервиро- ванного компота не  дают характерную реакцию на амигдалин  и фермент гликозид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Ядра косточек абрикоса из консервированного компота содержат амигдалин, но в них отсутствует фермент гликозидаза, разрушающий амигдалин. Когда же абрикосовые косточки соединили со сладким миндалём, реакция получилась - синий осадок выпал!  Амигдалин в этом опыте - из косточек абрикоса, а разруша- ющий его фермент - из сладкого миндал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  Таким образом, мы доказали, что горький миндаль отличается от сладкого наличием в нём вещества амигдалина, способного разрушаться ферментом гликозидазой и проявлять при этом токсичные св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60948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04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советую  хранить слишком долго домашние заготовки из вишни,  сливы, персиков, абрикосов,  если они не были сварены. Вся опасность - в косточках. При превращениях амигдалина могут образоваться   вредные для здоровья вещества. Хотя это и хлопотно, лучше для спокойствия удалять из плодов кос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  Компоты и варенья вреда не принесут даже с косточками, потому что при нагревании разрушаются ферменты, которые разлагают амигдал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4-08T12:56:4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