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1ED-3EC9-4C75-903B-160F0C70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8F1-4C0E-4579-8113-4465ACA1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39A-33B4-4F77-841F-EDA1050E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07D-FFF0-4413-9216-AF7B22F5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F37-7D4C-415C-AB2A-39728B0D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47C-F2F6-428E-B520-E45AE35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C85-738C-41B0-9D7A-2FE03252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327-9B02-48E6-A38B-8A1B1962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63B-D3F8-4868-B1E3-8455DC2F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DCB-D199-4C94-82D7-B32B738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BFC-A2A8-468F-A0F6-3CBF53F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556-C0B6-46AD-A3EE-F757864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2F04-3779-4062-B097-84C78624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609480"/>
            <a:ext cx="7238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м отличается 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ький миндаль от сладкого?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138480"/>
            <a:ext cx="678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71720" indent="-1971720"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у выполнил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ВОВА Екатерин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аяся 8 класса Б  М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32756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итель ПУЗЫРЁВА М.Д.,                     учитель химии М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019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гдагачи, 200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762120"/>
            <a:ext cx="769644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,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 старалась!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487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Проблема данного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327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а данного исследования заключается в определении различия между сладким и горьким минда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154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бъект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ом исследования являются  сладкий миндаль, горький миндаль, ядра абрикосовых косточек из сухофруктов и ядра абрикосовых косточек из стерилизованного консервированного комп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Цель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609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ь разницу в  химическом составе горького и сладкого минд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600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горьком миндале;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сладком миндале;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ядрах абрикосовых косточек из сухофр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ядрах абрикосовых косточек из консервированного комп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ферментов, разрушающих амигдалин, в ядрах абрикосовых косточек из консервированного комп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733920" cy="2803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161928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289440"/>
            <a:ext cx="85345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Гипотеза исследован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ький миндаль содержит вещество, которого     нет в сладком миндале; в ядрах косточек растений семейства розоцветных содержится такое же вещество, оно разрушается при термической обработке пл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Результаты исследова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533520"/>
            <a:ext cx="6629400" cy="62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рький миндаль дал  красивую цветную реакцию, выпал осадок синего цвета. Горький миндаль содержит сложное вещество, которое называется амигдалином. И в этом же миндале есть фермент гликозидаза, который способен разлагать амигдалин в присутствии воды на более простые вещества. После сложной цепочки превращений, которую мы проделали, образуется ферроцианид натрия N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]. Именно он с последней каплей хлорида железа и дает такое яркое окрашивание - берлинскую лазурь KFe[Fe(CN)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  В результате  проведенных реакций со сладким миндалем  синий осадок не образов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41554" b="0"/>
          <a:stretch/>
        </p:blipFill>
        <p:spPr>
          <a:xfrm>
            <a:off x="152280" y="914400"/>
            <a:ext cx="2438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75960"/>
            <a:ext cx="6248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икосовые косточки из сухофруктов также образовали осадок красивого синего цвета  в результате проведенных реакций - берлинскую лазурь KFe[Fe(CN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зультате  проведенных реакций с косточками из компота  синий осадок не образов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 При проведении опыта с косточками абрикоса из компота  в присутствии сладкого миндаля,  как только я  добавила  в конце последнюю каплю раствора хлорида железа, вновь образовался  синий осадок -  берлинская лазурь KFe[Fe(CN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7409" t="0" r="25927" b="13583"/>
          <a:stretch/>
        </p:blipFill>
        <p:spPr>
          <a:xfrm>
            <a:off x="6553080" y="228600"/>
            <a:ext cx="2362320" cy="229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5493" t="26803" r="31792" b="-10446"/>
          <a:stretch/>
        </p:blipFill>
        <p:spPr>
          <a:xfrm>
            <a:off x="6248520" y="3657600"/>
            <a:ext cx="281916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238880" y="2286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ький миндаль содержит вещество амигдалин.     И в этом же миндале есть фермент гликозидаза, который способен разлагать амигдалин в присутствии воды на более прост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дкий миндаль не содержит вещества амигда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  Ядра косточек абрикоса из сухофруктов содержат вещество амигдалин и фермент гликозидазу,  которые придают абрикосовым косточкам сходство с горьким  минда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1001" t="0" r="4835" b="13607"/>
          <a:stretch/>
        </p:blipFill>
        <p:spPr>
          <a:xfrm>
            <a:off x="6095880" y="4554360"/>
            <a:ext cx="289584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30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 Ядра косточек абрикоса из консервиро- ванного компота не  дают характерную реакцию на амигдалин  и фермент гликозид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Ядра косточек абрикоса из консервированного компота содержат амигдалин, но в них отсутствует фермент гликозидаза, разрушающий амигдалин. Когда же абрикосовые косточки соединили со сладким миндалём, реакция получилась - синий осадок выпал!  Амигдалин в этом опыте - из косточек абрикоса, а разруша- ющий его фермент - из сладкого миндал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  Таким образом, мы доказали, что горький миндаль отличается от сладкого наличием в нём вещества амигдалина, способного разрушаться ферментом гликозидазой и проявлять при этом токсичные св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60948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0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оветую  хранить слишком долго домашние заготовки из вишни,  сливы, персиков, абрикосов,  если они не были сварены. Вся опасность - в косточках. При превращениях амигдалина могут образоваться   вредные для здоровья вещества. Хотя это и хлопотно, лучше для спокойствия удалять из плодов кос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  Компоты и варенья вреда не принесут даже с косточками, потому что при нагревании разрушаются ферменты, которые разлагают амигда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08T12:56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