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10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D50-B9CF-4DF9-8CE7-3C165CF1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043-B73B-4D50-90FB-68D225F7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559-372E-4AB5-9858-809C18F5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122-01B9-49DA-B00A-33B479A5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1B3-0372-494C-BC89-691F8BB3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256-CDE8-43EF-ABFF-5E9F17C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9B0-3ACE-47F5-963B-6DB0F3D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D5F-636C-465D-8CFB-50D5008C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CCC-CD35-43F6-97F3-158F150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D67-D218-40B3-850F-607603E3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8F0-3652-4D01-A031-C6F33D0E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B3A-F36F-4620-9EF5-66E30EFC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FBD0-15F7-43A8-ADEE-90229337F8CD}" type="datetime">
              <a:rPr b="0" lang="en-US" sz="1200" spc="-1" strike="noStrike">
                <a:solidFill>
                  <a:srgbClr val="ba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1A06-5025-4793-A7E2-3AB11F5D6F0E}" type="slidenum">
              <a:rPr b="0" lang="en-US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87280" y="1643040"/>
            <a:ext cx="504036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Моя семья – моя радость</a:t>
            </a:r>
            <a:endParaRPr b="0" lang="en-US" sz="48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Меня зовут Роганов Антон Алексеевич. Я родился 10 октября 1999 года. 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Я живу в селе Архангельское Городищенского района Пензенской области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135288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867280" y="3716280"/>
            <a:ext cx="2870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Моя семья состоит из 5 человек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Папа – Александр Иванович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Мама – Елена Юрьевна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Я - Антон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Сестра – Маша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Брат – Серёжа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Семья – это то, что мы делим на всех,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Всего понемножку: и слёзы и смех,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Взлёт и падение, радость, печаль,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Дружбу и ссоры, молчанья печать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00720" y="1628640"/>
            <a:ext cx="25066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Мой папа работает в нашей школе учителем физкультуры. Мама работает поваром. Она готовит обеды для школьников. Сестрёнка Маша учится в 1 классе, я – в 5 классе. А братик Серёжа ходит в детский сад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1320-AB41-46FA-89EB-4B047EC95B55}" type="datetime">
              <a:rPr b="0" lang="en-US" sz="1200" spc="-1" strike="noStrike">
                <a:solidFill>
                  <a:srgbClr val="ba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C396-ED1B-43DA-90F9-A17F032E4F5A}" type="slidenum">
              <a:rPr b="0" lang="en-US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365720"/>
            <a:ext cx="185256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1190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Наша дружная семья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Наша семья очень дружная. Мы вместе берёмся за любую работу. Папа сам строит новый дом, а я ему помогаю. А малыши помогают маме по дому. Нам любое дело по плечу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871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В нашем классе проводился конкурс «Папа, мама, я  - дружная семья». Наша семья стала победителем. А ещё наша семья принимала участие в районных соревнованиях «Папа, мама, я – спортивная семья!» Мы заняли 2 место. Нам вручили грамоту и подарки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3768480" cy="282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6957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Я очень люблю свою семью и горжусь ею! 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145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45ed"/>
                </a:solidFill>
                <a:latin typeface="Calibri"/>
              </a:rPr>
              <a:t>Мира и счастья вашей семье!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45ed"/>
                </a:solidFill>
                <a:latin typeface="Calibri"/>
              </a:rPr>
              <a:t>Работу выполнил ученик 5 класса Роганов Антон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79640" y="494172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635280" y="4941720"/>
            <a:ext cx="18576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92720" y="494172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948360" y="4941720"/>
            <a:ext cx="1857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5:34:12Z</dcterms:created>
  <dc:creator>User</dc:creator>
  <dc:description>http://aida.ucoz.ru</dc:description>
  <dc:language>en-US</dc:language>
  <cp:lastModifiedBy>User</cp:lastModifiedBy>
  <dcterms:modified xsi:type="dcterms:W3CDTF">2010-11-30T15:26:22Z</dcterms:modified>
  <cp:revision>4</cp:revision>
  <dc:subject/>
  <dc:title>Моя семья – моя радость</dc:title>
</cp:coreProperties>
</file>