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10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137-E494-467E-BC3E-8BA9E071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615-3405-463A-A1AD-2B795BFF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085-6971-4D4C-B41D-CF25F7F3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3D6-4478-4C5F-B8AD-8A49C91A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257-4DC6-4732-869F-A127C6F0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02E-AF66-42AF-BCFC-AAE75C1C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CD6-7113-4C93-9F75-C472170A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0EC-5823-4E43-91F8-F7608A0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798-829B-4889-B726-AE6EC0A3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427-5E87-45D0-9A65-A2FE1544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5FE-6D8A-4DF4-AAE1-0F60BEBB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C09-1AE2-4B0A-A654-5D3282B4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90D2-AC71-4607-A072-FFD4688CB70B}" type="datetime">
              <a:rPr b="0" lang="en-US" sz="1200" spc="-1" strike="noStrike">
                <a:solidFill>
                  <a:srgbClr val="ba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CB97-2E9F-47D7-84C5-F9C8901B2A6C}" type="slidenum">
              <a:rPr b="0" lang="en-US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215120" y="428616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87280" y="1643040"/>
            <a:ext cx="504036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Моя семья – моя радость</a:t>
            </a:r>
            <a:endParaRPr b="0" lang="en-US" sz="48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Меня зовут Роганов Антон Алексеевич. Я родился 10 октября 1999 года. 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Я живу в селе Архангельское Городищенского района Пензенской области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135288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867280" y="3716280"/>
            <a:ext cx="28702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Моя семья состоит из 5 человек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Папа – Александр Иванович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Мама – Елена Юрьевна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Я - Антон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Сестра – Маша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Брат – Серёжа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Семья – это то, что мы делим на всех,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Всего понемножку: и слёзы и смех,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Взлёт и падение, радость, печаль,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Дружбу и ссоры, молчанья печать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00720" y="1628640"/>
            <a:ext cx="25066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Мой папа работает в нашей школе учителем физкультуры. Мама работает поваром. Она готовит обеды для школьников. Сестрёнка Маша учится в 1 классе, я – в 5 классе. А братик Серёжа ходит в детский сад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3369-ABCB-4946-968F-7EE8CBBDCBBF}" type="datetime">
              <a:rPr b="0" lang="en-US" sz="1200" spc="-1" strike="noStrike">
                <a:solidFill>
                  <a:srgbClr val="ba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17F7-90CA-4FA2-874D-A1A58C8A2FA1}" type="slidenum">
              <a:rPr b="0" lang="en-US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365720"/>
            <a:ext cx="185256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8360" y="4869000"/>
            <a:ext cx="1190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Наша дружная семья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Наша семья очень дружная. Мы вместе берёмся за любую работу. Папа сам строит новый дом, а я ему помогаю. А малыши помогают маме по дому. Нам любое дело по плечу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871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В нашем классе проводился конкурс «Папа, мама, я  - дружная семья». Наша семья стала победителем. А ещё наша семья принимала участие в районных соревнованиях «Папа, мама, я – спортивная семья!» Мы заняли 2 место. Нам вручили грамоту и подарки.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3768480" cy="282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36957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Я очень люблю свою семью и горжусь ею! 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145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45ed"/>
                </a:solidFill>
                <a:latin typeface="Calibri"/>
              </a:rPr>
              <a:t>Мира и счастья вашей семье!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45ed"/>
                </a:solidFill>
                <a:latin typeface="Calibri"/>
              </a:rPr>
              <a:t>Работу выполнил ученик 5 класса Роганов Антон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494172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79640" y="494172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635280" y="4941720"/>
            <a:ext cx="18576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292720" y="4941720"/>
            <a:ext cx="185724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948360" y="4941720"/>
            <a:ext cx="1857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5:34:12Z</dcterms:created>
  <dc:creator>User</dc:creator>
  <dc:description>http://aida.ucoz.ru</dc:description>
  <dc:language>en-US</dc:language>
  <cp:lastModifiedBy>User</cp:lastModifiedBy>
  <dcterms:modified xsi:type="dcterms:W3CDTF">2010-11-30T15:26:22Z</dcterms:modified>
  <cp:revision>4</cp:revision>
  <dc:subject/>
  <dc:title>Моя семья – моя радость</dc:title>
</cp:coreProperties>
</file>