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08E7-68BF-40B9-86DE-C654C156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C28C-41E0-4DAC-AC1F-0693982F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6DCA-EE79-43FD-AE06-492F2224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E165-9239-4FE1-9A52-5DE7E7D9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8BEC-2C34-42AC-A443-AD7E5E86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F195-668B-4215-9B9C-605E3846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E698-FD25-4EF5-A4B7-C26EE12C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9418-8974-41C0-973E-345A1EB3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6495-8D55-42E0-B85B-85943C75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986F-ECB4-4FBA-975C-78653101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2AD3-2636-46B1-9C3F-AD73DF76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9E7E-BA73-4657-8F1A-75D42465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0D0F-CD2F-467D-8BF4-30AFF328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95E7-50ED-4E27-A2F3-ED0EE093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FEC3-8BC9-4B07-B9EC-D0B73726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3622-A1B0-424F-9602-068A336A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2FA7-BBBD-4E6B-A3D6-2159F4E7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F77D-918C-40EB-B9E4-EB810C97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9A80-ECAE-4550-B8D0-A36D64F1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BDE8-1551-4D34-B0CF-65576555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A3B8-62B3-4E91-ADB6-3BFCEF99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250-94B0-42D8-A906-40B51989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DF70-99ED-4193-8F76-A60EB59B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63B7-B9FC-4FC2-B89F-4DA44F33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DE4F-AFD8-44A8-81EE-1019DBD991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EA50-C0EB-4D7F-B014-EBA210200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: Мамедов Ариф 9с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19280" y="1700280"/>
            <a:ext cx="6985080" cy="19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овруз байрам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148360" y="4797360"/>
            <a:ext cx="2879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ой из интересных народных традиций азербайджанцев является праздник Новруз (в переводе - «новый день») - праздник весны, радости, веселья, обновления приро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Рисунок 2" descr="http://www.baku.ru/pages/traditions/images/novruz3.jpg"/>
          <p:cNvPicPr/>
          <p:nvPr/>
        </p:nvPicPr>
        <p:blipFill>
          <a:blip r:embed="rId1"/>
          <a:stretch/>
        </p:blipFill>
        <p:spPr>
          <a:xfrm>
            <a:off x="5435640" y="3041640"/>
            <a:ext cx="2670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390560" y="549000"/>
            <a:ext cx="4753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зербайджанцы перед празднованием самого Нозруза, обычно отмечают ряд предыдущих дней, являющихся как бы подготовкой перед проведением больших торжеств по случаю окончания Старого и наступления Нового года. Одним из этапов в подготовке к празднику является день «ахыр чершенбе ахшамы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41964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последний вторник последней недели года. В этот вечер каждая семья должна на крыше своего дома зажечь столько факелов, сколько человек проживает в данной семье, разжигаются костры. Все, от мала до велика, должны перепрыгнуть через горящий костер, произнося при этом следующие слова: «Все мои невзгоды тебе, а твою радость мн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35280" y="3213000"/>
            <a:ext cx="445788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 внимания азербайджанцы уделяют и подготовке праздничного стола. Как правило, каждая семья, накрывая праздничный стол, помнит о том, что на столе должна стоять пища, состоящая из семи блюд, название которых начинается с буквы «с». На столе должны быть сумах, скэд — молоко, сирке — уксус, семени — специальная каша из пшеницы, сабзи —-зелень и т. д. Кроме перечисленных блюд на стол ставятся зеркало, свеча и крашеное яйцо. Все перечисленное имеет глубоко символическое значение : свеча— свет или огонь, который оберегает человека от злых духов, зеркало —знак ясности или установления времени наступления Нового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Рисунок 3" descr="http://www.baku.ru/pages/traditions/images/novruz2.jpg"/>
          <p:cNvPicPr/>
          <p:nvPr/>
        </p:nvPicPr>
        <p:blipFill>
          <a:blip r:embed="rId1"/>
          <a:stretch/>
        </p:blipFill>
        <p:spPr>
          <a:xfrm>
            <a:off x="4572000" y="4221000"/>
            <a:ext cx="4321080" cy="2492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5640" y="4508640"/>
            <a:ext cx="22860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мифологии многих народов, населяющих нашу планету, земной шар держится на рогах громадного быка. В течение года этот мифический бык устает и перебрасывает земной шар с одного рога на другой, после чего по преданию и наступает Новый год. Для того, чтобы установить завершение старого года и наступление первого дня нового азербайджанцы и ставят крашеное яйцо на зеркало. И как только яйцо качнется, значит, бык «перебросил» земной шар на другой рог и наступил Новый год. Все сидящие в это время за столом, увидев символическое раскачивание яйца на зеркале, поздравляют друг друга, целуются, обнимаются и желают друг другу счастья, здоровья, успехов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635280" y="3726000"/>
            <a:ext cx="5508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116000" y="5877000"/>
            <a:ext cx="712800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 праздником Весны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6:05:57Z</dcterms:created>
  <dc:creator>irada</dc:creator>
  <dc:description/>
  <dc:language>en-US</dc:language>
  <cp:lastModifiedBy>Customer</cp:lastModifiedBy>
  <dcterms:modified xsi:type="dcterms:W3CDTF">2010-11-29T21:52:32Z</dcterms:modified>
  <cp:revision>5</cp:revision>
  <dc:subject/>
  <dc:title>Слайд 1</dc:title>
</cp:coreProperties>
</file>