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799-CB11-49B4-9FBD-AB6C9E3B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D2C-6FFE-4873-BB5C-A31F665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332-774A-4AAD-95C6-54C1AF2A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360-0DE2-4375-AE92-C0DD4B18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4173-4B4B-469E-A12B-367661DE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4D2E-BF7B-4885-B6E1-4F1D8D72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3AE3-3BA1-418B-8FA1-54081BC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246-750A-4088-A499-6A59492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200-F3A3-453C-91AA-E7C4FA5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2936-15FE-4EBD-B65C-B80BE43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99C-B1F9-437A-8F05-D29C701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7AC-3BBC-4F95-82A4-B2E7E80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A1BE-A57F-4ED9-93B4-88A8A82A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2DF-4151-421F-8594-306C5B10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965-D34E-4547-A5D0-FC77CC4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9E87-DFB2-465F-B696-6A4FAE0C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0DC-562C-47A9-84A8-3A94AB3D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125-3DCA-489D-B777-D42E0BB0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173-7274-45C5-81CF-E513C18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846-7819-427D-96EB-8351F163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723-ECF4-4E6C-B66B-066CC3D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3D3-9170-430B-8EE7-D56093E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121-2B75-4A86-96FA-8CCB122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79B-10B9-436C-B7C5-7ECA7AB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CAE-B677-4095-8D20-E7831C917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570-7EB9-4552-944A-833CA87F0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Мамедов Ариф 9с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9280" y="1700280"/>
            <a:ext cx="698508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вруз байра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4797360"/>
            <a:ext cx="2879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й из интересных народных традиций азербайджанцев является праздник Новруз (в переводе - «новый день») - праздник весны, радости, веселья, обновления прир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2" descr="http://www.baku.ru/pages/traditions/images/novruz3.jpg"/>
          <p:cNvPicPr/>
          <p:nvPr/>
        </p:nvPicPr>
        <p:blipFill>
          <a:blip r:embed="rId1"/>
          <a:stretch/>
        </p:blipFill>
        <p:spPr>
          <a:xfrm>
            <a:off x="5435640" y="3041640"/>
            <a:ext cx="2670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90560" y="549000"/>
            <a:ext cx="47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ербайджанцы перед празднованием самого Нозруза, обычно отмечают ряд предыдущих дней, являющихся как бы подготовкой перед проведением больших торжеств по случаю окончания Старого и наступления Нового года. Одним из этапов в подготовке к празднику является день «ахыр чершенбе ахшамы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419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ний вторник последней недели года. В этот вечер каждая семья должна на крыше своего дома зажечь столько факелов, сколько человек проживает в данной семье, разжигаются костры. Все, от мала до велика, должны перепрыгнуть через горящий костер, произнося при этом следующие слова: «Все мои невзгоды тебе, а твою радость мн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4457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внимания азербайджанцы уделяют и подготовке праздничного стола. Как правило, каждая семья, накрывая праздничный стол, помнит о том, что на столе должна стоять пища, состоящая из семи блюд, название которых начинается с буквы «с». На столе должны быть сумах, скэд — молоко, сирке — уксус, семени — специальная каша из пшеницы, сабзи —-зелень и т. д. Кроме перечисленных блюд на стол ставятся зеркало, свеча и крашеное яйцо. Все перечисленное имеет глубоко символическое значение : свеча— свет или огонь, который оберегает человека от злых духов, зеркало —знак ясности или установления времени наступления Нового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http://www.baku.ru/pages/traditions/images/novruz2.jpg"/>
          <p:cNvPicPr/>
          <p:nvPr/>
        </p:nvPicPr>
        <p:blipFill>
          <a:blip r:embed="rId1"/>
          <a:stretch/>
        </p:blipFill>
        <p:spPr>
          <a:xfrm>
            <a:off x="4572000" y="4221000"/>
            <a:ext cx="4321080" cy="24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2286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мифологии многих народов, населяющих нашу планету, земной шар держится на рогах громадного быка. В течение года этот мифический бык устает и перебрасывает земной шар с одного рога на другой, после чего по преданию и наступает Новый год. Для того, чтобы установить завершение старого года и наступление первого дня нового азербайджанцы и ставят крашеное яйцо на зеркало. И как только яйцо качнется, значит, бык «перебросил» земной шар на другой рог и наступил Новый год. Все сидящие в это время за столом, увидев символическое раскачивание яйца на зеркале, поздравляют друг друга, целуются, обнимаются и желают друг другу счастья, здоровья, успех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35280" y="3726000"/>
            <a:ext cx="5508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5877000"/>
            <a:ext cx="7128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 праздником Весн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6:05:57Z</dcterms:created>
  <dc:creator>irada</dc:creator>
  <dc:description/>
  <dc:language>en-US</dc:language>
  <cp:lastModifiedBy>Customer</cp:lastModifiedBy>
  <dcterms:modified xsi:type="dcterms:W3CDTF">2010-11-29T21:52:32Z</dcterms:modified>
  <cp:revision>5</cp:revision>
  <dc:subject/>
  <dc:title>Слайд 1</dc:title>
</cp:coreProperties>
</file>