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28.png" ContentType="image/png"/>
  <Override PartName="/ppt/media/image1.wmf" ContentType="image/x-wmf"/>
  <Override PartName="/ppt/media/image9.wmf" ContentType="image/x-wmf"/>
  <Override PartName="/ppt/media/image14.png" ContentType="image/png"/>
  <Override PartName="/ppt/media/image8.png" ContentType="image/png"/>
  <Override PartName="/ppt/media/image16.wmf" ContentType="image/x-wmf"/>
  <Override PartName="/ppt/media/image13.png" ContentType="image/png"/>
  <Override PartName="/ppt/media/image7.png" ContentType="image/png"/>
  <Override PartName="/ppt/media/image15.wmf" ContentType="image/x-wmf"/>
  <Override PartName="/ppt/media/image25.jpeg" ContentType="image/jpeg"/>
  <Override PartName="/ppt/media/image4.jpeg" ContentType="image/jpeg"/>
  <Override PartName="/ppt/media/image10.wmf" ContentType="image/x-wmf"/>
  <Override PartName="/ppt/media/image27.jpeg" ContentType="image/jpeg"/>
  <Override PartName="/ppt/media/image19.jpeg" ContentType="image/jpeg"/>
  <Override PartName="/ppt/media/image11.png" ContentType="image/png"/>
  <Override PartName="/ppt/media/arrow.wav" ContentType="audio/x-wav"/>
  <Override PartName="/ppt/media/image5.jpeg" ContentType="image/jpeg"/>
  <Override PartName="/ppt/media/image26.jpeg" ContentType="image/jpeg"/>
  <Override PartName="/ppt/media/image3.wmf" ContentType="image/x-wmf"/>
  <Override PartName="/ppt/media/image12.png" ContentType="image/png"/>
  <Override PartName="/ppt/media/image23.jpeg" ContentType="image/jpeg"/>
  <Override PartName="/ppt/media/image17.wmf" ContentType="image/x-wmf"/>
  <Override PartName="/ppt/media/image6.jpeg" ContentType="image/jpeg"/>
  <Override PartName="/ppt/media/image18.png" ContentType="image/png"/>
  <Override PartName="/ppt/media/image21.wmf" ContentType="image/x-wmf"/>
  <Override PartName="/ppt/media/image20.jpeg" ContentType="image/jpeg"/>
  <Override PartName="/ppt/media/image22.wmf" ContentType="image/x-wmf"/>
  <Override PartName="/ppt/media/image24.png" ContentType="image/png"/>
  <Override PartName="/ppt/media/image2.wmf" ContentType="image/x-wmf"/>
  <Override PartName="/ppt/media/image29.png" ContentType="image/png"/>
  <Override PartName="/ppt/media/chimes.wav" ContentType="audio/x-wav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>
    <p:sldRg st="1" end="15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FE5A2-6D2D-441C-9ED3-8BE549CE7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44A85-FA0B-4FBD-89DC-6D6716B9B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057D7-69EB-4505-97A7-BB0F7B4ED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0B62D-E026-4953-9594-5C1CCA2AC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52D17-BF84-4D8F-B8DC-6DD024ED2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12084-B695-46D8-8093-55B5F0D6B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84D9C-14D0-44D7-825C-33ED31EB4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54E33-FEBF-40E5-9BA3-3BC64EF46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1B4EA-930A-450C-8864-B06BCEA50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E2BA1-3A4E-4C4F-A13C-2D1BD172D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4ABD5-90D8-442A-9445-E3C5D5F55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D6DD5-A17E-422D-89F2-1FF2E7B6B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98462-104C-4ECB-AF93-F9389AF8E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9259D-AE8C-4227-9FFA-6264138C0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FBC45-47FC-481C-A92B-086AD88F6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4D291-C1E0-4A7B-A050-679A1EBD1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47523-FDB0-4A33-95E2-790EB7D1B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F8462A-4AAA-4B42-B03E-9C1830865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7F10AF-7028-4C00-83F3-B57591D1F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573C78-6597-4AD3-90AA-D04E5EAAA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F5649B-0949-4CBD-9255-C1916B82D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541EE9-38EA-4CAF-B1E4-0FDA4851D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63C21-6DFA-4F9D-B36E-5BF796501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C07F5D-60D7-4FFD-91EA-02F48CC59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C3CA2A-3928-458D-B3B8-40481FC01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B6FDCC-2E1D-4280-90A0-392EB2D27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6F8878-E1F5-470F-961D-5498C00A8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A256D2-6F72-4039-BA37-727149F09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DA19B4-032D-477D-9B4B-B1671121D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D14ABB-5D45-4524-AEB2-22395B221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91D8356-AF1E-4EA6-8D5E-FEA4CE8FC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57E984D-B190-48AB-AB0F-E62C4C7BA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878B61B-6831-490E-A59E-1C372E0B6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9CFFF-6AD3-495E-835D-D240DD426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CAA5468-9DCC-4B0C-9745-39AA201A6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444AEFD-953C-4688-87D8-507B997EE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C3FFAD4-AF0B-444C-85FA-DD4B46E00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03B8765-37BA-419D-A853-E348BE3C2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8C2E14F-A19F-47E5-984E-4FCB4C76E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0994E50-7042-4205-874D-A58D3D2C3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82CC82D-61A4-480C-B5EF-19DBADC17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EECC10E-9CC5-4E16-9817-BEE536347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1BFC4D0-2A6C-419B-A556-AEDE9129C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4CFC68-AF9E-4568-80A7-D2620CD63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F972F-D66D-421E-AA99-941346C40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53BBBA-50E0-4BCF-83C0-B97806217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29E593-F823-4A0C-A722-8712A1524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BC907A-9DED-4260-9A74-B7E3396C3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64144E-2702-43B6-A2D6-DC440BC77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CCC982-AF3A-4737-A312-70E805071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5E3047-F43F-4971-BB3B-1E46D628A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8904A0-89B8-4058-92EA-248A808E6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95304E-0D5D-44D0-A73D-9115A5991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AB632A-A3C0-42D4-9280-ABAC9F224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120188-DD58-4B8B-AD4B-851028725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E7153-99C6-4DF8-B586-ADAEE9522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348F9C-18EA-437E-8D1B-DE1AD25AB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636CF-713E-44B2-95C5-434289E0A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B2499-F6DF-46B6-B1E9-0955FA5E2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9BC80-697F-4794-BACE-02B084727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DCE7A-4DB4-4D48-8527-3C629400EF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42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38B4D-C4AF-48F1-A170-A66F2B530A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02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A84C2-9237-4A01-954A-AF81E623E6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1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62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5b59"/>
                </a:gs>
                <a:gs pos="100000">
                  <a:srgbClr val="0052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0ff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0ff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00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00ff99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00ff99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50000">
                  <a:srgbClr val="085756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751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00ff99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0ff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0a6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0a6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50000">
                  <a:srgbClr val="096462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5250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50000">
                  <a:srgbClr val="00ff99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0ff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50000">
                  <a:srgbClr val="096462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00ff99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0ff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525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5250"/>
                </a:gs>
                <a:gs pos="50000">
                  <a:srgbClr val="075755"/>
                </a:gs>
                <a:gs pos="100000">
                  <a:srgbClr val="0052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8dec6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e0a5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b8dec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e0a5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ftr" idx="1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D5239-64D1-4693-B32C-4E5C0FEAA9C0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dt" idx="1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4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225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5b59"/>
                </a:gs>
                <a:gs pos="100000">
                  <a:srgbClr val="0052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0ff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0ff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00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00ff99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00ff99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50000">
                  <a:srgbClr val="085756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751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00ff99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0ff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0a6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0a6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50000">
                  <a:srgbClr val="096462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5250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50000">
                  <a:srgbClr val="00ff99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0ff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50000">
                  <a:srgbClr val="096462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00ff99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0ff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525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5250"/>
                </a:gs>
                <a:gs pos="50000">
                  <a:srgbClr val="075755"/>
                </a:gs>
                <a:gs pos="100000">
                  <a:srgbClr val="0052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8dec6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3C5A2-E7BC-430D-8A5C-A8945BA0E654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" Target="slide10.xml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5.jpeg"/><Relationship Id="rId6" Type="http://schemas.openxmlformats.org/officeDocument/2006/relationships/image" Target="../media/image26.jpeg"/><Relationship Id="rId7" Type="http://schemas.openxmlformats.org/officeDocument/2006/relationships/image" Target="../media/image27.jpeg"/><Relationship Id="rId8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9.wmf"/><Relationship Id="rId6" Type="http://schemas.openxmlformats.org/officeDocument/2006/relationships/image" Target="../media/image10.wmf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5.jpe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13.xml"/><Relationship Id="rId3" Type="http://schemas.openxmlformats.org/officeDocument/2006/relationships/slide" Target="slide14.xml"/><Relationship Id="rId4" Type="http://schemas.openxmlformats.org/officeDocument/2006/relationships/slide" Target="slide15.xml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image" Target="../media/image17.wmf"/><Relationship Id="rId6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0.jpeg"/><Relationship Id="rId4" Type="http://schemas.openxmlformats.org/officeDocument/2006/relationships/image" Target="../media/image21.wmf"/><Relationship Id="rId5" Type="http://schemas.openxmlformats.org/officeDocument/2006/relationships/slide" Target="slide11.xml"/><Relationship Id="rId6" Type="http://schemas.openxmlformats.org/officeDocument/2006/relationships/image" Target="../media/image22.wmf"/><Relationship Id="rId7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9306"/>
            </a:gs>
            <a:gs pos="100000">
              <a:srgbClr val="fac1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Тридцатое ноября.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1403280" y="2205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Классная работа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1744560" cy="1836720"/>
          </a:xfrm>
          <a:prstGeom prst="rect">
            <a:avLst/>
          </a:prstGeom>
          <a:ln w="0">
            <a:noFill/>
          </a:ln>
        </p:spPr>
      </p:pic>
      <p:pic>
        <p:nvPicPr>
          <p:cNvPr id="291" name="" descr=""/>
          <p:cNvPicPr/>
          <p:nvPr/>
        </p:nvPicPr>
        <p:blipFill>
          <a:blip r:embed="rId2"/>
          <a:stretch/>
        </p:blipFill>
        <p:spPr>
          <a:xfrm>
            <a:off x="7667640" y="404640"/>
            <a:ext cx="1332000" cy="1328760"/>
          </a:xfrm>
          <a:prstGeom prst="rect">
            <a:avLst/>
          </a:prstGeom>
          <a:ln w="0">
            <a:noFill/>
          </a:ln>
        </p:spPr>
      </p:pic>
      <p:pic>
        <p:nvPicPr>
          <p:cNvPr id="292" name="" descr=""/>
          <p:cNvPicPr/>
          <p:nvPr/>
        </p:nvPicPr>
        <p:blipFill>
          <a:blip r:embed="rId3"/>
          <a:stretch/>
        </p:blipFill>
        <p:spPr>
          <a:xfrm rot="6561000">
            <a:off x="3660840" y="4987800"/>
            <a:ext cx="1733400" cy="14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Итог урок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250560" y="1557360"/>
            <a:ext cx="84452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Чтобы правильно написать безударное окончание существительного, над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1. Определить ………………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2. Определить ………………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3. Вспомнить ………………. этого существительного в нужном …………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У существительных 1 склонения в родительном падеже окончание -….., в дательном падеже -  окончание ……, в предложном падеже – окончание …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У существительных 2 склонения в предложном падеже – окончание …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У существительных 3 склонения в родительном, дательном, предложном падежах – окончание …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3419640" y="981000"/>
            <a:ext cx="259380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259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роверь себя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81" name=""/>
          <p:cNvSpPr/>
          <p:nvPr/>
        </p:nvSpPr>
        <p:spPr>
          <a:xfrm>
            <a:off x="7740720" y="2224080"/>
            <a:ext cx="13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796000" y="4005360"/>
            <a:ext cx="288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2195640" y="371628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Arial"/>
              </a:rPr>
              <a:t>-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7093080" y="371628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Arial"/>
              </a:rPr>
              <a:t>-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003640" y="4005360"/>
            <a:ext cx="50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Arial"/>
              </a:rPr>
              <a:t>-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050920" y="4508640"/>
            <a:ext cx="50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Arial"/>
              </a:rPr>
              <a:t>-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148360" y="508464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Arial"/>
              </a:rPr>
              <a:t>-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2916360" y="2276640"/>
            <a:ext cx="180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Arial"/>
              </a:rPr>
              <a:t>паде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2771640" y="2637000"/>
            <a:ext cx="201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Arial"/>
              </a:rPr>
              <a:t>склон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627280" y="2924280"/>
            <a:ext cx="215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Arial"/>
              </a:rPr>
              <a:t>оконч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763640" y="3213000"/>
            <a:ext cx="19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Arial"/>
              </a:rPr>
              <a:t>падеж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5" dur="1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5" dur="500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0" dur="500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5" dur="500"/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0" dur="500"/>
                                        <p:tgtEl>
                                          <p:spTgt spid="3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5" dur="500"/>
                                        <p:tgtEl>
                                          <p:spTgt spid="3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0" dur="500"/>
                                        <p:tgtEl>
                                          <p:spTgt spid="3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7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4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1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8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3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8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3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8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3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Летом бродит без дороге  между сосен и берёз, 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имой он спит в берлоги, от мороза прячет но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тоял на тонкой ножки, теперь лежит в лукош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егу я как по лесенки, по камушкам звеня. Издалек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 песенки узнаете мен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>
            <a:hlinkClick r:id="rId2" action="ppaction://hlinksldjump"/>
          </p:cNvPr>
          <p:cNvSpPr/>
          <p:nvPr/>
        </p:nvSpPr>
        <p:spPr>
          <a:xfrm>
            <a:off x="8172360" y="6237360"/>
            <a:ext cx="432000" cy="287280"/>
          </a:xfrm>
          <a:custGeom>
            <a:avLst/>
            <a:gdLst>
              <a:gd name="textAreaLeft" fmla="*/ 18360 w 432000"/>
              <a:gd name="textAreaRight" fmla="*/ 413640 w 43200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2468" h="21600">
                <a:moveTo>
                  <a:pt x="0" y="0"/>
                </a:moveTo>
                <a:lnTo>
                  <a:pt x="32468" y="0"/>
                </a:lnTo>
                <a:lnTo>
                  <a:pt x="32468" y="21600"/>
                </a:lnTo>
                <a:lnTo>
                  <a:pt x="0" y="21600"/>
                </a:lnTo>
                <a:close/>
              </a:path>
              <a:path fill="lightenLess" w="32468" h="21600">
                <a:moveTo>
                  <a:pt x="0" y="0"/>
                </a:moveTo>
                <a:lnTo>
                  <a:pt x="32468" y="0"/>
                </a:lnTo>
                <a:lnTo>
                  <a:pt x="31068" y="1400"/>
                </a:lnTo>
                <a:lnTo>
                  <a:pt x="1400" y="1400"/>
                </a:lnTo>
                <a:close/>
              </a:path>
              <a:path fill="darken" w="32468" h="21600">
                <a:moveTo>
                  <a:pt x="32468" y="0"/>
                </a:moveTo>
                <a:lnTo>
                  <a:pt x="32468" y="21600"/>
                </a:lnTo>
                <a:lnTo>
                  <a:pt x="31068" y="20200"/>
                </a:lnTo>
                <a:lnTo>
                  <a:pt x="31068" y="1400"/>
                </a:lnTo>
                <a:close/>
              </a:path>
              <a:path fill="darkenLess" w="32468" h="21600">
                <a:moveTo>
                  <a:pt x="324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68" y="20200"/>
                </a:lnTo>
                <a:close/>
              </a:path>
              <a:path fill="lighten" w="324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68" h="21600">
                <a:moveTo>
                  <a:pt x="9227" y="10800"/>
                </a:moveTo>
                <a:lnTo>
                  <a:pt x="23240" y="3794"/>
                </a:lnTo>
                <a:lnTo>
                  <a:pt x="2324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1187280" y="189000"/>
            <a:ext cx="6624720" cy="122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Исправь ошибки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4284360" y="2133720"/>
            <a:ext cx="214200" cy="287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 flipH="1">
            <a:off x="4140000" y="2565360"/>
            <a:ext cx="214200" cy="287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3924000" y="2997360"/>
            <a:ext cx="214200" cy="287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 flipH="1">
            <a:off x="7596000" y="2997360"/>
            <a:ext cx="214200" cy="287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2268360" y="3860640"/>
            <a:ext cx="214560" cy="28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3779640" y="3429000"/>
            <a:ext cx="214200" cy="287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3708360" y="314172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284720" y="170028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924360" y="270828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140360" y="227664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7451640" y="270828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2195640" y="357336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8" name="" descr=""/>
          <p:cNvPicPr/>
          <p:nvPr/>
        </p:nvPicPr>
        <p:blipFill>
          <a:blip r:embed="rId5"/>
          <a:stretch/>
        </p:blipFill>
        <p:spPr>
          <a:xfrm>
            <a:off x="826920" y="4437000"/>
            <a:ext cx="1636920" cy="2089080"/>
          </a:xfrm>
          <a:prstGeom prst="rect">
            <a:avLst/>
          </a:prstGeom>
          <a:ln w="0">
            <a:noFill/>
          </a:ln>
        </p:spPr>
      </p:pic>
      <p:pic>
        <p:nvPicPr>
          <p:cNvPr id="409" name="" descr=""/>
          <p:cNvPicPr/>
          <p:nvPr/>
        </p:nvPicPr>
        <p:blipFill>
          <a:blip r:embed="rId6"/>
          <a:stretch/>
        </p:blipFill>
        <p:spPr>
          <a:xfrm>
            <a:off x="3419640" y="4437000"/>
            <a:ext cx="2016000" cy="1976400"/>
          </a:xfrm>
          <a:prstGeom prst="rect">
            <a:avLst/>
          </a:prstGeom>
          <a:ln w="0">
            <a:noFill/>
          </a:ln>
        </p:spPr>
      </p:pic>
      <p:pic>
        <p:nvPicPr>
          <p:cNvPr id="410" name="" descr=""/>
          <p:cNvPicPr/>
          <p:nvPr/>
        </p:nvPicPr>
        <p:blipFill>
          <a:blip r:embed="rId7"/>
          <a:stretch/>
        </p:blipFill>
        <p:spPr>
          <a:xfrm>
            <a:off x="6084720" y="4437000"/>
            <a:ext cx="2205360" cy="18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53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2" dur="500"/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53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9" dur="500"/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53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3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3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3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53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3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3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3" dur="500"/>
                                        <p:tgtEl>
                                          <p:spTgt spid="3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53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3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3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0" dur="500"/>
                                        <p:tgtEl>
                                          <p:spTgt spid="3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8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6" dur="1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4" dur="1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2" dur="1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7" dur="1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6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1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8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0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5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4" dur="1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9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6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8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3" dur="1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4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2" dur="1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7" dur="1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8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4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6" dur="1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 txBox="1"/>
          <p:nvPr/>
        </p:nvSpPr>
        <p:spPr>
          <a:xfrm>
            <a:off x="1763640" y="3068640"/>
            <a:ext cx="5400720" cy="133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Урок окончен!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7" dur="indefinite" restart="never" nodeType="tmRoot">
          <p:childTnLst>
            <p:seq>
              <p:cTn id="668" dur="indefinite" nodeType="mainSeq">
                <p:childTnLst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8" repeatCount="2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3" dur="3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3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Как определить падеж имени существительного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33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33"/>
                </a:solidFill>
                <a:latin typeface="Arial"/>
              </a:rPr>
              <a:t>Падеж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менительный      кто? чт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одительный         кого? чег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ательный             кому? чем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инительный         кого? чт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ворительный       кем? че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едложный          о ком? о чё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>
            <a:hlinkClick r:id="" action="ppaction://hlinkshowjump?jump=previousslide"/>
          </p:cNvPr>
          <p:cNvSpPr/>
          <p:nvPr/>
        </p:nvSpPr>
        <p:spPr>
          <a:xfrm>
            <a:off x="8604360" y="6308640"/>
            <a:ext cx="217440" cy="216000"/>
          </a:xfrm>
          <a:custGeom>
            <a:avLst/>
            <a:gdLst>
              <a:gd name="textAreaLeft" fmla="*/ 13680 w 217440"/>
              <a:gd name="textAreaRight" fmla="*/ 203760 w 2174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1744" h="21600">
                <a:moveTo>
                  <a:pt x="0" y="0"/>
                </a:moveTo>
                <a:lnTo>
                  <a:pt x="21744" y="0"/>
                </a:lnTo>
                <a:lnTo>
                  <a:pt x="21744" y="21600"/>
                </a:lnTo>
                <a:lnTo>
                  <a:pt x="0" y="21600"/>
                </a:lnTo>
                <a:close/>
              </a:path>
              <a:path fill="lightenLess" w="21744" h="21600">
                <a:moveTo>
                  <a:pt x="0" y="0"/>
                </a:moveTo>
                <a:lnTo>
                  <a:pt x="21744" y="0"/>
                </a:lnTo>
                <a:lnTo>
                  <a:pt x="20344" y="1400"/>
                </a:lnTo>
                <a:lnTo>
                  <a:pt x="1400" y="1400"/>
                </a:lnTo>
                <a:close/>
              </a:path>
              <a:path fill="darken" w="21744" h="21600">
                <a:moveTo>
                  <a:pt x="21744" y="0"/>
                </a:moveTo>
                <a:lnTo>
                  <a:pt x="21744" y="21600"/>
                </a:lnTo>
                <a:lnTo>
                  <a:pt x="20344" y="20200"/>
                </a:lnTo>
                <a:lnTo>
                  <a:pt x="20344" y="1400"/>
                </a:lnTo>
                <a:close/>
              </a:path>
              <a:path fill="darkenLess" w="21744" h="21600">
                <a:moveTo>
                  <a:pt x="217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44" y="20200"/>
                </a:lnTo>
                <a:close/>
              </a:path>
              <a:path fill="lighten" w="217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744" h="21600">
                <a:moveTo>
                  <a:pt x="3865" y="10800"/>
                </a:moveTo>
                <a:lnTo>
                  <a:pt x="17878" y="3794"/>
                </a:lnTo>
                <a:lnTo>
                  <a:pt x="1787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  <p:sndAc>
      <p:stSnd>
        <p:snd r:embed="rId2" name="arrow.wav"/>
      </p:stSnd>
    </p:sndAc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8">
                                  <p:stCondLst>
                                    <p:cond delay="50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1" dur="500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6" dur="500"/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2" presetSubtype="8">
                                  <p:stCondLst>
                                    <p:cond delay="50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1" dur="500"/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22" presetSubtype="8">
                                  <p:stCondLst>
                                    <p:cond delay="50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6" dur="500"/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2" presetSubtype="8">
                                  <p:stCondLst>
                                    <p:cond delay="50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1" dur="500"/>
                                        <p:tgtEl>
                                          <p:spTgt spid="4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2" presetSubtype="8">
                                  <p:stCondLst>
                                    <p:cond delay="50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6" dur="500"/>
                                        <p:tgtEl>
                                          <p:spTgt spid="4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2" presetSubtype="8">
                                  <p:stCondLst>
                                    <p:cond delay="50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1" dur="500"/>
                                        <p:tgtEl>
                                          <p:spTgt spid="4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mph" presetID="3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715" dur="500" fill="hold"/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716" nodeType="withEffect" fill="hold" presetClass="emph" presetID="3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717" dur="500" fill="hold"/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718" nodeType="withEffect" fill="hold" presetClass="emph" presetID="3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719" dur="500" fill="hold"/>
                                        <p:tgtEl>
                                          <p:spTgt spid="4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Как определить склонение имени существительного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6" name=""/>
          <p:cNvGraphicFramePr/>
          <p:nvPr/>
        </p:nvGraphicFramePr>
        <p:xfrm>
          <a:off x="250920" y="2060640"/>
          <a:ext cx="8517960" cy="3168720"/>
        </p:xfrm>
        <a:graphic>
          <a:graphicData uri="http://schemas.openxmlformats.org/drawingml/2006/table">
            <a:tbl>
              <a:tblPr/>
              <a:tblGrid>
                <a:gridCol w="2839320"/>
                <a:gridCol w="2839320"/>
                <a:gridCol w="2839320"/>
              </a:tblGrid>
              <a:tr h="68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 склонение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2 склонение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3 склонение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8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7" name="">
            <a:hlinkClick r:id="" action="ppaction://hlinkshowjump?jump=previousslide"/>
          </p:cNvPr>
          <p:cNvSpPr/>
          <p:nvPr/>
        </p:nvSpPr>
        <p:spPr>
          <a:xfrm>
            <a:off x="8532720" y="6237360"/>
            <a:ext cx="287280" cy="28728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250920" y="2781360"/>
            <a:ext cx="288108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уществительные мужского и женского рода с окончаниями -а, -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348000" y="2781360"/>
            <a:ext cx="2664000" cy="23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уществительные мужского рода с нулевым окончанием и среднего рода с окончаниями -о,-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5940360" y="2781360"/>
            <a:ext cx="280836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уществительные женского рода с мягким знаком на конц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720" dur="indefinite" restart="never" nodeType="tmRoot">
          <p:childTnLst>
            <p:seq>
              <p:cTn id="721" dur="indefinite" nodeType="mainSeq">
                <p:childTnLst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6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8" dur="1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3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5" dur="1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0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2" dur="1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7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9" dur="1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66ff"/>
                </a:solidFill>
                <a:latin typeface="Arial"/>
              </a:rPr>
              <a:t>Окончания имён существительны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2" name=""/>
          <p:cNvGraphicFramePr/>
          <p:nvPr/>
        </p:nvGraphicFramePr>
        <p:xfrm>
          <a:off x="457200" y="1600200"/>
          <a:ext cx="8229600" cy="4525560"/>
        </p:xfrm>
        <a:graphic>
          <a:graphicData uri="http://schemas.openxmlformats.org/drawingml/2006/table">
            <a:tbl>
              <a:tblPr/>
              <a:tblGrid>
                <a:gridCol w="1646280"/>
                <a:gridCol w="2612880"/>
                <a:gridCol w="1295640"/>
                <a:gridCol w="1368360"/>
                <a:gridCol w="1306440"/>
              </a:tblGrid>
              <a:tr h="9496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Падеж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Вопрос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Окончан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36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-е скл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2-е скл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3-е скл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9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. п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. п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. п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3" name=""/>
          <p:cNvSpPr/>
          <p:nvPr/>
        </p:nvSpPr>
        <p:spPr>
          <a:xfrm>
            <a:off x="2195640" y="3429000"/>
            <a:ext cx="23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ого? чего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2340000" y="393372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ому? чему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2124000" y="4508640"/>
            <a:ext cx="25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 ком? о чём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5148360" y="3429000"/>
            <a:ext cx="93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-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372360" y="443700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-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148360" y="393372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-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148360" y="443700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-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96360" y="4437000"/>
            <a:ext cx="93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-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7596360" y="3933720"/>
            <a:ext cx="93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-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7596360" y="3429000"/>
            <a:ext cx="93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-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>
            <a:hlinkClick r:id="" action="ppaction://hlinkshowjump?jump=previousslide"/>
          </p:cNvPr>
          <p:cNvSpPr/>
          <p:nvPr/>
        </p:nvSpPr>
        <p:spPr>
          <a:xfrm>
            <a:off x="8532720" y="638172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6537" y="10800"/>
                </a:moveTo>
                <a:lnTo>
                  <a:pt x="20550" y="3794"/>
                </a:lnTo>
                <a:lnTo>
                  <a:pt x="2055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0" dur="indefinite" restart="never" nodeType="tmRoot">
          <p:childTnLst>
            <p:seq>
              <p:cTn id="751" dur="indefinite" nodeType="mainSeq">
                <p:childTnLst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6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8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3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5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0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2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7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9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4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6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1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3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0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250920" y="1699920"/>
            <a:ext cx="822960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Ч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ча  чу  чк  ч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1979640" y="404640"/>
            <a:ext cx="5113440" cy="876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0">
                  <a:noFill/>
                </a:ln>
                <a:solidFill>
                  <a:srgbClr val="008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  </a:t>
            </a:r>
            <a:r>
              <a:rPr b="0" lang="en-US" sz="4800" spc="1" strike="noStrike">
                <a:ln w="0">
                  <a:noFill/>
                </a:ln>
                <a:solidFill>
                  <a:srgbClr val="008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Чистописание</a:t>
            </a:r>
            <a:endParaRPr b="0" lang="en-US" sz="4800" spc="1" strike="noStrike">
              <a:ln w="0">
                <a:noFill/>
              </a:ln>
              <a:solidFill>
                <a:srgbClr val="0080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68360" y="1700280"/>
            <a:ext cx="144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вра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68360" y="2133720"/>
            <a:ext cx="15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цирка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468360" y="263700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скрипа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116000" y="2205000"/>
            <a:ext cx="289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476360" y="2637000"/>
            <a:ext cx="289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692360" y="3141720"/>
            <a:ext cx="288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5724360" y="2133720"/>
            <a:ext cx="2521080" cy="25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2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2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2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2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2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2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47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" descr=""/>
          <p:cNvPicPr/>
          <p:nvPr/>
        </p:nvPicPr>
        <p:blipFill>
          <a:blip r:embed="rId2"/>
          <a:stretch/>
        </p:blipFill>
        <p:spPr>
          <a:xfrm>
            <a:off x="5579640" y="1915920"/>
            <a:ext cx="3102120" cy="4238280"/>
          </a:xfrm>
          <a:prstGeom prst="rect">
            <a:avLst/>
          </a:prstGeom>
          <a:ln w="0">
            <a:noFill/>
          </a:ln>
        </p:spPr>
      </p:pic>
      <p:sp>
        <p:nvSpPr>
          <p:cNvPr id="306" name=""/>
          <p:cNvSpPr txBox="1"/>
          <p:nvPr/>
        </p:nvSpPr>
        <p:spPr>
          <a:xfrm>
            <a:off x="1763640" y="404640"/>
            <a:ext cx="5113440" cy="930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ловарная работа.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971640" y="1844640"/>
            <a:ext cx="30956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ч..л..век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1476360" y="1844640"/>
            <a:ext cx="344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8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е</a:t>
            </a:r>
            <a:endParaRPr b="0" lang="en-US" sz="1800" spc="1" strike="noStrike">
              <a:ln w="0">
                <a:noFill/>
              </a:ln>
              <a:solidFill>
                <a:srgbClr val="008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2340000" y="1844640"/>
            <a:ext cx="396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8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</a:t>
            </a:r>
            <a:endParaRPr b="0" lang="en-US" sz="1800" spc="1" strike="noStrike">
              <a:ln w="0">
                <a:noFill/>
              </a:ln>
              <a:solidFill>
                <a:srgbClr val="008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3492360" y="1484280"/>
            <a:ext cx="216000" cy="287280"/>
          </a:xfrm>
          <a:prstGeom prst="line">
            <a:avLst/>
          </a:prstGeom>
          <a:ln w="507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5"/>
          <a:stretch/>
        </p:blipFill>
        <p:spPr>
          <a:xfrm>
            <a:off x="250920" y="5084640"/>
            <a:ext cx="977760" cy="1368720"/>
          </a:xfrm>
          <a:prstGeom prst="rect">
            <a:avLst/>
          </a:prstGeom>
          <a:ln w="0">
            <a:noFill/>
          </a:ln>
        </p:spPr>
      </p:pic>
      <p:pic>
        <p:nvPicPr>
          <p:cNvPr id="312" name="" descr=""/>
          <p:cNvPicPr/>
          <p:nvPr/>
        </p:nvPicPr>
        <p:blipFill>
          <a:blip r:embed="rId6"/>
          <a:stretch/>
        </p:blipFill>
        <p:spPr>
          <a:xfrm>
            <a:off x="4067280" y="5084640"/>
            <a:ext cx="1366560" cy="1114560"/>
          </a:xfrm>
          <a:prstGeom prst="rect">
            <a:avLst/>
          </a:prstGeom>
          <a:ln w="0">
            <a:noFill/>
          </a:ln>
        </p:spPr>
      </p:pic>
      <p:pic>
        <p:nvPicPr>
          <p:cNvPr id="313" name="" descr=""/>
          <p:cNvPicPr/>
          <p:nvPr/>
        </p:nvPicPr>
        <p:blipFill>
          <a:blip r:embed="rId7"/>
          <a:stretch/>
        </p:blipFill>
        <p:spPr>
          <a:xfrm>
            <a:off x="6084720" y="2133720"/>
            <a:ext cx="2482920" cy="3527280"/>
          </a:xfrm>
          <a:prstGeom prst="rect">
            <a:avLst/>
          </a:prstGeom>
          <a:ln w="0">
            <a:noFill/>
          </a:ln>
        </p:spPr>
      </p:pic>
      <p:sp>
        <p:nvSpPr>
          <p:cNvPr id="314" name=""/>
          <p:cNvSpPr/>
          <p:nvPr/>
        </p:nvSpPr>
        <p:spPr>
          <a:xfrm>
            <a:off x="0" y="1582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0" y="364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440" y="5012640"/>
            <a:ext cx="961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781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" name="" descr=""/>
          <p:cNvPicPr/>
          <p:nvPr/>
        </p:nvPicPr>
        <p:blipFill>
          <a:blip r:embed="rId8"/>
          <a:stretch/>
        </p:blipFill>
        <p:spPr>
          <a:xfrm>
            <a:off x="5940360" y="2276640"/>
            <a:ext cx="2379600" cy="3403440"/>
          </a:xfrm>
          <a:prstGeom prst="rect">
            <a:avLst/>
          </a:prstGeom>
          <a:ln w="0">
            <a:noFill/>
          </a:ln>
        </p:spPr>
      </p:pic>
      <p:pic>
        <p:nvPicPr>
          <p:cNvPr id="318" name="" descr=""/>
          <p:cNvPicPr/>
          <p:nvPr/>
        </p:nvPicPr>
        <p:blipFill>
          <a:blip r:embed="rId9"/>
          <a:stretch/>
        </p:blipFill>
        <p:spPr>
          <a:xfrm>
            <a:off x="1332000" y="3213000"/>
            <a:ext cx="252072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ru-RU" sz="3200" spc="-1" strike="noStrike">
                <a:solidFill>
                  <a:srgbClr val="00cc00"/>
                </a:solidFill>
                <a:latin typeface="Arial"/>
              </a:rPr>
              <a:t>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</a:t>
            </a:r>
            <a:r>
              <a:rPr b="0" lang="ru-RU" sz="3200" spc="-1" strike="noStrike">
                <a:solidFill>
                  <a:srgbClr val="00cc00"/>
                </a:solidFill>
                <a:latin typeface="Arial"/>
              </a:rPr>
              <a:t>о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ек,ч</a:t>
            </a:r>
            <a:r>
              <a:rPr b="0" lang="ru-RU" sz="3200" spc="-1" strike="noStrike">
                <a:solidFill>
                  <a:srgbClr val="00cc00"/>
                </a:solidFill>
                <a:latin typeface="Arial"/>
              </a:rPr>
              <a:t>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</a:t>
            </a:r>
            <a:r>
              <a:rPr b="0" lang="ru-RU" sz="3200" spc="-1" strike="noStrike">
                <a:solidFill>
                  <a:srgbClr val="00cc00"/>
                </a:solidFill>
                <a:latin typeface="Arial"/>
              </a:rPr>
              <a:t>о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еческий, ч</a:t>
            </a:r>
            <a:r>
              <a:rPr b="0" lang="ru-RU" sz="3200" spc="-1" strike="noStrike">
                <a:solidFill>
                  <a:srgbClr val="00cc00"/>
                </a:solidFill>
                <a:latin typeface="Arial"/>
              </a:rPr>
              <a:t>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</a:t>
            </a:r>
            <a:r>
              <a:rPr b="0" lang="ru-RU" sz="3200" spc="-1" strike="noStrike">
                <a:solidFill>
                  <a:srgbClr val="00cc00"/>
                </a:solidFill>
                <a:latin typeface="Arial"/>
              </a:rPr>
              <a:t>о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ечек, ч</a:t>
            </a:r>
            <a:r>
              <a:rPr b="0" lang="ru-RU" sz="3200" spc="-1" strike="noStrike">
                <a:solidFill>
                  <a:srgbClr val="00cc00"/>
                </a:solidFill>
                <a:latin typeface="Arial"/>
              </a:rPr>
              <a:t>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</a:t>
            </a:r>
            <a:r>
              <a:rPr b="0" lang="ru-RU" sz="3200" spc="-1" strike="noStrike">
                <a:solidFill>
                  <a:srgbClr val="00cc00"/>
                </a:solidFill>
                <a:latin typeface="Arial"/>
              </a:rPr>
              <a:t>о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еколюб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132000" y="3645000"/>
            <a:ext cx="503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1692360" y="189000"/>
            <a:ext cx="5113080" cy="930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ловарная работа.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23" name=""/>
          <p:cNvSpPr/>
          <p:nvPr/>
        </p:nvSpPr>
        <p:spPr>
          <a:xfrm>
            <a:off x="468360" y="3933720"/>
            <a:ext cx="79912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Человек от лени болеет, а от труда здорове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826920" y="436572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00"/>
                </a:solidFill>
                <a:latin typeface="Arial"/>
              </a:rPr>
              <a:t>сущ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1908000" y="436572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00"/>
                </a:solidFill>
                <a:latin typeface="Arial"/>
              </a:rPr>
              <a:t>п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2411280" y="436572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00"/>
                </a:solidFill>
                <a:latin typeface="Arial"/>
              </a:rPr>
              <a:t>сущ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276720" y="4365720"/>
            <a:ext cx="9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00"/>
                </a:solidFill>
                <a:latin typeface="Arial"/>
              </a:rPr>
              <a:t>г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572000" y="436572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00"/>
                </a:solidFill>
                <a:latin typeface="Arial"/>
              </a:rPr>
              <a:t>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4859280" y="436572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00"/>
                </a:solidFill>
                <a:latin typeface="Arial"/>
              </a:rPr>
              <a:t>п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508720" y="436572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00"/>
                </a:solidFill>
                <a:latin typeface="Arial"/>
              </a:rPr>
              <a:t>сущ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588000" y="436572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00"/>
                </a:solidFill>
                <a:latin typeface="Arial"/>
              </a:rPr>
              <a:t>г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7310880" y="4149360"/>
            <a:ext cx="58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○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926160" y="4149360"/>
            <a:ext cx="58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○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611280" y="5084640"/>
            <a:ext cx="1224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203640" y="5157720"/>
            <a:ext cx="1295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6659640" y="5084640"/>
            <a:ext cx="1295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6659640" y="5013360"/>
            <a:ext cx="1295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2556000" y="1628640"/>
            <a:ext cx="30956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ч..л..век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3059280" y="1628640"/>
            <a:ext cx="34416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8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е</a:t>
            </a:r>
            <a:endParaRPr b="0" lang="en-US" sz="1800" spc="1" strike="noStrike">
              <a:ln w="0">
                <a:noFill/>
              </a:ln>
              <a:solidFill>
                <a:srgbClr val="008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3924360" y="1628640"/>
            <a:ext cx="39672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8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</a:t>
            </a:r>
            <a:endParaRPr b="0" lang="en-US" sz="1800" spc="1" strike="noStrike">
              <a:ln w="0">
                <a:noFill/>
              </a:ln>
              <a:solidFill>
                <a:srgbClr val="008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635280" y="4797360"/>
            <a:ext cx="64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 flipH="1">
            <a:off x="5076720" y="1197000"/>
            <a:ext cx="216000" cy="287280"/>
          </a:xfrm>
          <a:prstGeom prst="line">
            <a:avLst/>
          </a:prstGeom>
          <a:ln w="507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3203640" y="5084640"/>
            <a:ext cx="1295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918720" y="2637000"/>
            <a:ext cx="1558800" cy="1231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38" y="6877"/>
                </a:moveTo>
                <a:arcTo wR="10800" hR="10800" stAng="-9521955" swAng="8092444"/>
                <a:lnTo>
                  <a:pt x="10800" y="10800"/>
                </a:lnTo>
                <a:close/>
              </a:path>
              <a:path fill="none" w="21600" h="21600">
                <a:moveTo>
                  <a:pt x="738" y="6877"/>
                </a:moveTo>
                <a:arcTo wR="10800" hR="10800" stAng="-9521955" swAng="8092444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918720" y="3141720"/>
            <a:ext cx="1558800" cy="1231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38" y="6877"/>
                </a:moveTo>
                <a:arcTo wR="10800" hR="10800" stAng="-9521955" swAng="8092444"/>
                <a:lnTo>
                  <a:pt x="10800" y="10800"/>
                </a:lnTo>
                <a:close/>
              </a:path>
              <a:path fill="none" w="21600" h="21600">
                <a:moveTo>
                  <a:pt x="738" y="6877"/>
                </a:moveTo>
                <a:arcTo wR="10800" hR="10800" stAng="-9521955" swAng="8092444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455800" y="2565360"/>
            <a:ext cx="1558800" cy="1231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38" y="6877"/>
                </a:moveTo>
                <a:arcTo wR="10800" hR="10800" stAng="-9521955" swAng="8092444"/>
                <a:lnTo>
                  <a:pt x="10800" y="10800"/>
                </a:lnTo>
                <a:close/>
              </a:path>
              <a:path fill="none" w="21600" h="21600">
                <a:moveTo>
                  <a:pt x="738" y="6877"/>
                </a:moveTo>
                <a:arcTo wR="10800" hR="10800" stAng="-9521955" swAng="8092444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2574360" y="2565360"/>
            <a:ext cx="1559160" cy="1231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38" y="6877"/>
                </a:moveTo>
                <a:arcTo wR="10800" hR="10800" stAng="-9521955" swAng="8092444"/>
                <a:lnTo>
                  <a:pt x="10800" y="10800"/>
                </a:lnTo>
                <a:close/>
              </a:path>
              <a:path fill="none" w="21600" h="21600">
                <a:moveTo>
                  <a:pt x="738" y="6877"/>
                </a:moveTo>
                <a:arcTo wR="10800" hR="10800" stAng="-9521955" swAng="8092444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8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7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50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1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4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9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4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9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11280" y="1413000"/>
            <a:ext cx="7772400" cy="28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9933"/>
                </a:solidFill>
                <a:latin typeface="Times New Roman"/>
              </a:rPr>
              <a:t>Правописание безударных окончаний имён существительных в родительном, дательном и предложном падежах</a:t>
            </a:r>
            <a:r>
              <a:rPr b="0" lang="en-US" sz="4800" spc="-1" strike="noStrike">
                <a:solidFill>
                  <a:srgbClr val="ff3300"/>
                </a:solidFill>
                <a:latin typeface="Times New Roman"/>
              </a:rPr>
              <a:t>.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476360" y="4581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00"/>
                </a:solidFill>
                <a:latin typeface="Times New Roman"/>
              </a:rPr>
              <a:t>Закрепление изученного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50920" y="333360"/>
            <a:ext cx="8534160" cy="24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00"/>
                </a:solidFill>
                <a:latin typeface="Arial"/>
              </a:rPr>
              <a:t>Что нужно знать, чтобы правильно написать безударное окончание существительного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68360" y="292428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1. Определить падеж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2. Определить склон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3. Вспомнить окончание существительного в нужном падеж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5"/>
          <a:stretch/>
        </p:blipFill>
        <p:spPr>
          <a:xfrm>
            <a:off x="7093080" y="1700280"/>
            <a:ext cx="1488960" cy="148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5" dur="80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0,8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6" dur="80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7" dur="80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2" dur="80"/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0,8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3" dur="80"/>
                                        <p:tgtEl>
                                          <p:spTgt spid="3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4" dur="80"/>
                                        <p:tgtEl>
                                          <p:spTgt spid="3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9" dur="80"/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0,8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0" dur="80"/>
                                        <p:tgtEl>
                                          <p:spTgt spid="3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1" dur="80"/>
                                        <p:tgtEl>
                                          <p:spTgt spid="3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1547640" y="2492280"/>
            <a:ext cx="5904000" cy="17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Физкультминутка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276200" cy="3600360"/>
          </a:xfrm>
          <a:prstGeom prst="rect">
            <a:avLst/>
          </a:prstGeom>
          <a:ln w="0">
            <a:noFill/>
          </a:ln>
        </p:spPr>
      </p:pic>
      <p:pic>
        <p:nvPicPr>
          <p:cNvPr id="359" name="" descr=""/>
          <p:cNvPicPr/>
          <p:nvPr/>
        </p:nvPicPr>
        <p:blipFill>
          <a:blip r:embed="rId4"/>
          <a:stretch/>
        </p:blipFill>
        <p:spPr>
          <a:xfrm>
            <a:off x="7307280" y="4076640"/>
            <a:ext cx="1836720" cy="2592360"/>
          </a:xfrm>
          <a:prstGeom prst="rect">
            <a:avLst/>
          </a:prstGeom>
          <a:ln w="0">
            <a:noFill/>
          </a:ln>
        </p:spPr>
      </p:pic>
      <p:pic>
        <p:nvPicPr>
          <p:cNvPr id="360" name="" descr=""/>
          <p:cNvPicPr/>
          <p:nvPr/>
        </p:nvPicPr>
        <p:blipFill>
          <a:blip r:embed="rId5"/>
          <a:stretch/>
        </p:blipFill>
        <p:spPr>
          <a:xfrm>
            <a:off x="3635280" y="2349360"/>
            <a:ext cx="1094040" cy="32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8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15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5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3 0.00278 L 0.0033 -0.33017 E">
                                      <p:cBhvr>
                                        <p:cTn id="310" dur="2000" fill="hold"/>
                                        <p:tgtEl>
                                          <p:spTgt spid="3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1" nodeType="withEffect" fill="hold" presetClass="path" presetID="42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295 E">
                                      <p:cBhvr>
                                        <p:cTn id="312" dur="500" fill="hold"/>
                                        <p:tgtEl>
                                          <p:spTgt spid="3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Arial"/>
              </a:rPr>
              <a:t>Закрепление изученного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) Воротился старик ко …………, у ………..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овое корыто. 2) Они жили в ветхой ……………… 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) В синем ………… звёзды блещут, в синем …………..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олны плещут. 4) Пушки с……………… палят, кораблю пристать велят.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1187280" y="1557360"/>
            <a:ext cx="1008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4211640" y="1557360"/>
            <a:ext cx="16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старух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5867280" y="155736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старух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5796000" y="198900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землян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2124000" y="242100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мор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6948360" y="242100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неб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356000" y="285264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приста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0" name="" descr=""/>
          <p:cNvPicPr/>
          <p:nvPr/>
        </p:nvPicPr>
        <p:blipFill>
          <a:blip r:embed="rId2"/>
          <a:stretch/>
        </p:blipFill>
        <p:spPr>
          <a:xfrm>
            <a:off x="6084720" y="3716280"/>
            <a:ext cx="220032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500"/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500"/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2" dur="500"/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6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3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7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4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00"/>
                </a:solidFill>
                <a:latin typeface="Times New Roman"/>
              </a:rPr>
              <a:t>с. 104 упр. 234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1116000" y="1557360"/>
            <a:ext cx="5548320" cy="85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Домашнее задание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376" name="" descr=""/>
          <p:cNvPicPr/>
          <p:nvPr/>
        </p:nvPicPr>
        <p:blipFill>
          <a:blip r:embed="rId4"/>
          <a:stretch/>
        </p:blipFill>
        <p:spPr>
          <a:xfrm>
            <a:off x="7020000" y="260280"/>
            <a:ext cx="1747800" cy="1693800"/>
          </a:xfrm>
          <a:prstGeom prst="rect">
            <a:avLst/>
          </a:prstGeom>
          <a:ln w="0">
            <a:noFill/>
          </a:ln>
        </p:spPr>
      </p:pic>
      <p:pic>
        <p:nvPicPr>
          <p:cNvPr id="377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7020000" y="5130720"/>
            <a:ext cx="1944720" cy="1324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0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03" dur="2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8" dur="80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9" dur="80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0" dur="80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1T12:11:04Z</dcterms:created>
  <dc:creator>M$L&amp;A</dc:creator>
  <dc:description/>
  <dc:language>en-US</dc:language>
  <cp:lastModifiedBy>M$L&amp;A</cp:lastModifiedBy>
  <dcterms:modified xsi:type="dcterms:W3CDTF">2005-11-25T14:08:53Z</dcterms:modified>
  <cp:revision>20</cp:revision>
  <dc:subject/>
  <dc:title>Слайд 1</dc:title>
</cp:coreProperties>
</file>