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28.png" ContentType="image/png"/>
  <Override PartName="/ppt/media/image1.wmf" ContentType="image/x-wmf"/>
  <Override PartName="/ppt/media/image9.wmf" ContentType="image/x-wmf"/>
  <Override PartName="/ppt/media/image14.png" ContentType="image/png"/>
  <Override PartName="/ppt/media/image8.png" ContentType="image/png"/>
  <Override PartName="/ppt/media/image16.wmf" ContentType="image/x-wmf"/>
  <Override PartName="/ppt/media/image13.png" ContentType="image/png"/>
  <Override PartName="/ppt/media/image7.png" ContentType="image/png"/>
  <Override PartName="/ppt/media/image15.wmf" ContentType="image/x-wmf"/>
  <Override PartName="/ppt/media/image25.jpeg" ContentType="image/jpeg"/>
  <Override PartName="/ppt/media/image4.jpeg" ContentType="image/jpeg"/>
  <Override PartName="/ppt/media/image10.wmf" ContentType="image/x-wmf"/>
  <Override PartName="/ppt/media/image27.jpeg" ContentType="image/jpeg"/>
  <Override PartName="/ppt/media/image19.jpeg" ContentType="image/jpeg"/>
  <Override PartName="/ppt/media/image11.png" ContentType="image/png"/>
  <Override PartName="/ppt/media/arrow.wav" ContentType="audio/x-wav"/>
  <Override PartName="/ppt/media/image5.jpeg" ContentType="image/jpeg"/>
  <Override PartName="/ppt/media/image26.jpeg" ContentType="image/jpeg"/>
  <Override PartName="/ppt/media/image3.wmf" ContentType="image/x-wmf"/>
  <Override PartName="/ppt/media/image12.png" ContentType="image/png"/>
  <Override PartName="/ppt/media/image23.jpeg" ContentType="image/jpeg"/>
  <Override PartName="/ppt/media/image17.wmf" ContentType="image/x-wmf"/>
  <Override PartName="/ppt/media/image6.jpeg" ContentType="image/jpeg"/>
  <Override PartName="/ppt/media/image18.png" ContentType="image/png"/>
  <Override PartName="/ppt/media/image21.wmf" ContentType="image/x-wmf"/>
  <Override PartName="/ppt/media/image20.jpeg" ContentType="image/jpeg"/>
  <Override PartName="/ppt/media/image22.wmf" ContentType="image/x-wmf"/>
  <Override PartName="/ppt/media/image24.png" ContentType="image/png"/>
  <Override PartName="/ppt/media/image2.wmf" ContentType="image/x-wmf"/>
  <Override PartName="/ppt/media/image29.png" ContentType="image/png"/>
  <Override PartName="/ppt/media/chimes.wav" ContentType="audio/x-wav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>
    <p:sldRg st="1" end="15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D5A3C-DE9E-4410-A6EF-607B96887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604AA-B72C-4913-A433-68AAF8001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A7C0D-8132-4042-8AE8-1B4010BB7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8D1CA-816F-4618-87E2-6E3DA7602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D9EA6-FE07-4DFE-A36F-8328EE40C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FF0CF-4EA8-4D31-B440-5FCAFC932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3BAF5-70DA-43C6-ACCC-F31E94B3D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F7B80-D393-492F-8A2F-2D172C129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6B43B-D43B-4874-A479-DFD4A1308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C85FB-1AC9-4A97-941C-644A79449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7F286-01FD-41E2-9B7D-3D666DB76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1F2E9-E890-4B2B-A736-6E93D76F7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EC695-22F0-4100-8761-7A9E135FF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B55BE-35E3-45C3-8C57-3498C7333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190DF-251F-4BE3-A1D5-83B9D217C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CF866-50DE-44D0-BB76-F3FBF2A96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EBFDD-CA9C-432F-85C3-F262560A9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2FED24-2E36-4AD1-8869-006B4C96B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589A37-9151-4B21-8BA0-AF3B2BC4A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B71BF7-3B1C-4289-A3E1-C1906F130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25FD7E-766B-4ED8-B25C-5B0497687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D5853A-E507-4D80-997F-DE84A0A3E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60AE7-7EE8-49A7-9D18-695757E08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C8509F-4A65-4672-9FE1-A25B3428E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8D3274-90CF-4D14-A430-DF5AA9C5D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688025-8A67-49AD-B39A-7889383A8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B50041-FE4D-4FBF-BA18-0D0D7369B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E51D9B-5483-4C86-ADFB-2674373DD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DF6AFC-EFAE-45DE-B43B-2B2074261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0FAF4C-05A5-4B14-BB45-974F14DD7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1570FE5-28E4-43D7-891C-665F1F646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FBAA58C-259F-47E5-9F2E-E07ACEE6C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26425EA-5688-4A80-AA36-F4198895B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3008E-6122-4CB5-9181-6AA637FD8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1C3F1E8-A655-48D0-9990-B6CDE8BB1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6605E26-805C-470A-B985-EC749F324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6BEFEFD-C57F-419C-8778-4F78CD348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2FD9D6A-8535-4935-AF4F-22E415BC0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ECCF222-5D14-49AA-8BF5-42C6C3FD0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2F31A70-2473-4892-97E9-AE3AEA166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284B268-3F0D-48A7-BACE-F355B81AB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3A6C077-B8FB-46A9-87B3-BF153FFCF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22FCEA4-C5F2-408C-B550-F465FF72E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12A1BA-7B33-48C7-A33F-0ED5597FC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4B5E6-E97A-469F-845A-78599B111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F0A6A2-E1A1-4FAE-8A62-0E8266E76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46E69E-B475-4809-A394-0867BCE94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3ACF40-5BB9-4C22-B032-627DDE103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0ECC3C-33CC-4329-86BF-005C071CA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80F020-F9EA-4CCB-9A91-EA24217E5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952C3A-B725-4787-A8C5-CAE77BBA5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2F50F5-7FA2-4BA0-A6A0-4D12E5B5D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6CD280-C97F-4721-8E68-937666E0E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24BE24-092B-443A-8817-B61EA8764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DA7B29-0E3B-4558-AB6D-BE06F5A7F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64423-9227-4C84-B25D-F281DF66D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3C101E-9C3E-4DDB-907F-09548F748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8AD6A-12CB-4C56-A7DD-18D81250E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CC054-7552-4C8A-90EE-59C50147D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047D8-DACC-45BC-A401-B105447A6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B0081-1A54-4D4C-BFDE-DEE679D85B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42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6DFD1-E547-42CD-AE3E-9F6834BE26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02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BE8FC-0267-4D49-B7BC-EDD17C5BE6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1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62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5b59"/>
                </a:gs>
                <a:gs pos="100000">
                  <a:srgbClr val="0052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0ff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0ff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00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00ff99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00ff99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50000">
                  <a:srgbClr val="085756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751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00ff99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0ff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0a6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0a6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50000">
                  <a:srgbClr val="096462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5250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50000">
                  <a:srgbClr val="00ff99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0ff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50000">
                  <a:srgbClr val="096462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00ff99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0ff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525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5250"/>
                </a:gs>
                <a:gs pos="50000">
                  <a:srgbClr val="075755"/>
                </a:gs>
                <a:gs pos="100000">
                  <a:srgbClr val="0052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8dec6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e0a5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b8dec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e0a5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ftr" idx="1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9A614-F040-414D-AD87-6232168FBA78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dt" idx="1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4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225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5b59"/>
                </a:gs>
                <a:gs pos="100000">
                  <a:srgbClr val="0052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0ff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0ff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00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00ff99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00ff99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50000">
                  <a:srgbClr val="085756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751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00ff99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0ff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0a6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0a6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50000">
                  <a:srgbClr val="096462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5250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50000">
                  <a:srgbClr val="00ff99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0ff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50000">
                  <a:srgbClr val="096462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00ff99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0ff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525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5250"/>
                </a:gs>
                <a:gs pos="50000">
                  <a:srgbClr val="075755"/>
                </a:gs>
                <a:gs pos="100000">
                  <a:srgbClr val="0052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8dec6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AE0A0-98A1-4FEA-9229-FB1E31328A4F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" Target="slide10.xml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5.jpeg"/><Relationship Id="rId6" Type="http://schemas.openxmlformats.org/officeDocument/2006/relationships/image" Target="../media/image26.jpeg"/><Relationship Id="rId7" Type="http://schemas.openxmlformats.org/officeDocument/2006/relationships/image" Target="../media/image27.jpeg"/><Relationship Id="rId8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9.wmf"/><Relationship Id="rId6" Type="http://schemas.openxmlformats.org/officeDocument/2006/relationships/image" Target="../media/image10.wmf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5.jpe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13.xml"/><Relationship Id="rId3" Type="http://schemas.openxmlformats.org/officeDocument/2006/relationships/slide" Target="slide14.xml"/><Relationship Id="rId4" Type="http://schemas.openxmlformats.org/officeDocument/2006/relationships/slide" Target="slide15.xml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image" Target="../media/image17.wmf"/><Relationship Id="rId6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0.jpeg"/><Relationship Id="rId4" Type="http://schemas.openxmlformats.org/officeDocument/2006/relationships/image" Target="../media/image21.wmf"/><Relationship Id="rId5" Type="http://schemas.openxmlformats.org/officeDocument/2006/relationships/slide" Target="slide11.xml"/><Relationship Id="rId6" Type="http://schemas.openxmlformats.org/officeDocument/2006/relationships/image" Target="../media/image22.wmf"/><Relationship Id="rId7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9306"/>
            </a:gs>
            <a:gs pos="100000">
              <a:srgbClr val="fac1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Тридцатое ноября.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1403280" y="2205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Классная работа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1744560" cy="1836720"/>
          </a:xfrm>
          <a:prstGeom prst="rect">
            <a:avLst/>
          </a:prstGeom>
          <a:ln w="0">
            <a:noFill/>
          </a:ln>
        </p:spPr>
      </p:pic>
      <p:pic>
        <p:nvPicPr>
          <p:cNvPr id="291" name="" descr=""/>
          <p:cNvPicPr/>
          <p:nvPr/>
        </p:nvPicPr>
        <p:blipFill>
          <a:blip r:embed="rId2"/>
          <a:stretch/>
        </p:blipFill>
        <p:spPr>
          <a:xfrm>
            <a:off x="7667640" y="404640"/>
            <a:ext cx="1332000" cy="1328760"/>
          </a:xfrm>
          <a:prstGeom prst="rect">
            <a:avLst/>
          </a:prstGeom>
          <a:ln w="0">
            <a:noFill/>
          </a:ln>
        </p:spPr>
      </p:pic>
      <p:pic>
        <p:nvPicPr>
          <p:cNvPr id="292" name="" descr=""/>
          <p:cNvPicPr/>
          <p:nvPr/>
        </p:nvPicPr>
        <p:blipFill>
          <a:blip r:embed="rId3"/>
          <a:stretch/>
        </p:blipFill>
        <p:spPr>
          <a:xfrm rot="6561000">
            <a:off x="3660840" y="4987800"/>
            <a:ext cx="1733400" cy="14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Итог урок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250560" y="1557360"/>
            <a:ext cx="84452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Чтобы правильно написать безударное окончание существительного, над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1. Определить ………………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2. Определить ………………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3. Вспомнить ………………. этого существительного в нужном …………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У существительных 1 склонения в родительном падеже окончание -….., в дательном падеже -  окончание ……, в предложном падеже – окончание …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У существительных 2 склонения в предложном падеже – окончание …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У существительных 3 склонения в родительном, дательном, предложном падежах – окончание …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3419640" y="981000"/>
            <a:ext cx="259380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259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роверь себя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81" name=""/>
          <p:cNvSpPr/>
          <p:nvPr/>
        </p:nvSpPr>
        <p:spPr>
          <a:xfrm>
            <a:off x="7740720" y="2224080"/>
            <a:ext cx="13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796000" y="4005360"/>
            <a:ext cx="288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2195640" y="371628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Arial"/>
              </a:rPr>
              <a:t>-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7093080" y="371628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Arial"/>
              </a:rPr>
              <a:t>-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003640" y="4005360"/>
            <a:ext cx="50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Arial"/>
              </a:rPr>
              <a:t>-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050920" y="4508640"/>
            <a:ext cx="50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Arial"/>
              </a:rPr>
              <a:t>-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148360" y="508464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Arial"/>
              </a:rPr>
              <a:t>-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2916360" y="2276640"/>
            <a:ext cx="180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Arial"/>
              </a:rPr>
              <a:t>паде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2771640" y="2637000"/>
            <a:ext cx="201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Arial"/>
              </a:rPr>
              <a:t>склон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627280" y="2924280"/>
            <a:ext cx="215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Arial"/>
              </a:rPr>
              <a:t>оконч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763640" y="3213000"/>
            <a:ext cx="19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Arial"/>
              </a:rPr>
              <a:t>падеж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5" dur="1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5" dur="500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0" dur="500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5" dur="500"/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0" dur="500"/>
                                        <p:tgtEl>
                                          <p:spTgt spid="3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5" dur="500"/>
                                        <p:tgtEl>
                                          <p:spTgt spid="3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0" dur="500"/>
                                        <p:tgtEl>
                                          <p:spTgt spid="3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7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4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1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8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3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8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3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8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3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Летом бродит без дороге  между сосен и берёз, 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имой он спит в берлоги, от мороза прячет но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тоял на тонкой ножки, теперь лежит в лукош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егу я как по лесенки, по камушкам звеня. Издалек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 песенки узнаете мен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>
            <a:hlinkClick r:id="rId2" action="ppaction://hlinksldjump"/>
          </p:cNvPr>
          <p:cNvSpPr/>
          <p:nvPr/>
        </p:nvSpPr>
        <p:spPr>
          <a:xfrm>
            <a:off x="8172360" y="6237360"/>
            <a:ext cx="432000" cy="287280"/>
          </a:xfrm>
          <a:custGeom>
            <a:avLst/>
            <a:gdLst>
              <a:gd name="textAreaLeft" fmla="*/ 18360 w 432000"/>
              <a:gd name="textAreaRight" fmla="*/ 413640 w 43200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2468" h="21600">
                <a:moveTo>
                  <a:pt x="0" y="0"/>
                </a:moveTo>
                <a:lnTo>
                  <a:pt x="32468" y="0"/>
                </a:lnTo>
                <a:lnTo>
                  <a:pt x="32468" y="21600"/>
                </a:lnTo>
                <a:lnTo>
                  <a:pt x="0" y="21600"/>
                </a:lnTo>
                <a:close/>
              </a:path>
              <a:path fill="lightenLess" w="32468" h="21600">
                <a:moveTo>
                  <a:pt x="0" y="0"/>
                </a:moveTo>
                <a:lnTo>
                  <a:pt x="32468" y="0"/>
                </a:lnTo>
                <a:lnTo>
                  <a:pt x="31068" y="1400"/>
                </a:lnTo>
                <a:lnTo>
                  <a:pt x="1400" y="1400"/>
                </a:lnTo>
                <a:close/>
              </a:path>
              <a:path fill="darken" w="32468" h="21600">
                <a:moveTo>
                  <a:pt x="32468" y="0"/>
                </a:moveTo>
                <a:lnTo>
                  <a:pt x="32468" y="21600"/>
                </a:lnTo>
                <a:lnTo>
                  <a:pt x="31068" y="20200"/>
                </a:lnTo>
                <a:lnTo>
                  <a:pt x="31068" y="1400"/>
                </a:lnTo>
                <a:close/>
              </a:path>
              <a:path fill="darkenLess" w="32468" h="21600">
                <a:moveTo>
                  <a:pt x="324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68" y="20200"/>
                </a:lnTo>
                <a:close/>
              </a:path>
              <a:path fill="lighten" w="324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68" h="21600">
                <a:moveTo>
                  <a:pt x="9227" y="10800"/>
                </a:moveTo>
                <a:lnTo>
                  <a:pt x="23240" y="3794"/>
                </a:lnTo>
                <a:lnTo>
                  <a:pt x="2324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1187280" y="189000"/>
            <a:ext cx="6624720" cy="122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Исправь ошибки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4284360" y="2133720"/>
            <a:ext cx="214200" cy="287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 flipH="1">
            <a:off x="4140000" y="2565360"/>
            <a:ext cx="214200" cy="287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3924000" y="2997360"/>
            <a:ext cx="214200" cy="287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 flipH="1">
            <a:off x="7596000" y="2997360"/>
            <a:ext cx="214200" cy="287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2268360" y="3860640"/>
            <a:ext cx="214560" cy="28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3779640" y="3429000"/>
            <a:ext cx="214200" cy="287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3708360" y="314172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284720" y="170028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924360" y="270828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140360" y="227664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7451640" y="270828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2195640" y="357336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8" name="" descr=""/>
          <p:cNvPicPr/>
          <p:nvPr/>
        </p:nvPicPr>
        <p:blipFill>
          <a:blip r:embed="rId5"/>
          <a:stretch/>
        </p:blipFill>
        <p:spPr>
          <a:xfrm>
            <a:off x="826920" y="4437000"/>
            <a:ext cx="1636920" cy="2089080"/>
          </a:xfrm>
          <a:prstGeom prst="rect">
            <a:avLst/>
          </a:prstGeom>
          <a:ln w="0">
            <a:noFill/>
          </a:ln>
        </p:spPr>
      </p:pic>
      <p:pic>
        <p:nvPicPr>
          <p:cNvPr id="409" name="" descr=""/>
          <p:cNvPicPr/>
          <p:nvPr/>
        </p:nvPicPr>
        <p:blipFill>
          <a:blip r:embed="rId6"/>
          <a:stretch/>
        </p:blipFill>
        <p:spPr>
          <a:xfrm>
            <a:off x="3419640" y="4437000"/>
            <a:ext cx="2016000" cy="1976400"/>
          </a:xfrm>
          <a:prstGeom prst="rect">
            <a:avLst/>
          </a:prstGeom>
          <a:ln w="0">
            <a:noFill/>
          </a:ln>
        </p:spPr>
      </p:pic>
      <p:pic>
        <p:nvPicPr>
          <p:cNvPr id="410" name="" descr=""/>
          <p:cNvPicPr/>
          <p:nvPr/>
        </p:nvPicPr>
        <p:blipFill>
          <a:blip r:embed="rId7"/>
          <a:stretch/>
        </p:blipFill>
        <p:spPr>
          <a:xfrm>
            <a:off x="6084720" y="4437000"/>
            <a:ext cx="2205360" cy="18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53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2" dur="500"/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53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9" dur="500"/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53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3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3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3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53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3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3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3" dur="500"/>
                                        <p:tgtEl>
                                          <p:spTgt spid="3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53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3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3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0" dur="500"/>
                                        <p:tgtEl>
                                          <p:spTgt spid="3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8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6" dur="1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4" dur="1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2" dur="1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7" dur="1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6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1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8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0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5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4" dur="1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9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6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8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3" dur="1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4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2" dur="1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7" dur="1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8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4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6" dur="1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 txBox="1"/>
          <p:nvPr/>
        </p:nvSpPr>
        <p:spPr>
          <a:xfrm>
            <a:off x="1763640" y="3068640"/>
            <a:ext cx="5400720" cy="133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Урок окончен!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7" dur="indefinite" restart="never" nodeType="tmRoot">
          <p:childTnLst>
            <p:seq>
              <p:cTn id="668" dur="indefinite" nodeType="mainSeq">
                <p:childTnLst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8" repeatCount="2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3" dur="3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3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Как определить падеж имени существительного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33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33"/>
                </a:solidFill>
                <a:latin typeface="Arial"/>
              </a:rPr>
              <a:t>Падеж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менительный      кто? чт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одительный         кого? чег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ательный             кому? чем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инительный         кого? чт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ворительный       кем? че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едложный          о ком? о чё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>
            <a:hlinkClick r:id="" action="ppaction://hlinkshowjump?jump=previousslide"/>
          </p:cNvPr>
          <p:cNvSpPr/>
          <p:nvPr/>
        </p:nvSpPr>
        <p:spPr>
          <a:xfrm>
            <a:off x="8604360" y="6308640"/>
            <a:ext cx="217440" cy="216000"/>
          </a:xfrm>
          <a:custGeom>
            <a:avLst/>
            <a:gdLst>
              <a:gd name="textAreaLeft" fmla="*/ 13680 w 217440"/>
              <a:gd name="textAreaRight" fmla="*/ 203760 w 2174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1744" h="21600">
                <a:moveTo>
                  <a:pt x="0" y="0"/>
                </a:moveTo>
                <a:lnTo>
                  <a:pt x="21744" y="0"/>
                </a:lnTo>
                <a:lnTo>
                  <a:pt x="21744" y="21600"/>
                </a:lnTo>
                <a:lnTo>
                  <a:pt x="0" y="21600"/>
                </a:lnTo>
                <a:close/>
              </a:path>
              <a:path fill="lightenLess" w="21744" h="21600">
                <a:moveTo>
                  <a:pt x="0" y="0"/>
                </a:moveTo>
                <a:lnTo>
                  <a:pt x="21744" y="0"/>
                </a:lnTo>
                <a:lnTo>
                  <a:pt x="20344" y="1400"/>
                </a:lnTo>
                <a:lnTo>
                  <a:pt x="1400" y="1400"/>
                </a:lnTo>
                <a:close/>
              </a:path>
              <a:path fill="darken" w="21744" h="21600">
                <a:moveTo>
                  <a:pt x="21744" y="0"/>
                </a:moveTo>
                <a:lnTo>
                  <a:pt x="21744" y="21600"/>
                </a:lnTo>
                <a:lnTo>
                  <a:pt x="20344" y="20200"/>
                </a:lnTo>
                <a:lnTo>
                  <a:pt x="20344" y="1400"/>
                </a:lnTo>
                <a:close/>
              </a:path>
              <a:path fill="darkenLess" w="21744" h="21600">
                <a:moveTo>
                  <a:pt x="217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44" y="20200"/>
                </a:lnTo>
                <a:close/>
              </a:path>
              <a:path fill="lighten" w="217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744" h="21600">
                <a:moveTo>
                  <a:pt x="3865" y="10800"/>
                </a:moveTo>
                <a:lnTo>
                  <a:pt x="17878" y="3794"/>
                </a:lnTo>
                <a:lnTo>
                  <a:pt x="1787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  <p:sndAc>
      <p:stSnd>
        <p:snd r:embed="rId2" name="arrow.wav"/>
      </p:stSnd>
    </p:sndAc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8">
                                  <p:stCondLst>
                                    <p:cond delay="50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1" dur="500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6" dur="500"/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2" presetSubtype="8">
                                  <p:stCondLst>
                                    <p:cond delay="50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1" dur="500"/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22" presetSubtype="8">
                                  <p:stCondLst>
                                    <p:cond delay="50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6" dur="500"/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2" presetSubtype="8">
                                  <p:stCondLst>
                                    <p:cond delay="50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1" dur="500"/>
                                        <p:tgtEl>
                                          <p:spTgt spid="4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2" presetSubtype="8">
                                  <p:stCondLst>
                                    <p:cond delay="50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6" dur="500"/>
                                        <p:tgtEl>
                                          <p:spTgt spid="4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2" presetSubtype="8">
                                  <p:stCondLst>
                                    <p:cond delay="50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1" dur="500"/>
                                        <p:tgtEl>
                                          <p:spTgt spid="4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mph" presetID="3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715" dur="500" fill="hold"/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716" nodeType="withEffect" fill="hold" presetClass="emph" presetID="3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717" dur="500" fill="hold"/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718" nodeType="withEffect" fill="hold" presetClass="emph" presetID="3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719" dur="500" fill="hold"/>
                                        <p:tgtEl>
                                          <p:spTgt spid="4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Как определить склонение имени существительного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6" name=""/>
          <p:cNvGraphicFramePr/>
          <p:nvPr/>
        </p:nvGraphicFramePr>
        <p:xfrm>
          <a:off x="250920" y="2060640"/>
          <a:ext cx="8517960" cy="3168720"/>
        </p:xfrm>
        <a:graphic>
          <a:graphicData uri="http://schemas.openxmlformats.org/drawingml/2006/table">
            <a:tbl>
              <a:tblPr/>
              <a:tblGrid>
                <a:gridCol w="2839320"/>
                <a:gridCol w="2839320"/>
                <a:gridCol w="2839320"/>
              </a:tblGrid>
              <a:tr h="68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 склонение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2 склонение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3 склонение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8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7" name="">
            <a:hlinkClick r:id="" action="ppaction://hlinkshowjump?jump=previousslide"/>
          </p:cNvPr>
          <p:cNvSpPr/>
          <p:nvPr/>
        </p:nvSpPr>
        <p:spPr>
          <a:xfrm>
            <a:off x="8532720" y="6237360"/>
            <a:ext cx="287280" cy="28728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250920" y="2781360"/>
            <a:ext cx="288108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уществительные мужского и женского рода с окончаниями -а, -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348000" y="2781360"/>
            <a:ext cx="2664000" cy="23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уществительные мужского рода с нулевым окончанием и среднего рода с окончаниями -о,-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5940360" y="2781360"/>
            <a:ext cx="280836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уществительные женского рода с мягким знаком на конц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720" dur="indefinite" restart="never" nodeType="tmRoot">
          <p:childTnLst>
            <p:seq>
              <p:cTn id="721" dur="indefinite" nodeType="mainSeq">
                <p:childTnLst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6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8" dur="1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3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5" dur="1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0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2" dur="1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7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9" dur="1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66ff"/>
                </a:solidFill>
                <a:latin typeface="Arial"/>
              </a:rPr>
              <a:t>Окончания имён существительны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2" name=""/>
          <p:cNvGraphicFramePr/>
          <p:nvPr/>
        </p:nvGraphicFramePr>
        <p:xfrm>
          <a:off x="457200" y="1600200"/>
          <a:ext cx="8229600" cy="4525560"/>
        </p:xfrm>
        <a:graphic>
          <a:graphicData uri="http://schemas.openxmlformats.org/drawingml/2006/table">
            <a:tbl>
              <a:tblPr/>
              <a:tblGrid>
                <a:gridCol w="1646280"/>
                <a:gridCol w="2612880"/>
                <a:gridCol w="1295640"/>
                <a:gridCol w="1368360"/>
                <a:gridCol w="1306440"/>
              </a:tblGrid>
              <a:tr h="9496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Падеж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Вопрос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Окончан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36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-е скл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2-е скл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3-е скл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9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. п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. п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. п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3" name=""/>
          <p:cNvSpPr/>
          <p:nvPr/>
        </p:nvSpPr>
        <p:spPr>
          <a:xfrm>
            <a:off x="2195640" y="3429000"/>
            <a:ext cx="23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ого? чего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2340000" y="393372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ому? чему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2124000" y="4508640"/>
            <a:ext cx="25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 ком? о чём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5148360" y="3429000"/>
            <a:ext cx="93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-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372360" y="443700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-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148360" y="393372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-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148360" y="443700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-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96360" y="4437000"/>
            <a:ext cx="93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-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7596360" y="3933720"/>
            <a:ext cx="93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-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7596360" y="3429000"/>
            <a:ext cx="93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-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>
            <a:hlinkClick r:id="" action="ppaction://hlinkshowjump?jump=previousslide"/>
          </p:cNvPr>
          <p:cNvSpPr/>
          <p:nvPr/>
        </p:nvSpPr>
        <p:spPr>
          <a:xfrm>
            <a:off x="8532720" y="638172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6537" y="10800"/>
                </a:moveTo>
                <a:lnTo>
                  <a:pt x="20550" y="3794"/>
                </a:lnTo>
                <a:lnTo>
                  <a:pt x="2055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0" dur="indefinite" restart="never" nodeType="tmRoot">
          <p:childTnLst>
            <p:seq>
              <p:cTn id="751" dur="indefinite" nodeType="mainSeq">
                <p:childTnLst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6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8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3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5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0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2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7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9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4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6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1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3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0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250920" y="1699920"/>
            <a:ext cx="822960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Ч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ча  чу  чк  ч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1979640" y="404640"/>
            <a:ext cx="5113440" cy="876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0">
                  <a:noFill/>
                </a:ln>
                <a:solidFill>
                  <a:srgbClr val="008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  </a:t>
            </a:r>
            <a:r>
              <a:rPr b="0" lang="en-US" sz="4800" spc="1" strike="noStrike">
                <a:ln w="0">
                  <a:noFill/>
                </a:ln>
                <a:solidFill>
                  <a:srgbClr val="008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Чистописание</a:t>
            </a:r>
            <a:endParaRPr b="0" lang="en-US" sz="4800" spc="1" strike="noStrike">
              <a:ln w="0">
                <a:noFill/>
              </a:ln>
              <a:solidFill>
                <a:srgbClr val="0080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68360" y="1700280"/>
            <a:ext cx="144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вра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68360" y="2133720"/>
            <a:ext cx="15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цирка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468360" y="263700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скрипа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116000" y="2205000"/>
            <a:ext cx="289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476360" y="2637000"/>
            <a:ext cx="289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692360" y="3141720"/>
            <a:ext cx="288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5724360" y="2133720"/>
            <a:ext cx="2521080" cy="25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2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2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2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2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2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2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47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" descr=""/>
          <p:cNvPicPr/>
          <p:nvPr/>
        </p:nvPicPr>
        <p:blipFill>
          <a:blip r:embed="rId2"/>
          <a:stretch/>
        </p:blipFill>
        <p:spPr>
          <a:xfrm>
            <a:off x="5579640" y="1915920"/>
            <a:ext cx="3102120" cy="4238280"/>
          </a:xfrm>
          <a:prstGeom prst="rect">
            <a:avLst/>
          </a:prstGeom>
          <a:ln w="0">
            <a:noFill/>
          </a:ln>
        </p:spPr>
      </p:pic>
      <p:sp>
        <p:nvSpPr>
          <p:cNvPr id="306" name=""/>
          <p:cNvSpPr txBox="1"/>
          <p:nvPr/>
        </p:nvSpPr>
        <p:spPr>
          <a:xfrm>
            <a:off x="1763640" y="404640"/>
            <a:ext cx="5113440" cy="930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ловарная работа.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971640" y="1844640"/>
            <a:ext cx="30956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ч..л..век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1476360" y="1844640"/>
            <a:ext cx="344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8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е</a:t>
            </a:r>
            <a:endParaRPr b="0" lang="en-US" sz="1800" spc="1" strike="noStrike">
              <a:ln w="0">
                <a:noFill/>
              </a:ln>
              <a:solidFill>
                <a:srgbClr val="008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2340000" y="1844640"/>
            <a:ext cx="396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8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</a:t>
            </a:r>
            <a:endParaRPr b="0" lang="en-US" sz="1800" spc="1" strike="noStrike">
              <a:ln w="0">
                <a:noFill/>
              </a:ln>
              <a:solidFill>
                <a:srgbClr val="008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3492360" y="1484280"/>
            <a:ext cx="216000" cy="287280"/>
          </a:xfrm>
          <a:prstGeom prst="line">
            <a:avLst/>
          </a:prstGeom>
          <a:ln w="507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5"/>
          <a:stretch/>
        </p:blipFill>
        <p:spPr>
          <a:xfrm>
            <a:off x="250920" y="5084640"/>
            <a:ext cx="977760" cy="1368720"/>
          </a:xfrm>
          <a:prstGeom prst="rect">
            <a:avLst/>
          </a:prstGeom>
          <a:ln w="0">
            <a:noFill/>
          </a:ln>
        </p:spPr>
      </p:pic>
      <p:pic>
        <p:nvPicPr>
          <p:cNvPr id="312" name="" descr=""/>
          <p:cNvPicPr/>
          <p:nvPr/>
        </p:nvPicPr>
        <p:blipFill>
          <a:blip r:embed="rId6"/>
          <a:stretch/>
        </p:blipFill>
        <p:spPr>
          <a:xfrm>
            <a:off x="4067280" y="5084640"/>
            <a:ext cx="1366560" cy="1114560"/>
          </a:xfrm>
          <a:prstGeom prst="rect">
            <a:avLst/>
          </a:prstGeom>
          <a:ln w="0">
            <a:noFill/>
          </a:ln>
        </p:spPr>
      </p:pic>
      <p:pic>
        <p:nvPicPr>
          <p:cNvPr id="313" name="" descr=""/>
          <p:cNvPicPr/>
          <p:nvPr/>
        </p:nvPicPr>
        <p:blipFill>
          <a:blip r:embed="rId7"/>
          <a:stretch/>
        </p:blipFill>
        <p:spPr>
          <a:xfrm>
            <a:off x="6084720" y="2133720"/>
            <a:ext cx="2482920" cy="3527280"/>
          </a:xfrm>
          <a:prstGeom prst="rect">
            <a:avLst/>
          </a:prstGeom>
          <a:ln w="0">
            <a:noFill/>
          </a:ln>
        </p:spPr>
      </p:pic>
      <p:sp>
        <p:nvSpPr>
          <p:cNvPr id="314" name=""/>
          <p:cNvSpPr/>
          <p:nvPr/>
        </p:nvSpPr>
        <p:spPr>
          <a:xfrm>
            <a:off x="0" y="1582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0" y="364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440" y="5012640"/>
            <a:ext cx="961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781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" name="" descr=""/>
          <p:cNvPicPr/>
          <p:nvPr/>
        </p:nvPicPr>
        <p:blipFill>
          <a:blip r:embed="rId8"/>
          <a:stretch/>
        </p:blipFill>
        <p:spPr>
          <a:xfrm>
            <a:off x="5940360" y="2276640"/>
            <a:ext cx="2379600" cy="3403440"/>
          </a:xfrm>
          <a:prstGeom prst="rect">
            <a:avLst/>
          </a:prstGeom>
          <a:ln w="0">
            <a:noFill/>
          </a:ln>
        </p:spPr>
      </p:pic>
      <p:pic>
        <p:nvPicPr>
          <p:cNvPr id="318" name="" descr=""/>
          <p:cNvPicPr/>
          <p:nvPr/>
        </p:nvPicPr>
        <p:blipFill>
          <a:blip r:embed="rId9"/>
          <a:stretch/>
        </p:blipFill>
        <p:spPr>
          <a:xfrm>
            <a:off x="1332000" y="3213000"/>
            <a:ext cx="252072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ru-RU" sz="3200" spc="-1" strike="noStrike">
                <a:solidFill>
                  <a:srgbClr val="00cc00"/>
                </a:solidFill>
                <a:latin typeface="Arial"/>
              </a:rPr>
              <a:t>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</a:t>
            </a:r>
            <a:r>
              <a:rPr b="0" lang="ru-RU" sz="3200" spc="-1" strike="noStrike">
                <a:solidFill>
                  <a:srgbClr val="00cc00"/>
                </a:solidFill>
                <a:latin typeface="Arial"/>
              </a:rPr>
              <a:t>о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ек,ч</a:t>
            </a:r>
            <a:r>
              <a:rPr b="0" lang="ru-RU" sz="3200" spc="-1" strike="noStrike">
                <a:solidFill>
                  <a:srgbClr val="00cc00"/>
                </a:solidFill>
                <a:latin typeface="Arial"/>
              </a:rPr>
              <a:t>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</a:t>
            </a:r>
            <a:r>
              <a:rPr b="0" lang="ru-RU" sz="3200" spc="-1" strike="noStrike">
                <a:solidFill>
                  <a:srgbClr val="00cc00"/>
                </a:solidFill>
                <a:latin typeface="Arial"/>
              </a:rPr>
              <a:t>о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еческий, ч</a:t>
            </a:r>
            <a:r>
              <a:rPr b="0" lang="ru-RU" sz="3200" spc="-1" strike="noStrike">
                <a:solidFill>
                  <a:srgbClr val="00cc00"/>
                </a:solidFill>
                <a:latin typeface="Arial"/>
              </a:rPr>
              <a:t>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</a:t>
            </a:r>
            <a:r>
              <a:rPr b="0" lang="ru-RU" sz="3200" spc="-1" strike="noStrike">
                <a:solidFill>
                  <a:srgbClr val="00cc00"/>
                </a:solidFill>
                <a:latin typeface="Arial"/>
              </a:rPr>
              <a:t>о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ечек, ч</a:t>
            </a:r>
            <a:r>
              <a:rPr b="0" lang="ru-RU" sz="3200" spc="-1" strike="noStrike">
                <a:solidFill>
                  <a:srgbClr val="00cc00"/>
                </a:solidFill>
                <a:latin typeface="Arial"/>
              </a:rPr>
              <a:t>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</a:t>
            </a:r>
            <a:r>
              <a:rPr b="0" lang="ru-RU" sz="3200" spc="-1" strike="noStrike">
                <a:solidFill>
                  <a:srgbClr val="00cc00"/>
                </a:solidFill>
                <a:latin typeface="Arial"/>
              </a:rPr>
              <a:t>о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еколюб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132000" y="3645000"/>
            <a:ext cx="503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1692360" y="189000"/>
            <a:ext cx="5113080" cy="930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ловарная работа.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23" name=""/>
          <p:cNvSpPr/>
          <p:nvPr/>
        </p:nvSpPr>
        <p:spPr>
          <a:xfrm>
            <a:off x="468360" y="3933720"/>
            <a:ext cx="79912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Человек от лени болеет, а от труда здорове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826920" y="436572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00"/>
                </a:solidFill>
                <a:latin typeface="Arial"/>
              </a:rPr>
              <a:t>сущ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1908000" y="436572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00"/>
                </a:solidFill>
                <a:latin typeface="Arial"/>
              </a:rPr>
              <a:t>п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2411280" y="436572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00"/>
                </a:solidFill>
                <a:latin typeface="Arial"/>
              </a:rPr>
              <a:t>сущ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276720" y="4365720"/>
            <a:ext cx="9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00"/>
                </a:solidFill>
                <a:latin typeface="Arial"/>
              </a:rPr>
              <a:t>г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572000" y="436572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00"/>
                </a:solidFill>
                <a:latin typeface="Arial"/>
              </a:rPr>
              <a:t>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4859280" y="436572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00"/>
                </a:solidFill>
                <a:latin typeface="Arial"/>
              </a:rPr>
              <a:t>п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508720" y="436572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00"/>
                </a:solidFill>
                <a:latin typeface="Arial"/>
              </a:rPr>
              <a:t>сущ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588000" y="436572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00"/>
                </a:solidFill>
                <a:latin typeface="Arial"/>
              </a:rPr>
              <a:t>г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7310880" y="4149360"/>
            <a:ext cx="58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○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926160" y="4149360"/>
            <a:ext cx="58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○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611280" y="5084640"/>
            <a:ext cx="1224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203640" y="5157720"/>
            <a:ext cx="1295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6659640" y="5084640"/>
            <a:ext cx="1295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6659640" y="5013360"/>
            <a:ext cx="1295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2556000" y="1628640"/>
            <a:ext cx="30956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ч..л..век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3059280" y="1628640"/>
            <a:ext cx="34416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8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е</a:t>
            </a:r>
            <a:endParaRPr b="0" lang="en-US" sz="1800" spc="1" strike="noStrike">
              <a:ln w="0">
                <a:noFill/>
              </a:ln>
              <a:solidFill>
                <a:srgbClr val="008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3924360" y="1628640"/>
            <a:ext cx="39672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8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</a:t>
            </a:r>
            <a:endParaRPr b="0" lang="en-US" sz="1800" spc="1" strike="noStrike">
              <a:ln w="0">
                <a:noFill/>
              </a:ln>
              <a:solidFill>
                <a:srgbClr val="008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635280" y="4797360"/>
            <a:ext cx="64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 flipH="1">
            <a:off x="5076720" y="1197000"/>
            <a:ext cx="216000" cy="287280"/>
          </a:xfrm>
          <a:prstGeom prst="line">
            <a:avLst/>
          </a:prstGeom>
          <a:ln w="507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3203640" y="5084640"/>
            <a:ext cx="1295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918720" y="2637000"/>
            <a:ext cx="1558800" cy="1231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38" y="6877"/>
                </a:moveTo>
                <a:arcTo wR="10800" hR="10800" stAng="-9521955" swAng="8092444"/>
                <a:lnTo>
                  <a:pt x="10800" y="10800"/>
                </a:lnTo>
                <a:close/>
              </a:path>
              <a:path fill="none" w="21600" h="21600">
                <a:moveTo>
                  <a:pt x="738" y="6877"/>
                </a:moveTo>
                <a:arcTo wR="10800" hR="10800" stAng="-9521955" swAng="8092444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918720" y="3141720"/>
            <a:ext cx="1558800" cy="1231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38" y="6877"/>
                </a:moveTo>
                <a:arcTo wR="10800" hR="10800" stAng="-9521955" swAng="8092444"/>
                <a:lnTo>
                  <a:pt x="10800" y="10800"/>
                </a:lnTo>
                <a:close/>
              </a:path>
              <a:path fill="none" w="21600" h="21600">
                <a:moveTo>
                  <a:pt x="738" y="6877"/>
                </a:moveTo>
                <a:arcTo wR="10800" hR="10800" stAng="-9521955" swAng="8092444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455800" y="2565360"/>
            <a:ext cx="1558800" cy="1231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38" y="6877"/>
                </a:moveTo>
                <a:arcTo wR="10800" hR="10800" stAng="-9521955" swAng="8092444"/>
                <a:lnTo>
                  <a:pt x="10800" y="10800"/>
                </a:lnTo>
                <a:close/>
              </a:path>
              <a:path fill="none" w="21600" h="21600">
                <a:moveTo>
                  <a:pt x="738" y="6877"/>
                </a:moveTo>
                <a:arcTo wR="10800" hR="10800" stAng="-9521955" swAng="8092444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2574360" y="2565360"/>
            <a:ext cx="1559160" cy="1231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38" y="6877"/>
                </a:moveTo>
                <a:arcTo wR="10800" hR="10800" stAng="-9521955" swAng="8092444"/>
                <a:lnTo>
                  <a:pt x="10800" y="10800"/>
                </a:lnTo>
                <a:close/>
              </a:path>
              <a:path fill="none" w="21600" h="21600">
                <a:moveTo>
                  <a:pt x="738" y="6877"/>
                </a:moveTo>
                <a:arcTo wR="10800" hR="10800" stAng="-9521955" swAng="8092444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8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7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50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1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4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9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4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9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11280" y="1413000"/>
            <a:ext cx="7772400" cy="28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9933"/>
                </a:solidFill>
                <a:latin typeface="Times New Roman"/>
              </a:rPr>
              <a:t>Правописание безударных окончаний имён существительных в родительном, дательном и предложном падежах</a:t>
            </a:r>
            <a:r>
              <a:rPr b="0" lang="en-US" sz="4800" spc="-1" strike="noStrike">
                <a:solidFill>
                  <a:srgbClr val="ff3300"/>
                </a:solidFill>
                <a:latin typeface="Times New Roman"/>
              </a:rPr>
              <a:t>.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476360" y="4581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00"/>
                </a:solidFill>
                <a:latin typeface="Times New Roman"/>
              </a:rPr>
              <a:t>Закрепление изученного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50920" y="333360"/>
            <a:ext cx="8534160" cy="24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00"/>
                </a:solidFill>
                <a:latin typeface="Arial"/>
              </a:rPr>
              <a:t>Что нужно знать, чтобы правильно написать безударное окончание существительного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68360" y="292428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1. Определить падеж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2. Определить склон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3. Вспомнить окончание существительного в нужном падеж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5"/>
          <a:stretch/>
        </p:blipFill>
        <p:spPr>
          <a:xfrm>
            <a:off x="7093080" y="1700280"/>
            <a:ext cx="1488960" cy="148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5" dur="80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0,8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6" dur="80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7" dur="80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2" dur="80"/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0,8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3" dur="80"/>
                                        <p:tgtEl>
                                          <p:spTgt spid="3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4" dur="80"/>
                                        <p:tgtEl>
                                          <p:spTgt spid="3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9" dur="80"/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0,8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0" dur="80"/>
                                        <p:tgtEl>
                                          <p:spTgt spid="3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1" dur="80"/>
                                        <p:tgtEl>
                                          <p:spTgt spid="3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1547640" y="2492280"/>
            <a:ext cx="5904000" cy="17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Физкультминутка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276200" cy="3600360"/>
          </a:xfrm>
          <a:prstGeom prst="rect">
            <a:avLst/>
          </a:prstGeom>
          <a:ln w="0">
            <a:noFill/>
          </a:ln>
        </p:spPr>
      </p:pic>
      <p:pic>
        <p:nvPicPr>
          <p:cNvPr id="359" name="" descr=""/>
          <p:cNvPicPr/>
          <p:nvPr/>
        </p:nvPicPr>
        <p:blipFill>
          <a:blip r:embed="rId4"/>
          <a:stretch/>
        </p:blipFill>
        <p:spPr>
          <a:xfrm>
            <a:off x="7307280" y="4076640"/>
            <a:ext cx="1836720" cy="2592360"/>
          </a:xfrm>
          <a:prstGeom prst="rect">
            <a:avLst/>
          </a:prstGeom>
          <a:ln w="0">
            <a:noFill/>
          </a:ln>
        </p:spPr>
      </p:pic>
      <p:pic>
        <p:nvPicPr>
          <p:cNvPr id="360" name="" descr=""/>
          <p:cNvPicPr/>
          <p:nvPr/>
        </p:nvPicPr>
        <p:blipFill>
          <a:blip r:embed="rId5"/>
          <a:stretch/>
        </p:blipFill>
        <p:spPr>
          <a:xfrm>
            <a:off x="3635280" y="2349360"/>
            <a:ext cx="1094040" cy="32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8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15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5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3 0.00278 L 0.0033 -0.33017 E">
                                      <p:cBhvr>
                                        <p:cTn id="310" dur="2000" fill="hold"/>
                                        <p:tgtEl>
                                          <p:spTgt spid="3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1" nodeType="withEffect" fill="hold" presetClass="path" presetID="42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295 E">
                                      <p:cBhvr>
                                        <p:cTn id="312" dur="500" fill="hold"/>
                                        <p:tgtEl>
                                          <p:spTgt spid="3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Arial"/>
              </a:rPr>
              <a:t>Закрепление изученного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) Воротился старик ко …………, у ………..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овое корыто. 2) Они жили в ветхой ……………… 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) В синем ………… звёзды блещут, в синем …………..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олны плещут. 4) Пушки с……………… палят, кораблю пристать велят.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1187280" y="1557360"/>
            <a:ext cx="1008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4211640" y="1557360"/>
            <a:ext cx="16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старух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5867280" y="155736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старух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5796000" y="198900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землян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2124000" y="242100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мор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6948360" y="242100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неб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356000" y="285264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приста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0" name="" descr=""/>
          <p:cNvPicPr/>
          <p:nvPr/>
        </p:nvPicPr>
        <p:blipFill>
          <a:blip r:embed="rId2"/>
          <a:stretch/>
        </p:blipFill>
        <p:spPr>
          <a:xfrm>
            <a:off x="6084720" y="3716280"/>
            <a:ext cx="220032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500"/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500"/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2" dur="500"/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6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3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7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4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00"/>
                </a:solidFill>
                <a:latin typeface="Times New Roman"/>
              </a:rPr>
              <a:t>с. 104 упр. 234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1116000" y="1557360"/>
            <a:ext cx="5548320" cy="85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Домашнее задание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376" name="" descr=""/>
          <p:cNvPicPr/>
          <p:nvPr/>
        </p:nvPicPr>
        <p:blipFill>
          <a:blip r:embed="rId4"/>
          <a:stretch/>
        </p:blipFill>
        <p:spPr>
          <a:xfrm>
            <a:off x="7020000" y="260280"/>
            <a:ext cx="1747800" cy="1693800"/>
          </a:xfrm>
          <a:prstGeom prst="rect">
            <a:avLst/>
          </a:prstGeom>
          <a:ln w="0">
            <a:noFill/>
          </a:ln>
        </p:spPr>
      </p:pic>
      <p:pic>
        <p:nvPicPr>
          <p:cNvPr id="377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7020000" y="5130720"/>
            <a:ext cx="1944720" cy="1324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0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03" dur="2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8" dur="80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9" dur="80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0" dur="80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1T12:11:04Z</dcterms:created>
  <dc:creator>M$L&amp;A</dc:creator>
  <dc:description/>
  <dc:language>en-US</dc:language>
  <cp:lastModifiedBy>M$L&amp;A</cp:lastModifiedBy>
  <dcterms:modified xsi:type="dcterms:W3CDTF">2005-11-25T14:08:53Z</dcterms:modified>
  <cp:revision>20</cp:revision>
  <dc:subject/>
  <dc:title>Слайд 1</dc:title>
</cp:coreProperties>
</file>