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1F2-090C-4D1B-8F7A-D37FDC4A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69A-E65E-418E-88D5-E45AA7C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264-46FE-4D84-B9D3-7C886634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A06-F5EB-4684-BAA1-3EF882AC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8DC0-0045-494A-B026-4892985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7E0B-639F-479F-A63F-683A5FA3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2B24-F03C-4C5E-8199-0C5E5BAE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314C-DFCA-4988-96DE-F9EE9909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6BB9-7C55-478E-BAF8-E81034BD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FBAB-232F-431F-AA47-67A5216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EF54-5683-4B8E-A120-A2CDEFE5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BA7-046D-4CCB-A74D-EBE2937C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3A45-835D-4C01-AEC5-3F53C59C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4B30-6417-42E7-8F5A-EEB2E36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2A71-670D-49CD-A5A9-DA57BBF2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693B-65E9-49A9-B305-2CE8FCAD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17A3-4339-44E7-AF59-B7FBFDB9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EB6-C21A-4445-B051-7CB1BB81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839-8A55-430C-AB1A-74B1C7AF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21D-F616-41E3-B35F-5493A428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EA2-39D1-410B-B74E-64096C57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353-33A9-4FA4-8E2E-0622AB0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AFB-38EE-410E-9DCA-2BC98F7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1C6-FC9C-4674-8E3F-F0084AB7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2B4C-AEA5-42BE-B440-86E31B339EE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459B-7F2C-495B-A905-31FF73D8D79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484360" y="260280"/>
            <a:ext cx="482616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кла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3429000"/>
            <a:ext cx="5111640" cy="324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1609920" cy="28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356000" y="2781360"/>
            <a:ext cx="4524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бавные живот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3803760"/>
            <a:ext cx="2843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Brush Script MT"/>
              </a:rPr>
              <a:t>Продаются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de Latin"/>
              </a:rPr>
              <a:t>кролики недорого, отдаем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de Latin"/>
              </a:rPr>
              <a:t>доброму хозяину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de Latin"/>
              </a:rPr>
              <a:t>Всего за </a:t>
            </a:r>
            <a:r>
              <a:rPr b="0" lang="en-US" sz="2400" spc="-1" strike="noStrike">
                <a:solidFill>
                  <a:srgbClr val="ff0000"/>
                </a:solidFill>
                <a:latin typeface="Wide Latin"/>
              </a:rPr>
              <a:t>800</a:t>
            </a:r>
            <a:r>
              <a:rPr b="0" lang="en-US" sz="2400" spc="-1" strike="noStrike">
                <a:solidFill>
                  <a:srgbClr val="006699"/>
                </a:solidFill>
                <a:latin typeface="Wide Latin"/>
              </a:rPr>
              <a:t> руб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907920"/>
            <a:ext cx="1440000" cy="16574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464200">
            <a:off x="-176040" y="3386160"/>
            <a:ext cx="3240000" cy="2663640"/>
          </a:xfrm>
          <a:prstGeom prst="irregularSeal2">
            <a:avLst/>
          </a:prstGeom>
          <a:solidFill>
            <a:srgbClr val="ff99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oor Richard"/>
              </a:rPr>
              <a:t>Скидка </a:t>
            </a:r>
            <a:r>
              <a:rPr b="0" lang="en-US" sz="2800" spc="-1" strike="noStrike">
                <a:solidFill>
                  <a:srgbClr val="800000"/>
                </a:solidFill>
                <a:latin typeface="Poor Richard"/>
              </a:rPr>
              <a:t>50%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6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900"/>
                            </p:stCondLst>
                            <p:childTnLst>
                              <p:par>
                                <p:cTn id="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900"/>
                            </p:stCondLst>
                            <p:childTnLst>
                              <p:par>
                                <p:cTn id="60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900"/>
                            </p:stCondLst>
                            <p:childTnLst>
                              <p:par>
                                <p:cTn id="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900"/>
                            </p:stCondLst>
                            <p:childTnLst>
                              <p:par>
                                <p:cTn id="7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900"/>
                            </p:stCondLst>
                            <p:childTnLst>
                              <p:par>
                                <p:cTn id="79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900"/>
                            </p:stCondLst>
                            <p:childTnLst>
                              <p:par>
                                <p:cTn id="85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400"/>
                            </p:stCondLst>
                            <p:childTnLst>
                              <p:par>
                                <p:cTn id="92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400"/>
                            </p:stCondLst>
                            <p:childTnLst>
                              <p:par>
                                <p:cTn id="98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0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0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6200"/>
                            </p:stCondLst>
                            <p:childTnLst>
                              <p:par>
                                <p:cTn id="11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1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767280" cy="528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24360" y="692280"/>
            <a:ext cx="2592360" cy="1800000"/>
          </a:xfrm>
          <a:prstGeom prst="cloudCallout">
            <a:avLst>
              <a:gd name="adj1" fmla="val -44000"/>
              <a:gd name="adj2" fmla="val 73546"/>
            </a:avLst>
          </a:prstGeom>
          <a:solidFill>
            <a:srgbClr val="deebee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Хорошо когда дома!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можно поспать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2205000"/>
            <a:ext cx="1584360" cy="936720"/>
          </a:xfrm>
          <a:prstGeom prst="cloudCallout">
            <a:avLst>
              <a:gd name="adj1" fmla="val -103208"/>
              <a:gd name="adj2" fmla="val 4372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Чаво-чав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57880" y="189000"/>
            <a:ext cx="28861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ушистые котята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404640"/>
            <a:ext cx="194472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даём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 за низкие цен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Котят всего за 500 руб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66"/>
                </a:solidFill>
                <a:latin typeface="Verdana"/>
              </a:rPr>
              <a:t>Пушистые, голубо- глазы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66"/>
                </a:solidFill>
                <a:latin typeface="Verdana"/>
              </a:rPr>
              <a:t>5 месяцев, отдам в хорошие руки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 rot="5400000">
            <a:off x="5831640" y="2817000"/>
            <a:ext cx="453708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ищут хозяин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7000">
    <p:randomBa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25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250"/>
                            </p:stCondLst>
                            <p:childTnLst>
                              <p:par>
                                <p:cTn id="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250"/>
                            </p:stCondLst>
                            <p:childTnLst>
                              <p:par>
                                <p:cTn id="155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50"/>
                            </p:stCondLst>
                            <p:childTnLst>
                              <p:par>
                                <p:cTn id="167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050"/>
                            </p:stCondLst>
                            <p:childTnLst>
                              <p:par>
                                <p:cTn id="17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050"/>
                            </p:stCondLst>
                            <p:childTnLst>
                              <p:par>
                                <p:cTn id="179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 rot="658800">
            <a:off x="4788000" y="3284280"/>
            <a:ext cx="4064040" cy="30477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rot="21019200">
            <a:off x="1289160" y="2704680"/>
            <a:ext cx="3313080" cy="3510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979640" y="5516640"/>
            <a:ext cx="49417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дам в хорошие руки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4427640" y="3284640"/>
            <a:ext cx="2016000" cy="936360"/>
          </a:xfrm>
          <a:prstGeom prst="cloudCallout">
            <a:avLst>
              <a:gd name="adj1" fmla="val 45828"/>
              <a:gd name="adj2" fmla="val 1130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Ищу хозяина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776400">
            <a:off x="4284360" y="2204640"/>
            <a:ext cx="4532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ты+Соба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189000"/>
            <a:ext cx="86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Rage Italic"/>
              </a:rPr>
              <a:t>На Новом году эти забавные животные не должны находиться на улиц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Rage Italic"/>
              </a:rPr>
              <a:t>Они ищут себе хозяина, помоготе им оказаться дома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Rage Italic"/>
              </a:rPr>
              <a:t>Для этого мы вам отдаём их бесплатно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332200">
            <a:off x="826560" y="2636640"/>
            <a:ext cx="2237040" cy="1263600"/>
          </a:xfrm>
          <a:custGeom>
            <a:avLst/>
            <a:gdLst>
              <a:gd name="textAreaLeft" fmla="*/ 525600 w 2237040"/>
              <a:gd name="textAreaRight" fmla="*/ 1710000 w 2237040"/>
              <a:gd name="textAreaTop" fmla="*/ 148320 h 1263600"/>
              <a:gd name="textAreaBottom" fmla="*/ 792720 h 1263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>
              <a:alpha val="86000"/>
            </a:srgbClr>
          </a:solidFill>
          <a:ln w="7632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Verdana"/>
              </a:rPr>
              <a:t>Мам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6000">
    <p:newsflash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651640" y="333360"/>
            <a:ext cx="3492360" cy="1871640"/>
          </a:xfrm>
          <a:prstGeom prst="cloudCallout">
            <a:avLst>
              <a:gd name="adj1" fmla="val -51046"/>
              <a:gd name="adj2" fmla="val 80023"/>
            </a:avLst>
          </a:prstGeom>
          <a:solidFill>
            <a:srgbClr val="ffff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Verdana"/>
              </a:rPr>
              <a:t>Возьмите меня я хочу домой «Ну пожалуйста»!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 rot="5400000">
            <a:off x="-495360" y="1511280"/>
            <a:ext cx="2881440" cy="81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еклам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748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1152400">
            <a:off x="0" y="3645000"/>
            <a:ext cx="2627280" cy="1439640"/>
          </a:xfrm>
          <a:custGeom>
            <a:avLst/>
            <a:gdLst>
              <a:gd name="textAreaLeft" fmla="*/ 617400 w 2627280"/>
              <a:gd name="textAreaRight" fmla="*/ 2008080 w 2627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тноситесь 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ивотным с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юбовью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6000">
    <p:circl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6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60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400"/>
                            </p:stCondLst>
                            <p:childTnLst>
                              <p:par>
                                <p:cTn id="2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4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2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2808000" cy="367200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47640" y="4149720"/>
            <a:ext cx="4064040" cy="24796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5940360" y="765000"/>
            <a:ext cx="1800360" cy="1224000"/>
          </a:xfrm>
          <a:prstGeom prst="cloudCallout">
            <a:avLst>
              <a:gd name="adj1" fmla="val 50703"/>
              <a:gd name="adj2" fmla="val 10136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ак мне плохо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4360" y="476280"/>
            <a:ext cx="43336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з хозяина им плох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2287440"/>
            <a:ext cx="58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кие же они добрые, пушистые,весёл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огда рядом хозяин они чувствуют себ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к дома!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4437000"/>
            <a:ext cx="34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Продаём забавных собачек недорог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Всего за 450 руб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6000">
    <p:diamond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547640" y="1989000"/>
            <a:ext cx="590580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erdana"/>
              </a:rPr>
              <a:t>Спасибо за внимани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485880" cy="2503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331128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2:59:28Z</dcterms:created>
  <dc:creator>User</dc:creator>
  <dc:description/>
  <dc:language>en-US</dc:language>
  <cp:lastModifiedBy>Владелец</cp:lastModifiedBy>
  <dcterms:modified xsi:type="dcterms:W3CDTF">2010-12-22T15:14:02Z</dcterms:modified>
  <cp:revision>3</cp:revision>
  <dc:subject/>
  <dc:title>Слайд 1</dc:title>
</cp:coreProperties>
</file>