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6.png" ContentType="image/png"/>
  <Override PartName="/ppt/media/image7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8.jpeg" ContentType="image/jpeg"/>
  <Override PartName="/ppt/media/image9.jpeg" ContentType="image/jpeg"/>
  <Override PartName="/ppt/media/image10.jpeg" ContentType="image/jpeg"/>
  <Override PartName="/ppt/media/image11.gif" ContentType="image/gi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F36B-CB66-4512-ABBE-DDDDD5800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EAEE-E448-4B1C-8949-15CB7A25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9751-5B59-4C08-85A2-B1B24F77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1C9E-25B8-44CC-9E75-30C000806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0DD0-7D8E-44FF-8C2C-1C8749DDA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5043-824F-454A-A053-348FBB5A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F645-251B-40CB-8453-AA41FB95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C7B7-FD6E-4600-B6BE-EB9BC2E3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6B1C-E86E-43A0-B8D7-30AC42DD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536C-11C4-452F-8A95-05D76A6B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1E71-142F-4DAB-B379-420D20C3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33C5-9821-4DD3-8CB9-B95085EF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B8CF-F3B0-4B68-84F7-8F3248F5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5246-C3F4-4D49-BF80-9DB6DD52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FE32-06F5-43FC-8F07-7A3C2B63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9D50-060A-42E7-B360-87D9991B1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8B26-D113-46D8-BB33-24CF842B4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402C-E19A-4B58-A7CB-05EA3BB4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7CD1-2126-4516-B289-90AE122B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C854-6FE1-411C-9EFE-883937D0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AABF-C3A1-4BAA-ADB4-7DF376D8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0469-B8EB-45B5-8124-78E19F1D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C91B-3B90-4A7E-8480-48BD104A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AD61-2BD2-4104-9887-0D471C2A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D267-C45F-4427-8031-B17F2331AC6A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A5AF-3830-4B36-A607-D526ED833FE1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2484360" y="260280"/>
            <a:ext cx="4826160" cy="28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екла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692360" y="3429000"/>
            <a:ext cx="5111640" cy="3240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042920" y="620640"/>
            <a:ext cx="1609920" cy="2881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4356000" y="2781360"/>
            <a:ext cx="45244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бавные животны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00720" y="3803760"/>
            <a:ext cx="28432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Brush Script MT"/>
              </a:rPr>
              <a:t>Продаются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Wide Latin"/>
              </a:rPr>
              <a:t>кролики недорого, отдаем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Wide Latin"/>
              </a:rPr>
              <a:t>доброму хозяину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Wide Latin"/>
              </a:rPr>
              <a:t>Всего за </a:t>
            </a:r>
            <a:r>
              <a:rPr b="0" lang="en-US" sz="2400" spc="-1" strike="noStrike">
                <a:solidFill>
                  <a:srgbClr val="ff0000"/>
                </a:solidFill>
                <a:latin typeface="Wide Latin"/>
              </a:rPr>
              <a:t>800</a:t>
            </a:r>
            <a:r>
              <a:rPr b="0" lang="en-US" sz="2400" spc="-1" strike="noStrike">
                <a:solidFill>
                  <a:srgbClr val="006699"/>
                </a:solidFill>
                <a:latin typeface="Wide Latin"/>
              </a:rPr>
              <a:t> руб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24720" y="907920"/>
            <a:ext cx="1440000" cy="165744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0464200">
            <a:off x="-176040" y="3386160"/>
            <a:ext cx="3240000" cy="2663640"/>
          </a:xfrm>
          <a:prstGeom prst="irregularSeal2">
            <a:avLst/>
          </a:prstGeom>
          <a:solidFill>
            <a:srgbClr val="ff99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oor Richard"/>
              </a:rPr>
              <a:t>Скидка </a:t>
            </a:r>
            <a:r>
              <a:rPr b="0" lang="en-US" sz="2800" spc="-1" strike="noStrike">
                <a:solidFill>
                  <a:srgbClr val="800000"/>
                </a:solidFill>
                <a:latin typeface="Poor Richard"/>
              </a:rPr>
              <a:t>50%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advTm="6000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900"/>
                            </p:stCondLst>
                            <p:childTnLst>
                              <p:par>
                                <p:cTn id="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7900"/>
                            </p:stCondLst>
                            <p:childTnLst>
                              <p:par>
                                <p:cTn id="60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900"/>
                            </p:stCondLst>
                            <p:childTnLst>
                              <p:par>
                                <p:cTn id="67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9900"/>
                            </p:stCondLst>
                            <p:childTnLst>
                              <p:par>
                                <p:cTn id="73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900"/>
                            </p:stCondLst>
                            <p:childTnLst>
                              <p:par>
                                <p:cTn id="79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1900"/>
                            </p:stCondLst>
                            <p:childTnLst>
                              <p:par>
                                <p:cTn id="85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2400"/>
                            </p:stCondLst>
                            <p:childTnLst>
                              <p:par>
                                <p:cTn id="92" nodeType="after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3400"/>
                            </p:stCondLst>
                            <p:childTnLst>
                              <p:par>
                                <p:cTn id="98" nodeType="after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4400"/>
                            </p:stCondLst>
                            <p:childTnLst>
                              <p:par>
                                <p:cTn id="104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0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6200"/>
                            </p:stCondLst>
                            <p:childTnLst>
                              <p:par>
                                <p:cTn id="111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1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6767280" cy="52880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924360" y="692280"/>
            <a:ext cx="2592360" cy="1800000"/>
          </a:xfrm>
          <a:prstGeom prst="cloudCallout">
            <a:avLst>
              <a:gd name="adj1" fmla="val -44000"/>
              <a:gd name="adj2" fmla="val 73546"/>
            </a:avLst>
          </a:prstGeom>
          <a:solidFill>
            <a:srgbClr val="deebee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Verdana"/>
              </a:rPr>
              <a:t>Хорошо когда дома!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Verdana"/>
              </a:rPr>
              <a:t>можно поспать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00720" y="2205000"/>
            <a:ext cx="1584360" cy="936720"/>
          </a:xfrm>
          <a:prstGeom prst="cloudCallout">
            <a:avLst>
              <a:gd name="adj1" fmla="val -103208"/>
              <a:gd name="adj2" fmla="val 43726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Чаво-чаво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257880" y="189000"/>
            <a:ext cx="288612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ушистые котята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0920" y="404640"/>
            <a:ext cx="1944720" cy="30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родаём</a:t>
            </a:r>
            <a:r>
              <a:rPr b="1" lang="en-US" sz="2000" spc="-1" strike="noStrike">
                <a:solidFill>
                  <a:srgbClr val="0066ff"/>
                </a:solidFill>
                <a:latin typeface="Verdana"/>
              </a:rPr>
              <a:t> за низкие цены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Verdana"/>
              </a:rPr>
              <a:t>Котят всего за 500 руб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3366"/>
                </a:solidFill>
                <a:latin typeface="Verdana"/>
              </a:rPr>
              <a:t>Пушистые, голубо- глазы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3366"/>
                </a:solidFill>
                <a:latin typeface="Verdana"/>
              </a:rPr>
              <a:t>5 месяцев, отдам в хорошие руки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 rot="5400000">
            <a:off x="5831640" y="2817000"/>
            <a:ext cx="4537080" cy="1728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ищут хозяина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7000">
    <p:randomBar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250"/>
                            </p:stCondLst>
                            <p:childTnLst>
                              <p:par>
                                <p:cTn id="1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1250"/>
                            </p:stCondLst>
                            <p:childTnLst>
                              <p:par>
                                <p:cTn id="14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2250"/>
                            </p:stCondLst>
                            <p:childTnLst>
                              <p:par>
                                <p:cTn id="155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5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6050"/>
                            </p:stCondLst>
                            <p:childTnLst>
                              <p:par>
                                <p:cTn id="167" nodeType="after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7050"/>
                            </p:stCondLst>
                            <p:childTnLst>
                              <p:par>
                                <p:cTn id="173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8050"/>
                            </p:stCondLst>
                            <p:childTnLst>
                              <p:par>
                                <p:cTn id="179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 rot="658800">
            <a:off x="4788000" y="3284280"/>
            <a:ext cx="4064040" cy="304776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 rot="21019200">
            <a:off x="1289160" y="2704680"/>
            <a:ext cx="3313080" cy="3510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1979640" y="5516640"/>
            <a:ext cx="4941720" cy="10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дам в хорошие руки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"/>
          <p:cNvSpPr/>
          <p:nvPr/>
        </p:nvSpPr>
        <p:spPr>
          <a:xfrm>
            <a:off x="4427640" y="3284640"/>
            <a:ext cx="2016000" cy="936360"/>
          </a:xfrm>
          <a:prstGeom prst="cloudCallout">
            <a:avLst>
              <a:gd name="adj1" fmla="val 45828"/>
              <a:gd name="adj2" fmla="val 11305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Ищу хозяина!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 rot="776400">
            <a:off x="4284360" y="2204640"/>
            <a:ext cx="45324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Коты+Соба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189000"/>
            <a:ext cx="860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ff"/>
                </a:solidFill>
                <a:latin typeface="Rage Italic"/>
              </a:rPr>
              <a:t>На Новом году эти забавные животные не должны находиться на улице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ff"/>
                </a:solidFill>
                <a:latin typeface="Rage Italic"/>
              </a:rPr>
              <a:t>Они ищут себе хозяина, помоготе им оказаться дома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ff"/>
                </a:solidFill>
                <a:latin typeface="Rage Italic"/>
              </a:rPr>
              <a:t>Для этого мы вам отдаём их бесплатно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20332200">
            <a:off x="826560" y="2636640"/>
            <a:ext cx="2237040" cy="1263600"/>
          </a:xfrm>
          <a:custGeom>
            <a:avLst/>
            <a:gdLst>
              <a:gd name="textAreaLeft" fmla="*/ 525600 w 2237040"/>
              <a:gd name="textAreaRight" fmla="*/ 1710000 w 2237040"/>
              <a:gd name="textAreaTop" fmla="*/ 148320 h 1263600"/>
              <a:gd name="textAreaBottom" fmla="*/ 792720 h 12636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>
              <a:alpha val="86000"/>
            </a:srgbClr>
          </a:solidFill>
          <a:ln w="76320">
            <a:solidFill>
              <a:srgbClr val="ff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Verdana"/>
              </a:rPr>
              <a:t>Мам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advTm="6000">
    <p:newsflash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9000"/>
                            </p:stCondLst>
                            <p:childTnLst>
                              <p:par>
                                <p:cTn id="2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9500"/>
                            </p:stCondLst>
                            <p:childTnLst>
                              <p:par>
                                <p:cTn id="2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759636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651640" y="333360"/>
            <a:ext cx="3492360" cy="1871640"/>
          </a:xfrm>
          <a:prstGeom prst="cloudCallout">
            <a:avLst>
              <a:gd name="adj1" fmla="val -51046"/>
              <a:gd name="adj2" fmla="val 80023"/>
            </a:avLst>
          </a:prstGeom>
          <a:solidFill>
            <a:srgbClr val="ffff6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Verdana"/>
              </a:rPr>
              <a:t>Возьмите меня я хочу домой «Ну пожалуйста»!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 rot="5400000">
            <a:off x="-495360" y="1511280"/>
            <a:ext cx="2881440" cy="81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Реклам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87480" y="4811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21152400">
            <a:off x="0" y="3645000"/>
            <a:ext cx="2627280" cy="1439640"/>
          </a:xfrm>
          <a:custGeom>
            <a:avLst/>
            <a:gdLst>
              <a:gd name="textAreaLeft" fmla="*/ 617400 w 2627280"/>
              <a:gd name="textAreaRight" fmla="*/ 2008080 w 2627280"/>
              <a:gd name="textAreaTop" fmla="*/ 169200 h 1439640"/>
              <a:gd name="textAreaBottom" fmla="*/ 903240 h 143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Относитесь к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животным с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Любовью!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advTm="6000">
    <p:circl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600"/>
                            </p:stCondLst>
                            <p:childTnLst>
                              <p:par>
                                <p:cTn id="2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600"/>
                            </p:stCondLst>
                            <p:childTnLst>
                              <p:par>
                                <p:cTn id="26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8400"/>
                            </p:stCondLst>
                            <p:childTnLst>
                              <p:par>
                                <p:cTn id="27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9400"/>
                            </p:stCondLst>
                            <p:childTnLst>
                              <p:par>
                                <p:cTn id="2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1400"/>
                            </p:stCondLst>
                            <p:childTnLst>
                              <p:par>
                                <p:cTn id="28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3200"/>
                            </p:stCondLst>
                            <p:childTnLst>
                              <p:par>
                                <p:cTn id="29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012000" y="404640"/>
            <a:ext cx="2808000" cy="3672000"/>
          </a:xfrm>
          <a:prstGeom prst="rect">
            <a:avLst/>
          </a:prstGeom>
          <a:ln w="76320">
            <a:solidFill>
              <a:srgbClr val="ffff99"/>
            </a:solidFill>
            <a:miter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547640" y="4149720"/>
            <a:ext cx="4064040" cy="247968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5940360" y="765000"/>
            <a:ext cx="1800360" cy="1224000"/>
          </a:xfrm>
          <a:prstGeom prst="cloudCallout">
            <a:avLst>
              <a:gd name="adj1" fmla="val 50703"/>
              <a:gd name="adj2" fmla="val 101361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Как мне плохо!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4360" y="476280"/>
            <a:ext cx="43336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Без хозяина им плохо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9280" y="2287440"/>
            <a:ext cx="58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Какие же они добрые, пушистые,весёлые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Когда рядом хозяин они чувствуют себя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Как дома! 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24360" y="4437000"/>
            <a:ext cx="34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Продаём забавных собачек недорого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Всего за 450 руб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advTm="6000">
    <p:diamond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3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500"/>
                            </p:stCondLst>
                            <p:childTnLst>
                              <p:par>
                                <p:cTn id="3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547640" y="1989000"/>
            <a:ext cx="5905800" cy="184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erdana"/>
              </a:rPr>
              <a:t>Спасибо за внимание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148360" y="4076640"/>
            <a:ext cx="3485880" cy="2503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3311280" cy="19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12:59:28Z</dcterms:created>
  <dc:creator>User</dc:creator>
  <dc:description/>
  <dc:language>en-US</dc:language>
  <cp:lastModifiedBy>Владелец</cp:lastModifiedBy>
  <dcterms:modified xsi:type="dcterms:W3CDTF">2010-12-22T15:14:02Z</dcterms:modified>
  <cp:revision>3</cp:revision>
  <dc:subject/>
  <dc:title>Слайд 1</dc:title>
</cp:coreProperties>
</file>