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78D-E422-4781-9196-F7EFF9B0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642-C597-48B4-894B-E65DF71B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5ED-8FB8-4242-9F88-4282018A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198-7B47-45C9-9976-C70FA1E6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C69-1631-4CD0-BA5A-4C5FD2B3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553-31C1-4DFA-824A-473BDB49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216-7EC2-4302-ABA8-C8CC5A3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1BA-94F8-41E4-8D7F-9DC361E6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7C6-3E2E-40D9-84C0-7F30794C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58B-5D12-45C3-8CB5-77EC58D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451-7EFD-448A-AF02-913E58F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500-7D48-404F-9D4A-AFE89D4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2A6-8402-4CD6-9211-7F3B5948F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643960" cy="63579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pSp>
        <p:nvGrpSpPr>
          <p:cNvPr id="43" name="Полилиния 3"/>
          <p:cNvGrpSpPr/>
          <p:nvPr/>
        </p:nvGrpSpPr>
        <p:grpSpPr>
          <a:xfrm>
            <a:off x="689040" y="762120"/>
            <a:ext cx="1682640" cy="1554120"/>
            <a:chOff x="689040" y="762120"/>
            <a:chExt cx="1682640" cy="1554120"/>
          </a:xfrm>
        </p:grpSpPr>
        <p:pic>
          <p:nvPicPr>
            <p:cNvPr id="44" name="Полилиния 3" descr=""/>
            <p:cNvPicPr/>
            <p:nvPr/>
          </p:nvPicPr>
          <p:blipFill>
            <a:blip r:embed="rId1"/>
            <a:stretch/>
          </p:blipFill>
          <p:spPr>
            <a:xfrm>
              <a:off x="689040" y="762120"/>
              <a:ext cx="16826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928800" y="1000080"/>
              <a:ext cx="1206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Полилиния 4"/>
          <p:cNvGrpSpPr/>
          <p:nvPr/>
        </p:nvGrpSpPr>
        <p:grpSpPr>
          <a:xfrm>
            <a:off x="2395440" y="1841400"/>
            <a:ext cx="1182960" cy="1176480"/>
            <a:chOff x="2395440" y="1841400"/>
            <a:chExt cx="1182960" cy="1176480"/>
          </a:xfrm>
        </p:grpSpPr>
        <p:pic>
          <p:nvPicPr>
            <p:cNvPr id="47" name="Полилиния 4" descr=""/>
            <p:cNvPicPr/>
            <p:nvPr/>
          </p:nvPicPr>
          <p:blipFill>
            <a:blip r:embed="rId2"/>
            <a:stretch/>
          </p:blipFill>
          <p:spPr>
            <a:xfrm>
              <a:off x="2395440" y="1841400"/>
              <a:ext cx="1182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643120" y="2071800"/>
              <a:ext cx="695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Полилиния 5"/>
          <p:cNvGrpSpPr/>
          <p:nvPr/>
        </p:nvGrpSpPr>
        <p:grpSpPr>
          <a:xfrm>
            <a:off x="3176640" y="2036880"/>
            <a:ext cx="1163520" cy="1206360"/>
            <a:chOff x="3176640" y="2036880"/>
            <a:chExt cx="1163520" cy="1206360"/>
          </a:xfrm>
        </p:grpSpPr>
        <p:pic>
          <p:nvPicPr>
            <p:cNvPr id="50" name="Полилиния 5" descr=""/>
            <p:cNvPicPr/>
            <p:nvPr/>
          </p:nvPicPr>
          <p:blipFill>
            <a:blip r:embed="rId3"/>
            <a:stretch/>
          </p:blipFill>
          <p:spPr>
            <a:xfrm>
              <a:off x="3176640" y="2036880"/>
              <a:ext cx="11635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29000" y="2286000"/>
              <a:ext cx="6634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лилиния 6"/>
          <p:cNvGrpSpPr/>
          <p:nvPr/>
        </p:nvGrpSpPr>
        <p:grpSpPr>
          <a:xfrm>
            <a:off x="3700440" y="1676520"/>
            <a:ext cx="1420920" cy="1603080"/>
            <a:chOff x="3700440" y="1676520"/>
            <a:chExt cx="1420920" cy="1603080"/>
          </a:xfrm>
        </p:grpSpPr>
        <p:pic>
          <p:nvPicPr>
            <p:cNvPr id="53" name="Полилиния 6" descr=""/>
            <p:cNvPicPr/>
            <p:nvPr/>
          </p:nvPicPr>
          <p:blipFill>
            <a:blip r:embed="rId4"/>
            <a:stretch/>
          </p:blipFill>
          <p:spPr>
            <a:xfrm>
              <a:off x="3700440" y="1676520"/>
              <a:ext cx="142092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929040" y="1928880"/>
              <a:ext cx="94140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Полилиния 7"/>
          <p:cNvGrpSpPr/>
          <p:nvPr/>
        </p:nvGrpSpPr>
        <p:grpSpPr>
          <a:xfrm>
            <a:off x="1609560" y="1547640"/>
            <a:ext cx="1389240" cy="1122480"/>
            <a:chOff x="1609560" y="1547640"/>
            <a:chExt cx="1389240" cy="1122480"/>
          </a:xfrm>
        </p:grpSpPr>
        <p:pic>
          <p:nvPicPr>
            <p:cNvPr id="56" name="Полилиния 7" descr=""/>
            <p:cNvPicPr/>
            <p:nvPr/>
          </p:nvPicPr>
          <p:blipFill>
            <a:blip r:embed="rId5"/>
            <a:stretch/>
          </p:blipFill>
          <p:spPr>
            <a:xfrm>
              <a:off x="1609560" y="1547640"/>
              <a:ext cx="13892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857240" y="1785960"/>
              <a:ext cx="9036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Полилиния 8"/>
          <p:cNvGrpSpPr/>
          <p:nvPr/>
        </p:nvGrpSpPr>
        <p:grpSpPr>
          <a:xfrm>
            <a:off x="4724280" y="2023920"/>
            <a:ext cx="1255680" cy="1103400"/>
            <a:chOff x="4724280" y="2023920"/>
            <a:chExt cx="1255680" cy="1103400"/>
          </a:xfrm>
        </p:grpSpPr>
        <p:pic>
          <p:nvPicPr>
            <p:cNvPr id="59" name="Полилиния 8" descr=""/>
            <p:cNvPicPr/>
            <p:nvPr/>
          </p:nvPicPr>
          <p:blipFill>
            <a:blip r:embed="rId6"/>
            <a:stretch/>
          </p:blipFill>
          <p:spPr>
            <a:xfrm>
              <a:off x="4724280" y="2023920"/>
              <a:ext cx="12556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965840" y="2270160"/>
              <a:ext cx="77292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Полилиния 9"/>
          <p:cNvGrpSpPr/>
          <p:nvPr/>
        </p:nvGrpSpPr>
        <p:grpSpPr>
          <a:xfrm>
            <a:off x="5541840" y="1871640"/>
            <a:ext cx="1114560" cy="1425600"/>
            <a:chOff x="5541840" y="1871640"/>
            <a:chExt cx="1114560" cy="1425600"/>
          </a:xfrm>
        </p:grpSpPr>
        <p:pic>
          <p:nvPicPr>
            <p:cNvPr id="62" name="Полилиния 9" descr=""/>
            <p:cNvPicPr/>
            <p:nvPr/>
          </p:nvPicPr>
          <p:blipFill>
            <a:blip r:embed="rId7"/>
            <a:stretch/>
          </p:blipFill>
          <p:spPr>
            <a:xfrm>
              <a:off x="5541840" y="1871640"/>
              <a:ext cx="111456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786280" y="2112840"/>
              <a:ext cx="64476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Полилиния 10"/>
          <p:cNvGrpSpPr/>
          <p:nvPr/>
        </p:nvGrpSpPr>
        <p:grpSpPr>
          <a:xfrm>
            <a:off x="6291360" y="1762200"/>
            <a:ext cx="1347840" cy="1266840"/>
            <a:chOff x="6291360" y="1762200"/>
            <a:chExt cx="1347840" cy="1266840"/>
          </a:xfrm>
        </p:grpSpPr>
        <p:pic>
          <p:nvPicPr>
            <p:cNvPr id="65" name="Полилиния 10" descr=""/>
            <p:cNvPicPr/>
            <p:nvPr/>
          </p:nvPicPr>
          <p:blipFill>
            <a:blip r:embed="rId8"/>
            <a:stretch/>
          </p:blipFill>
          <p:spPr>
            <a:xfrm>
              <a:off x="6291360" y="1762200"/>
              <a:ext cx="13478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500880" y="2000160"/>
              <a:ext cx="9176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Полилиния 11"/>
          <p:cNvGrpSpPr/>
          <p:nvPr/>
        </p:nvGrpSpPr>
        <p:grpSpPr>
          <a:xfrm>
            <a:off x="6986520" y="1322280"/>
            <a:ext cx="1262160" cy="1212840"/>
            <a:chOff x="6986520" y="1322280"/>
            <a:chExt cx="1262160" cy="1212840"/>
          </a:xfrm>
        </p:grpSpPr>
        <p:pic>
          <p:nvPicPr>
            <p:cNvPr id="68" name="Полилиния 11" descr=""/>
            <p:cNvPicPr/>
            <p:nvPr/>
          </p:nvPicPr>
          <p:blipFill>
            <a:blip r:embed="rId9"/>
            <a:stretch/>
          </p:blipFill>
          <p:spPr>
            <a:xfrm>
              <a:off x="6986520" y="1322280"/>
              <a:ext cx="12621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215120" y="1571760"/>
              <a:ext cx="784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Полилиния 12"/>
          <p:cNvGrpSpPr/>
          <p:nvPr/>
        </p:nvGrpSpPr>
        <p:grpSpPr>
          <a:xfrm>
            <a:off x="1676520" y="2932200"/>
            <a:ext cx="2243160" cy="2816280"/>
            <a:chOff x="1676520" y="2932200"/>
            <a:chExt cx="2243160" cy="2816280"/>
          </a:xfrm>
        </p:grpSpPr>
        <p:pic>
          <p:nvPicPr>
            <p:cNvPr id="71" name="Полилиния 12" descr=""/>
            <p:cNvPicPr/>
            <p:nvPr/>
          </p:nvPicPr>
          <p:blipFill>
            <a:blip r:embed="rId10"/>
            <a:stretch/>
          </p:blipFill>
          <p:spPr>
            <a:xfrm>
              <a:off x="1676520" y="2932200"/>
              <a:ext cx="224316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795320" y="3056040"/>
              <a:ext cx="201312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Полилиния 13"/>
          <p:cNvGrpSpPr/>
          <p:nvPr/>
        </p:nvGrpSpPr>
        <p:grpSpPr>
          <a:xfrm>
            <a:off x="1920960" y="3187800"/>
            <a:ext cx="663480" cy="714240"/>
            <a:chOff x="1920960" y="3187800"/>
            <a:chExt cx="663480" cy="714240"/>
          </a:xfrm>
        </p:grpSpPr>
        <p:pic>
          <p:nvPicPr>
            <p:cNvPr id="74" name="Полилиния 13" descr=""/>
            <p:cNvPicPr/>
            <p:nvPr/>
          </p:nvPicPr>
          <p:blipFill>
            <a:blip r:embed="rId11"/>
            <a:stretch/>
          </p:blipFill>
          <p:spPr>
            <a:xfrm>
              <a:off x="1920960" y="3187800"/>
              <a:ext cx="6634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049480" y="3268800"/>
              <a:ext cx="4158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Полилиния 14"/>
          <p:cNvGrpSpPr/>
          <p:nvPr/>
        </p:nvGrpSpPr>
        <p:grpSpPr>
          <a:xfrm>
            <a:off x="3041640" y="3260880"/>
            <a:ext cx="725400" cy="750600"/>
            <a:chOff x="3041640" y="3260880"/>
            <a:chExt cx="725400" cy="750600"/>
          </a:xfrm>
        </p:grpSpPr>
        <p:pic>
          <p:nvPicPr>
            <p:cNvPr id="77" name="Полилиния 14" descr=""/>
            <p:cNvPicPr/>
            <p:nvPr/>
          </p:nvPicPr>
          <p:blipFill>
            <a:blip r:embed="rId12"/>
            <a:stretch/>
          </p:blipFill>
          <p:spPr>
            <a:xfrm>
              <a:off x="3041640" y="3260880"/>
              <a:ext cx="725400" cy="75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168720" y="3386160"/>
              <a:ext cx="4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Полилиния 15"/>
          <p:cNvSpPr/>
          <p:nvPr/>
        </p:nvSpPr>
        <p:spPr>
          <a:xfrm>
            <a:off x="2813040" y="3798720"/>
            <a:ext cx="528480" cy="457200"/>
          </a:xfrm>
          <a:custGeom>
            <a:avLst/>
            <a:gdLst/>
            <a:ahLst/>
            <a:rect l="l" t="t" r="r" b="b"/>
            <a:pathLst>
              <a:path w="529565" h="457200">
                <a:moveTo>
                  <a:pt x="135427" y="15765"/>
                </a:moveTo>
                <a:cubicBezTo>
                  <a:pt x="182724" y="0"/>
                  <a:pt x="284587" y="13642"/>
                  <a:pt x="356144" y="31531"/>
                </a:cubicBezTo>
                <a:cubicBezTo>
                  <a:pt x="393149" y="40782"/>
                  <a:pt x="468737" y="106733"/>
                  <a:pt x="498034" y="141889"/>
                </a:cubicBezTo>
                <a:cubicBezTo>
                  <a:pt x="510164" y="156445"/>
                  <a:pt x="519055" y="173420"/>
                  <a:pt x="529565" y="189186"/>
                </a:cubicBezTo>
                <a:cubicBezTo>
                  <a:pt x="524310" y="215462"/>
                  <a:pt x="525783" y="244046"/>
                  <a:pt x="513799" y="268013"/>
                </a:cubicBezTo>
                <a:cubicBezTo>
                  <a:pt x="498624" y="298362"/>
                  <a:pt x="446370" y="328732"/>
                  <a:pt x="419206" y="346841"/>
                </a:cubicBezTo>
                <a:cubicBezTo>
                  <a:pt x="395614" y="345367"/>
                  <a:pt x="94703" y="312024"/>
                  <a:pt x="25068" y="346841"/>
                </a:cubicBezTo>
                <a:cubicBezTo>
                  <a:pt x="5688" y="356531"/>
                  <a:pt x="14558" y="388882"/>
                  <a:pt x="9303" y="409903"/>
                </a:cubicBezTo>
                <a:cubicBezTo>
                  <a:pt x="119662" y="446689"/>
                  <a:pt x="135427" y="430923"/>
                  <a:pt x="56599" y="457200"/>
                </a:cubicBezTo>
                <a:cubicBezTo>
                  <a:pt x="40834" y="446690"/>
                  <a:pt x="11395" y="444501"/>
                  <a:pt x="9303" y="425669"/>
                </a:cubicBezTo>
                <a:cubicBezTo>
                  <a:pt x="0" y="341937"/>
                  <a:pt x="7712" y="255860"/>
                  <a:pt x="25068" y="173420"/>
                </a:cubicBezTo>
                <a:cubicBezTo>
                  <a:pt x="29661" y="151602"/>
                  <a:pt x="58092" y="143252"/>
                  <a:pt x="72365" y="126124"/>
                </a:cubicBezTo>
                <a:cubicBezTo>
                  <a:pt x="171812" y="6789"/>
                  <a:pt x="88131" y="31531"/>
                  <a:pt x="135427" y="15765"/>
                </a:cubicBezTo>
                <a:close/>
              </a:path>
            </a:pathLst>
          </a:cu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лилиния 17"/>
          <p:cNvSpPr/>
          <p:nvPr/>
        </p:nvSpPr>
        <p:spPr>
          <a:xfrm>
            <a:off x="3232080" y="3875040"/>
            <a:ext cx="141480" cy="271440"/>
          </a:xfrm>
          <a:custGeom>
            <a:avLst/>
            <a:gdLst/>
            <a:ahLst/>
            <a:rect l="l" t="t" r="r" b="b"/>
            <a:pathLst>
              <a:path w="141890" h="271730">
                <a:moveTo>
                  <a:pt x="94593" y="35247"/>
                </a:moveTo>
                <a:cubicBezTo>
                  <a:pt x="78828" y="6344"/>
                  <a:pt x="65877" y="0"/>
                  <a:pt x="47297" y="3716"/>
                </a:cubicBezTo>
                <a:cubicBezTo>
                  <a:pt x="18646" y="9446"/>
                  <a:pt x="3324" y="100780"/>
                  <a:pt x="0" y="114075"/>
                </a:cubicBezTo>
                <a:cubicBezTo>
                  <a:pt x="38383" y="229224"/>
                  <a:pt x="23470" y="176424"/>
                  <a:pt x="47297" y="271730"/>
                </a:cubicBezTo>
                <a:cubicBezTo>
                  <a:pt x="63062" y="266475"/>
                  <a:pt x="80343" y="264515"/>
                  <a:pt x="94593" y="255965"/>
                </a:cubicBezTo>
                <a:cubicBezTo>
                  <a:pt x="130660" y="234324"/>
                  <a:pt x="129489" y="214338"/>
                  <a:pt x="141890" y="177137"/>
                </a:cubicBezTo>
                <a:cubicBezTo>
                  <a:pt x="123680" y="67882"/>
                  <a:pt x="110359" y="64151"/>
                  <a:pt x="94593" y="35247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вал 18"/>
          <p:cNvSpPr/>
          <p:nvPr/>
        </p:nvSpPr>
        <p:spPr>
          <a:xfrm>
            <a:off x="2928960" y="3643200"/>
            <a:ext cx="214200" cy="21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19"/>
          <p:cNvSpPr/>
          <p:nvPr/>
        </p:nvSpPr>
        <p:spPr>
          <a:xfrm>
            <a:off x="2643120" y="3643200"/>
            <a:ext cx="214560" cy="21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лилиния 20"/>
          <p:cNvSpPr/>
          <p:nvPr/>
        </p:nvSpPr>
        <p:spPr>
          <a:xfrm>
            <a:off x="2687760" y="3660840"/>
            <a:ext cx="134640" cy="109440"/>
          </a:xfrm>
          <a:custGeom>
            <a:avLst/>
            <a:gdLst/>
            <a:ahLst/>
            <a:rect l="l" t="t" r="r" b="b"/>
            <a:pathLst>
              <a:path w="134008" h="110795">
                <a:moveTo>
                  <a:pt x="7883" y="13138"/>
                </a:moveTo>
                <a:cubicBezTo>
                  <a:pt x="15766" y="26276"/>
                  <a:pt x="14492" y="99666"/>
                  <a:pt x="70946" y="107731"/>
                </a:cubicBezTo>
                <a:cubicBezTo>
                  <a:pt x="92396" y="110795"/>
                  <a:pt x="112987" y="97220"/>
                  <a:pt x="134008" y="91965"/>
                </a:cubicBezTo>
                <a:cubicBezTo>
                  <a:pt x="121711" y="55075"/>
                  <a:pt x="121282" y="21528"/>
                  <a:pt x="70946" y="13138"/>
                </a:cubicBezTo>
                <a:cubicBezTo>
                  <a:pt x="54554" y="10406"/>
                  <a:pt x="39771" y="24873"/>
                  <a:pt x="23649" y="28903"/>
                </a:cubicBezTo>
                <a:cubicBezTo>
                  <a:pt x="18551" y="30178"/>
                  <a:pt x="0" y="0"/>
                  <a:pt x="7883" y="13138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лилиния 21"/>
          <p:cNvSpPr/>
          <p:nvPr/>
        </p:nvSpPr>
        <p:spPr>
          <a:xfrm>
            <a:off x="2963880" y="3649680"/>
            <a:ext cx="141120" cy="133200"/>
          </a:xfrm>
          <a:custGeom>
            <a:avLst/>
            <a:gdLst/>
            <a:ahLst/>
            <a:rect l="l" t="t" r="r" b="b"/>
            <a:pathLst>
              <a:path w="141890" h="134007">
                <a:moveTo>
                  <a:pt x="15766" y="7883"/>
                </a:moveTo>
                <a:cubicBezTo>
                  <a:pt x="5256" y="15766"/>
                  <a:pt x="0" y="38561"/>
                  <a:pt x="0" y="55180"/>
                </a:cubicBezTo>
                <a:cubicBezTo>
                  <a:pt x="0" y="105946"/>
                  <a:pt x="26747" y="109797"/>
                  <a:pt x="63062" y="134007"/>
                </a:cubicBezTo>
                <a:cubicBezTo>
                  <a:pt x="92595" y="124163"/>
                  <a:pt x="141890" y="118487"/>
                  <a:pt x="141890" y="70945"/>
                </a:cubicBezTo>
                <a:cubicBezTo>
                  <a:pt x="141890" y="34629"/>
                  <a:pt x="92594" y="7883"/>
                  <a:pt x="63062" y="7883"/>
                </a:cubicBezTo>
                <a:cubicBezTo>
                  <a:pt x="51311" y="7883"/>
                  <a:pt x="26276" y="0"/>
                  <a:pt x="15766" y="7883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Полилиния 22"/>
          <p:cNvGrpSpPr/>
          <p:nvPr/>
        </p:nvGrpSpPr>
        <p:grpSpPr>
          <a:xfrm>
            <a:off x="2109960" y="5486400"/>
            <a:ext cx="663480" cy="1079640"/>
            <a:chOff x="2109960" y="5486400"/>
            <a:chExt cx="663480" cy="1079640"/>
          </a:xfrm>
        </p:grpSpPr>
        <p:pic>
          <p:nvPicPr>
            <p:cNvPr id="86" name="Полилиния 22" descr=""/>
            <p:cNvPicPr/>
            <p:nvPr/>
          </p:nvPicPr>
          <p:blipFill>
            <a:blip r:embed="rId13"/>
            <a:stretch/>
          </p:blipFill>
          <p:spPr>
            <a:xfrm>
              <a:off x="2109960" y="5486400"/>
              <a:ext cx="6634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225520" y="5599080"/>
              <a:ext cx="422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Полилиния 23"/>
          <p:cNvGrpSpPr/>
          <p:nvPr/>
        </p:nvGrpSpPr>
        <p:grpSpPr>
          <a:xfrm>
            <a:off x="2755800" y="5572080"/>
            <a:ext cx="804960" cy="944640"/>
            <a:chOff x="2755800" y="5572080"/>
            <a:chExt cx="804960" cy="944640"/>
          </a:xfrm>
        </p:grpSpPr>
        <p:pic>
          <p:nvPicPr>
            <p:cNvPr id="89" name="Полилиния 23" descr=""/>
            <p:cNvPicPr/>
            <p:nvPr/>
          </p:nvPicPr>
          <p:blipFill>
            <a:blip r:embed="rId14"/>
            <a:stretch/>
          </p:blipFill>
          <p:spPr>
            <a:xfrm>
              <a:off x="2755800" y="5572080"/>
              <a:ext cx="8049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884320" y="5695920"/>
              <a:ext cx="5860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Полилиния 24"/>
          <p:cNvGrpSpPr/>
          <p:nvPr/>
        </p:nvGrpSpPr>
        <p:grpSpPr>
          <a:xfrm>
            <a:off x="3340080" y="4413240"/>
            <a:ext cx="896760" cy="676440"/>
            <a:chOff x="3340080" y="4413240"/>
            <a:chExt cx="896760" cy="676440"/>
          </a:xfrm>
        </p:grpSpPr>
        <p:pic>
          <p:nvPicPr>
            <p:cNvPr id="92" name="Полилиния 24" descr=""/>
            <p:cNvPicPr/>
            <p:nvPr/>
          </p:nvPicPr>
          <p:blipFill>
            <a:blip r:embed="rId15"/>
            <a:stretch/>
          </p:blipFill>
          <p:spPr>
            <a:xfrm>
              <a:off x="3340080" y="4413240"/>
              <a:ext cx="8737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465000" y="4540320"/>
              <a:ext cx="7718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Полилиния 25"/>
          <p:cNvGrpSpPr/>
          <p:nvPr/>
        </p:nvGrpSpPr>
        <p:grpSpPr>
          <a:xfrm>
            <a:off x="1371600" y="4370400"/>
            <a:ext cx="847800" cy="719280"/>
            <a:chOff x="1371600" y="4370400"/>
            <a:chExt cx="847800" cy="719280"/>
          </a:xfrm>
        </p:grpSpPr>
        <p:pic>
          <p:nvPicPr>
            <p:cNvPr id="95" name="Полилиния 25" descr=""/>
            <p:cNvPicPr/>
            <p:nvPr/>
          </p:nvPicPr>
          <p:blipFill>
            <a:blip r:embed="rId16"/>
            <a:stretch/>
          </p:blipFill>
          <p:spPr>
            <a:xfrm>
              <a:off x="1371600" y="4370400"/>
              <a:ext cx="8478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484280" y="4492800"/>
              <a:ext cx="612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Горизонтальный свиток 26"/>
          <p:cNvGrpSpPr/>
          <p:nvPr/>
        </p:nvGrpSpPr>
        <p:grpSpPr>
          <a:xfrm>
            <a:off x="3749760" y="4462560"/>
            <a:ext cx="4145040" cy="2146320"/>
            <a:chOff x="3749760" y="4462560"/>
            <a:chExt cx="4145040" cy="2146320"/>
          </a:xfrm>
        </p:grpSpPr>
        <p:pic>
          <p:nvPicPr>
            <p:cNvPr id="98" name="Горизонтальный свиток 26" descr=""/>
            <p:cNvPicPr/>
            <p:nvPr/>
          </p:nvPicPr>
          <p:blipFill>
            <a:blip r:embed="rId17"/>
            <a:stretch/>
          </p:blipFill>
          <p:spPr>
            <a:xfrm>
              <a:off x="3749760" y="4462560"/>
              <a:ext cx="41450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205160" y="4919760"/>
              <a:ext cx="333540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Прямоугольник 27" descr=""/>
          <p:cNvPicPr/>
          <p:nvPr/>
        </p:nvPicPr>
        <p:blipFill>
          <a:blip r:embed="rId18"/>
          <a:stretch/>
        </p:blipFill>
        <p:spPr>
          <a:xfrm>
            <a:off x="4127400" y="4857840"/>
            <a:ext cx="3505320" cy="1141200"/>
          </a:xfrm>
          <a:prstGeom prst="rect">
            <a:avLst/>
          </a:prstGeom>
          <a:ln w="0">
            <a:noFill/>
          </a:ln>
        </p:spPr>
      </p:pic>
      <p:grpSp>
        <p:nvGrpSpPr>
          <p:cNvPr id="101" name="Полилиния 30"/>
          <p:cNvGrpSpPr/>
          <p:nvPr/>
        </p:nvGrpSpPr>
        <p:grpSpPr>
          <a:xfrm>
            <a:off x="3060720" y="5157720"/>
            <a:ext cx="1054080" cy="541440"/>
            <a:chOff x="3060720" y="5157720"/>
            <a:chExt cx="1054080" cy="541440"/>
          </a:xfrm>
        </p:grpSpPr>
        <p:pic>
          <p:nvPicPr>
            <p:cNvPr id="102" name="Полилиния 30" descr=""/>
            <p:cNvPicPr/>
            <p:nvPr/>
          </p:nvPicPr>
          <p:blipFill>
            <a:blip r:embed="rId19"/>
            <a:stretch/>
          </p:blipFill>
          <p:spPr>
            <a:xfrm>
              <a:off x="3060720" y="5157720"/>
              <a:ext cx="1054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43160" y="5286240"/>
              <a:ext cx="84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Полилиния 31"/>
          <p:cNvGrpSpPr/>
          <p:nvPr/>
        </p:nvGrpSpPr>
        <p:grpSpPr>
          <a:xfrm>
            <a:off x="4309920" y="3743280"/>
            <a:ext cx="3651480" cy="1517760"/>
            <a:chOff x="4309920" y="3743280"/>
            <a:chExt cx="3651480" cy="1517760"/>
          </a:xfrm>
        </p:grpSpPr>
        <p:pic>
          <p:nvPicPr>
            <p:cNvPr id="105" name="Полилиния 31" descr=""/>
            <p:cNvPicPr/>
            <p:nvPr/>
          </p:nvPicPr>
          <p:blipFill>
            <a:blip r:embed="rId20"/>
            <a:stretch/>
          </p:blipFill>
          <p:spPr>
            <a:xfrm>
              <a:off x="4309920" y="3743280"/>
              <a:ext cx="36514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430880" y="3862440"/>
              <a:ext cx="343044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8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Подзаголовок 2"/>
          <p:cNvGrpSpPr/>
          <p:nvPr/>
        </p:nvGrpSpPr>
        <p:grpSpPr>
          <a:xfrm>
            <a:off x="706320" y="281160"/>
            <a:ext cx="7731360" cy="5870520"/>
            <a:chOff x="706320" y="281160"/>
            <a:chExt cx="7731360" cy="5870520"/>
          </a:xfrm>
        </p:grpSpPr>
        <p:pic>
          <p:nvPicPr>
            <p:cNvPr id="109" name="Подзаголовок 2" descr=""/>
            <p:cNvPicPr/>
            <p:nvPr/>
          </p:nvPicPr>
          <p:blipFill>
            <a:blip r:embed="rId1"/>
            <a:stretch/>
          </p:blipFill>
          <p:spPr>
            <a:xfrm>
              <a:off x="706320" y="281160"/>
              <a:ext cx="773136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4240" y="285840"/>
              <a:ext cx="7715520" cy="58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Полилиния 4"/>
          <p:cNvSpPr/>
          <p:nvPr/>
        </p:nvSpPr>
        <p:spPr>
          <a:xfrm>
            <a:off x="1917720" y="2079720"/>
            <a:ext cx="2158920" cy="2174760"/>
          </a:xfrm>
          <a:custGeom>
            <a:avLst/>
            <a:gdLst/>
            <a:ahLst/>
            <a:rect l="l" t="t" r="r" b="b"/>
            <a:pathLst>
              <a:path w="2158722" h="2173793">
                <a:moveTo>
                  <a:pt x="1056752" y="1195754"/>
                </a:moveTo>
                <a:cubicBezTo>
                  <a:pt x="1127090" y="1179006"/>
                  <a:pt x="1197429" y="1162259"/>
                  <a:pt x="1237622" y="1105318"/>
                </a:cubicBezTo>
                <a:cubicBezTo>
                  <a:pt x="1277816" y="1048377"/>
                  <a:pt x="1291214" y="939521"/>
                  <a:pt x="1297913" y="854110"/>
                </a:cubicBezTo>
                <a:cubicBezTo>
                  <a:pt x="1304612" y="768699"/>
                  <a:pt x="1289539" y="674915"/>
                  <a:pt x="1277816" y="592853"/>
                </a:cubicBezTo>
                <a:cubicBezTo>
                  <a:pt x="1266093" y="510791"/>
                  <a:pt x="1239297" y="455525"/>
                  <a:pt x="1227574" y="361740"/>
                </a:cubicBezTo>
                <a:cubicBezTo>
                  <a:pt x="1215851" y="267955"/>
                  <a:pt x="1229249" y="60290"/>
                  <a:pt x="1207477" y="30145"/>
                </a:cubicBezTo>
                <a:cubicBezTo>
                  <a:pt x="1185705" y="0"/>
                  <a:pt x="1153886" y="128954"/>
                  <a:pt x="1096945" y="180870"/>
                </a:cubicBezTo>
                <a:cubicBezTo>
                  <a:pt x="1040004" y="232786"/>
                  <a:pt x="914400" y="267956"/>
                  <a:pt x="865833" y="341644"/>
                </a:cubicBezTo>
                <a:cubicBezTo>
                  <a:pt x="817266" y="415332"/>
                  <a:pt x="792145" y="524189"/>
                  <a:pt x="805543" y="622998"/>
                </a:cubicBezTo>
                <a:cubicBezTo>
                  <a:pt x="818941" y="721807"/>
                  <a:pt x="919424" y="857459"/>
                  <a:pt x="946220" y="934496"/>
                </a:cubicBezTo>
                <a:cubicBezTo>
                  <a:pt x="973016" y="1011533"/>
                  <a:pt x="974691" y="1095270"/>
                  <a:pt x="966317" y="1085222"/>
                </a:cubicBezTo>
                <a:cubicBezTo>
                  <a:pt x="957943" y="1075174"/>
                  <a:pt x="961292" y="944544"/>
                  <a:pt x="895978" y="874206"/>
                </a:cubicBezTo>
                <a:cubicBezTo>
                  <a:pt x="830664" y="803868"/>
                  <a:pt x="663191" y="693336"/>
                  <a:pt x="574431" y="663191"/>
                </a:cubicBezTo>
                <a:cubicBezTo>
                  <a:pt x="485671" y="633046"/>
                  <a:pt x="450502" y="701710"/>
                  <a:pt x="363416" y="693336"/>
                </a:cubicBezTo>
                <a:cubicBezTo>
                  <a:pt x="276330" y="684962"/>
                  <a:pt x="103834" y="621323"/>
                  <a:pt x="51917" y="612949"/>
                </a:cubicBezTo>
                <a:cubicBezTo>
                  <a:pt x="0" y="604575"/>
                  <a:pt x="23447" y="586153"/>
                  <a:pt x="51917" y="643094"/>
                </a:cubicBezTo>
                <a:cubicBezTo>
                  <a:pt x="80387" y="700035"/>
                  <a:pt x="122256" y="892628"/>
                  <a:pt x="222739" y="954593"/>
                </a:cubicBezTo>
                <a:cubicBezTo>
                  <a:pt x="323222" y="1016558"/>
                  <a:pt x="586154" y="999810"/>
                  <a:pt x="654818" y="1014883"/>
                </a:cubicBezTo>
                <a:cubicBezTo>
                  <a:pt x="723482" y="1029956"/>
                  <a:pt x="666541" y="1004835"/>
                  <a:pt x="634721" y="1045028"/>
                </a:cubicBezTo>
                <a:cubicBezTo>
                  <a:pt x="602901" y="1085222"/>
                  <a:pt x="482321" y="1194079"/>
                  <a:pt x="463899" y="1256044"/>
                </a:cubicBezTo>
                <a:cubicBezTo>
                  <a:pt x="445477" y="1318009"/>
                  <a:pt x="515815" y="1353178"/>
                  <a:pt x="524189" y="1416817"/>
                </a:cubicBezTo>
                <a:cubicBezTo>
                  <a:pt x="532563" y="1480456"/>
                  <a:pt x="507442" y="1584290"/>
                  <a:pt x="514141" y="1637881"/>
                </a:cubicBezTo>
                <a:cubicBezTo>
                  <a:pt x="520840" y="1691472"/>
                  <a:pt x="529214" y="1751763"/>
                  <a:pt x="564383" y="1738365"/>
                </a:cubicBezTo>
                <a:cubicBezTo>
                  <a:pt x="599552" y="1724967"/>
                  <a:pt x="683288" y="1607736"/>
                  <a:pt x="725156" y="1557494"/>
                </a:cubicBezTo>
                <a:cubicBezTo>
                  <a:pt x="767024" y="1507252"/>
                  <a:pt x="802194" y="1440263"/>
                  <a:pt x="815592" y="1436914"/>
                </a:cubicBezTo>
                <a:cubicBezTo>
                  <a:pt x="828990" y="1433565"/>
                  <a:pt x="751952" y="1450312"/>
                  <a:pt x="805543" y="1537398"/>
                </a:cubicBezTo>
                <a:cubicBezTo>
                  <a:pt x="859134" y="1624484"/>
                  <a:pt x="1053403" y="1855595"/>
                  <a:pt x="1137139" y="1959428"/>
                </a:cubicBezTo>
                <a:cubicBezTo>
                  <a:pt x="1220875" y="2063261"/>
                  <a:pt x="1269442" y="2146997"/>
                  <a:pt x="1307961" y="2160395"/>
                </a:cubicBezTo>
                <a:cubicBezTo>
                  <a:pt x="1346480" y="2173793"/>
                  <a:pt x="1348154" y="2123551"/>
                  <a:pt x="1368251" y="2039815"/>
                </a:cubicBezTo>
                <a:cubicBezTo>
                  <a:pt x="1388348" y="1956079"/>
                  <a:pt x="1441939" y="1753437"/>
                  <a:pt x="1428541" y="1657978"/>
                </a:cubicBezTo>
                <a:cubicBezTo>
                  <a:pt x="1415143" y="1562519"/>
                  <a:pt x="1319684" y="1512277"/>
                  <a:pt x="1287864" y="1467059"/>
                </a:cubicBezTo>
                <a:cubicBezTo>
                  <a:pt x="1256044" y="1421841"/>
                  <a:pt x="1158910" y="1400070"/>
                  <a:pt x="1237622" y="1386672"/>
                </a:cubicBezTo>
                <a:cubicBezTo>
                  <a:pt x="1316334" y="1373274"/>
                  <a:pt x="1642906" y="1426865"/>
                  <a:pt x="1760137" y="1386672"/>
                </a:cubicBezTo>
                <a:cubicBezTo>
                  <a:pt x="1877368" y="1346479"/>
                  <a:pt x="1879042" y="1222549"/>
                  <a:pt x="1941007" y="1145512"/>
                </a:cubicBezTo>
                <a:cubicBezTo>
                  <a:pt x="2002972" y="1068475"/>
                  <a:pt x="2158722" y="959617"/>
                  <a:pt x="2131926" y="924448"/>
                </a:cubicBezTo>
                <a:cubicBezTo>
                  <a:pt x="2105130" y="889279"/>
                  <a:pt x="1889090" y="912725"/>
                  <a:pt x="1780233" y="934496"/>
                </a:cubicBezTo>
                <a:cubicBezTo>
                  <a:pt x="1671376" y="956267"/>
                  <a:pt x="1575917" y="1009859"/>
                  <a:pt x="1478783" y="1055077"/>
                </a:cubicBezTo>
                <a:cubicBezTo>
                  <a:pt x="1381649" y="1100295"/>
                  <a:pt x="1256044" y="1185705"/>
                  <a:pt x="1197429" y="1205802"/>
                </a:cubicBezTo>
                <a:cubicBezTo>
                  <a:pt x="1138814" y="1225899"/>
                  <a:pt x="1138814" y="1185705"/>
                  <a:pt x="1127091" y="1175657"/>
                </a:cubicBezTo>
                <a:cubicBezTo>
                  <a:pt x="1115368" y="1165609"/>
                  <a:pt x="1127091" y="1145512"/>
                  <a:pt x="1127091" y="1145512"/>
                </a:cubicBezTo>
              </a:path>
            </a:pathLst>
          </a:custGeom>
          <a:solidFill>
            <a:srgbClr val="b9cde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олилиния 6"/>
          <p:cNvSpPr/>
          <p:nvPr/>
        </p:nvSpPr>
        <p:spPr>
          <a:xfrm>
            <a:off x="2755800" y="2757600"/>
            <a:ext cx="716040" cy="690480"/>
          </a:xfrm>
          <a:custGeom>
            <a:avLst/>
            <a:gdLst/>
            <a:ahLst/>
            <a:rect l="l" t="t" r="r" b="b"/>
            <a:pathLst>
              <a:path w="715108" h="689987">
                <a:moveTo>
                  <a:pt x="56941" y="165797"/>
                </a:moveTo>
                <a:cubicBezTo>
                  <a:pt x="46893" y="231111"/>
                  <a:pt x="21772" y="318197"/>
                  <a:pt x="16748" y="396909"/>
                </a:cubicBezTo>
                <a:cubicBezTo>
                  <a:pt x="11724" y="475621"/>
                  <a:pt x="0" y="589503"/>
                  <a:pt x="26796" y="638070"/>
                </a:cubicBezTo>
                <a:cubicBezTo>
                  <a:pt x="53592" y="686637"/>
                  <a:pt x="123931" y="686637"/>
                  <a:pt x="177522" y="688312"/>
                </a:cubicBezTo>
                <a:cubicBezTo>
                  <a:pt x="231113" y="689987"/>
                  <a:pt x="289729" y="666540"/>
                  <a:pt x="348344" y="648118"/>
                </a:cubicBezTo>
                <a:cubicBezTo>
                  <a:pt x="406959" y="629696"/>
                  <a:pt x="475623" y="602901"/>
                  <a:pt x="529214" y="577780"/>
                </a:cubicBezTo>
                <a:cubicBezTo>
                  <a:pt x="582805" y="552659"/>
                  <a:pt x="641421" y="537586"/>
                  <a:pt x="669891" y="497393"/>
                </a:cubicBezTo>
                <a:cubicBezTo>
                  <a:pt x="698361" y="457200"/>
                  <a:pt x="715108" y="371788"/>
                  <a:pt x="700036" y="336619"/>
                </a:cubicBezTo>
                <a:cubicBezTo>
                  <a:pt x="684964" y="301450"/>
                  <a:pt x="629698" y="301450"/>
                  <a:pt x="579456" y="286378"/>
                </a:cubicBezTo>
                <a:cubicBezTo>
                  <a:pt x="529214" y="271306"/>
                  <a:pt x="452176" y="261257"/>
                  <a:pt x="398585" y="246184"/>
                </a:cubicBezTo>
                <a:cubicBezTo>
                  <a:pt x="344994" y="231111"/>
                  <a:pt x="299776" y="221063"/>
                  <a:pt x="257908" y="195942"/>
                </a:cubicBezTo>
                <a:cubicBezTo>
                  <a:pt x="216040" y="170821"/>
                  <a:pt x="177522" y="127279"/>
                  <a:pt x="147377" y="95459"/>
                </a:cubicBezTo>
                <a:cubicBezTo>
                  <a:pt x="117232" y="63639"/>
                  <a:pt x="88761" y="0"/>
                  <a:pt x="77038" y="5024"/>
                </a:cubicBezTo>
                <a:cubicBezTo>
                  <a:pt x="65315" y="10048"/>
                  <a:pt x="66989" y="100483"/>
                  <a:pt x="56941" y="165797"/>
                </a:cubicBezTo>
                <a:close/>
              </a:path>
            </a:pathLst>
          </a:custGeom>
          <a:solidFill>
            <a:srgbClr val="8eb4e3"/>
          </a:solidFill>
          <a:ln w="25560">
            <a:solidFill>
              <a:srgbClr val="95b3d7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олилиния 7"/>
          <p:cNvSpPr/>
          <p:nvPr/>
        </p:nvSpPr>
        <p:spPr>
          <a:xfrm>
            <a:off x="2571840" y="2428920"/>
            <a:ext cx="1147680" cy="833400"/>
          </a:xfrm>
          <a:custGeom>
            <a:avLst/>
            <a:gdLst/>
            <a:ahLst/>
            <a:rect l="l" t="t" r="r" b="b"/>
            <a:pathLst>
              <a:path w="1147187" h="834014">
                <a:moveTo>
                  <a:pt x="420356" y="164123"/>
                </a:moveTo>
                <a:cubicBezTo>
                  <a:pt x="388536" y="130629"/>
                  <a:pt x="321547" y="46892"/>
                  <a:pt x="269631" y="23446"/>
                </a:cubicBezTo>
                <a:cubicBezTo>
                  <a:pt x="217715" y="0"/>
                  <a:pt x="123929" y="15072"/>
                  <a:pt x="108857" y="23446"/>
                </a:cubicBezTo>
                <a:cubicBezTo>
                  <a:pt x="93785" y="31820"/>
                  <a:pt x="150726" y="51916"/>
                  <a:pt x="179196" y="73688"/>
                </a:cubicBezTo>
                <a:cubicBezTo>
                  <a:pt x="207666" y="95460"/>
                  <a:pt x="271305" y="132304"/>
                  <a:pt x="279679" y="154075"/>
                </a:cubicBezTo>
                <a:cubicBezTo>
                  <a:pt x="288053" y="175846"/>
                  <a:pt x="259583" y="194269"/>
                  <a:pt x="229438" y="204317"/>
                </a:cubicBezTo>
                <a:cubicBezTo>
                  <a:pt x="199293" y="214365"/>
                  <a:pt x="135653" y="200967"/>
                  <a:pt x="98809" y="214365"/>
                </a:cubicBezTo>
                <a:cubicBezTo>
                  <a:pt x="61965" y="227763"/>
                  <a:pt x="16748" y="266282"/>
                  <a:pt x="8374" y="284704"/>
                </a:cubicBezTo>
                <a:cubicBezTo>
                  <a:pt x="0" y="303126"/>
                  <a:pt x="13398" y="321548"/>
                  <a:pt x="48567" y="324897"/>
                </a:cubicBezTo>
                <a:cubicBezTo>
                  <a:pt x="83736" y="328246"/>
                  <a:pt x="174171" y="303125"/>
                  <a:pt x="219389" y="304800"/>
                </a:cubicBezTo>
                <a:cubicBezTo>
                  <a:pt x="264607" y="306475"/>
                  <a:pt x="316524" y="319873"/>
                  <a:pt x="319873" y="334945"/>
                </a:cubicBezTo>
                <a:cubicBezTo>
                  <a:pt x="323222" y="350017"/>
                  <a:pt x="262932" y="368439"/>
                  <a:pt x="239486" y="395235"/>
                </a:cubicBezTo>
                <a:cubicBezTo>
                  <a:pt x="216040" y="422031"/>
                  <a:pt x="177521" y="477297"/>
                  <a:pt x="179196" y="495719"/>
                </a:cubicBezTo>
                <a:cubicBezTo>
                  <a:pt x="180871" y="514141"/>
                  <a:pt x="217714" y="510791"/>
                  <a:pt x="249534" y="505767"/>
                </a:cubicBezTo>
                <a:cubicBezTo>
                  <a:pt x="281354" y="500743"/>
                  <a:pt x="370114" y="465574"/>
                  <a:pt x="370114" y="465574"/>
                </a:cubicBezTo>
                <a:cubicBezTo>
                  <a:pt x="400259" y="455526"/>
                  <a:pt x="420357" y="432079"/>
                  <a:pt x="430405" y="445477"/>
                </a:cubicBezTo>
                <a:cubicBezTo>
                  <a:pt x="440454" y="458875"/>
                  <a:pt x="435429" y="519165"/>
                  <a:pt x="430405" y="545961"/>
                </a:cubicBezTo>
                <a:cubicBezTo>
                  <a:pt x="425381" y="572757"/>
                  <a:pt x="395235" y="574431"/>
                  <a:pt x="400259" y="606251"/>
                </a:cubicBezTo>
                <a:cubicBezTo>
                  <a:pt x="405283" y="638071"/>
                  <a:pt x="443803" y="716782"/>
                  <a:pt x="460550" y="736879"/>
                </a:cubicBezTo>
                <a:cubicBezTo>
                  <a:pt x="477297" y="756976"/>
                  <a:pt x="489020" y="745253"/>
                  <a:pt x="500743" y="726831"/>
                </a:cubicBezTo>
                <a:cubicBezTo>
                  <a:pt x="512466" y="708409"/>
                  <a:pt x="519165" y="653144"/>
                  <a:pt x="530888" y="626348"/>
                </a:cubicBezTo>
                <a:cubicBezTo>
                  <a:pt x="542611" y="599552"/>
                  <a:pt x="564382" y="561033"/>
                  <a:pt x="571081" y="566057"/>
                </a:cubicBezTo>
                <a:cubicBezTo>
                  <a:pt x="577780" y="571081"/>
                  <a:pt x="556008" y="619649"/>
                  <a:pt x="571081" y="656493"/>
                </a:cubicBezTo>
                <a:cubicBezTo>
                  <a:pt x="586154" y="693337"/>
                  <a:pt x="622998" y="758651"/>
                  <a:pt x="661517" y="787121"/>
                </a:cubicBezTo>
                <a:cubicBezTo>
                  <a:pt x="700036" y="815591"/>
                  <a:pt x="778748" y="834014"/>
                  <a:pt x="802194" y="827315"/>
                </a:cubicBezTo>
                <a:cubicBezTo>
                  <a:pt x="825640" y="820616"/>
                  <a:pt x="805544" y="778748"/>
                  <a:pt x="802194" y="746928"/>
                </a:cubicBezTo>
                <a:cubicBezTo>
                  <a:pt x="798844" y="715108"/>
                  <a:pt x="762000" y="648119"/>
                  <a:pt x="782097" y="636396"/>
                </a:cubicBezTo>
                <a:cubicBezTo>
                  <a:pt x="802194" y="624673"/>
                  <a:pt x="865833" y="683288"/>
                  <a:pt x="922774" y="676589"/>
                </a:cubicBezTo>
                <a:cubicBezTo>
                  <a:pt x="979715" y="669890"/>
                  <a:pt x="1100295" y="621323"/>
                  <a:pt x="1123741" y="596202"/>
                </a:cubicBezTo>
                <a:cubicBezTo>
                  <a:pt x="1147187" y="571081"/>
                  <a:pt x="1078523" y="554334"/>
                  <a:pt x="1063451" y="525864"/>
                </a:cubicBezTo>
                <a:cubicBezTo>
                  <a:pt x="1048379" y="497394"/>
                  <a:pt x="1026607" y="463900"/>
                  <a:pt x="1033306" y="425381"/>
                </a:cubicBezTo>
                <a:cubicBezTo>
                  <a:pt x="1040005" y="386862"/>
                  <a:pt x="1118717" y="316523"/>
                  <a:pt x="1103644" y="294752"/>
                </a:cubicBezTo>
                <a:cubicBezTo>
                  <a:pt x="1088571" y="272981"/>
                  <a:pt x="1014883" y="276330"/>
                  <a:pt x="942870" y="294752"/>
                </a:cubicBezTo>
                <a:cubicBezTo>
                  <a:pt x="870857" y="313174"/>
                  <a:pt x="710084" y="405284"/>
                  <a:pt x="671565" y="405284"/>
                </a:cubicBezTo>
                <a:cubicBezTo>
                  <a:pt x="633046" y="405284"/>
                  <a:pt x="715107" y="334945"/>
                  <a:pt x="711758" y="294752"/>
                </a:cubicBezTo>
                <a:cubicBezTo>
                  <a:pt x="708409" y="254559"/>
                  <a:pt x="676589" y="170822"/>
                  <a:pt x="651468" y="164123"/>
                </a:cubicBezTo>
                <a:cubicBezTo>
                  <a:pt x="626347" y="157424"/>
                  <a:pt x="592853" y="237812"/>
                  <a:pt x="561033" y="254559"/>
                </a:cubicBezTo>
                <a:cubicBezTo>
                  <a:pt x="529213" y="271306"/>
                  <a:pt x="477297" y="269631"/>
                  <a:pt x="460550" y="264607"/>
                </a:cubicBezTo>
                <a:cubicBezTo>
                  <a:pt x="443803" y="259583"/>
                  <a:pt x="465574" y="239486"/>
                  <a:pt x="460550" y="224413"/>
                </a:cubicBezTo>
                <a:cubicBezTo>
                  <a:pt x="455526" y="209340"/>
                  <a:pt x="452176" y="197618"/>
                  <a:pt x="420356" y="164123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Полилиния 8"/>
          <p:cNvGrpSpPr/>
          <p:nvPr/>
        </p:nvGrpSpPr>
        <p:grpSpPr>
          <a:xfrm>
            <a:off x="2962440" y="2730600"/>
            <a:ext cx="506160" cy="274680"/>
            <a:chOff x="2962440" y="2730600"/>
            <a:chExt cx="506160" cy="274680"/>
          </a:xfrm>
        </p:grpSpPr>
        <p:pic>
          <p:nvPicPr>
            <p:cNvPr id="115" name="Полилиния 8" descr=""/>
            <p:cNvPicPr/>
            <p:nvPr/>
          </p:nvPicPr>
          <p:blipFill>
            <a:blip r:embed="rId2"/>
            <a:stretch/>
          </p:blipFill>
          <p:spPr>
            <a:xfrm>
              <a:off x="2962440" y="2730600"/>
              <a:ext cx="5061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978280" y="2743200"/>
              <a:ext cx="4856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Полилиния 9"/>
          <p:cNvGrpSpPr/>
          <p:nvPr/>
        </p:nvGrpSpPr>
        <p:grpSpPr>
          <a:xfrm>
            <a:off x="1974960" y="3097080"/>
            <a:ext cx="635040" cy="463680"/>
            <a:chOff x="1974960" y="3097080"/>
            <a:chExt cx="635040" cy="463680"/>
          </a:xfrm>
        </p:grpSpPr>
        <p:pic>
          <p:nvPicPr>
            <p:cNvPr id="118" name="Полилиния 9" descr=""/>
            <p:cNvPicPr/>
            <p:nvPr/>
          </p:nvPicPr>
          <p:blipFill>
            <a:blip r:embed="rId3"/>
            <a:stretch/>
          </p:blipFill>
          <p:spPr>
            <a:xfrm>
              <a:off x="1974960" y="3097080"/>
              <a:ext cx="6350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982880" y="3108240"/>
              <a:ext cx="6206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Полилиния 10"/>
          <p:cNvGrpSpPr/>
          <p:nvPr/>
        </p:nvGrpSpPr>
        <p:grpSpPr>
          <a:xfrm>
            <a:off x="1474920" y="3340080"/>
            <a:ext cx="3902040" cy="2639880"/>
            <a:chOff x="1474920" y="3340080"/>
            <a:chExt cx="3902040" cy="2639880"/>
          </a:xfrm>
        </p:grpSpPr>
        <p:pic>
          <p:nvPicPr>
            <p:cNvPr id="121" name="Полилиния 10" descr=""/>
            <p:cNvPicPr/>
            <p:nvPr/>
          </p:nvPicPr>
          <p:blipFill>
            <a:blip r:embed="rId4"/>
            <a:stretch/>
          </p:blipFill>
          <p:spPr>
            <a:xfrm>
              <a:off x="1477800" y="3340080"/>
              <a:ext cx="389736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74920" y="3343320"/>
              <a:ext cx="3902040" cy="26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Полилиния 11"/>
          <p:cNvGrpSpPr/>
          <p:nvPr/>
        </p:nvGrpSpPr>
        <p:grpSpPr>
          <a:xfrm>
            <a:off x="1298520" y="4559400"/>
            <a:ext cx="2944440" cy="1171440"/>
            <a:chOff x="1298520" y="4559400"/>
            <a:chExt cx="2944440" cy="1171440"/>
          </a:xfrm>
        </p:grpSpPr>
        <p:pic>
          <p:nvPicPr>
            <p:cNvPr id="124" name="Полилиния 11" descr=""/>
            <p:cNvPicPr/>
            <p:nvPr/>
          </p:nvPicPr>
          <p:blipFill>
            <a:blip r:embed="rId5"/>
            <a:stretch/>
          </p:blipFill>
          <p:spPr>
            <a:xfrm>
              <a:off x="1307520" y="4594320"/>
              <a:ext cx="2935440" cy="11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298520" y="4559400"/>
              <a:ext cx="293868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Полилиния 12"/>
          <p:cNvSpPr/>
          <p:nvPr/>
        </p:nvSpPr>
        <p:spPr>
          <a:xfrm>
            <a:off x="1384200" y="4535640"/>
            <a:ext cx="2352600" cy="998280"/>
          </a:xfrm>
          <a:custGeom>
            <a:avLst/>
            <a:gdLst/>
            <a:ahLst/>
            <a:rect l="l" t="t" r="r" b="b"/>
            <a:pathLst>
              <a:path w="2351314" h="998136">
                <a:moveTo>
                  <a:pt x="2332892" y="971341"/>
                </a:moveTo>
                <a:cubicBezTo>
                  <a:pt x="2342103" y="954593"/>
                  <a:pt x="2351314" y="937846"/>
                  <a:pt x="2292699" y="921099"/>
                </a:cubicBezTo>
                <a:cubicBezTo>
                  <a:pt x="2234084" y="904352"/>
                  <a:pt x="1981200" y="870857"/>
                  <a:pt x="1981200" y="870857"/>
                </a:cubicBezTo>
                <a:cubicBezTo>
                  <a:pt x="1813728" y="842387"/>
                  <a:pt x="1485482" y="798844"/>
                  <a:pt x="1287864" y="750277"/>
                </a:cubicBezTo>
                <a:cubicBezTo>
                  <a:pt x="1090246" y="701710"/>
                  <a:pt x="983063" y="689987"/>
                  <a:pt x="795494" y="579455"/>
                </a:cubicBezTo>
                <a:cubicBezTo>
                  <a:pt x="607925" y="468923"/>
                  <a:pt x="281354" y="174172"/>
                  <a:pt x="162448" y="87086"/>
                </a:cubicBezTo>
                <a:cubicBezTo>
                  <a:pt x="43543" y="0"/>
                  <a:pt x="102158" y="61965"/>
                  <a:pt x="82061" y="56941"/>
                </a:cubicBezTo>
                <a:cubicBezTo>
                  <a:pt x="61964" y="51917"/>
                  <a:pt x="0" y="43543"/>
                  <a:pt x="41868" y="56941"/>
                </a:cubicBezTo>
                <a:cubicBezTo>
                  <a:pt x="83736" y="70339"/>
                  <a:pt x="259582" y="75363"/>
                  <a:pt x="333270" y="137328"/>
                </a:cubicBezTo>
                <a:cubicBezTo>
                  <a:pt x="406958" y="199293"/>
                  <a:pt x="415331" y="323222"/>
                  <a:pt x="483995" y="428730"/>
                </a:cubicBezTo>
                <a:cubicBezTo>
                  <a:pt x="552659" y="534238"/>
                  <a:pt x="663191" y="683288"/>
                  <a:pt x="745253" y="770374"/>
                </a:cubicBezTo>
                <a:cubicBezTo>
                  <a:pt x="827315" y="857460"/>
                  <a:pt x="919424" y="914400"/>
                  <a:pt x="976365" y="951244"/>
                </a:cubicBezTo>
                <a:cubicBezTo>
                  <a:pt x="1033306" y="988088"/>
                  <a:pt x="1024932" y="984738"/>
                  <a:pt x="1086897" y="991437"/>
                </a:cubicBezTo>
                <a:cubicBezTo>
                  <a:pt x="1148862" y="998136"/>
                  <a:pt x="1242646" y="994786"/>
                  <a:pt x="1348154" y="991437"/>
                </a:cubicBezTo>
                <a:cubicBezTo>
                  <a:pt x="1453662" y="988088"/>
                  <a:pt x="1582616" y="986413"/>
                  <a:pt x="1719943" y="971341"/>
                </a:cubicBezTo>
                <a:cubicBezTo>
                  <a:pt x="1857270" y="956269"/>
                  <a:pt x="2081683" y="912725"/>
                  <a:pt x="2172118" y="901002"/>
                </a:cubicBezTo>
                <a:cubicBezTo>
                  <a:pt x="2262553" y="889279"/>
                  <a:pt x="2262554" y="901002"/>
                  <a:pt x="2262554" y="901002"/>
                </a:cubicBezTo>
                <a:lnTo>
                  <a:pt x="2262554" y="901002"/>
                </a:lnTo>
                <a:lnTo>
                  <a:pt x="2242457" y="941196"/>
                </a:lnTo>
              </a:path>
            </a:pathLst>
          </a:custGeom>
          <a:solidFill>
            <a:srgbClr val="77933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3"/>
          <p:cNvSpPr/>
          <p:nvPr/>
        </p:nvSpPr>
        <p:spPr>
          <a:xfrm>
            <a:off x="3340080" y="3224160"/>
            <a:ext cx="1433520" cy="2352600"/>
          </a:xfrm>
          <a:custGeom>
            <a:avLst/>
            <a:gdLst/>
            <a:ahLst/>
            <a:rect l="l" t="t" r="r" b="b"/>
            <a:pathLst>
              <a:path w="1433565" h="2352989">
                <a:moveTo>
                  <a:pt x="1433565" y="2352989"/>
                </a:moveTo>
                <a:cubicBezTo>
                  <a:pt x="1264418" y="2248318"/>
                  <a:pt x="1095271" y="2143648"/>
                  <a:pt x="880906" y="2041490"/>
                </a:cubicBezTo>
                <a:cubicBezTo>
                  <a:pt x="666541" y="1939332"/>
                  <a:pt x="288053" y="1868994"/>
                  <a:pt x="147376" y="1740040"/>
                </a:cubicBezTo>
                <a:cubicBezTo>
                  <a:pt x="6699" y="1611086"/>
                  <a:pt x="0" y="1405094"/>
                  <a:pt x="36844" y="1267767"/>
                </a:cubicBezTo>
                <a:cubicBezTo>
                  <a:pt x="73688" y="1130440"/>
                  <a:pt x="195943" y="1105319"/>
                  <a:pt x="368440" y="916075"/>
                </a:cubicBezTo>
                <a:cubicBezTo>
                  <a:pt x="540937" y="726831"/>
                  <a:pt x="926123" y="264606"/>
                  <a:pt x="1071824" y="132303"/>
                </a:cubicBezTo>
                <a:cubicBezTo>
                  <a:pt x="1217525" y="0"/>
                  <a:pt x="1227573" y="18422"/>
                  <a:pt x="1242646" y="122255"/>
                </a:cubicBezTo>
                <a:cubicBezTo>
                  <a:pt x="1257719" y="226088"/>
                  <a:pt x="1239297" y="594527"/>
                  <a:pt x="1162260" y="755301"/>
                </a:cubicBezTo>
                <a:cubicBezTo>
                  <a:pt x="1085223" y="916075"/>
                  <a:pt x="869182" y="946220"/>
                  <a:pt x="780422" y="1086897"/>
                </a:cubicBezTo>
                <a:cubicBezTo>
                  <a:pt x="691662" y="1227574"/>
                  <a:pt x="607926" y="1435240"/>
                  <a:pt x="629697" y="1599363"/>
                </a:cubicBezTo>
                <a:cubicBezTo>
                  <a:pt x="651469" y="1763486"/>
                  <a:pt x="813917" y="1959428"/>
                  <a:pt x="911051" y="2071635"/>
                </a:cubicBezTo>
                <a:cubicBezTo>
                  <a:pt x="1008185" y="2183842"/>
                  <a:pt x="1212501" y="2272602"/>
                  <a:pt x="1212501" y="2272602"/>
                </a:cubicBezTo>
                <a:lnTo>
                  <a:pt x="1212501" y="2272602"/>
                </a:lnTo>
              </a:path>
            </a:pathLst>
          </a:custGeom>
          <a:solidFill>
            <a:srgbClr val="77933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олилиния 14"/>
          <p:cNvSpPr/>
          <p:nvPr/>
        </p:nvSpPr>
        <p:spPr>
          <a:xfrm>
            <a:off x="3643200" y="3214800"/>
            <a:ext cx="1022400" cy="2423880"/>
          </a:xfrm>
          <a:custGeom>
            <a:avLst/>
            <a:gdLst/>
            <a:ahLst/>
            <a:rect l="l" t="t" r="r" b="b"/>
            <a:pathLst>
              <a:path w="1021582" h="2423328">
                <a:moveTo>
                  <a:pt x="998136" y="2423328"/>
                </a:moveTo>
                <a:cubicBezTo>
                  <a:pt x="1009859" y="2397369"/>
                  <a:pt x="1021582" y="2371411"/>
                  <a:pt x="877556" y="2262554"/>
                </a:cubicBezTo>
                <a:cubicBezTo>
                  <a:pt x="733530" y="2153697"/>
                  <a:pt x="267956" y="1909187"/>
                  <a:pt x="133978" y="1770185"/>
                </a:cubicBezTo>
                <a:cubicBezTo>
                  <a:pt x="0" y="1631183"/>
                  <a:pt x="58616" y="1549121"/>
                  <a:pt x="73688" y="1428541"/>
                </a:cubicBezTo>
                <a:cubicBezTo>
                  <a:pt x="88761" y="1307961"/>
                  <a:pt x="169147" y="1152212"/>
                  <a:pt x="224413" y="1046704"/>
                </a:cubicBezTo>
                <a:cubicBezTo>
                  <a:pt x="279679" y="941196"/>
                  <a:pt x="331595" y="864159"/>
                  <a:pt x="405283" y="795495"/>
                </a:cubicBezTo>
                <a:cubicBezTo>
                  <a:pt x="478971" y="726831"/>
                  <a:pt x="571082" y="720132"/>
                  <a:pt x="666541" y="634721"/>
                </a:cubicBezTo>
                <a:cubicBezTo>
                  <a:pt x="762000" y="549310"/>
                  <a:pt x="937847" y="376813"/>
                  <a:pt x="978040" y="283029"/>
                </a:cubicBezTo>
                <a:cubicBezTo>
                  <a:pt x="1018233" y="189245"/>
                  <a:pt x="922774" y="108858"/>
                  <a:pt x="907701" y="72014"/>
                </a:cubicBezTo>
                <a:cubicBezTo>
                  <a:pt x="892628" y="35170"/>
                  <a:pt x="889279" y="0"/>
                  <a:pt x="887604" y="61965"/>
                </a:cubicBezTo>
                <a:cubicBezTo>
                  <a:pt x="885929" y="123930"/>
                  <a:pt x="926123" y="296427"/>
                  <a:pt x="897653" y="443803"/>
                </a:cubicBezTo>
                <a:cubicBezTo>
                  <a:pt x="869183" y="591179"/>
                  <a:pt x="785446" y="828989"/>
                  <a:pt x="716782" y="946220"/>
                </a:cubicBezTo>
                <a:cubicBezTo>
                  <a:pt x="648118" y="1063451"/>
                  <a:pt x="550984" y="1051728"/>
                  <a:pt x="485670" y="1147187"/>
                </a:cubicBezTo>
                <a:cubicBezTo>
                  <a:pt x="420356" y="1242646"/>
                  <a:pt x="348343" y="1405095"/>
                  <a:pt x="324897" y="1518976"/>
                </a:cubicBezTo>
                <a:cubicBezTo>
                  <a:pt x="301451" y="1632857"/>
                  <a:pt x="269631" y="1714919"/>
                  <a:pt x="344993" y="1830475"/>
                </a:cubicBezTo>
                <a:cubicBezTo>
                  <a:pt x="420356" y="1946031"/>
                  <a:pt x="705059" y="2150348"/>
                  <a:pt x="777072" y="2212313"/>
                </a:cubicBezTo>
                <a:cubicBezTo>
                  <a:pt x="849085" y="2274278"/>
                  <a:pt x="777072" y="2202264"/>
                  <a:pt x="777072" y="2202264"/>
                </a:cubicBezTo>
                <a:lnTo>
                  <a:pt x="777072" y="2202264"/>
                </a:lnTo>
              </a:path>
            </a:pathLst>
          </a:custGeom>
          <a:solidFill>
            <a:srgbClr val="4f6228"/>
          </a:solidFill>
          <a:ln w="9360">
            <a:solidFill>
              <a:srgbClr val="4a7ebb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Полилиния 15"/>
          <p:cNvGrpSpPr/>
          <p:nvPr/>
        </p:nvGrpSpPr>
        <p:grpSpPr>
          <a:xfrm>
            <a:off x="2444760" y="2786040"/>
            <a:ext cx="1481040" cy="1189080"/>
            <a:chOff x="2444760" y="2786040"/>
            <a:chExt cx="1481040" cy="1189080"/>
          </a:xfrm>
        </p:grpSpPr>
        <p:pic>
          <p:nvPicPr>
            <p:cNvPr id="130" name="Полилиния 15" descr=""/>
            <p:cNvPicPr/>
            <p:nvPr/>
          </p:nvPicPr>
          <p:blipFill>
            <a:blip r:embed="rId6"/>
            <a:stretch/>
          </p:blipFill>
          <p:spPr>
            <a:xfrm>
              <a:off x="2444760" y="2786040"/>
              <a:ext cx="14810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517840" y="2867040"/>
              <a:ext cx="133344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Полилиния 17"/>
          <p:cNvSpPr/>
          <p:nvPr/>
        </p:nvSpPr>
        <p:spPr>
          <a:xfrm>
            <a:off x="5554800" y="2413080"/>
            <a:ext cx="1377720" cy="731880"/>
          </a:xfrm>
          <a:custGeom>
            <a:avLst/>
            <a:gdLst/>
            <a:ahLst/>
            <a:rect l="l" t="t" r="r" b="b"/>
            <a:pathLst>
              <a:path w="1379442" h="733187">
                <a:moveTo>
                  <a:pt x="666009" y="270671"/>
                </a:moveTo>
                <a:cubicBezTo>
                  <a:pt x="659310" y="262297"/>
                  <a:pt x="643620" y="232819"/>
                  <a:pt x="605719" y="200332"/>
                </a:cubicBezTo>
                <a:cubicBezTo>
                  <a:pt x="596550" y="192473"/>
                  <a:pt x="584852" y="187967"/>
                  <a:pt x="575574" y="180236"/>
                </a:cubicBezTo>
                <a:cubicBezTo>
                  <a:pt x="540896" y="151338"/>
                  <a:pt x="535926" y="126826"/>
                  <a:pt x="485138" y="109897"/>
                </a:cubicBezTo>
                <a:cubicBezTo>
                  <a:pt x="475090" y="106548"/>
                  <a:pt x="465269" y="102418"/>
                  <a:pt x="454993" y="99849"/>
                </a:cubicBezTo>
                <a:cubicBezTo>
                  <a:pt x="408963" y="88342"/>
                  <a:pt x="373172" y="85853"/>
                  <a:pt x="324365" y="79752"/>
                </a:cubicBezTo>
                <a:cubicBezTo>
                  <a:pt x="257376" y="83102"/>
                  <a:pt x="189953" y="81482"/>
                  <a:pt x="123398" y="89801"/>
                </a:cubicBezTo>
                <a:cubicBezTo>
                  <a:pt x="108534" y="91659"/>
                  <a:pt x="96049" y="102190"/>
                  <a:pt x="83204" y="109897"/>
                </a:cubicBezTo>
                <a:cubicBezTo>
                  <a:pt x="62493" y="122324"/>
                  <a:pt x="0" y="157729"/>
                  <a:pt x="22914" y="150091"/>
                </a:cubicBezTo>
                <a:lnTo>
                  <a:pt x="53059" y="140042"/>
                </a:lnTo>
                <a:cubicBezTo>
                  <a:pt x="93252" y="143392"/>
                  <a:pt x="133855" y="143460"/>
                  <a:pt x="173639" y="150091"/>
                </a:cubicBezTo>
                <a:cubicBezTo>
                  <a:pt x="194535" y="153574"/>
                  <a:pt x="213833" y="163488"/>
                  <a:pt x="233930" y="170187"/>
                </a:cubicBezTo>
                <a:lnTo>
                  <a:pt x="264075" y="180236"/>
                </a:lnTo>
                <a:cubicBezTo>
                  <a:pt x="274123" y="190284"/>
                  <a:pt x="281882" y="203331"/>
                  <a:pt x="294220" y="210381"/>
                </a:cubicBezTo>
                <a:cubicBezTo>
                  <a:pt x="306210" y="217233"/>
                  <a:pt x="321134" y="216635"/>
                  <a:pt x="334413" y="220429"/>
                </a:cubicBezTo>
                <a:cubicBezTo>
                  <a:pt x="344597" y="223339"/>
                  <a:pt x="354510" y="227128"/>
                  <a:pt x="364558" y="230477"/>
                </a:cubicBezTo>
                <a:cubicBezTo>
                  <a:pt x="377956" y="240526"/>
                  <a:pt x="389772" y="253133"/>
                  <a:pt x="404752" y="260623"/>
                </a:cubicBezTo>
                <a:cubicBezTo>
                  <a:pt x="423699" y="270097"/>
                  <a:pt x="465042" y="280719"/>
                  <a:pt x="465042" y="280719"/>
                </a:cubicBezTo>
                <a:cubicBezTo>
                  <a:pt x="341332" y="321958"/>
                  <a:pt x="594078" y="240772"/>
                  <a:pt x="203784" y="300816"/>
                </a:cubicBezTo>
                <a:cubicBezTo>
                  <a:pt x="189739" y="302977"/>
                  <a:pt x="167284" y="318251"/>
                  <a:pt x="173639" y="330961"/>
                </a:cubicBezTo>
                <a:cubicBezTo>
                  <a:pt x="179815" y="343313"/>
                  <a:pt x="200435" y="324262"/>
                  <a:pt x="213833" y="320913"/>
                </a:cubicBezTo>
                <a:cubicBezTo>
                  <a:pt x="264075" y="324262"/>
                  <a:pt x="314762" y="323492"/>
                  <a:pt x="364558" y="330961"/>
                </a:cubicBezTo>
                <a:cubicBezTo>
                  <a:pt x="382396" y="333637"/>
                  <a:pt x="397523" y="345875"/>
                  <a:pt x="414800" y="351058"/>
                </a:cubicBezTo>
                <a:cubicBezTo>
                  <a:pt x="431159" y="355966"/>
                  <a:pt x="448295" y="357757"/>
                  <a:pt x="465042" y="361106"/>
                </a:cubicBezTo>
                <a:cubicBezTo>
                  <a:pt x="461692" y="371154"/>
                  <a:pt x="460868" y="382438"/>
                  <a:pt x="454993" y="391251"/>
                </a:cubicBezTo>
                <a:cubicBezTo>
                  <a:pt x="439519" y="414462"/>
                  <a:pt x="416947" y="426664"/>
                  <a:pt x="394703" y="441493"/>
                </a:cubicBezTo>
                <a:cubicBezTo>
                  <a:pt x="388004" y="451541"/>
                  <a:pt x="366066" y="463099"/>
                  <a:pt x="374606" y="471638"/>
                </a:cubicBezTo>
                <a:cubicBezTo>
                  <a:pt x="383146" y="480177"/>
                  <a:pt x="395726" y="459564"/>
                  <a:pt x="404752" y="451541"/>
                </a:cubicBezTo>
                <a:cubicBezTo>
                  <a:pt x="508001" y="359765"/>
                  <a:pt x="426769" y="416767"/>
                  <a:pt x="495187" y="371154"/>
                </a:cubicBezTo>
                <a:cubicBezTo>
                  <a:pt x="491837" y="431444"/>
                  <a:pt x="477649" y="492108"/>
                  <a:pt x="485138" y="552025"/>
                </a:cubicBezTo>
                <a:cubicBezTo>
                  <a:pt x="486636" y="564008"/>
                  <a:pt x="507552" y="541206"/>
                  <a:pt x="515283" y="531928"/>
                </a:cubicBezTo>
                <a:cubicBezTo>
                  <a:pt x="524872" y="520421"/>
                  <a:pt x="527948" y="504740"/>
                  <a:pt x="535380" y="491735"/>
                </a:cubicBezTo>
                <a:cubicBezTo>
                  <a:pt x="555784" y="456028"/>
                  <a:pt x="562945" y="454122"/>
                  <a:pt x="595670" y="421396"/>
                </a:cubicBezTo>
                <a:cubicBezTo>
                  <a:pt x="599020" y="434794"/>
                  <a:pt x="605719" y="447780"/>
                  <a:pt x="605719" y="461590"/>
                </a:cubicBezTo>
                <a:cubicBezTo>
                  <a:pt x="605719" y="521973"/>
                  <a:pt x="595670" y="582077"/>
                  <a:pt x="595670" y="642460"/>
                </a:cubicBezTo>
                <a:cubicBezTo>
                  <a:pt x="595670" y="656270"/>
                  <a:pt x="601925" y="615545"/>
                  <a:pt x="605719" y="602266"/>
                </a:cubicBezTo>
                <a:cubicBezTo>
                  <a:pt x="608629" y="592082"/>
                  <a:pt x="613198" y="582397"/>
                  <a:pt x="615767" y="572121"/>
                </a:cubicBezTo>
                <a:cubicBezTo>
                  <a:pt x="619909" y="555552"/>
                  <a:pt x="616342" y="536090"/>
                  <a:pt x="625815" y="521880"/>
                </a:cubicBezTo>
                <a:cubicBezTo>
                  <a:pt x="631690" y="513067"/>
                  <a:pt x="645912" y="515181"/>
                  <a:pt x="655960" y="511831"/>
                </a:cubicBezTo>
                <a:lnTo>
                  <a:pt x="676057" y="572121"/>
                </a:lnTo>
                <a:lnTo>
                  <a:pt x="686105" y="602266"/>
                </a:lnTo>
                <a:cubicBezTo>
                  <a:pt x="682756" y="642460"/>
                  <a:pt x="684806" y="683474"/>
                  <a:pt x="676057" y="722847"/>
                </a:cubicBezTo>
                <a:cubicBezTo>
                  <a:pt x="673759" y="733187"/>
                  <a:pt x="666009" y="703294"/>
                  <a:pt x="666009" y="692702"/>
                </a:cubicBezTo>
                <a:cubicBezTo>
                  <a:pt x="666009" y="649030"/>
                  <a:pt x="672708" y="605616"/>
                  <a:pt x="676057" y="562073"/>
                </a:cubicBezTo>
                <a:cubicBezTo>
                  <a:pt x="686105" y="575471"/>
                  <a:pt x="697893" y="587725"/>
                  <a:pt x="706202" y="602266"/>
                </a:cubicBezTo>
                <a:cubicBezTo>
                  <a:pt x="723126" y="631883"/>
                  <a:pt x="709374" y="653039"/>
                  <a:pt x="726299" y="602266"/>
                </a:cubicBezTo>
                <a:cubicBezTo>
                  <a:pt x="729648" y="572121"/>
                  <a:pt x="726756" y="540605"/>
                  <a:pt x="736347" y="511831"/>
                </a:cubicBezTo>
                <a:cubicBezTo>
                  <a:pt x="739696" y="501783"/>
                  <a:pt x="741658" y="532502"/>
                  <a:pt x="746395" y="541976"/>
                </a:cubicBezTo>
                <a:cubicBezTo>
                  <a:pt x="751796" y="552778"/>
                  <a:pt x="759473" y="562294"/>
                  <a:pt x="766492" y="572121"/>
                </a:cubicBezTo>
                <a:cubicBezTo>
                  <a:pt x="809972" y="632993"/>
                  <a:pt x="785259" y="589559"/>
                  <a:pt x="816734" y="652508"/>
                </a:cubicBezTo>
                <a:cubicBezTo>
                  <a:pt x="820083" y="642460"/>
                  <a:pt x="826782" y="632955"/>
                  <a:pt x="826782" y="622363"/>
                </a:cubicBezTo>
                <a:cubicBezTo>
                  <a:pt x="826782" y="586360"/>
                  <a:pt x="815480" y="547009"/>
                  <a:pt x="806686" y="511831"/>
                </a:cubicBezTo>
                <a:cubicBezTo>
                  <a:pt x="810035" y="495084"/>
                  <a:pt x="800165" y="457448"/>
                  <a:pt x="816734" y="461590"/>
                </a:cubicBezTo>
                <a:cubicBezTo>
                  <a:pt x="848902" y="469632"/>
                  <a:pt x="868679" y="504339"/>
                  <a:pt x="887072" y="531928"/>
                </a:cubicBezTo>
                <a:lnTo>
                  <a:pt x="927266" y="592218"/>
                </a:lnTo>
                <a:cubicBezTo>
                  <a:pt x="933965" y="582170"/>
                  <a:pt x="950681" y="573685"/>
                  <a:pt x="947363" y="562073"/>
                </a:cubicBezTo>
                <a:cubicBezTo>
                  <a:pt x="942158" y="543855"/>
                  <a:pt x="919500" y="536266"/>
                  <a:pt x="907169" y="521880"/>
                </a:cubicBezTo>
                <a:cubicBezTo>
                  <a:pt x="823222" y="423944"/>
                  <a:pt x="961468" y="566131"/>
                  <a:pt x="856927" y="461590"/>
                </a:cubicBezTo>
                <a:cubicBezTo>
                  <a:pt x="870325" y="458240"/>
                  <a:pt x="883311" y="451541"/>
                  <a:pt x="897121" y="451541"/>
                </a:cubicBezTo>
                <a:cubicBezTo>
                  <a:pt x="933119" y="451541"/>
                  <a:pt x="972478" y="462845"/>
                  <a:pt x="1007653" y="471638"/>
                </a:cubicBezTo>
                <a:cubicBezTo>
                  <a:pt x="1021051" y="478337"/>
                  <a:pt x="1033821" y="486475"/>
                  <a:pt x="1047846" y="491735"/>
                </a:cubicBezTo>
                <a:cubicBezTo>
                  <a:pt x="1081040" y="504183"/>
                  <a:pt x="1166655" y="511610"/>
                  <a:pt x="1007653" y="491735"/>
                </a:cubicBezTo>
                <a:cubicBezTo>
                  <a:pt x="990906" y="481687"/>
                  <a:pt x="973661" y="472424"/>
                  <a:pt x="957411" y="461590"/>
                </a:cubicBezTo>
                <a:cubicBezTo>
                  <a:pt x="943476" y="452300"/>
                  <a:pt x="931419" y="440321"/>
                  <a:pt x="917217" y="431445"/>
                </a:cubicBezTo>
                <a:cubicBezTo>
                  <a:pt x="904515" y="423506"/>
                  <a:pt x="890422" y="418047"/>
                  <a:pt x="877024" y="411348"/>
                </a:cubicBezTo>
                <a:cubicBezTo>
                  <a:pt x="952328" y="386245"/>
                  <a:pt x="909006" y="396459"/>
                  <a:pt x="1057894" y="411348"/>
                </a:cubicBezTo>
                <a:cubicBezTo>
                  <a:pt x="1074888" y="413047"/>
                  <a:pt x="1091567" y="417254"/>
                  <a:pt x="1108136" y="421396"/>
                </a:cubicBezTo>
                <a:cubicBezTo>
                  <a:pt x="1118412" y="423965"/>
                  <a:pt x="1145771" y="438935"/>
                  <a:pt x="1138281" y="431445"/>
                </a:cubicBezTo>
                <a:cubicBezTo>
                  <a:pt x="1127689" y="420853"/>
                  <a:pt x="1112113" y="416608"/>
                  <a:pt x="1098088" y="411348"/>
                </a:cubicBezTo>
                <a:cubicBezTo>
                  <a:pt x="1081866" y="405265"/>
                  <a:pt x="1021301" y="393981"/>
                  <a:pt x="1007653" y="391251"/>
                </a:cubicBezTo>
                <a:cubicBezTo>
                  <a:pt x="1026227" y="385060"/>
                  <a:pt x="1098088" y="362686"/>
                  <a:pt x="1098088" y="351058"/>
                </a:cubicBezTo>
                <a:cubicBezTo>
                  <a:pt x="1098088" y="329874"/>
                  <a:pt x="1037798" y="330961"/>
                  <a:pt x="1037798" y="330961"/>
                </a:cubicBezTo>
                <a:cubicBezTo>
                  <a:pt x="1007653" y="334310"/>
                  <a:pt x="977281" y="336023"/>
                  <a:pt x="947363" y="341009"/>
                </a:cubicBezTo>
                <a:cubicBezTo>
                  <a:pt x="936915" y="342750"/>
                  <a:pt x="927809" y="351058"/>
                  <a:pt x="917217" y="351058"/>
                </a:cubicBezTo>
                <a:cubicBezTo>
                  <a:pt x="900138" y="351058"/>
                  <a:pt x="883723" y="344359"/>
                  <a:pt x="866976" y="341009"/>
                </a:cubicBezTo>
                <a:cubicBezTo>
                  <a:pt x="870325" y="327611"/>
                  <a:pt x="868397" y="311600"/>
                  <a:pt x="877024" y="300816"/>
                </a:cubicBezTo>
                <a:cubicBezTo>
                  <a:pt x="883641" y="292545"/>
                  <a:pt x="897695" y="295505"/>
                  <a:pt x="907169" y="290768"/>
                </a:cubicBezTo>
                <a:cubicBezTo>
                  <a:pt x="1010668" y="239019"/>
                  <a:pt x="896642" y="275815"/>
                  <a:pt x="1037798" y="240526"/>
                </a:cubicBezTo>
                <a:cubicBezTo>
                  <a:pt x="1131583" y="243875"/>
                  <a:pt x="1225469" y="245063"/>
                  <a:pt x="1319152" y="250574"/>
                </a:cubicBezTo>
                <a:cubicBezTo>
                  <a:pt x="1339491" y="251770"/>
                  <a:pt x="1379442" y="280997"/>
                  <a:pt x="1379442" y="260623"/>
                </a:cubicBezTo>
                <a:cubicBezTo>
                  <a:pt x="1379442" y="239439"/>
                  <a:pt x="1340123" y="243522"/>
                  <a:pt x="1319152" y="240526"/>
                </a:cubicBezTo>
                <a:cubicBezTo>
                  <a:pt x="1222080" y="226658"/>
                  <a:pt x="1272315" y="233415"/>
                  <a:pt x="1168426" y="220429"/>
                </a:cubicBezTo>
                <a:cubicBezTo>
                  <a:pt x="1138281" y="223778"/>
                  <a:pt x="1107909" y="225491"/>
                  <a:pt x="1077991" y="230477"/>
                </a:cubicBezTo>
                <a:cubicBezTo>
                  <a:pt x="1067543" y="232218"/>
                  <a:pt x="1055336" y="248015"/>
                  <a:pt x="1047846" y="240526"/>
                </a:cubicBezTo>
                <a:cubicBezTo>
                  <a:pt x="1040356" y="233037"/>
                  <a:pt x="1052019" y="219194"/>
                  <a:pt x="1057894" y="210381"/>
                </a:cubicBezTo>
                <a:cubicBezTo>
                  <a:pt x="1065777" y="198557"/>
                  <a:pt x="1076822" y="188960"/>
                  <a:pt x="1088039" y="180236"/>
                </a:cubicBezTo>
                <a:cubicBezTo>
                  <a:pt x="1107105" y="165407"/>
                  <a:pt x="1126726" y="150844"/>
                  <a:pt x="1148330" y="140042"/>
                </a:cubicBezTo>
                <a:cubicBezTo>
                  <a:pt x="1161728" y="133343"/>
                  <a:pt x="1175518" y="127378"/>
                  <a:pt x="1188523" y="119946"/>
                </a:cubicBezTo>
                <a:cubicBezTo>
                  <a:pt x="1199008" y="113954"/>
                  <a:pt x="1218668" y="87772"/>
                  <a:pt x="1218668" y="99849"/>
                </a:cubicBezTo>
                <a:cubicBezTo>
                  <a:pt x="1218668" y="114059"/>
                  <a:pt x="1200625" y="122546"/>
                  <a:pt x="1188523" y="129994"/>
                </a:cubicBezTo>
                <a:cubicBezTo>
                  <a:pt x="1156630" y="149620"/>
                  <a:pt x="1123566" y="168394"/>
                  <a:pt x="1088039" y="180236"/>
                </a:cubicBezTo>
                <a:lnTo>
                  <a:pt x="1027749" y="200332"/>
                </a:lnTo>
                <a:cubicBezTo>
                  <a:pt x="1027605" y="200440"/>
                  <a:pt x="972755" y="248198"/>
                  <a:pt x="957411" y="240526"/>
                </a:cubicBezTo>
                <a:cubicBezTo>
                  <a:pt x="947937" y="235789"/>
                  <a:pt x="950712" y="220429"/>
                  <a:pt x="947363" y="210381"/>
                </a:cubicBezTo>
                <a:cubicBezTo>
                  <a:pt x="1021238" y="87254"/>
                  <a:pt x="938059" y="209637"/>
                  <a:pt x="1007653" y="140042"/>
                </a:cubicBezTo>
                <a:cubicBezTo>
                  <a:pt x="1016192" y="131503"/>
                  <a:pt x="1019726" y="118923"/>
                  <a:pt x="1027749" y="109897"/>
                </a:cubicBezTo>
                <a:cubicBezTo>
                  <a:pt x="1046631" y="88655"/>
                  <a:pt x="1111687" y="33842"/>
                  <a:pt x="1088039" y="49607"/>
                </a:cubicBezTo>
                <a:cubicBezTo>
                  <a:pt x="1067942" y="63005"/>
                  <a:pt x="1046610" y="74713"/>
                  <a:pt x="1027749" y="89801"/>
                </a:cubicBezTo>
                <a:cubicBezTo>
                  <a:pt x="1011002" y="103199"/>
                  <a:pt x="995602" y="118480"/>
                  <a:pt x="977508" y="129994"/>
                </a:cubicBezTo>
                <a:cubicBezTo>
                  <a:pt x="907269" y="174691"/>
                  <a:pt x="930048" y="148246"/>
                  <a:pt x="856927" y="180236"/>
                </a:cubicBezTo>
                <a:cubicBezTo>
                  <a:pt x="822619" y="195246"/>
                  <a:pt x="791213" y="216569"/>
                  <a:pt x="756444" y="230477"/>
                </a:cubicBezTo>
                <a:cubicBezTo>
                  <a:pt x="692294" y="256137"/>
                  <a:pt x="722335" y="242507"/>
                  <a:pt x="666009" y="270671"/>
                </a:cubicBezTo>
                <a:cubicBezTo>
                  <a:pt x="701083" y="200519"/>
                  <a:pt x="677118" y="242460"/>
                  <a:pt x="746395" y="150091"/>
                </a:cubicBezTo>
                <a:cubicBezTo>
                  <a:pt x="756444" y="136693"/>
                  <a:pt x="764699" y="121739"/>
                  <a:pt x="776541" y="109897"/>
                </a:cubicBezTo>
                <a:cubicBezTo>
                  <a:pt x="786589" y="99849"/>
                  <a:pt x="797589" y="90669"/>
                  <a:pt x="806686" y="79752"/>
                </a:cubicBezTo>
                <a:cubicBezTo>
                  <a:pt x="814417" y="70475"/>
                  <a:pt x="837584" y="55008"/>
                  <a:pt x="826782" y="49607"/>
                </a:cubicBezTo>
                <a:lnTo>
                  <a:pt x="786589" y="69704"/>
                </a:lnTo>
                <a:cubicBezTo>
                  <a:pt x="779890" y="83102"/>
                  <a:pt x="772393" y="96129"/>
                  <a:pt x="766492" y="109897"/>
                </a:cubicBezTo>
                <a:cubicBezTo>
                  <a:pt x="762320" y="119632"/>
                  <a:pt x="761181" y="130568"/>
                  <a:pt x="756444" y="140042"/>
                </a:cubicBezTo>
                <a:cubicBezTo>
                  <a:pt x="747710" y="157511"/>
                  <a:pt x="735033" y="172815"/>
                  <a:pt x="726299" y="190284"/>
                </a:cubicBezTo>
                <a:cubicBezTo>
                  <a:pt x="719089" y="204704"/>
                  <a:pt x="709423" y="247738"/>
                  <a:pt x="706202" y="260623"/>
                </a:cubicBezTo>
                <a:cubicBezTo>
                  <a:pt x="702853" y="247225"/>
                  <a:pt x="697679" y="234155"/>
                  <a:pt x="696154" y="220429"/>
                </a:cubicBezTo>
                <a:cubicBezTo>
                  <a:pt x="690962" y="173705"/>
                  <a:pt x="694275" y="126048"/>
                  <a:pt x="686105" y="79752"/>
                </a:cubicBezTo>
                <a:cubicBezTo>
                  <a:pt x="684006" y="67859"/>
                  <a:pt x="672708" y="59655"/>
                  <a:pt x="666009" y="49607"/>
                </a:cubicBezTo>
                <a:cubicBezTo>
                  <a:pt x="638144" y="133198"/>
                  <a:pt x="680548" y="0"/>
                  <a:pt x="645912" y="150091"/>
                </a:cubicBezTo>
                <a:cubicBezTo>
                  <a:pt x="641149" y="170732"/>
                  <a:pt x="625815" y="210381"/>
                  <a:pt x="625815" y="210381"/>
                </a:cubicBezTo>
                <a:cubicBezTo>
                  <a:pt x="618903" y="189645"/>
                  <a:pt x="602520" y="131020"/>
                  <a:pt x="585622" y="109897"/>
                </a:cubicBezTo>
                <a:cubicBezTo>
                  <a:pt x="546292" y="60734"/>
                  <a:pt x="536445" y="57016"/>
                  <a:pt x="495187" y="29510"/>
                </a:cubicBezTo>
                <a:cubicBezTo>
                  <a:pt x="498536" y="52956"/>
                  <a:pt x="496733" y="77743"/>
                  <a:pt x="505235" y="99849"/>
                </a:cubicBezTo>
                <a:cubicBezTo>
                  <a:pt x="513905" y="122392"/>
                  <a:pt x="545428" y="160139"/>
                  <a:pt x="545428" y="160139"/>
                </a:cubicBezTo>
                <a:cubicBezTo>
                  <a:pt x="564604" y="256015"/>
                  <a:pt x="558742" y="193550"/>
                  <a:pt x="515283" y="150091"/>
                </a:cubicBezTo>
                <a:cubicBezTo>
                  <a:pt x="505235" y="140043"/>
                  <a:pt x="494235" y="130863"/>
                  <a:pt x="485138" y="119946"/>
                </a:cubicBezTo>
                <a:cubicBezTo>
                  <a:pt x="477407" y="110669"/>
                  <a:pt x="465042" y="77725"/>
                  <a:pt x="465042" y="89801"/>
                </a:cubicBezTo>
                <a:cubicBezTo>
                  <a:pt x="465042" y="113898"/>
                  <a:pt x="499640" y="146731"/>
                  <a:pt x="515283" y="160139"/>
                </a:cubicBezTo>
                <a:cubicBezTo>
                  <a:pt x="527999" y="171038"/>
                  <a:pt x="540498" y="182794"/>
                  <a:pt x="555477" y="190284"/>
                </a:cubicBezTo>
                <a:cubicBezTo>
                  <a:pt x="589476" y="207284"/>
                  <a:pt x="629254" y="213078"/>
                  <a:pt x="666009" y="220429"/>
                </a:cubicBezTo>
                <a:cubicBezTo>
                  <a:pt x="659310" y="230477"/>
                  <a:pt x="651313" y="239772"/>
                  <a:pt x="645912" y="250574"/>
                </a:cubicBezTo>
                <a:cubicBezTo>
                  <a:pt x="641175" y="260048"/>
                  <a:pt x="672708" y="279045"/>
                  <a:pt x="666009" y="270671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Полилиния 18"/>
          <p:cNvGrpSpPr/>
          <p:nvPr/>
        </p:nvGrpSpPr>
        <p:grpSpPr>
          <a:xfrm>
            <a:off x="5048280" y="1987560"/>
            <a:ext cx="2327400" cy="1603440"/>
            <a:chOff x="5048280" y="1987560"/>
            <a:chExt cx="2327400" cy="1603440"/>
          </a:xfrm>
        </p:grpSpPr>
        <p:pic>
          <p:nvPicPr>
            <p:cNvPr id="134" name="Полилиния 18" descr=""/>
            <p:cNvPicPr/>
            <p:nvPr/>
          </p:nvPicPr>
          <p:blipFill>
            <a:blip r:embed="rId7"/>
            <a:stretch/>
          </p:blipFill>
          <p:spPr>
            <a:xfrm>
              <a:off x="5048280" y="1987560"/>
              <a:ext cx="23274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194440" y="2211480"/>
              <a:ext cx="193968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Полилиния 19"/>
          <p:cNvGrpSpPr/>
          <p:nvPr/>
        </p:nvGrpSpPr>
        <p:grpSpPr>
          <a:xfrm>
            <a:off x="5870520" y="3157560"/>
            <a:ext cx="371160" cy="675720"/>
            <a:chOff x="5870520" y="3157560"/>
            <a:chExt cx="371160" cy="675720"/>
          </a:xfrm>
        </p:grpSpPr>
        <p:pic>
          <p:nvPicPr>
            <p:cNvPr id="137" name="Полилиния 19" descr=""/>
            <p:cNvPicPr/>
            <p:nvPr/>
          </p:nvPicPr>
          <p:blipFill>
            <a:blip r:embed="rId8"/>
            <a:stretch/>
          </p:blipFill>
          <p:spPr>
            <a:xfrm>
              <a:off x="5878080" y="3157560"/>
              <a:ext cx="3636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870520" y="3165120"/>
              <a:ext cx="35712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Полилиния 20"/>
          <p:cNvSpPr/>
          <p:nvPr/>
        </p:nvSpPr>
        <p:spPr>
          <a:xfrm>
            <a:off x="5877000" y="3757680"/>
            <a:ext cx="415800" cy="2149560"/>
          </a:xfrm>
          <a:custGeom>
            <a:avLst/>
            <a:gdLst/>
            <a:ahLst/>
            <a:rect l="l" t="t" r="r" b="b"/>
            <a:pathLst>
              <a:path w="417007" h="2148672">
                <a:moveTo>
                  <a:pt x="122255" y="80386"/>
                </a:moveTo>
                <a:cubicBezTo>
                  <a:pt x="61127" y="240322"/>
                  <a:pt x="0" y="400259"/>
                  <a:pt x="1675" y="582804"/>
                </a:cubicBezTo>
                <a:cubicBezTo>
                  <a:pt x="3350" y="765349"/>
                  <a:pt x="87086" y="984738"/>
                  <a:pt x="132303" y="1175657"/>
                </a:cubicBezTo>
                <a:cubicBezTo>
                  <a:pt x="177520" y="1366576"/>
                  <a:pt x="259582" y="1577591"/>
                  <a:pt x="272980" y="1728316"/>
                </a:cubicBezTo>
                <a:cubicBezTo>
                  <a:pt x="286378" y="1879041"/>
                  <a:pt x="231112" y="2011344"/>
                  <a:pt x="212690" y="2080008"/>
                </a:cubicBezTo>
                <a:cubicBezTo>
                  <a:pt x="194268" y="2148672"/>
                  <a:pt x="147376" y="2141973"/>
                  <a:pt x="162448" y="2140298"/>
                </a:cubicBezTo>
                <a:cubicBezTo>
                  <a:pt x="177521" y="2138623"/>
                  <a:pt x="262932" y="2103455"/>
                  <a:pt x="303125" y="2069960"/>
                </a:cubicBezTo>
                <a:cubicBezTo>
                  <a:pt x="343319" y="2036466"/>
                  <a:pt x="390211" y="2013019"/>
                  <a:pt x="403609" y="1939331"/>
                </a:cubicBezTo>
                <a:cubicBezTo>
                  <a:pt x="417007" y="1865643"/>
                  <a:pt x="395235" y="1729990"/>
                  <a:pt x="383512" y="1627832"/>
                </a:cubicBezTo>
                <a:cubicBezTo>
                  <a:pt x="371789" y="1525674"/>
                  <a:pt x="355041" y="1423516"/>
                  <a:pt x="333270" y="1326382"/>
                </a:cubicBezTo>
                <a:cubicBezTo>
                  <a:pt x="311499" y="1229248"/>
                  <a:pt x="279679" y="1122065"/>
                  <a:pt x="252884" y="1045028"/>
                </a:cubicBezTo>
                <a:cubicBezTo>
                  <a:pt x="226089" y="967991"/>
                  <a:pt x="195943" y="942870"/>
                  <a:pt x="172497" y="864158"/>
                </a:cubicBezTo>
                <a:cubicBezTo>
                  <a:pt x="149051" y="785446"/>
                  <a:pt x="125605" y="648119"/>
                  <a:pt x="112207" y="572756"/>
                </a:cubicBezTo>
                <a:cubicBezTo>
                  <a:pt x="98809" y="497393"/>
                  <a:pt x="88761" y="455525"/>
                  <a:pt x="92110" y="411982"/>
                </a:cubicBezTo>
                <a:cubicBezTo>
                  <a:pt x="95459" y="368439"/>
                  <a:pt x="127279" y="380162"/>
                  <a:pt x="132303" y="311498"/>
                </a:cubicBezTo>
                <a:cubicBezTo>
                  <a:pt x="137327" y="242834"/>
                  <a:pt x="122255" y="0"/>
                  <a:pt x="122255" y="0"/>
                </a:cubicBezTo>
                <a:lnTo>
                  <a:pt x="122255" y="0"/>
                </a:lnTo>
                <a:lnTo>
                  <a:pt x="122255" y="8038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олилиния 21"/>
          <p:cNvSpPr/>
          <p:nvPr/>
        </p:nvSpPr>
        <p:spPr>
          <a:xfrm>
            <a:off x="6310440" y="3079800"/>
            <a:ext cx="1554120" cy="2577960"/>
          </a:xfrm>
          <a:custGeom>
            <a:avLst/>
            <a:gdLst/>
            <a:ahLst/>
            <a:rect l="l" t="t" r="r" b="b"/>
            <a:pathLst>
              <a:path w="1554145" h="2577403">
                <a:moveTo>
                  <a:pt x="0" y="2577403"/>
                </a:moveTo>
                <a:cubicBezTo>
                  <a:pt x="64477" y="2525486"/>
                  <a:pt x="128954" y="2473570"/>
                  <a:pt x="150725" y="2376436"/>
                </a:cubicBezTo>
                <a:cubicBezTo>
                  <a:pt x="172496" y="2279302"/>
                  <a:pt x="107182" y="2101781"/>
                  <a:pt x="130628" y="1994599"/>
                </a:cubicBezTo>
                <a:cubicBezTo>
                  <a:pt x="154074" y="1887417"/>
                  <a:pt x="261257" y="1751763"/>
                  <a:pt x="291402" y="1733341"/>
                </a:cubicBezTo>
                <a:cubicBezTo>
                  <a:pt x="321547" y="1714919"/>
                  <a:pt x="299776" y="1860621"/>
                  <a:pt x="311499" y="1884067"/>
                </a:cubicBezTo>
                <a:cubicBezTo>
                  <a:pt x="323222" y="1907513"/>
                  <a:pt x="351692" y="1915886"/>
                  <a:pt x="361740" y="1874018"/>
                </a:cubicBezTo>
                <a:cubicBezTo>
                  <a:pt x="371788" y="1832150"/>
                  <a:pt x="376813" y="1718269"/>
                  <a:pt x="371789" y="1632858"/>
                </a:cubicBezTo>
                <a:cubicBezTo>
                  <a:pt x="366765" y="1547447"/>
                  <a:pt x="324896" y="1460361"/>
                  <a:pt x="331595" y="1361552"/>
                </a:cubicBezTo>
                <a:cubicBezTo>
                  <a:pt x="338294" y="1262743"/>
                  <a:pt x="380162" y="1068475"/>
                  <a:pt x="411982" y="1040005"/>
                </a:cubicBezTo>
                <a:cubicBezTo>
                  <a:pt x="443802" y="1011535"/>
                  <a:pt x="483995" y="1152211"/>
                  <a:pt x="522514" y="1190730"/>
                </a:cubicBezTo>
                <a:cubicBezTo>
                  <a:pt x="561033" y="1229249"/>
                  <a:pt x="616298" y="1314660"/>
                  <a:pt x="643094" y="1271117"/>
                </a:cubicBezTo>
                <a:cubicBezTo>
                  <a:pt x="669890" y="1227574"/>
                  <a:pt x="663191" y="1033306"/>
                  <a:pt x="683288" y="929473"/>
                </a:cubicBezTo>
                <a:cubicBezTo>
                  <a:pt x="703385" y="825640"/>
                  <a:pt x="728506" y="664866"/>
                  <a:pt x="763675" y="648119"/>
                </a:cubicBezTo>
                <a:cubicBezTo>
                  <a:pt x="798844" y="631372"/>
                  <a:pt x="857459" y="875882"/>
                  <a:pt x="894303" y="828990"/>
                </a:cubicBezTo>
                <a:cubicBezTo>
                  <a:pt x="931147" y="782098"/>
                  <a:pt x="904351" y="502419"/>
                  <a:pt x="984738" y="366766"/>
                </a:cubicBezTo>
                <a:cubicBezTo>
                  <a:pt x="1065125" y="231113"/>
                  <a:pt x="1282839" y="30146"/>
                  <a:pt x="1376624" y="15073"/>
                </a:cubicBezTo>
                <a:cubicBezTo>
                  <a:pt x="1470409" y="0"/>
                  <a:pt x="1554145" y="165798"/>
                  <a:pt x="1547446" y="276330"/>
                </a:cubicBezTo>
                <a:cubicBezTo>
                  <a:pt x="1540747" y="386862"/>
                  <a:pt x="1403420" y="577781"/>
                  <a:pt x="1336431" y="678265"/>
                </a:cubicBezTo>
                <a:cubicBezTo>
                  <a:pt x="1269442" y="778749"/>
                  <a:pt x="1140488" y="842388"/>
                  <a:pt x="1145512" y="879232"/>
                </a:cubicBezTo>
                <a:cubicBezTo>
                  <a:pt x="1150536" y="916076"/>
                  <a:pt x="1358202" y="859135"/>
                  <a:pt x="1366576" y="899328"/>
                </a:cubicBezTo>
                <a:cubicBezTo>
                  <a:pt x="1374950" y="939521"/>
                  <a:pt x="1254369" y="1063451"/>
                  <a:pt x="1195754" y="1120392"/>
                </a:cubicBezTo>
                <a:cubicBezTo>
                  <a:pt x="1137139" y="1177333"/>
                  <a:pt x="1006510" y="1187381"/>
                  <a:pt x="1014883" y="1240972"/>
                </a:cubicBezTo>
                <a:cubicBezTo>
                  <a:pt x="1023256" y="1294563"/>
                  <a:pt x="1266092" y="1395047"/>
                  <a:pt x="1245995" y="1441939"/>
                </a:cubicBezTo>
                <a:cubicBezTo>
                  <a:pt x="1225898" y="1488831"/>
                  <a:pt x="951243" y="1490506"/>
                  <a:pt x="894303" y="1522326"/>
                </a:cubicBezTo>
                <a:cubicBezTo>
                  <a:pt x="837363" y="1554146"/>
                  <a:pt x="859133" y="1602713"/>
                  <a:pt x="904351" y="1632858"/>
                </a:cubicBezTo>
                <a:cubicBezTo>
                  <a:pt x="949569" y="1663003"/>
                  <a:pt x="1184031" y="1656304"/>
                  <a:pt x="1165609" y="1703196"/>
                </a:cubicBezTo>
                <a:cubicBezTo>
                  <a:pt x="1147187" y="1750088"/>
                  <a:pt x="901003" y="1852247"/>
                  <a:pt x="793820" y="1914212"/>
                </a:cubicBezTo>
                <a:cubicBezTo>
                  <a:pt x="686638" y="1976177"/>
                  <a:pt x="554334" y="2051539"/>
                  <a:pt x="522514" y="2074985"/>
                </a:cubicBezTo>
                <a:cubicBezTo>
                  <a:pt x="490694" y="2098431"/>
                  <a:pt x="574431" y="2024744"/>
                  <a:pt x="602901" y="2054889"/>
                </a:cubicBezTo>
                <a:cubicBezTo>
                  <a:pt x="631371" y="2085034"/>
                  <a:pt x="731855" y="2180493"/>
                  <a:pt x="693336" y="2255856"/>
                </a:cubicBezTo>
                <a:cubicBezTo>
                  <a:pt x="654817" y="2331219"/>
                  <a:pt x="470598" y="2460173"/>
                  <a:pt x="371789" y="2507065"/>
                </a:cubicBezTo>
                <a:cubicBezTo>
                  <a:pt x="272980" y="2553957"/>
                  <a:pt x="100483" y="2537210"/>
                  <a:pt x="100483" y="2537210"/>
                </a:cubicBezTo>
                <a:lnTo>
                  <a:pt x="0" y="2577403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олилиния 22"/>
          <p:cNvSpPr/>
          <p:nvPr/>
        </p:nvSpPr>
        <p:spPr>
          <a:xfrm>
            <a:off x="6461280" y="3262320"/>
            <a:ext cx="1120680" cy="2293920"/>
          </a:xfrm>
          <a:custGeom>
            <a:avLst/>
            <a:gdLst/>
            <a:ahLst/>
            <a:rect l="l" t="t" r="r" b="b"/>
            <a:pathLst>
              <a:path w="1120391" h="2294373">
                <a:moveTo>
                  <a:pt x="0" y="2294373"/>
                </a:moveTo>
                <a:cubicBezTo>
                  <a:pt x="32657" y="2229058"/>
                  <a:pt x="65314" y="2163744"/>
                  <a:pt x="110532" y="2093406"/>
                </a:cubicBezTo>
                <a:cubicBezTo>
                  <a:pt x="155750" y="2023068"/>
                  <a:pt x="227763" y="1959429"/>
                  <a:pt x="271306" y="1872343"/>
                </a:cubicBezTo>
                <a:cubicBezTo>
                  <a:pt x="314849" y="1785257"/>
                  <a:pt x="351692" y="1676400"/>
                  <a:pt x="371789" y="1570892"/>
                </a:cubicBezTo>
                <a:cubicBezTo>
                  <a:pt x="391886" y="1465384"/>
                  <a:pt x="373464" y="1281165"/>
                  <a:pt x="391886" y="1239297"/>
                </a:cubicBezTo>
                <a:cubicBezTo>
                  <a:pt x="410308" y="1197429"/>
                  <a:pt x="443802" y="1339780"/>
                  <a:pt x="482321" y="1319683"/>
                </a:cubicBezTo>
                <a:cubicBezTo>
                  <a:pt x="520840" y="1299586"/>
                  <a:pt x="599552" y="1179006"/>
                  <a:pt x="622998" y="1118716"/>
                </a:cubicBezTo>
                <a:cubicBezTo>
                  <a:pt x="646444" y="1058426"/>
                  <a:pt x="617974" y="1006510"/>
                  <a:pt x="622998" y="957943"/>
                </a:cubicBezTo>
                <a:cubicBezTo>
                  <a:pt x="628022" y="909376"/>
                  <a:pt x="641420" y="857459"/>
                  <a:pt x="653143" y="827314"/>
                </a:cubicBezTo>
                <a:cubicBezTo>
                  <a:pt x="664866" y="797169"/>
                  <a:pt x="658167" y="792144"/>
                  <a:pt x="693336" y="777072"/>
                </a:cubicBezTo>
                <a:cubicBezTo>
                  <a:pt x="728505" y="762000"/>
                  <a:pt x="832338" y="775398"/>
                  <a:pt x="864158" y="736879"/>
                </a:cubicBezTo>
                <a:cubicBezTo>
                  <a:pt x="895978" y="698360"/>
                  <a:pt x="857459" y="639745"/>
                  <a:pt x="884255" y="545960"/>
                </a:cubicBezTo>
                <a:cubicBezTo>
                  <a:pt x="911051" y="452175"/>
                  <a:pt x="989763" y="252883"/>
                  <a:pt x="1024932" y="174171"/>
                </a:cubicBezTo>
                <a:cubicBezTo>
                  <a:pt x="1060101" y="95459"/>
                  <a:pt x="1080198" y="97134"/>
                  <a:pt x="1095270" y="73688"/>
                </a:cubicBezTo>
                <a:cubicBezTo>
                  <a:pt x="1110342" y="50242"/>
                  <a:pt x="1120391" y="0"/>
                  <a:pt x="1115367" y="33494"/>
                </a:cubicBezTo>
                <a:cubicBezTo>
                  <a:pt x="1110343" y="66988"/>
                  <a:pt x="1093595" y="170822"/>
                  <a:pt x="1065125" y="274655"/>
                </a:cubicBezTo>
                <a:cubicBezTo>
                  <a:pt x="1036655" y="378488"/>
                  <a:pt x="973015" y="574430"/>
                  <a:pt x="944545" y="656492"/>
                </a:cubicBezTo>
                <a:cubicBezTo>
                  <a:pt x="916075" y="738554"/>
                  <a:pt x="909376" y="748602"/>
                  <a:pt x="894303" y="767024"/>
                </a:cubicBezTo>
                <a:cubicBezTo>
                  <a:pt x="879231" y="785446"/>
                  <a:pt x="864158" y="763675"/>
                  <a:pt x="854110" y="767024"/>
                </a:cubicBezTo>
                <a:cubicBezTo>
                  <a:pt x="844062" y="770373"/>
                  <a:pt x="817266" y="778747"/>
                  <a:pt x="834013" y="787121"/>
                </a:cubicBezTo>
                <a:cubicBezTo>
                  <a:pt x="850760" y="795495"/>
                  <a:pt x="949570" y="798844"/>
                  <a:pt x="954594" y="817266"/>
                </a:cubicBezTo>
                <a:cubicBezTo>
                  <a:pt x="959618" y="835688"/>
                  <a:pt x="899327" y="879231"/>
                  <a:pt x="864158" y="897653"/>
                </a:cubicBezTo>
                <a:cubicBezTo>
                  <a:pt x="828989" y="916075"/>
                  <a:pt x="773723" y="890954"/>
                  <a:pt x="743578" y="927798"/>
                </a:cubicBezTo>
                <a:cubicBezTo>
                  <a:pt x="713433" y="964642"/>
                  <a:pt x="684963" y="1085222"/>
                  <a:pt x="683288" y="1118716"/>
                </a:cubicBezTo>
                <a:cubicBezTo>
                  <a:pt x="681613" y="1152210"/>
                  <a:pt x="713433" y="1110343"/>
                  <a:pt x="733530" y="1128765"/>
                </a:cubicBezTo>
                <a:cubicBezTo>
                  <a:pt x="753627" y="1147187"/>
                  <a:pt x="812242" y="1199103"/>
                  <a:pt x="803868" y="1229248"/>
                </a:cubicBezTo>
                <a:cubicBezTo>
                  <a:pt x="795494" y="1259393"/>
                  <a:pt x="723481" y="1277815"/>
                  <a:pt x="683288" y="1309635"/>
                </a:cubicBezTo>
                <a:cubicBezTo>
                  <a:pt x="643095" y="1341455"/>
                  <a:pt x="581130" y="1396721"/>
                  <a:pt x="562708" y="1420167"/>
                </a:cubicBezTo>
                <a:cubicBezTo>
                  <a:pt x="544286" y="1443613"/>
                  <a:pt x="547635" y="1436914"/>
                  <a:pt x="572756" y="1450312"/>
                </a:cubicBezTo>
                <a:cubicBezTo>
                  <a:pt x="597877" y="1463710"/>
                  <a:pt x="711758" y="1477108"/>
                  <a:pt x="713433" y="1500554"/>
                </a:cubicBezTo>
                <a:cubicBezTo>
                  <a:pt x="715108" y="1524000"/>
                  <a:pt x="628022" y="1547446"/>
                  <a:pt x="582805" y="1590989"/>
                </a:cubicBezTo>
                <a:cubicBezTo>
                  <a:pt x="537588" y="1634532"/>
                  <a:pt x="490695" y="1714919"/>
                  <a:pt x="442128" y="1761811"/>
                </a:cubicBezTo>
                <a:cubicBezTo>
                  <a:pt x="393561" y="1808703"/>
                  <a:pt x="296426" y="1838849"/>
                  <a:pt x="291402" y="1872343"/>
                </a:cubicBezTo>
                <a:cubicBezTo>
                  <a:pt x="286378" y="1905837"/>
                  <a:pt x="410308" y="1925934"/>
                  <a:pt x="411983" y="1962778"/>
                </a:cubicBezTo>
                <a:cubicBezTo>
                  <a:pt x="413658" y="1999622"/>
                  <a:pt x="343319" y="2053213"/>
                  <a:pt x="301451" y="2093406"/>
                </a:cubicBezTo>
                <a:cubicBezTo>
                  <a:pt x="259583" y="2133599"/>
                  <a:pt x="205992" y="2180492"/>
                  <a:pt x="160774" y="2203938"/>
                </a:cubicBezTo>
                <a:cubicBezTo>
                  <a:pt x="115556" y="2227384"/>
                  <a:pt x="45217" y="2260878"/>
                  <a:pt x="30145" y="2234083"/>
                </a:cubicBezTo>
                <a:cubicBezTo>
                  <a:pt x="15073" y="2207288"/>
                  <a:pt x="56941" y="2101780"/>
                  <a:pt x="70339" y="2043165"/>
                </a:cubicBezTo>
                <a:cubicBezTo>
                  <a:pt x="83737" y="1984550"/>
                  <a:pt x="82062" y="1909187"/>
                  <a:pt x="110532" y="1882391"/>
                </a:cubicBezTo>
                <a:cubicBezTo>
                  <a:pt x="139002" y="1855595"/>
                  <a:pt x="212691" y="1892439"/>
                  <a:pt x="241161" y="1882391"/>
                </a:cubicBezTo>
                <a:cubicBezTo>
                  <a:pt x="269631" y="1872343"/>
                  <a:pt x="272981" y="1837173"/>
                  <a:pt x="281354" y="1822101"/>
                </a:cubicBezTo>
                <a:cubicBezTo>
                  <a:pt x="289727" y="1807029"/>
                  <a:pt x="279679" y="1802004"/>
                  <a:pt x="291402" y="1791956"/>
                </a:cubicBezTo>
                <a:cubicBezTo>
                  <a:pt x="303125" y="1781908"/>
                  <a:pt x="327408" y="1771859"/>
                  <a:pt x="351692" y="1761811"/>
                </a:cubicBezTo>
              </a:path>
            </a:pathLst>
          </a:custGeom>
          <a:solidFill>
            <a:srgbClr val="77933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олилиния 23"/>
          <p:cNvSpPr/>
          <p:nvPr/>
        </p:nvSpPr>
        <p:spPr>
          <a:xfrm>
            <a:off x="4253040" y="4084560"/>
            <a:ext cx="2130120" cy="1724040"/>
          </a:xfrm>
          <a:custGeom>
            <a:avLst/>
            <a:gdLst/>
            <a:ahLst/>
            <a:rect l="l" t="t" r="r" b="b"/>
            <a:pathLst>
              <a:path w="2131925" h="1723291">
                <a:moveTo>
                  <a:pt x="1917560" y="1723291"/>
                </a:moveTo>
                <a:cubicBezTo>
                  <a:pt x="2001296" y="1713242"/>
                  <a:pt x="2085033" y="1703194"/>
                  <a:pt x="2108479" y="1612759"/>
                </a:cubicBezTo>
                <a:cubicBezTo>
                  <a:pt x="2131925" y="1522324"/>
                  <a:pt x="2076659" y="1338104"/>
                  <a:pt x="2058237" y="1180680"/>
                </a:cubicBezTo>
                <a:cubicBezTo>
                  <a:pt x="2039815" y="1023256"/>
                  <a:pt x="2029767" y="773722"/>
                  <a:pt x="1997947" y="668214"/>
                </a:cubicBezTo>
                <a:cubicBezTo>
                  <a:pt x="1966127" y="562706"/>
                  <a:pt x="1902487" y="527537"/>
                  <a:pt x="1867318" y="547634"/>
                </a:cubicBezTo>
                <a:cubicBezTo>
                  <a:pt x="1832149" y="567731"/>
                  <a:pt x="1810377" y="728505"/>
                  <a:pt x="1786931" y="788795"/>
                </a:cubicBezTo>
                <a:cubicBezTo>
                  <a:pt x="1763485" y="849085"/>
                  <a:pt x="1741714" y="931147"/>
                  <a:pt x="1726641" y="909375"/>
                </a:cubicBezTo>
                <a:cubicBezTo>
                  <a:pt x="1711569" y="887604"/>
                  <a:pt x="1711568" y="763674"/>
                  <a:pt x="1696496" y="658166"/>
                </a:cubicBezTo>
                <a:cubicBezTo>
                  <a:pt x="1681424" y="552658"/>
                  <a:pt x="1683098" y="373463"/>
                  <a:pt x="1636206" y="276329"/>
                </a:cubicBezTo>
                <a:cubicBezTo>
                  <a:pt x="1589314" y="179195"/>
                  <a:pt x="1428540" y="0"/>
                  <a:pt x="1415142" y="75362"/>
                </a:cubicBezTo>
                <a:cubicBezTo>
                  <a:pt x="1401744" y="150724"/>
                  <a:pt x="1569217" y="669889"/>
                  <a:pt x="1555819" y="728504"/>
                </a:cubicBezTo>
                <a:cubicBezTo>
                  <a:pt x="1542421" y="787119"/>
                  <a:pt x="1428540" y="519164"/>
                  <a:pt x="1334756" y="427054"/>
                </a:cubicBezTo>
                <a:cubicBezTo>
                  <a:pt x="1240972" y="334944"/>
                  <a:pt x="1029956" y="167471"/>
                  <a:pt x="993112" y="175845"/>
                </a:cubicBezTo>
                <a:cubicBezTo>
                  <a:pt x="956268" y="184219"/>
                  <a:pt x="1125415" y="437103"/>
                  <a:pt x="1113692" y="477296"/>
                </a:cubicBezTo>
                <a:cubicBezTo>
                  <a:pt x="1101969" y="517490"/>
                  <a:pt x="1026606" y="433753"/>
                  <a:pt x="922773" y="417006"/>
                </a:cubicBezTo>
                <a:cubicBezTo>
                  <a:pt x="818940" y="400259"/>
                  <a:pt x="499068" y="333269"/>
                  <a:pt x="490694" y="376812"/>
                </a:cubicBezTo>
                <a:cubicBezTo>
                  <a:pt x="482320" y="420355"/>
                  <a:pt x="834012" y="626347"/>
                  <a:pt x="872531" y="678263"/>
                </a:cubicBezTo>
                <a:cubicBezTo>
                  <a:pt x="911050" y="730179"/>
                  <a:pt x="857459" y="671564"/>
                  <a:pt x="721806" y="688311"/>
                </a:cubicBezTo>
                <a:cubicBezTo>
                  <a:pt x="586153" y="705058"/>
                  <a:pt x="117230" y="741902"/>
                  <a:pt x="58615" y="778746"/>
                </a:cubicBezTo>
                <a:cubicBezTo>
                  <a:pt x="0" y="815590"/>
                  <a:pt x="266281" y="894303"/>
                  <a:pt x="370114" y="909375"/>
                </a:cubicBezTo>
                <a:cubicBezTo>
                  <a:pt x="473947" y="924447"/>
                  <a:pt x="626347" y="860807"/>
                  <a:pt x="681613" y="869181"/>
                </a:cubicBezTo>
                <a:cubicBezTo>
                  <a:pt x="736879" y="877555"/>
                  <a:pt x="663190" y="942870"/>
                  <a:pt x="701709" y="959617"/>
                </a:cubicBezTo>
                <a:cubicBezTo>
                  <a:pt x="740228" y="976364"/>
                  <a:pt x="855784" y="986412"/>
                  <a:pt x="912725" y="969665"/>
                </a:cubicBezTo>
                <a:cubicBezTo>
                  <a:pt x="969666" y="952918"/>
                  <a:pt x="984738" y="887603"/>
                  <a:pt x="1043353" y="859133"/>
                </a:cubicBezTo>
                <a:cubicBezTo>
                  <a:pt x="1101968" y="830663"/>
                  <a:pt x="1214175" y="780421"/>
                  <a:pt x="1264417" y="798843"/>
                </a:cubicBezTo>
                <a:cubicBezTo>
                  <a:pt x="1314659" y="817265"/>
                  <a:pt x="1299586" y="944544"/>
                  <a:pt x="1344804" y="969665"/>
                </a:cubicBezTo>
                <a:cubicBezTo>
                  <a:pt x="1390022" y="994786"/>
                  <a:pt x="1483807" y="939520"/>
                  <a:pt x="1535723" y="949568"/>
                </a:cubicBezTo>
                <a:cubicBezTo>
                  <a:pt x="1587639" y="959616"/>
                  <a:pt x="1641231" y="986412"/>
                  <a:pt x="1656303" y="1029955"/>
                </a:cubicBezTo>
                <a:cubicBezTo>
                  <a:pt x="1671375" y="1073498"/>
                  <a:pt x="1601037" y="1158909"/>
                  <a:pt x="1626158" y="1210825"/>
                </a:cubicBezTo>
                <a:cubicBezTo>
                  <a:pt x="1651279" y="1262741"/>
                  <a:pt x="1748413" y="1289538"/>
                  <a:pt x="1807028" y="1341454"/>
                </a:cubicBezTo>
                <a:cubicBezTo>
                  <a:pt x="1865643" y="1393370"/>
                  <a:pt x="1944356" y="1463709"/>
                  <a:pt x="1977850" y="1522324"/>
                </a:cubicBezTo>
                <a:cubicBezTo>
                  <a:pt x="2011344" y="1580939"/>
                  <a:pt x="2004646" y="1663001"/>
                  <a:pt x="2007995" y="1693146"/>
                </a:cubicBezTo>
                <a:cubicBezTo>
                  <a:pt x="2011344" y="1723291"/>
                  <a:pt x="2004645" y="1713243"/>
                  <a:pt x="1997947" y="1703195"/>
                </a:cubicBezTo>
              </a:path>
            </a:pathLst>
          </a:custGeom>
          <a:solidFill>
            <a:srgbClr val="77933c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олилиния 24"/>
          <p:cNvSpPr/>
          <p:nvPr/>
        </p:nvSpPr>
        <p:spPr>
          <a:xfrm>
            <a:off x="4905360" y="4799160"/>
            <a:ext cx="1427040" cy="938160"/>
          </a:xfrm>
          <a:custGeom>
            <a:avLst/>
            <a:gdLst/>
            <a:ahLst/>
            <a:rect l="l" t="t" r="r" b="b"/>
            <a:pathLst>
              <a:path w="1426867" h="937846">
                <a:moveTo>
                  <a:pt x="1405095" y="937846"/>
                </a:moveTo>
                <a:cubicBezTo>
                  <a:pt x="1415981" y="916074"/>
                  <a:pt x="1426867" y="894303"/>
                  <a:pt x="1374950" y="847411"/>
                </a:cubicBezTo>
                <a:cubicBezTo>
                  <a:pt x="1323034" y="800519"/>
                  <a:pt x="1177332" y="706734"/>
                  <a:pt x="1093596" y="656492"/>
                </a:cubicBezTo>
                <a:cubicBezTo>
                  <a:pt x="1009860" y="606250"/>
                  <a:pt x="901002" y="597877"/>
                  <a:pt x="872532" y="545960"/>
                </a:cubicBezTo>
                <a:cubicBezTo>
                  <a:pt x="844062" y="494044"/>
                  <a:pt x="927798" y="378487"/>
                  <a:pt x="922774" y="344993"/>
                </a:cubicBezTo>
                <a:cubicBezTo>
                  <a:pt x="917750" y="311499"/>
                  <a:pt x="906026" y="353367"/>
                  <a:pt x="842387" y="344993"/>
                </a:cubicBezTo>
                <a:cubicBezTo>
                  <a:pt x="778748" y="336619"/>
                  <a:pt x="589504" y="326571"/>
                  <a:pt x="540937" y="294751"/>
                </a:cubicBezTo>
                <a:cubicBezTo>
                  <a:pt x="492370" y="262931"/>
                  <a:pt x="572757" y="182544"/>
                  <a:pt x="550985" y="154074"/>
                </a:cubicBezTo>
                <a:cubicBezTo>
                  <a:pt x="529213" y="125604"/>
                  <a:pt x="452176" y="98808"/>
                  <a:pt x="410308" y="123929"/>
                </a:cubicBezTo>
                <a:cubicBezTo>
                  <a:pt x="368440" y="149050"/>
                  <a:pt x="348343" y="271306"/>
                  <a:pt x="299776" y="304800"/>
                </a:cubicBezTo>
                <a:cubicBezTo>
                  <a:pt x="251209" y="338294"/>
                  <a:pt x="162449" y="338294"/>
                  <a:pt x="118906" y="324896"/>
                </a:cubicBezTo>
                <a:cubicBezTo>
                  <a:pt x="75363" y="311498"/>
                  <a:pt x="0" y="254558"/>
                  <a:pt x="38519" y="224413"/>
                </a:cubicBezTo>
                <a:cubicBezTo>
                  <a:pt x="77038" y="194268"/>
                  <a:pt x="284704" y="170822"/>
                  <a:pt x="350018" y="144026"/>
                </a:cubicBezTo>
                <a:cubicBezTo>
                  <a:pt x="415332" y="117230"/>
                  <a:pt x="371790" y="82061"/>
                  <a:pt x="430405" y="63639"/>
                </a:cubicBezTo>
                <a:cubicBezTo>
                  <a:pt x="489020" y="45217"/>
                  <a:pt x="648119" y="0"/>
                  <a:pt x="701710" y="33494"/>
                </a:cubicBezTo>
                <a:cubicBezTo>
                  <a:pt x="755301" y="66988"/>
                  <a:pt x="725156" y="227762"/>
                  <a:pt x="751952" y="264606"/>
                </a:cubicBezTo>
                <a:cubicBezTo>
                  <a:pt x="778748" y="301450"/>
                  <a:pt x="813917" y="239486"/>
                  <a:pt x="862484" y="254558"/>
                </a:cubicBezTo>
                <a:cubicBezTo>
                  <a:pt x="911051" y="269631"/>
                  <a:pt x="1009860" y="323221"/>
                  <a:pt x="1043354" y="355041"/>
                </a:cubicBezTo>
                <a:cubicBezTo>
                  <a:pt x="1076849" y="386861"/>
                  <a:pt x="1050053" y="398585"/>
                  <a:pt x="1063451" y="445477"/>
                </a:cubicBezTo>
                <a:cubicBezTo>
                  <a:pt x="1076849" y="492369"/>
                  <a:pt x="1078523" y="579454"/>
                  <a:pt x="1123741" y="636395"/>
                </a:cubicBezTo>
                <a:cubicBezTo>
                  <a:pt x="1168959" y="693336"/>
                  <a:pt x="1294563" y="756976"/>
                  <a:pt x="1334756" y="787121"/>
                </a:cubicBezTo>
                <a:cubicBezTo>
                  <a:pt x="1374949" y="817266"/>
                  <a:pt x="1364901" y="817266"/>
                  <a:pt x="1364901" y="817266"/>
                </a:cubicBezTo>
              </a:path>
            </a:pathLst>
          </a:custGeom>
          <a:solidFill>
            <a:srgbClr val="4f6228"/>
          </a:solidFill>
          <a:ln w="9360">
            <a:solidFill>
              <a:srgbClr val="4a7ebb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Полилиния 25"/>
          <p:cNvGrpSpPr/>
          <p:nvPr/>
        </p:nvGrpSpPr>
        <p:grpSpPr>
          <a:xfrm>
            <a:off x="4979880" y="1755720"/>
            <a:ext cx="2603520" cy="2035080"/>
            <a:chOff x="4979880" y="1755720"/>
            <a:chExt cx="2603520" cy="2035080"/>
          </a:xfrm>
        </p:grpSpPr>
        <p:pic>
          <p:nvPicPr>
            <p:cNvPr id="145" name="Полилиния 25" descr=""/>
            <p:cNvPicPr/>
            <p:nvPr/>
          </p:nvPicPr>
          <p:blipFill>
            <a:blip r:embed="rId9"/>
            <a:stretch/>
          </p:blipFill>
          <p:spPr>
            <a:xfrm>
              <a:off x="4979880" y="1755720"/>
              <a:ext cx="26035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207040" y="1986120"/>
              <a:ext cx="2138400" cy="15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Полилиния 27"/>
          <p:cNvSpPr/>
          <p:nvPr/>
        </p:nvSpPr>
        <p:spPr>
          <a:xfrm>
            <a:off x="5899320" y="2502000"/>
            <a:ext cx="542880" cy="434880"/>
          </a:xfrm>
          <a:custGeom>
            <a:avLst/>
            <a:gdLst/>
            <a:ahLst/>
            <a:rect l="l" t="t" r="r" b="b"/>
            <a:pathLst>
              <a:path w="542949" h="435178">
                <a:moveTo>
                  <a:pt x="271306" y="80386"/>
                </a:moveTo>
                <a:cubicBezTo>
                  <a:pt x="269631" y="63639"/>
                  <a:pt x="270146" y="37444"/>
                  <a:pt x="231113" y="20096"/>
                </a:cubicBezTo>
                <a:cubicBezTo>
                  <a:pt x="211755" y="11493"/>
                  <a:pt x="170822" y="0"/>
                  <a:pt x="170822" y="0"/>
                </a:cubicBezTo>
                <a:cubicBezTo>
                  <a:pt x="160774" y="3349"/>
                  <a:pt x="145414" y="574"/>
                  <a:pt x="140677" y="10048"/>
                </a:cubicBezTo>
                <a:cubicBezTo>
                  <a:pt x="130983" y="29437"/>
                  <a:pt x="175754" y="65221"/>
                  <a:pt x="180871" y="70338"/>
                </a:cubicBezTo>
                <a:cubicBezTo>
                  <a:pt x="170823" y="73687"/>
                  <a:pt x="161174" y="78645"/>
                  <a:pt x="150726" y="80386"/>
                </a:cubicBezTo>
                <a:cubicBezTo>
                  <a:pt x="71588" y="93576"/>
                  <a:pt x="20231" y="76137"/>
                  <a:pt x="100484" y="110531"/>
                </a:cubicBezTo>
                <a:cubicBezTo>
                  <a:pt x="110220" y="114703"/>
                  <a:pt x="120581" y="117230"/>
                  <a:pt x="130629" y="120580"/>
                </a:cubicBezTo>
                <a:cubicBezTo>
                  <a:pt x="107183" y="123929"/>
                  <a:pt x="81475" y="120036"/>
                  <a:pt x="60291" y="130628"/>
                </a:cubicBezTo>
                <a:cubicBezTo>
                  <a:pt x="14107" y="153720"/>
                  <a:pt x="12375" y="173892"/>
                  <a:pt x="0" y="211015"/>
                </a:cubicBezTo>
                <a:cubicBezTo>
                  <a:pt x="53591" y="214364"/>
                  <a:pt x="108891" y="207228"/>
                  <a:pt x="160774" y="221063"/>
                </a:cubicBezTo>
                <a:cubicBezTo>
                  <a:pt x="171008" y="223792"/>
                  <a:pt x="156601" y="242395"/>
                  <a:pt x="150726" y="251208"/>
                </a:cubicBezTo>
                <a:cubicBezTo>
                  <a:pt x="142843" y="263032"/>
                  <a:pt x="129678" y="270436"/>
                  <a:pt x="120581" y="281353"/>
                </a:cubicBezTo>
                <a:cubicBezTo>
                  <a:pt x="112850" y="290631"/>
                  <a:pt x="107183" y="301450"/>
                  <a:pt x="100484" y="311498"/>
                </a:cubicBezTo>
                <a:cubicBezTo>
                  <a:pt x="107183" y="328245"/>
                  <a:pt x="102683" y="359503"/>
                  <a:pt x="120581" y="361740"/>
                </a:cubicBezTo>
                <a:cubicBezTo>
                  <a:pt x="120582" y="361740"/>
                  <a:pt x="195943" y="311499"/>
                  <a:pt x="211016" y="301450"/>
                </a:cubicBezTo>
                <a:lnTo>
                  <a:pt x="241161" y="281353"/>
                </a:lnTo>
                <a:lnTo>
                  <a:pt x="271306" y="261257"/>
                </a:lnTo>
                <a:cubicBezTo>
                  <a:pt x="278005" y="274655"/>
                  <a:pt x="288264" y="286803"/>
                  <a:pt x="291403" y="301450"/>
                </a:cubicBezTo>
                <a:cubicBezTo>
                  <a:pt x="312383" y="399356"/>
                  <a:pt x="279288" y="435178"/>
                  <a:pt x="321548" y="371789"/>
                </a:cubicBezTo>
                <a:cubicBezTo>
                  <a:pt x="324897" y="361741"/>
                  <a:pt x="326859" y="351118"/>
                  <a:pt x="331596" y="341644"/>
                </a:cubicBezTo>
                <a:cubicBezTo>
                  <a:pt x="370554" y="263727"/>
                  <a:pt x="336485" y="357122"/>
                  <a:pt x="361741" y="281353"/>
                </a:cubicBezTo>
                <a:cubicBezTo>
                  <a:pt x="371789" y="291401"/>
                  <a:pt x="382789" y="300581"/>
                  <a:pt x="391886" y="311498"/>
                </a:cubicBezTo>
                <a:cubicBezTo>
                  <a:pt x="399617" y="320776"/>
                  <a:pt x="399906" y="341644"/>
                  <a:pt x="411983" y="341644"/>
                </a:cubicBezTo>
                <a:cubicBezTo>
                  <a:pt x="424060" y="341644"/>
                  <a:pt x="425381" y="321547"/>
                  <a:pt x="432080" y="311498"/>
                </a:cubicBezTo>
                <a:cubicBezTo>
                  <a:pt x="428730" y="301450"/>
                  <a:pt x="426768" y="290827"/>
                  <a:pt x="422031" y="281353"/>
                </a:cubicBezTo>
                <a:cubicBezTo>
                  <a:pt x="416630" y="270551"/>
                  <a:pt x="396533" y="262010"/>
                  <a:pt x="401934" y="251208"/>
                </a:cubicBezTo>
                <a:cubicBezTo>
                  <a:pt x="408110" y="238856"/>
                  <a:pt x="428730" y="244509"/>
                  <a:pt x="442128" y="241160"/>
                </a:cubicBezTo>
                <a:cubicBezTo>
                  <a:pt x="389069" y="223474"/>
                  <a:pt x="403169" y="236987"/>
                  <a:pt x="472273" y="190918"/>
                </a:cubicBezTo>
                <a:cubicBezTo>
                  <a:pt x="482321" y="184219"/>
                  <a:pt x="490961" y="174641"/>
                  <a:pt x="502418" y="170822"/>
                </a:cubicBezTo>
                <a:cubicBezTo>
                  <a:pt x="512466" y="167472"/>
                  <a:pt x="542949" y="158696"/>
                  <a:pt x="532563" y="160773"/>
                </a:cubicBezTo>
                <a:cubicBezTo>
                  <a:pt x="505479" y="166190"/>
                  <a:pt x="452176" y="180870"/>
                  <a:pt x="452176" y="180870"/>
                </a:cubicBezTo>
                <a:cubicBezTo>
                  <a:pt x="428730" y="177521"/>
                  <a:pt x="398585" y="187569"/>
                  <a:pt x="381838" y="170822"/>
                </a:cubicBezTo>
                <a:cubicBezTo>
                  <a:pt x="364454" y="153438"/>
                  <a:pt x="403484" y="103183"/>
                  <a:pt x="411983" y="90435"/>
                </a:cubicBezTo>
                <a:cubicBezTo>
                  <a:pt x="358600" y="72639"/>
                  <a:pt x="401146" y="76051"/>
                  <a:pt x="361741" y="110531"/>
                </a:cubicBezTo>
                <a:cubicBezTo>
                  <a:pt x="343564" y="126436"/>
                  <a:pt x="301451" y="150725"/>
                  <a:pt x="301451" y="150725"/>
                </a:cubicBezTo>
                <a:cubicBezTo>
                  <a:pt x="298102" y="120580"/>
                  <a:pt x="304967" y="87418"/>
                  <a:pt x="291403" y="60290"/>
                </a:cubicBezTo>
                <a:cubicBezTo>
                  <a:pt x="286002" y="49488"/>
                  <a:pt x="279037" y="81157"/>
                  <a:pt x="271306" y="90435"/>
                </a:cubicBezTo>
                <a:cubicBezTo>
                  <a:pt x="262209" y="101352"/>
                  <a:pt x="254642" y="125074"/>
                  <a:pt x="241161" y="120580"/>
                </a:cubicBezTo>
                <a:cubicBezTo>
                  <a:pt x="228451" y="116343"/>
                  <a:pt x="272981" y="97133"/>
                  <a:pt x="271306" y="80386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Полилиния 28"/>
          <p:cNvGrpSpPr/>
          <p:nvPr/>
        </p:nvGrpSpPr>
        <p:grpSpPr>
          <a:xfrm>
            <a:off x="3846600" y="324000"/>
            <a:ext cx="1706400" cy="1560240"/>
            <a:chOff x="3846600" y="324000"/>
            <a:chExt cx="1706400" cy="1560240"/>
          </a:xfrm>
        </p:grpSpPr>
        <p:pic>
          <p:nvPicPr>
            <p:cNvPr id="149" name="Полилиния 28" descr=""/>
            <p:cNvPicPr/>
            <p:nvPr/>
          </p:nvPicPr>
          <p:blipFill>
            <a:blip r:embed="rId10"/>
            <a:stretch/>
          </p:blipFill>
          <p:spPr>
            <a:xfrm>
              <a:off x="3846600" y="324000"/>
              <a:ext cx="170640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070520" y="552600"/>
              <a:ext cx="125064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Полилиния 29"/>
          <p:cNvSpPr/>
          <p:nvPr/>
        </p:nvSpPr>
        <p:spPr>
          <a:xfrm>
            <a:off x="3922560" y="360360"/>
            <a:ext cx="1057320" cy="1262160"/>
          </a:xfrm>
          <a:custGeom>
            <a:avLst/>
            <a:gdLst/>
            <a:ahLst/>
            <a:rect l="l" t="t" r="r" b="b"/>
            <a:pathLst>
              <a:path w="1058427" h="1262743">
                <a:moveTo>
                  <a:pt x="850761" y="544286"/>
                </a:moveTo>
                <a:cubicBezTo>
                  <a:pt x="870020" y="535075"/>
                  <a:pt x="889279" y="525864"/>
                  <a:pt x="921099" y="483996"/>
                </a:cubicBezTo>
                <a:cubicBezTo>
                  <a:pt x="952919" y="442128"/>
                  <a:pt x="1029957" y="365090"/>
                  <a:pt x="1041680" y="293077"/>
                </a:cubicBezTo>
                <a:cubicBezTo>
                  <a:pt x="1053403" y="221064"/>
                  <a:pt x="1058427" y="97134"/>
                  <a:pt x="991438" y="51916"/>
                </a:cubicBezTo>
                <a:cubicBezTo>
                  <a:pt x="924449" y="6698"/>
                  <a:pt x="725157" y="0"/>
                  <a:pt x="639746" y="21771"/>
                </a:cubicBezTo>
                <a:cubicBezTo>
                  <a:pt x="554335" y="43542"/>
                  <a:pt x="505768" y="113881"/>
                  <a:pt x="478972" y="182545"/>
                </a:cubicBezTo>
                <a:cubicBezTo>
                  <a:pt x="452176" y="251209"/>
                  <a:pt x="472273" y="381838"/>
                  <a:pt x="478972" y="433754"/>
                </a:cubicBezTo>
                <a:cubicBezTo>
                  <a:pt x="485671" y="485670"/>
                  <a:pt x="540936" y="500743"/>
                  <a:pt x="519165" y="494044"/>
                </a:cubicBezTo>
                <a:cubicBezTo>
                  <a:pt x="497394" y="487345"/>
                  <a:pt x="413657" y="378488"/>
                  <a:pt x="348343" y="393560"/>
                </a:cubicBezTo>
                <a:cubicBezTo>
                  <a:pt x="283029" y="408633"/>
                  <a:pt x="184221" y="530888"/>
                  <a:pt x="127280" y="584479"/>
                </a:cubicBezTo>
                <a:cubicBezTo>
                  <a:pt x="70339" y="638070"/>
                  <a:pt x="0" y="668216"/>
                  <a:pt x="6699" y="715108"/>
                </a:cubicBezTo>
                <a:cubicBezTo>
                  <a:pt x="13398" y="762000"/>
                  <a:pt x="100484" y="834013"/>
                  <a:pt x="167473" y="865833"/>
                </a:cubicBezTo>
                <a:cubicBezTo>
                  <a:pt x="234462" y="897653"/>
                  <a:pt x="360067" y="904351"/>
                  <a:pt x="408634" y="906026"/>
                </a:cubicBezTo>
                <a:cubicBezTo>
                  <a:pt x="457201" y="907701"/>
                  <a:pt x="468923" y="855784"/>
                  <a:pt x="458875" y="875881"/>
                </a:cubicBezTo>
                <a:cubicBezTo>
                  <a:pt x="448827" y="895978"/>
                  <a:pt x="370114" y="983064"/>
                  <a:pt x="348343" y="1026607"/>
                </a:cubicBezTo>
                <a:cubicBezTo>
                  <a:pt x="326572" y="1070150"/>
                  <a:pt x="311500" y="1108668"/>
                  <a:pt x="328247" y="1137138"/>
                </a:cubicBezTo>
                <a:cubicBezTo>
                  <a:pt x="344994" y="1165608"/>
                  <a:pt x="398585" y="1177332"/>
                  <a:pt x="448827" y="1197429"/>
                </a:cubicBezTo>
                <a:cubicBezTo>
                  <a:pt x="499069" y="1217526"/>
                  <a:pt x="569407" y="1262743"/>
                  <a:pt x="629697" y="1257719"/>
                </a:cubicBezTo>
                <a:cubicBezTo>
                  <a:pt x="689987" y="1252695"/>
                  <a:pt x="770375" y="1197428"/>
                  <a:pt x="810568" y="1167283"/>
                </a:cubicBezTo>
                <a:cubicBezTo>
                  <a:pt x="850762" y="1137138"/>
                  <a:pt x="862485" y="1106993"/>
                  <a:pt x="870858" y="1076848"/>
                </a:cubicBezTo>
                <a:cubicBezTo>
                  <a:pt x="879231" y="1046703"/>
                  <a:pt x="872532" y="1016558"/>
                  <a:pt x="860809" y="986413"/>
                </a:cubicBezTo>
                <a:cubicBezTo>
                  <a:pt x="849086" y="956268"/>
                  <a:pt x="818941" y="875881"/>
                  <a:pt x="800519" y="895978"/>
                </a:cubicBezTo>
                <a:cubicBezTo>
                  <a:pt x="782097" y="916075"/>
                  <a:pt x="790471" y="1050052"/>
                  <a:pt x="750278" y="1106993"/>
                </a:cubicBezTo>
                <a:cubicBezTo>
                  <a:pt x="710085" y="1163934"/>
                  <a:pt x="604577" y="1227574"/>
                  <a:pt x="559359" y="1237622"/>
                </a:cubicBezTo>
                <a:cubicBezTo>
                  <a:pt x="514141" y="1247670"/>
                  <a:pt x="485671" y="1200777"/>
                  <a:pt x="478972" y="1167283"/>
                </a:cubicBezTo>
                <a:cubicBezTo>
                  <a:pt x="472273" y="1133789"/>
                  <a:pt x="497394" y="1075174"/>
                  <a:pt x="519165" y="1036655"/>
                </a:cubicBezTo>
                <a:cubicBezTo>
                  <a:pt x="540936" y="998136"/>
                  <a:pt x="626348" y="971340"/>
                  <a:pt x="609601" y="936171"/>
                </a:cubicBezTo>
                <a:cubicBezTo>
                  <a:pt x="592854" y="901002"/>
                  <a:pt x="470598" y="842386"/>
                  <a:pt x="418682" y="825639"/>
                </a:cubicBezTo>
                <a:cubicBezTo>
                  <a:pt x="366766" y="808892"/>
                  <a:pt x="339970" y="844061"/>
                  <a:pt x="298102" y="835688"/>
                </a:cubicBezTo>
                <a:cubicBezTo>
                  <a:pt x="256234" y="827315"/>
                  <a:pt x="187570" y="805543"/>
                  <a:pt x="167473" y="775398"/>
                </a:cubicBezTo>
                <a:cubicBezTo>
                  <a:pt x="147376" y="745253"/>
                  <a:pt x="162449" y="689987"/>
                  <a:pt x="177521" y="654818"/>
                </a:cubicBezTo>
                <a:cubicBezTo>
                  <a:pt x="192593" y="619649"/>
                  <a:pt x="219389" y="587828"/>
                  <a:pt x="257908" y="564382"/>
                </a:cubicBezTo>
                <a:cubicBezTo>
                  <a:pt x="296427" y="540936"/>
                  <a:pt x="360067" y="534238"/>
                  <a:pt x="408634" y="514141"/>
                </a:cubicBezTo>
                <a:cubicBezTo>
                  <a:pt x="457201" y="494044"/>
                  <a:pt x="519165" y="470598"/>
                  <a:pt x="549310" y="443802"/>
                </a:cubicBezTo>
                <a:cubicBezTo>
                  <a:pt x="579455" y="417006"/>
                  <a:pt x="552660" y="405283"/>
                  <a:pt x="589504" y="353367"/>
                </a:cubicBezTo>
                <a:cubicBezTo>
                  <a:pt x="626348" y="301451"/>
                  <a:pt x="700036" y="139002"/>
                  <a:pt x="770374" y="132303"/>
                </a:cubicBezTo>
                <a:cubicBezTo>
                  <a:pt x="840713" y="125604"/>
                  <a:pt x="969667" y="286378"/>
                  <a:pt x="1011535" y="313174"/>
                </a:cubicBezTo>
                <a:cubicBezTo>
                  <a:pt x="1053403" y="339970"/>
                  <a:pt x="1024933" y="291402"/>
                  <a:pt x="1021583" y="293077"/>
                </a:cubicBezTo>
                <a:cubicBezTo>
                  <a:pt x="1018234" y="294752"/>
                  <a:pt x="994788" y="316523"/>
                  <a:pt x="991438" y="323222"/>
                </a:cubicBezTo>
                <a:cubicBezTo>
                  <a:pt x="988089" y="329921"/>
                  <a:pt x="994787" y="331595"/>
                  <a:pt x="1001486" y="333270"/>
                </a:cubicBezTo>
              </a:path>
            </a:pathLst>
          </a:custGeom>
          <a:solidFill>
            <a:srgbClr val="604a7b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30"/>
          <p:cNvSpPr/>
          <p:nvPr/>
        </p:nvSpPr>
        <p:spPr>
          <a:xfrm>
            <a:off x="4846680" y="1012680"/>
            <a:ext cx="511200" cy="530280"/>
          </a:xfrm>
          <a:custGeom>
            <a:avLst/>
            <a:gdLst/>
            <a:ahLst/>
            <a:rect l="l" t="t" r="r" b="b"/>
            <a:pathLst>
              <a:path w="510791" h="529213">
                <a:moveTo>
                  <a:pt x="46892" y="31820"/>
                </a:moveTo>
                <a:cubicBezTo>
                  <a:pt x="30145" y="0"/>
                  <a:pt x="88761" y="56941"/>
                  <a:pt x="147376" y="61965"/>
                </a:cubicBezTo>
                <a:cubicBezTo>
                  <a:pt x="205992" y="66989"/>
                  <a:pt x="343319" y="41868"/>
                  <a:pt x="398585" y="61965"/>
                </a:cubicBezTo>
                <a:cubicBezTo>
                  <a:pt x="453851" y="82062"/>
                  <a:pt x="510791" y="165798"/>
                  <a:pt x="478971" y="182545"/>
                </a:cubicBezTo>
                <a:cubicBezTo>
                  <a:pt x="447151" y="199292"/>
                  <a:pt x="284703" y="179195"/>
                  <a:pt x="207666" y="162448"/>
                </a:cubicBezTo>
                <a:cubicBezTo>
                  <a:pt x="130629" y="145701"/>
                  <a:pt x="33494" y="65314"/>
                  <a:pt x="16747" y="82061"/>
                </a:cubicBezTo>
                <a:cubicBezTo>
                  <a:pt x="0" y="98808"/>
                  <a:pt x="66989" y="217714"/>
                  <a:pt x="107182" y="262932"/>
                </a:cubicBezTo>
                <a:cubicBezTo>
                  <a:pt x="147376" y="308150"/>
                  <a:pt x="237811" y="314848"/>
                  <a:pt x="257908" y="353367"/>
                </a:cubicBezTo>
                <a:cubicBezTo>
                  <a:pt x="278005" y="391886"/>
                  <a:pt x="224414" y="465574"/>
                  <a:pt x="227763" y="494044"/>
                </a:cubicBezTo>
                <a:cubicBezTo>
                  <a:pt x="231112" y="522514"/>
                  <a:pt x="256233" y="529213"/>
                  <a:pt x="278004" y="524189"/>
                </a:cubicBezTo>
                <a:cubicBezTo>
                  <a:pt x="299775" y="519165"/>
                  <a:pt x="363415" y="509117"/>
                  <a:pt x="358391" y="463899"/>
                </a:cubicBezTo>
                <a:cubicBezTo>
                  <a:pt x="353367" y="418681"/>
                  <a:pt x="301450" y="329920"/>
                  <a:pt x="247859" y="252883"/>
                </a:cubicBezTo>
                <a:cubicBezTo>
                  <a:pt x="194268" y="175846"/>
                  <a:pt x="63639" y="63640"/>
                  <a:pt x="46892" y="31820"/>
                </a:cubicBezTo>
                <a:close/>
              </a:path>
            </a:pathLst>
          </a:custGeom>
          <a:solidFill>
            <a:srgbClr val="604a7b"/>
          </a:solidFill>
          <a:ln w="255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Полилиния 31"/>
          <p:cNvGrpSpPr/>
          <p:nvPr/>
        </p:nvGrpSpPr>
        <p:grpSpPr>
          <a:xfrm>
            <a:off x="4290840" y="444600"/>
            <a:ext cx="1268640" cy="1036440"/>
            <a:chOff x="4290840" y="444600"/>
            <a:chExt cx="1268640" cy="1036440"/>
          </a:xfrm>
        </p:grpSpPr>
        <p:pic>
          <p:nvPicPr>
            <p:cNvPr id="154" name="Полилиния 31" descr=""/>
            <p:cNvPicPr/>
            <p:nvPr/>
          </p:nvPicPr>
          <p:blipFill>
            <a:blip r:embed="rId11"/>
            <a:stretch/>
          </p:blipFill>
          <p:spPr>
            <a:xfrm>
              <a:off x="4290840" y="444600"/>
              <a:ext cx="12686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530600" y="689040"/>
              <a:ext cx="7765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Полилиния 32"/>
          <p:cNvSpPr/>
          <p:nvPr/>
        </p:nvSpPr>
        <p:spPr>
          <a:xfrm>
            <a:off x="4621320" y="988920"/>
            <a:ext cx="199800" cy="173160"/>
          </a:xfrm>
          <a:custGeom>
            <a:avLst/>
            <a:gdLst/>
            <a:ahLst/>
            <a:rect l="l" t="t" r="r" b="b"/>
            <a:pathLst>
              <a:path w="200967" h="172496">
                <a:moveTo>
                  <a:pt x="182545" y="15072"/>
                </a:moveTo>
                <a:cubicBezTo>
                  <a:pt x="167473" y="0"/>
                  <a:pt x="130628" y="3349"/>
                  <a:pt x="102158" y="5024"/>
                </a:cubicBezTo>
                <a:cubicBezTo>
                  <a:pt x="73688" y="6699"/>
                  <a:pt x="23446" y="3350"/>
                  <a:pt x="11723" y="25121"/>
                </a:cubicBezTo>
                <a:cubicBezTo>
                  <a:pt x="0" y="46892"/>
                  <a:pt x="10049" y="112206"/>
                  <a:pt x="31820" y="135652"/>
                </a:cubicBezTo>
                <a:cubicBezTo>
                  <a:pt x="53592" y="159098"/>
                  <a:pt x="115556" y="172496"/>
                  <a:pt x="142352" y="165797"/>
                </a:cubicBezTo>
                <a:cubicBezTo>
                  <a:pt x="169148" y="159098"/>
                  <a:pt x="184219" y="115556"/>
                  <a:pt x="192593" y="95459"/>
                </a:cubicBezTo>
                <a:cubicBezTo>
                  <a:pt x="200967" y="75362"/>
                  <a:pt x="197617" y="30144"/>
                  <a:pt x="182545" y="15072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лилиния 34"/>
          <p:cNvSpPr/>
          <p:nvPr/>
        </p:nvSpPr>
        <p:spPr>
          <a:xfrm>
            <a:off x="4321080" y="1562040"/>
            <a:ext cx="633600" cy="4075200"/>
          </a:xfrm>
          <a:custGeom>
            <a:avLst/>
            <a:gdLst/>
            <a:ahLst/>
            <a:rect l="l" t="t" r="r" b="b"/>
            <a:pathLst>
              <a:path w="632655" h="4074606">
                <a:moveTo>
                  <a:pt x="401543" y="25121"/>
                </a:moveTo>
                <a:cubicBezTo>
                  <a:pt x="396519" y="50242"/>
                  <a:pt x="402720" y="12778"/>
                  <a:pt x="381447" y="236136"/>
                </a:cubicBezTo>
                <a:cubicBezTo>
                  <a:pt x="380443" y="246680"/>
                  <a:pt x="374308" y="256097"/>
                  <a:pt x="371398" y="266281"/>
                </a:cubicBezTo>
                <a:cubicBezTo>
                  <a:pt x="367604" y="279560"/>
                  <a:pt x="364699" y="293076"/>
                  <a:pt x="361350" y="306474"/>
                </a:cubicBezTo>
                <a:cubicBezTo>
                  <a:pt x="358001" y="333270"/>
                  <a:pt x="356133" y="360292"/>
                  <a:pt x="351302" y="386861"/>
                </a:cubicBezTo>
                <a:cubicBezTo>
                  <a:pt x="349407" y="397282"/>
                  <a:pt x="341810" y="406429"/>
                  <a:pt x="341253" y="417006"/>
                </a:cubicBezTo>
                <a:cubicBezTo>
                  <a:pt x="319671" y="827058"/>
                  <a:pt x="360963" y="649676"/>
                  <a:pt x="321156" y="808892"/>
                </a:cubicBezTo>
                <a:cubicBezTo>
                  <a:pt x="331205" y="815591"/>
                  <a:pt x="342762" y="820449"/>
                  <a:pt x="351302" y="828989"/>
                </a:cubicBezTo>
                <a:cubicBezTo>
                  <a:pt x="388228" y="865915"/>
                  <a:pt x="381462" y="922847"/>
                  <a:pt x="391495" y="969666"/>
                </a:cubicBezTo>
                <a:cubicBezTo>
                  <a:pt x="393714" y="980023"/>
                  <a:pt x="399466" y="989425"/>
                  <a:pt x="401543" y="999811"/>
                </a:cubicBezTo>
                <a:cubicBezTo>
                  <a:pt x="409534" y="1039767"/>
                  <a:pt x="405589" y="1082938"/>
                  <a:pt x="421640" y="1120391"/>
                </a:cubicBezTo>
                <a:cubicBezTo>
                  <a:pt x="425779" y="1130050"/>
                  <a:pt x="479815" y="1146482"/>
                  <a:pt x="491978" y="1150536"/>
                </a:cubicBezTo>
                <a:cubicBezTo>
                  <a:pt x="502026" y="1160584"/>
                  <a:pt x="518219" y="1167017"/>
                  <a:pt x="522123" y="1180681"/>
                </a:cubicBezTo>
                <a:cubicBezTo>
                  <a:pt x="524064" y="1187475"/>
                  <a:pt x="505277" y="1241270"/>
                  <a:pt x="502027" y="1251019"/>
                </a:cubicBezTo>
                <a:cubicBezTo>
                  <a:pt x="516609" y="1272894"/>
                  <a:pt x="540815" y="1304721"/>
                  <a:pt x="542220" y="1331406"/>
                </a:cubicBezTo>
                <a:cubicBezTo>
                  <a:pt x="547622" y="1434037"/>
                  <a:pt x="543388" y="1438436"/>
                  <a:pt x="522123" y="1502228"/>
                </a:cubicBezTo>
                <a:cubicBezTo>
                  <a:pt x="525473" y="1549120"/>
                  <a:pt x="526980" y="1596181"/>
                  <a:pt x="532172" y="1642905"/>
                </a:cubicBezTo>
                <a:cubicBezTo>
                  <a:pt x="533697" y="1656631"/>
                  <a:pt x="539224" y="1669618"/>
                  <a:pt x="542220" y="1683099"/>
                </a:cubicBezTo>
                <a:cubicBezTo>
                  <a:pt x="558386" y="1755846"/>
                  <a:pt x="544363" y="1709621"/>
                  <a:pt x="562317" y="1763485"/>
                </a:cubicBezTo>
                <a:cubicBezTo>
                  <a:pt x="558968" y="1807028"/>
                  <a:pt x="559080" y="1850977"/>
                  <a:pt x="552269" y="1894114"/>
                </a:cubicBezTo>
                <a:cubicBezTo>
                  <a:pt x="548965" y="1915039"/>
                  <a:pt x="532172" y="1954404"/>
                  <a:pt x="532172" y="1954404"/>
                </a:cubicBezTo>
                <a:cubicBezTo>
                  <a:pt x="528822" y="2007995"/>
                  <a:pt x="530498" y="2062139"/>
                  <a:pt x="522123" y="2115178"/>
                </a:cubicBezTo>
                <a:cubicBezTo>
                  <a:pt x="519207" y="2133647"/>
                  <a:pt x="481075" y="2164436"/>
                  <a:pt x="471882" y="2175468"/>
                </a:cubicBezTo>
                <a:cubicBezTo>
                  <a:pt x="454128" y="2196772"/>
                  <a:pt x="443974" y="2221235"/>
                  <a:pt x="431688" y="2245806"/>
                </a:cubicBezTo>
                <a:cubicBezTo>
                  <a:pt x="424989" y="2296048"/>
                  <a:pt x="431261" y="2349817"/>
                  <a:pt x="411592" y="2396532"/>
                </a:cubicBezTo>
                <a:cubicBezTo>
                  <a:pt x="400821" y="2422112"/>
                  <a:pt x="334464" y="2440139"/>
                  <a:pt x="311108" y="2456822"/>
                </a:cubicBezTo>
                <a:cubicBezTo>
                  <a:pt x="299544" y="2465082"/>
                  <a:pt x="291011" y="2476919"/>
                  <a:pt x="280963" y="2486967"/>
                </a:cubicBezTo>
                <a:cubicBezTo>
                  <a:pt x="274264" y="2507064"/>
                  <a:pt x="261650" y="2526088"/>
                  <a:pt x="260866" y="2547257"/>
                </a:cubicBezTo>
                <a:cubicBezTo>
                  <a:pt x="257517" y="2637692"/>
                  <a:pt x="256838" y="2728265"/>
                  <a:pt x="250818" y="2818562"/>
                </a:cubicBezTo>
                <a:cubicBezTo>
                  <a:pt x="250113" y="2829130"/>
                  <a:pt x="245507" y="2839233"/>
                  <a:pt x="240770" y="2848707"/>
                </a:cubicBezTo>
                <a:cubicBezTo>
                  <a:pt x="235369" y="2859509"/>
                  <a:pt x="229212" y="2870313"/>
                  <a:pt x="220673" y="2878852"/>
                </a:cubicBezTo>
                <a:cubicBezTo>
                  <a:pt x="212134" y="2887391"/>
                  <a:pt x="200576" y="2892250"/>
                  <a:pt x="190528" y="2898949"/>
                </a:cubicBezTo>
                <a:cubicBezTo>
                  <a:pt x="183829" y="2908997"/>
                  <a:pt x="178970" y="2920555"/>
                  <a:pt x="170431" y="2929094"/>
                </a:cubicBezTo>
                <a:cubicBezTo>
                  <a:pt x="161892" y="2937633"/>
                  <a:pt x="146687" y="2938950"/>
                  <a:pt x="140286" y="2949191"/>
                </a:cubicBezTo>
                <a:cubicBezTo>
                  <a:pt x="122321" y="2977936"/>
                  <a:pt x="118270" y="3027204"/>
                  <a:pt x="110141" y="3059723"/>
                </a:cubicBezTo>
                <a:cubicBezTo>
                  <a:pt x="107572" y="3069999"/>
                  <a:pt x="105968" y="3081055"/>
                  <a:pt x="100093" y="3089868"/>
                </a:cubicBezTo>
                <a:cubicBezTo>
                  <a:pt x="92210" y="3101692"/>
                  <a:pt x="79045" y="3109096"/>
                  <a:pt x="69948" y="3120013"/>
                </a:cubicBezTo>
                <a:cubicBezTo>
                  <a:pt x="0" y="3203951"/>
                  <a:pt x="107775" y="3092234"/>
                  <a:pt x="19706" y="3180303"/>
                </a:cubicBezTo>
                <a:cubicBezTo>
                  <a:pt x="16357" y="3193701"/>
                  <a:pt x="8739" y="3206717"/>
                  <a:pt x="9658" y="3220496"/>
                </a:cubicBezTo>
                <a:cubicBezTo>
                  <a:pt x="16253" y="3319418"/>
                  <a:pt x="14032" y="3307446"/>
                  <a:pt x="49851" y="3361173"/>
                </a:cubicBezTo>
                <a:cubicBezTo>
                  <a:pt x="53200" y="3374571"/>
                  <a:pt x="56105" y="3388088"/>
                  <a:pt x="59899" y="3401367"/>
                </a:cubicBezTo>
                <a:cubicBezTo>
                  <a:pt x="62809" y="3411551"/>
                  <a:pt x="68450" y="3421027"/>
                  <a:pt x="69948" y="3431512"/>
                </a:cubicBezTo>
                <a:cubicBezTo>
                  <a:pt x="75180" y="3468136"/>
                  <a:pt x="74764" y="3505420"/>
                  <a:pt x="79996" y="3542044"/>
                </a:cubicBezTo>
                <a:cubicBezTo>
                  <a:pt x="82595" y="3560237"/>
                  <a:pt x="102540" y="3599714"/>
                  <a:pt x="110141" y="3612382"/>
                </a:cubicBezTo>
                <a:cubicBezTo>
                  <a:pt x="149219" y="3677511"/>
                  <a:pt x="134145" y="3661879"/>
                  <a:pt x="180480" y="3692769"/>
                </a:cubicBezTo>
                <a:cubicBezTo>
                  <a:pt x="168219" y="3766331"/>
                  <a:pt x="162915" y="3765717"/>
                  <a:pt x="180480" y="3853543"/>
                </a:cubicBezTo>
                <a:cubicBezTo>
                  <a:pt x="192109" y="3911690"/>
                  <a:pt x="204108" y="3901205"/>
                  <a:pt x="240770" y="3943978"/>
                </a:cubicBezTo>
                <a:cubicBezTo>
                  <a:pt x="248629" y="3953147"/>
                  <a:pt x="253007" y="3964954"/>
                  <a:pt x="260866" y="3974123"/>
                </a:cubicBezTo>
                <a:cubicBezTo>
                  <a:pt x="293353" y="4012024"/>
                  <a:pt x="295650" y="4010710"/>
                  <a:pt x="331205" y="4034413"/>
                </a:cubicBezTo>
                <a:lnTo>
                  <a:pt x="341253" y="4074606"/>
                </a:lnTo>
                <a:cubicBezTo>
                  <a:pt x="334554" y="4054509"/>
                  <a:pt x="326294" y="4034867"/>
                  <a:pt x="321156" y="4014316"/>
                </a:cubicBezTo>
                <a:cubicBezTo>
                  <a:pt x="317807" y="4000918"/>
                  <a:pt x="315076" y="3987351"/>
                  <a:pt x="311108" y="3974123"/>
                </a:cubicBezTo>
                <a:cubicBezTo>
                  <a:pt x="305021" y="3953833"/>
                  <a:pt x="297710" y="3933930"/>
                  <a:pt x="291011" y="3913833"/>
                </a:cubicBezTo>
                <a:lnTo>
                  <a:pt x="280963" y="3883688"/>
                </a:lnTo>
                <a:cubicBezTo>
                  <a:pt x="278705" y="3840782"/>
                  <a:pt x="302832" y="3680554"/>
                  <a:pt x="230721" y="3632479"/>
                </a:cubicBezTo>
                <a:lnTo>
                  <a:pt x="200576" y="3612382"/>
                </a:lnTo>
                <a:cubicBezTo>
                  <a:pt x="176661" y="3540635"/>
                  <a:pt x="192231" y="3569718"/>
                  <a:pt x="160383" y="3521947"/>
                </a:cubicBezTo>
                <a:cubicBezTo>
                  <a:pt x="154767" y="3499483"/>
                  <a:pt x="140020" y="3436136"/>
                  <a:pt x="130238" y="3421463"/>
                </a:cubicBezTo>
                <a:lnTo>
                  <a:pt x="110141" y="3391318"/>
                </a:lnTo>
                <a:cubicBezTo>
                  <a:pt x="113490" y="3324329"/>
                  <a:pt x="107522" y="3256217"/>
                  <a:pt x="120189" y="3190351"/>
                </a:cubicBezTo>
                <a:cubicBezTo>
                  <a:pt x="124750" y="3166632"/>
                  <a:pt x="160383" y="3130061"/>
                  <a:pt x="160383" y="3130061"/>
                </a:cubicBezTo>
                <a:cubicBezTo>
                  <a:pt x="176851" y="3080657"/>
                  <a:pt x="176922" y="3070973"/>
                  <a:pt x="200576" y="3029578"/>
                </a:cubicBezTo>
                <a:cubicBezTo>
                  <a:pt x="206568" y="3019093"/>
                  <a:pt x="212134" y="3007972"/>
                  <a:pt x="220673" y="2999433"/>
                </a:cubicBezTo>
                <a:cubicBezTo>
                  <a:pt x="229212" y="2990894"/>
                  <a:pt x="240770" y="2986035"/>
                  <a:pt x="250818" y="2979336"/>
                </a:cubicBezTo>
                <a:cubicBezTo>
                  <a:pt x="301115" y="2828448"/>
                  <a:pt x="259239" y="2972800"/>
                  <a:pt x="280963" y="2657789"/>
                </a:cubicBezTo>
                <a:cubicBezTo>
                  <a:pt x="282953" y="2628928"/>
                  <a:pt x="300361" y="2615323"/>
                  <a:pt x="321156" y="2597499"/>
                </a:cubicBezTo>
                <a:cubicBezTo>
                  <a:pt x="327526" y="2592039"/>
                  <a:pt x="378773" y="2553618"/>
                  <a:pt x="391495" y="2547257"/>
                </a:cubicBezTo>
                <a:cubicBezTo>
                  <a:pt x="400969" y="2542520"/>
                  <a:pt x="412381" y="2542352"/>
                  <a:pt x="421640" y="2537208"/>
                </a:cubicBezTo>
                <a:cubicBezTo>
                  <a:pt x="525289" y="2479625"/>
                  <a:pt x="443867" y="2509702"/>
                  <a:pt x="512075" y="2486967"/>
                </a:cubicBezTo>
                <a:cubicBezTo>
                  <a:pt x="530082" y="2432945"/>
                  <a:pt x="522571" y="2470456"/>
                  <a:pt x="512075" y="2386483"/>
                </a:cubicBezTo>
                <a:cubicBezTo>
                  <a:pt x="508313" y="2356387"/>
                  <a:pt x="505376" y="2326193"/>
                  <a:pt x="502027" y="2296048"/>
                </a:cubicBezTo>
                <a:cubicBezTo>
                  <a:pt x="505376" y="2249156"/>
                  <a:pt x="509314" y="2202302"/>
                  <a:pt x="512075" y="2155371"/>
                </a:cubicBezTo>
                <a:cubicBezTo>
                  <a:pt x="516014" y="2088414"/>
                  <a:pt x="513804" y="2020959"/>
                  <a:pt x="522123" y="1954404"/>
                </a:cubicBezTo>
                <a:cubicBezTo>
                  <a:pt x="523981" y="1939541"/>
                  <a:pt x="534513" y="1927055"/>
                  <a:pt x="542220" y="1914211"/>
                </a:cubicBezTo>
                <a:cubicBezTo>
                  <a:pt x="554647" y="1893500"/>
                  <a:pt x="582414" y="1853921"/>
                  <a:pt x="582414" y="1853921"/>
                </a:cubicBezTo>
                <a:cubicBezTo>
                  <a:pt x="621185" y="1737603"/>
                  <a:pt x="582470" y="1863116"/>
                  <a:pt x="602510" y="1562518"/>
                </a:cubicBezTo>
                <a:cubicBezTo>
                  <a:pt x="603429" y="1548739"/>
                  <a:pt x="607119" y="1535018"/>
                  <a:pt x="612559" y="1522325"/>
                </a:cubicBezTo>
                <a:cubicBezTo>
                  <a:pt x="617316" y="1511225"/>
                  <a:pt x="625956" y="1502228"/>
                  <a:pt x="632655" y="1492180"/>
                </a:cubicBezTo>
                <a:cubicBezTo>
                  <a:pt x="629306" y="1398395"/>
                  <a:pt x="631646" y="1304234"/>
                  <a:pt x="622607" y="1210826"/>
                </a:cubicBezTo>
                <a:cubicBezTo>
                  <a:pt x="621444" y="1198806"/>
                  <a:pt x="607415" y="1191717"/>
                  <a:pt x="602510" y="1180681"/>
                </a:cubicBezTo>
                <a:cubicBezTo>
                  <a:pt x="586590" y="1144860"/>
                  <a:pt x="589607" y="1117536"/>
                  <a:pt x="562317" y="1090246"/>
                </a:cubicBezTo>
                <a:cubicBezTo>
                  <a:pt x="513724" y="1041654"/>
                  <a:pt x="537963" y="1073045"/>
                  <a:pt x="491978" y="1050052"/>
                </a:cubicBezTo>
                <a:cubicBezTo>
                  <a:pt x="481176" y="1044651"/>
                  <a:pt x="471881" y="1036655"/>
                  <a:pt x="461833" y="1029956"/>
                </a:cubicBezTo>
                <a:cubicBezTo>
                  <a:pt x="455134" y="1019908"/>
                  <a:pt x="442768" y="1011843"/>
                  <a:pt x="441737" y="999811"/>
                </a:cubicBezTo>
                <a:cubicBezTo>
                  <a:pt x="407007" y="594623"/>
                  <a:pt x="468003" y="787211"/>
                  <a:pt x="421640" y="648118"/>
                </a:cubicBezTo>
                <a:cubicBezTo>
                  <a:pt x="418291" y="614624"/>
                  <a:pt x="416711" y="580905"/>
                  <a:pt x="411592" y="547635"/>
                </a:cubicBezTo>
                <a:cubicBezTo>
                  <a:pt x="409981" y="537166"/>
                  <a:pt x="402115" y="528067"/>
                  <a:pt x="401543" y="517490"/>
                </a:cubicBezTo>
                <a:cubicBezTo>
                  <a:pt x="395393" y="403726"/>
                  <a:pt x="394844" y="289727"/>
                  <a:pt x="391495" y="175846"/>
                </a:cubicBezTo>
                <a:cubicBezTo>
                  <a:pt x="394844" y="155749"/>
                  <a:pt x="397123" y="135445"/>
                  <a:pt x="401543" y="115556"/>
                </a:cubicBezTo>
                <a:cubicBezTo>
                  <a:pt x="403841" y="105216"/>
                  <a:pt x="410538" y="95950"/>
                  <a:pt x="411592" y="85411"/>
                </a:cubicBezTo>
                <a:cubicBezTo>
                  <a:pt x="413925" y="62081"/>
                  <a:pt x="406567" y="0"/>
                  <a:pt x="401543" y="25121"/>
                </a:cubicBezTo>
                <a:close/>
              </a:path>
            </a:pathLst>
          </a:custGeom>
          <a:solidFill>
            <a:srgbClr val="4f6228"/>
          </a:solidFill>
          <a:ln w="25560">
            <a:solidFill>
              <a:srgbClr val="77933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лилиния 35"/>
          <p:cNvSpPr/>
          <p:nvPr/>
        </p:nvSpPr>
        <p:spPr>
          <a:xfrm>
            <a:off x="4803840" y="1496880"/>
            <a:ext cx="785880" cy="1158840"/>
          </a:xfrm>
          <a:custGeom>
            <a:avLst/>
            <a:gdLst/>
            <a:ahLst/>
            <a:rect l="l" t="t" r="r" b="b"/>
            <a:pathLst>
              <a:path w="785958" h="1158407">
                <a:moveTo>
                  <a:pt x="40193" y="1055555"/>
                </a:moveTo>
                <a:cubicBezTo>
                  <a:pt x="70338" y="1052206"/>
                  <a:pt x="100711" y="1050493"/>
                  <a:pt x="130629" y="1045507"/>
                </a:cubicBezTo>
                <a:cubicBezTo>
                  <a:pt x="141077" y="1043766"/>
                  <a:pt x="152503" y="1042076"/>
                  <a:pt x="160774" y="1035459"/>
                </a:cubicBezTo>
                <a:cubicBezTo>
                  <a:pt x="170204" y="1027915"/>
                  <a:pt x="175469" y="1016116"/>
                  <a:pt x="180870" y="1005314"/>
                </a:cubicBezTo>
                <a:cubicBezTo>
                  <a:pt x="185607" y="995840"/>
                  <a:pt x="187875" y="985314"/>
                  <a:pt x="190919" y="975169"/>
                </a:cubicBezTo>
                <a:cubicBezTo>
                  <a:pt x="197926" y="951813"/>
                  <a:pt x="201959" y="927470"/>
                  <a:pt x="211015" y="904830"/>
                </a:cubicBezTo>
                <a:cubicBezTo>
                  <a:pt x="215500" y="893617"/>
                  <a:pt x="224413" y="884733"/>
                  <a:pt x="231112" y="874685"/>
                </a:cubicBezTo>
                <a:cubicBezTo>
                  <a:pt x="198599" y="777144"/>
                  <a:pt x="257561" y="962159"/>
                  <a:pt x="211015" y="713911"/>
                </a:cubicBezTo>
                <a:cubicBezTo>
                  <a:pt x="208789" y="702041"/>
                  <a:pt x="196320" y="694568"/>
                  <a:pt x="190919" y="683766"/>
                </a:cubicBezTo>
                <a:cubicBezTo>
                  <a:pt x="186182" y="674292"/>
                  <a:pt x="186125" y="662817"/>
                  <a:pt x="180870" y="653621"/>
                </a:cubicBezTo>
                <a:cubicBezTo>
                  <a:pt x="172561" y="639080"/>
                  <a:pt x="160329" y="627148"/>
                  <a:pt x="150725" y="613428"/>
                </a:cubicBezTo>
                <a:cubicBezTo>
                  <a:pt x="136874" y="593641"/>
                  <a:pt x="110532" y="553138"/>
                  <a:pt x="110532" y="553138"/>
                </a:cubicBezTo>
                <a:cubicBezTo>
                  <a:pt x="90241" y="492263"/>
                  <a:pt x="90042" y="504861"/>
                  <a:pt x="110532" y="402412"/>
                </a:cubicBezTo>
                <a:cubicBezTo>
                  <a:pt x="112900" y="390570"/>
                  <a:pt x="121199" y="379811"/>
                  <a:pt x="130629" y="372267"/>
                </a:cubicBezTo>
                <a:cubicBezTo>
                  <a:pt x="138900" y="365650"/>
                  <a:pt x="150726" y="365568"/>
                  <a:pt x="160774" y="362219"/>
                </a:cubicBezTo>
                <a:cubicBezTo>
                  <a:pt x="170822" y="368918"/>
                  <a:pt x="183375" y="372886"/>
                  <a:pt x="190919" y="382316"/>
                </a:cubicBezTo>
                <a:cubicBezTo>
                  <a:pt x="197536" y="390587"/>
                  <a:pt x="199072" y="402040"/>
                  <a:pt x="200967" y="412461"/>
                </a:cubicBezTo>
                <a:cubicBezTo>
                  <a:pt x="205797" y="439030"/>
                  <a:pt x="201786" y="467470"/>
                  <a:pt x="211015" y="492848"/>
                </a:cubicBezTo>
                <a:cubicBezTo>
                  <a:pt x="221397" y="521398"/>
                  <a:pt x="247993" y="525270"/>
                  <a:pt x="271306" y="533041"/>
                </a:cubicBezTo>
                <a:cubicBezTo>
                  <a:pt x="278005" y="543089"/>
                  <a:pt x="290200" y="551169"/>
                  <a:pt x="291402" y="563186"/>
                </a:cubicBezTo>
                <a:cubicBezTo>
                  <a:pt x="297024" y="619413"/>
                  <a:pt x="285631" y="627110"/>
                  <a:pt x="261257" y="663670"/>
                </a:cubicBezTo>
                <a:cubicBezTo>
                  <a:pt x="257908" y="673718"/>
                  <a:pt x="247275" y="683981"/>
                  <a:pt x="251209" y="693815"/>
                </a:cubicBezTo>
                <a:cubicBezTo>
                  <a:pt x="265088" y="728511"/>
                  <a:pt x="324811" y="703046"/>
                  <a:pt x="241161" y="723960"/>
                </a:cubicBezTo>
                <a:cubicBezTo>
                  <a:pt x="234462" y="737358"/>
                  <a:pt x="228496" y="751148"/>
                  <a:pt x="221064" y="764153"/>
                </a:cubicBezTo>
                <a:cubicBezTo>
                  <a:pt x="215072" y="774638"/>
                  <a:pt x="189251" y="791369"/>
                  <a:pt x="200967" y="794298"/>
                </a:cubicBezTo>
                <a:cubicBezTo>
                  <a:pt x="221518" y="799436"/>
                  <a:pt x="240706" y="779339"/>
                  <a:pt x="261257" y="774201"/>
                </a:cubicBezTo>
                <a:lnTo>
                  <a:pt x="301451" y="764153"/>
                </a:lnTo>
                <a:cubicBezTo>
                  <a:pt x="311499" y="757454"/>
                  <a:pt x="325195" y="754297"/>
                  <a:pt x="331596" y="744056"/>
                </a:cubicBezTo>
                <a:cubicBezTo>
                  <a:pt x="342823" y="726092"/>
                  <a:pt x="344993" y="703863"/>
                  <a:pt x="351692" y="683766"/>
                </a:cubicBezTo>
                <a:cubicBezTo>
                  <a:pt x="362885" y="650188"/>
                  <a:pt x="363375" y="651291"/>
                  <a:pt x="371789" y="613428"/>
                </a:cubicBezTo>
                <a:cubicBezTo>
                  <a:pt x="375494" y="596756"/>
                  <a:pt x="377695" y="579755"/>
                  <a:pt x="381837" y="563186"/>
                </a:cubicBezTo>
                <a:cubicBezTo>
                  <a:pt x="386883" y="543002"/>
                  <a:pt x="400924" y="508331"/>
                  <a:pt x="411983" y="492848"/>
                </a:cubicBezTo>
                <a:cubicBezTo>
                  <a:pt x="420243" y="481284"/>
                  <a:pt x="432080" y="472751"/>
                  <a:pt x="442128" y="462703"/>
                </a:cubicBezTo>
                <a:cubicBezTo>
                  <a:pt x="445477" y="445956"/>
                  <a:pt x="446179" y="428453"/>
                  <a:pt x="452176" y="412461"/>
                </a:cubicBezTo>
                <a:cubicBezTo>
                  <a:pt x="464744" y="378946"/>
                  <a:pt x="485935" y="374912"/>
                  <a:pt x="512466" y="352171"/>
                </a:cubicBezTo>
                <a:cubicBezTo>
                  <a:pt x="523255" y="342923"/>
                  <a:pt x="532563" y="332074"/>
                  <a:pt x="542611" y="322026"/>
                </a:cubicBezTo>
                <a:cubicBezTo>
                  <a:pt x="521503" y="307954"/>
                  <a:pt x="474157" y="277646"/>
                  <a:pt x="462224" y="261736"/>
                </a:cubicBezTo>
                <a:cubicBezTo>
                  <a:pt x="453938" y="250688"/>
                  <a:pt x="455525" y="234940"/>
                  <a:pt x="452176" y="221542"/>
                </a:cubicBezTo>
                <a:cubicBezTo>
                  <a:pt x="455525" y="174650"/>
                  <a:pt x="454054" y="127161"/>
                  <a:pt x="462224" y="80865"/>
                </a:cubicBezTo>
                <a:cubicBezTo>
                  <a:pt x="464323" y="68972"/>
                  <a:pt x="473782" y="59259"/>
                  <a:pt x="482321" y="50720"/>
                </a:cubicBezTo>
                <a:cubicBezTo>
                  <a:pt x="494163" y="38878"/>
                  <a:pt x="507973" y="28884"/>
                  <a:pt x="522514" y="20575"/>
                </a:cubicBezTo>
                <a:cubicBezTo>
                  <a:pt x="533723" y="14170"/>
                  <a:pt x="584156" y="2652"/>
                  <a:pt x="592853" y="478"/>
                </a:cubicBezTo>
                <a:cubicBezTo>
                  <a:pt x="602901" y="3828"/>
                  <a:pt x="621828" y="0"/>
                  <a:pt x="622998" y="10527"/>
                </a:cubicBezTo>
                <a:cubicBezTo>
                  <a:pt x="626048" y="37978"/>
                  <a:pt x="608318" y="63830"/>
                  <a:pt x="602901" y="90914"/>
                </a:cubicBezTo>
                <a:cubicBezTo>
                  <a:pt x="596202" y="124408"/>
                  <a:pt x="596939" y="160301"/>
                  <a:pt x="582804" y="191397"/>
                </a:cubicBezTo>
                <a:cubicBezTo>
                  <a:pt x="578421" y="201039"/>
                  <a:pt x="562707" y="198096"/>
                  <a:pt x="552659" y="201445"/>
                </a:cubicBezTo>
                <a:cubicBezTo>
                  <a:pt x="539261" y="211493"/>
                  <a:pt x="524308" y="219748"/>
                  <a:pt x="512466" y="231590"/>
                </a:cubicBezTo>
                <a:cubicBezTo>
                  <a:pt x="492987" y="251070"/>
                  <a:pt x="490493" y="267363"/>
                  <a:pt x="482321" y="291881"/>
                </a:cubicBezTo>
                <a:cubicBezTo>
                  <a:pt x="489656" y="296771"/>
                  <a:pt x="528745" y="326648"/>
                  <a:pt x="542611" y="322026"/>
                </a:cubicBezTo>
                <a:cubicBezTo>
                  <a:pt x="565525" y="314388"/>
                  <a:pt x="579469" y="287690"/>
                  <a:pt x="602901" y="281832"/>
                </a:cubicBezTo>
                <a:cubicBezTo>
                  <a:pt x="653371" y="269215"/>
                  <a:pt x="629993" y="276151"/>
                  <a:pt x="673240" y="261736"/>
                </a:cubicBezTo>
                <a:cubicBezTo>
                  <a:pt x="686638" y="265085"/>
                  <a:pt x="702649" y="263157"/>
                  <a:pt x="713433" y="271784"/>
                </a:cubicBezTo>
                <a:cubicBezTo>
                  <a:pt x="721704" y="278401"/>
                  <a:pt x="718744" y="292455"/>
                  <a:pt x="723481" y="301929"/>
                </a:cubicBezTo>
                <a:cubicBezTo>
                  <a:pt x="728882" y="312731"/>
                  <a:pt x="736879" y="322026"/>
                  <a:pt x="743578" y="332074"/>
                </a:cubicBezTo>
                <a:cubicBezTo>
                  <a:pt x="761378" y="385474"/>
                  <a:pt x="785958" y="446389"/>
                  <a:pt x="743578" y="502896"/>
                </a:cubicBezTo>
                <a:cubicBezTo>
                  <a:pt x="727006" y="524992"/>
                  <a:pt x="689987" y="489498"/>
                  <a:pt x="663191" y="482799"/>
                </a:cubicBezTo>
                <a:cubicBezTo>
                  <a:pt x="616299" y="412461"/>
                  <a:pt x="643095" y="435907"/>
                  <a:pt x="592853" y="402412"/>
                </a:cubicBezTo>
                <a:cubicBezTo>
                  <a:pt x="592508" y="402498"/>
                  <a:pt x="527318" y="417705"/>
                  <a:pt x="522514" y="422509"/>
                </a:cubicBezTo>
                <a:cubicBezTo>
                  <a:pt x="511922" y="433101"/>
                  <a:pt x="511124" y="450514"/>
                  <a:pt x="502418" y="462703"/>
                </a:cubicBezTo>
                <a:cubicBezTo>
                  <a:pt x="494158" y="474267"/>
                  <a:pt x="482321" y="482800"/>
                  <a:pt x="472273" y="492848"/>
                </a:cubicBezTo>
                <a:cubicBezTo>
                  <a:pt x="447014" y="568621"/>
                  <a:pt x="484025" y="478157"/>
                  <a:pt x="432079" y="543089"/>
                </a:cubicBezTo>
                <a:cubicBezTo>
                  <a:pt x="425462" y="551360"/>
                  <a:pt x="424413" y="562913"/>
                  <a:pt x="422031" y="573234"/>
                </a:cubicBezTo>
                <a:cubicBezTo>
                  <a:pt x="414350" y="606517"/>
                  <a:pt x="413928" y="641735"/>
                  <a:pt x="401934" y="673718"/>
                </a:cubicBezTo>
                <a:cubicBezTo>
                  <a:pt x="395748" y="690214"/>
                  <a:pt x="346212" y="754713"/>
                  <a:pt x="331596" y="774201"/>
                </a:cubicBezTo>
                <a:cubicBezTo>
                  <a:pt x="306338" y="849972"/>
                  <a:pt x="340408" y="756578"/>
                  <a:pt x="301451" y="834492"/>
                </a:cubicBezTo>
                <a:cubicBezTo>
                  <a:pt x="296714" y="843966"/>
                  <a:pt x="298019" y="856366"/>
                  <a:pt x="291402" y="864637"/>
                </a:cubicBezTo>
                <a:cubicBezTo>
                  <a:pt x="283858" y="874067"/>
                  <a:pt x="271305" y="878034"/>
                  <a:pt x="261257" y="884733"/>
                </a:cubicBezTo>
                <a:cubicBezTo>
                  <a:pt x="251209" y="881384"/>
                  <a:pt x="241160" y="871336"/>
                  <a:pt x="231112" y="874685"/>
                </a:cubicBezTo>
                <a:cubicBezTo>
                  <a:pt x="217631" y="879179"/>
                  <a:pt x="208017" y="892492"/>
                  <a:pt x="200967" y="904830"/>
                </a:cubicBezTo>
                <a:cubicBezTo>
                  <a:pt x="193546" y="917816"/>
                  <a:pt x="182023" y="1000701"/>
                  <a:pt x="180870" y="1005314"/>
                </a:cubicBezTo>
                <a:cubicBezTo>
                  <a:pt x="175732" y="1025865"/>
                  <a:pt x="178400" y="1053854"/>
                  <a:pt x="160774" y="1065604"/>
                </a:cubicBezTo>
                <a:cubicBezTo>
                  <a:pt x="105392" y="1102524"/>
                  <a:pt x="142632" y="1084366"/>
                  <a:pt x="40193" y="1095749"/>
                </a:cubicBezTo>
                <a:cubicBezTo>
                  <a:pt x="32020" y="1120268"/>
                  <a:pt x="29528" y="1136559"/>
                  <a:pt x="10048" y="1156039"/>
                </a:cubicBezTo>
                <a:cubicBezTo>
                  <a:pt x="7680" y="1158407"/>
                  <a:pt x="3349" y="1156039"/>
                  <a:pt x="0" y="1156039"/>
                </a:cubicBezTo>
              </a:path>
            </a:pathLst>
          </a:custGeom>
          <a:solidFill>
            <a:srgbClr val="4f6228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лилиния 36"/>
          <p:cNvSpPr/>
          <p:nvPr/>
        </p:nvSpPr>
        <p:spPr>
          <a:xfrm>
            <a:off x="3933720" y="1758960"/>
            <a:ext cx="1346400" cy="1596960"/>
          </a:xfrm>
          <a:custGeom>
            <a:avLst/>
            <a:gdLst/>
            <a:ahLst/>
            <a:rect l="l" t="t" r="r" b="b"/>
            <a:pathLst>
              <a:path w="1347225" h="1598293">
                <a:moveTo>
                  <a:pt x="276947" y="251208"/>
                </a:moveTo>
                <a:cubicBezTo>
                  <a:pt x="286995" y="244509"/>
                  <a:pt x="297815" y="238843"/>
                  <a:pt x="307092" y="231112"/>
                </a:cubicBezTo>
                <a:cubicBezTo>
                  <a:pt x="336105" y="206935"/>
                  <a:pt x="337574" y="200462"/>
                  <a:pt x="357334" y="170822"/>
                </a:cubicBezTo>
                <a:cubicBezTo>
                  <a:pt x="353985" y="120580"/>
                  <a:pt x="358819" y="69111"/>
                  <a:pt x="347286" y="20096"/>
                </a:cubicBezTo>
                <a:cubicBezTo>
                  <a:pt x="344520" y="8341"/>
                  <a:pt x="329217" y="0"/>
                  <a:pt x="317141" y="0"/>
                </a:cubicBezTo>
                <a:cubicBezTo>
                  <a:pt x="305065" y="0"/>
                  <a:pt x="297481" y="14104"/>
                  <a:pt x="286996" y="20096"/>
                </a:cubicBezTo>
                <a:cubicBezTo>
                  <a:pt x="273990" y="27528"/>
                  <a:pt x="260200" y="33494"/>
                  <a:pt x="246802" y="40193"/>
                </a:cubicBezTo>
                <a:cubicBezTo>
                  <a:pt x="240103" y="50241"/>
                  <a:pt x="230525" y="58881"/>
                  <a:pt x="226706" y="70338"/>
                </a:cubicBezTo>
                <a:cubicBezTo>
                  <a:pt x="217081" y="99212"/>
                  <a:pt x="209889" y="141392"/>
                  <a:pt x="226706" y="170822"/>
                </a:cubicBezTo>
                <a:cubicBezTo>
                  <a:pt x="233756" y="183160"/>
                  <a:pt x="247754" y="190050"/>
                  <a:pt x="256851" y="200967"/>
                </a:cubicBezTo>
                <a:cubicBezTo>
                  <a:pt x="278493" y="226937"/>
                  <a:pt x="276925" y="231047"/>
                  <a:pt x="286996" y="261257"/>
                </a:cubicBezTo>
                <a:cubicBezTo>
                  <a:pt x="276948" y="264606"/>
                  <a:pt x="267443" y="271305"/>
                  <a:pt x="256851" y="271305"/>
                </a:cubicBezTo>
                <a:cubicBezTo>
                  <a:pt x="231917" y="271305"/>
                  <a:pt x="164802" y="256915"/>
                  <a:pt x="136270" y="251208"/>
                </a:cubicBezTo>
                <a:cubicBezTo>
                  <a:pt x="126222" y="241160"/>
                  <a:pt x="114008" y="232887"/>
                  <a:pt x="106125" y="221063"/>
                </a:cubicBezTo>
                <a:cubicBezTo>
                  <a:pt x="73434" y="172025"/>
                  <a:pt x="123416" y="208209"/>
                  <a:pt x="75980" y="160773"/>
                </a:cubicBezTo>
                <a:cubicBezTo>
                  <a:pt x="67441" y="152234"/>
                  <a:pt x="55883" y="147375"/>
                  <a:pt x="45835" y="140676"/>
                </a:cubicBezTo>
                <a:cubicBezTo>
                  <a:pt x="35787" y="154074"/>
                  <a:pt x="23999" y="166329"/>
                  <a:pt x="15690" y="180870"/>
                </a:cubicBezTo>
                <a:cubicBezTo>
                  <a:pt x="10435" y="190066"/>
                  <a:pt x="5642" y="200423"/>
                  <a:pt x="5642" y="211015"/>
                </a:cubicBezTo>
                <a:cubicBezTo>
                  <a:pt x="5642" y="334185"/>
                  <a:pt x="0" y="310263"/>
                  <a:pt x="35787" y="381837"/>
                </a:cubicBezTo>
                <a:cubicBezTo>
                  <a:pt x="82679" y="378488"/>
                  <a:pt x="130168" y="379959"/>
                  <a:pt x="176464" y="371789"/>
                </a:cubicBezTo>
                <a:cubicBezTo>
                  <a:pt x="260371" y="356982"/>
                  <a:pt x="156196" y="349751"/>
                  <a:pt x="226706" y="321547"/>
                </a:cubicBezTo>
                <a:cubicBezTo>
                  <a:pt x="251778" y="311518"/>
                  <a:pt x="280297" y="314848"/>
                  <a:pt x="307092" y="311498"/>
                </a:cubicBezTo>
                <a:cubicBezTo>
                  <a:pt x="296358" y="327600"/>
                  <a:pt x="270459" y="359128"/>
                  <a:pt x="276947" y="381837"/>
                </a:cubicBezTo>
                <a:cubicBezTo>
                  <a:pt x="280851" y="395501"/>
                  <a:pt x="297995" y="401065"/>
                  <a:pt x="307092" y="411982"/>
                </a:cubicBezTo>
                <a:cubicBezTo>
                  <a:pt x="314823" y="421260"/>
                  <a:pt x="320490" y="432079"/>
                  <a:pt x="327189" y="442127"/>
                </a:cubicBezTo>
                <a:cubicBezTo>
                  <a:pt x="330538" y="455525"/>
                  <a:pt x="331797" y="469627"/>
                  <a:pt x="337237" y="482320"/>
                </a:cubicBezTo>
                <a:cubicBezTo>
                  <a:pt x="341994" y="493420"/>
                  <a:pt x="351933" y="501663"/>
                  <a:pt x="357334" y="512465"/>
                </a:cubicBezTo>
                <a:cubicBezTo>
                  <a:pt x="362071" y="521939"/>
                  <a:pt x="364033" y="532562"/>
                  <a:pt x="367383" y="542611"/>
                </a:cubicBezTo>
                <a:cubicBezTo>
                  <a:pt x="364033" y="579455"/>
                  <a:pt x="372360" y="619335"/>
                  <a:pt x="357334" y="653142"/>
                </a:cubicBezTo>
                <a:cubicBezTo>
                  <a:pt x="352429" y="664178"/>
                  <a:pt x="338289" y="637803"/>
                  <a:pt x="327189" y="633046"/>
                </a:cubicBezTo>
                <a:cubicBezTo>
                  <a:pt x="314496" y="627606"/>
                  <a:pt x="300275" y="626791"/>
                  <a:pt x="286996" y="622997"/>
                </a:cubicBezTo>
                <a:cubicBezTo>
                  <a:pt x="276812" y="620087"/>
                  <a:pt x="266899" y="616298"/>
                  <a:pt x="256851" y="612949"/>
                </a:cubicBezTo>
                <a:cubicBezTo>
                  <a:pt x="236754" y="616298"/>
                  <a:pt x="213140" y="611155"/>
                  <a:pt x="196561" y="622997"/>
                </a:cubicBezTo>
                <a:cubicBezTo>
                  <a:pt x="185323" y="631024"/>
                  <a:pt x="190306" y="649912"/>
                  <a:pt x="186512" y="663191"/>
                </a:cubicBezTo>
                <a:cubicBezTo>
                  <a:pt x="183602" y="673375"/>
                  <a:pt x="179813" y="683288"/>
                  <a:pt x="176464" y="693336"/>
                </a:cubicBezTo>
                <a:cubicBezTo>
                  <a:pt x="240104" y="696685"/>
                  <a:pt x="311675" y="672435"/>
                  <a:pt x="367383" y="703384"/>
                </a:cubicBezTo>
                <a:cubicBezTo>
                  <a:pt x="484353" y="768367"/>
                  <a:pt x="341342" y="796791"/>
                  <a:pt x="327189" y="803868"/>
                </a:cubicBezTo>
                <a:cubicBezTo>
                  <a:pt x="316387" y="809269"/>
                  <a:pt x="307092" y="817265"/>
                  <a:pt x="297044" y="823964"/>
                </a:cubicBezTo>
                <a:cubicBezTo>
                  <a:pt x="300393" y="840711"/>
                  <a:pt x="291816" y="866568"/>
                  <a:pt x="307092" y="874206"/>
                </a:cubicBezTo>
                <a:cubicBezTo>
                  <a:pt x="373072" y="907196"/>
                  <a:pt x="376580" y="866710"/>
                  <a:pt x="387479" y="834013"/>
                </a:cubicBezTo>
                <a:cubicBezTo>
                  <a:pt x="384939" y="808609"/>
                  <a:pt x="365078" y="685144"/>
                  <a:pt x="387479" y="653142"/>
                </a:cubicBezTo>
                <a:cubicBezTo>
                  <a:pt x="399627" y="635788"/>
                  <a:pt x="447769" y="633046"/>
                  <a:pt x="447769" y="633046"/>
                </a:cubicBezTo>
                <a:cubicBezTo>
                  <a:pt x="479623" y="537491"/>
                  <a:pt x="429157" y="697334"/>
                  <a:pt x="467866" y="452175"/>
                </a:cubicBezTo>
                <a:cubicBezTo>
                  <a:pt x="474876" y="407779"/>
                  <a:pt x="490405" y="414971"/>
                  <a:pt x="518108" y="391885"/>
                </a:cubicBezTo>
                <a:cubicBezTo>
                  <a:pt x="529025" y="382788"/>
                  <a:pt x="538205" y="371788"/>
                  <a:pt x="548253" y="361740"/>
                </a:cubicBezTo>
                <a:cubicBezTo>
                  <a:pt x="565000" y="368439"/>
                  <a:pt x="582660" y="373200"/>
                  <a:pt x="598495" y="381837"/>
                </a:cubicBezTo>
                <a:cubicBezTo>
                  <a:pt x="632729" y="400510"/>
                  <a:pt x="663993" y="422250"/>
                  <a:pt x="688930" y="452175"/>
                </a:cubicBezTo>
                <a:cubicBezTo>
                  <a:pt x="696661" y="461452"/>
                  <a:pt x="702327" y="472272"/>
                  <a:pt x="709026" y="482320"/>
                </a:cubicBezTo>
                <a:cubicBezTo>
                  <a:pt x="705677" y="499067"/>
                  <a:pt x="704975" y="516570"/>
                  <a:pt x="698978" y="532562"/>
                </a:cubicBezTo>
                <a:cubicBezTo>
                  <a:pt x="659870" y="636849"/>
                  <a:pt x="457236" y="570917"/>
                  <a:pt x="407576" y="572756"/>
                </a:cubicBezTo>
                <a:cubicBezTo>
                  <a:pt x="423437" y="652064"/>
                  <a:pt x="399105" y="606010"/>
                  <a:pt x="447769" y="633046"/>
                </a:cubicBezTo>
                <a:cubicBezTo>
                  <a:pt x="468883" y="644776"/>
                  <a:pt x="508059" y="673239"/>
                  <a:pt x="508059" y="673239"/>
                </a:cubicBezTo>
                <a:cubicBezTo>
                  <a:pt x="504710" y="683287"/>
                  <a:pt x="507845" y="699450"/>
                  <a:pt x="498011" y="703384"/>
                </a:cubicBezTo>
                <a:cubicBezTo>
                  <a:pt x="423317" y="733262"/>
                  <a:pt x="371293" y="689245"/>
                  <a:pt x="437721" y="733529"/>
                </a:cubicBezTo>
                <a:cubicBezTo>
                  <a:pt x="441070" y="746927"/>
                  <a:pt x="447769" y="759913"/>
                  <a:pt x="447769" y="773723"/>
                </a:cubicBezTo>
                <a:cubicBezTo>
                  <a:pt x="447769" y="784315"/>
                  <a:pt x="433787" y="794034"/>
                  <a:pt x="437721" y="803868"/>
                </a:cubicBezTo>
                <a:cubicBezTo>
                  <a:pt x="442206" y="815081"/>
                  <a:pt x="457818" y="817265"/>
                  <a:pt x="467866" y="823964"/>
                </a:cubicBezTo>
                <a:cubicBezTo>
                  <a:pt x="492485" y="996306"/>
                  <a:pt x="464577" y="830907"/>
                  <a:pt x="487963" y="924448"/>
                </a:cubicBezTo>
                <a:cubicBezTo>
                  <a:pt x="492105" y="941017"/>
                  <a:pt x="492014" y="958698"/>
                  <a:pt x="498011" y="974690"/>
                </a:cubicBezTo>
                <a:cubicBezTo>
                  <a:pt x="502251" y="985998"/>
                  <a:pt x="511409" y="994787"/>
                  <a:pt x="518108" y="1004835"/>
                </a:cubicBezTo>
                <a:cubicBezTo>
                  <a:pt x="521457" y="1021582"/>
                  <a:pt x="522159" y="1039085"/>
                  <a:pt x="528156" y="1055076"/>
                </a:cubicBezTo>
                <a:cubicBezTo>
                  <a:pt x="532396" y="1066384"/>
                  <a:pt x="546919" y="1073219"/>
                  <a:pt x="548253" y="1085222"/>
                </a:cubicBezTo>
                <a:cubicBezTo>
                  <a:pt x="550503" y="1105471"/>
                  <a:pt x="541554" y="1125415"/>
                  <a:pt x="538204" y="1145512"/>
                </a:cubicBezTo>
                <a:cubicBezTo>
                  <a:pt x="504710" y="1142162"/>
                  <a:pt x="471087" y="1139912"/>
                  <a:pt x="437721" y="1135463"/>
                </a:cubicBezTo>
                <a:cubicBezTo>
                  <a:pt x="420792" y="1133206"/>
                  <a:pt x="404558" y="1125415"/>
                  <a:pt x="387479" y="1125415"/>
                </a:cubicBezTo>
                <a:cubicBezTo>
                  <a:pt x="373669" y="1125415"/>
                  <a:pt x="360684" y="1132114"/>
                  <a:pt x="347286" y="1135463"/>
                </a:cubicBezTo>
                <a:cubicBezTo>
                  <a:pt x="340587" y="1145511"/>
                  <a:pt x="334920" y="1156330"/>
                  <a:pt x="327189" y="1165608"/>
                </a:cubicBezTo>
                <a:cubicBezTo>
                  <a:pt x="318092" y="1176525"/>
                  <a:pt x="304927" y="1183929"/>
                  <a:pt x="297044" y="1195753"/>
                </a:cubicBezTo>
                <a:cubicBezTo>
                  <a:pt x="291169" y="1204566"/>
                  <a:pt x="290345" y="1215850"/>
                  <a:pt x="286996" y="1225898"/>
                </a:cubicBezTo>
                <a:cubicBezTo>
                  <a:pt x="300394" y="1229248"/>
                  <a:pt x="313379" y="1235947"/>
                  <a:pt x="327189" y="1235947"/>
                </a:cubicBezTo>
                <a:cubicBezTo>
                  <a:pt x="366312" y="1235947"/>
                  <a:pt x="354285" y="1218899"/>
                  <a:pt x="377431" y="1195753"/>
                </a:cubicBezTo>
                <a:cubicBezTo>
                  <a:pt x="385970" y="1187214"/>
                  <a:pt x="397528" y="1182356"/>
                  <a:pt x="407576" y="1175657"/>
                </a:cubicBezTo>
                <a:cubicBezTo>
                  <a:pt x="437721" y="1179006"/>
                  <a:pt x="476564" y="1164258"/>
                  <a:pt x="498011" y="1185705"/>
                </a:cubicBezTo>
                <a:cubicBezTo>
                  <a:pt x="519458" y="1207152"/>
                  <a:pt x="488320" y="1253111"/>
                  <a:pt x="508059" y="1276140"/>
                </a:cubicBezTo>
                <a:cubicBezTo>
                  <a:pt x="519798" y="1289835"/>
                  <a:pt x="541412" y="1262376"/>
                  <a:pt x="558301" y="1256043"/>
                </a:cubicBezTo>
                <a:cubicBezTo>
                  <a:pt x="568218" y="1252324"/>
                  <a:pt x="578398" y="1249344"/>
                  <a:pt x="588446" y="1245995"/>
                </a:cubicBezTo>
                <a:cubicBezTo>
                  <a:pt x="591796" y="1235947"/>
                  <a:pt x="600236" y="1226298"/>
                  <a:pt x="598495" y="1215850"/>
                </a:cubicBezTo>
                <a:cubicBezTo>
                  <a:pt x="593148" y="1183767"/>
                  <a:pt x="571765" y="1183494"/>
                  <a:pt x="548253" y="1175657"/>
                </a:cubicBezTo>
                <a:cubicBezTo>
                  <a:pt x="544903" y="1165609"/>
                  <a:pt x="530714" y="1153002"/>
                  <a:pt x="538204" y="1145512"/>
                </a:cubicBezTo>
                <a:cubicBezTo>
                  <a:pt x="545694" y="1138022"/>
                  <a:pt x="557758" y="1155560"/>
                  <a:pt x="568350" y="1155560"/>
                </a:cubicBezTo>
                <a:cubicBezTo>
                  <a:pt x="598680" y="1155560"/>
                  <a:pt x="628640" y="1148861"/>
                  <a:pt x="658785" y="1145512"/>
                </a:cubicBezTo>
                <a:cubicBezTo>
                  <a:pt x="662134" y="1135464"/>
                  <a:pt x="670003" y="1125894"/>
                  <a:pt x="668833" y="1115367"/>
                </a:cubicBezTo>
                <a:cubicBezTo>
                  <a:pt x="667049" y="1099308"/>
                  <a:pt x="647870" y="1040956"/>
                  <a:pt x="628640" y="1024931"/>
                </a:cubicBezTo>
                <a:cubicBezTo>
                  <a:pt x="617133" y="1015342"/>
                  <a:pt x="601844" y="1011534"/>
                  <a:pt x="588446" y="1004835"/>
                </a:cubicBezTo>
                <a:cubicBezTo>
                  <a:pt x="578398" y="1008184"/>
                  <a:pt x="559799" y="1004398"/>
                  <a:pt x="558301" y="1014883"/>
                </a:cubicBezTo>
                <a:cubicBezTo>
                  <a:pt x="552125" y="1058116"/>
                  <a:pt x="561539" y="1102375"/>
                  <a:pt x="568350" y="1145512"/>
                </a:cubicBezTo>
                <a:cubicBezTo>
                  <a:pt x="568353" y="1145528"/>
                  <a:pt x="593468" y="1220867"/>
                  <a:pt x="598495" y="1235947"/>
                </a:cubicBezTo>
                <a:cubicBezTo>
                  <a:pt x="601844" y="1245995"/>
                  <a:pt x="606466" y="1255706"/>
                  <a:pt x="608543" y="1266092"/>
                </a:cubicBezTo>
                <a:cubicBezTo>
                  <a:pt x="611892" y="1282839"/>
                  <a:pt x="602305" y="1311191"/>
                  <a:pt x="618591" y="1316334"/>
                </a:cubicBezTo>
                <a:cubicBezTo>
                  <a:pt x="676171" y="1334517"/>
                  <a:pt x="739172" y="1323033"/>
                  <a:pt x="799462" y="1326382"/>
                </a:cubicBezTo>
                <a:cubicBezTo>
                  <a:pt x="809510" y="1333081"/>
                  <a:pt x="822063" y="1337049"/>
                  <a:pt x="829607" y="1346479"/>
                </a:cubicBezTo>
                <a:cubicBezTo>
                  <a:pt x="836224" y="1354750"/>
                  <a:pt x="830459" y="1371369"/>
                  <a:pt x="839655" y="1376624"/>
                </a:cubicBezTo>
                <a:cubicBezTo>
                  <a:pt x="857344" y="1386732"/>
                  <a:pt x="879848" y="1383323"/>
                  <a:pt x="899945" y="1386672"/>
                </a:cubicBezTo>
                <a:cubicBezTo>
                  <a:pt x="909993" y="1396720"/>
                  <a:pt x="928080" y="1402749"/>
                  <a:pt x="930090" y="1416817"/>
                </a:cubicBezTo>
                <a:cubicBezTo>
                  <a:pt x="955412" y="1594071"/>
                  <a:pt x="928661" y="1540277"/>
                  <a:pt x="899945" y="1497204"/>
                </a:cubicBezTo>
                <a:cubicBezTo>
                  <a:pt x="873149" y="1500553"/>
                  <a:pt x="843004" y="1493854"/>
                  <a:pt x="819558" y="1507252"/>
                </a:cubicBezTo>
                <a:cubicBezTo>
                  <a:pt x="810362" y="1512507"/>
                  <a:pt x="822990" y="1529126"/>
                  <a:pt x="829607" y="1537397"/>
                </a:cubicBezTo>
                <a:cubicBezTo>
                  <a:pt x="837151" y="1546827"/>
                  <a:pt x="849704" y="1550795"/>
                  <a:pt x="859752" y="1557494"/>
                </a:cubicBezTo>
                <a:cubicBezTo>
                  <a:pt x="926741" y="1554145"/>
                  <a:pt x="1004132" y="1583456"/>
                  <a:pt x="1060719" y="1547446"/>
                </a:cubicBezTo>
                <a:cubicBezTo>
                  <a:pt x="1097887" y="1523794"/>
                  <a:pt x="1061113" y="1456221"/>
                  <a:pt x="1080815" y="1416817"/>
                </a:cubicBezTo>
                <a:cubicBezTo>
                  <a:pt x="1088453" y="1401541"/>
                  <a:pt x="1114488" y="1410911"/>
                  <a:pt x="1131057" y="1406769"/>
                </a:cubicBezTo>
                <a:cubicBezTo>
                  <a:pt x="1141333" y="1404200"/>
                  <a:pt x="1151154" y="1400070"/>
                  <a:pt x="1161202" y="1396720"/>
                </a:cubicBezTo>
                <a:cubicBezTo>
                  <a:pt x="1211444" y="1400070"/>
                  <a:pt x="1278770" y="1368874"/>
                  <a:pt x="1311928" y="1406769"/>
                </a:cubicBezTo>
                <a:cubicBezTo>
                  <a:pt x="1345086" y="1444664"/>
                  <a:pt x="1347225" y="1535603"/>
                  <a:pt x="1301879" y="1557494"/>
                </a:cubicBezTo>
                <a:cubicBezTo>
                  <a:pt x="1217367" y="1598293"/>
                  <a:pt x="1113835" y="1557444"/>
                  <a:pt x="1020525" y="1547446"/>
                </a:cubicBezTo>
                <a:cubicBezTo>
                  <a:pt x="1013864" y="1546732"/>
                  <a:pt x="1020525" y="1534048"/>
                  <a:pt x="1020525" y="1527349"/>
                </a:cubicBezTo>
              </a:path>
            </a:pathLst>
          </a:custGeom>
          <a:solidFill>
            <a:srgbClr val="4f6228"/>
          </a:solidFill>
          <a:ln w="93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лилиния 37"/>
          <p:cNvSpPr/>
          <p:nvPr/>
        </p:nvSpPr>
        <p:spPr>
          <a:xfrm>
            <a:off x="3151080" y="2703600"/>
            <a:ext cx="220680" cy="334800"/>
          </a:xfrm>
          <a:custGeom>
            <a:avLst/>
            <a:gdLst/>
            <a:ahLst/>
            <a:rect l="l" t="t" r="r" b="b"/>
            <a:pathLst>
              <a:path w="221729" h="335146">
                <a:moveTo>
                  <a:pt x="44552" y="261257"/>
                </a:moveTo>
                <a:cubicBezTo>
                  <a:pt x="51251" y="247859"/>
                  <a:pt x="57217" y="234069"/>
                  <a:pt x="64649" y="221063"/>
                </a:cubicBezTo>
                <a:cubicBezTo>
                  <a:pt x="70641" y="210578"/>
                  <a:pt x="79344" y="201720"/>
                  <a:pt x="84745" y="190918"/>
                </a:cubicBezTo>
                <a:cubicBezTo>
                  <a:pt x="89482" y="181444"/>
                  <a:pt x="91444" y="170821"/>
                  <a:pt x="94794" y="160773"/>
                </a:cubicBezTo>
                <a:cubicBezTo>
                  <a:pt x="95855" y="152285"/>
                  <a:pt x="105414" y="33113"/>
                  <a:pt x="124939" y="20096"/>
                </a:cubicBezTo>
                <a:lnTo>
                  <a:pt x="155084" y="0"/>
                </a:lnTo>
                <a:cubicBezTo>
                  <a:pt x="151734" y="60290"/>
                  <a:pt x="156334" y="121554"/>
                  <a:pt x="145035" y="180870"/>
                </a:cubicBezTo>
                <a:cubicBezTo>
                  <a:pt x="142376" y="194830"/>
                  <a:pt x="123150" y="199451"/>
                  <a:pt x="114890" y="211015"/>
                </a:cubicBezTo>
                <a:cubicBezTo>
                  <a:pt x="106184" y="223204"/>
                  <a:pt x="104151" y="239511"/>
                  <a:pt x="94794" y="251208"/>
                </a:cubicBezTo>
                <a:cubicBezTo>
                  <a:pt x="77039" y="273401"/>
                  <a:pt x="18738" y="335146"/>
                  <a:pt x="34503" y="311498"/>
                </a:cubicBezTo>
                <a:lnTo>
                  <a:pt x="54600" y="281353"/>
                </a:lnTo>
                <a:cubicBezTo>
                  <a:pt x="47901" y="267955"/>
                  <a:pt x="41935" y="254166"/>
                  <a:pt x="34503" y="241160"/>
                </a:cubicBezTo>
                <a:cubicBezTo>
                  <a:pt x="28511" y="230675"/>
                  <a:pt x="19808" y="221817"/>
                  <a:pt x="14407" y="211015"/>
                </a:cubicBezTo>
                <a:cubicBezTo>
                  <a:pt x="9670" y="201541"/>
                  <a:pt x="7708" y="190918"/>
                  <a:pt x="4358" y="180870"/>
                </a:cubicBezTo>
                <a:cubicBezTo>
                  <a:pt x="7708" y="160773"/>
                  <a:pt x="0" y="134987"/>
                  <a:pt x="14407" y="120580"/>
                </a:cubicBezTo>
                <a:cubicBezTo>
                  <a:pt x="22946" y="112041"/>
                  <a:pt x="29102" y="139923"/>
                  <a:pt x="34503" y="150725"/>
                </a:cubicBezTo>
                <a:cubicBezTo>
                  <a:pt x="39240" y="160199"/>
                  <a:pt x="41202" y="170822"/>
                  <a:pt x="44552" y="180870"/>
                </a:cubicBezTo>
                <a:cubicBezTo>
                  <a:pt x="56495" y="300308"/>
                  <a:pt x="21833" y="291878"/>
                  <a:pt x="134987" y="271305"/>
                </a:cubicBezTo>
                <a:cubicBezTo>
                  <a:pt x="145408" y="269410"/>
                  <a:pt x="155084" y="264606"/>
                  <a:pt x="165132" y="261257"/>
                </a:cubicBezTo>
                <a:cubicBezTo>
                  <a:pt x="181879" y="264606"/>
                  <a:pt x="207736" y="256029"/>
                  <a:pt x="215374" y="271305"/>
                </a:cubicBezTo>
                <a:cubicBezTo>
                  <a:pt x="221729" y="284015"/>
                  <a:pt x="197053" y="293567"/>
                  <a:pt x="185229" y="301450"/>
                </a:cubicBezTo>
                <a:cubicBezTo>
                  <a:pt x="176416" y="307325"/>
                  <a:pt x="165424" y="309200"/>
                  <a:pt x="155084" y="311498"/>
                </a:cubicBezTo>
                <a:cubicBezTo>
                  <a:pt x="99952" y="323750"/>
                  <a:pt x="103085" y="321547"/>
                  <a:pt x="54600" y="321547"/>
                </a:cubicBezTo>
              </a:path>
            </a:pathLst>
          </a:custGeom>
          <a:solidFill>
            <a:srgbClr val="984807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3"/>
          <p:cNvSpPr/>
          <p:nvPr/>
        </p:nvSpPr>
        <p:spPr>
          <a:xfrm>
            <a:off x="6500880" y="5643720"/>
            <a:ext cx="1914480" cy="485640"/>
          </a:xfrm>
          <a:prstGeom prst="rect">
            <a:avLst/>
          </a:prstGeom>
          <a:solidFill>
            <a:srgbClr val="9bbb59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04a7b"/>
                </a:solidFill>
                <a:latin typeface="Calibri"/>
              </a:rPr>
              <a:t>Филинкова Татья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04a7b"/>
                </a:solidFill>
                <a:latin typeface="Calibri"/>
              </a:rPr>
              <a:t>«Цвет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17:26Z</dcterms:created>
  <dc:creator>Admin</dc:creator>
  <dc:description/>
  <dc:language>en-US</dc:language>
  <cp:lastModifiedBy>Admin</cp:lastModifiedBy>
  <dcterms:modified xsi:type="dcterms:W3CDTF">2012-01-23T15:18:35Z</dcterms:modified>
  <cp:revision>1</cp:revision>
  <dc:subject/>
  <dc:title>Слайд 1</dc:title>
</cp:coreProperties>
</file>