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8C0-5237-4063-8008-EB0C9E4D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7BB-B6A7-49AD-AFC8-73B2C252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63F-8248-436B-8D78-AA6B54A8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BB9-A0C2-4FB3-92B9-4B141807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880-2559-476B-8EDF-E4019F4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56B-5AAE-4A95-B4BE-BC4AD57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EE2-3B73-42C4-875C-090D6146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4D7-ACC7-4591-9CF3-CCE464F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582-79F7-426A-A499-225F0F7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F30-DF71-44D1-8F20-C71D131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F0F-3320-479D-AF44-E4A3EC6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713-42F0-416B-8DC1-BF1AA04F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33F4-EA26-4B5E-885E-1AE2FE5D0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Calibri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бы узнать на сколько одно число больше или меньше другого, надо из большего числа вычесть меньше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-2=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аааааа\мам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оссворд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уда спешат звери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143240" y="2571840"/>
            <a:ext cx="5000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Татьяна\кот.jpg"/>
          <p:cNvPicPr/>
          <p:nvPr/>
        </p:nvPicPr>
        <p:blipFill>
          <a:blip r:embed="rId1"/>
          <a:stretch/>
        </p:blipFill>
        <p:spPr>
          <a:xfrm>
            <a:off x="7143840" y="1500120"/>
            <a:ext cx="1714320" cy="16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Татьяна\мышь.jpg"/>
          <p:cNvPicPr/>
          <p:nvPr/>
        </p:nvPicPr>
        <p:blipFill>
          <a:blip r:embed="rId2"/>
          <a:stretch/>
        </p:blipFill>
        <p:spPr>
          <a:xfrm>
            <a:off x="285840" y="2071800"/>
            <a:ext cx="1531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Татьяна\зайка.jpg"/>
          <p:cNvPicPr/>
          <p:nvPr/>
        </p:nvPicPr>
        <p:blipFill>
          <a:blip r:embed="rId3"/>
          <a:stretch/>
        </p:blipFill>
        <p:spPr>
          <a:xfrm>
            <a:off x="6858000" y="4714920"/>
            <a:ext cx="2081160" cy="194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Татьяна\лиса.jpg"/>
          <p:cNvPicPr/>
          <p:nvPr/>
        </p:nvPicPr>
        <p:blipFill>
          <a:blip r:embed="rId4"/>
          <a:stretch/>
        </p:blipFill>
        <p:spPr>
          <a:xfrm>
            <a:off x="3929040" y="457200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Татьяна\утка.jpg"/>
          <p:cNvPicPr/>
          <p:nvPr/>
        </p:nvPicPr>
        <p:blipFill>
          <a:blip r:embed="rId5"/>
          <a:stretch/>
        </p:blipFill>
        <p:spPr>
          <a:xfrm>
            <a:off x="285840" y="4857840"/>
            <a:ext cx="1785960" cy="157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428920" y="1714680"/>
          <a:ext cx="4500360" cy="2857320"/>
        </p:xfrm>
        <a:graphic>
          <a:graphicData uri="http://schemas.openxmlformats.org/drawingml/2006/table">
            <a:tbl>
              <a:tblPr/>
              <a:tblGrid>
                <a:gridCol w="674640"/>
                <a:gridCol w="674640"/>
                <a:gridCol w="676440"/>
                <a:gridCol w="674640"/>
                <a:gridCol w="561960"/>
                <a:gridCol w="676080"/>
                <a:gridCol w="56196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85840" y="1285920"/>
          <a:ext cx="1571400" cy="70164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143840" y="714240"/>
          <a:ext cx="1643040" cy="714600"/>
        </p:xfrm>
        <a:graphic>
          <a:graphicData uri="http://schemas.openxmlformats.org/drawingml/2006/table">
            <a:tbl>
              <a:tblPr/>
              <a:tblGrid>
                <a:gridCol w="164304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14200" y="4071960"/>
          <a:ext cx="1714680" cy="70164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143840" y="4000680"/>
          <a:ext cx="1500120" cy="701640"/>
        </p:xfrm>
        <a:graphic>
          <a:graphicData uri="http://schemas.openxmlformats.org/drawingml/2006/table">
            <a:tbl>
              <a:tblPr/>
              <a:tblGrid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071960" y="6000840"/>
          <a:ext cx="1714320" cy="70164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+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аааааа\iякорь.jpeg"/>
          <p:cNvPicPr/>
          <p:nvPr/>
        </p:nvPicPr>
        <p:blipFill>
          <a:blip r:embed="rId2"/>
          <a:stretch/>
        </p:blipFill>
        <p:spPr>
          <a:xfrm>
            <a:off x="2714760" y="2714760"/>
            <a:ext cx="3286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D:\аааааа\мама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аааааа\мама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аааааа\мама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аааааа\мама1.jpg"/>
          <p:cNvPicPr/>
          <p:nvPr/>
        </p:nvPicPr>
        <p:blipFill>
          <a:blip r:embed="rId1"/>
          <a:stretch/>
        </p:blipFill>
        <p:spPr>
          <a:xfrm>
            <a:off x="2571840" y="2071800"/>
            <a:ext cx="3747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аааааа\кобр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аааааа\гадю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аааааа\у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бра длиннее гадюки, а гадюка длиннее уж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амый длин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бра   (_____________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дюка (____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         (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2:48:07Z</dcterms:created>
  <dc:creator>Татьяна</dc:creator>
  <dc:description/>
  <dc:language>en-US</dc:language>
  <cp:lastModifiedBy>Татьяна</cp:lastModifiedBy>
  <dcterms:modified xsi:type="dcterms:W3CDTF">2010-04-15T13:05:57Z</dcterms:modified>
  <cp:revision>5</cp:revision>
  <dc:subject/>
  <dc:title>Слайд 1</dc:title>
</cp:coreProperties>
</file>