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448-12BB-45FC-A06F-A6C06379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8E1-525F-4E79-9496-14974FC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725-1A1E-492D-BC32-792CC764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1FD-6ED6-4FB9-B29F-423E5366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F50-48DB-4174-B052-1A253DA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41D-2A6C-49F2-BF54-E9A2AB4E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628-C307-431E-AB19-762F13E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03B-246E-404C-B71F-5832769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9D0-B59D-482F-BE9E-E2C4267F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6F9-BC0C-4E1F-B968-75C0817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2FF-7CB4-433F-AB27-3E3D8341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1AD-30D6-438A-B0B6-F7A6D0C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B4F-0568-4FD6-9229-3808D1751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alibri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Чтобы узнать на сколько одно число больше или меньше другого, надо из большего числа вычесть меньше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-2=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D:\аааааа\мам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оссворд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уда спешат звери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143240" y="2571840"/>
            <a:ext cx="5000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Татьяна\кот.jpg"/>
          <p:cNvPicPr/>
          <p:nvPr/>
        </p:nvPicPr>
        <p:blipFill>
          <a:blip r:embed="rId1"/>
          <a:stretch/>
        </p:blipFill>
        <p:spPr>
          <a:xfrm>
            <a:off x="7143840" y="1500120"/>
            <a:ext cx="1714320" cy="16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Татьяна\мышь.jpg"/>
          <p:cNvPicPr/>
          <p:nvPr/>
        </p:nvPicPr>
        <p:blipFill>
          <a:blip r:embed="rId2"/>
          <a:stretch/>
        </p:blipFill>
        <p:spPr>
          <a:xfrm>
            <a:off x="285840" y="2071800"/>
            <a:ext cx="1531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Татьяна\зайка.jpg"/>
          <p:cNvPicPr/>
          <p:nvPr/>
        </p:nvPicPr>
        <p:blipFill>
          <a:blip r:embed="rId3"/>
          <a:stretch/>
        </p:blipFill>
        <p:spPr>
          <a:xfrm>
            <a:off x="6858000" y="4714920"/>
            <a:ext cx="2081160" cy="194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Татьяна\лиса.jpg"/>
          <p:cNvPicPr/>
          <p:nvPr/>
        </p:nvPicPr>
        <p:blipFill>
          <a:blip r:embed="rId4"/>
          <a:stretch/>
        </p:blipFill>
        <p:spPr>
          <a:xfrm>
            <a:off x="3929040" y="457200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Татьяна\утка.jpg"/>
          <p:cNvPicPr/>
          <p:nvPr/>
        </p:nvPicPr>
        <p:blipFill>
          <a:blip r:embed="rId5"/>
          <a:stretch/>
        </p:blipFill>
        <p:spPr>
          <a:xfrm>
            <a:off x="285840" y="4857840"/>
            <a:ext cx="1785960" cy="157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428920" y="1714680"/>
          <a:ext cx="4500360" cy="2857320"/>
        </p:xfrm>
        <a:graphic>
          <a:graphicData uri="http://schemas.openxmlformats.org/drawingml/2006/table">
            <a:tbl>
              <a:tblPr/>
              <a:tblGrid>
                <a:gridCol w="674640"/>
                <a:gridCol w="674640"/>
                <a:gridCol w="676440"/>
                <a:gridCol w="674640"/>
                <a:gridCol w="561960"/>
                <a:gridCol w="676080"/>
                <a:gridCol w="56196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5840" y="1285920"/>
          <a:ext cx="1571400" cy="701640"/>
        </p:xfrm>
        <a:graphic>
          <a:graphicData uri="http://schemas.openxmlformats.org/drawingml/2006/table">
            <a:tbl>
              <a:tblPr/>
              <a:tblGrid>
                <a:gridCol w="1571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143840" y="714240"/>
          <a:ext cx="1643040" cy="714600"/>
        </p:xfrm>
        <a:graphic>
          <a:graphicData uri="http://schemas.openxmlformats.org/drawingml/2006/table">
            <a:tbl>
              <a:tblPr/>
              <a:tblGrid>
                <a:gridCol w="164304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14200" y="4071960"/>
          <a:ext cx="1714680" cy="70164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143840" y="4000680"/>
          <a:ext cx="1500120" cy="701640"/>
        </p:xfrm>
        <a:graphic>
          <a:graphicData uri="http://schemas.openxmlformats.org/drawingml/2006/table">
            <a:tbl>
              <a:tblPr/>
              <a:tblGrid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071960" y="6000840"/>
          <a:ext cx="1714320" cy="70164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+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аааааа\iякорь.jpeg"/>
          <p:cNvPicPr/>
          <p:nvPr/>
        </p:nvPicPr>
        <p:blipFill>
          <a:blip r:embed="rId2"/>
          <a:stretch/>
        </p:blipFill>
        <p:spPr>
          <a:xfrm>
            <a:off x="2714760" y="2714760"/>
            <a:ext cx="3286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D:\аааааа\мама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аааааа\мама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D:\аааааа\мама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аааааа\мама1.jpg"/>
          <p:cNvPicPr/>
          <p:nvPr/>
        </p:nvPicPr>
        <p:blipFill>
          <a:blip r:embed="rId1"/>
          <a:stretch/>
        </p:blipFill>
        <p:spPr>
          <a:xfrm>
            <a:off x="2571840" y="2071800"/>
            <a:ext cx="3747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аааааа\кобр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аааааа\гадю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аааааа\у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бра длиннее гадюки, а гадюка длиннее уж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амый длин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бра   (_____________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дюка (______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         (____________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2:48:07Z</dcterms:created>
  <dc:creator>Татьяна</dc:creator>
  <dc:description/>
  <dc:language>en-US</dc:language>
  <cp:lastModifiedBy>Татьяна</cp:lastModifiedBy>
  <dcterms:modified xsi:type="dcterms:W3CDTF">2010-04-15T13:05:57Z</dcterms:modified>
  <cp:revision>5</cp:revision>
  <dc:subject/>
  <dc:title>Слайд 1</dc:title>
</cp:coreProperties>
</file>