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434-C9D0-4966-84B5-0C8B4B00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48F-BC0A-4D13-9694-5CECDA1A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2E7-E919-4A27-9A6F-EC306068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398-14F5-40AB-98F4-A7FF44FE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556-55DD-4B08-BFF8-4206CA4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C67-D75A-4581-8C35-A44148C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DAE-38D1-4C80-B63D-067312CE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06F-1E3B-4DF6-A486-73933E0C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461-812A-4E0A-808D-57982D8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DDE-F5D8-4183-940F-582F615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CDF-C25C-4FB8-ADE6-EBB445D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A42-545C-4572-A892-42BC9EA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D22-4BCA-4B89-9115-B0E59EC6A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Полилиния 4"/>
          <p:cNvGrpSpPr/>
          <p:nvPr/>
        </p:nvGrpSpPr>
        <p:grpSpPr>
          <a:xfrm>
            <a:off x="2779560" y="3833640"/>
            <a:ext cx="622440" cy="871560"/>
            <a:chOff x="2779560" y="3833640"/>
            <a:chExt cx="622440" cy="871560"/>
          </a:xfrm>
        </p:grpSpPr>
        <p:pic>
          <p:nvPicPr>
            <p:cNvPr id="44" name="Полилиния 4" descr=""/>
            <p:cNvPicPr/>
            <p:nvPr/>
          </p:nvPicPr>
          <p:blipFill>
            <a:blip r:embed="rId1"/>
            <a:stretch/>
          </p:blipFill>
          <p:spPr>
            <a:xfrm>
              <a:off x="2779560" y="3833640"/>
              <a:ext cx="622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0802600">
              <a:off x="2857320" y="4000680"/>
              <a:ext cx="4665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Полилиния 6"/>
          <p:cNvGrpSpPr/>
          <p:nvPr/>
        </p:nvGrpSpPr>
        <p:grpSpPr>
          <a:xfrm>
            <a:off x="4687920" y="2000160"/>
            <a:ext cx="2779560" cy="2252880"/>
            <a:chOff x="4687920" y="2000160"/>
            <a:chExt cx="2779560" cy="2252880"/>
          </a:xfrm>
        </p:grpSpPr>
        <p:pic>
          <p:nvPicPr>
            <p:cNvPr id="47" name="Полилиния 6" descr=""/>
            <p:cNvPicPr/>
            <p:nvPr/>
          </p:nvPicPr>
          <p:blipFill>
            <a:blip r:embed="rId2"/>
            <a:stretch/>
          </p:blipFill>
          <p:spPr>
            <a:xfrm>
              <a:off x="4687920" y="2163600"/>
              <a:ext cx="277956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0532000">
              <a:off x="5075280" y="2260440"/>
              <a:ext cx="197496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Полилиния 7"/>
          <p:cNvGrpSpPr/>
          <p:nvPr/>
        </p:nvGrpSpPr>
        <p:grpSpPr>
          <a:xfrm>
            <a:off x="2214720" y="281160"/>
            <a:ext cx="2118600" cy="2199960"/>
            <a:chOff x="2214720" y="281160"/>
            <a:chExt cx="2118600" cy="2199960"/>
          </a:xfrm>
        </p:grpSpPr>
        <p:pic>
          <p:nvPicPr>
            <p:cNvPr id="50" name="Полилиния 7" descr=""/>
            <p:cNvPicPr/>
            <p:nvPr/>
          </p:nvPicPr>
          <p:blipFill>
            <a:blip r:embed="rId3"/>
            <a:stretch/>
          </p:blipFill>
          <p:spPr>
            <a:xfrm>
              <a:off x="2341440" y="281160"/>
              <a:ext cx="1986120" cy="21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441200">
              <a:off x="2361960" y="822240"/>
              <a:ext cx="182376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Полилиния 8"/>
          <p:cNvSpPr/>
          <p:nvPr/>
        </p:nvSpPr>
        <p:spPr>
          <a:xfrm>
            <a:off x="4989600" y="2982960"/>
            <a:ext cx="1393560" cy="906480"/>
          </a:xfrm>
          <a:custGeom>
            <a:avLst/>
            <a:gdLst/>
            <a:ahLst/>
            <a:rect l="l" t="t" r="r" b="b"/>
            <a:pathLst>
              <a:path w="1395046" h="906026">
                <a:moveTo>
                  <a:pt x="35169" y="102158"/>
                </a:moveTo>
                <a:cubicBezTo>
                  <a:pt x="70338" y="65314"/>
                  <a:pt x="256233" y="0"/>
                  <a:pt x="376813" y="11723"/>
                </a:cubicBezTo>
                <a:cubicBezTo>
                  <a:pt x="497393" y="23446"/>
                  <a:pt x="653142" y="105507"/>
                  <a:pt x="758650" y="172496"/>
                </a:cubicBezTo>
                <a:cubicBezTo>
                  <a:pt x="864158" y="239485"/>
                  <a:pt x="931147" y="313173"/>
                  <a:pt x="1009859" y="413657"/>
                </a:cubicBezTo>
                <a:cubicBezTo>
                  <a:pt x="1088571" y="514141"/>
                  <a:pt x="1168958" y="700035"/>
                  <a:pt x="1230923" y="775398"/>
                </a:cubicBezTo>
                <a:cubicBezTo>
                  <a:pt x="1292888" y="850761"/>
                  <a:pt x="1368250" y="847411"/>
                  <a:pt x="1381648" y="865833"/>
                </a:cubicBezTo>
                <a:cubicBezTo>
                  <a:pt x="1395046" y="884255"/>
                  <a:pt x="1383322" y="885929"/>
                  <a:pt x="1311309" y="885929"/>
                </a:cubicBezTo>
                <a:cubicBezTo>
                  <a:pt x="1239296" y="885929"/>
                  <a:pt x="1078523" y="906026"/>
                  <a:pt x="949569" y="865833"/>
                </a:cubicBezTo>
                <a:cubicBezTo>
                  <a:pt x="820615" y="825640"/>
                  <a:pt x="643094" y="718457"/>
                  <a:pt x="537586" y="644769"/>
                </a:cubicBezTo>
                <a:cubicBezTo>
                  <a:pt x="432078" y="571081"/>
                  <a:pt x="378488" y="492369"/>
                  <a:pt x="316523" y="423705"/>
                </a:cubicBezTo>
                <a:cubicBezTo>
                  <a:pt x="254558" y="355041"/>
                  <a:pt x="214364" y="284703"/>
                  <a:pt x="165797" y="232787"/>
                </a:cubicBezTo>
                <a:cubicBezTo>
                  <a:pt x="117230" y="180871"/>
                  <a:pt x="0" y="139002"/>
                  <a:pt x="35169" y="102158"/>
                </a:cubicBezTo>
                <a:close/>
              </a:path>
            </a:pathLst>
          </a:custGeom>
          <a:solidFill>
            <a:srgbClr val="eeece1"/>
          </a:solidFill>
          <a:ln w="25560">
            <a:solidFill>
              <a:srgbClr val="b3a2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9"/>
          <p:cNvSpPr/>
          <p:nvPr/>
        </p:nvSpPr>
        <p:spPr>
          <a:xfrm>
            <a:off x="2460600" y="1290600"/>
            <a:ext cx="1357200" cy="1000080"/>
          </a:xfrm>
          <a:custGeom>
            <a:avLst/>
            <a:gdLst/>
            <a:ahLst/>
            <a:rect l="l" t="t" r="r" b="b"/>
            <a:pathLst>
              <a:path w="1358202" h="999811">
                <a:moveTo>
                  <a:pt x="1358202" y="999811"/>
                </a:moveTo>
                <a:cubicBezTo>
                  <a:pt x="1340617" y="813079"/>
                  <a:pt x="1323033" y="626347"/>
                  <a:pt x="1247670" y="517490"/>
                </a:cubicBezTo>
                <a:cubicBezTo>
                  <a:pt x="1172307" y="408633"/>
                  <a:pt x="1014883" y="386861"/>
                  <a:pt x="906026" y="346668"/>
                </a:cubicBezTo>
                <a:cubicBezTo>
                  <a:pt x="797169" y="306475"/>
                  <a:pt x="594527" y="276330"/>
                  <a:pt x="594527" y="276330"/>
                </a:cubicBezTo>
                <a:cubicBezTo>
                  <a:pt x="489019" y="252884"/>
                  <a:pt x="353367" y="236136"/>
                  <a:pt x="272980" y="205991"/>
                </a:cubicBezTo>
                <a:cubicBezTo>
                  <a:pt x="192593" y="175846"/>
                  <a:pt x="144026" y="125605"/>
                  <a:pt x="112206" y="95460"/>
                </a:cubicBezTo>
                <a:cubicBezTo>
                  <a:pt x="80386" y="65315"/>
                  <a:pt x="93784" y="0"/>
                  <a:pt x="82061" y="25121"/>
                </a:cubicBezTo>
                <a:cubicBezTo>
                  <a:pt x="70338" y="50242"/>
                  <a:pt x="0" y="145702"/>
                  <a:pt x="41868" y="246185"/>
                </a:cubicBezTo>
                <a:cubicBezTo>
                  <a:pt x="83736" y="346668"/>
                  <a:pt x="224413" y="530888"/>
                  <a:pt x="333270" y="628022"/>
                </a:cubicBezTo>
                <a:cubicBezTo>
                  <a:pt x="442127" y="725156"/>
                  <a:pt x="576105" y="792145"/>
                  <a:pt x="695010" y="828989"/>
                </a:cubicBezTo>
                <a:cubicBezTo>
                  <a:pt x="813915" y="865833"/>
                  <a:pt x="939521" y="830664"/>
                  <a:pt x="1046703" y="849086"/>
                </a:cubicBezTo>
                <a:cubicBezTo>
                  <a:pt x="1153885" y="867508"/>
                  <a:pt x="1338105" y="939521"/>
                  <a:pt x="1338105" y="939521"/>
                </a:cubicBezTo>
                <a:lnTo>
                  <a:pt x="1338105" y="939521"/>
                </a:lnTo>
                <a:cubicBezTo>
                  <a:pt x="1339780" y="939521"/>
                  <a:pt x="1353177" y="937846"/>
                  <a:pt x="1348153" y="939521"/>
                </a:cubicBezTo>
                <a:cubicBezTo>
                  <a:pt x="1343129" y="941196"/>
                  <a:pt x="1314659" y="951244"/>
                  <a:pt x="1307960" y="949569"/>
                </a:cubicBezTo>
                <a:cubicBezTo>
                  <a:pt x="1301261" y="947894"/>
                  <a:pt x="1304611" y="934497"/>
                  <a:pt x="1307960" y="929473"/>
                </a:cubicBezTo>
              </a:path>
            </a:pathLst>
          </a:custGeom>
          <a:solidFill>
            <a:srgbClr val="eeece1"/>
          </a:solidFill>
          <a:ln w="9360">
            <a:solidFill>
              <a:srgbClr val="b3a2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1"/>
          <p:cNvSpPr/>
          <p:nvPr/>
        </p:nvSpPr>
        <p:spPr>
          <a:xfrm>
            <a:off x="1940040" y="824040"/>
            <a:ext cx="1687320" cy="923760"/>
          </a:xfrm>
          <a:custGeom>
            <a:avLst/>
            <a:gdLst/>
            <a:ahLst/>
            <a:rect l="l" t="t" r="r" b="b"/>
            <a:pathLst>
              <a:path w="1688123" h="924448">
                <a:moveTo>
                  <a:pt x="1688123" y="924448"/>
                </a:moveTo>
                <a:cubicBezTo>
                  <a:pt x="1617784" y="885092"/>
                  <a:pt x="1547446" y="845736"/>
                  <a:pt x="1497204" y="793820"/>
                </a:cubicBezTo>
                <a:cubicBezTo>
                  <a:pt x="1446962" y="741904"/>
                  <a:pt x="1405094" y="695011"/>
                  <a:pt x="1386672" y="612949"/>
                </a:cubicBezTo>
                <a:cubicBezTo>
                  <a:pt x="1368250" y="530887"/>
                  <a:pt x="1401744" y="339969"/>
                  <a:pt x="1386672" y="301450"/>
                </a:cubicBezTo>
                <a:cubicBezTo>
                  <a:pt x="1371600" y="262931"/>
                  <a:pt x="1304610" y="306474"/>
                  <a:pt x="1296237" y="381837"/>
                </a:cubicBezTo>
                <a:cubicBezTo>
                  <a:pt x="1287864" y="457200"/>
                  <a:pt x="1373275" y="748602"/>
                  <a:pt x="1336431" y="753626"/>
                </a:cubicBezTo>
                <a:cubicBezTo>
                  <a:pt x="1299587" y="758650"/>
                  <a:pt x="1127089" y="495718"/>
                  <a:pt x="1075173" y="411982"/>
                </a:cubicBezTo>
                <a:cubicBezTo>
                  <a:pt x="1023257" y="328246"/>
                  <a:pt x="1024932" y="299776"/>
                  <a:pt x="1024932" y="251209"/>
                </a:cubicBezTo>
                <a:cubicBezTo>
                  <a:pt x="1024932" y="202642"/>
                  <a:pt x="1090246" y="72013"/>
                  <a:pt x="1075173" y="120580"/>
                </a:cubicBezTo>
                <a:cubicBezTo>
                  <a:pt x="1060101" y="169147"/>
                  <a:pt x="922774" y="428730"/>
                  <a:pt x="934497" y="542611"/>
                </a:cubicBezTo>
                <a:cubicBezTo>
                  <a:pt x="946220" y="656492"/>
                  <a:pt x="1110343" y="763675"/>
                  <a:pt x="1145512" y="803868"/>
                </a:cubicBezTo>
                <a:cubicBezTo>
                  <a:pt x="1180681" y="844061"/>
                  <a:pt x="1189055" y="820615"/>
                  <a:pt x="1145512" y="783771"/>
                </a:cubicBezTo>
                <a:cubicBezTo>
                  <a:pt x="1101969" y="746927"/>
                  <a:pt x="936172" y="654817"/>
                  <a:pt x="884255" y="582804"/>
                </a:cubicBezTo>
                <a:cubicBezTo>
                  <a:pt x="832339" y="510791"/>
                  <a:pt x="842387" y="405283"/>
                  <a:pt x="834013" y="351692"/>
                </a:cubicBezTo>
                <a:cubicBezTo>
                  <a:pt x="825639" y="298101"/>
                  <a:pt x="842387" y="242835"/>
                  <a:pt x="834013" y="261257"/>
                </a:cubicBezTo>
                <a:cubicBezTo>
                  <a:pt x="825639" y="279679"/>
                  <a:pt x="788795" y="403609"/>
                  <a:pt x="783771" y="462224"/>
                </a:cubicBezTo>
                <a:cubicBezTo>
                  <a:pt x="778747" y="520839"/>
                  <a:pt x="813916" y="654817"/>
                  <a:pt x="803868" y="612949"/>
                </a:cubicBezTo>
                <a:cubicBezTo>
                  <a:pt x="793820" y="571081"/>
                  <a:pt x="746927" y="276329"/>
                  <a:pt x="723481" y="211015"/>
                </a:cubicBezTo>
                <a:cubicBezTo>
                  <a:pt x="700035" y="145701"/>
                  <a:pt x="676589" y="177521"/>
                  <a:pt x="663191" y="221064"/>
                </a:cubicBezTo>
                <a:cubicBezTo>
                  <a:pt x="649793" y="264607"/>
                  <a:pt x="639745" y="422030"/>
                  <a:pt x="643094" y="472272"/>
                </a:cubicBezTo>
                <a:cubicBezTo>
                  <a:pt x="646443" y="522514"/>
                  <a:pt x="751952" y="545960"/>
                  <a:pt x="683288" y="522514"/>
                </a:cubicBezTo>
                <a:cubicBezTo>
                  <a:pt x="614624" y="499068"/>
                  <a:pt x="344993" y="418681"/>
                  <a:pt x="231112" y="331595"/>
                </a:cubicBezTo>
                <a:cubicBezTo>
                  <a:pt x="117231" y="244509"/>
                  <a:pt x="40193" y="53591"/>
                  <a:pt x="0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Полилиния 13"/>
          <p:cNvGrpSpPr/>
          <p:nvPr/>
        </p:nvGrpSpPr>
        <p:grpSpPr>
          <a:xfrm>
            <a:off x="5254560" y="2951280"/>
            <a:ext cx="927000" cy="974520"/>
            <a:chOff x="5254560" y="2951280"/>
            <a:chExt cx="927000" cy="974520"/>
          </a:xfrm>
        </p:grpSpPr>
        <p:pic>
          <p:nvPicPr>
            <p:cNvPr id="56" name="Полилиния 13" descr=""/>
            <p:cNvPicPr/>
            <p:nvPr/>
          </p:nvPicPr>
          <p:blipFill>
            <a:blip r:embed="rId4"/>
            <a:stretch/>
          </p:blipFill>
          <p:spPr>
            <a:xfrm>
              <a:off x="5254560" y="2951280"/>
              <a:ext cx="9270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343480" y="3075120"/>
              <a:ext cx="743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олилиния 14"/>
          <p:cNvGrpSpPr/>
          <p:nvPr/>
        </p:nvGrpSpPr>
        <p:grpSpPr>
          <a:xfrm>
            <a:off x="2620800" y="1371600"/>
            <a:ext cx="1006560" cy="865080"/>
            <a:chOff x="2620800" y="1371600"/>
            <a:chExt cx="1006560" cy="865080"/>
          </a:xfrm>
        </p:grpSpPr>
        <p:pic>
          <p:nvPicPr>
            <p:cNvPr id="59" name="Полилиния 14" descr=""/>
            <p:cNvPicPr/>
            <p:nvPr/>
          </p:nvPicPr>
          <p:blipFill>
            <a:blip r:embed="rId5"/>
            <a:stretch/>
          </p:blipFill>
          <p:spPr>
            <a:xfrm>
              <a:off x="2620800" y="1371600"/>
              <a:ext cx="1006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74880" y="1525680"/>
              <a:ext cx="6984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олилиния 15"/>
          <p:cNvGrpSpPr/>
          <p:nvPr/>
        </p:nvGrpSpPr>
        <p:grpSpPr>
          <a:xfrm>
            <a:off x="5284800" y="3067200"/>
            <a:ext cx="847800" cy="876240"/>
            <a:chOff x="5284800" y="3067200"/>
            <a:chExt cx="847800" cy="876240"/>
          </a:xfrm>
        </p:grpSpPr>
        <p:pic>
          <p:nvPicPr>
            <p:cNvPr id="62" name="Полилиния 15" descr=""/>
            <p:cNvPicPr/>
            <p:nvPr/>
          </p:nvPicPr>
          <p:blipFill>
            <a:blip r:embed="rId6"/>
            <a:stretch/>
          </p:blipFill>
          <p:spPr>
            <a:xfrm>
              <a:off x="5284800" y="3067200"/>
              <a:ext cx="8478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524560" y="3303720"/>
              <a:ext cx="358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олилиния 16"/>
          <p:cNvGrpSpPr/>
          <p:nvPr/>
        </p:nvGrpSpPr>
        <p:grpSpPr>
          <a:xfrm>
            <a:off x="2719440" y="1390680"/>
            <a:ext cx="957240" cy="865080"/>
            <a:chOff x="2719440" y="1390680"/>
            <a:chExt cx="957240" cy="865080"/>
          </a:xfrm>
        </p:grpSpPr>
        <p:pic>
          <p:nvPicPr>
            <p:cNvPr id="65" name="Полилиния 16" descr=""/>
            <p:cNvPicPr/>
            <p:nvPr/>
          </p:nvPicPr>
          <p:blipFill>
            <a:blip r:embed="rId7"/>
            <a:stretch/>
          </p:blipFill>
          <p:spPr>
            <a:xfrm>
              <a:off x="2719440" y="1390680"/>
              <a:ext cx="957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962440" y="1631880"/>
              <a:ext cx="47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олилиния 17"/>
          <p:cNvGrpSpPr/>
          <p:nvPr/>
        </p:nvGrpSpPr>
        <p:grpSpPr>
          <a:xfrm>
            <a:off x="5370480" y="3005280"/>
            <a:ext cx="609480" cy="658800"/>
            <a:chOff x="5370480" y="3005280"/>
            <a:chExt cx="609480" cy="658800"/>
          </a:xfrm>
        </p:grpSpPr>
        <p:pic>
          <p:nvPicPr>
            <p:cNvPr id="68" name="Полилиния 17" descr=""/>
            <p:cNvPicPr/>
            <p:nvPr/>
          </p:nvPicPr>
          <p:blipFill>
            <a:blip r:embed="rId8"/>
            <a:stretch/>
          </p:blipFill>
          <p:spPr>
            <a:xfrm>
              <a:off x="5370480" y="3005280"/>
              <a:ext cx="609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613480" y="3236760"/>
              <a:ext cx="1220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Полилиния 18"/>
          <p:cNvGrpSpPr/>
          <p:nvPr/>
        </p:nvGrpSpPr>
        <p:grpSpPr>
          <a:xfrm>
            <a:off x="2865600" y="1347840"/>
            <a:ext cx="590400" cy="657000"/>
            <a:chOff x="2865600" y="1347840"/>
            <a:chExt cx="590400" cy="657000"/>
          </a:xfrm>
        </p:grpSpPr>
        <p:pic>
          <p:nvPicPr>
            <p:cNvPr id="71" name="Полилиния 18" descr=""/>
            <p:cNvPicPr/>
            <p:nvPr/>
          </p:nvPicPr>
          <p:blipFill>
            <a:blip r:embed="rId9"/>
            <a:stretch/>
          </p:blipFill>
          <p:spPr>
            <a:xfrm>
              <a:off x="2865600" y="1347840"/>
              <a:ext cx="5904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108240" y="1590840"/>
              <a:ext cx="1033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Полилиния 19"/>
          <p:cNvGrpSpPr/>
          <p:nvPr/>
        </p:nvGrpSpPr>
        <p:grpSpPr>
          <a:xfrm>
            <a:off x="1994040" y="4054320"/>
            <a:ext cx="2035080" cy="1328760"/>
            <a:chOff x="1994040" y="4054320"/>
            <a:chExt cx="2035080" cy="1328760"/>
          </a:xfrm>
        </p:grpSpPr>
        <p:pic>
          <p:nvPicPr>
            <p:cNvPr id="74" name="Полилиния 19" descr=""/>
            <p:cNvPicPr/>
            <p:nvPr/>
          </p:nvPicPr>
          <p:blipFill>
            <a:blip r:embed="rId10"/>
            <a:stretch/>
          </p:blipFill>
          <p:spPr>
            <a:xfrm>
              <a:off x="1994040" y="4054320"/>
              <a:ext cx="2035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143080" y="4214880"/>
              <a:ext cx="17208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Полилиния 20"/>
          <p:cNvGrpSpPr/>
          <p:nvPr/>
        </p:nvGrpSpPr>
        <p:grpSpPr>
          <a:xfrm>
            <a:off x="2036880" y="274680"/>
            <a:ext cx="2711160" cy="4065480"/>
            <a:chOff x="2036880" y="274680"/>
            <a:chExt cx="2711160" cy="4065480"/>
          </a:xfrm>
        </p:grpSpPr>
        <p:pic>
          <p:nvPicPr>
            <p:cNvPr id="77" name="Полилиния 20" descr=""/>
            <p:cNvPicPr/>
            <p:nvPr/>
          </p:nvPicPr>
          <p:blipFill>
            <a:blip r:embed="rId11"/>
            <a:stretch/>
          </p:blipFill>
          <p:spPr>
            <a:xfrm>
              <a:off x="2036880" y="274680"/>
              <a:ext cx="271116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254320" y="492120"/>
              <a:ext cx="2255760" cy="36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олилиния 21"/>
          <p:cNvSpPr/>
          <p:nvPr/>
        </p:nvSpPr>
        <p:spPr>
          <a:xfrm>
            <a:off x="3089160" y="3240000"/>
            <a:ext cx="347760" cy="426960"/>
          </a:xfrm>
          <a:custGeom>
            <a:avLst/>
            <a:gdLst/>
            <a:ahLst/>
            <a:rect l="l" t="t" r="r" b="b"/>
            <a:pathLst>
              <a:path w="346855" h="427054">
                <a:moveTo>
                  <a:pt x="336807" y="15072"/>
                </a:moveTo>
                <a:cubicBezTo>
                  <a:pt x="326759" y="0"/>
                  <a:pt x="273804" y="25511"/>
                  <a:pt x="256420" y="35169"/>
                </a:cubicBezTo>
                <a:cubicBezTo>
                  <a:pt x="235306" y="46899"/>
                  <a:pt x="220230" y="73755"/>
                  <a:pt x="196130" y="75362"/>
                </a:cubicBezTo>
                <a:lnTo>
                  <a:pt x="45405" y="85410"/>
                </a:lnTo>
                <a:cubicBezTo>
                  <a:pt x="35357" y="95458"/>
                  <a:pt x="23143" y="103731"/>
                  <a:pt x="15260" y="115555"/>
                </a:cubicBezTo>
                <a:cubicBezTo>
                  <a:pt x="9384" y="124368"/>
                  <a:pt x="5211" y="135109"/>
                  <a:pt x="5211" y="145701"/>
                </a:cubicBezTo>
                <a:cubicBezTo>
                  <a:pt x="5211" y="229504"/>
                  <a:pt x="0" y="314507"/>
                  <a:pt x="15260" y="396909"/>
                </a:cubicBezTo>
                <a:cubicBezTo>
                  <a:pt x="16894" y="405733"/>
                  <a:pt x="75207" y="423590"/>
                  <a:pt x="85598" y="427054"/>
                </a:cubicBezTo>
                <a:cubicBezTo>
                  <a:pt x="112394" y="423705"/>
                  <a:pt x="140607" y="426234"/>
                  <a:pt x="165985" y="417006"/>
                </a:cubicBezTo>
                <a:cubicBezTo>
                  <a:pt x="179340" y="412150"/>
                  <a:pt x="193632" y="400850"/>
                  <a:pt x="196130" y="386861"/>
                </a:cubicBezTo>
                <a:cubicBezTo>
                  <a:pt x="210897" y="304165"/>
                  <a:pt x="181025" y="211924"/>
                  <a:pt x="216227" y="135652"/>
                </a:cubicBezTo>
                <a:cubicBezTo>
                  <a:pt x="230333" y="105089"/>
                  <a:pt x="283216" y="128953"/>
                  <a:pt x="316710" y="125604"/>
                </a:cubicBezTo>
                <a:cubicBezTo>
                  <a:pt x="333115" y="76394"/>
                  <a:pt x="346855" y="30145"/>
                  <a:pt x="336807" y="15072"/>
                </a:cubicBezTo>
                <a:close/>
              </a:path>
            </a:pathLst>
          </a:custGeom>
          <a:solidFill>
            <a:srgbClr val="95b3d7"/>
          </a:solidFill>
          <a:ln w="2556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Полилиния 22"/>
          <p:cNvGrpSpPr/>
          <p:nvPr/>
        </p:nvGrpSpPr>
        <p:grpSpPr>
          <a:xfrm>
            <a:off x="3170160" y="3560760"/>
            <a:ext cx="249480" cy="291960"/>
            <a:chOff x="3170160" y="3560760"/>
            <a:chExt cx="249480" cy="291960"/>
          </a:xfrm>
        </p:grpSpPr>
        <p:pic>
          <p:nvPicPr>
            <p:cNvPr id="81" name="Полилиния 22" descr=""/>
            <p:cNvPicPr/>
            <p:nvPr/>
          </p:nvPicPr>
          <p:blipFill>
            <a:blip r:embed="rId12"/>
            <a:stretch/>
          </p:blipFill>
          <p:spPr>
            <a:xfrm>
              <a:off x="3170160" y="3560760"/>
              <a:ext cx="2494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24160" y="3648240"/>
              <a:ext cx="1144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олилиния 23"/>
          <p:cNvGrpSpPr/>
          <p:nvPr/>
        </p:nvGrpSpPr>
        <p:grpSpPr>
          <a:xfrm>
            <a:off x="3449520" y="3736800"/>
            <a:ext cx="433440" cy="347760"/>
            <a:chOff x="3449520" y="3736800"/>
            <a:chExt cx="433440" cy="347760"/>
          </a:xfrm>
        </p:grpSpPr>
        <p:pic>
          <p:nvPicPr>
            <p:cNvPr id="84" name="Полилиния 23" descr=""/>
            <p:cNvPicPr/>
            <p:nvPr/>
          </p:nvPicPr>
          <p:blipFill>
            <a:blip r:embed="rId13"/>
            <a:stretch/>
          </p:blipFill>
          <p:spPr>
            <a:xfrm>
              <a:off x="3449520" y="3736800"/>
              <a:ext cx="4334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67240" y="38577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олилиния 24"/>
          <p:cNvGrpSpPr/>
          <p:nvPr/>
        </p:nvGrpSpPr>
        <p:grpSpPr>
          <a:xfrm>
            <a:off x="4827600" y="1676520"/>
            <a:ext cx="2725560" cy="1841400"/>
            <a:chOff x="4827600" y="1676520"/>
            <a:chExt cx="2725560" cy="1841400"/>
          </a:xfrm>
        </p:grpSpPr>
        <p:pic>
          <p:nvPicPr>
            <p:cNvPr id="87" name="Полилиния 24" descr=""/>
            <p:cNvPicPr/>
            <p:nvPr/>
          </p:nvPicPr>
          <p:blipFill>
            <a:blip r:embed="rId14"/>
            <a:stretch/>
          </p:blipFill>
          <p:spPr>
            <a:xfrm>
              <a:off x="4827600" y="1676520"/>
              <a:ext cx="27255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072040" y="1928880"/>
              <a:ext cx="229572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олилиния 27"/>
          <p:cNvGrpSpPr/>
          <p:nvPr/>
        </p:nvGrpSpPr>
        <p:grpSpPr>
          <a:xfrm>
            <a:off x="1121400" y="1700280"/>
            <a:ext cx="1373760" cy="1884240"/>
            <a:chOff x="1121400" y="1700280"/>
            <a:chExt cx="1373760" cy="1884240"/>
          </a:xfrm>
        </p:grpSpPr>
        <p:pic>
          <p:nvPicPr>
            <p:cNvPr id="90" name="Полилиния 27" descr=""/>
            <p:cNvPicPr/>
            <p:nvPr/>
          </p:nvPicPr>
          <p:blipFill>
            <a:blip r:embed="rId15"/>
            <a:stretch/>
          </p:blipFill>
          <p:spPr>
            <a:xfrm>
              <a:off x="1238400" y="1700280"/>
              <a:ext cx="8514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12397800">
              <a:off x="1397520" y="1868040"/>
              <a:ext cx="82116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29"/>
          <p:cNvSpPr/>
          <p:nvPr/>
        </p:nvSpPr>
        <p:spPr>
          <a:xfrm>
            <a:off x="2343240" y="4438800"/>
            <a:ext cx="1122120" cy="608040"/>
          </a:xfrm>
          <a:custGeom>
            <a:avLst/>
            <a:gdLst/>
            <a:ahLst/>
            <a:rect l="l" t="t" r="r" b="b"/>
            <a:pathLst>
              <a:path w="1122066" h="607925">
                <a:moveTo>
                  <a:pt x="18422" y="13398"/>
                </a:moveTo>
                <a:cubicBezTo>
                  <a:pt x="8374" y="0"/>
                  <a:pt x="0" y="40193"/>
                  <a:pt x="28470" y="83736"/>
                </a:cubicBezTo>
                <a:cubicBezTo>
                  <a:pt x="56940" y="127279"/>
                  <a:pt x="128954" y="226088"/>
                  <a:pt x="189244" y="274655"/>
                </a:cubicBezTo>
                <a:cubicBezTo>
                  <a:pt x="249534" y="323222"/>
                  <a:pt x="316523" y="339969"/>
                  <a:pt x="390211" y="375138"/>
                </a:cubicBezTo>
                <a:cubicBezTo>
                  <a:pt x="463899" y="410307"/>
                  <a:pt x="554334" y="457200"/>
                  <a:pt x="631371" y="485670"/>
                </a:cubicBezTo>
                <a:cubicBezTo>
                  <a:pt x="708408" y="514140"/>
                  <a:pt x="787121" y="534237"/>
                  <a:pt x="852435" y="545960"/>
                </a:cubicBezTo>
                <a:cubicBezTo>
                  <a:pt x="917749" y="557683"/>
                  <a:pt x="988088" y="550985"/>
                  <a:pt x="1023257" y="556009"/>
                </a:cubicBezTo>
                <a:cubicBezTo>
                  <a:pt x="1058426" y="561033"/>
                  <a:pt x="1122066" y="571081"/>
                  <a:pt x="1063450" y="576105"/>
                </a:cubicBezTo>
                <a:cubicBezTo>
                  <a:pt x="1004835" y="581129"/>
                  <a:pt x="795494" y="607925"/>
                  <a:pt x="671564" y="586154"/>
                </a:cubicBezTo>
                <a:cubicBezTo>
                  <a:pt x="547634" y="564383"/>
                  <a:pt x="406958" y="492369"/>
                  <a:pt x="319872" y="445477"/>
                </a:cubicBezTo>
                <a:cubicBezTo>
                  <a:pt x="232786" y="398585"/>
                  <a:pt x="187569" y="351692"/>
                  <a:pt x="149050" y="304800"/>
                </a:cubicBezTo>
                <a:cubicBezTo>
                  <a:pt x="110531" y="257908"/>
                  <a:pt x="110531" y="214365"/>
                  <a:pt x="88760" y="164123"/>
                </a:cubicBezTo>
                <a:cubicBezTo>
                  <a:pt x="66989" y="113881"/>
                  <a:pt x="28470" y="26796"/>
                  <a:pt x="18422" y="1339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Полилиния 30"/>
          <p:cNvGrpSpPr/>
          <p:nvPr/>
        </p:nvGrpSpPr>
        <p:grpSpPr>
          <a:xfrm>
            <a:off x="5114880" y="-23760"/>
            <a:ext cx="2712960" cy="6553080"/>
            <a:chOff x="5114880" y="-23760"/>
            <a:chExt cx="2712960" cy="6553080"/>
          </a:xfrm>
        </p:grpSpPr>
        <p:pic>
          <p:nvPicPr>
            <p:cNvPr id="94" name="Полилиния 30" descr=""/>
            <p:cNvPicPr/>
            <p:nvPr/>
          </p:nvPicPr>
          <p:blipFill>
            <a:blip r:embed="rId16"/>
            <a:stretch/>
          </p:blipFill>
          <p:spPr>
            <a:xfrm>
              <a:off x="5114880" y="-23760"/>
              <a:ext cx="271296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57880" y="214200"/>
              <a:ext cx="2278080" cy="60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олилиния 31"/>
          <p:cNvGrpSpPr/>
          <p:nvPr/>
        </p:nvGrpSpPr>
        <p:grpSpPr>
          <a:xfrm>
            <a:off x="1170000" y="-165240"/>
            <a:ext cx="4730760" cy="2853000"/>
            <a:chOff x="1170000" y="-165240"/>
            <a:chExt cx="4730760" cy="2853000"/>
          </a:xfrm>
        </p:grpSpPr>
        <p:pic>
          <p:nvPicPr>
            <p:cNvPr id="97" name="Полилиния 31" descr=""/>
            <p:cNvPicPr/>
            <p:nvPr/>
          </p:nvPicPr>
          <p:blipFill>
            <a:blip r:embed="rId17"/>
            <a:stretch/>
          </p:blipFill>
          <p:spPr>
            <a:xfrm>
              <a:off x="1170000" y="-165240"/>
              <a:ext cx="473076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14440" y="81000"/>
              <a:ext cx="425304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олилиния 32"/>
          <p:cNvGrpSpPr/>
          <p:nvPr/>
        </p:nvGrpSpPr>
        <p:grpSpPr>
          <a:xfrm>
            <a:off x="-371520" y="-139680"/>
            <a:ext cx="3730680" cy="7107120"/>
            <a:chOff x="-371520" y="-139680"/>
            <a:chExt cx="3730680" cy="7107120"/>
          </a:xfrm>
        </p:grpSpPr>
        <p:pic>
          <p:nvPicPr>
            <p:cNvPr id="100" name="Полилиния 32" descr=""/>
            <p:cNvPicPr/>
            <p:nvPr/>
          </p:nvPicPr>
          <p:blipFill>
            <a:blip r:embed="rId18"/>
            <a:stretch/>
          </p:blipFill>
          <p:spPr>
            <a:xfrm>
              <a:off x="-371520" y="-139680"/>
              <a:ext cx="3730680" cy="71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-130320" y="74520"/>
              <a:ext cx="3245040" cy="66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олилиния 33"/>
          <p:cNvGrpSpPr/>
          <p:nvPr/>
        </p:nvGrpSpPr>
        <p:grpSpPr>
          <a:xfrm>
            <a:off x="5572080" y="-122400"/>
            <a:ext cx="3432240" cy="7236000"/>
            <a:chOff x="5572080" y="-122400"/>
            <a:chExt cx="3432240" cy="7236000"/>
          </a:xfrm>
        </p:grpSpPr>
        <p:pic>
          <p:nvPicPr>
            <p:cNvPr id="103" name="Полилиния 33" descr=""/>
            <p:cNvPicPr/>
            <p:nvPr/>
          </p:nvPicPr>
          <p:blipFill>
            <a:blip r:embed="rId19"/>
            <a:stretch/>
          </p:blipFill>
          <p:spPr>
            <a:xfrm>
              <a:off x="5572080" y="-122400"/>
              <a:ext cx="3432240" cy="723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818320" y="108000"/>
              <a:ext cx="2943000" cy="67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олилиния 34"/>
          <p:cNvGrpSpPr/>
          <p:nvPr/>
        </p:nvGrpSpPr>
        <p:grpSpPr>
          <a:xfrm>
            <a:off x="-103320" y="-291960"/>
            <a:ext cx="9009360" cy="7259400"/>
            <a:chOff x="-103320" y="-291960"/>
            <a:chExt cx="9009360" cy="7259400"/>
          </a:xfrm>
        </p:grpSpPr>
        <p:pic>
          <p:nvPicPr>
            <p:cNvPr id="106" name="Полилиния 34" descr=""/>
            <p:cNvPicPr/>
            <p:nvPr/>
          </p:nvPicPr>
          <p:blipFill>
            <a:blip r:embed="rId20"/>
            <a:stretch/>
          </p:blipFill>
          <p:spPr>
            <a:xfrm>
              <a:off x="-103320" y="-291960"/>
              <a:ext cx="9009360" cy="72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200" y="-60480"/>
              <a:ext cx="8528040" cy="67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олилиния 35"/>
          <p:cNvGrpSpPr/>
          <p:nvPr/>
        </p:nvGrpSpPr>
        <p:grpSpPr>
          <a:xfrm>
            <a:off x="3736800" y="-6480"/>
            <a:ext cx="5035680" cy="7102440"/>
            <a:chOff x="3736800" y="-6480"/>
            <a:chExt cx="5035680" cy="7102440"/>
          </a:xfrm>
        </p:grpSpPr>
        <p:pic>
          <p:nvPicPr>
            <p:cNvPr id="109" name="Полилиния 35" descr=""/>
            <p:cNvPicPr/>
            <p:nvPr/>
          </p:nvPicPr>
          <p:blipFill>
            <a:blip r:embed="rId21"/>
            <a:stretch/>
          </p:blipFill>
          <p:spPr>
            <a:xfrm>
              <a:off x="3736800" y="-6480"/>
              <a:ext cx="5035680" cy="710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78360" y="231840"/>
              <a:ext cx="4552920" cy="66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Полилиния 36"/>
          <p:cNvSpPr/>
          <p:nvPr/>
        </p:nvSpPr>
        <p:spPr>
          <a:xfrm>
            <a:off x="2019240" y="4137120"/>
            <a:ext cx="181080" cy="141120"/>
          </a:xfrm>
          <a:custGeom>
            <a:avLst/>
            <a:gdLst/>
            <a:ahLst/>
            <a:rect l="l" t="t" r="r" b="b"/>
            <a:pathLst>
              <a:path w="181098" h="142096">
                <a:moveTo>
                  <a:pt x="171050" y="53171"/>
                </a:moveTo>
                <a:cubicBezTo>
                  <a:pt x="147604" y="49821"/>
                  <a:pt x="123789" y="48448"/>
                  <a:pt x="100711" y="43122"/>
                </a:cubicBezTo>
                <a:cubicBezTo>
                  <a:pt x="80070" y="38359"/>
                  <a:pt x="40421" y="23026"/>
                  <a:pt x="40421" y="23026"/>
                </a:cubicBezTo>
                <a:cubicBezTo>
                  <a:pt x="30373" y="16327"/>
                  <a:pt x="21992" y="0"/>
                  <a:pt x="10276" y="2929"/>
                </a:cubicBezTo>
                <a:cubicBezTo>
                  <a:pt x="0" y="5498"/>
                  <a:pt x="228" y="22482"/>
                  <a:pt x="228" y="33074"/>
                </a:cubicBezTo>
                <a:cubicBezTo>
                  <a:pt x="228" y="60663"/>
                  <a:pt x="10134" y="86874"/>
                  <a:pt x="40421" y="93364"/>
                </a:cubicBezTo>
                <a:cubicBezTo>
                  <a:pt x="76596" y="101116"/>
                  <a:pt x="114109" y="100063"/>
                  <a:pt x="150953" y="103412"/>
                </a:cubicBezTo>
                <a:cubicBezTo>
                  <a:pt x="173677" y="137498"/>
                  <a:pt x="162511" y="142096"/>
                  <a:pt x="181098" y="123509"/>
                </a:cubicBezTo>
              </a:path>
            </a:pathLst>
          </a:custGeom>
          <a:solidFill>
            <a:srgbClr val="be5e79"/>
          </a:solidFill>
          <a:ln w="93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37"/>
          <p:cNvSpPr/>
          <p:nvPr/>
        </p:nvSpPr>
        <p:spPr>
          <a:xfrm>
            <a:off x="3817800" y="5159520"/>
            <a:ext cx="171720" cy="93600"/>
          </a:xfrm>
          <a:custGeom>
            <a:avLst/>
            <a:gdLst/>
            <a:ahLst/>
            <a:rect l="l" t="t" r="r" b="b"/>
            <a:pathLst>
              <a:path w="170822" h="93658">
                <a:moveTo>
                  <a:pt x="40193" y="5024"/>
                </a:moveTo>
                <a:cubicBezTo>
                  <a:pt x="51916" y="0"/>
                  <a:pt x="60154" y="12162"/>
                  <a:pt x="70338" y="15072"/>
                </a:cubicBezTo>
                <a:cubicBezTo>
                  <a:pt x="83617" y="18866"/>
                  <a:pt x="97303" y="21152"/>
                  <a:pt x="110531" y="25120"/>
                </a:cubicBezTo>
                <a:cubicBezTo>
                  <a:pt x="130822" y="31207"/>
                  <a:pt x="170822" y="45217"/>
                  <a:pt x="170822" y="45217"/>
                </a:cubicBezTo>
                <a:cubicBezTo>
                  <a:pt x="160774" y="55265"/>
                  <a:pt x="152501" y="67479"/>
                  <a:pt x="140677" y="75362"/>
                </a:cubicBezTo>
                <a:cubicBezTo>
                  <a:pt x="113233" y="93658"/>
                  <a:pt x="90437" y="82899"/>
                  <a:pt x="60290" y="75362"/>
                </a:cubicBezTo>
                <a:cubicBezTo>
                  <a:pt x="50014" y="72793"/>
                  <a:pt x="40193" y="68663"/>
                  <a:pt x="30145" y="65314"/>
                </a:cubicBezTo>
                <a:cubicBezTo>
                  <a:pt x="20097" y="58615"/>
                  <a:pt x="0" y="57294"/>
                  <a:pt x="0" y="45217"/>
                </a:cubicBezTo>
                <a:cubicBezTo>
                  <a:pt x="0" y="33140"/>
                  <a:pt x="28470" y="10048"/>
                  <a:pt x="40193" y="5024"/>
                </a:cubicBezTo>
                <a:close/>
              </a:path>
            </a:pathLst>
          </a:custGeom>
          <a:solidFill>
            <a:srgbClr val="be5e79"/>
          </a:solidFill>
          <a:ln w="255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Полилиния 38"/>
          <p:cNvGrpSpPr/>
          <p:nvPr/>
        </p:nvGrpSpPr>
        <p:grpSpPr>
          <a:xfrm>
            <a:off x="1920960" y="4853160"/>
            <a:ext cx="1017360" cy="834840"/>
            <a:chOff x="1920960" y="4853160"/>
            <a:chExt cx="1017360" cy="834840"/>
          </a:xfrm>
        </p:grpSpPr>
        <p:pic>
          <p:nvPicPr>
            <p:cNvPr id="114" name="Полилиния 38" descr=""/>
            <p:cNvPicPr/>
            <p:nvPr/>
          </p:nvPicPr>
          <p:blipFill>
            <a:blip r:embed="rId22"/>
            <a:stretch/>
          </p:blipFill>
          <p:spPr>
            <a:xfrm>
              <a:off x="1920960" y="4853160"/>
              <a:ext cx="1017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160720" y="5094360"/>
              <a:ext cx="531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олилиния 39"/>
          <p:cNvGrpSpPr/>
          <p:nvPr/>
        </p:nvGrpSpPr>
        <p:grpSpPr>
          <a:xfrm>
            <a:off x="4827600" y="2571840"/>
            <a:ext cx="2274840" cy="1536480"/>
            <a:chOff x="4827600" y="2571840"/>
            <a:chExt cx="2274840" cy="1536480"/>
          </a:xfrm>
        </p:grpSpPr>
        <p:pic>
          <p:nvPicPr>
            <p:cNvPr id="117" name="Полилиния 39" descr=""/>
            <p:cNvPicPr/>
            <p:nvPr/>
          </p:nvPicPr>
          <p:blipFill>
            <a:blip r:embed="rId23"/>
            <a:stretch/>
          </p:blipFill>
          <p:spPr>
            <a:xfrm>
              <a:off x="4827600" y="2571840"/>
              <a:ext cx="227484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65560" y="2814480"/>
              <a:ext cx="17910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Полилиния 10"/>
          <p:cNvSpPr/>
          <p:nvPr/>
        </p:nvSpPr>
        <p:spPr>
          <a:xfrm rot="21236400">
            <a:off x="5000400" y="2857680"/>
            <a:ext cx="2039760" cy="1128600"/>
          </a:xfrm>
          <a:custGeom>
            <a:avLst/>
            <a:gdLst/>
            <a:ahLst/>
            <a:rect l="l" t="t" r="r" b="b"/>
            <a:pathLst>
              <a:path w="2039815" h="1128765">
                <a:moveTo>
                  <a:pt x="6699" y="103833"/>
                </a:moveTo>
                <a:cubicBezTo>
                  <a:pt x="3349" y="91272"/>
                  <a:pt x="0" y="78712"/>
                  <a:pt x="46892" y="63639"/>
                </a:cubicBezTo>
                <a:cubicBezTo>
                  <a:pt x="93784" y="48567"/>
                  <a:pt x="195942" y="0"/>
                  <a:pt x="288052" y="13398"/>
                </a:cubicBezTo>
                <a:cubicBezTo>
                  <a:pt x="380162" y="26796"/>
                  <a:pt x="462224" y="100483"/>
                  <a:pt x="599551" y="144026"/>
                </a:cubicBezTo>
                <a:cubicBezTo>
                  <a:pt x="736878" y="187569"/>
                  <a:pt x="986413" y="276330"/>
                  <a:pt x="1112017" y="274655"/>
                </a:cubicBezTo>
                <a:cubicBezTo>
                  <a:pt x="1237621" y="272980"/>
                  <a:pt x="1338106" y="135653"/>
                  <a:pt x="1353178" y="133978"/>
                </a:cubicBezTo>
                <a:cubicBezTo>
                  <a:pt x="1368251" y="132303"/>
                  <a:pt x="1279489" y="231112"/>
                  <a:pt x="1202452" y="264607"/>
                </a:cubicBezTo>
                <a:cubicBezTo>
                  <a:pt x="1125415" y="298102"/>
                  <a:pt x="937846" y="328246"/>
                  <a:pt x="890954" y="334945"/>
                </a:cubicBezTo>
                <a:cubicBezTo>
                  <a:pt x="844062" y="341644"/>
                  <a:pt x="869183" y="301451"/>
                  <a:pt x="921099" y="304800"/>
                </a:cubicBezTo>
                <a:cubicBezTo>
                  <a:pt x="973015" y="308149"/>
                  <a:pt x="1086896" y="358391"/>
                  <a:pt x="1202452" y="355042"/>
                </a:cubicBezTo>
                <a:cubicBezTo>
                  <a:pt x="1318008" y="351693"/>
                  <a:pt x="1601037" y="261257"/>
                  <a:pt x="1614435" y="284703"/>
                </a:cubicBezTo>
                <a:cubicBezTo>
                  <a:pt x="1627833" y="308149"/>
                  <a:pt x="1378298" y="465574"/>
                  <a:pt x="1282839" y="495719"/>
                </a:cubicBezTo>
                <a:cubicBezTo>
                  <a:pt x="1187380" y="525864"/>
                  <a:pt x="1006510" y="445477"/>
                  <a:pt x="1041679" y="465574"/>
                </a:cubicBezTo>
                <a:cubicBezTo>
                  <a:pt x="1076848" y="485671"/>
                  <a:pt x="1366576" y="596202"/>
                  <a:pt x="1493855" y="616299"/>
                </a:cubicBezTo>
                <a:cubicBezTo>
                  <a:pt x="1621134" y="636396"/>
                  <a:pt x="1790282" y="556009"/>
                  <a:pt x="1805354" y="586154"/>
                </a:cubicBezTo>
                <a:cubicBezTo>
                  <a:pt x="1820426" y="616299"/>
                  <a:pt x="1689798" y="777072"/>
                  <a:pt x="1584290" y="797169"/>
                </a:cubicBezTo>
                <a:cubicBezTo>
                  <a:pt x="1478782" y="817266"/>
                  <a:pt x="1232597" y="710083"/>
                  <a:pt x="1172307" y="706734"/>
                </a:cubicBezTo>
                <a:cubicBezTo>
                  <a:pt x="1112017" y="703385"/>
                  <a:pt x="1148861" y="738553"/>
                  <a:pt x="1222549" y="777072"/>
                </a:cubicBezTo>
                <a:cubicBezTo>
                  <a:pt x="1296237" y="815591"/>
                  <a:pt x="1482132" y="909376"/>
                  <a:pt x="1614435" y="937846"/>
                </a:cubicBezTo>
                <a:cubicBezTo>
                  <a:pt x="1746738" y="966316"/>
                  <a:pt x="1992923" y="921098"/>
                  <a:pt x="2016369" y="947894"/>
                </a:cubicBezTo>
                <a:cubicBezTo>
                  <a:pt x="2039815" y="974690"/>
                  <a:pt x="1892439" y="1101969"/>
                  <a:pt x="1755112" y="1098620"/>
                </a:cubicBezTo>
                <a:cubicBezTo>
                  <a:pt x="1617785" y="1095271"/>
                  <a:pt x="1262742" y="926123"/>
                  <a:pt x="1192404" y="927798"/>
                </a:cubicBezTo>
                <a:cubicBezTo>
                  <a:pt x="1122066" y="929473"/>
                  <a:pt x="1354852" y="1088571"/>
                  <a:pt x="1333081" y="1108668"/>
                </a:cubicBezTo>
                <a:cubicBezTo>
                  <a:pt x="1311310" y="1128765"/>
                  <a:pt x="1133789" y="1085222"/>
                  <a:pt x="1061776" y="1048378"/>
                </a:cubicBezTo>
                <a:cubicBezTo>
                  <a:pt x="989763" y="1011534"/>
                  <a:pt x="921099" y="887604"/>
                  <a:pt x="901002" y="887604"/>
                </a:cubicBezTo>
                <a:cubicBezTo>
                  <a:pt x="880905" y="887604"/>
                  <a:pt x="961292" y="1031631"/>
                  <a:pt x="941195" y="1048378"/>
                </a:cubicBezTo>
                <a:cubicBezTo>
                  <a:pt x="921098" y="1065125"/>
                  <a:pt x="828989" y="1019908"/>
                  <a:pt x="780422" y="988088"/>
                </a:cubicBezTo>
                <a:cubicBezTo>
                  <a:pt x="731855" y="956268"/>
                  <a:pt x="681613" y="877556"/>
                  <a:pt x="649793" y="857459"/>
                </a:cubicBezTo>
                <a:cubicBezTo>
                  <a:pt x="617973" y="837362"/>
                  <a:pt x="599551" y="852436"/>
                  <a:pt x="589503" y="867508"/>
                </a:cubicBezTo>
                <a:cubicBezTo>
                  <a:pt x="579455" y="882581"/>
                  <a:pt x="602901" y="964641"/>
                  <a:pt x="589503" y="947894"/>
                </a:cubicBezTo>
                <a:cubicBezTo>
                  <a:pt x="576105" y="931147"/>
                  <a:pt x="515815" y="798844"/>
                  <a:pt x="509116" y="767024"/>
                </a:cubicBezTo>
                <a:cubicBezTo>
                  <a:pt x="502417" y="735204"/>
                  <a:pt x="500743" y="746928"/>
                  <a:pt x="549310" y="756976"/>
                </a:cubicBezTo>
                <a:cubicBezTo>
                  <a:pt x="597877" y="767024"/>
                  <a:pt x="726830" y="800519"/>
                  <a:pt x="800518" y="827314"/>
                </a:cubicBezTo>
                <a:cubicBezTo>
                  <a:pt x="874206" y="854109"/>
                  <a:pt x="914400" y="901002"/>
                  <a:pt x="991437" y="917749"/>
                </a:cubicBezTo>
                <a:cubicBezTo>
                  <a:pt x="1068475" y="934496"/>
                  <a:pt x="1217525" y="942870"/>
                  <a:pt x="1262743" y="927798"/>
                </a:cubicBezTo>
                <a:cubicBezTo>
                  <a:pt x="1307961" y="912726"/>
                  <a:pt x="1307961" y="877556"/>
                  <a:pt x="1262743" y="827314"/>
                </a:cubicBezTo>
                <a:cubicBezTo>
                  <a:pt x="1217525" y="777072"/>
                  <a:pt x="1053402" y="676589"/>
                  <a:pt x="991437" y="626347"/>
                </a:cubicBezTo>
                <a:cubicBezTo>
                  <a:pt x="929472" y="576105"/>
                  <a:pt x="942870" y="594528"/>
                  <a:pt x="890954" y="525864"/>
                </a:cubicBezTo>
                <a:cubicBezTo>
                  <a:pt x="839038" y="457200"/>
                  <a:pt x="740228" y="284703"/>
                  <a:pt x="679938" y="214365"/>
                </a:cubicBezTo>
                <a:cubicBezTo>
                  <a:pt x="619648" y="144027"/>
                  <a:pt x="572756" y="133978"/>
                  <a:pt x="529213" y="103833"/>
                </a:cubicBezTo>
                <a:cubicBezTo>
                  <a:pt x="485670" y="73688"/>
                  <a:pt x="452175" y="53591"/>
                  <a:pt x="418681" y="33494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12"/>
          <p:cNvSpPr/>
          <p:nvPr/>
        </p:nvSpPr>
        <p:spPr>
          <a:xfrm rot="520200">
            <a:off x="2018880" y="755280"/>
            <a:ext cx="1589040" cy="1319400"/>
          </a:xfrm>
          <a:custGeom>
            <a:avLst/>
            <a:gdLst/>
            <a:ahLst/>
            <a:rect l="l" t="t" r="r" b="b"/>
            <a:pathLst>
              <a:path w="1589314" h="1319684">
                <a:moveTo>
                  <a:pt x="45218" y="0"/>
                </a:moveTo>
                <a:cubicBezTo>
                  <a:pt x="22609" y="10048"/>
                  <a:pt x="0" y="20097"/>
                  <a:pt x="35169" y="100484"/>
                </a:cubicBezTo>
                <a:cubicBezTo>
                  <a:pt x="70338" y="180871"/>
                  <a:pt x="187569" y="403609"/>
                  <a:pt x="256233" y="482321"/>
                </a:cubicBezTo>
                <a:cubicBezTo>
                  <a:pt x="324897" y="561033"/>
                  <a:pt x="393561" y="549310"/>
                  <a:pt x="447152" y="572756"/>
                </a:cubicBezTo>
                <a:cubicBezTo>
                  <a:pt x="500743" y="596202"/>
                  <a:pt x="597877" y="619648"/>
                  <a:pt x="577780" y="622998"/>
                </a:cubicBezTo>
                <a:cubicBezTo>
                  <a:pt x="557683" y="626348"/>
                  <a:pt x="398584" y="599552"/>
                  <a:pt x="326571" y="592853"/>
                </a:cubicBezTo>
                <a:cubicBezTo>
                  <a:pt x="254558" y="586154"/>
                  <a:pt x="167472" y="574431"/>
                  <a:pt x="145701" y="582805"/>
                </a:cubicBezTo>
                <a:cubicBezTo>
                  <a:pt x="123930" y="591179"/>
                  <a:pt x="133978" y="629697"/>
                  <a:pt x="195943" y="643095"/>
                </a:cubicBezTo>
                <a:cubicBezTo>
                  <a:pt x="257908" y="656493"/>
                  <a:pt x="452176" y="654818"/>
                  <a:pt x="517490" y="663191"/>
                </a:cubicBezTo>
                <a:cubicBezTo>
                  <a:pt x="582804" y="671565"/>
                  <a:pt x="617974" y="664866"/>
                  <a:pt x="587829" y="693336"/>
                </a:cubicBezTo>
                <a:cubicBezTo>
                  <a:pt x="557684" y="721806"/>
                  <a:pt x="351693" y="820615"/>
                  <a:pt x="336620" y="834013"/>
                </a:cubicBezTo>
                <a:cubicBezTo>
                  <a:pt x="321547" y="847411"/>
                  <a:pt x="445477" y="777072"/>
                  <a:pt x="497393" y="773723"/>
                </a:cubicBezTo>
                <a:cubicBezTo>
                  <a:pt x="549309" y="770374"/>
                  <a:pt x="649794" y="783772"/>
                  <a:pt x="648119" y="813917"/>
                </a:cubicBezTo>
                <a:cubicBezTo>
                  <a:pt x="646444" y="844062"/>
                  <a:pt x="472273" y="924449"/>
                  <a:pt x="487345" y="954594"/>
                </a:cubicBezTo>
                <a:cubicBezTo>
                  <a:pt x="502417" y="984739"/>
                  <a:pt x="708409" y="983064"/>
                  <a:pt x="738554" y="994787"/>
                </a:cubicBezTo>
                <a:cubicBezTo>
                  <a:pt x="768699" y="1006510"/>
                  <a:pt x="678263" y="993112"/>
                  <a:pt x="668215" y="1024932"/>
                </a:cubicBezTo>
                <a:cubicBezTo>
                  <a:pt x="658167" y="1056752"/>
                  <a:pt x="636396" y="1165609"/>
                  <a:pt x="678264" y="1185706"/>
                </a:cubicBezTo>
                <a:cubicBezTo>
                  <a:pt x="720132" y="1205803"/>
                  <a:pt x="855785" y="1132114"/>
                  <a:pt x="919424" y="1145512"/>
                </a:cubicBezTo>
                <a:cubicBezTo>
                  <a:pt x="983063" y="1158910"/>
                  <a:pt x="1043354" y="1237622"/>
                  <a:pt x="1060101" y="1266092"/>
                </a:cubicBezTo>
                <a:cubicBezTo>
                  <a:pt x="1076848" y="1294562"/>
                  <a:pt x="1013209" y="1314659"/>
                  <a:pt x="1019908" y="1316334"/>
                </a:cubicBezTo>
                <a:cubicBezTo>
                  <a:pt x="1026607" y="1318009"/>
                  <a:pt x="1123740" y="1319684"/>
                  <a:pt x="1100294" y="1276141"/>
                </a:cubicBezTo>
                <a:cubicBezTo>
                  <a:pt x="1076848" y="1232598"/>
                  <a:pt x="934497" y="1123741"/>
                  <a:pt x="879231" y="1055077"/>
                </a:cubicBezTo>
                <a:cubicBezTo>
                  <a:pt x="823965" y="986413"/>
                  <a:pt x="818941" y="917749"/>
                  <a:pt x="768699" y="864158"/>
                </a:cubicBezTo>
                <a:cubicBezTo>
                  <a:pt x="718457" y="810567"/>
                  <a:pt x="626347" y="788796"/>
                  <a:pt x="577780" y="733530"/>
                </a:cubicBezTo>
                <a:cubicBezTo>
                  <a:pt x="529213" y="678264"/>
                  <a:pt x="470598" y="577781"/>
                  <a:pt x="477297" y="532563"/>
                </a:cubicBezTo>
                <a:cubicBezTo>
                  <a:pt x="483996" y="487345"/>
                  <a:pt x="586154" y="460549"/>
                  <a:pt x="617974" y="462224"/>
                </a:cubicBezTo>
                <a:cubicBezTo>
                  <a:pt x="649794" y="463899"/>
                  <a:pt x="638070" y="507442"/>
                  <a:pt x="668215" y="542611"/>
                </a:cubicBezTo>
                <a:cubicBezTo>
                  <a:pt x="698360" y="577780"/>
                  <a:pt x="748602" y="646444"/>
                  <a:pt x="798844" y="673240"/>
                </a:cubicBezTo>
                <a:cubicBezTo>
                  <a:pt x="849086" y="700036"/>
                  <a:pt x="914400" y="703385"/>
                  <a:pt x="969666" y="703385"/>
                </a:cubicBezTo>
                <a:cubicBezTo>
                  <a:pt x="1024932" y="703385"/>
                  <a:pt x="1076849" y="684963"/>
                  <a:pt x="1130440" y="673240"/>
                </a:cubicBezTo>
                <a:cubicBezTo>
                  <a:pt x="1184031" y="661517"/>
                  <a:pt x="1234272" y="606251"/>
                  <a:pt x="1291213" y="633046"/>
                </a:cubicBezTo>
                <a:cubicBezTo>
                  <a:pt x="1348154" y="659841"/>
                  <a:pt x="1425192" y="798844"/>
                  <a:pt x="1472084" y="834013"/>
                </a:cubicBezTo>
                <a:cubicBezTo>
                  <a:pt x="1518976" y="869182"/>
                  <a:pt x="1555820" y="844062"/>
                  <a:pt x="1572567" y="844062"/>
                </a:cubicBezTo>
                <a:cubicBezTo>
                  <a:pt x="1589314" y="844062"/>
                  <a:pt x="1572567" y="834013"/>
                  <a:pt x="1572567" y="834013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Полилиния 41"/>
          <p:cNvGrpSpPr/>
          <p:nvPr/>
        </p:nvGrpSpPr>
        <p:grpSpPr>
          <a:xfrm>
            <a:off x="2109960" y="738360"/>
            <a:ext cx="1974600" cy="1779480"/>
            <a:chOff x="2109960" y="738360"/>
            <a:chExt cx="1974600" cy="1779480"/>
          </a:xfrm>
        </p:grpSpPr>
        <p:pic>
          <p:nvPicPr>
            <p:cNvPr id="122" name="Полилиния 41" descr=""/>
            <p:cNvPicPr/>
            <p:nvPr/>
          </p:nvPicPr>
          <p:blipFill>
            <a:blip r:embed="rId24"/>
            <a:stretch/>
          </p:blipFill>
          <p:spPr>
            <a:xfrm>
              <a:off x="2109960" y="738360"/>
              <a:ext cx="197460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347920" y="958680"/>
              <a:ext cx="149076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олилиния 42"/>
          <p:cNvSpPr/>
          <p:nvPr/>
        </p:nvSpPr>
        <p:spPr>
          <a:xfrm>
            <a:off x="2143080" y="814320"/>
            <a:ext cx="1665360" cy="1246320"/>
          </a:xfrm>
          <a:custGeom>
            <a:avLst/>
            <a:gdLst/>
            <a:ahLst/>
            <a:rect l="l" t="t" r="r" b="b"/>
            <a:pathLst>
              <a:path w="1665008" h="1245692">
                <a:moveTo>
                  <a:pt x="1665008" y="1245692"/>
                </a:moveTo>
                <a:cubicBezTo>
                  <a:pt x="1658309" y="1235644"/>
                  <a:pt x="1649817" y="1226583"/>
                  <a:pt x="1644912" y="1215547"/>
                </a:cubicBezTo>
                <a:cubicBezTo>
                  <a:pt x="1636309" y="1196189"/>
                  <a:pt x="1636566" y="1172883"/>
                  <a:pt x="1624815" y="1155257"/>
                </a:cubicBezTo>
                <a:lnTo>
                  <a:pt x="1564525" y="1064822"/>
                </a:lnTo>
                <a:cubicBezTo>
                  <a:pt x="1557826" y="1054774"/>
                  <a:pt x="1554476" y="1041376"/>
                  <a:pt x="1544428" y="1034677"/>
                </a:cubicBezTo>
                <a:lnTo>
                  <a:pt x="1514283" y="1014580"/>
                </a:lnTo>
                <a:cubicBezTo>
                  <a:pt x="1492360" y="948810"/>
                  <a:pt x="1522809" y="1013361"/>
                  <a:pt x="1474090" y="974387"/>
                </a:cubicBezTo>
                <a:cubicBezTo>
                  <a:pt x="1464660" y="966843"/>
                  <a:pt x="1462532" y="952781"/>
                  <a:pt x="1453993" y="944242"/>
                </a:cubicBezTo>
                <a:cubicBezTo>
                  <a:pt x="1445454" y="935703"/>
                  <a:pt x="1433896" y="930844"/>
                  <a:pt x="1423848" y="924145"/>
                </a:cubicBezTo>
                <a:cubicBezTo>
                  <a:pt x="1401218" y="856259"/>
                  <a:pt x="1432602" y="929844"/>
                  <a:pt x="1383654" y="873903"/>
                </a:cubicBezTo>
                <a:cubicBezTo>
                  <a:pt x="1343172" y="827638"/>
                  <a:pt x="1349289" y="818789"/>
                  <a:pt x="1323364" y="773420"/>
                </a:cubicBezTo>
                <a:cubicBezTo>
                  <a:pt x="1317372" y="762935"/>
                  <a:pt x="1309967" y="753323"/>
                  <a:pt x="1303268" y="743275"/>
                </a:cubicBezTo>
                <a:cubicBezTo>
                  <a:pt x="1281546" y="656392"/>
                  <a:pt x="1287105" y="695855"/>
                  <a:pt x="1303268" y="542307"/>
                </a:cubicBezTo>
                <a:cubicBezTo>
                  <a:pt x="1304377" y="531773"/>
                  <a:pt x="1308579" y="521636"/>
                  <a:pt x="1313316" y="512162"/>
                </a:cubicBezTo>
                <a:cubicBezTo>
                  <a:pt x="1318717" y="501360"/>
                  <a:pt x="1341952" y="490556"/>
                  <a:pt x="1333413" y="482017"/>
                </a:cubicBezTo>
                <a:cubicBezTo>
                  <a:pt x="1324874" y="473478"/>
                  <a:pt x="1312546" y="494383"/>
                  <a:pt x="1303268" y="502114"/>
                </a:cubicBezTo>
                <a:cubicBezTo>
                  <a:pt x="1292351" y="511211"/>
                  <a:pt x="1283171" y="522211"/>
                  <a:pt x="1273123" y="532259"/>
                </a:cubicBezTo>
                <a:cubicBezTo>
                  <a:pt x="1269773" y="542307"/>
                  <a:pt x="1264078" y="551860"/>
                  <a:pt x="1263074" y="562404"/>
                </a:cubicBezTo>
                <a:cubicBezTo>
                  <a:pt x="1257349" y="622515"/>
                  <a:pt x="1267671" y="684695"/>
                  <a:pt x="1253026" y="743275"/>
                </a:cubicBezTo>
                <a:cubicBezTo>
                  <a:pt x="1247888" y="763827"/>
                  <a:pt x="1239628" y="703081"/>
                  <a:pt x="1232929" y="682984"/>
                </a:cubicBezTo>
                <a:lnTo>
                  <a:pt x="1212832" y="622694"/>
                </a:lnTo>
                <a:cubicBezTo>
                  <a:pt x="1174148" y="584010"/>
                  <a:pt x="1190569" y="604373"/>
                  <a:pt x="1162591" y="562404"/>
                </a:cubicBezTo>
                <a:cubicBezTo>
                  <a:pt x="1159241" y="549006"/>
                  <a:pt x="1156336" y="535490"/>
                  <a:pt x="1152542" y="522211"/>
                </a:cubicBezTo>
                <a:cubicBezTo>
                  <a:pt x="1149632" y="512027"/>
                  <a:pt x="1143732" y="502585"/>
                  <a:pt x="1142494" y="492066"/>
                </a:cubicBezTo>
                <a:cubicBezTo>
                  <a:pt x="1137001" y="445376"/>
                  <a:pt x="1135795" y="398281"/>
                  <a:pt x="1132446" y="351389"/>
                </a:cubicBezTo>
                <a:cubicBezTo>
                  <a:pt x="1122398" y="361437"/>
                  <a:pt x="1110184" y="369710"/>
                  <a:pt x="1102301" y="381534"/>
                </a:cubicBezTo>
                <a:cubicBezTo>
                  <a:pt x="1096426" y="390347"/>
                  <a:pt x="1092252" y="401087"/>
                  <a:pt x="1092252" y="411679"/>
                </a:cubicBezTo>
                <a:cubicBezTo>
                  <a:pt x="1092252" y="530509"/>
                  <a:pt x="1089869" y="515059"/>
                  <a:pt x="1112349" y="582501"/>
                </a:cubicBezTo>
                <a:cubicBezTo>
                  <a:pt x="1117944" y="632862"/>
                  <a:pt x="1114768" y="661833"/>
                  <a:pt x="1132446" y="703081"/>
                </a:cubicBezTo>
                <a:cubicBezTo>
                  <a:pt x="1138347" y="716849"/>
                  <a:pt x="1160851" y="730812"/>
                  <a:pt x="1152542" y="743275"/>
                </a:cubicBezTo>
                <a:cubicBezTo>
                  <a:pt x="1144881" y="754766"/>
                  <a:pt x="1125577" y="737194"/>
                  <a:pt x="1112349" y="733226"/>
                </a:cubicBezTo>
                <a:cubicBezTo>
                  <a:pt x="1092059" y="727139"/>
                  <a:pt x="1052059" y="713129"/>
                  <a:pt x="1052059" y="713129"/>
                </a:cubicBezTo>
                <a:cubicBezTo>
                  <a:pt x="1004834" y="665904"/>
                  <a:pt x="1033739" y="690868"/>
                  <a:pt x="961624" y="642791"/>
                </a:cubicBezTo>
                <a:lnTo>
                  <a:pt x="931479" y="622694"/>
                </a:lnTo>
                <a:cubicBezTo>
                  <a:pt x="877884" y="542303"/>
                  <a:pt x="948229" y="639445"/>
                  <a:pt x="881237" y="572453"/>
                </a:cubicBezTo>
                <a:cubicBezTo>
                  <a:pt x="872697" y="563913"/>
                  <a:pt x="867839" y="552356"/>
                  <a:pt x="861140" y="542307"/>
                </a:cubicBezTo>
                <a:lnTo>
                  <a:pt x="841043" y="482017"/>
                </a:lnTo>
                <a:cubicBezTo>
                  <a:pt x="837694" y="471969"/>
                  <a:pt x="833564" y="462148"/>
                  <a:pt x="830995" y="451872"/>
                </a:cubicBezTo>
                <a:lnTo>
                  <a:pt x="820947" y="411679"/>
                </a:lnTo>
                <a:cubicBezTo>
                  <a:pt x="824296" y="341341"/>
                  <a:pt x="830995" y="271082"/>
                  <a:pt x="830995" y="200664"/>
                </a:cubicBezTo>
                <a:cubicBezTo>
                  <a:pt x="830995" y="186854"/>
                  <a:pt x="834049" y="164837"/>
                  <a:pt x="820947" y="160470"/>
                </a:cubicBezTo>
                <a:cubicBezTo>
                  <a:pt x="809490" y="156651"/>
                  <a:pt x="808581" y="181337"/>
                  <a:pt x="800850" y="190615"/>
                </a:cubicBezTo>
                <a:cubicBezTo>
                  <a:pt x="791753" y="201532"/>
                  <a:pt x="780753" y="210712"/>
                  <a:pt x="770705" y="220760"/>
                </a:cubicBezTo>
                <a:cubicBezTo>
                  <a:pt x="739289" y="315012"/>
                  <a:pt x="737223" y="307905"/>
                  <a:pt x="780753" y="482017"/>
                </a:cubicBezTo>
                <a:cubicBezTo>
                  <a:pt x="782092" y="487373"/>
                  <a:pt x="795085" y="543709"/>
                  <a:pt x="800850" y="552356"/>
                </a:cubicBezTo>
                <a:cubicBezTo>
                  <a:pt x="867020" y="651611"/>
                  <a:pt x="790911" y="482241"/>
                  <a:pt x="871188" y="642791"/>
                </a:cubicBezTo>
                <a:cubicBezTo>
                  <a:pt x="877887" y="656189"/>
                  <a:pt x="883853" y="669979"/>
                  <a:pt x="891285" y="682984"/>
                </a:cubicBezTo>
                <a:cubicBezTo>
                  <a:pt x="897277" y="693469"/>
                  <a:pt x="923098" y="716058"/>
                  <a:pt x="911382" y="713129"/>
                </a:cubicBezTo>
                <a:cubicBezTo>
                  <a:pt x="858782" y="699979"/>
                  <a:pt x="831296" y="639642"/>
                  <a:pt x="790802" y="612646"/>
                </a:cubicBezTo>
                <a:cubicBezTo>
                  <a:pt x="715958" y="562749"/>
                  <a:pt x="807881" y="626879"/>
                  <a:pt x="730512" y="562404"/>
                </a:cubicBezTo>
                <a:cubicBezTo>
                  <a:pt x="721234" y="554673"/>
                  <a:pt x="710415" y="549006"/>
                  <a:pt x="700367" y="542307"/>
                </a:cubicBezTo>
                <a:cubicBezTo>
                  <a:pt x="628552" y="434587"/>
                  <a:pt x="740390" y="598070"/>
                  <a:pt x="650125" y="482017"/>
                </a:cubicBezTo>
                <a:cubicBezTo>
                  <a:pt x="633198" y="460254"/>
                  <a:pt x="601150" y="411708"/>
                  <a:pt x="589835" y="381534"/>
                </a:cubicBezTo>
                <a:cubicBezTo>
                  <a:pt x="584986" y="368603"/>
                  <a:pt x="585226" y="354034"/>
                  <a:pt x="579786" y="341340"/>
                </a:cubicBezTo>
                <a:cubicBezTo>
                  <a:pt x="575029" y="330240"/>
                  <a:pt x="565091" y="321997"/>
                  <a:pt x="559690" y="311195"/>
                </a:cubicBezTo>
                <a:cubicBezTo>
                  <a:pt x="554953" y="301721"/>
                  <a:pt x="552991" y="291098"/>
                  <a:pt x="549641" y="281050"/>
                </a:cubicBezTo>
                <a:cubicBezTo>
                  <a:pt x="552991" y="217411"/>
                  <a:pt x="559690" y="153859"/>
                  <a:pt x="559690" y="90132"/>
                </a:cubicBezTo>
                <a:cubicBezTo>
                  <a:pt x="559690" y="0"/>
                  <a:pt x="563353" y="10652"/>
                  <a:pt x="519496" y="39890"/>
                </a:cubicBezTo>
                <a:cubicBezTo>
                  <a:pt x="484368" y="145271"/>
                  <a:pt x="486638" y="113785"/>
                  <a:pt x="509448" y="281050"/>
                </a:cubicBezTo>
                <a:cubicBezTo>
                  <a:pt x="511633" y="297076"/>
                  <a:pt x="540031" y="336973"/>
                  <a:pt x="549641" y="351389"/>
                </a:cubicBezTo>
                <a:cubicBezTo>
                  <a:pt x="570555" y="435040"/>
                  <a:pt x="541259" y="356164"/>
                  <a:pt x="589835" y="411679"/>
                </a:cubicBezTo>
                <a:cubicBezTo>
                  <a:pt x="605740" y="429856"/>
                  <a:pt x="616630" y="451872"/>
                  <a:pt x="630028" y="471969"/>
                </a:cubicBezTo>
                <a:lnTo>
                  <a:pt x="710415" y="592549"/>
                </a:lnTo>
                <a:cubicBezTo>
                  <a:pt x="782236" y="700279"/>
                  <a:pt x="670385" y="536774"/>
                  <a:pt x="760657" y="652839"/>
                </a:cubicBezTo>
                <a:cubicBezTo>
                  <a:pt x="775486" y="671904"/>
                  <a:pt x="824855" y="715796"/>
                  <a:pt x="800850" y="713129"/>
                </a:cubicBezTo>
                <a:lnTo>
                  <a:pt x="710415" y="703081"/>
                </a:lnTo>
                <a:cubicBezTo>
                  <a:pt x="646538" y="639206"/>
                  <a:pt x="685376" y="674254"/>
                  <a:pt x="589835" y="602598"/>
                </a:cubicBezTo>
                <a:cubicBezTo>
                  <a:pt x="576437" y="592550"/>
                  <a:pt x="561483" y="584295"/>
                  <a:pt x="549641" y="572453"/>
                </a:cubicBezTo>
                <a:cubicBezTo>
                  <a:pt x="539593" y="562404"/>
                  <a:pt x="528744" y="553097"/>
                  <a:pt x="519496" y="542307"/>
                </a:cubicBezTo>
                <a:cubicBezTo>
                  <a:pt x="500800" y="520495"/>
                  <a:pt x="485159" y="495827"/>
                  <a:pt x="469254" y="471969"/>
                </a:cubicBezTo>
                <a:cubicBezTo>
                  <a:pt x="465905" y="461921"/>
                  <a:pt x="463589" y="451466"/>
                  <a:pt x="459206" y="441824"/>
                </a:cubicBezTo>
                <a:cubicBezTo>
                  <a:pt x="446809" y="414551"/>
                  <a:pt x="426279" y="390501"/>
                  <a:pt x="419013" y="361437"/>
                </a:cubicBezTo>
                <a:cubicBezTo>
                  <a:pt x="415663" y="348039"/>
                  <a:pt x="414404" y="333937"/>
                  <a:pt x="408964" y="321244"/>
                </a:cubicBezTo>
                <a:cubicBezTo>
                  <a:pt x="404207" y="310144"/>
                  <a:pt x="394860" y="301584"/>
                  <a:pt x="388868" y="291099"/>
                </a:cubicBezTo>
                <a:cubicBezTo>
                  <a:pt x="344733" y="213862"/>
                  <a:pt x="396260" y="287556"/>
                  <a:pt x="338626" y="210712"/>
                </a:cubicBezTo>
                <a:cubicBezTo>
                  <a:pt x="335277" y="177217"/>
                  <a:pt x="341838" y="141168"/>
                  <a:pt x="328578" y="110228"/>
                </a:cubicBezTo>
                <a:cubicBezTo>
                  <a:pt x="323821" y="99128"/>
                  <a:pt x="313386" y="129337"/>
                  <a:pt x="308481" y="140373"/>
                </a:cubicBezTo>
                <a:cubicBezTo>
                  <a:pt x="299877" y="159731"/>
                  <a:pt x="288384" y="200664"/>
                  <a:pt x="288384" y="200664"/>
                </a:cubicBezTo>
                <a:cubicBezTo>
                  <a:pt x="291733" y="250906"/>
                  <a:pt x="293658" y="301263"/>
                  <a:pt x="298432" y="351389"/>
                </a:cubicBezTo>
                <a:cubicBezTo>
                  <a:pt x="300364" y="371671"/>
                  <a:pt x="304061" y="391790"/>
                  <a:pt x="308481" y="411679"/>
                </a:cubicBezTo>
                <a:cubicBezTo>
                  <a:pt x="313151" y="432696"/>
                  <a:pt x="323139" y="456482"/>
                  <a:pt x="338626" y="471969"/>
                </a:cubicBezTo>
                <a:cubicBezTo>
                  <a:pt x="347165" y="480508"/>
                  <a:pt x="358723" y="485367"/>
                  <a:pt x="368771" y="492066"/>
                </a:cubicBezTo>
                <a:cubicBezTo>
                  <a:pt x="375470" y="502114"/>
                  <a:pt x="381849" y="512384"/>
                  <a:pt x="388868" y="522211"/>
                </a:cubicBezTo>
                <a:cubicBezTo>
                  <a:pt x="398602" y="535839"/>
                  <a:pt x="410137" y="548202"/>
                  <a:pt x="419013" y="562404"/>
                </a:cubicBezTo>
                <a:cubicBezTo>
                  <a:pt x="426952" y="575106"/>
                  <a:pt x="429520" y="591091"/>
                  <a:pt x="439109" y="602598"/>
                </a:cubicBezTo>
                <a:cubicBezTo>
                  <a:pt x="446840" y="611875"/>
                  <a:pt x="459977" y="614963"/>
                  <a:pt x="469254" y="622694"/>
                </a:cubicBezTo>
                <a:cubicBezTo>
                  <a:pt x="480171" y="631791"/>
                  <a:pt x="512880" y="657333"/>
                  <a:pt x="499399" y="652839"/>
                </a:cubicBezTo>
                <a:cubicBezTo>
                  <a:pt x="476485" y="645201"/>
                  <a:pt x="439109" y="612646"/>
                  <a:pt x="439109" y="612646"/>
                </a:cubicBezTo>
                <a:cubicBezTo>
                  <a:pt x="432410" y="602598"/>
                  <a:pt x="427552" y="591040"/>
                  <a:pt x="419013" y="582501"/>
                </a:cubicBezTo>
                <a:cubicBezTo>
                  <a:pt x="410474" y="573961"/>
                  <a:pt x="396412" y="571834"/>
                  <a:pt x="388868" y="562404"/>
                </a:cubicBezTo>
                <a:cubicBezTo>
                  <a:pt x="382251" y="554133"/>
                  <a:pt x="386309" y="539749"/>
                  <a:pt x="378819" y="532259"/>
                </a:cubicBezTo>
                <a:cubicBezTo>
                  <a:pt x="329865" y="483305"/>
                  <a:pt x="332607" y="500970"/>
                  <a:pt x="288384" y="482017"/>
                </a:cubicBezTo>
                <a:cubicBezTo>
                  <a:pt x="274616" y="476116"/>
                  <a:pt x="262099" y="467484"/>
                  <a:pt x="248191" y="461921"/>
                </a:cubicBezTo>
                <a:cubicBezTo>
                  <a:pt x="187032" y="437457"/>
                  <a:pt x="191043" y="443309"/>
                  <a:pt x="127610" y="431776"/>
                </a:cubicBezTo>
                <a:cubicBezTo>
                  <a:pt x="109633" y="428507"/>
                  <a:pt x="31893" y="411679"/>
                  <a:pt x="17079" y="411679"/>
                </a:cubicBezTo>
                <a:cubicBezTo>
                  <a:pt x="0" y="411679"/>
                  <a:pt x="50751" y="417585"/>
                  <a:pt x="67320" y="421727"/>
                </a:cubicBezTo>
                <a:cubicBezTo>
                  <a:pt x="77596" y="424296"/>
                  <a:pt x="87729" y="427604"/>
                  <a:pt x="97465" y="431776"/>
                </a:cubicBezTo>
                <a:cubicBezTo>
                  <a:pt x="117704" y="440450"/>
                  <a:pt x="149992" y="457126"/>
                  <a:pt x="167804" y="471969"/>
                </a:cubicBezTo>
                <a:cubicBezTo>
                  <a:pt x="178721" y="481066"/>
                  <a:pt x="187032" y="493017"/>
                  <a:pt x="197949" y="502114"/>
                </a:cubicBezTo>
                <a:cubicBezTo>
                  <a:pt x="223922" y="523758"/>
                  <a:pt x="228026" y="522188"/>
                  <a:pt x="258239" y="532259"/>
                </a:cubicBezTo>
                <a:cubicBezTo>
                  <a:pt x="306009" y="564106"/>
                  <a:pt x="276928" y="548538"/>
                  <a:pt x="348674" y="572453"/>
                </a:cubicBezTo>
                <a:lnTo>
                  <a:pt x="378819" y="582501"/>
                </a:lnTo>
                <a:cubicBezTo>
                  <a:pt x="420231" y="644618"/>
                  <a:pt x="374252" y="584023"/>
                  <a:pt x="429061" y="632743"/>
                </a:cubicBezTo>
                <a:cubicBezTo>
                  <a:pt x="469669" y="668839"/>
                  <a:pt x="472515" y="695853"/>
                  <a:pt x="519496" y="703081"/>
                </a:cubicBezTo>
                <a:cubicBezTo>
                  <a:pt x="552766" y="708199"/>
                  <a:pt x="586353" y="711600"/>
                  <a:pt x="619980" y="713129"/>
                </a:cubicBezTo>
                <a:cubicBezTo>
                  <a:pt x="733793" y="718302"/>
                  <a:pt x="847743" y="719828"/>
                  <a:pt x="961624" y="723178"/>
                </a:cubicBezTo>
                <a:cubicBezTo>
                  <a:pt x="981721" y="736576"/>
                  <a:pt x="1004835" y="746292"/>
                  <a:pt x="1021914" y="763371"/>
                </a:cubicBezTo>
                <a:cubicBezTo>
                  <a:pt x="1059549" y="801006"/>
                  <a:pt x="1038578" y="789022"/>
                  <a:pt x="1082204" y="803565"/>
                </a:cubicBezTo>
                <a:cubicBezTo>
                  <a:pt x="1092252" y="813613"/>
                  <a:pt x="1100525" y="825827"/>
                  <a:pt x="1112349" y="833710"/>
                </a:cubicBezTo>
                <a:cubicBezTo>
                  <a:pt x="1133796" y="848008"/>
                  <a:pt x="1219475" y="853380"/>
                  <a:pt x="1222881" y="853806"/>
                </a:cubicBezTo>
                <a:cubicBezTo>
                  <a:pt x="1232929" y="857156"/>
                  <a:pt x="1242750" y="861286"/>
                  <a:pt x="1253026" y="863855"/>
                </a:cubicBezTo>
                <a:cubicBezTo>
                  <a:pt x="1269595" y="867997"/>
                  <a:pt x="1286699" y="869761"/>
                  <a:pt x="1303268" y="873903"/>
                </a:cubicBezTo>
                <a:cubicBezTo>
                  <a:pt x="1323455" y="878949"/>
                  <a:pt x="1358119" y="892986"/>
                  <a:pt x="1373606" y="904048"/>
                </a:cubicBezTo>
                <a:cubicBezTo>
                  <a:pt x="1385170" y="912308"/>
                  <a:pt x="1392534" y="925469"/>
                  <a:pt x="1403751" y="934193"/>
                </a:cubicBezTo>
                <a:cubicBezTo>
                  <a:pt x="1422816" y="949022"/>
                  <a:pt x="1464041" y="974387"/>
                  <a:pt x="1464041" y="974387"/>
                </a:cubicBezTo>
                <a:cubicBezTo>
                  <a:pt x="1467391" y="984435"/>
                  <a:pt x="1468215" y="995719"/>
                  <a:pt x="1474090" y="1004532"/>
                </a:cubicBezTo>
                <a:cubicBezTo>
                  <a:pt x="1492980" y="1032867"/>
                  <a:pt x="1540569" y="1058899"/>
                  <a:pt x="1564525" y="1074870"/>
                </a:cubicBezTo>
                <a:lnTo>
                  <a:pt x="1594670" y="1094967"/>
                </a:lnTo>
                <a:cubicBezTo>
                  <a:pt x="1625264" y="1140858"/>
                  <a:pt x="1608594" y="1108530"/>
                  <a:pt x="1624815" y="1165305"/>
                </a:cubicBezTo>
                <a:cubicBezTo>
                  <a:pt x="1635922" y="1204181"/>
                  <a:pt x="1634863" y="1183102"/>
                  <a:pt x="1634863" y="1205499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олилиния 43"/>
          <p:cNvGrpSpPr/>
          <p:nvPr/>
        </p:nvGrpSpPr>
        <p:grpSpPr>
          <a:xfrm>
            <a:off x="4243320" y="4071960"/>
            <a:ext cx="1633680" cy="1128600"/>
            <a:chOff x="4243320" y="4071960"/>
            <a:chExt cx="1633680" cy="1128600"/>
          </a:xfrm>
        </p:grpSpPr>
        <p:pic>
          <p:nvPicPr>
            <p:cNvPr id="126" name="Полилиния 43" descr=""/>
            <p:cNvPicPr/>
            <p:nvPr/>
          </p:nvPicPr>
          <p:blipFill>
            <a:blip r:embed="rId25"/>
            <a:stretch/>
          </p:blipFill>
          <p:spPr>
            <a:xfrm>
              <a:off x="4243320" y="4071960"/>
              <a:ext cx="16336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321080" y="4159080"/>
              <a:ext cx="14781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олилиния 44"/>
          <p:cNvGrpSpPr/>
          <p:nvPr/>
        </p:nvGrpSpPr>
        <p:grpSpPr>
          <a:xfrm>
            <a:off x="1073160" y="5059440"/>
            <a:ext cx="4284720" cy="1616040"/>
            <a:chOff x="1073160" y="5059440"/>
            <a:chExt cx="4284720" cy="1616040"/>
          </a:xfrm>
        </p:grpSpPr>
        <p:pic>
          <p:nvPicPr>
            <p:cNvPr id="129" name="Полилиния 44" descr=""/>
            <p:cNvPicPr/>
            <p:nvPr/>
          </p:nvPicPr>
          <p:blipFill>
            <a:blip r:embed="rId26"/>
            <a:stretch/>
          </p:blipFill>
          <p:spPr>
            <a:xfrm>
              <a:off x="1073160" y="5059440"/>
              <a:ext cx="42847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16160" y="5305320"/>
              <a:ext cx="38098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40"/>
          <p:cNvSpPr/>
          <p:nvPr/>
        </p:nvSpPr>
        <p:spPr>
          <a:xfrm>
            <a:off x="7429680" y="6429240"/>
            <a:ext cx="1714320" cy="48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Зи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9:08Z</dcterms:created>
  <dc:creator>Admin</dc:creator>
  <dc:description/>
  <dc:language>en-US</dc:language>
  <cp:lastModifiedBy>Admin</cp:lastModifiedBy>
  <dcterms:modified xsi:type="dcterms:W3CDTF">2012-01-23T15:20:41Z</dcterms:modified>
  <cp:revision>2</cp:revision>
  <dc:subject/>
  <dc:title>Слайд 1</dc:title>
</cp:coreProperties>
</file>