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A3C-0E2C-4106-8112-C9DEBEA5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BD8-280B-4961-9C65-C9D24816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152-3794-4C59-9107-C086EBC7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ED6-AFD0-4C29-A084-5CC7DB06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D78-B26D-4DE4-9779-D2BACF11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A8F-756B-4B0B-8CE5-6F72F7CC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F67-623D-4F42-82DD-2A51CB0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E43-FC65-4616-AA98-5A160F09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06B-7612-408D-9BA4-70F2C945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9BA-E5DC-4A12-AD91-9A597831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417-3168-4062-BC9D-7E4124F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211-8220-418F-B2C5-3344B7CA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D672-F537-488A-B0B5-D07356A3A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85480"/>
            <a:ext cx="82296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Полилиния 3"/>
          <p:cNvSpPr/>
          <p:nvPr/>
        </p:nvSpPr>
        <p:spPr>
          <a:xfrm>
            <a:off x="214200" y="2928960"/>
            <a:ext cx="8626680" cy="3443400"/>
          </a:xfrm>
          <a:custGeom>
            <a:avLst/>
            <a:gdLst/>
            <a:ahLst/>
            <a:rect l="l" t="t" r="r" b="b"/>
            <a:pathLst>
              <a:path w="8626511" h="3443236">
                <a:moveTo>
                  <a:pt x="294752" y="711759"/>
                </a:moveTo>
                <a:cubicBezTo>
                  <a:pt x="589504" y="643095"/>
                  <a:pt x="1666352" y="470598"/>
                  <a:pt x="2073310" y="430405"/>
                </a:cubicBezTo>
                <a:cubicBezTo>
                  <a:pt x="2480268" y="390212"/>
                  <a:pt x="2564005" y="448827"/>
                  <a:pt x="2736502" y="470598"/>
                </a:cubicBezTo>
                <a:cubicBezTo>
                  <a:pt x="2908999" y="492369"/>
                  <a:pt x="2955891" y="532563"/>
                  <a:pt x="3108291" y="561033"/>
                </a:cubicBezTo>
                <a:cubicBezTo>
                  <a:pt x="3260691" y="589503"/>
                  <a:pt x="3444911" y="631372"/>
                  <a:pt x="3650902" y="641420"/>
                </a:cubicBezTo>
                <a:cubicBezTo>
                  <a:pt x="3856893" y="651469"/>
                  <a:pt x="4084656" y="651469"/>
                  <a:pt x="4344238" y="621324"/>
                </a:cubicBezTo>
                <a:cubicBezTo>
                  <a:pt x="4603820" y="591179"/>
                  <a:pt x="4967236" y="494045"/>
                  <a:pt x="5208396" y="460550"/>
                </a:cubicBezTo>
                <a:cubicBezTo>
                  <a:pt x="5449557" y="427055"/>
                  <a:pt x="5565113" y="432079"/>
                  <a:pt x="5791201" y="420356"/>
                </a:cubicBezTo>
                <a:cubicBezTo>
                  <a:pt x="6017289" y="408633"/>
                  <a:pt x="6564924" y="390211"/>
                  <a:pt x="6564924" y="390211"/>
                </a:cubicBezTo>
                <a:cubicBezTo>
                  <a:pt x="6760867" y="381838"/>
                  <a:pt x="6772590" y="417007"/>
                  <a:pt x="6966858" y="370115"/>
                </a:cubicBezTo>
                <a:cubicBezTo>
                  <a:pt x="7161126" y="323223"/>
                  <a:pt x="7509468" y="133979"/>
                  <a:pt x="7730532" y="108858"/>
                </a:cubicBezTo>
                <a:cubicBezTo>
                  <a:pt x="7951596" y="83737"/>
                  <a:pt x="8152563" y="0"/>
                  <a:pt x="8293240" y="219389"/>
                </a:cubicBezTo>
                <a:cubicBezTo>
                  <a:pt x="8433917" y="438778"/>
                  <a:pt x="8544449" y="1187381"/>
                  <a:pt x="8574594" y="1425192"/>
                </a:cubicBezTo>
                <a:cubicBezTo>
                  <a:pt x="8604739" y="1663003"/>
                  <a:pt x="8494207" y="1580941"/>
                  <a:pt x="8474110" y="1646255"/>
                </a:cubicBezTo>
                <a:cubicBezTo>
                  <a:pt x="8454013" y="1711569"/>
                  <a:pt x="8452339" y="1716594"/>
                  <a:pt x="8454014" y="1817077"/>
                </a:cubicBezTo>
                <a:cubicBezTo>
                  <a:pt x="8455689" y="1917560"/>
                  <a:pt x="8475785" y="2090057"/>
                  <a:pt x="8484159" y="2249156"/>
                </a:cubicBezTo>
                <a:cubicBezTo>
                  <a:pt x="8492533" y="2408255"/>
                  <a:pt x="8487509" y="2627645"/>
                  <a:pt x="8504256" y="2771671"/>
                </a:cubicBezTo>
                <a:cubicBezTo>
                  <a:pt x="8521003" y="2915698"/>
                  <a:pt x="8587992" y="3016181"/>
                  <a:pt x="8584642" y="3113315"/>
                </a:cubicBezTo>
                <a:cubicBezTo>
                  <a:pt x="8581292" y="3210449"/>
                  <a:pt x="8626511" y="3319306"/>
                  <a:pt x="8484159" y="3354475"/>
                </a:cubicBezTo>
                <a:cubicBezTo>
                  <a:pt x="8341807" y="3389644"/>
                  <a:pt x="7988440" y="3310932"/>
                  <a:pt x="7730532" y="3324330"/>
                </a:cubicBezTo>
                <a:cubicBezTo>
                  <a:pt x="7472624" y="3337728"/>
                  <a:pt x="7156102" y="3426488"/>
                  <a:pt x="6936713" y="3434862"/>
                </a:cubicBezTo>
                <a:cubicBezTo>
                  <a:pt x="6717324" y="3443236"/>
                  <a:pt x="6601767" y="3392994"/>
                  <a:pt x="6414198" y="3374572"/>
                </a:cubicBezTo>
                <a:cubicBezTo>
                  <a:pt x="6226629" y="3356150"/>
                  <a:pt x="6050783" y="3336053"/>
                  <a:pt x="5811297" y="3324330"/>
                </a:cubicBezTo>
                <a:cubicBezTo>
                  <a:pt x="5571811" y="3312607"/>
                  <a:pt x="5318928" y="3329354"/>
                  <a:pt x="4977284" y="3304233"/>
                </a:cubicBezTo>
                <a:cubicBezTo>
                  <a:pt x="4635640" y="3279112"/>
                  <a:pt x="4163368" y="3178629"/>
                  <a:pt x="3761434" y="3173605"/>
                </a:cubicBezTo>
                <a:cubicBezTo>
                  <a:pt x="3359500" y="3168581"/>
                  <a:pt x="2890577" y="3259016"/>
                  <a:pt x="2565680" y="3274088"/>
                </a:cubicBezTo>
                <a:cubicBezTo>
                  <a:pt x="2240783" y="3289160"/>
                  <a:pt x="2013020" y="3257341"/>
                  <a:pt x="1812053" y="3264040"/>
                </a:cubicBezTo>
                <a:cubicBezTo>
                  <a:pt x="1611086" y="3270739"/>
                  <a:pt x="1544098" y="3310933"/>
                  <a:pt x="1359878" y="3314282"/>
                </a:cubicBezTo>
                <a:cubicBezTo>
                  <a:pt x="1175658" y="3317632"/>
                  <a:pt x="882581" y="3310933"/>
                  <a:pt x="706735" y="3284137"/>
                </a:cubicBezTo>
                <a:cubicBezTo>
                  <a:pt x="530889" y="3257341"/>
                  <a:pt x="371790" y="3237244"/>
                  <a:pt x="304801" y="3153508"/>
                </a:cubicBezTo>
                <a:cubicBezTo>
                  <a:pt x="237812" y="3069772"/>
                  <a:pt x="306476" y="2903974"/>
                  <a:pt x="304801" y="2781719"/>
                </a:cubicBezTo>
                <a:cubicBezTo>
                  <a:pt x="303126" y="2659464"/>
                  <a:pt x="288053" y="2582426"/>
                  <a:pt x="294752" y="2419978"/>
                </a:cubicBezTo>
                <a:cubicBezTo>
                  <a:pt x="301451" y="2257530"/>
                  <a:pt x="360066" y="1984550"/>
                  <a:pt x="344994" y="1807029"/>
                </a:cubicBezTo>
                <a:cubicBezTo>
                  <a:pt x="329922" y="1629508"/>
                  <a:pt x="205992" y="1472084"/>
                  <a:pt x="204317" y="1354853"/>
                </a:cubicBezTo>
                <a:cubicBezTo>
                  <a:pt x="202642" y="1237622"/>
                  <a:pt x="318199" y="1189055"/>
                  <a:pt x="334946" y="1103644"/>
                </a:cubicBezTo>
                <a:cubicBezTo>
                  <a:pt x="351693" y="1018233"/>
                  <a:pt x="314849" y="911051"/>
                  <a:pt x="304801" y="842387"/>
                </a:cubicBezTo>
                <a:cubicBezTo>
                  <a:pt x="294753" y="773723"/>
                  <a:pt x="0" y="780423"/>
                  <a:pt x="294752" y="711759"/>
                </a:cubicBezTo>
                <a:close/>
              </a:path>
            </a:pathLst>
          </a:custGeom>
          <a:solidFill>
            <a:srgbClr val="c4984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лилиния 4"/>
          <p:cNvSpPr/>
          <p:nvPr/>
        </p:nvSpPr>
        <p:spPr>
          <a:xfrm>
            <a:off x="1328760" y="4260960"/>
            <a:ext cx="1393920" cy="903240"/>
          </a:xfrm>
          <a:custGeom>
            <a:avLst/>
            <a:gdLst/>
            <a:ahLst/>
            <a:rect l="l" t="t" r="r" b="b"/>
            <a:pathLst>
              <a:path w="1393727" h="904352">
                <a:moveTo>
                  <a:pt x="740584" y="100484"/>
                </a:moveTo>
                <a:cubicBezTo>
                  <a:pt x="738909" y="93785"/>
                  <a:pt x="741746" y="75711"/>
                  <a:pt x="690343" y="60290"/>
                </a:cubicBezTo>
                <a:cubicBezTo>
                  <a:pt x="670053" y="54203"/>
                  <a:pt x="630053" y="40194"/>
                  <a:pt x="630053" y="40194"/>
                </a:cubicBezTo>
                <a:cubicBezTo>
                  <a:pt x="596558" y="43543"/>
                  <a:pt x="562839" y="45124"/>
                  <a:pt x="529569" y="50242"/>
                </a:cubicBezTo>
                <a:cubicBezTo>
                  <a:pt x="519100" y="51853"/>
                  <a:pt x="507695" y="53673"/>
                  <a:pt x="499424" y="60290"/>
                </a:cubicBezTo>
                <a:cubicBezTo>
                  <a:pt x="489994" y="67834"/>
                  <a:pt x="486026" y="80387"/>
                  <a:pt x="479327" y="90435"/>
                </a:cubicBezTo>
                <a:cubicBezTo>
                  <a:pt x="472159" y="111939"/>
                  <a:pt x="467516" y="134683"/>
                  <a:pt x="449182" y="150725"/>
                </a:cubicBezTo>
                <a:cubicBezTo>
                  <a:pt x="449168" y="150737"/>
                  <a:pt x="373827" y="200962"/>
                  <a:pt x="358747" y="211015"/>
                </a:cubicBezTo>
                <a:lnTo>
                  <a:pt x="328602" y="231112"/>
                </a:lnTo>
                <a:cubicBezTo>
                  <a:pt x="318554" y="237811"/>
                  <a:pt x="309914" y="247390"/>
                  <a:pt x="298457" y="251209"/>
                </a:cubicBezTo>
                <a:lnTo>
                  <a:pt x="268312" y="261257"/>
                </a:lnTo>
                <a:cubicBezTo>
                  <a:pt x="258264" y="267956"/>
                  <a:pt x="249267" y="276597"/>
                  <a:pt x="238167" y="281354"/>
                </a:cubicBezTo>
                <a:cubicBezTo>
                  <a:pt x="225473" y="286794"/>
                  <a:pt x="209964" y="284550"/>
                  <a:pt x="197973" y="291402"/>
                </a:cubicBezTo>
                <a:cubicBezTo>
                  <a:pt x="172545" y="305932"/>
                  <a:pt x="138665" y="365292"/>
                  <a:pt x="127635" y="381837"/>
                </a:cubicBezTo>
                <a:cubicBezTo>
                  <a:pt x="55820" y="489560"/>
                  <a:pt x="167657" y="326074"/>
                  <a:pt x="77393" y="442128"/>
                </a:cubicBezTo>
                <a:cubicBezTo>
                  <a:pt x="62564" y="461193"/>
                  <a:pt x="50598" y="482321"/>
                  <a:pt x="37200" y="502418"/>
                </a:cubicBezTo>
                <a:lnTo>
                  <a:pt x="17103" y="532563"/>
                </a:lnTo>
                <a:cubicBezTo>
                  <a:pt x="0" y="583875"/>
                  <a:pt x="6493" y="548723"/>
                  <a:pt x="17103" y="622998"/>
                </a:cubicBezTo>
                <a:cubicBezTo>
                  <a:pt x="20922" y="649731"/>
                  <a:pt x="18611" y="677767"/>
                  <a:pt x="27151" y="703385"/>
                </a:cubicBezTo>
                <a:cubicBezTo>
                  <a:pt x="33596" y="722718"/>
                  <a:pt x="72801" y="759082"/>
                  <a:pt x="87442" y="773723"/>
                </a:cubicBezTo>
                <a:cubicBezTo>
                  <a:pt x="90791" y="783771"/>
                  <a:pt x="92235" y="794672"/>
                  <a:pt x="97490" y="803868"/>
                </a:cubicBezTo>
                <a:cubicBezTo>
                  <a:pt x="109587" y="825038"/>
                  <a:pt x="138342" y="858009"/>
                  <a:pt x="157780" y="874207"/>
                </a:cubicBezTo>
                <a:cubicBezTo>
                  <a:pt x="167057" y="881938"/>
                  <a:pt x="176617" y="890063"/>
                  <a:pt x="187925" y="894303"/>
                </a:cubicBezTo>
                <a:cubicBezTo>
                  <a:pt x="203917" y="900300"/>
                  <a:pt x="221420" y="901002"/>
                  <a:pt x="238167" y="904352"/>
                </a:cubicBezTo>
                <a:cubicBezTo>
                  <a:pt x="278360" y="901002"/>
                  <a:pt x="319198" y="902213"/>
                  <a:pt x="358747" y="894303"/>
                </a:cubicBezTo>
                <a:cubicBezTo>
                  <a:pt x="370589" y="891935"/>
                  <a:pt x="376822" y="874609"/>
                  <a:pt x="388892" y="874207"/>
                </a:cubicBezTo>
                <a:lnTo>
                  <a:pt x="660198" y="884255"/>
                </a:lnTo>
                <a:lnTo>
                  <a:pt x="1042035" y="874207"/>
                </a:lnTo>
                <a:cubicBezTo>
                  <a:pt x="1066034" y="871480"/>
                  <a:pt x="1079899" y="842983"/>
                  <a:pt x="1102325" y="834013"/>
                </a:cubicBezTo>
                <a:cubicBezTo>
                  <a:pt x="1119072" y="827314"/>
                  <a:pt x="1136434" y="821983"/>
                  <a:pt x="1152567" y="813917"/>
                </a:cubicBezTo>
                <a:cubicBezTo>
                  <a:pt x="1163369" y="808516"/>
                  <a:pt x="1171676" y="798725"/>
                  <a:pt x="1182712" y="793820"/>
                </a:cubicBezTo>
                <a:cubicBezTo>
                  <a:pt x="1202070" y="785216"/>
                  <a:pt x="1225376" y="785474"/>
                  <a:pt x="1243002" y="773723"/>
                </a:cubicBezTo>
                <a:lnTo>
                  <a:pt x="1303292" y="733530"/>
                </a:lnTo>
                <a:cubicBezTo>
                  <a:pt x="1309991" y="723482"/>
                  <a:pt x="1314850" y="711924"/>
                  <a:pt x="1323389" y="703385"/>
                </a:cubicBezTo>
                <a:cubicBezTo>
                  <a:pt x="1331928" y="694846"/>
                  <a:pt x="1345582" y="692377"/>
                  <a:pt x="1353534" y="683288"/>
                </a:cubicBezTo>
                <a:cubicBezTo>
                  <a:pt x="1369439" y="665111"/>
                  <a:pt x="1393727" y="622998"/>
                  <a:pt x="1393727" y="622998"/>
                </a:cubicBezTo>
                <a:cubicBezTo>
                  <a:pt x="1389906" y="603890"/>
                  <a:pt x="1383930" y="563209"/>
                  <a:pt x="1373631" y="542611"/>
                </a:cubicBezTo>
                <a:cubicBezTo>
                  <a:pt x="1368230" y="531809"/>
                  <a:pt x="1360233" y="522514"/>
                  <a:pt x="1353534" y="512466"/>
                </a:cubicBezTo>
                <a:cubicBezTo>
                  <a:pt x="1320660" y="413842"/>
                  <a:pt x="1365346" y="556717"/>
                  <a:pt x="1333437" y="301451"/>
                </a:cubicBezTo>
                <a:cubicBezTo>
                  <a:pt x="1324796" y="232329"/>
                  <a:pt x="1316382" y="257291"/>
                  <a:pt x="1293244" y="211015"/>
                </a:cubicBezTo>
                <a:cubicBezTo>
                  <a:pt x="1288507" y="201541"/>
                  <a:pt x="1287932" y="190344"/>
                  <a:pt x="1283195" y="180870"/>
                </a:cubicBezTo>
                <a:cubicBezTo>
                  <a:pt x="1277794" y="170068"/>
                  <a:pt x="1268500" y="161527"/>
                  <a:pt x="1263099" y="150725"/>
                </a:cubicBezTo>
                <a:cubicBezTo>
                  <a:pt x="1258362" y="141251"/>
                  <a:pt x="1258194" y="129839"/>
                  <a:pt x="1253050" y="120580"/>
                </a:cubicBezTo>
                <a:cubicBezTo>
                  <a:pt x="1228690" y="76732"/>
                  <a:pt x="1203723" y="37149"/>
                  <a:pt x="1152567" y="20097"/>
                </a:cubicBezTo>
                <a:lnTo>
                  <a:pt x="1092277" y="0"/>
                </a:lnTo>
                <a:cubicBezTo>
                  <a:pt x="991793" y="3349"/>
                  <a:pt x="891018" y="1699"/>
                  <a:pt x="790826" y="10048"/>
                </a:cubicBezTo>
                <a:cubicBezTo>
                  <a:pt x="769715" y="11807"/>
                  <a:pt x="750633" y="23446"/>
                  <a:pt x="730536" y="30145"/>
                </a:cubicBezTo>
                <a:lnTo>
                  <a:pt x="700391" y="40194"/>
                </a:lnTo>
                <a:cubicBezTo>
                  <a:pt x="693692" y="60290"/>
                  <a:pt x="680295" y="80388"/>
                  <a:pt x="700391" y="100484"/>
                </a:cubicBezTo>
                <a:cubicBezTo>
                  <a:pt x="705128" y="105221"/>
                  <a:pt x="742259" y="107183"/>
                  <a:pt x="740584" y="100484"/>
                </a:cubicBezTo>
                <a:close/>
              </a:path>
            </a:pathLst>
          </a:custGeom>
          <a:solidFill>
            <a:srgbClr val="4a452a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олилиния 5"/>
          <p:cNvSpPr/>
          <p:nvPr/>
        </p:nvSpPr>
        <p:spPr>
          <a:xfrm>
            <a:off x="2039760" y="4672080"/>
            <a:ext cx="1317960" cy="623880"/>
          </a:xfrm>
          <a:custGeom>
            <a:avLst/>
            <a:gdLst/>
            <a:ahLst/>
            <a:rect l="l" t="t" r="r" b="b"/>
            <a:pathLst>
              <a:path w="1317819" h="623916">
                <a:moveTo>
                  <a:pt x="633047" y="31064"/>
                </a:moveTo>
                <a:cubicBezTo>
                  <a:pt x="593351" y="25393"/>
                  <a:pt x="551643" y="20761"/>
                  <a:pt x="512466" y="10967"/>
                </a:cubicBezTo>
                <a:cubicBezTo>
                  <a:pt x="502190" y="8398"/>
                  <a:pt x="492369" y="4268"/>
                  <a:pt x="482321" y="919"/>
                </a:cubicBezTo>
                <a:cubicBezTo>
                  <a:pt x="455525" y="4268"/>
                  <a:pt x="426611" y="0"/>
                  <a:pt x="401934" y="10967"/>
                </a:cubicBezTo>
                <a:cubicBezTo>
                  <a:pt x="392255" y="15269"/>
                  <a:pt x="396623" y="31638"/>
                  <a:pt x="391886" y="41112"/>
                </a:cubicBezTo>
                <a:cubicBezTo>
                  <a:pt x="386485" y="51914"/>
                  <a:pt x="379520" y="61979"/>
                  <a:pt x="371789" y="71257"/>
                </a:cubicBezTo>
                <a:cubicBezTo>
                  <a:pt x="355916" y="90304"/>
                  <a:pt x="334082" y="110208"/>
                  <a:pt x="311499" y="121499"/>
                </a:cubicBezTo>
                <a:cubicBezTo>
                  <a:pt x="302025" y="126236"/>
                  <a:pt x="291402" y="128198"/>
                  <a:pt x="281354" y="131547"/>
                </a:cubicBezTo>
                <a:cubicBezTo>
                  <a:pt x="261257" y="144945"/>
                  <a:pt x="234462" y="151643"/>
                  <a:pt x="221064" y="171740"/>
                </a:cubicBezTo>
                <a:cubicBezTo>
                  <a:pt x="195092" y="210699"/>
                  <a:pt x="212424" y="198067"/>
                  <a:pt x="170822" y="211934"/>
                </a:cubicBezTo>
                <a:cubicBezTo>
                  <a:pt x="128806" y="239944"/>
                  <a:pt x="109903" y="246854"/>
                  <a:pt x="80387" y="282272"/>
                </a:cubicBezTo>
                <a:cubicBezTo>
                  <a:pt x="72656" y="291550"/>
                  <a:pt x="66989" y="302369"/>
                  <a:pt x="60290" y="312417"/>
                </a:cubicBezTo>
                <a:cubicBezTo>
                  <a:pt x="56941" y="322465"/>
                  <a:pt x="54979" y="333088"/>
                  <a:pt x="50242" y="342562"/>
                </a:cubicBezTo>
                <a:cubicBezTo>
                  <a:pt x="44841" y="353364"/>
                  <a:pt x="35050" y="361672"/>
                  <a:pt x="30145" y="372708"/>
                </a:cubicBezTo>
                <a:cubicBezTo>
                  <a:pt x="21542" y="392066"/>
                  <a:pt x="16748" y="412901"/>
                  <a:pt x="10049" y="432998"/>
                </a:cubicBezTo>
                <a:lnTo>
                  <a:pt x="0" y="463143"/>
                </a:lnTo>
                <a:cubicBezTo>
                  <a:pt x="3350" y="489939"/>
                  <a:pt x="5218" y="516961"/>
                  <a:pt x="10049" y="543530"/>
                </a:cubicBezTo>
                <a:cubicBezTo>
                  <a:pt x="11944" y="553951"/>
                  <a:pt x="13480" y="565404"/>
                  <a:pt x="20097" y="573675"/>
                </a:cubicBezTo>
                <a:cubicBezTo>
                  <a:pt x="40772" y="599519"/>
                  <a:pt x="71890" y="596671"/>
                  <a:pt x="100484" y="603820"/>
                </a:cubicBezTo>
                <a:cubicBezTo>
                  <a:pt x="110760" y="606389"/>
                  <a:pt x="120581" y="610519"/>
                  <a:pt x="130629" y="613868"/>
                </a:cubicBezTo>
                <a:cubicBezTo>
                  <a:pt x="154075" y="610519"/>
                  <a:pt x="177283" y="603820"/>
                  <a:pt x="200967" y="603820"/>
                </a:cubicBezTo>
                <a:cubicBezTo>
                  <a:pt x="236337" y="603820"/>
                  <a:pt x="260316" y="613554"/>
                  <a:pt x="291403" y="623916"/>
                </a:cubicBezTo>
                <a:cubicBezTo>
                  <a:pt x="314849" y="620567"/>
                  <a:pt x="339056" y="620674"/>
                  <a:pt x="361741" y="613868"/>
                </a:cubicBezTo>
                <a:cubicBezTo>
                  <a:pt x="373308" y="610398"/>
                  <a:pt x="381084" y="599172"/>
                  <a:pt x="391886" y="593771"/>
                </a:cubicBezTo>
                <a:cubicBezTo>
                  <a:pt x="401360" y="589034"/>
                  <a:pt x="411983" y="587072"/>
                  <a:pt x="422031" y="583723"/>
                </a:cubicBezTo>
                <a:cubicBezTo>
                  <a:pt x="560096" y="593584"/>
                  <a:pt x="681720" y="603820"/>
                  <a:pt x="823965" y="603820"/>
                </a:cubicBezTo>
                <a:cubicBezTo>
                  <a:pt x="881004" y="603820"/>
                  <a:pt x="937846" y="597121"/>
                  <a:pt x="994787" y="593771"/>
                </a:cubicBezTo>
                <a:cubicBezTo>
                  <a:pt x="1071280" y="568274"/>
                  <a:pt x="1034305" y="577830"/>
                  <a:pt x="1105319" y="563626"/>
                </a:cubicBezTo>
                <a:cubicBezTo>
                  <a:pt x="1125416" y="550228"/>
                  <a:pt x="1142695" y="531071"/>
                  <a:pt x="1165609" y="523433"/>
                </a:cubicBezTo>
                <a:cubicBezTo>
                  <a:pt x="1175657" y="520083"/>
                  <a:pt x="1186280" y="518121"/>
                  <a:pt x="1195754" y="513384"/>
                </a:cubicBezTo>
                <a:cubicBezTo>
                  <a:pt x="1265145" y="478688"/>
                  <a:pt x="1182443" y="504153"/>
                  <a:pt x="1266093" y="483239"/>
                </a:cubicBezTo>
                <a:cubicBezTo>
                  <a:pt x="1280792" y="461190"/>
                  <a:pt x="1297788" y="438395"/>
                  <a:pt x="1306286" y="412901"/>
                </a:cubicBezTo>
                <a:cubicBezTo>
                  <a:pt x="1311687" y="396698"/>
                  <a:pt x="1312985" y="379406"/>
                  <a:pt x="1316334" y="362659"/>
                </a:cubicBezTo>
                <a:cubicBezTo>
                  <a:pt x="1312985" y="312417"/>
                  <a:pt x="1317819" y="260949"/>
                  <a:pt x="1306286" y="211934"/>
                </a:cubicBezTo>
                <a:cubicBezTo>
                  <a:pt x="1303520" y="200178"/>
                  <a:pt x="1287241" y="196594"/>
                  <a:pt x="1276141" y="191837"/>
                </a:cubicBezTo>
                <a:cubicBezTo>
                  <a:pt x="1263448" y="186397"/>
                  <a:pt x="1249176" y="185757"/>
                  <a:pt x="1235948" y="181789"/>
                </a:cubicBezTo>
                <a:cubicBezTo>
                  <a:pt x="1215658" y="175702"/>
                  <a:pt x="1196827" y="162476"/>
                  <a:pt x="1175658" y="161692"/>
                </a:cubicBezTo>
                <a:lnTo>
                  <a:pt x="904352" y="151644"/>
                </a:lnTo>
                <a:cubicBezTo>
                  <a:pt x="894304" y="141596"/>
                  <a:pt x="886031" y="129382"/>
                  <a:pt x="874207" y="121499"/>
                </a:cubicBezTo>
                <a:cubicBezTo>
                  <a:pt x="865394" y="115624"/>
                  <a:pt x="853536" y="116187"/>
                  <a:pt x="844062" y="111450"/>
                </a:cubicBezTo>
                <a:cubicBezTo>
                  <a:pt x="833260" y="106049"/>
                  <a:pt x="823965" y="98053"/>
                  <a:pt x="813917" y="91354"/>
                </a:cubicBezTo>
                <a:cubicBezTo>
                  <a:pt x="807218" y="81306"/>
                  <a:pt x="803250" y="68753"/>
                  <a:pt x="793820" y="61209"/>
                </a:cubicBezTo>
                <a:cubicBezTo>
                  <a:pt x="785549" y="54592"/>
                  <a:pt x="773859" y="54070"/>
                  <a:pt x="763675" y="51160"/>
                </a:cubicBezTo>
                <a:cubicBezTo>
                  <a:pt x="730568" y="41701"/>
                  <a:pt x="707769" y="37970"/>
                  <a:pt x="673240" y="31064"/>
                </a:cubicBezTo>
                <a:lnTo>
                  <a:pt x="633047" y="31064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олилиния 6"/>
          <p:cNvSpPr/>
          <p:nvPr/>
        </p:nvSpPr>
        <p:spPr>
          <a:xfrm>
            <a:off x="1496880" y="5003640"/>
            <a:ext cx="835200" cy="482760"/>
          </a:xfrm>
          <a:custGeom>
            <a:avLst/>
            <a:gdLst/>
            <a:ahLst/>
            <a:rect l="l" t="t" r="r" b="b"/>
            <a:pathLst>
              <a:path w="835126" h="483750">
                <a:moveTo>
                  <a:pt x="442128" y="41069"/>
                </a:moveTo>
                <a:cubicBezTo>
                  <a:pt x="413658" y="41069"/>
                  <a:pt x="415768" y="28135"/>
                  <a:pt x="241161" y="41069"/>
                </a:cubicBezTo>
                <a:cubicBezTo>
                  <a:pt x="207591" y="43556"/>
                  <a:pt x="174172" y="47768"/>
                  <a:pt x="140677" y="51117"/>
                </a:cubicBezTo>
                <a:cubicBezTo>
                  <a:pt x="131745" y="122572"/>
                  <a:pt x="148209" y="124530"/>
                  <a:pt x="100484" y="161649"/>
                </a:cubicBezTo>
                <a:cubicBezTo>
                  <a:pt x="81419" y="176478"/>
                  <a:pt x="40194" y="201842"/>
                  <a:pt x="40194" y="201842"/>
                </a:cubicBezTo>
                <a:cubicBezTo>
                  <a:pt x="33495" y="211890"/>
                  <a:pt x="25002" y="220951"/>
                  <a:pt x="20097" y="231987"/>
                </a:cubicBezTo>
                <a:cubicBezTo>
                  <a:pt x="11493" y="251345"/>
                  <a:pt x="0" y="292277"/>
                  <a:pt x="0" y="292277"/>
                </a:cubicBezTo>
                <a:cubicBezTo>
                  <a:pt x="3350" y="302325"/>
                  <a:pt x="2559" y="314932"/>
                  <a:pt x="10049" y="322422"/>
                </a:cubicBezTo>
                <a:cubicBezTo>
                  <a:pt x="17539" y="329912"/>
                  <a:pt x="29854" y="330173"/>
                  <a:pt x="40194" y="332471"/>
                </a:cubicBezTo>
                <a:cubicBezTo>
                  <a:pt x="60083" y="336891"/>
                  <a:pt x="80387" y="339170"/>
                  <a:pt x="100484" y="342519"/>
                </a:cubicBezTo>
                <a:cubicBezTo>
                  <a:pt x="198743" y="440778"/>
                  <a:pt x="132408" y="401036"/>
                  <a:pt x="321548" y="412858"/>
                </a:cubicBezTo>
                <a:cubicBezTo>
                  <a:pt x="472273" y="409508"/>
                  <a:pt x="646531" y="483750"/>
                  <a:pt x="773723" y="402809"/>
                </a:cubicBezTo>
                <a:cubicBezTo>
                  <a:pt x="835126" y="363734"/>
                  <a:pt x="804280" y="174200"/>
                  <a:pt x="743578" y="101359"/>
                </a:cubicBezTo>
                <a:cubicBezTo>
                  <a:pt x="734481" y="90442"/>
                  <a:pt x="725257" y="79097"/>
                  <a:pt x="713433" y="71214"/>
                </a:cubicBezTo>
                <a:cubicBezTo>
                  <a:pt x="704620" y="65339"/>
                  <a:pt x="693336" y="64515"/>
                  <a:pt x="683288" y="61165"/>
                </a:cubicBezTo>
                <a:cubicBezTo>
                  <a:pt x="661066" y="38943"/>
                  <a:pt x="650976" y="24912"/>
                  <a:pt x="622998" y="10923"/>
                </a:cubicBezTo>
                <a:cubicBezTo>
                  <a:pt x="613524" y="6186"/>
                  <a:pt x="602901" y="4224"/>
                  <a:pt x="592853" y="875"/>
                </a:cubicBezTo>
                <a:cubicBezTo>
                  <a:pt x="542611" y="4224"/>
                  <a:pt x="491282" y="0"/>
                  <a:pt x="442128" y="10923"/>
                </a:cubicBezTo>
                <a:cubicBezTo>
                  <a:pt x="428256" y="14006"/>
                  <a:pt x="423352" y="32542"/>
                  <a:pt x="411983" y="41069"/>
                </a:cubicBezTo>
                <a:cubicBezTo>
                  <a:pt x="409303" y="43079"/>
                  <a:pt x="470598" y="41069"/>
                  <a:pt x="442128" y="41069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1473120" y="5343480"/>
            <a:ext cx="365040" cy="238320"/>
          </a:xfrm>
          <a:custGeom>
            <a:avLst/>
            <a:gdLst/>
            <a:ahLst/>
            <a:rect l="l" t="t" r="r" b="b"/>
            <a:pathLst>
              <a:path w="365921" h="237069">
                <a:moveTo>
                  <a:pt x="235293" y="1675"/>
                </a:moveTo>
                <a:cubicBezTo>
                  <a:pt x="208498" y="3350"/>
                  <a:pt x="177216" y="8707"/>
                  <a:pt x="144858" y="31820"/>
                </a:cubicBezTo>
                <a:cubicBezTo>
                  <a:pt x="133294" y="40080"/>
                  <a:pt x="126537" y="54082"/>
                  <a:pt x="114713" y="61965"/>
                </a:cubicBezTo>
                <a:cubicBezTo>
                  <a:pt x="105900" y="67840"/>
                  <a:pt x="93827" y="66870"/>
                  <a:pt x="84568" y="72014"/>
                </a:cubicBezTo>
                <a:cubicBezTo>
                  <a:pt x="63454" y="83744"/>
                  <a:pt x="24277" y="112207"/>
                  <a:pt x="24277" y="112207"/>
                </a:cubicBezTo>
                <a:cubicBezTo>
                  <a:pt x="17578" y="122255"/>
                  <a:pt x="5889" y="130397"/>
                  <a:pt x="4181" y="142352"/>
                </a:cubicBezTo>
                <a:cubicBezTo>
                  <a:pt x="0" y="171619"/>
                  <a:pt x="22652" y="198208"/>
                  <a:pt x="44374" y="212690"/>
                </a:cubicBezTo>
                <a:cubicBezTo>
                  <a:pt x="53187" y="218565"/>
                  <a:pt x="64471" y="219389"/>
                  <a:pt x="74519" y="222739"/>
                </a:cubicBezTo>
                <a:cubicBezTo>
                  <a:pt x="101315" y="219389"/>
                  <a:pt x="127981" y="214761"/>
                  <a:pt x="154906" y="212690"/>
                </a:cubicBezTo>
                <a:cubicBezTo>
                  <a:pt x="354825" y="197311"/>
                  <a:pt x="284136" y="237069"/>
                  <a:pt x="365921" y="182545"/>
                </a:cubicBezTo>
                <a:cubicBezTo>
                  <a:pt x="362572" y="149051"/>
                  <a:pt x="363442" y="114861"/>
                  <a:pt x="355873" y="82062"/>
                </a:cubicBezTo>
                <a:cubicBezTo>
                  <a:pt x="353157" y="70295"/>
                  <a:pt x="343507" y="61195"/>
                  <a:pt x="335776" y="51917"/>
                </a:cubicBezTo>
                <a:cubicBezTo>
                  <a:pt x="326679" y="41000"/>
                  <a:pt x="317455" y="29655"/>
                  <a:pt x="305631" y="21772"/>
                </a:cubicBezTo>
                <a:cubicBezTo>
                  <a:pt x="279436" y="4308"/>
                  <a:pt x="262088" y="0"/>
                  <a:pt x="235293" y="1675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лилиния 8"/>
          <p:cNvSpPr/>
          <p:nvPr/>
        </p:nvSpPr>
        <p:spPr>
          <a:xfrm>
            <a:off x="1128600" y="5092560"/>
            <a:ext cx="308160" cy="236520"/>
          </a:xfrm>
          <a:custGeom>
            <a:avLst/>
            <a:gdLst/>
            <a:ahLst/>
            <a:rect l="l" t="t" r="r" b="b"/>
            <a:pathLst>
              <a:path w="308149" h="235597">
                <a:moveTo>
                  <a:pt x="227762" y="21267"/>
                </a:moveTo>
                <a:cubicBezTo>
                  <a:pt x="224413" y="17918"/>
                  <a:pt x="194090" y="15361"/>
                  <a:pt x="177521" y="11219"/>
                </a:cubicBezTo>
                <a:cubicBezTo>
                  <a:pt x="167245" y="8650"/>
                  <a:pt x="157903" y="0"/>
                  <a:pt x="147376" y="1170"/>
                </a:cubicBezTo>
                <a:cubicBezTo>
                  <a:pt x="126322" y="3509"/>
                  <a:pt x="87086" y="21267"/>
                  <a:pt x="87086" y="21267"/>
                </a:cubicBezTo>
                <a:cubicBezTo>
                  <a:pt x="80387" y="31315"/>
                  <a:pt x="72390" y="40610"/>
                  <a:pt x="66989" y="51412"/>
                </a:cubicBezTo>
                <a:cubicBezTo>
                  <a:pt x="62252" y="60886"/>
                  <a:pt x="63557" y="73286"/>
                  <a:pt x="56940" y="81557"/>
                </a:cubicBezTo>
                <a:cubicBezTo>
                  <a:pt x="49396" y="90987"/>
                  <a:pt x="36843" y="94955"/>
                  <a:pt x="26795" y="101654"/>
                </a:cubicBezTo>
                <a:cubicBezTo>
                  <a:pt x="20096" y="121751"/>
                  <a:pt x="0" y="141847"/>
                  <a:pt x="6699" y="161944"/>
                </a:cubicBezTo>
                <a:cubicBezTo>
                  <a:pt x="10048" y="171992"/>
                  <a:pt x="9257" y="184599"/>
                  <a:pt x="16747" y="192089"/>
                </a:cubicBezTo>
                <a:cubicBezTo>
                  <a:pt x="24237" y="199579"/>
                  <a:pt x="36393" y="200737"/>
                  <a:pt x="46892" y="202137"/>
                </a:cubicBezTo>
                <a:cubicBezTo>
                  <a:pt x="86871" y="207468"/>
                  <a:pt x="127279" y="208836"/>
                  <a:pt x="167472" y="212186"/>
                </a:cubicBezTo>
                <a:cubicBezTo>
                  <a:pt x="213617" y="227567"/>
                  <a:pt x="223672" y="235597"/>
                  <a:pt x="288053" y="212186"/>
                </a:cubicBezTo>
                <a:cubicBezTo>
                  <a:pt x="299402" y="208059"/>
                  <a:pt x="301450" y="192089"/>
                  <a:pt x="308149" y="182041"/>
                </a:cubicBezTo>
                <a:cubicBezTo>
                  <a:pt x="303246" y="152622"/>
                  <a:pt x="305176" y="113343"/>
                  <a:pt x="278004" y="91605"/>
                </a:cubicBezTo>
                <a:cubicBezTo>
                  <a:pt x="269733" y="84988"/>
                  <a:pt x="257907" y="84906"/>
                  <a:pt x="247859" y="81557"/>
                </a:cubicBezTo>
                <a:cubicBezTo>
                  <a:pt x="221836" y="3490"/>
                  <a:pt x="249147" y="18433"/>
                  <a:pt x="197617" y="31315"/>
                </a:cubicBezTo>
                <a:cubicBezTo>
                  <a:pt x="194368" y="32127"/>
                  <a:pt x="231111" y="24616"/>
                  <a:pt x="227762" y="21267"/>
                </a:cubicBezTo>
                <a:close/>
              </a:path>
            </a:pathLst>
          </a:custGeom>
          <a:solidFill>
            <a:srgbClr val="632523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лилиния 10"/>
          <p:cNvSpPr/>
          <p:nvPr/>
        </p:nvSpPr>
        <p:spPr>
          <a:xfrm>
            <a:off x="3214800" y="5281560"/>
            <a:ext cx="428400" cy="268200"/>
          </a:xfrm>
          <a:custGeom>
            <a:avLst/>
            <a:gdLst/>
            <a:ahLst/>
            <a:rect l="l" t="t" r="r" b="b"/>
            <a:pathLst>
              <a:path w="428501" h="269074">
                <a:moveTo>
                  <a:pt x="311498" y="44127"/>
                </a:moveTo>
                <a:cubicBezTo>
                  <a:pt x="301450" y="37428"/>
                  <a:pt x="292453" y="28788"/>
                  <a:pt x="281353" y="24031"/>
                </a:cubicBezTo>
                <a:cubicBezTo>
                  <a:pt x="226192" y="390"/>
                  <a:pt x="150631" y="20449"/>
                  <a:pt x="100483" y="24031"/>
                </a:cubicBezTo>
                <a:cubicBezTo>
                  <a:pt x="87085" y="44128"/>
                  <a:pt x="71092" y="62718"/>
                  <a:pt x="60290" y="84321"/>
                </a:cubicBezTo>
                <a:cubicBezTo>
                  <a:pt x="53591" y="97719"/>
                  <a:pt x="48900" y="112325"/>
                  <a:pt x="40193" y="124514"/>
                </a:cubicBezTo>
                <a:cubicBezTo>
                  <a:pt x="31933" y="136078"/>
                  <a:pt x="20096" y="144611"/>
                  <a:pt x="10048" y="154659"/>
                </a:cubicBezTo>
                <a:cubicBezTo>
                  <a:pt x="6699" y="164707"/>
                  <a:pt x="0" y="174212"/>
                  <a:pt x="0" y="184804"/>
                </a:cubicBezTo>
                <a:cubicBezTo>
                  <a:pt x="0" y="269074"/>
                  <a:pt x="69289" y="229229"/>
                  <a:pt x="150725" y="235046"/>
                </a:cubicBezTo>
                <a:cubicBezTo>
                  <a:pt x="201249" y="251887"/>
                  <a:pt x="194383" y="254277"/>
                  <a:pt x="271305" y="235046"/>
                </a:cubicBezTo>
                <a:cubicBezTo>
                  <a:pt x="410186" y="200326"/>
                  <a:pt x="202355" y="226440"/>
                  <a:pt x="331595" y="204901"/>
                </a:cubicBezTo>
                <a:cubicBezTo>
                  <a:pt x="361513" y="199915"/>
                  <a:pt x="391885" y="198202"/>
                  <a:pt x="422030" y="194853"/>
                </a:cubicBezTo>
                <a:cubicBezTo>
                  <a:pt x="416783" y="142384"/>
                  <a:pt x="428501" y="100840"/>
                  <a:pt x="391885" y="64224"/>
                </a:cubicBezTo>
                <a:cubicBezTo>
                  <a:pt x="383346" y="55685"/>
                  <a:pt x="372542" y="49528"/>
                  <a:pt x="361740" y="44127"/>
                </a:cubicBezTo>
                <a:cubicBezTo>
                  <a:pt x="352266" y="39390"/>
                  <a:pt x="341643" y="37428"/>
                  <a:pt x="331595" y="34079"/>
                </a:cubicBezTo>
                <a:cubicBezTo>
                  <a:pt x="324896" y="24031"/>
                  <a:pt x="322711" y="8419"/>
                  <a:pt x="311498" y="3934"/>
                </a:cubicBezTo>
                <a:cubicBezTo>
                  <a:pt x="301664" y="0"/>
                  <a:pt x="290166" y="8107"/>
                  <a:pt x="281353" y="13982"/>
                </a:cubicBezTo>
                <a:cubicBezTo>
                  <a:pt x="269529" y="21865"/>
                  <a:pt x="251208" y="44127"/>
                  <a:pt x="251208" y="44127"/>
                </a:cubicBezTo>
              </a:path>
            </a:pathLst>
          </a:custGeom>
          <a:solidFill>
            <a:srgbClr val="595959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лилиния 12"/>
          <p:cNvSpPr/>
          <p:nvPr/>
        </p:nvSpPr>
        <p:spPr>
          <a:xfrm>
            <a:off x="2571840" y="5286240"/>
            <a:ext cx="915840" cy="449280"/>
          </a:xfrm>
          <a:custGeom>
            <a:avLst/>
            <a:gdLst/>
            <a:ahLst/>
            <a:rect l="l" t="t" r="r" b="b"/>
            <a:pathLst>
              <a:path w="916223" h="449761">
                <a:moveTo>
                  <a:pt x="694540" y="120580"/>
                </a:moveTo>
                <a:cubicBezTo>
                  <a:pt x="641256" y="67296"/>
                  <a:pt x="690331" y="110016"/>
                  <a:pt x="624201" y="70338"/>
                </a:cubicBezTo>
                <a:cubicBezTo>
                  <a:pt x="603490" y="57911"/>
                  <a:pt x="584008" y="43543"/>
                  <a:pt x="563911" y="30145"/>
                </a:cubicBezTo>
                <a:cubicBezTo>
                  <a:pt x="553863" y="23446"/>
                  <a:pt x="545223" y="13867"/>
                  <a:pt x="533766" y="10048"/>
                </a:cubicBezTo>
                <a:lnTo>
                  <a:pt x="503621" y="0"/>
                </a:lnTo>
                <a:cubicBezTo>
                  <a:pt x="473476" y="3349"/>
                  <a:pt x="442843" y="3693"/>
                  <a:pt x="413186" y="10048"/>
                </a:cubicBezTo>
                <a:cubicBezTo>
                  <a:pt x="395549" y="13827"/>
                  <a:pt x="380631" y="26608"/>
                  <a:pt x="362944" y="30145"/>
                </a:cubicBezTo>
                <a:cubicBezTo>
                  <a:pt x="329936" y="36747"/>
                  <a:pt x="295916" y="36476"/>
                  <a:pt x="262461" y="40193"/>
                </a:cubicBezTo>
                <a:cubicBezTo>
                  <a:pt x="235622" y="43175"/>
                  <a:pt x="208870" y="46892"/>
                  <a:pt x="182074" y="50242"/>
                </a:cubicBezTo>
                <a:cubicBezTo>
                  <a:pt x="165327" y="56941"/>
                  <a:pt x="148944" y="64634"/>
                  <a:pt x="131832" y="70338"/>
                </a:cubicBezTo>
                <a:cubicBezTo>
                  <a:pt x="118731" y="74705"/>
                  <a:pt x="103629" y="73535"/>
                  <a:pt x="91639" y="80387"/>
                </a:cubicBezTo>
                <a:cubicBezTo>
                  <a:pt x="79301" y="87437"/>
                  <a:pt x="71542" y="100484"/>
                  <a:pt x="61494" y="110532"/>
                </a:cubicBezTo>
                <a:cubicBezTo>
                  <a:pt x="58144" y="120580"/>
                  <a:pt x="56182" y="131203"/>
                  <a:pt x="51445" y="140677"/>
                </a:cubicBezTo>
                <a:cubicBezTo>
                  <a:pt x="46044" y="151479"/>
                  <a:pt x="36254" y="159786"/>
                  <a:pt x="31349" y="170822"/>
                </a:cubicBezTo>
                <a:cubicBezTo>
                  <a:pt x="22746" y="190180"/>
                  <a:pt x="17951" y="211015"/>
                  <a:pt x="11252" y="231112"/>
                </a:cubicBezTo>
                <a:lnTo>
                  <a:pt x="1204" y="261257"/>
                </a:lnTo>
                <a:cubicBezTo>
                  <a:pt x="4553" y="304800"/>
                  <a:pt x="0" y="349689"/>
                  <a:pt x="11252" y="391886"/>
                </a:cubicBezTo>
                <a:cubicBezTo>
                  <a:pt x="14364" y="403555"/>
                  <a:pt x="29347" y="411179"/>
                  <a:pt x="41397" y="411982"/>
                </a:cubicBezTo>
                <a:cubicBezTo>
                  <a:pt x="181802" y="421342"/>
                  <a:pt x="322751" y="418681"/>
                  <a:pt x="463428" y="422031"/>
                </a:cubicBezTo>
                <a:cubicBezTo>
                  <a:pt x="613932" y="447114"/>
                  <a:pt x="605744" y="449761"/>
                  <a:pt x="855314" y="422031"/>
                </a:cubicBezTo>
                <a:cubicBezTo>
                  <a:pt x="869438" y="420462"/>
                  <a:pt x="875411" y="401934"/>
                  <a:pt x="885459" y="391886"/>
                </a:cubicBezTo>
                <a:cubicBezTo>
                  <a:pt x="888808" y="361741"/>
                  <a:pt x="888151" y="330876"/>
                  <a:pt x="895507" y="301451"/>
                </a:cubicBezTo>
                <a:cubicBezTo>
                  <a:pt x="898436" y="289735"/>
                  <a:pt x="915604" y="283383"/>
                  <a:pt x="915604" y="271306"/>
                </a:cubicBezTo>
                <a:cubicBezTo>
                  <a:pt x="915604" y="263433"/>
                  <a:pt x="916223" y="133135"/>
                  <a:pt x="875410" y="100484"/>
                </a:cubicBezTo>
                <a:cubicBezTo>
                  <a:pt x="867139" y="93867"/>
                  <a:pt x="855775" y="91749"/>
                  <a:pt x="845265" y="90435"/>
                </a:cubicBezTo>
                <a:cubicBezTo>
                  <a:pt x="801931" y="85018"/>
                  <a:pt x="758180" y="83736"/>
                  <a:pt x="714637" y="80387"/>
                </a:cubicBezTo>
                <a:cubicBezTo>
                  <a:pt x="707938" y="70339"/>
                  <a:pt x="703818" y="57973"/>
                  <a:pt x="694540" y="50242"/>
                </a:cubicBezTo>
                <a:cubicBezTo>
                  <a:pt x="665331" y="25901"/>
                  <a:pt x="629396" y="25987"/>
                  <a:pt x="594056" y="20097"/>
                </a:cubicBezTo>
                <a:cubicBezTo>
                  <a:pt x="549268" y="31294"/>
                  <a:pt x="563628" y="20380"/>
                  <a:pt x="543815" y="40193"/>
                </a:cubicBezTo>
              </a:path>
            </a:pathLst>
          </a:custGeom>
          <a:solidFill>
            <a:srgbClr val="63252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Полилиния 13"/>
          <p:cNvGrpSpPr/>
          <p:nvPr/>
        </p:nvGrpSpPr>
        <p:grpSpPr>
          <a:xfrm>
            <a:off x="938160" y="360360"/>
            <a:ext cx="2305080" cy="4870440"/>
            <a:chOff x="938160" y="360360"/>
            <a:chExt cx="2305080" cy="4870440"/>
          </a:xfrm>
        </p:grpSpPr>
        <p:pic>
          <p:nvPicPr>
            <p:cNvPr id="52" name="Полилиния 13" descr=""/>
            <p:cNvPicPr/>
            <p:nvPr/>
          </p:nvPicPr>
          <p:blipFill>
            <a:blip r:embed="rId2"/>
            <a:stretch/>
          </p:blipFill>
          <p:spPr>
            <a:xfrm>
              <a:off x="938160" y="360360"/>
              <a:ext cx="230508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74680" y="603360"/>
              <a:ext cx="183348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Полилиния 14"/>
          <p:cNvGrpSpPr/>
          <p:nvPr/>
        </p:nvGrpSpPr>
        <p:grpSpPr>
          <a:xfrm>
            <a:off x="2041560" y="285840"/>
            <a:ext cx="1860480" cy="4554360"/>
            <a:chOff x="2041560" y="285840"/>
            <a:chExt cx="1860480" cy="4554360"/>
          </a:xfrm>
        </p:grpSpPr>
        <p:pic>
          <p:nvPicPr>
            <p:cNvPr id="55" name="Полилиния 14" descr=""/>
            <p:cNvPicPr/>
            <p:nvPr/>
          </p:nvPicPr>
          <p:blipFill>
            <a:blip r:embed="rId3"/>
            <a:stretch/>
          </p:blipFill>
          <p:spPr>
            <a:xfrm>
              <a:off x="2041560" y="285840"/>
              <a:ext cx="18604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095560" y="371520"/>
              <a:ext cx="1735200" cy="43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Полилиния 15"/>
          <p:cNvSpPr/>
          <p:nvPr/>
        </p:nvSpPr>
        <p:spPr>
          <a:xfrm>
            <a:off x="2247840" y="4773600"/>
            <a:ext cx="1141560" cy="561960"/>
          </a:xfrm>
          <a:custGeom>
            <a:avLst/>
            <a:gdLst/>
            <a:ahLst/>
            <a:rect l="l" t="t" r="r" b="b"/>
            <a:pathLst>
              <a:path w="1141099" h="562708">
                <a:moveTo>
                  <a:pt x="666053" y="50242"/>
                </a:moveTo>
                <a:cubicBezTo>
                  <a:pt x="669402" y="66989"/>
                  <a:pt x="666627" y="86273"/>
                  <a:pt x="676101" y="100484"/>
                </a:cubicBezTo>
                <a:cubicBezTo>
                  <a:pt x="681976" y="109297"/>
                  <a:pt x="695970" y="107963"/>
                  <a:pt x="706246" y="110532"/>
                </a:cubicBezTo>
                <a:cubicBezTo>
                  <a:pt x="722815" y="114674"/>
                  <a:pt x="739741" y="117231"/>
                  <a:pt x="756488" y="120580"/>
                </a:cubicBezTo>
                <a:cubicBezTo>
                  <a:pt x="766536" y="127279"/>
                  <a:pt x="779089" y="131247"/>
                  <a:pt x="786633" y="140677"/>
                </a:cubicBezTo>
                <a:cubicBezTo>
                  <a:pt x="793250" y="148948"/>
                  <a:pt x="796682" y="160230"/>
                  <a:pt x="796682" y="170822"/>
                </a:cubicBezTo>
                <a:cubicBezTo>
                  <a:pt x="796682" y="215515"/>
                  <a:pt x="798925" y="259013"/>
                  <a:pt x="766536" y="291402"/>
                </a:cubicBezTo>
                <a:cubicBezTo>
                  <a:pt x="743404" y="314534"/>
                  <a:pt x="726947" y="313860"/>
                  <a:pt x="696198" y="321547"/>
                </a:cubicBezTo>
                <a:cubicBezTo>
                  <a:pt x="689499" y="331595"/>
                  <a:pt x="681502" y="340890"/>
                  <a:pt x="676101" y="351692"/>
                </a:cubicBezTo>
                <a:cubicBezTo>
                  <a:pt x="671364" y="361166"/>
                  <a:pt x="672670" y="373566"/>
                  <a:pt x="666053" y="381837"/>
                </a:cubicBezTo>
                <a:cubicBezTo>
                  <a:pt x="658509" y="391267"/>
                  <a:pt x="645956" y="395235"/>
                  <a:pt x="635908" y="401934"/>
                </a:cubicBezTo>
                <a:cubicBezTo>
                  <a:pt x="629209" y="411982"/>
                  <a:pt x="625089" y="424348"/>
                  <a:pt x="615811" y="432079"/>
                </a:cubicBezTo>
                <a:cubicBezTo>
                  <a:pt x="599254" y="445877"/>
                  <a:pt x="566417" y="455243"/>
                  <a:pt x="545473" y="462224"/>
                </a:cubicBezTo>
                <a:cubicBezTo>
                  <a:pt x="525376" y="458875"/>
                  <a:pt x="505072" y="456596"/>
                  <a:pt x="485183" y="452176"/>
                </a:cubicBezTo>
                <a:cubicBezTo>
                  <a:pt x="474843" y="449878"/>
                  <a:pt x="465486" y="443869"/>
                  <a:pt x="455038" y="442128"/>
                </a:cubicBezTo>
                <a:cubicBezTo>
                  <a:pt x="425120" y="437142"/>
                  <a:pt x="394747" y="435429"/>
                  <a:pt x="364602" y="432079"/>
                </a:cubicBezTo>
                <a:cubicBezTo>
                  <a:pt x="357903" y="422031"/>
                  <a:pt x="355719" y="406419"/>
                  <a:pt x="344506" y="401934"/>
                </a:cubicBezTo>
                <a:cubicBezTo>
                  <a:pt x="334672" y="398000"/>
                  <a:pt x="323835" y="407245"/>
                  <a:pt x="314361" y="411982"/>
                </a:cubicBezTo>
                <a:cubicBezTo>
                  <a:pt x="303559" y="417383"/>
                  <a:pt x="295316" y="427322"/>
                  <a:pt x="284216" y="432079"/>
                </a:cubicBezTo>
                <a:cubicBezTo>
                  <a:pt x="271522" y="437519"/>
                  <a:pt x="257301" y="438334"/>
                  <a:pt x="244022" y="442128"/>
                </a:cubicBezTo>
                <a:cubicBezTo>
                  <a:pt x="233838" y="445038"/>
                  <a:pt x="223925" y="448827"/>
                  <a:pt x="213877" y="452176"/>
                </a:cubicBezTo>
                <a:cubicBezTo>
                  <a:pt x="207178" y="442128"/>
                  <a:pt x="199181" y="432833"/>
                  <a:pt x="193780" y="422031"/>
                </a:cubicBezTo>
                <a:cubicBezTo>
                  <a:pt x="189043" y="412557"/>
                  <a:pt x="190349" y="400157"/>
                  <a:pt x="183732" y="391886"/>
                </a:cubicBezTo>
                <a:cubicBezTo>
                  <a:pt x="169565" y="374177"/>
                  <a:pt x="143301" y="368360"/>
                  <a:pt x="123442" y="361741"/>
                </a:cubicBezTo>
                <a:cubicBezTo>
                  <a:pt x="89947" y="365090"/>
                  <a:pt x="42119" y="344113"/>
                  <a:pt x="22958" y="371789"/>
                </a:cubicBezTo>
                <a:cubicBezTo>
                  <a:pt x="0" y="404950"/>
                  <a:pt x="27676" y="452390"/>
                  <a:pt x="33007" y="492369"/>
                </a:cubicBezTo>
                <a:cubicBezTo>
                  <a:pt x="36604" y="519349"/>
                  <a:pt x="50249" y="537358"/>
                  <a:pt x="73200" y="552659"/>
                </a:cubicBezTo>
                <a:cubicBezTo>
                  <a:pt x="82013" y="558534"/>
                  <a:pt x="93297" y="559358"/>
                  <a:pt x="103345" y="562708"/>
                </a:cubicBezTo>
                <a:cubicBezTo>
                  <a:pt x="133490" y="559358"/>
                  <a:pt x="165006" y="562250"/>
                  <a:pt x="193780" y="552659"/>
                </a:cubicBezTo>
                <a:cubicBezTo>
                  <a:pt x="229839" y="540639"/>
                  <a:pt x="258205" y="508332"/>
                  <a:pt x="284216" y="482321"/>
                </a:cubicBezTo>
                <a:cubicBezTo>
                  <a:pt x="300963" y="485670"/>
                  <a:pt x="318466" y="486372"/>
                  <a:pt x="334457" y="492369"/>
                </a:cubicBezTo>
                <a:cubicBezTo>
                  <a:pt x="345765" y="496609"/>
                  <a:pt x="352951" y="509288"/>
                  <a:pt x="364602" y="512466"/>
                </a:cubicBezTo>
                <a:cubicBezTo>
                  <a:pt x="390655" y="519571"/>
                  <a:pt x="418299" y="518408"/>
                  <a:pt x="444989" y="522514"/>
                </a:cubicBezTo>
                <a:cubicBezTo>
                  <a:pt x="461869" y="525111"/>
                  <a:pt x="478484" y="529213"/>
                  <a:pt x="495231" y="532563"/>
                </a:cubicBezTo>
                <a:lnTo>
                  <a:pt x="676101" y="522514"/>
                </a:lnTo>
                <a:cubicBezTo>
                  <a:pt x="833813" y="512956"/>
                  <a:pt x="779811" y="528138"/>
                  <a:pt x="856972" y="502418"/>
                </a:cubicBezTo>
                <a:cubicBezTo>
                  <a:pt x="867020" y="495719"/>
                  <a:pt x="877839" y="490052"/>
                  <a:pt x="887117" y="482321"/>
                </a:cubicBezTo>
                <a:cubicBezTo>
                  <a:pt x="898034" y="473224"/>
                  <a:pt x="905438" y="460059"/>
                  <a:pt x="917262" y="452176"/>
                </a:cubicBezTo>
                <a:cubicBezTo>
                  <a:pt x="938708" y="437879"/>
                  <a:pt x="1024390" y="432504"/>
                  <a:pt x="1027794" y="432079"/>
                </a:cubicBezTo>
                <a:lnTo>
                  <a:pt x="1088084" y="391886"/>
                </a:lnTo>
                <a:lnTo>
                  <a:pt x="1118229" y="371789"/>
                </a:lnTo>
                <a:cubicBezTo>
                  <a:pt x="1124928" y="361741"/>
                  <a:pt x="1136341" y="353556"/>
                  <a:pt x="1138326" y="341644"/>
                </a:cubicBezTo>
                <a:cubicBezTo>
                  <a:pt x="1141099" y="325004"/>
                  <a:pt x="1115178" y="291851"/>
                  <a:pt x="1108180" y="281354"/>
                </a:cubicBezTo>
                <a:cubicBezTo>
                  <a:pt x="1058228" y="131494"/>
                  <a:pt x="1121151" y="337684"/>
                  <a:pt x="1078035" y="50242"/>
                </a:cubicBezTo>
                <a:cubicBezTo>
                  <a:pt x="1076244" y="38299"/>
                  <a:pt x="1068180" y="26498"/>
                  <a:pt x="1057939" y="20097"/>
                </a:cubicBezTo>
                <a:cubicBezTo>
                  <a:pt x="1039975" y="8869"/>
                  <a:pt x="997649" y="0"/>
                  <a:pt x="997649" y="0"/>
                </a:cubicBezTo>
                <a:cubicBezTo>
                  <a:pt x="970853" y="3349"/>
                  <a:pt x="943667" y="4390"/>
                  <a:pt x="917262" y="10048"/>
                </a:cubicBezTo>
                <a:cubicBezTo>
                  <a:pt x="896548" y="14487"/>
                  <a:pt x="878156" y="30145"/>
                  <a:pt x="856972" y="30145"/>
                </a:cubicBezTo>
                <a:lnTo>
                  <a:pt x="666053" y="50242"/>
                </a:lnTo>
                <a:close/>
              </a:path>
            </a:pathLst>
          </a:custGeom>
          <a:solidFill>
            <a:srgbClr val="262626"/>
          </a:solidFill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олилиния 16"/>
          <p:cNvSpPr/>
          <p:nvPr/>
        </p:nvSpPr>
        <p:spPr>
          <a:xfrm>
            <a:off x="1328760" y="4502160"/>
            <a:ext cx="665280" cy="682560"/>
          </a:xfrm>
          <a:custGeom>
            <a:avLst/>
            <a:gdLst/>
            <a:ahLst/>
            <a:rect l="l" t="t" r="r" b="b"/>
            <a:pathLst>
              <a:path w="665087" h="683287">
                <a:moveTo>
                  <a:pt x="328754" y="0"/>
                </a:moveTo>
                <a:cubicBezTo>
                  <a:pt x="315356" y="3349"/>
                  <a:pt x="298326" y="283"/>
                  <a:pt x="288561" y="10048"/>
                </a:cubicBezTo>
                <a:cubicBezTo>
                  <a:pt x="278796" y="19813"/>
                  <a:pt x="283952" y="37548"/>
                  <a:pt x="278512" y="50241"/>
                </a:cubicBezTo>
                <a:cubicBezTo>
                  <a:pt x="273755" y="61341"/>
                  <a:pt x="263817" y="69584"/>
                  <a:pt x="258416" y="80386"/>
                </a:cubicBezTo>
                <a:cubicBezTo>
                  <a:pt x="253679" y="89860"/>
                  <a:pt x="253104" y="101057"/>
                  <a:pt x="248367" y="110531"/>
                </a:cubicBezTo>
                <a:cubicBezTo>
                  <a:pt x="209410" y="188445"/>
                  <a:pt x="243480" y="95051"/>
                  <a:pt x="218222" y="170822"/>
                </a:cubicBezTo>
                <a:cubicBezTo>
                  <a:pt x="221572" y="200967"/>
                  <a:pt x="217006" y="233096"/>
                  <a:pt x="228271" y="261257"/>
                </a:cubicBezTo>
                <a:cubicBezTo>
                  <a:pt x="232205" y="271091"/>
                  <a:pt x="250926" y="263815"/>
                  <a:pt x="258416" y="271305"/>
                </a:cubicBezTo>
                <a:cubicBezTo>
                  <a:pt x="265906" y="278795"/>
                  <a:pt x="265115" y="291402"/>
                  <a:pt x="268464" y="301450"/>
                </a:cubicBezTo>
                <a:cubicBezTo>
                  <a:pt x="265115" y="311498"/>
                  <a:pt x="258416" y="321003"/>
                  <a:pt x="258416" y="331595"/>
                </a:cubicBezTo>
                <a:cubicBezTo>
                  <a:pt x="258416" y="370166"/>
                  <a:pt x="273782" y="428924"/>
                  <a:pt x="308657" y="452175"/>
                </a:cubicBezTo>
                <a:lnTo>
                  <a:pt x="338802" y="472272"/>
                </a:lnTo>
                <a:cubicBezTo>
                  <a:pt x="375646" y="468923"/>
                  <a:pt x="412710" y="467456"/>
                  <a:pt x="449334" y="462224"/>
                </a:cubicBezTo>
                <a:cubicBezTo>
                  <a:pt x="459819" y="460726"/>
                  <a:pt x="469431" y="448826"/>
                  <a:pt x="479479" y="452175"/>
                </a:cubicBezTo>
                <a:cubicBezTo>
                  <a:pt x="492960" y="456669"/>
                  <a:pt x="497202" y="475419"/>
                  <a:pt x="509624" y="482320"/>
                </a:cubicBezTo>
                <a:cubicBezTo>
                  <a:pt x="528142" y="492608"/>
                  <a:pt x="549817" y="495718"/>
                  <a:pt x="569914" y="502417"/>
                </a:cubicBezTo>
                <a:lnTo>
                  <a:pt x="600060" y="512465"/>
                </a:lnTo>
                <a:cubicBezTo>
                  <a:pt x="620157" y="499067"/>
                  <a:pt x="665087" y="448588"/>
                  <a:pt x="660350" y="472272"/>
                </a:cubicBezTo>
                <a:cubicBezTo>
                  <a:pt x="654773" y="500158"/>
                  <a:pt x="659675" y="537222"/>
                  <a:pt x="620156" y="542611"/>
                </a:cubicBezTo>
                <a:cubicBezTo>
                  <a:pt x="557013" y="551221"/>
                  <a:pt x="492877" y="549310"/>
                  <a:pt x="429238" y="552659"/>
                </a:cubicBezTo>
                <a:cubicBezTo>
                  <a:pt x="409141" y="556008"/>
                  <a:pt x="387565" y="554432"/>
                  <a:pt x="368947" y="562707"/>
                </a:cubicBezTo>
                <a:cubicBezTo>
                  <a:pt x="353027" y="569782"/>
                  <a:pt x="327338" y="607890"/>
                  <a:pt x="318706" y="622997"/>
                </a:cubicBezTo>
                <a:cubicBezTo>
                  <a:pt x="311274" y="636003"/>
                  <a:pt x="308199" y="651684"/>
                  <a:pt x="298609" y="663191"/>
                </a:cubicBezTo>
                <a:cubicBezTo>
                  <a:pt x="290878" y="672468"/>
                  <a:pt x="278512" y="676588"/>
                  <a:pt x="268464" y="683287"/>
                </a:cubicBezTo>
                <a:cubicBezTo>
                  <a:pt x="245311" y="679428"/>
                  <a:pt x="202764" y="675559"/>
                  <a:pt x="178029" y="663191"/>
                </a:cubicBezTo>
                <a:cubicBezTo>
                  <a:pt x="109031" y="628692"/>
                  <a:pt x="194577" y="652432"/>
                  <a:pt x="97642" y="633046"/>
                </a:cubicBezTo>
                <a:cubicBezTo>
                  <a:pt x="94293" y="619648"/>
                  <a:pt x="91388" y="606131"/>
                  <a:pt x="87594" y="592852"/>
                </a:cubicBezTo>
                <a:cubicBezTo>
                  <a:pt x="81057" y="569972"/>
                  <a:pt x="75062" y="550175"/>
                  <a:pt x="57449" y="532562"/>
                </a:cubicBezTo>
                <a:cubicBezTo>
                  <a:pt x="48909" y="524022"/>
                  <a:pt x="37352" y="519164"/>
                  <a:pt x="27303" y="512465"/>
                </a:cubicBezTo>
                <a:cubicBezTo>
                  <a:pt x="0" y="471509"/>
                  <a:pt x="1634" y="489355"/>
                  <a:pt x="17255" y="432079"/>
                </a:cubicBezTo>
                <a:cubicBezTo>
                  <a:pt x="22829" y="411642"/>
                  <a:pt x="37352" y="371789"/>
                  <a:pt x="37352" y="371789"/>
                </a:cubicBezTo>
                <a:cubicBezTo>
                  <a:pt x="40701" y="331595"/>
                  <a:pt x="42069" y="291187"/>
                  <a:pt x="47400" y="251208"/>
                </a:cubicBezTo>
                <a:cubicBezTo>
                  <a:pt x="48800" y="240709"/>
                  <a:pt x="55554" y="231484"/>
                  <a:pt x="57449" y="221063"/>
                </a:cubicBezTo>
                <a:cubicBezTo>
                  <a:pt x="62280" y="194494"/>
                  <a:pt x="58269" y="166054"/>
                  <a:pt x="67497" y="140676"/>
                </a:cubicBezTo>
                <a:cubicBezTo>
                  <a:pt x="72353" y="127321"/>
                  <a:pt x="86725" y="119628"/>
                  <a:pt x="97642" y="110531"/>
                </a:cubicBezTo>
                <a:cubicBezTo>
                  <a:pt x="134596" y="79736"/>
                  <a:pt x="132987" y="91404"/>
                  <a:pt x="188077" y="80386"/>
                </a:cubicBezTo>
                <a:cubicBezTo>
                  <a:pt x="201619" y="77678"/>
                  <a:pt x="214992" y="74132"/>
                  <a:pt x="228271" y="70338"/>
                </a:cubicBezTo>
                <a:cubicBezTo>
                  <a:pt x="238455" y="67428"/>
                  <a:pt x="248030" y="62367"/>
                  <a:pt x="258416" y="60290"/>
                </a:cubicBezTo>
                <a:cubicBezTo>
                  <a:pt x="264985" y="58976"/>
                  <a:pt x="271813" y="60290"/>
                  <a:pt x="278512" y="60290"/>
                </a:cubicBezTo>
              </a:path>
            </a:pathLst>
          </a:custGeom>
          <a:solidFill>
            <a:srgbClr val="262626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олилиния 17"/>
          <p:cNvSpPr/>
          <p:nvPr/>
        </p:nvSpPr>
        <p:spPr>
          <a:xfrm>
            <a:off x="2584440" y="5384880"/>
            <a:ext cx="884160" cy="365040"/>
          </a:xfrm>
          <a:custGeom>
            <a:avLst/>
            <a:gdLst/>
            <a:ahLst/>
            <a:rect l="l" t="t" r="r" b="b"/>
            <a:pathLst>
              <a:path w="884007" h="366303">
                <a:moveTo>
                  <a:pt x="168055" y="1675"/>
                </a:moveTo>
                <a:cubicBezTo>
                  <a:pt x="174754" y="3350"/>
                  <a:pt x="129270" y="9611"/>
                  <a:pt x="107765" y="41869"/>
                </a:cubicBezTo>
                <a:cubicBezTo>
                  <a:pt x="101890" y="50682"/>
                  <a:pt x="101066" y="61966"/>
                  <a:pt x="97717" y="72014"/>
                </a:cubicBezTo>
                <a:cubicBezTo>
                  <a:pt x="101066" y="92111"/>
                  <a:pt x="97657" y="114615"/>
                  <a:pt x="107765" y="132304"/>
                </a:cubicBezTo>
                <a:cubicBezTo>
                  <a:pt x="113020" y="141500"/>
                  <a:pt x="128436" y="137615"/>
                  <a:pt x="137910" y="142352"/>
                </a:cubicBezTo>
                <a:cubicBezTo>
                  <a:pt x="148712" y="147753"/>
                  <a:pt x="158007" y="155750"/>
                  <a:pt x="168055" y="162449"/>
                </a:cubicBezTo>
                <a:cubicBezTo>
                  <a:pt x="171405" y="172497"/>
                  <a:pt x="172229" y="183781"/>
                  <a:pt x="178104" y="192594"/>
                </a:cubicBezTo>
                <a:cubicBezTo>
                  <a:pt x="199610" y="224852"/>
                  <a:pt x="206790" y="222253"/>
                  <a:pt x="238394" y="232788"/>
                </a:cubicBezTo>
                <a:cubicBezTo>
                  <a:pt x="258491" y="229438"/>
                  <a:pt x="278310" y="222739"/>
                  <a:pt x="298684" y="222739"/>
                </a:cubicBezTo>
                <a:cubicBezTo>
                  <a:pt x="463343" y="222739"/>
                  <a:pt x="323210" y="231849"/>
                  <a:pt x="449409" y="252884"/>
                </a:cubicBezTo>
                <a:lnTo>
                  <a:pt x="509699" y="262933"/>
                </a:lnTo>
                <a:cubicBezTo>
                  <a:pt x="576665" y="329899"/>
                  <a:pt x="550627" y="318838"/>
                  <a:pt x="720715" y="283029"/>
                </a:cubicBezTo>
                <a:cubicBezTo>
                  <a:pt x="731080" y="280847"/>
                  <a:pt x="727853" y="263068"/>
                  <a:pt x="730763" y="252884"/>
                </a:cubicBezTo>
                <a:cubicBezTo>
                  <a:pt x="734557" y="239605"/>
                  <a:pt x="732184" y="223475"/>
                  <a:pt x="740811" y="212691"/>
                </a:cubicBezTo>
                <a:cubicBezTo>
                  <a:pt x="747428" y="204420"/>
                  <a:pt x="760508" y="204384"/>
                  <a:pt x="770956" y="202643"/>
                </a:cubicBezTo>
                <a:cubicBezTo>
                  <a:pt x="800874" y="197657"/>
                  <a:pt x="831247" y="195944"/>
                  <a:pt x="861392" y="192594"/>
                </a:cubicBezTo>
                <a:cubicBezTo>
                  <a:pt x="868091" y="182546"/>
                  <a:pt x="880485" y="174484"/>
                  <a:pt x="881488" y="162449"/>
                </a:cubicBezTo>
                <a:cubicBezTo>
                  <a:pt x="884007" y="132223"/>
                  <a:pt x="881031" y="100788"/>
                  <a:pt x="871440" y="72014"/>
                </a:cubicBezTo>
                <a:lnTo>
                  <a:pt x="861392" y="102159"/>
                </a:lnTo>
                <a:cubicBezTo>
                  <a:pt x="858042" y="162449"/>
                  <a:pt x="862642" y="223713"/>
                  <a:pt x="851343" y="283029"/>
                </a:cubicBezTo>
                <a:cubicBezTo>
                  <a:pt x="848684" y="296989"/>
                  <a:pt x="833022" y="305291"/>
                  <a:pt x="821198" y="313174"/>
                </a:cubicBezTo>
                <a:cubicBezTo>
                  <a:pt x="812385" y="319049"/>
                  <a:pt x="801501" y="321482"/>
                  <a:pt x="791053" y="323223"/>
                </a:cubicBezTo>
                <a:cubicBezTo>
                  <a:pt x="761135" y="328209"/>
                  <a:pt x="730763" y="329922"/>
                  <a:pt x="700618" y="333271"/>
                </a:cubicBezTo>
                <a:cubicBezTo>
                  <a:pt x="687220" y="336620"/>
                  <a:pt x="673704" y="339525"/>
                  <a:pt x="660425" y="343319"/>
                </a:cubicBezTo>
                <a:cubicBezTo>
                  <a:pt x="650241" y="346229"/>
                  <a:pt x="640872" y="353368"/>
                  <a:pt x="630280" y="353368"/>
                </a:cubicBezTo>
                <a:cubicBezTo>
                  <a:pt x="596618" y="353368"/>
                  <a:pt x="563291" y="346669"/>
                  <a:pt x="529796" y="343319"/>
                </a:cubicBezTo>
                <a:cubicBezTo>
                  <a:pt x="391409" y="353965"/>
                  <a:pt x="297352" y="366303"/>
                  <a:pt x="147959" y="343319"/>
                </a:cubicBezTo>
                <a:cubicBezTo>
                  <a:pt x="137490" y="341708"/>
                  <a:pt x="145400" y="320664"/>
                  <a:pt x="137910" y="313174"/>
                </a:cubicBezTo>
                <a:cubicBezTo>
                  <a:pt x="130420" y="305685"/>
                  <a:pt x="117813" y="306475"/>
                  <a:pt x="107765" y="303126"/>
                </a:cubicBezTo>
                <a:cubicBezTo>
                  <a:pt x="97717" y="309825"/>
                  <a:pt x="89575" y="321515"/>
                  <a:pt x="77620" y="323223"/>
                </a:cubicBezTo>
                <a:cubicBezTo>
                  <a:pt x="865" y="334188"/>
                  <a:pt x="31078" y="236994"/>
                  <a:pt x="27378" y="192594"/>
                </a:cubicBezTo>
                <a:cubicBezTo>
                  <a:pt x="31711" y="131932"/>
                  <a:pt x="0" y="54345"/>
                  <a:pt x="67572" y="31821"/>
                </a:cubicBezTo>
                <a:cubicBezTo>
                  <a:pt x="148774" y="4754"/>
                  <a:pt x="161356" y="0"/>
                  <a:pt x="168055" y="1675"/>
                </a:cubicBezTo>
                <a:close/>
              </a:path>
            </a:pathLst>
          </a:custGeom>
          <a:solidFill>
            <a:srgbClr val="40404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лилиния 18"/>
          <p:cNvSpPr/>
          <p:nvPr/>
        </p:nvSpPr>
        <p:spPr>
          <a:xfrm>
            <a:off x="2278080" y="4672080"/>
            <a:ext cx="625320" cy="291960"/>
          </a:xfrm>
          <a:custGeom>
            <a:avLst/>
            <a:gdLst/>
            <a:ahLst/>
            <a:rect l="l" t="t" r="r" b="b"/>
            <a:pathLst>
              <a:path w="626347" h="291402">
                <a:moveTo>
                  <a:pt x="626347" y="190918"/>
                </a:moveTo>
                <a:cubicBezTo>
                  <a:pt x="619648" y="180870"/>
                  <a:pt x="611007" y="171873"/>
                  <a:pt x="606250" y="160773"/>
                </a:cubicBezTo>
                <a:cubicBezTo>
                  <a:pt x="600810" y="148080"/>
                  <a:pt x="608554" y="126756"/>
                  <a:pt x="596202" y="120580"/>
                </a:cubicBezTo>
                <a:cubicBezTo>
                  <a:pt x="580926" y="112942"/>
                  <a:pt x="562707" y="127279"/>
                  <a:pt x="545960" y="130628"/>
                </a:cubicBezTo>
                <a:cubicBezTo>
                  <a:pt x="520030" y="126924"/>
                  <a:pt x="473540" y="124563"/>
                  <a:pt x="445476" y="110531"/>
                </a:cubicBezTo>
                <a:cubicBezTo>
                  <a:pt x="367560" y="71573"/>
                  <a:pt x="460957" y="105645"/>
                  <a:pt x="385186" y="80386"/>
                </a:cubicBezTo>
                <a:cubicBezTo>
                  <a:pt x="343491" y="94285"/>
                  <a:pt x="335004" y="90260"/>
                  <a:pt x="314848" y="150725"/>
                </a:cubicBezTo>
                <a:cubicBezTo>
                  <a:pt x="311498" y="160773"/>
                  <a:pt x="312289" y="173380"/>
                  <a:pt x="304799" y="180870"/>
                </a:cubicBezTo>
                <a:cubicBezTo>
                  <a:pt x="297309" y="188359"/>
                  <a:pt x="284702" y="187569"/>
                  <a:pt x="274654" y="190918"/>
                </a:cubicBezTo>
                <a:cubicBezTo>
                  <a:pt x="281353" y="200966"/>
                  <a:pt x="293253" y="209080"/>
                  <a:pt x="294751" y="221063"/>
                </a:cubicBezTo>
                <a:cubicBezTo>
                  <a:pt x="300960" y="270730"/>
                  <a:pt x="285744" y="270611"/>
                  <a:pt x="254558" y="291402"/>
                </a:cubicBezTo>
                <a:cubicBezTo>
                  <a:pt x="247859" y="281354"/>
                  <a:pt x="239862" y="272059"/>
                  <a:pt x="234461" y="261257"/>
                </a:cubicBezTo>
                <a:cubicBezTo>
                  <a:pt x="220432" y="233198"/>
                  <a:pt x="218066" y="186689"/>
                  <a:pt x="214364" y="160773"/>
                </a:cubicBezTo>
                <a:cubicBezTo>
                  <a:pt x="204316" y="170821"/>
                  <a:pt x="192943" y="179701"/>
                  <a:pt x="184219" y="190918"/>
                </a:cubicBezTo>
                <a:cubicBezTo>
                  <a:pt x="169390" y="209983"/>
                  <a:pt x="144026" y="251208"/>
                  <a:pt x="144026" y="251208"/>
                </a:cubicBezTo>
                <a:cubicBezTo>
                  <a:pt x="140676" y="237810"/>
                  <a:pt x="145819" y="218120"/>
                  <a:pt x="133977" y="211015"/>
                </a:cubicBezTo>
                <a:cubicBezTo>
                  <a:pt x="122135" y="203910"/>
                  <a:pt x="107455" y="223016"/>
                  <a:pt x="93784" y="221063"/>
                </a:cubicBezTo>
                <a:cubicBezTo>
                  <a:pt x="81829" y="219355"/>
                  <a:pt x="74947" y="205207"/>
                  <a:pt x="63639" y="200967"/>
                </a:cubicBezTo>
                <a:cubicBezTo>
                  <a:pt x="47647" y="194970"/>
                  <a:pt x="30144" y="194268"/>
                  <a:pt x="13397" y="190918"/>
                </a:cubicBezTo>
                <a:cubicBezTo>
                  <a:pt x="10048" y="180870"/>
                  <a:pt x="0" y="170821"/>
                  <a:pt x="3349" y="160773"/>
                </a:cubicBezTo>
                <a:cubicBezTo>
                  <a:pt x="10123" y="140450"/>
                  <a:pt x="48789" y="122906"/>
                  <a:pt x="63639" y="110531"/>
                </a:cubicBezTo>
                <a:cubicBezTo>
                  <a:pt x="74556" y="101434"/>
                  <a:pt x="83736" y="90434"/>
                  <a:pt x="93784" y="80386"/>
                </a:cubicBezTo>
                <a:cubicBezTo>
                  <a:pt x="101555" y="57073"/>
                  <a:pt x="105426" y="30478"/>
                  <a:pt x="133977" y="20096"/>
                </a:cubicBezTo>
                <a:cubicBezTo>
                  <a:pt x="159355" y="10868"/>
                  <a:pt x="187727" y="14487"/>
                  <a:pt x="214364" y="10048"/>
                </a:cubicBezTo>
                <a:cubicBezTo>
                  <a:pt x="227986" y="7778"/>
                  <a:pt x="241160" y="3349"/>
                  <a:pt x="254558" y="0"/>
                </a:cubicBezTo>
                <a:cubicBezTo>
                  <a:pt x="310750" y="9365"/>
                  <a:pt x="315496" y="648"/>
                  <a:pt x="355041" y="40193"/>
                </a:cubicBezTo>
                <a:cubicBezTo>
                  <a:pt x="363580" y="48732"/>
                  <a:pt x="364336" y="64937"/>
                  <a:pt x="375138" y="70338"/>
                </a:cubicBezTo>
                <a:cubicBezTo>
                  <a:pt x="393361" y="79449"/>
                  <a:pt x="415331" y="77037"/>
                  <a:pt x="435428" y="80386"/>
                </a:cubicBezTo>
                <a:cubicBezTo>
                  <a:pt x="490696" y="98810"/>
                  <a:pt x="441178" y="79366"/>
                  <a:pt x="495718" y="110531"/>
                </a:cubicBezTo>
                <a:cubicBezTo>
                  <a:pt x="508724" y="117963"/>
                  <a:pt x="522906" y="123196"/>
                  <a:pt x="535911" y="130628"/>
                </a:cubicBezTo>
                <a:cubicBezTo>
                  <a:pt x="574332" y="152583"/>
                  <a:pt x="552458" y="150725"/>
                  <a:pt x="576105" y="150725"/>
                </a:cubicBezTo>
              </a:path>
            </a:pathLst>
          </a:custGeom>
          <a:solidFill>
            <a:srgbClr val="595959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олилиния 19"/>
          <p:cNvSpPr/>
          <p:nvPr/>
        </p:nvSpPr>
        <p:spPr>
          <a:xfrm>
            <a:off x="1703520" y="5033880"/>
            <a:ext cx="577800" cy="174600"/>
          </a:xfrm>
          <a:custGeom>
            <a:avLst/>
            <a:gdLst/>
            <a:ahLst/>
            <a:rect l="l" t="t" r="r" b="b"/>
            <a:pathLst>
              <a:path w="577493" h="173696">
                <a:moveTo>
                  <a:pt x="14785" y="50242"/>
                </a:moveTo>
                <a:cubicBezTo>
                  <a:pt x="1387" y="56941"/>
                  <a:pt x="0" y="70913"/>
                  <a:pt x="4737" y="80387"/>
                </a:cubicBezTo>
                <a:cubicBezTo>
                  <a:pt x="15949" y="102810"/>
                  <a:pt x="66374" y="82562"/>
                  <a:pt x="75075" y="80387"/>
                </a:cubicBezTo>
                <a:cubicBezTo>
                  <a:pt x="85123" y="90435"/>
                  <a:pt x="96123" y="99615"/>
                  <a:pt x="105220" y="110532"/>
                </a:cubicBezTo>
                <a:cubicBezTo>
                  <a:pt x="112951" y="119810"/>
                  <a:pt x="113648" y="137565"/>
                  <a:pt x="125317" y="140677"/>
                </a:cubicBezTo>
                <a:cubicBezTo>
                  <a:pt x="167514" y="151929"/>
                  <a:pt x="212403" y="147376"/>
                  <a:pt x="255946" y="150725"/>
                </a:cubicBezTo>
                <a:cubicBezTo>
                  <a:pt x="324854" y="173696"/>
                  <a:pt x="239328" y="150725"/>
                  <a:pt x="336332" y="150725"/>
                </a:cubicBezTo>
                <a:cubicBezTo>
                  <a:pt x="348946" y="150725"/>
                  <a:pt x="392457" y="166084"/>
                  <a:pt x="406671" y="170822"/>
                </a:cubicBezTo>
                <a:cubicBezTo>
                  <a:pt x="416719" y="167473"/>
                  <a:pt x="426632" y="163684"/>
                  <a:pt x="436816" y="160774"/>
                </a:cubicBezTo>
                <a:cubicBezTo>
                  <a:pt x="450095" y="156980"/>
                  <a:pt x="464316" y="156165"/>
                  <a:pt x="477009" y="150725"/>
                </a:cubicBezTo>
                <a:cubicBezTo>
                  <a:pt x="507829" y="137516"/>
                  <a:pt x="511733" y="121789"/>
                  <a:pt x="537299" y="100484"/>
                </a:cubicBezTo>
                <a:cubicBezTo>
                  <a:pt x="546577" y="92753"/>
                  <a:pt x="557396" y="87086"/>
                  <a:pt x="567444" y="80387"/>
                </a:cubicBezTo>
                <a:cubicBezTo>
                  <a:pt x="570794" y="70339"/>
                  <a:pt x="577493" y="60834"/>
                  <a:pt x="577493" y="50242"/>
                </a:cubicBezTo>
                <a:cubicBezTo>
                  <a:pt x="577493" y="39650"/>
                  <a:pt x="574934" y="27587"/>
                  <a:pt x="567444" y="20097"/>
                </a:cubicBezTo>
                <a:cubicBezTo>
                  <a:pt x="559954" y="12608"/>
                  <a:pt x="547747" y="11790"/>
                  <a:pt x="537299" y="10049"/>
                </a:cubicBezTo>
                <a:cubicBezTo>
                  <a:pt x="507381" y="5063"/>
                  <a:pt x="477009" y="3350"/>
                  <a:pt x="446864" y="0"/>
                </a:cubicBezTo>
                <a:cubicBezTo>
                  <a:pt x="376526" y="3350"/>
                  <a:pt x="306024" y="4201"/>
                  <a:pt x="235849" y="10049"/>
                </a:cubicBezTo>
                <a:cubicBezTo>
                  <a:pt x="202019" y="12868"/>
                  <a:pt x="205655" y="26818"/>
                  <a:pt x="175559" y="40194"/>
                </a:cubicBezTo>
                <a:cubicBezTo>
                  <a:pt x="156201" y="48797"/>
                  <a:pt x="115269" y="60290"/>
                  <a:pt x="115269" y="60290"/>
                </a:cubicBezTo>
                <a:cubicBezTo>
                  <a:pt x="105221" y="53591"/>
                  <a:pt x="97141" y="41396"/>
                  <a:pt x="85124" y="40194"/>
                </a:cubicBezTo>
                <a:cubicBezTo>
                  <a:pt x="26660" y="34348"/>
                  <a:pt x="28183" y="43543"/>
                  <a:pt x="14785" y="50242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лилиния 20"/>
          <p:cNvSpPr/>
          <p:nvPr/>
        </p:nvSpPr>
        <p:spPr>
          <a:xfrm>
            <a:off x="1143000" y="5145120"/>
            <a:ext cx="301680" cy="247680"/>
          </a:xfrm>
          <a:custGeom>
            <a:avLst/>
            <a:gdLst/>
            <a:ahLst/>
            <a:rect l="l" t="t" r="r" b="b"/>
            <a:pathLst>
              <a:path w="301133" h="247244">
                <a:moveTo>
                  <a:pt x="62454" y="0"/>
                </a:moveTo>
                <a:cubicBezTo>
                  <a:pt x="65804" y="13398"/>
                  <a:pt x="67063" y="27500"/>
                  <a:pt x="72503" y="40193"/>
                </a:cubicBezTo>
                <a:cubicBezTo>
                  <a:pt x="77260" y="51293"/>
                  <a:pt x="87198" y="59537"/>
                  <a:pt x="92599" y="70339"/>
                </a:cubicBezTo>
                <a:cubicBezTo>
                  <a:pt x="97336" y="79813"/>
                  <a:pt x="99298" y="90436"/>
                  <a:pt x="102648" y="100484"/>
                </a:cubicBezTo>
                <a:cubicBezTo>
                  <a:pt x="157551" y="93621"/>
                  <a:pt x="181262" y="75561"/>
                  <a:pt x="223228" y="110532"/>
                </a:cubicBezTo>
                <a:cubicBezTo>
                  <a:pt x="232506" y="118263"/>
                  <a:pt x="236626" y="130629"/>
                  <a:pt x="243325" y="140677"/>
                </a:cubicBezTo>
                <a:cubicBezTo>
                  <a:pt x="239975" y="150725"/>
                  <a:pt x="243662" y="168745"/>
                  <a:pt x="233276" y="170822"/>
                </a:cubicBezTo>
                <a:cubicBezTo>
                  <a:pt x="218588" y="173760"/>
                  <a:pt x="206851" y="156626"/>
                  <a:pt x="193083" y="150725"/>
                </a:cubicBezTo>
                <a:cubicBezTo>
                  <a:pt x="183348" y="146553"/>
                  <a:pt x="172986" y="144026"/>
                  <a:pt x="162938" y="140677"/>
                </a:cubicBezTo>
                <a:cubicBezTo>
                  <a:pt x="152890" y="130629"/>
                  <a:pt x="146274" y="115026"/>
                  <a:pt x="132793" y="110532"/>
                </a:cubicBezTo>
                <a:cubicBezTo>
                  <a:pt x="122745" y="107183"/>
                  <a:pt x="95159" y="113090"/>
                  <a:pt x="102648" y="120580"/>
                </a:cubicBezTo>
                <a:cubicBezTo>
                  <a:pt x="114724" y="132657"/>
                  <a:pt x="136142" y="127279"/>
                  <a:pt x="152889" y="130629"/>
                </a:cubicBezTo>
                <a:cubicBezTo>
                  <a:pt x="162937" y="137328"/>
                  <a:pt x="175490" y="141295"/>
                  <a:pt x="183034" y="150725"/>
                </a:cubicBezTo>
                <a:cubicBezTo>
                  <a:pt x="189651" y="158996"/>
                  <a:pt x="188346" y="171396"/>
                  <a:pt x="193083" y="180870"/>
                </a:cubicBezTo>
                <a:cubicBezTo>
                  <a:pt x="198484" y="191672"/>
                  <a:pt x="206480" y="200967"/>
                  <a:pt x="213179" y="211015"/>
                </a:cubicBezTo>
                <a:cubicBezTo>
                  <a:pt x="206480" y="221063"/>
                  <a:pt x="204296" y="236675"/>
                  <a:pt x="193083" y="241160"/>
                </a:cubicBezTo>
                <a:cubicBezTo>
                  <a:pt x="177872" y="247244"/>
                  <a:pt x="141660" y="214239"/>
                  <a:pt x="132793" y="211015"/>
                </a:cubicBezTo>
                <a:cubicBezTo>
                  <a:pt x="103177" y="200246"/>
                  <a:pt x="37850" y="188008"/>
                  <a:pt x="2164" y="180870"/>
                </a:cubicBezTo>
                <a:cubicBezTo>
                  <a:pt x="5513" y="130628"/>
                  <a:pt x="0" y="78995"/>
                  <a:pt x="12212" y="30145"/>
                </a:cubicBezTo>
                <a:cubicBezTo>
                  <a:pt x="14781" y="19869"/>
                  <a:pt x="32883" y="15360"/>
                  <a:pt x="42357" y="20097"/>
                </a:cubicBezTo>
                <a:cubicBezTo>
                  <a:pt x="51831" y="24834"/>
                  <a:pt x="47669" y="40768"/>
                  <a:pt x="52406" y="50242"/>
                </a:cubicBezTo>
                <a:cubicBezTo>
                  <a:pt x="66324" y="78077"/>
                  <a:pt x="101608" y="118501"/>
                  <a:pt x="132793" y="120580"/>
                </a:cubicBezTo>
                <a:lnTo>
                  <a:pt x="283518" y="130629"/>
                </a:lnTo>
                <a:cubicBezTo>
                  <a:pt x="275484" y="202941"/>
                  <a:pt x="301133" y="221478"/>
                  <a:pt x="243325" y="231112"/>
                </a:cubicBezTo>
                <a:cubicBezTo>
                  <a:pt x="233413" y="232764"/>
                  <a:pt x="223228" y="231112"/>
                  <a:pt x="213179" y="231112"/>
                </a:cubicBezTo>
              </a:path>
            </a:pathLst>
          </a:custGeom>
          <a:solidFill>
            <a:srgbClr val="262626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олилиния 21"/>
          <p:cNvSpPr/>
          <p:nvPr/>
        </p:nvSpPr>
        <p:spPr>
          <a:xfrm>
            <a:off x="4149720" y="4886280"/>
            <a:ext cx="1346040" cy="936720"/>
          </a:xfrm>
          <a:custGeom>
            <a:avLst/>
            <a:gdLst/>
            <a:ahLst/>
            <a:rect l="l" t="t" r="r" b="b"/>
            <a:pathLst>
              <a:path w="1346479" h="935815">
                <a:moveTo>
                  <a:pt x="793820" y="37137"/>
                </a:moveTo>
                <a:cubicBezTo>
                  <a:pt x="783772" y="33788"/>
                  <a:pt x="774267" y="27089"/>
                  <a:pt x="763675" y="27089"/>
                </a:cubicBezTo>
                <a:cubicBezTo>
                  <a:pt x="720758" y="27089"/>
                  <a:pt x="707821" y="35739"/>
                  <a:pt x="683288" y="67282"/>
                </a:cubicBezTo>
                <a:cubicBezTo>
                  <a:pt x="668459" y="86347"/>
                  <a:pt x="656493" y="107475"/>
                  <a:pt x="643095" y="127572"/>
                </a:cubicBezTo>
                <a:lnTo>
                  <a:pt x="622998" y="157718"/>
                </a:lnTo>
                <a:cubicBezTo>
                  <a:pt x="622341" y="160347"/>
                  <a:pt x="608145" y="221501"/>
                  <a:pt x="602901" y="228056"/>
                </a:cubicBezTo>
                <a:cubicBezTo>
                  <a:pt x="595357" y="237486"/>
                  <a:pt x="582804" y="241454"/>
                  <a:pt x="572756" y="248153"/>
                </a:cubicBezTo>
                <a:cubicBezTo>
                  <a:pt x="566057" y="258201"/>
                  <a:pt x="564376" y="275369"/>
                  <a:pt x="552660" y="278298"/>
                </a:cubicBezTo>
                <a:cubicBezTo>
                  <a:pt x="522378" y="285868"/>
                  <a:pt x="484473" y="267930"/>
                  <a:pt x="462224" y="248153"/>
                </a:cubicBezTo>
                <a:cubicBezTo>
                  <a:pt x="440982" y="229271"/>
                  <a:pt x="429506" y="194757"/>
                  <a:pt x="401934" y="187863"/>
                </a:cubicBezTo>
                <a:lnTo>
                  <a:pt x="361741" y="177814"/>
                </a:lnTo>
                <a:cubicBezTo>
                  <a:pt x="328246" y="181164"/>
                  <a:pt x="294057" y="180294"/>
                  <a:pt x="261257" y="187863"/>
                </a:cubicBezTo>
                <a:cubicBezTo>
                  <a:pt x="249490" y="190578"/>
                  <a:pt x="241597" y="201967"/>
                  <a:pt x="231112" y="207959"/>
                </a:cubicBezTo>
                <a:cubicBezTo>
                  <a:pt x="218106" y="215391"/>
                  <a:pt x="204827" y="222493"/>
                  <a:pt x="190919" y="228056"/>
                </a:cubicBezTo>
                <a:cubicBezTo>
                  <a:pt x="171250" y="235924"/>
                  <a:pt x="148255" y="236403"/>
                  <a:pt x="130629" y="248153"/>
                </a:cubicBezTo>
                <a:cubicBezTo>
                  <a:pt x="120581" y="254852"/>
                  <a:pt x="112251" y="265534"/>
                  <a:pt x="100484" y="268249"/>
                </a:cubicBezTo>
                <a:cubicBezTo>
                  <a:pt x="67684" y="275818"/>
                  <a:pt x="33495" y="274948"/>
                  <a:pt x="0" y="278298"/>
                </a:cubicBezTo>
                <a:cubicBezTo>
                  <a:pt x="656" y="280921"/>
                  <a:pt x="14857" y="342085"/>
                  <a:pt x="20097" y="348636"/>
                </a:cubicBezTo>
                <a:cubicBezTo>
                  <a:pt x="27641" y="358066"/>
                  <a:pt x="40194" y="362034"/>
                  <a:pt x="50242" y="368733"/>
                </a:cubicBezTo>
                <a:cubicBezTo>
                  <a:pt x="73688" y="365384"/>
                  <a:pt x="96896" y="358685"/>
                  <a:pt x="120580" y="358685"/>
                </a:cubicBezTo>
                <a:cubicBezTo>
                  <a:pt x="259798" y="358685"/>
                  <a:pt x="236751" y="353866"/>
                  <a:pt x="311499" y="378781"/>
                </a:cubicBezTo>
                <a:cubicBezTo>
                  <a:pt x="318198" y="388829"/>
                  <a:pt x="322166" y="401382"/>
                  <a:pt x="331596" y="408926"/>
                </a:cubicBezTo>
                <a:cubicBezTo>
                  <a:pt x="339867" y="415543"/>
                  <a:pt x="354251" y="411485"/>
                  <a:pt x="361741" y="418975"/>
                </a:cubicBezTo>
                <a:cubicBezTo>
                  <a:pt x="378820" y="436054"/>
                  <a:pt x="401934" y="479265"/>
                  <a:pt x="401934" y="479265"/>
                </a:cubicBezTo>
                <a:cubicBezTo>
                  <a:pt x="398585" y="496012"/>
                  <a:pt x="397883" y="513515"/>
                  <a:pt x="391886" y="529507"/>
                </a:cubicBezTo>
                <a:cubicBezTo>
                  <a:pt x="378488" y="565235"/>
                  <a:pt x="368440" y="557419"/>
                  <a:pt x="341644" y="579748"/>
                </a:cubicBezTo>
                <a:cubicBezTo>
                  <a:pt x="291463" y="621565"/>
                  <a:pt x="334332" y="602282"/>
                  <a:pt x="281354" y="619942"/>
                </a:cubicBezTo>
                <a:cubicBezTo>
                  <a:pt x="148326" y="752970"/>
                  <a:pt x="263091" y="615910"/>
                  <a:pt x="211016" y="730474"/>
                </a:cubicBezTo>
                <a:cubicBezTo>
                  <a:pt x="201021" y="752462"/>
                  <a:pt x="170822" y="790764"/>
                  <a:pt x="170822" y="790764"/>
                </a:cubicBezTo>
                <a:cubicBezTo>
                  <a:pt x="164123" y="810860"/>
                  <a:pt x="150726" y="830958"/>
                  <a:pt x="170822" y="851054"/>
                </a:cubicBezTo>
                <a:cubicBezTo>
                  <a:pt x="178312" y="858544"/>
                  <a:pt x="190919" y="857753"/>
                  <a:pt x="200967" y="861102"/>
                </a:cubicBezTo>
                <a:cubicBezTo>
                  <a:pt x="217714" y="857753"/>
                  <a:pt x="236800" y="860223"/>
                  <a:pt x="251209" y="851054"/>
                </a:cubicBezTo>
                <a:cubicBezTo>
                  <a:pt x="275187" y="835796"/>
                  <a:pt x="291402" y="810861"/>
                  <a:pt x="311499" y="790764"/>
                </a:cubicBezTo>
                <a:cubicBezTo>
                  <a:pt x="321547" y="780716"/>
                  <a:pt x="328934" y="766974"/>
                  <a:pt x="341644" y="760619"/>
                </a:cubicBezTo>
                <a:cubicBezTo>
                  <a:pt x="355042" y="753920"/>
                  <a:pt x="367009" y="742640"/>
                  <a:pt x="381838" y="740522"/>
                </a:cubicBezTo>
                <a:cubicBezTo>
                  <a:pt x="438304" y="732455"/>
                  <a:pt x="495719" y="733823"/>
                  <a:pt x="552660" y="730474"/>
                </a:cubicBezTo>
                <a:cubicBezTo>
                  <a:pt x="562708" y="720426"/>
                  <a:pt x="573708" y="711246"/>
                  <a:pt x="582805" y="700329"/>
                </a:cubicBezTo>
                <a:cubicBezTo>
                  <a:pt x="590536" y="691051"/>
                  <a:pt x="593471" y="677727"/>
                  <a:pt x="602901" y="670183"/>
                </a:cubicBezTo>
                <a:cubicBezTo>
                  <a:pt x="611172" y="663566"/>
                  <a:pt x="622998" y="663484"/>
                  <a:pt x="633046" y="660135"/>
                </a:cubicBezTo>
                <a:cubicBezTo>
                  <a:pt x="643094" y="663484"/>
                  <a:pt x="654920" y="663566"/>
                  <a:pt x="663191" y="670183"/>
                </a:cubicBezTo>
                <a:cubicBezTo>
                  <a:pt x="676559" y="680877"/>
                  <a:pt x="696539" y="729112"/>
                  <a:pt x="703385" y="740522"/>
                </a:cubicBezTo>
                <a:cubicBezTo>
                  <a:pt x="715812" y="761233"/>
                  <a:pt x="721975" y="790010"/>
                  <a:pt x="743578" y="800812"/>
                </a:cubicBezTo>
                <a:cubicBezTo>
                  <a:pt x="793246" y="825646"/>
                  <a:pt x="769561" y="816172"/>
                  <a:pt x="813917" y="830957"/>
                </a:cubicBezTo>
                <a:cubicBezTo>
                  <a:pt x="817266" y="841005"/>
                  <a:pt x="818090" y="852289"/>
                  <a:pt x="823965" y="861102"/>
                </a:cubicBezTo>
                <a:cubicBezTo>
                  <a:pt x="841020" y="886685"/>
                  <a:pt x="866363" y="900866"/>
                  <a:pt x="894304" y="911344"/>
                </a:cubicBezTo>
                <a:cubicBezTo>
                  <a:pt x="907235" y="916193"/>
                  <a:pt x="921099" y="918043"/>
                  <a:pt x="934497" y="921392"/>
                </a:cubicBezTo>
                <a:cubicBezTo>
                  <a:pt x="961293" y="918043"/>
                  <a:pt x="1003464" y="935815"/>
                  <a:pt x="1014884" y="911344"/>
                </a:cubicBezTo>
                <a:cubicBezTo>
                  <a:pt x="1048605" y="839085"/>
                  <a:pt x="1019447" y="789114"/>
                  <a:pt x="984739" y="740522"/>
                </a:cubicBezTo>
                <a:cubicBezTo>
                  <a:pt x="975005" y="726894"/>
                  <a:pt x="965493" y="713044"/>
                  <a:pt x="954594" y="700329"/>
                </a:cubicBezTo>
                <a:cubicBezTo>
                  <a:pt x="945346" y="689539"/>
                  <a:pt x="934497" y="680232"/>
                  <a:pt x="924449" y="670183"/>
                </a:cubicBezTo>
                <a:cubicBezTo>
                  <a:pt x="921099" y="660135"/>
                  <a:pt x="912659" y="650486"/>
                  <a:pt x="914400" y="640038"/>
                </a:cubicBezTo>
                <a:cubicBezTo>
                  <a:pt x="926002" y="570425"/>
                  <a:pt x="1074326" y="600571"/>
                  <a:pt x="1085222" y="599845"/>
                </a:cubicBezTo>
                <a:cubicBezTo>
                  <a:pt x="1095270" y="596496"/>
                  <a:pt x="1107006" y="596300"/>
                  <a:pt x="1115367" y="589797"/>
                </a:cubicBezTo>
                <a:cubicBezTo>
                  <a:pt x="1137801" y="572348"/>
                  <a:pt x="1147522" y="533527"/>
                  <a:pt x="1175657" y="529507"/>
                </a:cubicBezTo>
                <a:lnTo>
                  <a:pt x="1245996" y="519458"/>
                </a:lnTo>
                <a:cubicBezTo>
                  <a:pt x="1269981" y="509864"/>
                  <a:pt x="1306317" y="499331"/>
                  <a:pt x="1326383" y="479265"/>
                </a:cubicBezTo>
                <a:cubicBezTo>
                  <a:pt x="1334922" y="470726"/>
                  <a:pt x="1339780" y="459168"/>
                  <a:pt x="1346479" y="449120"/>
                </a:cubicBezTo>
                <a:cubicBezTo>
                  <a:pt x="1343130" y="439072"/>
                  <a:pt x="1343048" y="427246"/>
                  <a:pt x="1336431" y="418975"/>
                </a:cubicBezTo>
                <a:cubicBezTo>
                  <a:pt x="1322264" y="401266"/>
                  <a:pt x="1296000" y="395449"/>
                  <a:pt x="1276141" y="388830"/>
                </a:cubicBezTo>
                <a:cubicBezTo>
                  <a:pt x="1269442" y="378782"/>
                  <a:pt x="1265474" y="366229"/>
                  <a:pt x="1256044" y="358685"/>
                </a:cubicBezTo>
                <a:cubicBezTo>
                  <a:pt x="1247773" y="352068"/>
                  <a:pt x="1236454" y="349516"/>
                  <a:pt x="1225899" y="348636"/>
                </a:cubicBezTo>
                <a:cubicBezTo>
                  <a:pt x="1155724" y="342788"/>
                  <a:pt x="1085222" y="341937"/>
                  <a:pt x="1014884" y="338588"/>
                </a:cubicBezTo>
                <a:cubicBezTo>
                  <a:pt x="994787" y="331889"/>
                  <a:pt x="975565" y="321487"/>
                  <a:pt x="954594" y="318491"/>
                </a:cubicBezTo>
                <a:cubicBezTo>
                  <a:pt x="870584" y="306490"/>
                  <a:pt x="907232" y="314188"/>
                  <a:pt x="844062" y="298394"/>
                </a:cubicBezTo>
                <a:cubicBezTo>
                  <a:pt x="840712" y="288346"/>
                  <a:pt x="834931" y="278801"/>
                  <a:pt x="834013" y="268249"/>
                </a:cubicBezTo>
                <a:cubicBezTo>
                  <a:pt x="828202" y="201428"/>
                  <a:pt x="845175" y="130913"/>
                  <a:pt x="823965" y="67282"/>
                </a:cubicBezTo>
                <a:cubicBezTo>
                  <a:pt x="817522" y="47954"/>
                  <a:pt x="783772" y="60583"/>
                  <a:pt x="763675" y="57234"/>
                </a:cubicBezTo>
                <a:cubicBezTo>
                  <a:pt x="759445" y="44544"/>
                  <a:pt x="751452" y="0"/>
                  <a:pt x="723482" y="6992"/>
                </a:cubicBezTo>
                <a:cubicBezTo>
                  <a:pt x="711314" y="10034"/>
                  <a:pt x="713433" y="47706"/>
                  <a:pt x="713433" y="57234"/>
                </a:cubicBezTo>
              </a:path>
            </a:pathLst>
          </a:custGeom>
          <a:solidFill>
            <a:srgbClr val="ff0000"/>
          </a:solidFill>
          <a:ln w="9360">
            <a:solidFill>
              <a:srgbClr val="bc7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лилиния 22"/>
          <p:cNvSpPr/>
          <p:nvPr/>
        </p:nvSpPr>
        <p:spPr>
          <a:xfrm>
            <a:off x="4148280" y="5192640"/>
            <a:ext cx="433080" cy="273240"/>
          </a:xfrm>
          <a:custGeom>
            <a:avLst/>
            <a:gdLst/>
            <a:ahLst/>
            <a:rect l="l" t="t" r="r" b="b"/>
            <a:pathLst>
              <a:path w="433754" h="272980">
                <a:moveTo>
                  <a:pt x="31820" y="11723"/>
                </a:moveTo>
                <a:cubicBezTo>
                  <a:pt x="0" y="23446"/>
                  <a:pt x="29316" y="61978"/>
                  <a:pt x="41869" y="82062"/>
                </a:cubicBezTo>
                <a:cubicBezTo>
                  <a:pt x="49188" y="93773"/>
                  <a:pt x="68440" y="89840"/>
                  <a:pt x="82062" y="92110"/>
                </a:cubicBezTo>
                <a:cubicBezTo>
                  <a:pt x="108699" y="96549"/>
                  <a:pt x="135653" y="98809"/>
                  <a:pt x="162449" y="102158"/>
                </a:cubicBezTo>
                <a:cubicBezTo>
                  <a:pt x="219032" y="139881"/>
                  <a:pt x="181138" y="118437"/>
                  <a:pt x="283029" y="152400"/>
                </a:cubicBezTo>
                <a:lnTo>
                  <a:pt x="313174" y="162448"/>
                </a:lnTo>
                <a:cubicBezTo>
                  <a:pt x="323222" y="169147"/>
                  <a:pt x="334780" y="174006"/>
                  <a:pt x="343319" y="182545"/>
                </a:cubicBezTo>
                <a:cubicBezTo>
                  <a:pt x="362799" y="202025"/>
                  <a:pt x="365291" y="218316"/>
                  <a:pt x="373464" y="242835"/>
                </a:cubicBezTo>
                <a:cubicBezTo>
                  <a:pt x="370115" y="252883"/>
                  <a:pt x="352824" y="272980"/>
                  <a:pt x="363416" y="272980"/>
                </a:cubicBezTo>
                <a:cubicBezTo>
                  <a:pt x="376306" y="272980"/>
                  <a:pt x="424581" y="221863"/>
                  <a:pt x="433754" y="212690"/>
                </a:cubicBezTo>
                <a:lnTo>
                  <a:pt x="403609" y="122255"/>
                </a:lnTo>
                <a:cubicBezTo>
                  <a:pt x="400260" y="112207"/>
                  <a:pt x="402374" y="97985"/>
                  <a:pt x="393561" y="92110"/>
                </a:cubicBezTo>
                <a:lnTo>
                  <a:pt x="333271" y="51917"/>
                </a:lnTo>
                <a:cubicBezTo>
                  <a:pt x="323223" y="45218"/>
                  <a:pt x="314583" y="35639"/>
                  <a:pt x="303126" y="31820"/>
                </a:cubicBezTo>
                <a:cubicBezTo>
                  <a:pt x="259879" y="17405"/>
                  <a:pt x="283257" y="24341"/>
                  <a:pt x="232787" y="11723"/>
                </a:cubicBezTo>
                <a:cubicBezTo>
                  <a:pt x="102309" y="24772"/>
                  <a:pt x="63640" y="0"/>
                  <a:pt x="31820" y="11723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bc7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лилиния 24"/>
          <p:cNvSpPr/>
          <p:nvPr/>
        </p:nvSpPr>
        <p:spPr>
          <a:xfrm>
            <a:off x="4370400" y="5526000"/>
            <a:ext cx="774720" cy="309600"/>
          </a:xfrm>
          <a:custGeom>
            <a:avLst/>
            <a:gdLst/>
            <a:ahLst/>
            <a:rect l="l" t="t" r="r" b="b"/>
            <a:pathLst>
              <a:path w="773880" h="309441">
                <a:moveTo>
                  <a:pt x="432623" y="0"/>
                </a:moveTo>
                <a:cubicBezTo>
                  <a:pt x="425924" y="10048"/>
                  <a:pt x="421065" y="21606"/>
                  <a:pt x="412526" y="30145"/>
                </a:cubicBezTo>
                <a:cubicBezTo>
                  <a:pt x="403987" y="38684"/>
                  <a:pt x="393183" y="44841"/>
                  <a:pt x="382381" y="50242"/>
                </a:cubicBezTo>
                <a:cubicBezTo>
                  <a:pt x="339000" y="71933"/>
                  <a:pt x="246551" y="68420"/>
                  <a:pt x="221608" y="70339"/>
                </a:cubicBezTo>
                <a:cubicBezTo>
                  <a:pt x="201511" y="77038"/>
                  <a:pt x="176297" y="75457"/>
                  <a:pt x="161318" y="90436"/>
                </a:cubicBezTo>
                <a:cubicBezTo>
                  <a:pt x="141221" y="110533"/>
                  <a:pt x="116792" y="127078"/>
                  <a:pt x="101027" y="150726"/>
                </a:cubicBezTo>
                <a:cubicBezTo>
                  <a:pt x="73049" y="192695"/>
                  <a:pt x="89470" y="172332"/>
                  <a:pt x="50786" y="211016"/>
                </a:cubicBezTo>
                <a:cubicBezTo>
                  <a:pt x="37388" y="207666"/>
                  <a:pt x="24402" y="200967"/>
                  <a:pt x="10592" y="200967"/>
                </a:cubicBezTo>
                <a:cubicBezTo>
                  <a:pt x="0" y="200967"/>
                  <a:pt x="30210" y="212186"/>
                  <a:pt x="40737" y="211016"/>
                </a:cubicBezTo>
                <a:cubicBezTo>
                  <a:pt x="61791" y="208677"/>
                  <a:pt x="80930" y="197618"/>
                  <a:pt x="101027" y="190919"/>
                </a:cubicBezTo>
                <a:lnTo>
                  <a:pt x="131173" y="180871"/>
                </a:lnTo>
                <a:cubicBezTo>
                  <a:pt x="141221" y="174172"/>
                  <a:pt x="150282" y="165679"/>
                  <a:pt x="161318" y="160774"/>
                </a:cubicBezTo>
                <a:cubicBezTo>
                  <a:pt x="180676" y="152170"/>
                  <a:pt x="201511" y="147376"/>
                  <a:pt x="221608" y="140677"/>
                </a:cubicBezTo>
                <a:cubicBezTo>
                  <a:pt x="286848" y="118930"/>
                  <a:pt x="241215" y="131587"/>
                  <a:pt x="362285" y="120581"/>
                </a:cubicBezTo>
                <a:cubicBezTo>
                  <a:pt x="389080" y="123930"/>
                  <a:pt x="417599" y="120600"/>
                  <a:pt x="442671" y="130629"/>
                </a:cubicBezTo>
                <a:cubicBezTo>
                  <a:pt x="470173" y="141630"/>
                  <a:pt x="463326" y="196103"/>
                  <a:pt x="472816" y="211016"/>
                </a:cubicBezTo>
                <a:cubicBezTo>
                  <a:pt x="488075" y="234994"/>
                  <a:pt x="507686" y="258595"/>
                  <a:pt x="533107" y="271306"/>
                </a:cubicBezTo>
                <a:cubicBezTo>
                  <a:pt x="609374" y="309441"/>
                  <a:pt x="558373" y="290159"/>
                  <a:pt x="693880" y="301451"/>
                </a:cubicBezTo>
                <a:cubicBezTo>
                  <a:pt x="717326" y="298102"/>
                  <a:pt x="745271" y="305613"/>
                  <a:pt x="764219" y="291403"/>
                </a:cubicBezTo>
                <a:cubicBezTo>
                  <a:pt x="773880" y="284157"/>
                  <a:pt x="744876" y="276707"/>
                  <a:pt x="734074" y="271306"/>
                </a:cubicBezTo>
                <a:cubicBezTo>
                  <a:pt x="724600" y="266569"/>
                  <a:pt x="713977" y="264607"/>
                  <a:pt x="703929" y="261258"/>
                </a:cubicBezTo>
                <a:cubicBezTo>
                  <a:pt x="683832" y="247860"/>
                  <a:pt x="657036" y="241161"/>
                  <a:pt x="643638" y="221064"/>
                </a:cubicBezTo>
                <a:cubicBezTo>
                  <a:pt x="616843" y="180871"/>
                  <a:pt x="633590" y="197618"/>
                  <a:pt x="593397" y="170822"/>
                </a:cubicBezTo>
                <a:cubicBezTo>
                  <a:pt x="538233" y="88078"/>
                  <a:pt x="610359" y="182899"/>
                  <a:pt x="543155" y="130629"/>
                </a:cubicBezTo>
                <a:cubicBezTo>
                  <a:pt x="520721" y="113180"/>
                  <a:pt x="502962" y="90436"/>
                  <a:pt x="482865" y="70339"/>
                </a:cubicBezTo>
                <a:lnTo>
                  <a:pt x="432623" y="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bc7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лилиния 25"/>
          <p:cNvSpPr/>
          <p:nvPr/>
        </p:nvSpPr>
        <p:spPr>
          <a:xfrm>
            <a:off x="4979880" y="5346720"/>
            <a:ext cx="513000" cy="150840"/>
          </a:xfrm>
          <a:custGeom>
            <a:avLst/>
            <a:gdLst/>
            <a:ahLst/>
            <a:rect l="l" t="t" r="r" b="b"/>
            <a:pathLst>
              <a:path w="512361" h="149395">
                <a:moveTo>
                  <a:pt x="505662" y="8374"/>
                </a:moveTo>
                <a:cubicBezTo>
                  <a:pt x="512361" y="0"/>
                  <a:pt x="479184" y="16809"/>
                  <a:pt x="465469" y="18423"/>
                </a:cubicBezTo>
                <a:cubicBezTo>
                  <a:pt x="422097" y="23526"/>
                  <a:pt x="377764" y="20423"/>
                  <a:pt x="334840" y="28471"/>
                </a:cubicBezTo>
                <a:cubicBezTo>
                  <a:pt x="137395" y="65492"/>
                  <a:pt x="455153" y="35059"/>
                  <a:pt x="274550" y="58616"/>
                </a:cubicBezTo>
                <a:cubicBezTo>
                  <a:pt x="207792" y="67324"/>
                  <a:pt x="140572" y="72014"/>
                  <a:pt x="73583" y="78713"/>
                </a:cubicBezTo>
                <a:cubicBezTo>
                  <a:pt x="66884" y="92111"/>
                  <a:pt x="63075" y="107399"/>
                  <a:pt x="53486" y="118906"/>
                </a:cubicBezTo>
                <a:cubicBezTo>
                  <a:pt x="28078" y="149395"/>
                  <a:pt x="0" y="131223"/>
                  <a:pt x="53486" y="149051"/>
                </a:cubicBezTo>
                <a:cubicBezTo>
                  <a:pt x="93679" y="145702"/>
                  <a:pt x="134087" y="144333"/>
                  <a:pt x="174066" y="139003"/>
                </a:cubicBezTo>
                <a:cubicBezTo>
                  <a:pt x="184565" y="137603"/>
                  <a:pt x="193825" y="131032"/>
                  <a:pt x="204211" y="128955"/>
                </a:cubicBezTo>
                <a:cubicBezTo>
                  <a:pt x="227435" y="124310"/>
                  <a:pt x="251104" y="122256"/>
                  <a:pt x="274550" y="118906"/>
                </a:cubicBezTo>
                <a:cubicBezTo>
                  <a:pt x="284598" y="115557"/>
                  <a:pt x="294355" y="111156"/>
                  <a:pt x="304695" y="108858"/>
                </a:cubicBezTo>
                <a:cubicBezTo>
                  <a:pt x="324584" y="104438"/>
                  <a:pt x="345657" y="105253"/>
                  <a:pt x="364985" y="98810"/>
                </a:cubicBezTo>
                <a:cubicBezTo>
                  <a:pt x="376442" y="94991"/>
                  <a:pt x="384328" y="84114"/>
                  <a:pt x="395130" y="78713"/>
                </a:cubicBezTo>
                <a:cubicBezTo>
                  <a:pt x="404604" y="73976"/>
                  <a:pt x="415227" y="72014"/>
                  <a:pt x="425275" y="68665"/>
                </a:cubicBezTo>
                <a:cubicBezTo>
                  <a:pt x="489506" y="25843"/>
                  <a:pt x="498963" y="16748"/>
                  <a:pt x="505662" y="8374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bc7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Овал 26"/>
          <p:cNvGrpSpPr/>
          <p:nvPr/>
        </p:nvGrpSpPr>
        <p:grpSpPr>
          <a:xfrm>
            <a:off x="4462560" y="463680"/>
            <a:ext cx="718920" cy="712800"/>
            <a:chOff x="4462560" y="463680"/>
            <a:chExt cx="718920" cy="712800"/>
          </a:xfrm>
        </p:grpSpPr>
        <p:pic>
          <p:nvPicPr>
            <p:cNvPr id="68" name="Овал 26" descr=""/>
            <p:cNvPicPr/>
            <p:nvPr/>
          </p:nvPicPr>
          <p:blipFill>
            <a:blip r:embed="rId4"/>
            <a:stretch/>
          </p:blipFill>
          <p:spPr>
            <a:xfrm>
              <a:off x="4462560" y="463680"/>
              <a:ext cx="7189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746600" y="746280"/>
              <a:ext cx="1508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Овал 27"/>
          <p:cNvGrpSpPr/>
          <p:nvPr/>
        </p:nvGrpSpPr>
        <p:grpSpPr>
          <a:xfrm>
            <a:off x="4748040" y="1895400"/>
            <a:ext cx="860760" cy="854280"/>
            <a:chOff x="4748040" y="1895400"/>
            <a:chExt cx="860760" cy="854280"/>
          </a:xfrm>
        </p:grpSpPr>
        <p:pic>
          <p:nvPicPr>
            <p:cNvPr id="71" name="Овал 27" descr=""/>
            <p:cNvPicPr/>
            <p:nvPr/>
          </p:nvPicPr>
          <p:blipFill>
            <a:blip r:embed="rId5"/>
            <a:stretch/>
          </p:blipFill>
          <p:spPr>
            <a:xfrm>
              <a:off x="4748040" y="1895400"/>
              <a:ext cx="8607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52960" y="219564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Овал 28"/>
          <p:cNvGrpSpPr/>
          <p:nvPr/>
        </p:nvGrpSpPr>
        <p:grpSpPr>
          <a:xfrm>
            <a:off x="4896000" y="536400"/>
            <a:ext cx="925200" cy="927360"/>
            <a:chOff x="4896000" y="536400"/>
            <a:chExt cx="925200" cy="927360"/>
          </a:xfrm>
        </p:grpSpPr>
        <p:pic>
          <p:nvPicPr>
            <p:cNvPr id="74" name="Овал 28" descr=""/>
            <p:cNvPicPr/>
            <p:nvPr/>
          </p:nvPicPr>
          <p:blipFill>
            <a:blip r:embed="rId6"/>
            <a:stretch/>
          </p:blipFill>
          <p:spPr>
            <a:xfrm>
              <a:off x="4896000" y="536400"/>
              <a:ext cx="9252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207040" y="8492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Овал 29"/>
          <p:cNvGrpSpPr/>
          <p:nvPr/>
        </p:nvGrpSpPr>
        <p:grpSpPr>
          <a:xfrm>
            <a:off x="4395960" y="1036800"/>
            <a:ext cx="998280" cy="1000080"/>
            <a:chOff x="4395960" y="1036800"/>
            <a:chExt cx="998280" cy="1000080"/>
          </a:xfrm>
        </p:grpSpPr>
        <p:pic>
          <p:nvPicPr>
            <p:cNvPr id="77" name="Овал 29" descr=""/>
            <p:cNvPicPr/>
            <p:nvPr/>
          </p:nvPicPr>
          <p:blipFill>
            <a:blip r:embed="rId7"/>
            <a:stretch/>
          </p:blipFill>
          <p:spPr>
            <a:xfrm>
              <a:off x="4395960" y="1036800"/>
              <a:ext cx="9982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16360" y="1359000"/>
              <a:ext cx="3542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Полилиния 31"/>
          <p:cNvSpPr/>
          <p:nvPr/>
        </p:nvSpPr>
        <p:spPr>
          <a:xfrm>
            <a:off x="5345280" y="608040"/>
            <a:ext cx="2819160" cy="4043160"/>
          </a:xfrm>
          <a:custGeom>
            <a:avLst/>
            <a:gdLst/>
            <a:ahLst/>
            <a:rect l="l" t="t" r="r" b="b"/>
            <a:pathLst>
              <a:path w="2820073" h="4043410">
                <a:moveTo>
                  <a:pt x="1257171" y="316236"/>
                </a:moveTo>
                <a:cubicBezTo>
                  <a:pt x="1230375" y="319586"/>
                  <a:pt x="1203421" y="321845"/>
                  <a:pt x="1176784" y="326285"/>
                </a:cubicBezTo>
                <a:cubicBezTo>
                  <a:pt x="1163162" y="328555"/>
                  <a:pt x="1150133" y="333625"/>
                  <a:pt x="1136591" y="336333"/>
                </a:cubicBezTo>
                <a:cubicBezTo>
                  <a:pt x="1116613" y="340329"/>
                  <a:pt x="1096398" y="343032"/>
                  <a:pt x="1076301" y="346381"/>
                </a:cubicBezTo>
                <a:cubicBezTo>
                  <a:pt x="1066253" y="349731"/>
                  <a:pt x="1055630" y="351693"/>
                  <a:pt x="1046156" y="356430"/>
                </a:cubicBezTo>
                <a:cubicBezTo>
                  <a:pt x="1035354" y="361831"/>
                  <a:pt x="1027047" y="371621"/>
                  <a:pt x="1016011" y="376526"/>
                </a:cubicBezTo>
                <a:cubicBezTo>
                  <a:pt x="996653" y="385130"/>
                  <a:pt x="955720" y="396623"/>
                  <a:pt x="955720" y="396623"/>
                </a:cubicBezTo>
                <a:cubicBezTo>
                  <a:pt x="949021" y="406671"/>
                  <a:pt x="943355" y="417491"/>
                  <a:pt x="935624" y="426768"/>
                </a:cubicBezTo>
                <a:cubicBezTo>
                  <a:pt x="911447" y="455781"/>
                  <a:pt x="904974" y="457250"/>
                  <a:pt x="875334" y="477010"/>
                </a:cubicBezTo>
                <a:lnTo>
                  <a:pt x="815044" y="567445"/>
                </a:lnTo>
                <a:cubicBezTo>
                  <a:pt x="808345" y="577493"/>
                  <a:pt x="802193" y="587929"/>
                  <a:pt x="794947" y="597590"/>
                </a:cubicBezTo>
                <a:cubicBezTo>
                  <a:pt x="776046" y="622791"/>
                  <a:pt x="736975" y="673339"/>
                  <a:pt x="724608" y="698074"/>
                </a:cubicBezTo>
                <a:cubicBezTo>
                  <a:pt x="708749" y="729793"/>
                  <a:pt x="688572" y="774303"/>
                  <a:pt x="664318" y="798557"/>
                </a:cubicBezTo>
                <a:lnTo>
                  <a:pt x="634173" y="828702"/>
                </a:lnTo>
                <a:cubicBezTo>
                  <a:pt x="608917" y="904472"/>
                  <a:pt x="642986" y="811076"/>
                  <a:pt x="604028" y="888992"/>
                </a:cubicBezTo>
                <a:cubicBezTo>
                  <a:pt x="599291" y="898466"/>
                  <a:pt x="598717" y="909663"/>
                  <a:pt x="593980" y="919137"/>
                </a:cubicBezTo>
                <a:cubicBezTo>
                  <a:pt x="588579" y="929939"/>
                  <a:pt x="579666" y="938681"/>
                  <a:pt x="573883" y="949283"/>
                </a:cubicBezTo>
                <a:cubicBezTo>
                  <a:pt x="559538" y="975583"/>
                  <a:pt x="543164" y="1001248"/>
                  <a:pt x="533690" y="1029669"/>
                </a:cubicBezTo>
                <a:cubicBezTo>
                  <a:pt x="530340" y="1039717"/>
                  <a:pt x="528378" y="1050340"/>
                  <a:pt x="523641" y="1059814"/>
                </a:cubicBezTo>
                <a:cubicBezTo>
                  <a:pt x="518240" y="1070616"/>
                  <a:pt x="509537" y="1079474"/>
                  <a:pt x="503545" y="1089959"/>
                </a:cubicBezTo>
                <a:cubicBezTo>
                  <a:pt x="496113" y="1102965"/>
                  <a:pt x="491387" y="1117450"/>
                  <a:pt x="483448" y="1130153"/>
                </a:cubicBezTo>
                <a:cubicBezTo>
                  <a:pt x="418226" y="1234507"/>
                  <a:pt x="484128" y="1108697"/>
                  <a:pt x="433206" y="1210540"/>
                </a:cubicBezTo>
                <a:cubicBezTo>
                  <a:pt x="425994" y="1239390"/>
                  <a:pt x="415294" y="1286556"/>
                  <a:pt x="403061" y="1311023"/>
                </a:cubicBezTo>
                <a:cubicBezTo>
                  <a:pt x="396362" y="1324421"/>
                  <a:pt x="390396" y="1338211"/>
                  <a:pt x="382964" y="1351217"/>
                </a:cubicBezTo>
                <a:cubicBezTo>
                  <a:pt x="376972" y="1361702"/>
                  <a:pt x="368269" y="1370560"/>
                  <a:pt x="362868" y="1381362"/>
                </a:cubicBezTo>
                <a:cubicBezTo>
                  <a:pt x="358131" y="1390836"/>
                  <a:pt x="356991" y="1401771"/>
                  <a:pt x="352819" y="1411507"/>
                </a:cubicBezTo>
                <a:cubicBezTo>
                  <a:pt x="346918" y="1425275"/>
                  <a:pt x="340155" y="1438695"/>
                  <a:pt x="332723" y="1451700"/>
                </a:cubicBezTo>
                <a:cubicBezTo>
                  <a:pt x="299580" y="1509701"/>
                  <a:pt x="327242" y="1454440"/>
                  <a:pt x="282481" y="1511990"/>
                </a:cubicBezTo>
                <a:cubicBezTo>
                  <a:pt x="267652" y="1531055"/>
                  <a:pt x="255686" y="1552183"/>
                  <a:pt x="242288" y="1572280"/>
                </a:cubicBezTo>
                <a:cubicBezTo>
                  <a:pt x="235589" y="1582328"/>
                  <a:pt x="230730" y="1593886"/>
                  <a:pt x="222191" y="1602425"/>
                </a:cubicBezTo>
                <a:cubicBezTo>
                  <a:pt x="202094" y="1622522"/>
                  <a:pt x="177666" y="1639067"/>
                  <a:pt x="161901" y="1662715"/>
                </a:cubicBezTo>
                <a:lnTo>
                  <a:pt x="121707" y="1723006"/>
                </a:lnTo>
                <a:cubicBezTo>
                  <a:pt x="86621" y="1828267"/>
                  <a:pt x="119730" y="1746564"/>
                  <a:pt x="81514" y="1813441"/>
                </a:cubicBezTo>
                <a:cubicBezTo>
                  <a:pt x="74082" y="1826446"/>
                  <a:pt x="67318" y="1839866"/>
                  <a:pt x="61417" y="1853634"/>
                </a:cubicBezTo>
                <a:cubicBezTo>
                  <a:pt x="57245" y="1863369"/>
                  <a:pt x="57244" y="1874966"/>
                  <a:pt x="51369" y="1883779"/>
                </a:cubicBezTo>
                <a:cubicBezTo>
                  <a:pt x="43486" y="1895603"/>
                  <a:pt x="31272" y="1903876"/>
                  <a:pt x="21224" y="1913924"/>
                </a:cubicBezTo>
                <a:cubicBezTo>
                  <a:pt x="0" y="1977591"/>
                  <a:pt x="8382" y="1939023"/>
                  <a:pt x="21224" y="2054601"/>
                </a:cubicBezTo>
                <a:cubicBezTo>
                  <a:pt x="35994" y="2187529"/>
                  <a:pt x="22341" y="2079170"/>
                  <a:pt x="41320" y="2155085"/>
                </a:cubicBezTo>
                <a:cubicBezTo>
                  <a:pt x="50754" y="2192819"/>
                  <a:pt x="47639" y="2203322"/>
                  <a:pt x="61417" y="2235472"/>
                </a:cubicBezTo>
                <a:cubicBezTo>
                  <a:pt x="87443" y="2296201"/>
                  <a:pt x="72779" y="2255354"/>
                  <a:pt x="101611" y="2305810"/>
                </a:cubicBezTo>
                <a:cubicBezTo>
                  <a:pt x="131020" y="2357276"/>
                  <a:pt x="110681" y="2338163"/>
                  <a:pt x="151852" y="2386197"/>
                </a:cubicBezTo>
                <a:cubicBezTo>
                  <a:pt x="161100" y="2396986"/>
                  <a:pt x="172900" y="2405425"/>
                  <a:pt x="181997" y="2416342"/>
                </a:cubicBezTo>
                <a:cubicBezTo>
                  <a:pt x="251945" y="2500280"/>
                  <a:pt x="144170" y="2388563"/>
                  <a:pt x="232239" y="2476632"/>
                </a:cubicBezTo>
                <a:cubicBezTo>
                  <a:pt x="244875" y="2514538"/>
                  <a:pt x="247931" y="2532517"/>
                  <a:pt x="282481" y="2567067"/>
                </a:cubicBezTo>
                <a:cubicBezTo>
                  <a:pt x="292529" y="2577115"/>
                  <a:pt x="304366" y="2585648"/>
                  <a:pt x="312626" y="2597212"/>
                </a:cubicBezTo>
                <a:cubicBezTo>
                  <a:pt x="321333" y="2609401"/>
                  <a:pt x="323735" y="2625422"/>
                  <a:pt x="332723" y="2637406"/>
                </a:cubicBezTo>
                <a:cubicBezTo>
                  <a:pt x="344091" y="2652564"/>
                  <a:pt x="360585" y="2663213"/>
                  <a:pt x="372916" y="2677599"/>
                </a:cubicBezTo>
                <a:cubicBezTo>
                  <a:pt x="380775" y="2686768"/>
                  <a:pt x="385282" y="2698466"/>
                  <a:pt x="393013" y="2707744"/>
                </a:cubicBezTo>
                <a:cubicBezTo>
                  <a:pt x="457488" y="2785113"/>
                  <a:pt x="393358" y="2693190"/>
                  <a:pt x="443255" y="2768034"/>
                </a:cubicBezTo>
                <a:cubicBezTo>
                  <a:pt x="446604" y="2778082"/>
                  <a:pt x="448159" y="2788920"/>
                  <a:pt x="453303" y="2798179"/>
                </a:cubicBezTo>
                <a:cubicBezTo>
                  <a:pt x="478441" y="2843428"/>
                  <a:pt x="490975" y="2850917"/>
                  <a:pt x="513593" y="2888614"/>
                </a:cubicBezTo>
                <a:cubicBezTo>
                  <a:pt x="549951" y="2949212"/>
                  <a:pt x="532904" y="2922606"/>
                  <a:pt x="563835" y="2969001"/>
                </a:cubicBezTo>
                <a:cubicBezTo>
                  <a:pt x="578037" y="3040015"/>
                  <a:pt x="568482" y="3003040"/>
                  <a:pt x="593980" y="3079533"/>
                </a:cubicBezTo>
                <a:lnTo>
                  <a:pt x="593980" y="3079533"/>
                </a:lnTo>
                <a:cubicBezTo>
                  <a:pt x="597329" y="3092931"/>
                  <a:pt x="598588" y="3107033"/>
                  <a:pt x="604028" y="3119726"/>
                </a:cubicBezTo>
                <a:cubicBezTo>
                  <a:pt x="608785" y="3130826"/>
                  <a:pt x="617426" y="3139823"/>
                  <a:pt x="624125" y="3149872"/>
                </a:cubicBezTo>
                <a:cubicBezTo>
                  <a:pt x="634521" y="3181060"/>
                  <a:pt x="635643" y="3189166"/>
                  <a:pt x="654270" y="3220210"/>
                </a:cubicBezTo>
                <a:cubicBezTo>
                  <a:pt x="666697" y="3240921"/>
                  <a:pt x="681065" y="3260403"/>
                  <a:pt x="694463" y="3280500"/>
                </a:cubicBezTo>
                <a:lnTo>
                  <a:pt x="714560" y="3310645"/>
                </a:lnTo>
                <a:cubicBezTo>
                  <a:pt x="721259" y="3320693"/>
                  <a:pt x="724609" y="3334091"/>
                  <a:pt x="734657" y="3340790"/>
                </a:cubicBezTo>
                <a:lnTo>
                  <a:pt x="764802" y="3360887"/>
                </a:lnTo>
                <a:cubicBezTo>
                  <a:pt x="778200" y="3380984"/>
                  <a:pt x="787916" y="3404098"/>
                  <a:pt x="804995" y="3421177"/>
                </a:cubicBezTo>
                <a:cubicBezTo>
                  <a:pt x="825092" y="3441274"/>
                  <a:pt x="849520" y="3457819"/>
                  <a:pt x="865285" y="3481467"/>
                </a:cubicBezTo>
                <a:cubicBezTo>
                  <a:pt x="913362" y="3553581"/>
                  <a:pt x="888400" y="3524678"/>
                  <a:pt x="935624" y="3571902"/>
                </a:cubicBezTo>
                <a:cubicBezTo>
                  <a:pt x="954815" y="3629478"/>
                  <a:pt x="931115" y="3577441"/>
                  <a:pt x="985866" y="3632192"/>
                </a:cubicBezTo>
                <a:cubicBezTo>
                  <a:pt x="994405" y="3640731"/>
                  <a:pt x="998231" y="3653059"/>
                  <a:pt x="1005962" y="3662337"/>
                </a:cubicBezTo>
                <a:cubicBezTo>
                  <a:pt x="1015059" y="3673254"/>
                  <a:pt x="1027010" y="3681566"/>
                  <a:pt x="1036107" y="3692483"/>
                </a:cubicBezTo>
                <a:cubicBezTo>
                  <a:pt x="1043838" y="3701761"/>
                  <a:pt x="1048181" y="3713602"/>
                  <a:pt x="1056204" y="3722628"/>
                </a:cubicBezTo>
                <a:cubicBezTo>
                  <a:pt x="1104294" y="3776728"/>
                  <a:pt x="1107925" y="3776491"/>
                  <a:pt x="1156688" y="3813063"/>
                </a:cubicBezTo>
                <a:cubicBezTo>
                  <a:pt x="1193820" y="3868763"/>
                  <a:pt x="1155538" y="3824705"/>
                  <a:pt x="1206929" y="3853256"/>
                </a:cubicBezTo>
                <a:cubicBezTo>
                  <a:pt x="1228043" y="3864986"/>
                  <a:pt x="1247122" y="3880052"/>
                  <a:pt x="1267219" y="3893450"/>
                </a:cubicBezTo>
                <a:lnTo>
                  <a:pt x="1297364" y="3913546"/>
                </a:lnTo>
                <a:cubicBezTo>
                  <a:pt x="1307412" y="3920245"/>
                  <a:pt x="1316707" y="3928242"/>
                  <a:pt x="1327509" y="3933643"/>
                </a:cubicBezTo>
                <a:cubicBezTo>
                  <a:pt x="1366756" y="3953266"/>
                  <a:pt x="1364711" y="3950167"/>
                  <a:pt x="1397848" y="3973836"/>
                </a:cubicBezTo>
                <a:cubicBezTo>
                  <a:pt x="1411476" y="3983570"/>
                  <a:pt x="1426199" y="3992139"/>
                  <a:pt x="1438041" y="4003981"/>
                </a:cubicBezTo>
                <a:cubicBezTo>
                  <a:pt x="1446580" y="4012520"/>
                  <a:pt x="1451439" y="4024078"/>
                  <a:pt x="1458138" y="4034126"/>
                </a:cubicBezTo>
                <a:cubicBezTo>
                  <a:pt x="1572533" y="4015061"/>
                  <a:pt x="1525667" y="4043410"/>
                  <a:pt x="1508380" y="3853256"/>
                </a:cubicBezTo>
                <a:cubicBezTo>
                  <a:pt x="1502186" y="3785124"/>
                  <a:pt x="1500053" y="3823871"/>
                  <a:pt x="1488283" y="3772869"/>
                </a:cubicBezTo>
                <a:cubicBezTo>
                  <a:pt x="1451911" y="3615257"/>
                  <a:pt x="1486504" y="3727338"/>
                  <a:pt x="1448090" y="3612096"/>
                </a:cubicBezTo>
                <a:cubicBezTo>
                  <a:pt x="1444741" y="3602048"/>
                  <a:pt x="1443916" y="3590764"/>
                  <a:pt x="1438041" y="3581951"/>
                </a:cubicBezTo>
                <a:cubicBezTo>
                  <a:pt x="1417859" y="3551678"/>
                  <a:pt x="1413146" y="3547307"/>
                  <a:pt x="1397848" y="3511612"/>
                </a:cubicBezTo>
                <a:cubicBezTo>
                  <a:pt x="1372887" y="3453369"/>
                  <a:pt x="1406325" y="3509254"/>
                  <a:pt x="1367703" y="3451322"/>
                </a:cubicBezTo>
                <a:cubicBezTo>
                  <a:pt x="1364354" y="3441274"/>
                  <a:pt x="1361827" y="3430912"/>
                  <a:pt x="1357655" y="3421177"/>
                </a:cubicBezTo>
                <a:cubicBezTo>
                  <a:pt x="1351754" y="3407409"/>
                  <a:pt x="1338057" y="3395955"/>
                  <a:pt x="1337558" y="3380984"/>
                </a:cubicBezTo>
                <a:cubicBezTo>
                  <a:pt x="1329424" y="3136980"/>
                  <a:pt x="1334205" y="3198458"/>
                  <a:pt x="1357655" y="3069485"/>
                </a:cubicBezTo>
                <a:cubicBezTo>
                  <a:pt x="1361300" y="3049440"/>
                  <a:pt x="1359867" y="3028002"/>
                  <a:pt x="1367703" y="3009195"/>
                </a:cubicBezTo>
                <a:cubicBezTo>
                  <a:pt x="1376993" y="2986899"/>
                  <a:pt x="1394498" y="2969001"/>
                  <a:pt x="1407896" y="2948904"/>
                </a:cubicBezTo>
                <a:cubicBezTo>
                  <a:pt x="1444739" y="2893639"/>
                  <a:pt x="1407898" y="2940529"/>
                  <a:pt x="1458138" y="2898663"/>
                </a:cubicBezTo>
                <a:cubicBezTo>
                  <a:pt x="1469055" y="2889566"/>
                  <a:pt x="1477066" y="2877242"/>
                  <a:pt x="1488283" y="2868518"/>
                </a:cubicBezTo>
                <a:cubicBezTo>
                  <a:pt x="1578755" y="2798150"/>
                  <a:pt x="1518409" y="2853459"/>
                  <a:pt x="1578718" y="2808228"/>
                </a:cubicBezTo>
                <a:cubicBezTo>
                  <a:pt x="1587818" y="2801403"/>
                  <a:pt x="1634366" y="2765332"/>
                  <a:pt x="1649057" y="2757986"/>
                </a:cubicBezTo>
                <a:cubicBezTo>
                  <a:pt x="1658531" y="2753249"/>
                  <a:pt x="1669728" y="2752674"/>
                  <a:pt x="1679202" y="2747937"/>
                </a:cubicBezTo>
                <a:cubicBezTo>
                  <a:pt x="1757118" y="2708979"/>
                  <a:pt x="1663721" y="2743051"/>
                  <a:pt x="1739492" y="2717792"/>
                </a:cubicBezTo>
                <a:cubicBezTo>
                  <a:pt x="1767204" y="2690080"/>
                  <a:pt x="1767137" y="2686205"/>
                  <a:pt x="1799782" y="2667551"/>
                </a:cubicBezTo>
                <a:cubicBezTo>
                  <a:pt x="1812788" y="2660119"/>
                  <a:pt x="1827512" y="2655763"/>
                  <a:pt x="1839975" y="2647454"/>
                </a:cubicBezTo>
                <a:cubicBezTo>
                  <a:pt x="1857820" y="2635557"/>
                  <a:pt x="1872872" y="2619875"/>
                  <a:pt x="1890217" y="2607261"/>
                </a:cubicBezTo>
                <a:cubicBezTo>
                  <a:pt x="1909751" y="2593055"/>
                  <a:pt x="1933428" y="2584146"/>
                  <a:pt x="1950507" y="2567067"/>
                </a:cubicBezTo>
                <a:cubicBezTo>
                  <a:pt x="1960555" y="2557019"/>
                  <a:pt x="1971404" y="2547711"/>
                  <a:pt x="1980652" y="2536922"/>
                </a:cubicBezTo>
                <a:cubicBezTo>
                  <a:pt x="1991551" y="2524207"/>
                  <a:pt x="1998955" y="2508571"/>
                  <a:pt x="2010797" y="2496729"/>
                </a:cubicBezTo>
                <a:cubicBezTo>
                  <a:pt x="2025001" y="2482525"/>
                  <a:pt x="2065372" y="2464417"/>
                  <a:pt x="2081136" y="2456535"/>
                </a:cubicBezTo>
                <a:cubicBezTo>
                  <a:pt x="2097883" y="2463234"/>
                  <a:pt x="2119500" y="2463057"/>
                  <a:pt x="2131378" y="2476632"/>
                </a:cubicBezTo>
                <a:cubicBezTo>
                  <a:pt x="2139938" y="2486414"/>
                  <a:pt x="2156704" y="2557839"/>
                  <a:pt x="2161523" y="2577115"/>
                </a:cubicBezTo>
                <a:cubicBezTo>
                  <a:pt x="2164872" y="2717792"/>
                  <a:pt x="2165947" y="2858542"/>
                  <a:pt x="2171571" y="2999146"/>
                </a:cubicBezTo>
                <a:cubicBezTo>
                  <a:pt x="2173305" y="3042490"/>
                  <a:pt x="2171028" y="3078990"/>
                  <a:pt x="2201716" y="3109678"/>
                </a:cubicBezTo>
                <a:cubicBezTo>
                  <a:pt x="2210255" y="3118217"/>
                  <a:pt x="2221059" y="3124374"/>
                  <a:pt x="2231861" y="3129775"/>
                </a:cubicBezTo>
                <a:cubicBezTo>
                  <a:pt x="2241335" y="3134512"/>
                  <a:pt x="2251958" y="3136474"/>
                  <a:pt x="2262006" y="3139823"/>
                </a:cubicBezTo>
                <a:cubicBezTo>
                  <a:pt x="2272054" y="3146522"/>
                  <a:pt x="2281349" y="3154519"/>
                  <a:pt x="2292151" y="3159920"/>
                </a:cubicBezTo>
                <a:cubicBezTo>
                  <a:pt x="2301625" y="3164657"/>
                  <a:pt x="2312561" y="3165796"/>
                  <a:pt x="2322296" y="3169968"/>
                </a:cubicBezTo>
                <a:cubicBezTo>
                  <a:pt x="2336064" y="3175869"/>
                  <a:pt x="2349484" y="3182633"/>
                  <a:pt x="2362490" y="3190065"/>
                </a:cubicBezTo>
                <a:cubicBezTo>
                  <a:pt x="2417031" y="3221232"/>
                  <a:pt x="2367511" y="3201788"/>
                  <a:pt x="2422780" y="3220210"/>
                </a:cubicBezTo>
                <a:cubicBezTo>
                  <a:pt x="2429479" y="3230258"/>
                  <a:pt x="2433788" y="3242403"/>
                  <a:pt x="2442877" y="3250355"/>
                </a:cubicBezTo>
                <a:cubicBezTo>
                  <a:pt x="2485401" y="3287563"/>
                  <a:pt x="2491909" y="3286795"/>
                  <a:pt x="2533312" y="3300597"/>
                </a:cubicBezTo>
                <a:cubicBezTo>
                  <a:pt x="2505810" y="3218098"/>
                  <a:pt x="2547299" y="3349125"/>
                  <a:pt x="2513215" y="3190065"/>
                </a:cubicBezTo>
                <a:cubicBezTo>
                  <a:pt x="2508776" y="3169351"/>
                  <a:pt x="2499817" y="3149872"/>
                  <a:pt x="2493118" y="3129775"/>
                </a:cubicBezTo>
                <a:lnTo>
                  <a:pt x="2473022" y="3069485"/>
                </a:lnTo>
                <a:cubicBezTo>
                  <a:pt x="2469672" y="3059437"/>
                  <a:pt x="2465050" y="3049726"/>
                  <a:pt x="2462973" y="3039340"/>
                </a:cubicBezTo>
                <a:lnTo>
                  <a:pt x="2452925" y="2989098"/>
                </a:lnTo>
                <a:cubicBezTo>
                  <a:pt x="2456274" y="2868518"/>
                  <a:pt x="2454379" y="2747677"/>
                  <a:pt x="2462973" y="2627357"/>
                </a:cubicBezTo>
                <a:cubicBezTo>
                  <a:pt x="2464482" y="2606227"/>
                  <a:pt x="2476371" y="2587164"/>
                  <a:pt x="2483070" y="2567067"/>
                </a:cubicBezTo>
                <a:cubicBezTo>
                  <a:pt x="2486419" y="2557019"/>
                  <a:pt x="2485628" y="2544412"/>
                  <a:pt x="2493118" y="2536922"/>
                </a:cubicBezTo>
                <a:cubicBezTo>
                  <a:pt x="2531802" y="2498238"/>
                  <a:pt x="2511439" y="2514660"/>
                  <a:pt x="2553408" y="2486680"/>
                </a:cubicBezTo>
                <a:cubicBezTo>
                  <a:pt x="2561289" y="2470918"/>
                  <a:pt x="2579399" y="2430545"/>
                  <a:pt x="2593602" y="2416342"/>
                </a:cubicBezTo>
                <a:cubicBezTo>
                  <a:pt x="2602141" y="2407803"/>
                  <a:pt x="2613699" y="2402944"/>
                  <a:pt x="2623747" y="2396245"/>
                </a:cubicBezTo>
                <a:cubicBezTo>
                  <a:pt x="2627096" y="2386197"/>
                  <a:pt x="2629058" y="2375574"/>
                  <a:pt x="2633795" y="2366100"/>
                </a:cubicBezTo>
                <a:cubicBezTo>
                  <a:pt x="2639196" y="2355298"/>
                  <a:pt x="2649135" y="2347055"/>
                  <a:pt x="2653892" y="2335955"/>
                </a:cubicBezTo>
                <a:cubicBezTo>
                  <a:pt x="2673220" y="2290857"/>
                  <a:pt x="2654425" y="2304744"/>
                  <a:pt x="2673989" y="2265617"/>
                </a:cubicBezTo>
                <a:cubicBezTo>
                  <a:pt x="2679390" y="2254815"/>
                  <a:pt x="2687386" y="2245520"/>
                  <a:pt x="2694085" y="2235472"/>
                </a:cubicBezTo>
                <a:cubicBezTo>
                  <a:pt x="2709270" y="2174733"/>
                  <a:pt x="2699769" y="2208370"/>
                  <a:pt x="2724230" y="2134988"/>
                </a:cubicBezTo>
                <a:cubicBezTo>
                  <a:pt x="2727579" y="2124940"/>
                  <a:pt x="2729542" y="2114317"/>
                  <a:pt x="2734279" y="2104843"/>
                </a:cubicBezTo>
                <a:cubicBezTo>
                  <a:pt x="2759112" y="2055176"/>
                  <a:pt x="2749638" y="2078860"/>
                  <a:pt x="2764424" y="2034504"/>
                </a:cubicBezTo>
                <a:cubicBezTo>
                  <a:pt x="2767773" y="2011058"/>
                  <a:pt x="2769827" y="1987390"/>
                  <a:pt x="2774472" y="1964166"/>
                </a:cubicBezTo>
                <a:cubicBezTo>
                  <a:pt x="2776549" y="1953780"/>
                  <a:pt x="2782222" y="1944361"/>
                  <a:pt x="2784520" y="1934021"/>
                </a:cubicBezTo>
                <a:cubicBezTo>
                  <a:pt x="2788940" y="1914132"/>
                  <a:pt x="2790573" y="1893709"/>
                  <a:pt x="2794569" y="1873731"/>
                </a:cubicBezTo>
                <a:cubicBezTo>
                  <a:pt x="2797277" y="1860189"/>
                  <a:pt x="2801621" y="1847018"/>
                  <a:pt x="2804617" y="1833537"/>
                </a:cubicBezTo>
                <a:cubicBezTo>
                  <a:pt x="2808322" y="1816865"/>
                  <a:pt x="2811316" y="1800043"/>
                  <a:pt x="2814666" y="1783296"/>
                </a:cubicBezTo>
                <a:cubicBezTo>
                  <a:pt x="2811316" y="1719656"/>
                  <a:pt x="2820073" y="1654202"/>
                  <a:pt x="2804617" y="1592377"/>
                </a:cubicBezTo>
                <a:cubicBezTo>
                  <a:pt x="2801170" y="1578591"/>
                  <a:pt x="2783196" y="1611305"/>
                  <a:pt x="2774472" y="1622522"/>
                </a:cubicBezTo>
                <a:cubicBezTo>
                  <a:pt x="2759643" y="1641587"/>
                  <a:pt x="2751358" y="1665733"/>
                  <a:pt x="2734279" y="1682812"/>
                </a:cubicBezTo>
                <a:cubicBezTo>
                  <a:pt x="2714182" y="1702909"/>
                  <a:pt x="2689754" y="1719454"/>
                  <a:pt x="2673989" y="1743102"/>
                </a:cubicBezTo>
                <a:cubicBezTo>
                  <a:pt x="2667290" y="1753150"/>
                  <a:pt x="2664133" y="1766846"/>
                  <a:pt x="2653892" y="1773247"/>
                </a:cubicBezTo>
                <a:cubicBezTo>
                  <a:pt x="2635928" y="1784474"/>
                  <a:pt x="2613699" y="1786645"/>
                  <a:pt x="2593602" y="1793344"/>
                </a:cubicBezTo>
                <a:cubicBezTo>
                  <a:pt x="2499830" y="1824601"/>
                  <a:pt x="2574012" y="1802864"/>
                  <a:pt x="2362490" y="1813441"/>
                </a:cubicBezTo>
                <a:cubicBezTo>
                  <a:pt x="2305549" y="1810091"/>
                  <a:pt x="2248424" y="1809068"/>
                  <a:pt x="2191668" y="1803392"/>
                </a:cubicBezTo>
                <a:cubicBezTo>
                  <a:pt x="2181129" y="1802338"/>
                  <a:pt x="2171707" y="1796254"/>
                  <a:pt x="2161523" y="1793344"/>
                </a:cubicBezTo>
                <a:cubicBezTo>
                  <a:pt x="2073228" y="1768118"/>
                  <a:pt x="2163441" y="1797334"/>
                  <a:pt x="2091184" y="1773247"/>
                </a:cubicBezTo>
                <a:cubicBezTo>
                  <a:pt x="2043959" y="1726022"/>
                  <a:pt x="2072864" y="1750986"/>
                  <a:pt x="2000749" y="1702909"/>
                </a:cubicBezTo>
                <a:lnTo>
                  <a:pt x="1970604" y="1682812"/>
                </a:lnTo>
                <a:cubicBezTo>
                  <a:pt x="1869024" y="1530441"/>
                  <a:pt x="1978969" y="1686820"/>
                  <a:pt x="1900266" y="1592377"/>
                </a:cubicBezTo>
                <a:cubicBezTo>
                  <a:pt x="1852801" y="1535420"/>
                  <a:pt x="1909209" y="1590831"/>
                  <a:pt x="1860072" y="1522039"/>
                </a:cubicBezTo>
                <a:cubicBezTo>
                  <a:pt x="1800700" y="1438919"/>
                  <a:pt x="1855390" y="1541479"/>
                  <a:pt x="1809830" y="1461748"/>
                </a:cubicBezTo>
                <a:cubicBezTo>
                  <a:pt x="1802398" y="1448743"/>
                  <a:pt x="1797166" y="1434560"/>
                  <a:pt x="1789734" y="1421555"/>
                </a:cubicBezTo>
                <a:cubicBezTo>
                  <a:pt x="1760376" y="1370179"/>
                  <a:pt x="1756786" y="1393043"/>
                  <a:pt x="1729444" y="1311023"/>
                </a:cubicBezTo>
                <a:cubicBezTo>
                  <a:pt x="1726094" y="1300975"/>
                  <a:pt x="1724132" y="1290352"/>
                  <a:pt x="1719395" y="1280878"/>
                </a:cubicBezTo>
                <a:cubicBezTo>
                  <a:pt x="1690245" y="1222578"/>
                  <a:pt x="1705625" y="1280998"/>
                  <a:pt x="1679202" y="1210540"/>
                </a:cubicBezTo>
                <a:cubicBezTo>
                  <a:pt x="1674353" y="1197609"/>
                  <a:pt x="1672947" y="1183625"/>
                  <a:pt x="1669153" y="1170346"/>
                </a:cubicBezTo>
                <a:cubicBezTo>
                  <a:pt x="1666243" y="1160162"/>
                  <a:pt x="1661674" y="1150477"/>
                  <a:pt x="1659105" y="1140201"/>
                </a:cubicBezTo>
                <a:lnTo>
                  <a:pt x="1639008" y="1059814"/>
                </a:lnTo>
                <a:cubicBezTo>
                  <a:pt x="1635535" y="1038977"/>
                  <a:pt x="1627906" y="983314"/>
                  <a:pt x="1618912" y="959331"/>
                </a:cubicBezTo>
                <a:cubicBezTo>
                  <a:pt x="1613652" y="945305"/>
                  <a:pt x="1604716" y="932905"/>
                  <a:pt x="1598815" y="919137"/>
                </a:cubicBezTo>
                <a:cubicBezTo>
                  <a:pt x="1594643" y="909402"/>
                  <a:pt x="1593150" y="898634"/>
                  <a:pt x="1588767" y="888992"/>
                </a:cubicBezTo>
                <a:cubicBezTo>
                  <a:pt x="1576370" y="861719"/>
                  <a:pt x="1558046" y="837027"/>
                  <a:pt x="1548573" y="808606"/>
                </a:cubicBezTo>
                <a:cubicBezTo>
                  <a:pt x="1541874" y="788509"/>
                  <a:pt x="1532632" y="769088"/>
                  <a:pt x="1528477" y="748315"/>
                </a:cubicBezTo>
                <a:cubicBezTo>
                  <a:pt x="1525127" y="731568"/>
                  <a:pt x="1521483" y="714877"/>
                  <a:pt x="1518428" y="698074"/>
                </a:cubicBezTo>
                <a:cubicBezTo>
                  <a:pt x="1514783" y="678029"/>
                  <a:pt x="1512800" y="657673"/>
                  <a:pt x="1508380" y="637784"/>
                </a:cubicBezTo>
                <a:cubicBezTo>
                  <a:pt x="1506082" y="627444"/>
                  <a:pt x="1501681" y="617687"/>
                  <a:pt x="1498331" y="607639"/>
                </a:cubicBezTo>
                <a:cubicBezTo>
                  <a:pt x="1498556" y="601577"/>
                  <a:pt x="1461042" y="334398"/>
                  <a:pt x="1548573" y="276043"/>
                </a:cubicBezTo>
                <a:lnTo>
                  <a:pt x="1578718" y="255946"/>
                </a:lnTo>
                <a:cubicBezTo>
                  <a:pt x="1632310" y="175559"/>
                  <a:pt x="1561971" y="272693"/>
                  <a:pt x="1628960" y="205704"/>
                </a:cubicBezTo>
                <a:cubicBezTo>
                  <a:pt x="1695945" y="138719"/>
                  <a:pt x="1598820" y="209049"/>
                  <a:pt x="1679202" y="155463"/>
                </a:cubicBezTo>
                <a:cubicBezTo>
                  <a:pt x="1685901" y="145415"/>
                  <a:pt x="1691276" y="134344"/>
                  <a:pt x="1699299" y="125318"/>
                </a:cubicBezTo>
                <a:cubicBezTo>
                  <a:pt x="1718181" y="104076"/>
                  <a:pt x="1743824" y="88676"/>
                  <a:pt x="1759589" y="65028"/>
                </a:cubicBezTo>
                <a:cubicBezTo>
                  <a:pt x="1772987" y="44931"/>
                  <a:pt x="1823466" y="0"/>
                  <a:pt x="1799782" y="4737"/>
                </a:cubicBezTo>
                <a:cubicBezTo>
                  <a:pt x="1783035" y="8087"/>
                  <a:pt x="1766017" y="10292"/>
                  <a:pt x="1749540" y="14786"/>
                </a:cubicBezTo>
                <a:cubicBezTo>
                  <a:pt x="1729103" y="20360"/>
                  <a:pt x="1710071" y="30979"/>
                  <a:pt x="1689250" y="34883"/>
                </a:cubicBezTo>
                <a:cubicBezTo>
                  <a:pt x="1635659" y="44931"/>
                  <a:pt x="1580204" y="47787"/>
                  <a:pt x="1528477" y="65028"/>
                </a:cubicBezTo>
                <a:cubicBezTo>
                  <a:pt x="1479003" y="81518"/>
                  <a:pt x="1508779" y="73335"/>
                  <a:pt x="1438041" y="85124"/>
                </a:cubicBezTo>
                <a:cubicBezTo>
                  <a:pt x="1427993" y="88474"/>
                  <a:pt x="1418172" y="92604"/>
                  <a:pt x="1407896" y="95173"/>
                </a:cubicBezTo>
                <a:lnTo>
                  <a:pt x="1327509" y="115269"/>
                </a:lnTo>
                <a:cubicBezTo>
                  <a:pt x="1307412" y="128667"/>
                  <a:pt x="1284298" y="138384"/>
                  <a:pt x="1267219" y="155463"/>
                </a:cubicBezTo>
                <a:cubicBezTo>
                  <a:pt x="1248287" y="174395"/>
                  <a:pt x="1232112" y="194512"/>
                  <a:pt x="1206929" y="205704"/>
                </a:cubicBezTo>
                <a:cubicBezTo>
                  <a:pt x="1187571" y="214307"/>
                  <a:pt x="1166736" y="219102"/>
                  <a:pt x="1146639" y="225801"/>
                </a:cubicBezTo>
                <a:lnTo>
                  <a:pt x="1116494" y="235850"/>
                </a:lnTo>
                <a:cubicBezTo>
                  <a:pt x="1028424" y="323920"/>
                  <a:pt x="1140142" y="216144"/>
                  <a:pt x="1056204" y="286091"/>
                </a:cubicBezTo>
                <a:cubicBezTo>
                  <a:pt x="1008169" y="326120"/>
                  <a:pt x="1041888" y="303270"/>
                  <a:pt x="1005962" y="346381"/>
                </a:cubicBezTo>
                <a:cubicBezTo>
                  <a:pt x="996865" y="357298"/>
                  <a:pt x="985865" y="366478"/>
                  <a:pt x="975817" y="376526"/>
                </a:cubicBezTo>
                <a:cubicBezTo>
                  <a:pt x="972468" y="386575"/>
                  <a:pt x="958279" y="399182"/>
                  <a:pt x="965769" y="406672"/>
                </a:cubicBezTo>
                <a:cubicBezTo>
                  <a:pt x="973259" y="414162"/>
                  <a:pt x="995914" y="396623"/>
                  <a:pt x="995914" y="396623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Полилиния 32"/>
          <p:cNvGrpSpPr/>
          <p:nvPr/>
        </p:nvGrpSpPr>
        <p:grpSpPr>
          <a:xfrm>
            <a:off x="5114880" y="1335240"/>
            <a:ext cx="2621160" cy="2408040"/>
            <a:chOff x="5114880" y="1335240"/>
            <a:chExt cx="2621160" cy="2408040"/>
          </a:xfrm>
        </p:grpSpPr>
        <p:pic>
          <p:nvPicPr>
            <p:cNvPr id="81" name="Полилиния 32" descr=""/>
            <p:cNvPicPr/>
            <p:nvPr/>
          </p:nvPicPr>
          <p:blipFill>
            <a:blip r:embed="rId8"/>
            <a:stretch/>
          </p:blipFill>
          <p:spPr>
            <a:xfrm>
              <a:off x="5114880" y="1335240"/>
              <a:ext cx="262116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357880" y="1571760"/>
              <a:ext cx="2151000" cy="19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Полилиния 33"/>
          <p:cNvSpPr/>
          <p:nvPr/>
        </p:nvSpPr>
        <p:spPr>
          <a:xfrm>
            <a:off x="5275440" y="2600280"/>
            <a:ext cx="258480" cy="345960"/>
          </a:xfrm>
          <a:custGeom>
            <a:avLst/>
            <a:gdLst/>
            <a:ahLst/>
            <a:rect l="l" t="t" r="r" b="b"/>
            <a:pathLst>
              <a:path w="259324" h="345998">
                <a:moveTo>
                  <a:pt x="80386" y="1675"/>
                </a:moveTo>
                <a:cubicBezTo>
                  <a:pt x="66988" y="3350"/>
                  <a:pt x="30348" y="15416"/>
                  <a:pt x="20096" y="31820"/>
                </a:cubicBezTo>
                <a:cubicBezTo>
                  <a:pt x="8869" y="49784"/>
                  <a:pt x="0" y="92110"/>
                  <a:pt x="0" y="92110"/>
                </a:cubicBezTo>
                <a:cubicBezTo>
                  <a:pt x="6699" y="102158"/>
                  <a:pt x="10666" y="114711"/>
                  <a:pt x="20096" y="122255"/>
                </a:cubicBezTo>
                <a:cubicBezTo>
                  <a:pt x="30397" y="130496"/>
                  <a:pt x="97977" y="141851"/>
                  <a:pt x="100483" y="142352"/>
                </a:cubicBezTo>
                <a:cubicBezTo>
                  <a:pt x="110531" y="152400"/>
                  <a:pt x="126724" y="158833"/>
                  <a:pt x="130628" y="172497"/>
                </a:cubicBezTo>
                <a:cubicBezTo>
                  <a:pt x="137117" y="195207"/>
                  <a:pt x="111217" y="226734"/>
                  <a:pt x="100483" y="242836"/>
                </a:cubicBezTo>
                <a:cubicBezTo>
                  <a:pt x="97134" y="252884"/>
                  <a:pt x="88694" y="262533"/>
                  <a:pt x="90435" y="272981"/>
                </a:cubicBezTo>
                <a:cubicBezTo>
                  <a:pt x="92420" y="284893"/>
                  <a:pt x="105130" y="292324"/>
                  <a:pt x="110531" y="303126"/>
                </a:cubicBezTo>
                <a:cubicBezTo>
                  <a:pt x="131967" y="345998"/>
                  <a:pt x="102494" y="327243"/>
                  <a:pt x="150725" y="343319"/>
                </a:cubicBezTo>
                <a:cubicBezTo>
                  <a:pt x="160773" y="339970"/>
                  <a:pt x="173380" y="340761"/>
                  <a:pt x="180870" y="333271"/>
                </a:cubicBezTo>
                <a:cubicBezTo>
                  <a:pt x="215420" y="298721"/>
                  <a:pt x="218476" y="280742"/>
                  <a:pt x="231112" y="242836"/>
                </a:cubicBezTo>
                <a:cubicBezTo>
                  <a:pt x="223532" y="136717"/>
                  <a:pt x="259324" y="116265"/>
                  <a:pt x="190918" y="82062"/>
                </a:cubicBezTo>
                <a:cubicBezTo>
                  <a:pt x="181444" y="77325"/>
                  <a:pt x="170821" y="75363"/>
                  <a:pt x="160773" y="72014"/>
                </a:cubicBezTo>
                <a:cubicBezTo>
                  <a:pt x="150725" y="65315"/>
                  <a:pt x="139906" y="59648"/>
                  <a:pt x="130628" y="51917"/>
                </a:cubicBezTo>
                <a:cubicBezTo>
                  <a:pt x="119711" y="42820"/>
                  <a:pt x="112047" y="30032"/>
                  <a:pt x="100483" y="21772"/>
                </a:cubicBezTo>
                <a:cubicBezTo>
                  <a:pt x="88294" y="13065"/>
                  <a:pt x="93784" y="0"/>
                  <a:pt x="80386" y="1675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34"/>
          <p:cNvSpPr/>
          <p:nvPr/>
        </p:nvSpPr>
        <p:spPr>
          <a:xfrm>
            <a:off x="5715000" y="2143080"/>
            <a:ext cx="285840" cy="285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35"/>
          <p:cNvSpPr/>
          <p:nvPr/>
        </p:nvSpPr>
        <p:spPr>
          <a:xfrm>
            <a:off x="5715000" y="2214720"/>
            <a:ext cx="14292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лилиния 36"/>
          <p:cNvSpPr/>
          <p:nvPr/>
        </p:nvSpPr>
        <p:spPr>
          <a:xfrm>
            <a:off x="5778360" y="1849320"/>
            <a:ext cx="544680" cy="1478160"/>
          </a:xfrm>
          <a:custGeom>
            <a:avLst/>
            <a:gdLst/>
            <a:ahLst/>
            <a:rect l="l" t="t" r="r" b="b"/>
            <a:pathLst>
              <a:path w="545856" h="1478848">
                <a:moveTo>
                  <a:pt x="10049" y="70338"/>
                </a:moveTo>
                <a:cubicBezTo>
                  <a:pt x="16748" y="73688"/>
                  <a:pt x="77447" y="74184"/>
                  <a:pt x="110532" y="80387"/>
                </a:cubicBezTo>
                <a:cubicBezTo>
                  <a:pt x="131353" y="84291"/>
                  <a:pt x="170822" y="100483"/>
                  <a:pt x="170822" y="100483"/>
                </a:cubicBezTo>
                <a:cubicBezTo>
                  <a:pt x="180870" y="107182"/>
                  <a:pt x="192428" y="112041"/>
                  <a:pt x="200967" y="120580"/>
                </a:cubicBezTo>
                <a:cubicBezTo>
                  <a:pt x="217288" y="136901"/>
                  <a:pt x="230653" y="172529"/>
                  <a:pt x="241161" y="190918"/>
                </a:cubicBezTo>
                <a:cubicBezTo>
                  <a:pt x="247153" y="201403"/>
                  <a:pt x="255856" y="210261"/>
                  <a:pt x="261257" y="221063"/>
                </a:cubicBezTo>
                <a:cubicBezTo>
                  <a:pt x="265994" y="230537"/>
                  <a:pt x="266569" y="241734"/>
                  <a:pt x="271306" y="251208"/>
                </a:cubicBezTo>
                <a:cubicBezTo>
                  <a:pt x="276707" y="262010"/>
                  <a:pt x="286497" y="270318"/>
                  <a:pt x="291402" y="281354"/>
                </a:cubicBezTo>
                <a:cubicBezTo>
                  <a:pt x="300005" y="300712"/>
                  <a:pt x="311499" y="341644"/>
                  <a:pt x="311499" y="341644"/>
                </a:cubicBezTo>
                <a:cubicBezTo>
                  <a:pt x="312710" y="356171"/>
                  <a:pt x="315183" y="464121"/>
                  <a:pt x="331596" y="502417"/>
                </a:cubicBezTo>
                <a:cubicBezTo>
                  <a:pt x="336353" y="513517"/>
                  <a:pt x="344994" y="522514"/>
                  <a:pt x="351693" y="532562"/>
                </a:cubicBezTo>
                <a:cubicBezTo>
                  <a:pt x="378273" y="638888"/>
                  <a:pt x="342185" y="513680"/>
                  <a:pt x="381838" y="602901"/>
                </a:cubicBezTo>
                <a:cubicBezTo>
                  <a:pt x="390441" y="622259"/>
                  <a:pt x="395235" y="643094"/>
                  <a:pt x="401934" y="663191"/>
                </a:cubicBezTo>
                <a:lnTo>
                  <a:pt x="411983" y="693336"/>
                </a:lnTo>
                <a:cubicBezTo>
                  <a:pt x="415332" y="703384"/>
                  <a:pt x="417294" y="714007"/>
                  <a:pt x="422031" y="723481"/>
                </a:cubicBezTo>
                <a:lnTo>
                  <a:pt x="442128" y="763674"/>
                </a:lnTo>
                <a:cubicBezTo>
                  <a:pt x="445477" y="777072"/>
                  <a:pt x="452176" y="790058"/>
                  <a:pt x="452176" y="803868"/>
                </a:cubicBezTo>
                <a:cubicBezTo>
                  <a:pt x="452176" y="901060"/>
                  <a:pt x="450428" y="998433"/>
                  <a:pt x="442128" y="1095270"/>
                </a:cubicBezTo>
                <a:cubicBezTo>
                  <a:pt x="436903" y="1156233"/>
                  <a:pt x="408117" y="1163292"/>
                  <a:pt x="381838" y="1215850"/>
                </a:cubicBezTo>
                <a:cubicBezTo>
                  <a:pt x="375139" y="1229248"/>
                  <a:pt x="370448" y="1243855"/>
                  <a:pt x="361741" y="1256044"/>
                </a:cubicBezTo>
                <a:cubicBezTo>
                  <a:pt x="353481" y="1267608"/>
                  <a:pt x="340693" y="1275272"/>
                  <a:pt x="331596" y="1286189"/>
                </a:cubicBezTo>
                <a:cubicBezTo>
                  <a:pt x="323865" y="1295467"/>
                  <a:pt x="319522" y="1307308"/>
                  <a:pt x="311499" y="1316334"/>
                </a:cubicBezTo>
                <a:cubicBezTo>
                  <a:pt x="292617" y="1337576"/>
                  <a:pt x="271306" y="1356527"/>
                  <a:pt x="251209" y="1376624"/>
                </a:cubicBezTo>
                <a:cubicBezTo>
                  <a:pt x="228987" y="1398846"/>
                  <a:pt x="218897" y="1412877"/>
                  <a:pt x="190919" y="1426866"/>
                </a:cubicBezTo>
                <a:cubicBezTo>
                  <a:pt x="181445" y="1431603"/>
                  <a:pt x="170822" y="1433565"/>
                  <a:pt x="160774" y="1436914"/>
                </a:cubicBezTo>
                <a:cubicBezTo>
                  <a:pt x="150726" y="1443613"/>
                  <a:pt x="118612" y="1455809"/>
                  <a:pt x="130629" y="1457011"/>
                </a:cubicBezTo>
                <a:cubicBezTo>
                  <a:pt x="160489" y="1459997"/>
                  <a:pt x="274668" y="1447331"/>
                  <a:pt x="321547" y="1436914"/>
                </a:cubicBezTo>
                <a:cubicBezTo>
                  <a:pt x="331887" y="1434616"/>
                  <a:pt x="341644" y="1430215"/>
                  <a:pt x="351693" y="1426866"/>
                </a:cubicBezTo>
                <a:cubicBezTo>
                  <a:pt x="361741" y="1420167"/>
                  <a:pt x="371036" y="1412170"/>
                  <a:pt x="381838" y="1406769"/>
                </a:cubicBezTo>
                <a:cubicBezTo>
                  <a:pt x="391312" y="1402032"/>
                  <a:pt x="402787" y="1401976"/>
                  <a:pt x="411983" y="1396721"/>
                </a:cubicBezTo>
                <a:cubicBezTo>
                  <a:pt x="426524" y="1388412"/>
                  <a:pt x="438778" y="1376624"/>
                  <a:pt x="452176" y="1366576"/>
                </a:cubicBezTo>
                <a:cubicBezTo>
                  <a:pt x="505769" y="1286185"/>
                  <a:pt x="435428" y="1383324"/>
                  <a:pt x="502418" y="1316334"/>
                </a:cubicBezTo>
                <a:cubicBezTo>
                  <a:pt x="521895" y="1296857"/>
                  <a:pt x="524391" y="1280559"/>
                  <a:pt x="532563" y="1256044"/>
                </a:cubicBezTo>
                <a:cubicBezTo>
                  <a:pt x="529213" y="1055077"/>
                  <a:pt x="537697" y="853564"/>
                  <a:pt x="522514" y="653143"/>
                </a:cubicBezTo>
                <a:cubicBezTo>
                  <a:pt x="520689" y="629059"/>
                  <a:pt x="482321" y="592852"/>
                  <a:pt x="482321" y="592852"/>
                </a:cubicBezTo>
                <a:cubicBezTo>
                  <a:pt x="478972" y="582804"/>
                  <a:pt x="474350" y="573093"/>
                  <a:pt x="472273" y="562707"/>
                </a:cubicBezTo>
                <a:cubicBezTo>
                  <a:pt x="466103" y="531855"/>
                  <a:pt x="467309" y="492490"/>
                  <a:pt x="452176" y="462224"/>
                </a:cubicBezTo>
                <a:cubicBezTo>
                  <a:pt x="446775" y="451422"/>
                  <a:pt x="438778" y="442127"/>
                  <a:pt x="432079" y="432079"/>
                </a:cubicBezTo>
                <a:cubicBezTo>
                  <a:pt x="421327" y="389067"/>
                  <a:pt x="420488" y="388422"/>
                  <a:pt x="411983" y="341644"/>
                </a:cubicBezTo>
                <a:cubicBezTo>
                  <a:pt x="408338" y="321599"/>
                  <a:pt x="405579" y="301399"/>
                  <a:pt x="401934" y="281354"/>
                </a:cubicBezTo>
                <a:cubicBezTo>
                  <a:pt x="394520" y="240579"/>
                  <a:pt x="397822" y="230254"/>
                  <a:pt x="371789" y="200967"/>
                </a:cubicBezTo>
                <a:cubicBezTo>
                  <a:pt x="352907" y="179725"/>
                  <a:pt x="331596" y="160774"/>
                  <a:pt x="311499" y="140677"/>
                </a:cubicBezTo>
                <a:cubicBezTo>
                  <a:pt x="301451" y="130629"/>
                  <a:pt x="294835" y="115026"/>
                  <a:pt x="281354" y="110532"/>
                </a:cubicBezTo>
                <a:lnTo>
                  <a:pt x="221064" y="90435"/>
                </a:lnTo>
                <a:lnTo>
                  <a:pt x="190919" y="80387"/>
                </a:lnTo>
                <a:lnTo>
                  <a:pt x="130629" y="40193"/>
                </a:lnTo>
                <a:cubicBezTo>
                  <a:pt x="120581" y="33494"/>
                  <a:pt x="112326" y="22464"/>
                  <a:pt x="100484" y="20096"/>
                </a:cubicBezTo>
                <a:cubicBezTo>
                  <a:pt x="39856" y="7971"/>
                  <a:pt x="66445" y="15449"/>
                  <a:pt x="20097" y="0"/>
                </a:cubicBezTo>
                <a:cubicBezTo>
                  <a:pt x="13398" y="10048"/>
                  <a:pt x="0" y="18068"/>
                  <a:pt x="0" y="30145"/>
                </a:cubicBezTo>
                <a:cubicBezTo>
                  <a:pt x="0" y="87860"/>
                  <a:pt x="21614" y="86226"/>
                  <a:pt x="50242" y="120580"/>
                </a:cubicBezTo>
                <a:cubicBezTo>
                  <a:pt x="57973" y="129858"/>
                  <a:pt x="60909" y="143181"/>
                  <a:pt x="70339" y="150725"/>
                </a:cubicBezTo>
                <a:cubicBezTo>
                  <a:pt x="78610" y="157342"/>
                  <a:pt x="90208" y="158204"/>
                  <a:pt x="100484" y="160773"/>
                </a:cubicBezTo>
                <a:lnTo>
                  <a:pt x="180871" y="180870"/>
                </a:lnTo>
                <a:cubicBezTo>
                  <a:pt x="234457" y="261252"/>
                  <a:pt x="164127" y="164127"/>
                  <a:pt x="231112" y="231112"/>
                </a:cubicBezTo>
                <a:cubicBezTo>
                  <a:pt x="239651" y="239651"/>
                  <a:pt x="242670" y="252718"/>
                  <a:pt x="251209" y="261257"/>
                </a:cubicBezTo>
                <a:cubicBezTo>
                  <a:pt x="259748" y="269796"/>
                  <a:pt x="271693" y="274108"/>
                  <a:pt x="281354" y="281354"/>
                </a:cubicBezTo>
                <a:cubicBezTo>
                  <a:pt x="330427" y="318159"/>
                  <a:pt x="324558" y="314509"/>
                  <a:pt x="361741" y="351692"/>
                </a:cubicBezTo>
                <a:cubicBezTo>
                  <a:pt x="370052" y="517909"/>
                  <a:pt x="316403" y="523882"/>
                  <a:pt x="401934" y="572756"/>
                </a:cubicBezTo>
                <a:cubicBezTo>
                  <a:pt x="414940" y="580188"/>
                  <a:pt x="428730" y="586153"/>
                  <a:pt x="442128" y="592852"/>
                </a:cubicBezTo>
                <a:cubicBezTo>
                  <a:pt x="445477" y="602901"/>
                  <a:pt x="450678" y="612512"/>
                  <a:pt x="452176" y="622998"/>
                </a:cubicBezTo>
                <a:cubicBezTo>
                  <a:pt x="457408" y="659622"/>
                  <a:pt x="451785" y="698037"/>
                  <a:pt x="462224" y="733529"/>
                </a:cubicBezTo>
                <a:cubicBezTo>
                  <a:pt x="469039" y="756701"/>
                  <a:pt x="502418" y="793819"/>
                  <a:pt x="502418" y="793819"/>
                </a:cubicBezTo>
                <a:cubicBezTo>
                  <a:pt x="540872" y="909190"/>
                  <a:pt x="545856" y="911460"/>
                  <a:pt x="492369" y="1125415"/>
                </a:cubicBezTo>
                <a:cubicBezTo>
                  <a:pt x="479392" y="1177324"/>
                  <a:pt x="489981" y="1154117"/>
                  <a:pt x="462224" y="1195754"/>
                </a:cubicBezTo>
                <a:cubicBezTo>
                  <a:pt x="458875" y="1205802"/>
                  <a:pt x="457431" y="1216703"/>
                  <a:pt x="452176" y="1225899"/>
                </a:cubicBezTo>
                <a:cubicBezTo>
                  <a:pt x="443867" y="1240440"/>
                  <a:pt x="431765" y="1252464"/>
                  <a:pt x="422031" y="1266092"/>
                </a:cubicBezTo>
                <a:cubicBezTo>
                  <a:pt x="348565" y="1368943"/>
                  <a:pt x="470307" y="1205074"/>
                  <a:pt x="371789" y="1336430"/>
                </a:cubicBezTo>
                <a:cubicBezTo>
                  <a:pt x="360893" y="1369120"/>
                  <a:pt x="367167" y="1370863"/>
                  <a:pt x="331596" y="1386672"/>
                </a:cubicBezTo>
                <a:cubicBezTo>
                  <a:pt x="312238" y="1395275"/>
                  <a:pt x="271306" y="1406769"/>
                  <a:pt x="271306" y="1406769"/>
                </a:cubicBezTo>
                <a:cubicBezTo>
                  <a:pt x="251209" y="1420167"/>
                  <a:pt x="233930" y="1439324"/>
                  <a:pt x="211016" y="1446962"/>
                </a:cubicBezTo>
                <a:lnTo>
                  <a:pt x="150725" y="1467059"/>
                </a:lnTo>
                <a:cubicBezTo>
                  <a:pt x="160774" y="1470408"/>
                  <a:pt x="170423" y="1478848"/>
                  <a:pt x="180871" y="1477107"/>
                </a:cubicBezTo>
                <a:cubicBezTo>
                  <a:pt x="192783" y="1475122"/>
                  <a:pt x="200214" y="1462412"/>
                  <a:pt x="211016" y="1457011"/>
                </a:cubicBezTo>
                <a:cubicBezTo>
                  <a:pt x="227083" y="1448978"/>
                  <a:pt x="266322" y="1441209"/>
                  <a:pt x="281354" y="1436914"/>
                </a:cubicBezTo>
                <a:cubicBezTo>
                  <a:pt x="291538" y="1434004"/>
                  <a:pt x="301451" y="1430215"/>
                  <a:pt x="311499" y="1426866"/>
                </a:cubicBezTo>
                <a:cubicBezTo>
                  <a:pt x="386343" y="1376969"/>
                  <a:pt x="294420" y="1441099"/>
                  <a:pt x="371789" y="1376624"/>
                </a:cubicBezTo>
                <a:cubicBezTo>
                  <a:pt x="455727" y="1306676"/>
                  <a:pt x="344010" y="1414451"/>
                  <a:pt x="432079" y="1326382"/>
                </a:cubicBezTo>
                <a:cubicBezTo>
                  <a:pt x="435429" y="1316334"/>
                  <a:pt x="439830" y="1306577"/>
                  <a:pt x="442128" y="1296237"/>
                </a:cubicBezTo>
                <a:cubicBezTo>
                  <a:pt x="465710" y="1190120"/>
                  <a:pt x="439603" y="1273668"/>
                  <a:pt x="462224" y="1205802"/>
                </a:cubicBezTo>
                <a:cubicBezTo>
                  <a:pt x="476753" y="1104105"/>
                  <a:pt x="485715" y="1073742"/>
                  <a:pt x="462224" y="944545"/>
                </a:cubicBezTo>
                <a:cubicBezTo>
                  <a:pt x="459682" y="930564"/>
                  <a:pt x="442127" y="924448"/>
                  <a:pt x="432079" y="914400"/>
                </a:cubicBezTo>
                <a:cubicBezTo>
                  <a:pt x="435429" y="793820"/>
                  <a:pt x="442128" y="673286"/>
                  <a:pt x="442128" y="552659"/>
                </a:cubicBezTo>
                <a:cubicBezTo>
                  <a:pt x="442128" y="532285"/>
                  <a:pt x="438522" y="511697"/>
                  <a:pt x="432079" y="492369"/>
                </a:cubicBezTo>
                <a:cubicBezTo>
                  <a:pt x="422509" y="463659"/>
                  <a:pt x="404806" y="457439"/>
                  <a:pt x="381838" y="442127"/>
                </a:cubicBezTo>
                <a:cubicBezTo>
                  <a:pt x="346163" y="335110"/>
                  <a:pt x="400271" y="506416"/>
                  <a:pt x="361741" y="211015"/>
                </a:cubicBezTo>
                <a:cubicBezTo>
                  <a:pt x="360179" y="199040"/>
                  <a:pt x="351074" y="188414"/>
                  <a:pt x="341644" y="180870"/>
                </a:cubicBezTo>
                <a:cubicBezTo>
                  <a:pt x="333373" y="174253"/>
                  <a:pt x="321547" y="174171"/>
                  <a:pt x="311499" y="170822"/>
                </a:cubicBezTo>
                <a:cubicBezTo>
                  <a:pt x="301451" y="160774"/>
                  <a:pt x="293776" y="147578"/>
                  <a:pt x="281354" y="140677"/>
                </a:cubicBezTo>
                <a:cubicBezTo>
                  <a:pt x="257765" y="127572"/>
                  <a:pt x="159599" y="105213"/>
                  <a:pt x="140677" y="100483"/>
                </a:cubicBezTo>
                <a:lnTo>
                  <a:pt x="100484" y="90435"/>
                </a:lnTo>
                <a:cubicBezTo>
                  <a:pt x="90436" y="80387"/>
                  <a:pt x="82163" y="68173"/>
                  <a:pt x="70339" y="60290"/>
                </a:cubicBezTo>
                <a:cubicBezTo>
                  <a:pt x="1051" y="14097"/>
                  <a:pt x="3350" y="66989"/>
                  <a:pt x="10049" y="70338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лилиния 38"/>
          <p:cNvSpPr/>
          <p:nvPr/>
        </p:nvSpPr>
        <p:spPr>
          <a:xfrm>
            <a:off x="6035760" y="1685880"/>
            <a:ext cx="536400" cy="1859040"/>
          </a:xfrm>
          <a:custGeom>
            <a:avLst/>
            <a:gdLst/>
            <a:ahLst/>
            <a:rect l="l" t="t" r="r" b="b"/>
            <a:pathLst>
              <a:path w="536502" h="1859151">
                <a:moveTo>
                  <a:pt x="13988" y="12674"/>
                </a:moveTo>
                <a:cubicBezTo>
                  <a:pt x="12313" y="16023"/>
                  <a:pt x="22866" y="32292"/>
                  <a:pt x="24036" y="42819"/>
                </a:cubicBezTo>
                <a:cubicBezTo>
                  <a:pt x="29596" y="92865"/>
                  <a:pt x="22551" y="144530"/>
                  <a:pt x="34084" y="193545"/>
                </a:cubicBezTo>
                <a:cubicBezTo>
                  <a:pt x="36850" y="205300"/>
                  <a:pt x="54181" y="206942"/>
                  <a:pt x="64229" y="213641"/>
                </a:cubicBezTo>
                <a:cubicBezTo>
                  <a:pt x="99552" y="266627"/>
                  <a:pt x="63958" y="227880"/>
                  <a:pt x="124520" y="253835"/>
                </a:cubicBezTo>
                <a:cubicBezTo>
                  <a:pt x="135620" y="258592"/>
                  <a:pt x="143863" y="268531"/>
                  <a:pt x="154665" y="273932"/>
                </a:cubicBezTo>
                <a:cubicBezTo>
                  <a:pt x="164139" y="278669"/>
                  <a:pt x="174762" y="280631"/>
                  <a:pt x="184810" y="283980"/>
                </a:cubicBezTo>
                <a:cubicBezTo>
                  <a:pt x="191509" y="294028"/>
                  <a:pt x="201728" y="302474"/>
                  <a:pt x="204906" y="314125"/>
                </a:cubicBezTo>
                <a:cubicBezTo>
                  <a:pt x="239545" y="441134"/>
                  <a:pt x="189649" y="356552"/>
                  <a:pt x="235051" y="424657"/>
                </a:cubicBezTo>
                <a:cubicBezTo>
                  <a:pt x="248096" y="529010"/>
                  <a:pt x="230121" y="482576"/>
                  <a:pt x="285293" y="565334"/>
                </a:cubicBezTo>
                <a:lnTo>
                  <a:pt x="305390" y="595479"/>
                </a:lnTo>
                <a:lnTo>
                  <a:pt x="325487" y="625624"/>
                </a:lnTo>
                <a:lnTo>
                  <a:pt x="345583" y="685914"/>
                </a:lnTo>
                <a:lnTo>
                  <a:pt x="355632" y="716059"/>
                </a:lnTo>
                <a:cubicBezTo>
                  <a:pt x="358981" y="796446"/>
                  <a:pt x="357674" y="877162"/>
                  <a:pt x="365680" y="957219"/>
                </a:cubicBezTo>
                <a:cubicBezTo>
                  <a:pt x="367788" y="978298"/>
                  <a:pt x="385777" y="1017510"/>
                  <a:pt x="385777" y="1017510"/>
                </a:cubicBezTo>
                <a:cubicBezTo>
                  <a:pt x="382427" y="1208429"/>
                  <a:pt x="391585" y="1399978"/>
                  <a:pt x="375728" y="1590266"/>
                </a:cubicBezTo>
                <a:cubicBezTo>
                  <a:pt x="374337" y="1606955"/>
                  <a:pt x="349163" y="1610677"/>
                  <a:pt x="335535" y="1620411"/>
                </a:cubicBezTo>
                <a:cubicBezTo>
                  <a:pt x="325708" y="1627430"/>
                  <a:pt x="315217" y="1633488"/>
                  <a:pt x="305390" y="1640507"/>
                </a:cubicBezTo>
                <a:cubicBezTo>
                  <a:pt x="291762" y="1650241"/>
                  <a:pt x="278824" y="1660918"/>
                  <a:pt x="265196" y="1670652"/>
                </a:cubicBezTo>
                <a:cubicBezTo>
                  <a:pt x="255369" y="1677671"/>
                  <a:pt x="246087" y="1685844"/>
                  <a:pt x="235051" y="1690749"/>
                </a:cubicBezTo>
                <a:cubicBezTo>
                  <a:pt x="215693" y="1699353"/>
                  <a:pt x="174761" y="1710846"/>
                  <a:pt x="174761" y="1710846"/>
                </a:cubicBezTo>
                <a:cubicBezTo>
                  <a:pt x="168062" y="1720894"/>
                  <a:pt x="163204" y="1732452"/>
                  <a:pt x="154665" y="1740991"/>
                </a:cubicBezTo>
                <a:cubicBezTo>
                  <a:pt x="75616" y="1820042"/>
                  <a:pt x="176692" y="1692453"/>
                  <a:pt x="94375" y="1791233"/>
                </a:cubicBezTo>
                <a:cubicBezTo>
                  <a:pt x="86644" y="1800511"/>
                  <a:pt x="82009" y="1812100"/>
                  <a:pt x="74278" y="1821378"/>
                </a:cubicBezTo>
                <a:cubicBezTo>
                  <a:pt x="65181" y="1832295"/>
                  <a:pt x="29987" y="1850176"/>
                  <a:pt x="44133" y="1851523"/>
                </a:cubicBezTo>
                <a:cubicBezTo>
                  <a:pt x="124227" y="1859151"/>
                  <a:pt x="204906" y="1844824"/>
                  <a:pt x="285293" y="1841474"/>
                </a:cubicBezTo>
                <a:cubicBezTo>
                  <a:pt x="437664" y="1739894"/>
                  <a:pt x="281285" y="1849839"/>
                  <a:pt x="375728" y="1771136"/>
                </a:cubicBezTo>
                <a:cubicBezTo>
                  <a:pt x="385006" y="1763405"/>
                  <a:pt x="396595" y="1758770"/>
                  <a:pt x="405873" y="1751039"/>
                </a:cubicBezTo>
                <a:cubicBezTo>
                  <a:pt x="416790" y="1741942"/>
                  <a:pt x="424801" y="1729618"/>
                  <a:pt x="436018" y="1720894"/>
                </a:cubicBezTo>
                <a:cubicBezTo>
                  <a:pt x="455084" y="1706065"/>
                  <a:pt x="496309" y="1680701"/>
                  <a:pt x="496309" y="1680701"/>
                </a:cubicBezTo>
                <a:cubicBezTo>
                  <a:pt x="503008" y="1670653"/>
                  <a:pt x="511500" y="1661592"/>
                  <a:pt x="516405" y="1650556"/>
                </a:cubicBezTo>
                <a:cubicBezTo>
                  <a:pt x="525008" y="1631198"/>
                  <a:pt x="536502" y="1590266"/>
                  <a:pt x="536502" y="1590266"/>
                </a:cubicBezTo>
                <a:cubicBezTo>
                  <a:pt x="533153" y="1533325"/>
                  <a:pt x="533831" y="1476004"/>
                  <a:pt x="526454" y="1419444"/>
                </a:cubicBezTo>
                <a:cubicBezTo>
                  <a:pt x="523714" y="1398438"/>
                  <a:pt x="513056" y="1379251"/>
                  <a:pt x="506357" y="1359154"/>
                </a:cubicBezTo>
                <a:lnTo>
                  <a:pt x="496309" y="1329008"/>
                </a:lnTo>
                <a:cubicBezTo>
                  <a:pt x="492960" y="1318960"/>
                  <a:pt x="488829" y="1309139"/>
                  <a:pt x="486260" y="1298863"/>
                </a:cubicBezTo>
                <a:cubicBezTo>
                  <a:pt x="479561" y="1272068"/>
                  <a:pt x="478516" y="1243181"/>
                  <a:pt x="466164" y="1218477"/>
                </a:cubicBezTo>
                <a:cubicBezTo>
                  <a:pt x="459465" y="1205079"/>
                  <a:pt x="451968" y="1192051"/>
                  <a:pt x="446067" y="1178283"/>
                </a:cubicBezTo>
                <a:cubicBezTo>
                  <a:pt x="437415" y="1158096"/>
                  <a:pt x="431071" y="1128348"/>
                  <a:pt x="425970" y="1107945"/>
                </a:cubicBezTo>
                <a:cubicBezTo>
                  <a:pt x="422621" y="940472"/>
                  <a:pt x="430819" y="772369"/>
                  <a:pt x="415922" y="605527"/>
                </a:cubicBezTo>
                <a:cubicBezTo>
                  <a:pt x="413774" y="581469"/>
                  <a:pt x="389126" y="565334"/>
                  <a:pt x="375728" y="545237"/>
                </a:cubicBezTo>
                <a:cubicBezTo>
                  <a:pt x="375717" y="545220"/>
                  <a:pt x="335547" y="484963"/>
                  <a:pt x="335535" y="484947"/>
                </a:cubicBezTo>
                <a:lnTo>
                  <a:pt x="305390" y="444754"/>
                </a:lnTo>
                <a:cubicBezTo>
                  <a:pt x="302041" y="384464"/>
                  <a:pt x="303881" y="323659"/>
                  <a:pt x="295342" y="263883"/>
                </a:cubicBezTo>
                <a:cubicBezTo>
                  <a:pt x="293634" y="251928"/>
                  <a:pt x="282976" y="243016"/>
                  <a:pt x="275245" y="233738"/>
                </a:cubicBezTo>
                <a:cubicBezTo>
                  <a:pt x="226154" y="174830"/>
                  <a:pt x="265767" y="228663"/>
                  <a:pt x="214955" y="183496"/>
                </a:cubicBezTo>
                <a:lnTo>
                  <a:pt x="124520" y="93061"/>
                </a:lnTo>
                <a:cubicBezTo>
                  <a:pt x="114472" y="83013"/>
                  <a:pt x="106199" y="70798"/>
                  <a:pt x="94375" y="62916"/>
                </a:cubicBezTo>
                <a:lnTo>
                  <a:pt x="34084" y="22723"/>
                </a:lnTo>
                <a:cubicBezTo>
                  <a:pt x="0" y="0"/>
                  <a:pt x="15663" y="9325"/>
                  <a:pt x="13988" y="12674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лилиния 39"/>
          <p:cNvSpPr/>
          <p:nvPr/>
        </p:nvSpPr>
        <p:spPr>
          <a:xfrm>
            <a:off x="6270480" y="1606680"/>
            <a:ext cx="441360" cy="1458720"/>
          </a:xfrm>
          <a:custGeom>
            <a:avLst/>
            <a:gdLst/>
            <a:ahLst/>
            <a:rect l="l" t="t" r="r" b="b"/>
            <a:pathLst>
              <a:path w="442128" h="1459164">
                <a:moveTo>
                  <a:pt x="0" y="62065"/>
                </a:moveTo>
                <a:cubicBezTo>
                  <a:pt x="58657" y="101170"/>
                  <a:pt x="7751" y="57469"/>
                  <a:pt x="40194" y="122355"/>
                </a:cubicBezTo>
                <a:cubicBezTo>
                  <a:pt x="50996" y="143958"/>
                  <a:pt x="72749" y="159732"/>
                  <a:pt x="80387" y="182646"/>
                </a:cubicBezTo>
                <a:cubicBezTo>
                  <a:pt x="83737" y="192694"/>
                  <a:pt x="87526" y="202607"/>
                  <a:pt x="90436" y="212791"/>
                </a:cubicBezTo>
                <a:cubicBezTo>
                  <a:pt x="94230" y="226070"/>
                  <a:pt x="95044" y="240291"/>
                  <a:pt x="100484" y="252984"/>
                </a:cubicBezTo>
                <a:cubicBezTo>
                  <a:pt x="105241" y="264084"/>
                  <a:pt x="113882" y="273081"/>
                  <a:pt x="120581" y="283129"/>
                </a:cubicBezTo>
                <a:cubicBezTo>
                  <a:pt x="123930" y="296527"/>
                  <a:pt x="124453" y="310971"/>
                  <a:pt x="130629" y="323323"/>
                </a:cubicBezTo>
                <a:cubicBezTo>
                  <a:pt x="147544" y="357153"/>
                  <a:pt x="178912" y="392299"/>
                  <a:pt x="200967" y="423806"/>
                </a:cubicBezTo>
                <a:cubicBezTo>
                  <a:pt x="214818" y="443593"/>
                  <a:pt x="227763" y="463999"/>
                  <a:pt x="241161" y="484096"/>
                </a:cubicBezTo>
                <a:lnTo>
                  <a:pt x="281354" y="544386"/>
                </a:lnTo>
                <a:lnTo>
                  <a:pt x="301451" y="574531"/>
                </a:lnTo>
                <a:cubicBezTo>
                  <a:pt x="304800" y="745353"/>
                  <a:pt x="307282" y="916194"/>
                  <a:pt x="311499" y="1086997"/>
                </a:cubicBezTo>
                <a:cubicBezTo>
                  <a:pt x="319359" y="1405313"/>
                  <a:pt x="250832" y="1459164"/>
                  <a:pt x="351693" y="1358303"/>
                </a:cubicBezTo>
                <a:cubicBezTo>
                  <a:pt x="355042" y="1338206"/>
                  <a:pt x="359714" y="1318286"/>
                  <a:pt x="361741" y="1298013"/>
                </a:cubicBezTo>
                <a:cubicBezTo>
                  <a:pt x="366419" y="1251234"/>
                  <a:pt x="364060" y="1203708"/>
                  <a:pt x="371789" y="1157336"/>
                </a:cubicBezTo>
                <a:cubicBezTo>
                  <a:pt x="374252" y="1142560"/>
                  <a:pt x="385985" y="1130910"/>
                  <a:pt x="391886" y="1117142"/>
                </a:cubicBezTo>
                <a:cubicBezTo>
                  <a:pt x="402208" y="1093057"/>
                  <a:pt x="404701" y="1072290"/>
                  <a:pt x="411983" y="1046804"/>
                </a:cubicBezTo>
                <a:cubicBezTo>
                  <a:pt x="414893" y="1036620"/>
                  <a:pt x="418682" y="1026707"/>
                  <a:pt x="422031" y="1016659"/>
                </a:cubicBezTo>
                <a:cubicBezTo>
                  <a:pt x="425381" y="929573"/>
                  <a:pt x="426283" y="842359"/>
                  <a:pt x="432080" y="755402"/>
                </a:cubicBezTo>
                <a:cubicBezTo>
                  <a:pt x="432999" y="741622"/>
                  <a:pt x="442128" y="729018"/>
                  <a:pt x="442128" y="715208"/>
                </a:cubicBezTo>
                <a:cubicBezTo>
                  <a:pt x="442128" y="678212"/>
                  <a:pt x="437312" y="641300"/>
                  <a:pt x="432080" y="604676"/>
                </a:cubicBezTo>
                <a:cubicBezTo>
                  <a:pt x="430582" y="594191"/>
                  <a:pt x="424941" y="584715"/>
                  <a:pt x="422031" y="574531"/>
                </a:cubicBezTo>
                <a:cubicBezTo>
                  <a:pt x="415365" y="551201"/>
                  <a:pt x="405386" y="506533"/>
                  <a:pt x="401934" y="484096"/>
                </a:cubicBezTo>
                <a:cubicBezTo>
                  <a:pt x="397828" y="457406"/>
                  <a:pt x="401114" y="429087"/>
                  <a:pt x="391886" y="403709"/>
                </a:cubicBezTo>
                <a:cubicBezTo>
                  <a:pt x="387030" y="390354"/>
                  <a:pt x="370838" y="384481"/>
                  <a:pt x="361741" y="373564"/>
                </a:cubicBezTo>
                <a:cubicBezTo>
                  <a:pt x="354010" y="364286"/>
                  <a:pt x="350183" y="351958"/>
                  <a:pt x="341644" y="343419"/>
                </a:cubicBezTo>
                <a:cubicBezTo>
                  <a:pt x="329181" y="330956"/>
                  <a:pt x="288422" y="304588"/>
                  <a:pt x="271306" y="293177"/>
                </a:cubicBezTo>
                <a:cubicBezTo>
                  <a:pt x="234461" y="237910"/>
                  <a:pt x="271307" y="284804"/>
                  <a:pt x="221064" y="242936"/>
                </a:cubicBezTo>
                <a:cubicBezTo>
                  <a:pt x="122305" y="160638"/>
                  <a:pt x="249855" y="261679"/>
                  <a:pt x="170822" y="182646"/>
                </a:cubicBezTo>
                <a:cubicBezTo>
                  <a:pt x="162283" y="174107"/>
                  <a:pt x="150725" y="169248"/>
                  <a:pt x="140677" y="162549"/>
                </a:cubicBezTo>
                <a:cubicBezTo>
                  <a:pt x="68880" y="54850"/>
                  <a:pt x="180682" y="218289"/>
                  <a:pt x="90436" y="102259"/>
                </a:cubicBezTo>
                <a:cubicBezTo>
                  <a:pt x="10900" y="0"/>
                  <a:pt x="80691" y="72418"/>
                  <a:pt x="30145" y="21872"/>
                </a:cubicBezTo>
              </a:path>
            </a:pathLst>
          </a:custGeom>
          <a:solidFill>
            <a:srgbClr val="262626"/>
          </a:solidFill>
          <a:ln w="93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олилиния 40"/>
          <p:cNvSpPr/>
          <p:nvPr/>
        </p:nvSpPr>
        <p:spPr>
          <a:xfrm>
            <a:off x="6551640" y="2747880"/>
            <a:ext cx="253800" cy="803520"/>
          </a:xfrm>
          <a:custGeom>
            <a:avLst/>
            <a:gdLst/>
            <a:ahLst/>
            <a:rect l="l" t="t" r="r" b="b"/>
            <a:pathLst>
              <a:path w="254007" h="803294">
                <a:moveTo>
                  <a:pt x="10048" y="778460"/>
                </a:moveTo>
                <a:cubicBezTo>
                  <a:pt x="20096" y="768412"/>
                  <a:pt x="53259" y="755346"/>
                  <a:pt x="70338" y="738267"/>
                </a:cubicBezTo>
                <a:cubicBezTo>
                  <a:pt x="109022" y="699583"/>
                  <a:pt x="88659" y="716005"/>
                  <a:pt x="130628" y="688025"/>
                </a:cubicBezTo>
                <a:cubicBezTo>
                  <a:pt x="137327" y="677977"/>
                  <a:pt x="145968" y="668980"/>
                  <a:pt x="150725" y="657880"/>
                </a:cubicBezTo>
                <a:cubicBezTo>
                  <a:pt x="156165" y="645187"/>
                  <a:pt x="160305" y="631489"/>
                  <a:pt x="160773" y="617687"/>
                </a:cubicBezTo>
                <a:cubicBezTo>
                  <a:pt x="180391" y="38926"/>
                  <a:pt x="68003" y="219251"/>
                  <a:pt x="190918" y="34882"/>
                </a:cubicBezTo>
                <a:cubicBezTo>
                  <a:pt x="194267" y="24834"/>
                  <a:pt x="191492" y="0"/>
                  <a:pt x="200966" y="4737"/>
                </a:cubicBezTo>
                <a:cubicBezTo>
                  <a:pt x="213318" y="10913"/>
                  <a:pt x="207047" y="31703"/>
                  <a:pt x="211015" y="44931"/>
                </a:cubicBezTo>
                <a:cubicBezTo>
                  <a:pt x="230583" y="110158"/>
                  <a:pt x="221838" y="91312"/>
                  <a:pt x="251208" y="135366"/>
                </a:cubicBezTo>
                <a:cubicBezTo>
                  <a:pt x="247859" y="302839"/>
                  <a:pt x="254007" y="470771"/>
                  <a:pt x="241160" y="637784"/>
                </a:cubicBezTo>
                <a:cubicBezTo>
                  <a:pt x="240234" y="649825"/>
                  <a:pt x="218559" y="648450"/>
                  <a:pt x="211015" y="657880"/>
                </a:cubicBezTo>
                <a:cubicBezTo>
                  <a:pt x="204398" y="666151"/>
                  <a:pt x="206841" y="679212"/>
                  <a:pt x="200966" y="688025"/>
                </a:cubicBezTo>
                <a:cubicBezTo>
                  <a:pt x="193083" y="699849"/>
                  <a:pt x="181738" y="709073"/>
                  <a:pt x="170821" y="718170"/>
                </a:cubicBezTo>
                <a:cubicBezTo>
                  <a:pt x="154089" y="732114"/>
                  <a:pt x="119383" y="750804"/>
                  <a:pt x="100483" y="758364"/>
                </a:cubicBezTo>
                <a:cubicBezTo>
                  <a:pt x="80814" y="766231"/>
                  <a:pt x="40193" y="778460"/>
                  <a:pt x="40193" y="778460"/>
                </a:cubicBezTo>
                <a:cubicBezTo>
                  <a:pt x="30145" y="785159"/>
                  <a:pt x="20850" y="793156"/>
                  <a:pt x="10048" y="798557"/>
                </a:cubicBezTo>
                <a:cubicBezTo>
                  <a:pt x="574" y="803294"/>
                  <a:pt x="0" y="788508"/>
                  <a:pt x="10048" y="778460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олилиния 41"/>
          <p:cNvSpPr/>
          <p:nvPr/>
        </p:nvSpPr>
        <p:spPr>
          <a:xfrm>
            <a:off x="6508800" y="1638360"/>
            <a:ext cx="612720" cy="1942920"/>
          </a:xfrm>
          <a:custGeom>
            <a:avLst/>
            <a:gdLst/>
            <a:ahLst/>
            <a:rect l="l" t="t" r="r" b="b"/>
            <a:pathLst>
              <a:path w="612812" h="1944069">
                <a:moveTo>
                  <a:pt x="42311" y="90435"/>
                </a:moveTo>
                <a:cubicBezTo>
                  <a:pt x="52359" y="103833"/>
                  <a:pt x="62852" y="116909"/>
                  <a:pt x="72456" y="130629"/>
                </a:cubicBezTo>
                <a:cubicBezTo>
                  <a:pt x="86307" y="150416"/>
                  <a:pt x="92553" y="177521"/>
                  <a:pt x="112650" y="190919"/>
                </a:cubicBezTo>
                <a:lnTo>
                  <a:pt x="142795" y="211016"/>
                </a:lnTo>
                <a:cubicBezTo>
                  <a:pt x="162181" y="307948"/>
                  <a:pt x="138441" y="222404"/>
                  <a:pt x="172940" y="291403"/>
                </a:cubicBezTo>
                <a:cubicBezTo>
                  <a:pt x="198212" y="341947"/>
                  <a:pt x="159814" y="318470"/>
                  <a:pt x="223182" y="381838"/>
                </a:cubicBezTo>
                <a:cubicBezTo>
                  <a:pt x="233230" y="391886"/>
                  <a:pt x="242110" y="403259"/>
                  <a:pt x="253327" y="411983"/>
                </a:cubicBezTo>
                <a:cubicBezTo>
                  <a:pt x="272392" y="426812"/>
                  <a:pt x="313617" y="452176"/>
                  <a:pt x="313617" y="452176"/>
                </a:cubicBezTo>
                <a:cubicBezTo>
                  <a:pt x="388491" y="564490"/>
                  <a:pt x="326321" y="459788"/>
                  <a:pt x="343762" y="773723"/>
                </a:cubicBezTo>
                <a:cubicBezTo>
                  <a:pt x="346963" y="831332"/>
                  <a:pt x="355844" y="842209"/>
                  <a:pt x="363859" y="894304"/>
                </a:cubicBezTo>
                <a:cubicBezTo>
                  <a:pt x="367965" y="920994"/>
                  <a:pt x="371462" y="947797"/>
                  <a:pt x="373907" y="974690"/>
                </a:cubicBezTo>
                <a:cubicBezTo>
                  <a:pt x="378163" y="1021509"/>
                  <a:pt x="376981" y="1068875"/>
                  <a:pt x="383955" y="1115367"/>
                </a:cubicBezTo>
                <a:cubicBezTo>
                  <a:pt x="387097" y="1136316"/>
                  <a:pt x="397353" y="1155560"/>
                  <a:pt x="404052" y="1175657"/>
                </a:cubicBezTo>
                <a:cubicBezTo>
                  <a:pt x="418464" y="1218895"/>
                  <a:pt x="411534" y="1195540"/>
                  <a:pt x="424149" y="1245996"/>
                </a:cubicBezTo>
                <a:cubicBezTo>
                  <a:pt x="420799" y="1376625"/>
                  <a:pt x="420316" y="1507358"/>
                  <a:pt x="414100" y="1637882"/>
                </a:cubicBezTo>
                <a:cubicBezTo>
                  <a:pt x="412495" y="1671595"/>
                  <a:pt x="394186" y="1673838"/>
                  <a:pt x="373907" y="1698172"/>
                </a:cubicBezTo>
                <a:cubicBezTo>
                  <a:pt x="366176" y="1707450"/>
                  <a:pt x="361541" y="1719039"/>
                  <a:pt x="353810" y="1728317"/>
                </a:cubicBezTo>
                <a:cubicBezTo>
                  <a:pt x="344713" y="1739234"/>
                  <a:pt x="332389" y="1747245"/>
                  <a:pt x="323665" y="1758462"/>
                </a:cubicBezTo>
                <a:cubicBezTo>
                  <a:pt x="308836" y="1777527"/>
                  <a:pt x="300551" y="1801673"/>
                  <a:pt x="283472" y="1818752"/>
                </a:cubicBezTo>
                <a:cubicBezTo>
                  <a:pt x="244788" y="1857436"/>
                  <a:pt x="261210" y="1837073"/>
                  <a:pt x="233230" y="1879042"/>
                </a:cubicBezTo>
                <a:cubicBezTo>
                  <a:pt x="229402" y="1890526"/>
                  <a:pt x="210263" y="1927848"/>
                  <a:pt x="233230" y="1939332"/>
                </a:cubicBezTo>
                <a:cubicBezTo>
                  <a:pt x="242704" y="1944069"/>
                  <a:pt x="253327" y="1932633"/>
                  <a:pt x="263375" y="1929284"/>
                </a:cubicBezTo>
                <a:cubicBezTo>
                  <a:pt x="318641" y="1892440"/>
                  <a:pt x="271749" y="1929284"/>
                  <a:pt x="313617" y="1879042"/>
                </a:cubicBezTo>
                <a:cubicBezTo>
                  <a:pt x="322714" y="1868125"/>
                  <a:pt x="334665" y="1859814"/>
                  <a:pt x="343762" y="1848897"/>
                </a:cubicBezTo>
                <a:cubicBezTo>
                  <a:pt x="374318" y="1812231"/>
                  <a:pt x="352288" y="1821052"/>
                  <a:pt x="394004" y="1788607"/>
                </a:cubicBezTo>
                <a:cubicBezTo>
                  <a:pt x="413069" y="1773778"/>
                  <a:pt x="454294" y="1748414"/>
                  <a:pt x="454294" y="1748414"/>
                </a:cubicBezTo>
                <a:cubicBezTo>
                  <a:pt x="460993" y="1738365"/>
                  <a:pt x="465851" y="1726808"/>
                  <a:pt x="474390" y="1718268"/>
                </a:cubicBezTo>
                <a:cubicBezTo>
                  <a:pt x="482929" y="1709729"/>
                  <a:pt x="496991" y="1707602"/>
                  <a:pt x="504535" y="1698172"/>
                </a:cubicBezTo>
                <a:cubicBezTo>
                  <a:pt x="511152" y="1689901"/>
                  <a:pt x="509847" y="1677501"/>
                  <a:pt x="514584" y="1668027"/>
                </a:cubicBezTo>
                <a:cubicBezTo>
                  <a:pt x="519985" y="1657225"/>
                  <a:pt x="527982" y="1647930"/>
                  <a:pt x="534681" y="1637882"/>
                </a:cubicBezTo>
                <a:cubicBezTo>
                  <a:pt x="612812" y="1403480"/>
                  <a:pt x="560720" y="1570843"/>
                  <a:pt x="534681" y="954594"/>
                </a:cubicBezTo>
                <a:cubicBezTo>
                  <a:pt x="532255" y="897174"/>
                  <a:pt x="519959" y="897887"/>
                  <a:pt x="484439" y="874207"/>
                </a:cubicBezTo>
                <a:cubicBezTo>
                  <a:pt x="477740" y="864159"/>
                  <a:pt x="469743" y="854864"/>
                  <a:pt x="464342" y="844062"/>
                </a:cubicBezTo>
                <a:cubicBezTo>
                  <a:pt x="457136" y="829650"/>
                  <a:pt x="447463" y="786596"/>
                  <a:pt x="444245" y="773723"/>
                </a:cubicBezTo>
                <a:cubicBezTo>
                  <a:pt x="440896" y="669890"/>
                  <a:pt x="448109" y="565175"/>
                  <a:pt x="434197" y="462224"/>
                </a:cubicBezTo>
                <a:cubicBezTo>
                  <a:pt x="430963" y="438288"/>
                  <a:pt x="414101" y="415331"/>
                  <a:pt x="394004" y="401934"/>
                </a:cubicBezTo>
                <a:lnTo>
                  <a:pt x="363859" y="381838"/>
                </a:lnTo>
                <a:cubicBezTo>
                  <a:pt x="357160" y="371790"/>
                  <a:pt x="349163" y="362495"/>
                  <a:pt x="343762" y="351693"/>
                </a:cubicBezTo>
                <a:cubicBezTo>
                  <a:pt x="339025" y="342219"/>
                  <a:pt x="340330" y="329819"/>
                  <a:pt x="333713" y="321548"/>
                </a:cubicBezTo>
                <a:cubicBezTo>
                  <a:pt x="326169" y="312118"/>
                  <a:pt x="312846" y="309182"/>
                  <a:pt x="303568" y="301451"/>
                </a:cubicBezTo>
                <a:cubicBezTo>
                  <a:pt x="292651" y="292354"/>
                  <a:pt x="283471" y="281354"/>
                  <a:pt x="273423" y="271306"/>
                </a:cubicBezTo>
                <a:cubicBezTo>
                  <a:pt x="266724" y="251209"/>
                  <a:pt x="268306" y="225995"/>
                  <a:pt x="253327" y="211016"/>
                </a:cubicBezTo>
                <a:cubicBezTo>
                  <a:pt x="243279" y="200968"/>
                  <a:pt x="234399" y="189595"/>
                  <a:pt x="223182" y="180871"/>
                </a:cubicBezTo>
                <a:cubicBezTo>
                  <a:pt x="223164" y="180857"/>
                  <a:pt x="147829" y="130636"/>
                  <a:pt x="132746" y="120581"/>
                </a:cubicBezTo>
                <a:lnTo>
                  <a:pt x="102601" y="100484"/>
                </a:lnTo>
                <a:cubicBezTo>
                  <a:pt x="92553" y="93785"/>
                  <a:pt x="83913" y="84206"/>
                  <a:pt x="72456" y="80387"/>
                </a:cubicBezTo>
                <a:lnTo>
                  <a:pt x="42311" y="70339"/>
                </a:lnTo>
                <a:cubicBezTo>
                  <a:pt x="32263" y="63640"/>
                  <a:pt x="19710" y="59672"/>
                  <a:pt x="12166" y="50242"/>
                </a:cubicBezTo>
                <a:cubicBezTo>
                  <a:pt x="0" y="35034"/>
                  <a:pt x="2118" y="17222"/>
                  <a:pt x="2118" y="0"/>
                </a:cubicBezTo>
              </a:path>
            </a:pathLst>
          </a:custGeom>
          <a:solidFill>
            <a:srgbClr val="262626"/>
          </a:solidFill>
          <a:ln w="93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олилиния 42"/>
          <p:cNvSpPr/>
          <p:nvPr/>
        </p:nvSpPr>
        <p:spPr>
          <a:xfrm>
            <a:off x="6921360" y="1857240"/>
            <a:ext cx="312840" cy="1528920"/>
          </a:xfrm>
          <a:custGeom>
            <a:avLst/>
            <a:gdLst/>
            <a:ahLst/>
            <a:rect l="l" t="t" r="r" b="b"/>
            <a:pathLst>
              <a:path w="312669" h="1529025">
                <a:moveTo>
                  <a:pt x="11219" y="1675"/>
                </a:moveTo>
                <a:cubicBezTo>
                  <a:pt x="6195" y="0"/>
                  <a:pt x="0" y="21293"/>
                  <a:pt x="1170" y="31820"/>
                </a:cubicBezTo>
                <a:cubicBezTo>
                  <a:pt x="7069" y="84915"/>
                  <a:pt x="37394" y="122958"/>
                  <a:pt x="81557" y="152400"/>
                </a:cubicBezTo>
                <a:lnTo>
                  <a:pt x="141847" y="192594"/>
                </a:lnTo>
                <a:lnTo>
                  <a:pt x="171992" y="212690"/>
                </a:lnTo>
                <a:cubicBezTo>
                  <a:pt x="175342" y="343319"/>
                  <a:pt x="172731" y="474236"/>
                  <a:pt x="182041" y="604576"/>
                </a:cubicBezTo>
                <a:cubicBezTo>
                  <a:pt x="182901" y="616622"/>
                  <a:pt x="195118" y="624894"/>
                  <a:pt x="202137" y="634721"/>
                </a:cubicBezTo>
                <a:cubicBezTo>
                  <a:pt x="211871" y="648349"/>
                  <a:pt x="222548" y="661287"/>
                  <a:pt x="232282" y="674915"/>
                </a:cubicBezTo>
                <a:cubicBezTo>
                  <a:pt x="267255" y="723877"/>
                  <a:pt x="238833" y="686378"/>
                  <a:pt x="272476" y="745253"/>
                </a:cubicBezTo>
                <a:cubicBezTo>
                  <a:pt x="278468" y="755738"/>
                  <a:pt x="285873" y="765350"/>
                  <a:pt x="292572" y="775398"/>
                </a:cubicBezTo>
                <a:cubicBezTo>
                  <a:pt x="289223" y="879231"/>
                  <a:pt x="288624" y="983189"/>
                  <a:pt x="282524" y="1086897"/>
                </a:cubicBezTo>
                <a:cubicBezTo>
                  <a:pt x="281902" y="1097471"/>
                  <a:pt x="277213" y="1107568"/>
                  <a:pt x="272476" y="1117042"/>
                </a:cubicBezTo>
                <a:cubicBezTo>
                  <a:pt x="267075" y="1127844"/>
                  <a:pt x="259078" y="1137139"/>
                  <a:pt x="252379" y="1147187"/>
                </a:cubicBezTo>
                <a:cubicBezTo>
                  <a:pt x="249030" y="1157235"/>
                  <a:pt x="247068" y="1167858"/>
                  <a:pt x="242331" y="1177332"/>
                </a:cubicBezTo>
                <a:cubicBezTo>
                  <a:pt x="236930" y="1188134"/>
                  <a:pt x="225163" y="1195761"/>
                  <a:pt x="222234" y="1207477"/>
                </a:cubicBezTo>
                <a:cubicBezTo>
                  <a:pt x="214878" y="1236902"/>
                  <a:pt x="216475" y="1267886"/>
                  <a:pt x="212186" y="1297912"/>
                </a:cubicBezTo>
                <a:cubicBezTo>
                  <a:pt x="209771" y="1314819"/>
                  <a:pt x="206631" y="1331677"/>
                  <a:pt x="202137" y="1348154"/>
                </a:cubicBezTo>
                <a:cubicBezTo>
                  <a:pt x="196563" y="1368591"/>
                  <a:pt x="193792" y="1390818"/>
                  <a:pt x="182041" y="1408444"/>
                </a:cubicBezTo>
                <a:lnTo>
                  <a:pt x="141847" y="1468734"/>
                </a:lnTo>
                <a:lnTo>
                  <a:pt x="121751" y="1498879"/>
                </a:lnTo>
                <a:cubicBezTo>
                  <a:pt x="125100" y="1508928"/>
                  <a:pt x="121207" y="1529025"/>
                  <a:pt x="131799" y="1529025"/>
                </a:cubicBezTo>
                <a:cubicBezTo>
                  <a:pt x="148546" y="1529025"/>
                  <a:pt x="157451" y="1507188"/>
                  <a:pt x="171992" y="1498879"/>
                </a:cubicBezTo>
                <a:cubicBezTo>
                  <a:pt x="181188" y="1493624"/>
                  <a:pt x="192089" y="1492180"/>
                  <a:pt x="202137" y="1488831"/>
                </a:cubicBezTo>
                <a:cubicBezTo>
                  <a:pt x="212185" y="1478783"/>
                  <a:pt x="223283" y="1469684"/>
                  <a:pt x="232282" y="1458686"/>
                </a:cubicBezTo>
                <a:cubicBezTo>
                  <a:pt x="272800" y="1409163"/>
                  <a:pt x="283734" y="1391556"/>
                  <a:pt x="312669" y="1348154"/>
                </a:cubicBezTo>
                <a:cubicBezTo>
                  <a:pt x="309320" y="1150536"/>
                  <a:pt x="311733" y="952737"/>
                  <a:pt x="302621" y="755301"/>
                </a:cubicBezTo>
                <a:cubicBezTo>
                  <a:pt x="301644" y="734140"/>
                  <a:pt x="289223" y="715108"/>
                  <a:pt x="282524" y="695011"/>
                </a:cubicBezTo>
                <a:cubicBezTo>
                  <a:pt x="279175" y="684963"/>
                  <a:pt x="278351" y="673679"/>
                  <a:pt x="272476" y="664866"/>
                </a:cubicBezTo>
                <a:lnTo>
                  <a:pt x="252379" y="634721"/>
                </a:lnTo>
                <a:cubicBezTo>
                  <a:pt x="249030" y="621323"/>
                  <a:pt x="246125" y="607807"/>
                  <a:pt x="242331" y="594528"/>
                </a:cubicBezTo>
                <a:cubicBezTo>
                  <a:pt x="239421" y="584344"/>
                  <a:pt x="232943" y="574954"/>
                  <a:pt x="232282" y="564383"/>
                </a:cubicBezTo>
                <a:cubicBezTo>
                  <a:pt x="226219" y="467381"/>
                  <a:pt x="230534" y="369818"/>
                  <a:pt x="222234" y="272981"/>
                </a:cubicBezTo>
                <a:cubicBezTo>
                  <a:pt x="220425" y="251874"/>
                  <a:pt x="208836" y="232787"/>
                  <a:pt x="202137" y="212690"/>
                </a:cubicBezTo>
                <a:cubicBezTo>
                  <a:pt x="188270" y="171088"/>
                  <a:pt x="200902" y="188420"/>
                  <a:pt x="161944" y="162449"/>
                </a:cubicBezTo>
                <a:cubicBezTo>
                  <a:pt x="108352" y="82062"/>
                  <a:pt x="178691" y="179196"/>
                  <a:pt x="111702" y="112207"/>
                </a:cubicBezTo>
                <a:cubicBezTo>
                  <a:pt x="103163" y="103668"/>
                  <a:pt x="100694" y="90015"/>
                  <a:pt x="91605" y="82062"/>
                </a:cubicBezTo>
                <a:cubicBezTo>
                  <a:pt x="73428" y="66157"/>
                  <a:pt x="31315" y="41868"/>
                  <a:pt x="31315" y="41868"/>
                </a:cubicBezTo>
                <a:cubicBezTo>
                  <a:pt x="9361" y="8936"/>
                  <a:pt x="16243" y="3350"/>
                  <a:pt x="11219" y="1675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лилиния 43"/>
          <p:cNvSpPr/>
          <p:nvPr/>
        </p:nvSpPr>
        <p:spPr>
          <a:xfrm>
            <a:off x="7224840" y="2130480"/>
            <a:ext cx="210960" cy="1106280"/>
          </a:xfrm>
          <a:custGeom>
            <a:avLst/>
            <a:gdLst/>
            <a:ahLst/>
            <a:rect l="l" t="t" r="r" b="b"/>
            <a:pathLst>
              <a:path w="211015" h="1107311">
                <a:moveTo>
                  <a:pt x="0" y="0"/>
                </a:moveTo>
                <a:cubicBezTo>
                  <a:pt x="6699" y="13398"/>
                  <a:pt x="12665" y="27187"/>
                  <a:pt x="20097" y="40193"/>
                </a:cubicBezTo>
                <a:cubicBezTo>
                  <a:pt x="26089" y="50678"/>
                  <a:pt x="38208" y="58426"/>
                  <a:pt x="40193" y="70338"/>
                </a:cubicBezTo>
                <a:cubicBezTo>
                  <a:pt x="58874" y="182427"/>
                  <a:pt x="20434" y="191322"/>
                  <a:pt x="70338" y="251208"/>
                </a:cubicBezTo>
                <a:cubicBezTo>
                  <a:pt x="79435" y="262125"/>
                  <a:pt x="90435" y="271305"/>
                  <a:pt x="100483" y="281353"/>
                </a:cubicBezTo>
                <a:cubicBezTo>
                  <a:pt x="103833" y="291401"/>
                  <a:pt x="105388" y="302239"/>
                  <a:pt x="110532" y="311498"/>
                </a:cubicBezTo>
                <a:cubicBezTo>
                  <a:pt x="122262" y="332612"/>
                  <a:pt x="150725" y="371789"/>
                  <a:pt x="150725" y="371789"/>
                </a:cubicBezTo>
                <a:cubicBezTo>
                  <a:pt x="185451" y="545420"/>
                  <a:pt x="168470" y="441255"/>
                  <a:pt x="150725" y="813916"/>
                </a:cubicBezTo>
                <a:cubicBezTo>
                  <a:pt x="150221" y="824496"/>
                  <a:pt x="145414" y="834587"/>
                  <a:pt x="140677" y="844061"/>
                </a:cubicBezTo>
                <a:cubicBezTo>
                  <a:pt x="135276" y="854863"/>
                  <a:pt x="127279" y="864158"/>
                  <a:pt x="120580" y="874206"/>
                </a:cubicBezTo>
                <a:cubicBezTo>
                  <a:pt x="91633" y="961046"/>
                  <a:pt x="81196" y="975176"/>
                  <a:pt x="90435" y="1095270"/>
                </a:cubicBezTo>
                <a:cubicBezTo>
                  <a:pt x="91361" y="1107311"/>
                  <a:pt x="101993" y="1073664"/>
                  <a:pt x="110532" y="1065125"/>
                </a:cubicBezTo>
                <a:cubicBezTo>
                  <a:pt x="119071" y="1056586"/>
                  <a:pt x="130629" y="1051727"/>
                  <a:pt x="140677" y="1045028"/>
                </a:cubicBezTo>
                <a:cubicBezTo>
                  <a:pt x="147376" y="1034980"/>
                  <a:pt x="155372" y="1025685"/>
                  <a:pt x="160773" y="1014883"/>
                </a:cubicBezTo>
                <a:cubicBezTo>
                  <a:pt x="165510" y="1005409"/>
                  <a:pt x="169904" y="995290"/>
                  <a:pt x="170822" y="984738"/>
                </a:cubicBezTo>
                <a:cubicBezTo>
                  <a:pt x="176633" y="917917"/>
                  <a:pt x="175726" y="850646"/>
                  <a:pt x="180870" y="783771"/>
                </a:cubicBezTo>
                <a:cubicBezTo>
                  <a:pt x="182433" y="763457"/>
                  <a:pt x="187569" y="743578"/>
                  <a:pt x="190919" y="723481"/>
                </a:cubicBezTo>
                <a:cubicBezTo>
                  <a:pt x="194268" y="663191"/>
                  <a:pt x="195500" y="602746"/>
                  <a:pt x="200967" y="542611"/>
                </a:cubicBezTo>
                <a:cubicBezTo>
                  <a:pt x="202217" y="528857"/>
                  <a:pt x="211015" y="516227"/>
                  <a:pt x="211015" y="502417"/>
                </a:cubicBezTo>
                <a:cubicBezTo>
                  <a:pt x="211015" y="438689"/>
                  <a:pt x="208560" y="374772"/>
                  <a:pt x="200967" y="311498"/>
                </a:cubicBezTo>
                <a:cubicBezTo>
                  <a:pt x="198443" y="290465"/>
                  <a:pt x="198496" y="262958"/>
                  <a:pt x="180870" y="251208"/>
                </a:cubicBezTo>
                <a:lnTo>
                  <a:pt x="150725" y="231112"/>
                </a:lnTo>
                <a:cubicBezTo>
                  <a:pt x="100820" y="156256"/>
                  <a:pt x="164967" y="248205"/>
                  <a:pt x="100483" y="170822"/>
                </a:cubicBezTo>
                <a:cubicBezTo>
                  <a:pt x="64491" y="127631"/>
                  <a:pt x="92995" y="155845"/>
                  <a:pt x="70338" y="110531"/>
                </a:cubicBezTo>
                <a:cubicBezTo>
                  <a:pt x="64937" y="99729"/>
                  <a:pt x="55643" y="91188"/>
                  <a:pt x="50242" y="80386"/>
                </a:cubicBezTo>
                <a:cubicBezTo>
                  <a:pt x="33581" y="47064"/>
                  <a:pt x="52541" y="50241"/>
                  <a:pt x="30145" y="50241"/>
                </a:cubicBezTo>
              </a:path>
            </a:pathLst>
          </a:custGeom>
          <a:solidFill>
            <a:srgbClr val="262626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44"/>
          <p:cNvSpPr/>
          <p:nvPr/>
        </p:nvSpPr>
        <p:spPr>
          <a:xfrm>
            <a:off x="5797440" y="673200"/>
            <a:ext cx="1243080" cy="1176120"/>
          </a:xfrm>
          <a:custGeom>
            <a:avLst/>
            <a:gdLst/>
            <a:ahLst/>
            <a:rect l="l" t="t" r="r" b="b"/>
            <a:pathLst>
              <a:path w="1242646" h="1175657">
                <a:moveTo>
                  <a:pt x="160774" y="1075173"/>
                </a:moveTo>
                <a:cubicBezTo>
                  <a:pt x="178459" y="1022115"/>
                  <a:pt x="164947" y="1053840"/>
                  <a:pt x="211015" y="984738"/>
                </a:cubicBezTo>
                <a:lnTo>
                  <a:pt x="231112" y="954593"/>
                </a:lnTo>
                <a:lnTo>
                  <a:pt x="251209" y="924448"/>
                </a:lnTo>
                <a:cubicBezTo>
                  <a:pt x="254558" y="914400"/>
                  <a:pt x="258688" y="904579"/>
                  <a:pt x="261257" y="894303"/>
                </a:cubicBezTo>
                <a:cubicBezTo>
                  <a:pt x="265399" y="877734"/>
                  <a:pt x="263667" y="859337"/>
                  <a:pt x="271305" y="844061"/>
                </a:cubicBezTo>
                <a:cubicBezTo>
                  <a:pt x="280976" y="824718"/>
                  <a:pt x="314283" y="805360"/>
                  <a:pt x="331596" y="793819"/>
                </a:cubicBezTo>
                <a:cubicBezTo>
                  <a:pt x="350631" y="736711"/>
                  <a:pt x="334154" y="771164"/>
                  <a:pt x="401934" y="703384"/>
                </a:cubicBezTo>
                <a:lnTo>
                  <a:pt x="432079" y="673239"/>
                </a:lnTo>
                <a:cubicBezTo>
                  <a:pt x="442127" y="663191"/>
                  <a:pt x="454341" y="654918"/>
                  <a:pt x="462224" y="643094"/>
                </a:cubicBezTo>
                <a:cubicBezTo>
                  <a:pt x="468923" y="633046"/>
                  <a:pt x="474590" y="622227"/>
                  <a:pt x="482321" y="612949"/>
                </a:cubicBezTo>
                <a:cubicBezTo>
                  <a:pt x="491418" y="602032"/>
                  <a:pt x="503218" y="593593"/>
                  <a:pt x="512466" y="582804"/>
                </a:cubicBezTo>
                <a:cubicBezTo>
                  <a:pt x="523365" y="570089"/>
                  <a:pt x="532563" y="556009"/>
                  <a:pt x="542611" y="542611"/>
                </a:cubicBezTo>
                <a:cubicBezTo>
                  <a:pt x="545960" y="509116"/>
                  <a:pt x="542014" y="474061"/>
                  <a:pt x="552659" y="442127"/>
                </a:cubicBezTo>
                <a:cubicBezTo>
                  <a:pt x="556478" y="430670"/>
                  <a:pt x="575260" y="431460"/>
                  <a:pt x="582804" y="422030"/>
                </a:cubicBezTo>
                <a:cubicBezTo>
                  <a:pt x="621779" y="373312"/>
                  <a:pt x="557228" y="403760"/>
                  <a:pt x="622998" y="381837"/>
                </a:cubicBezTo>
                <a:cubicBezTo>
                  <a:pt x="629697" y="371789"/>
                  <a:pt x="635363" y="360969"/>
                  <a:pt x="643094" y="351692"/>
                </a:cubicBezTo>
                <a:cubicBezTo>
                  <a:pt x="652191" y="340775"/>
                  <a:pt x="665356" y="333371"/>
                  <a:pt x="673239" y="321547"/>
                </a:cubicBezTo>
                <a:cubicBezTo>
                  <a:pt x="679114" y="312734"/>
                  <a:pt x="675798" y="298892"/>
                  <a:pt x="683288" y="291402"/>
                </a:cubicBezTo>
                <a:cubicBezTo>
                  <a:pt x="697098" y="277592"/>
                  <a:pt x="717053" y="271743"/>
                  <a:pt x="733530" y="261257"/>
                </a:cubicBezTo>
                <a:cubicBezTo>
                  <a:pt x="753907" y="248290"/>
                  <a:pt x="774497" y="235555"/>
                  <a:pt x="793820" y="221063"/>
                </a:cubicBezTo>
                <a:cubicBezTo>
                  <a:pt x="807218" y="211015"/>
                  <a:pt x="820293" y="200522"/>
                  <a:pt x="834013" y="190918"/>
                </a:cubicBezTo>
                <a:cubicBezTo>
                  <a:pt x="863694" y="170142"/>
                  <a:pt x="894303" y="150725"/>
                  <a:pt x="924448" y="130628"/>
                </a:cubicBezTo>
                <a:lnTo>
                  <a:pt x="954593" y="110531"/>
                </a:lnTo>
                <a:cubicBezTo>
                  <a:pt x="985140" y="90166"/>
                  <a:pt x="1003494" y="74114"/>
                  <a:pt x="1045028" y="70338"/>
                </a:cubicBezTo>
                <a:lnTo>
                  <a:pt x="1155560" y="60290"/>
                </a:lnTo>
                <a:cubicBezTo>
                  <a:pt x="1172307" y="50242"/>
                  <a:pt x="1189240" y="40496"/>
                  <a:pt x="1205802" y="30145"/>
                </a:cubicBezTo>
                <a:cubicBezTo>
                  <a:pt x="1216043" y="23744"/>
                  <a:pt x="1242646" y="0"/>
                  <a:pt x="1235947" y="10048"/>
                </a:cubicBezTo>
                <a:cubicBezTo>
                  <a:pt x="1229248" y="20096"/>
                  <a:pt x="1224389" y="31654"/>
                  <a:pt x="1215850" y="40193"/>
                </a:cubicBezTo>
                <a:cubicBezTo>
                  <a:pt x="1197409" y="58634"/>
                  <a:pt x="1166532" y="67249"/>
                  <a:pt x="1145512" y="80386"/>
                </a:cubicBezTo>
                <a:cubicBezTo>
                  <a:pt x="1057945" y="135115"/>
                  <a:pt x="1141804" y="84094"/>
                  <a:pt x="1085222" y="140676"/>
                </a:cubicBezTo>
                <a:cubicBezTo>
                  <a:pt x="1076683" y="149215"/>
                  <a:pt x="1064355" y="153042"/>
                  <a:pt x="1055077" y="160773"/>
                </a:cubicBezTo>
                <a:cubicBezTo>
                  <a:pt x="1044160" y="169870"/>
                  <a:pt x="1037270" y="183868"/>
                  <a:pt x="1024932" y="190918"/>
                </a:cubicBezTo>
                <a:cubicBezTo>
                  <a:pt x="1012941" y="197770"/>
                  <a:pt x="998454" y="199353"/>
                  <a:pt x="984738" y="200967"/>
                </a:cubicBezTo>
                <a:cubicBezTo>
                  <a:pt x="941366" y="206070"/>
                  <a:pt x="897653" y="207666"/>
                  <a:pt x="854110" y="211015"/>
                </a:cubicBezTo>
                <a:cubicBezTo>
                  <a:pt x="827714" y="237411"/>
                  <a:pt x="815204" y="243566"/>
                  <a:pt x="803868" y="281353"/>
                </a:cubicBezTo>
                <a:cubicBezTo>
                  <a:pt x="798014" y="300868"/>
                  <a:pt x="805504" y="324953"/>
                  <a:pt x="793820" y="341644"/>
                </a:cubicBezTo>
                <a:cubicBezTo>
                  <a:pt x="779969" y="361431"/>
                  <a:pt x="753627" y="368439"/>
                  <a:pt x="733530" y="381837"/>
                </a:cubicBezTo>
                <a:lnTo>
                  <a:pt x="703385" y="401934"/>
                </a:lnTo>
                <a:cubicBezTo>
                  <a:pt x="696686" y="411982"/>
                  <a:pt x="691311" y="423053"/>
                  <a:pt x="683288" y="432079"/>
                </a:cubicBezTo>
                <a:cubicBezTo>
                  <a:pt x="664406" y="453321"/>
                  <a:pt x="635709" y="466949"/>
                  <a:pt x="622998" y="492369"/>
                </a:cubicBezTo>
                <a:cubicBezTo>
                  <a:pt x="605132" y="528101"/>
                  <a:pt x="602711" y="528205"/>
                  <a:pt x="592853" y="562707"/>
                </a:cubicBezTo>
                <a:cubicBezTo>
                  <a:pt x="589059" y="575986"/>
                  <a:pt x="591431" y="592117"/>
                  <a:pt x="582804" y="602901"/>
                </a:cubicBezTo>
                <a:cubicBezTo>
                  <a:pt x="576187" y="611172"/>
                  <a:pt x="562843" y="610039"/>
                  <a:pt x="552659" y="612949"/>
                </a:cubicBezTo>
                <a:cubicBezTo>
                  <a:pt x="539380" y="616743"/>
                  <a:pt x="525864" y="619648"/>
                  <a:pt x="512466" y="622997"/>
                </a:cubicBezTo>
                <a:cubicBezTo>
                  <a:pt x="509116" y="633045"/>
                  <a:pt x="509034" y="644871"/>
                  <a:pt x="502417" y="653142"/>
                </a:cubicBezTo>
                <a:cubicBezTo>
                  <a:pt x="475401" y="686912"/>
                  <a:pt x="413036" y="679821"/>
                  <a:pt x="381837" y="683287"/>
                </a:cubicBezTo>
                <a:cubicBezTo>
                  <a:pt x="378488" y="730179"/>
                  <a:pt x="379959" y="777668"/>
                  <a:pt x="371789" y="823964"/>
                </a:cubicBezTo>
                <a:cubicBezTo>
                  <a:pt x="369690" y="835857"/>
                  <a:pt x="355162" y="842542"/>
                  <a:pt x="351692" y="854109"/>
                </a:cubicBezTo>
                <a:cubicBezTo>
                  <a:pt x="344886" y="876795"/>
                  <a:pt x="346289" y="901224"/>
                  <a:pt x="341644" y="924448"/>
                </a:cubicBezTo>
                <a:cubicBezTo>
                  <a:pt x="339567" y="934834"/>
                  <a:pt x="322783" y="948718"/>
                  <a:pt x="331596" y="954593"/>
                </a:cubicBezTo>
                <a:cubicBezTo>
                  <a:pt x="343087" y="962253"/>
                  <a:pt x="358391" y="947894"/>
                  <a:pt x="371789" y="944545"/>
                </a:cubicBezTo>
                <a:cubicBezTo>
                  <a:pt x="381837" y="937846"/>
                  <a:pt x="393395" y="932987"/>
                  <a:pt x="401934" y="924448"/>
                </a:cubicBezTo>
                <a:cubicBezTo>
                  <a:pt x="410473" y="915909"/>
                  <a:pt x="411546" y="900295"/>
                  <a:pt x="422031" y="894303"/>
                </a:cubicBezTo>
                <a:cubicBezTo>
                  <a:pt x="436859" y="885830"/>
                  <a:pt x="455525" y="887604"/>
                  <a:pt x="472272" y="884255"/>
                </a:cubicBezTo>
                <a:cubicBezTo>
                  <a:pt x="475622" y="870857"/>
                  <a:pt x="479613" y="857603"/>
                  <a:pt x="482321" y="844061"/>
                </a:cubicBezTo>
                <a:cubicBezTo>
                  <a:pt x="486317" y="824083"/>
                  <a:pt x="483258" y="801994"/>
                  <a:pt x="492369" y="783771"/>
                </a:cubicBezTo>
                <a:cubicBezTo>
                  <a:pt x="500161" y="768187"/>
                  <a:pt x="538391" y="758382"/>
                  <a:pt x="552659" y="753626"/>
                </a:cubicBezTo>
                <a:cubicBezTo>
                  <a:pt x="566057" y="743578"/>
                  <a:pt x="580405" y="734684"/>
                  <a:pt x="592853" y="723481"/>
                </a:cubicBezTo>
                <a:cubicBezTo>
                  <a:pt x="613978" y="704468"/>
                  <a:pt x="653143" y="663191"/>
                  <a:pt x="653143" y="663191"/>
                </a:cubicBezTo>
                <a:cubicBezTo>
                  <a:pt x="694089" y="540348"/>
                  <a:pt x="601308" y="827692"/>
                  <a:pt x="673239" y="432079"/>
                </a:cubicBezTo>
                <a:cubicBezTo>
                  <a:pt x="675399" y="420197"/>
                  <a:pt x="692899" y="417974"/>
                  <a:pt x="703385" y="411982"/>
                </a:cubicBezTo>
                <a:cubicBezTo>
                  <a:pt x="730183" y="396669"/>
                  <a:pt x="745538" y="389890"/>
                  <a:pt x="773723" y="381837"/>
                </a:cubicBezTo>
                <a:cubicBezTo>
                  <a:pt x="787002" y="378043"/>
                  <a:pt x="800135" y="372678"/>
                  <a:pt x="813916" y="371789"/>
                </a:cubicBezTo>
                <a:cubicBezTo>
                  <a:pt x="904226" y="365962"/>
                  <a:pt x="994787" y="365090"/>
                  <a:pt x="1085222" y="361740"/>
                </a:cubicBezTo>
                <a:cubicBezTo>
                  <a:pt x="1078523" y="341643"/>
                  <a:pt x="1069279" y="322222"/>
                  <a:pt x="1065125" y="301450"/>
                </a:cubicBezTo>
                <a:cubicBezTo>
                  <a:pt x="1061776" y="284703"/>
                  <a:pt x="1061074" y="267200"/>
                  <a:pt x="1055077" y="251208"/>
                </a:cubicBezTo>
                <a:cubicBezTo>
                  <a:pt x="1050837" y="239900"/>
                  <a:pt x="1041679" y="231111"/>
                  <a:pt x="1034980" y="221063"/>
                </a:cubicBezTo>
                <a:cubicBezTo>
                  <a:pt x="1024061" y="188306"/>
                  <a:pt x="1012473" y="169212"/>
                  <a:pt x="1034980" y="130628"/>
                </a:cubicBezTo>
                <a:cubicBezTo>
                  <a:pt x="1049300" y="106079"/>
                  <a:pt x="1095270" y="70338"/>
                  <a:pt x="1095270" y="70338"/>
                </a:cubicBezTo>
                <a:cubicBezTo>
                  <a:pt x="1091921" y="80386"/>
                  <a:pt x="1089959" y="91009"/>
                  <a:pt x="1085222" y="100483"/>
                </a:cubicBezTo>
                <a:cubicBezTo>
                  <a:pt x="1077877" y="115173"/>
                  <a:pt x="1041804" y="161723"/>
                  <a:pt x="1034980" y="170822"/>
                </a:cubicBezTo>
                <a:cubicBezTo>
                  <a:pt x="1027999" y="191766"/>
                  <a:pt x="1018633" y="224603"/>
                  <a:pt x="1004835" y="241160"/>
                </a:cubicBezTo>
                <a:cubicBezTo>
                  <a:pt x="997104" y="250438"/>
                  <a:pt x="984738" y="254558"/>
                  <a:pt x="974690" y="261257"/>
                </a:cubicBezTo>
                <a:cubicBezTo>
                  <a:pt x="971341" y="271305"/>
                  <a:pt x="969379" y="281928"/>
                  <a:pt x="964642" y="291402"/>
                </a:cubicBezTo>
                <a:cubicBezTo>
                  <a:pt x="959241" y="302204"/>
                  <a:pt x="953084" y="313008"/>
                  <a:pt x="944545" y="321547"/>
                </a:cubicBezTo>
                <a:cubicBezTo>
                  <a:pt x="907929" y="358163"/>
                  <a:pt x="866385" y="346445"/>
                  <a:pt x="813916" y="351692"/>
                </a:cubicBezTo>
                <a:cubicBezTo>
                  <a:pt x="810567" y="385186"/>
                  <a:pt x="813115" y="419809"/>
                  <a:pt x="803868" y="452175"/>
                </a:cubicBezTo>
                <a:cubicBezTo>
                  <a:pt x="799267" y="468278"/>
                  <a:pt x="783457" y="478741"/>
                  <a:pt x="773723" y="492369"/>
                </a:cubicBezTo>
                <a:cubicBezTo>
                  <a:pt x="766704" y="502196"/>
                  <a:pt x="760325" y="512466"/>
                  <a:pt x="753626" y="522514"/>
                </a:cubicBezTo>
                <a:cubicBezTo>
                  <a:pt x="750277" y="535912"/>
                  <a:pt x="750430" y="550717"/>
                  <a:pt x="743578" y="562707"/>
                </a:cubicBezTo>
                <a:cubicBezTo>
                  <a:pt x="683364" y="668082"/>
                  <a:pt x="734756" y="528880"/>
                  <a:pt x="703385" y="622997"/>
                </a:cubicBezTo>
                <a:cubicBezTo>
                  <a:pt x="716968" y="677332"/>
                  <a:pt x="716892" y="652652"/>
                  <a:pt x="703385" y="713433"/>
                </a:cubicBezTo>
                <a:cubicBezTo>
                  <a:pt x="700389" y="726914"/>
                  <a:pt x="700997" y="742135"/>
                  <a:pt x="693336" y="753626"/>
                </a:cubicBezTo>
                <a:cubicBezTo>
                  <a:pt x="686637" y="763674"/>
                  <a:pt x="673239" y="767024"/>
                  <a:pt x="663191" y="773723"/>
                </a:cubicBezTo>
                <a:cubicBezTo>
                  <a:pt x="659842" y="783771"/>
                  <a:pt x="657880" y="794394"/>
                  <a:pt x="653143" y="803868"/>
                </a:cubicBezTo>
                <a:cubicBezTo>
                  <a:pt x="647742" y="814670"/>
                  <a:pt x="636865" y="822556"/>
                  <a:pt x="633046" y="834013"/>
                </a:cubicBezTo>
                <a:cubicBezTo>
                  <a:pt x="626603" y="853341"/>
                  <a:pt x="626347" y="874206"/>
                  <a:pt x="622998" y="894303"/>
                </a:cubicBezTo>
                <a:cubicBezTo>
                  <a:pt x="641928" y="1045746"/>
                  <a:pt x="610205" y="963813"/>
                  <a:pt x="663191" y="944545"/>
                </a:cubicBezTo>
                <a:cubicBezTo>
                  <a:pt x="688569" y="935316"/>
                  <a:pt x="716782" y="937846"/>
                  <a:pt x="743578" y="934496"/>
                </a:cubicBezTo>
                <a:cubicBezTo>
                  <a:pt x="776091" y="836955"/>
                  <a:pt x="717129" y="1021970"/>
                  <a:pt x="763675" y="773723"/>
                </a:cubicBezTo>
                <a:cubicBezTo>
                  <a:pt x="765901" y="761853"/>
                  <a:pt x="777779" y="754063"/>
                  <a:pt x="783771" y="743578"/>
                </a:cubicBezTo>
                <a:cubicBezTo>
                  <a:pt x="791203" y="730572"/>
                  <a:pt x="797169" y="716782"/>
                  <a:pt x="803868" y="703384"/>
                </a:cubicBezTo>
                <a:cubicBezTo>
                  <a:pt x="807217" y="669890"/>
                  <a:pt x="803876" y="635030"/>
                  <a:pt x="813916" y="602901"/>
                </a:cubicBezTo>
                <a:cubicBezTo>
                  <a:pt x="821120" y="579847"/>
                  <a:pt x="854110" y="542611"/>
                  <a:pt x="854110" y="542611"/>
                </a:cubicBezTo>
                <a:cubicBezTo>
                  <a:pt x="857459" y="529213"/>
                  <a:pt x="857982" y="514769"/>
                  <a:pt x="864158" y="502417"/>
                </a:cubicBezTo>
                <a:cubicBezTo>
                  <a:pt x="876528" y="477678"/>
                  <a:pt x="915594" y="427138"/>
                  <a:pt x="934497" y="401934"/>
                </a:cubicBezTo>
                <a:cubicBezTo>
                  <a:pt x="937846" y="391886"/>
                  <a:pt x="939401" y="381048"/>
                  <a:pt x="944545" y="371789"/>
                </a:cubicBezTo>
                <a:cubicBezTo>
                  <a:pt x="974593" y="317702"/>
                  <a:pt x="978265" y="317971"/>
                  <a:pt x="1014883" y="281353"/>
                </a:cubicBezTo>
                <a:cubicBezTo>
                  <a:pt x="1022142" y="259577"/>
                  <a:pt x="1030840" y="228750"/>
                  <a:pt x="1045028" y="211015"/>
                </a:cubicBezTo>
                <a:cubicBezTo>
                  <a:pt x="1062783" y="188822"/>
                  <a:pt x="1085222" y="170822"/>
                  <a:pt x="1105319" y="150725"/>
                </a:cubicBezTo>
                <a:cubicBezTo>
                  <a:pt x="1127544" y="128501"/>
                  <a:pt x="1141570" y="118416"/>
                  <a:pt x="1155560" y="90435"/>
                </a:cubicBezTo>
                <a:cubicBezTo>
                  <a:pt x="1160297" y="80961"/>
                  <a:pt x="1176201" y="60290"/>
                  <a:pt x="1165609" y="60290"/>
                </a:cubicBezTo>
                <a:cubicBezTo>
                  <a:pt x="1151399" y="60290"/>
                  <a:pt x="1143724" y="78871"/>
                  <a:pt x="1135464" y="90435"/>
                </a:cubicBezTo>
                <a:cubicBezTo>
                  <a:pt x="1100612" y="139228"/>
                  <a:pt x="1127188" y="117035"/>
                  <a:pt x="1105319" y="160773"/>
                </a:cubicBezTo>
                <a:cubicBezTo>
                  <a:pt x="1099918" y="171575"/>
                  <a:pt x="1091921" y="180870"/>
                  <a:pt x="1085222" y="190918"/>
                </a:cubicBezTo>
                <a:cubicBezTo>
                  <a:pt x="1081873" y="200966"/>
                  <a:pt x="1079911" y="211589"/>
                  <a:pt x="1075174" y="221063"/>
                </a:cubicBezTo>
                <a:cubicBezTo>
                  <a:pt x="1045816" y="279779"/>
                  <a:pt x="1061865" y="222423"/>
                  <a:pt x="1045028" y="281353"/>
                </a:cubicBezTo>
                <a:cubicBezTo>
                  <a:pt x="1041234" y="294632"/>
                  <a:pt x="1038774" y="308268"/>
                  <a:pt x="1034980" y="321547"/>
                </a:cubicBezTo>
                <a:cubicBezTo>
                  <a:pt x="1032070" y="331731"/>
                  <a:pt x="1027230" y="341352"/>
                  <a:pt x="1024932" y="351692"/>
                </a:cubicBezTo>
                <a:cubicBezTo>
                  <a:pt x="1020512" y="371581"/>
                  <a:pt x="1021326" y="392654"/>
                  <a:pt x="1014883" y="411982"/>
                </a:cubicBezTo>
                <a:cubicBezTo>
                  <a:pt x="1011064" y="423439"/>
                  <a:pt x="999692" y="431091"/>
                  <a:pt x="994787" y="442127"/>
                </a:cubicBezTo>
                <a:cubicBezTo>
                  <a:pt x="986184" y="461485"/>
                  <a:pt x="974690" y="502417"/>
                  <a:pt x="974690" y="502417"/>
                </a:cubicBezTo>
                <a:cubicBezTo>
                  <a:pt x="971341" y="532562"/>
                  <a:pt x="967660" y="562672"/>
                  <a:pt x="964642" y="592852"/>
                </a:cubicBezTo>
                <a:cubicBezTo>
                  <a:pt x="960961" y="629664"/>
                  <a:pt x="958916" y="666641"/>
                  <a:pt x="954593" y="703384"/>
                </a:cubicBezTo>
                <a:cubicBezTo>
                  <a:pt x="952212" y="723618"/>
                  <a:pt x="950399" y="744159"/>
                  <a:pt x="944545" y="763674"/>
                </a:cubicBezTo>
                <a:cubicBezTo>
                  <a:pt x="940241" y="778022"/>
                  <a:pt x="932155" y="791023"/>
                  <a:pt x="924448" y="803868"/>
                </a:cubicBezTo>
                <a:cubicBezTo>
                  <a:pt x="912021" y="824579"/>
                  <a:pt x="884255" y="864158"/>
                  <a:pt x="884255" y="864158"/>
                </a:cubicBezTo>
                <a:cubicBezTo>
                  <a:pt x="887604" y="877556"/>
                  <a:pt x="894303" y="890541"/>
                  <a:pt x="894303" y="904351"/>
                </a:cubicBezTo>
                <a:cubicBezTo>
                  <a:pt x="894303" y="936796"/>
                  <a:pt x="880568" y="950076"/>
                  <a:pt x="864158" y="974690"/>
                </a:cubicBezTo>
                <a:cubicBezTo>
                  <a:pt x="867507" y="994787"/>
                  <a:pt x="859799" y="1020574"/>
                  <a:pt x="874206" y="1034980"/>
                </a:cubicBezTo>
                <a:cubicBezTo>
                  <a:pt x="882746" y="1043520"/>
                  <a:pt x="896808" y="1024313"/>
                  <a:pt x="904352" y="1014883"/>
                </a:cubicBezTo>
                <a:cubicBezTo>
                  <a:pt x="910969" y="1006612"/>
                  <a:pt x="911051" y="994786"/>
                  <a:pt x="914400" y="984738"/>
                </a:cubicBezTo>
                <a:cubicBezTo>
                  <a:pt x="917749" y="924448"/>
                  <a:pt x="912133" y="862982"/>
                  <a:pt x="924448" y="803868"/>
                </a:cubicBezTo>
                <a:cubicBezTo>
                  <a:pt x="930774" y="773505"/>
                  <a:pt x="972127" y="736093"/>
                  <a:pt x="994787" y="713433"/>
                </a:cubicBezTo>
                <a:cubicBezTo>
                  <a:pt x="980989" y="782419"/>
                  <a:pt x="975595" y="784644"/>
                  <a:pt x="994787" y="874206"/>
                </a:cubicBezTo>
                <a:cubicBezTo>
                  <a:pt x="997317" y="886014"/>
                  <a:pt x="1008184" y="894303"/>
                  <a:pt x="1014883" y="904351"/>
                </a:cubicBezTo>
                <a:cubicBezTo>
                  <a:pt x="1018233" y="934496"/>
                  <a:pt x="1024932" y="964455"/>
                  <a:pt x="1024932" y="994786"/>
                </a:cubicBezTo>
                <a:cubicBezTo>
                  <a:pt x="1024932" y="1007400"/>
                  <a:pt x="1009573" y="1050911"/>
                  <a:pt x="1004835" y="1065125"/>
                </a:cubicBezTo>
                <a:cubicBezTo>
                  <a:pt x="1008633" y="1080319"/>
                  <a:pt x="1015095" y="1135463"/>
                  <a:pt x="1045028" y="1135463"/>
                </a:cubicBezTo>
                <a:cubicBezTo>
                  <a:pt x="1055620" y="1135463"/>
                  <a:pt x="1051727" y="1115366"/>
                  <a:pt x="1055077" y="1105318"/>
                </a:cubicBezTo>
                <a:cubicBezTo>
                  <a:pt x="1058426" y="1075173"/>
                  <a:pt x="1046178" y="1038567"/>
                  <a:pt x="1065125" y="1014883"/>
                </a:cubicBezTo>
                <a:cubicBezTo>
                  <a:pt x="1067392" y="1012050"/>
                  <a:pt x="1111310" y="1079136"/>
                  <a:pt x="1115367" y="1085222"/>
                </a:cubicBezTo>
                <a:cubicBezTo>
                  <a:pt x="1120925" y="1107456"/>
                  <a:pt x="1144071" y="1155848"/>
                  <a:pt x="1095270" y="1165608"/>
                </a:cubicBezTo>
                <a:cubicBezTo>
                  <a:pt x="1083428" y="1167976"/>
                  <a:pt x="1083713" y="1144002"/>
                  <a:pt x="1075174" y="1135463"/>
                </a:cubicBezTo>
                <a:cubicBezTo>
                  <a:pt x="1066634" y="1126924"/>
                  <a:pt x="1054306" y="1123098"/>
                  <a:pt x="1045028" y="1115367"/>
                </a:cubicBezTo>
                <a:cubicBezTo>
                  <a:pt x="1034111" y="1106270"/>
                  <a:pt x="1026707" y="1093105"/>
                  <a:pt x="1014883" y="1085222"/>
                </a:cubicBezTo>
                <a:cubicBezTo>
                  <a:pt x="1006070" y="1079347"/>
                  <a:pt x="994212" y="1079910"/>
                  <a:pt x="984738" y="1075173"/>
                </a:cubicBezTo>
                <a:cubicBezTo>
                  <a:pt x="973936" y="1069772"/>
                  <a:pt x="965629" y="1059981"/>
                  <a:pt x="954593" y="1055076"/>
                </a:cubicBezTo>
                <a:cubicBezTo>
                  <a:pt x="935235" y="1046473"/>
                  <a:pt x="894303" y="1034980"/>
                  <a:pt x="894303" y="1034980"/>
                </a:cubicBezTo>
                <a:cubicBezTo>
                  <a:pt x="884255" y="1024932"/>
                  <a:pt x="875982" y="1012718"/>
                  <a:pt x="864158" y="1004835"/>
                </a:cubicBezTo>
                <a:cubicBezTo>
                  <a:pt x="855345" y="998960"/>
                  <a:pt x="843487" y="999523"/>
                  <a:pt x="834013" y="994786"/>
                </a:cubicBezTo>
                <a:cubicBezTo>
                  <a:pt x="823211" y="989385"/>
                  <a:pt x="813916" y="981389"/>
                  <a:pt x="803868" y="974690"/>
                </a:cubicBezTo>
                <a:cubicBezTo>
                  <a:pt x="800519" y="957943"/>
                  <a:pt x="808030" y="933922"/>
                  <a:pt x="793820" y="924448"/>
                </a:cubicBezTo>
                <a:cubicBezTo>
                  <a:pt x="779610" y="914974"/>
                  <a:pt x="760657" y="934496"/>
                  <a:pt x="743578" y="934496"/>
                </a:cubicBezTo>
                <a:cubicBezTo>
                  <a:pt x="732986" y="934496"/>
                  <a:pt x="723481" y="927797"/>
                  <a:pt x="713433" y="924448"/>
                </a:cubicBezTo>
                <a:cubicBezTo>
                  <a:pt x="703385" y="917749"/>
                  <a:pt x="695365" y="904351"/>
                  <a:pt x="683288" y="904351"/>
                </a:cubicBezTo>
                <a:cubicBezTo>
                  <a:pt x="662104" y="904351"/>
                  <a:pt x="622998" y="924448"/>
                  <a:pt x="622998" y="924448"/>
                </a:cubicBezTo>
                <a:cubicBezTo>
                  <a:pt x="609600" y="921099"/>
                  <a:pt x="595498" y="919840"/>
                  <a:pt x="582804" y="914400"/>
                </a:cubicBezTo>
                <a:cubicBezTo>
                  <a:pt x="571704" y="909643"/>
                  <a:pt x="564736" y="894303"/>
                  <a:pt x="552659" y="894303"/>
                </a:cubicBezTo>
                <a:cubicBezTo>
                  <a:pt x="540582" y="894303"/>
                  <a:pt x="533316" y="908999"/>
                  <a:pt x="522514" y="914400"/>
                </a:cubicBezTo>
                <a:cubicBezTo>
                  <a:pt x="513040" y="919137"/>
                  <a:pt x="502417" y="921099"/>
                  <a:pt x="492369" y="924448"/>
                </a:cubicBezTo>
                <a:cubicBezTo>
                  <a:pt x="482321" y="931147"/>
                  <a:pt x="473026" y="939144"/>
                  <a:pt x="462224" y="944545"/>
                </a:cubicBezTo>
                <a:cubicBezTo>
                  <a:pt x="452750" y="949282"/>
                  <a:pt x="441814" y="950421"/>
                  <a:pt x="432079" y="954593"/>
                </a:cubicBezTo>
                <a:cubicBezTo>
                  <a:pt x="418311" y="960494"/>
                  <a:pt x="405284" y="967991"/>
                  <a:pt x="391886" y="974690"/>
                </a:cubicBezTo>
                <a:cubicBezTo>
                  <a:pt x="381838" y="967991"/>
                  <a:pt x="373744" y="955927"/>
                  <a:pt x="361741" y="954593"/>
                </a:cubicBezTo>
                <a:cubicBezTo>
                  <a:pt x="341491" y="952343"/>
                  <a:pt x="321429" y="960645"/>
                  <a:pt x="301450" y="964641"/>
                </a:cubicBezTo>
                <a:cubicBezTo>
                  <a:pt x="269915" y="970948"/>
                  <a:pt x="259837" y="975163"/>
                  <a:pt x="231112" y="984738"/>
                </a:cubicBezTo>
                <a:cubicBezTo>
                  <a:pt x="157674" y="1033697"/>
                  <a:pt x="250008" y="973941"/>
                  <a:pt x="160774" y="1024931"/>
                </a:cubicBezTo>
                <a:cubicBezTo>
                  <a:pt x="106232" y="1056098"/>
                  <a:pt x="155752" y="1036654"/>
                  <a:pt x="100483" y="1055076"/>
                </a:cubicBezTo>
                <a:cubicBezTo>
                  <a:pt x="30145" y="1101969"/>
                  <a:pt x="53591" y="1075173"/>
                  <a:pt x="20097" y="1125415"/>
                </a:cubicBezTo>
                <a:cubicBezTo>
                  <a:pt x="8899" y="1170203"/>
                  <a:pt x="19813" y="1155842"/>
                  <a:pt x="0" y="1175657"/>
                </a:cubicBezTo>
              </a:path>
            </a:pathLst>
          </a:custGeom>
          <a:noFill/>
          <a:ln w="936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45"/>
          <p:cNvSpPr/>
          <p:nvPr/>
        </p:nvSpPr>
        <p:spPr>
          <a:xfrm>
            <a:off x="5929200" y="3476520"/>
            <a:ext cx="851040" cy="1117800"/>
          </a:xfrm>
          <a:custGeom>
            <a:avLst/>
            <a:gdLst/>
            <a:ahLst/>
            <a:rect l="l" t="t" r="r" b="b"/>
            <a:pathLst>
              <a:path w="851652" h="1117034">
                <a:moveTo>
                  <a:pt x="90436" y="30145"/>
                </a:moveTo>
                <a:cubicBezTo>
                  <a:pt x="90687" y="34669"/>
                  <a:pt x="83211" y="186519"/>
                  <a:pt x="110532" y="241160"/>
                </a:cubicBezTo>
                <a:cubicBezTo>
                  <a:pt x="115933" y="251962"/>
                  <a:pt x="123930" y="261257"/>
                  <a:pt x="130629" y="271305"/>
                </a:cubicBezTo>
                <a:cubicBezTo>
                  <a:pt x="127280" y="281353"/>
                  <a:pt x="125318" y="291976"/>
                  <a:pt x="120581" y="301450"/>
                </a:cubicBezTo>
                <a:cubicBezTo>
                  <a:pt x="115180" y="312252"/>
                  <a:pt x="100484" y="319518"/>
                  <a:pt x="100484" y="331595"/>
                </a:cubicBezTo>
                <a:cubicBezTo>
                  <a:pt x="100484" y="343672"/>
                  <a:pt x="113882" y="351692"/>
                  <a:pt x="120581" y="361740"/>
                </a:cubicBezTo>
                <a:cubicBezTo>
                  <a:pt x="123930" y="371788"/>
                  <a:pt x="123140" y="384395"/>
                  <a:pt x="130629" y="391885"/>
                </a:cubicBezTo>
                <a:cubicBezTo>
                  <a:pt x="141221" y="402477"/>
                  <a:pt x="157977" y="404275"/>
                  <a:pt x="170822" y="411982"/>
                </a:cubicBezTo>
                <a:cubicBezTo>
                  <a:pt x="191533" y="424409"/>
                  <a:pt x="208199" y="444537"/>
                  <a:pt x="231113" y="452175"/>
                </a:cubicBezTo>
                <a:lnTo>
                  <a:pt x="291403" y="472272"/>
                </a:lnTo>
                <a:cubicBezTo>
                  <a:pt x="297642" y="540900"/>
                  <a:pt x="296668" y="573723"/>
                  <a:pt x="311499" y="633046"/>
                </a:cubicBezTo>
                <a:cubicBezTo>
                  <a:pt x="314068" y="643322"/>
                  <a:pt x="313277" y="656574"/>
                  <a:pt x="321548" y="663191"/>
                </a:cubicBezTo>
                <a:cubicBezTo>
                  <a:pt x="332332" y="671818"/>
                  <a:pt x="348513" y="669271"/>
                  <a:pt x="361741" y="673239"/>
                </a:cubicBezTo>
                <a:cubicBezTo>
                  <a:pt x="382031" y="679326"/>
                  <a:pt x="422031" y="693336"/>
                  <a:pt x="422031" y="693336"/>
                </a:cubicBezTo>
                <a:cubicBezTo>
                  <a:pt x="440099" y="720437"/>
                  <a:pt x="445242" y="722423"/>
                  <a:pt x="452176" y="753626"/>
                </a:cubicBezTo>
                <a:cubicBezTo>
                  <a:pt x="452225" y="753845"/>
                  <a:pt x="465602" y="844103"/>
                  <a:pt x="472273" y="854110"/>
                </a:cubicBezTo>
                <a:cubicBezTo>
                  <a:pt x="486150" y="874926"/>
                  <a:pt x="522445" y="879213"/>
                  <a:pt x="542611" y="884255"/>
                </a:cubicBezTo>
                <a:cubicBezTo>
                  <a:pt x="552660" y="890954"/>
                  <a:pt x="564217" y="895812"/>
                  <a:pt x="572757" y="904351"/>
                </a:cubicBezTo>
                <a:cubicBezTo>
                  <a:pt x="581296" y="912890"/>
                  <a:pt x="581640" y="930011"/>
                  <a:pt x="592853" y="934496"/>
                </a:cubicBezTo>
                <a:cubicBezTo>
                  <a:pt x="617926" y="944525"/>
                  <a:pt x="646444" y="941195"/>
                  <a:pt x="673240" y="944545"/>
                </a:cubicBezTo>
                <a:cubicBezTo>
                  <a:pt x="683288" y="947894"/>
                  <a:pt x="695114" y="947976"/>
                  <a:pt x="703385" y="954593"/>
                </a:cubicBezTo>
                <a:cubicBezTo>
                  <a:pt x="737657" y="982010"/>
                  <a:pt x="714465" y="996850"/>
                  <a:pt x="733530" y="1034980"/>
                </a:cubicBezTo>
                <a:cubicBezTo>
                  <a:pt x="753780" y="1075481"/>
                  <a:pt x="784499" y="1068595"/>
                  <a:pt x="823965" y="1075173"/>
                </a:cubicBezTo>
                <a:cubicBezTo>
                  <a:pt x="830664" y="1085221"/>
                  <a:pt x="841133" y="1117034"/>
                  <a:pt x="844062" y="1105318"/>
                </a:cubicBezTo>
                <a:cubicBezTo>
                  <a:pt x="851652" y="1074958"/>
                  <a:pt x="837287" y="1028205"/>
                  <a:pt x="813917" y="1004835"/>
                </a:cubicBezTo>
                <a:cubicBezTo>
                  <a:pt x="805378" y="996296"/>
                  <a:pt x="794574" y="990139"/>
                  <a:pt x="783772" y="984738"/>
                </a:cubicBezTo>
                <a:cubicBezTo>
                  <a:pt x="774298" y="980001"/>
                  <a:pt x="763675" y="978039"/>
                  <a:pt x="753627" y="974690"/>
                </a:cubicBezTo>
                <a:cubicBezTo>
                  <a:pt x="750277" y="964642"/>
                  <a:pt x="746147" y="954821"/>
                  <a:pt x="743578" y="944545"/>
                </a:cubicBezTo>
                <a:cubicBezTo>
                  <a:pt x="739436" y="927976"/>
                  <a:pt x="742003" y="909132"/>
                  <a:pt x="733530" y="894303"/>
                </a:cubicBezTo>
                <a:cubicBezTo>
                  <a:pt x="727538" y="883817"/>
                  <a:pt x="713433" y="880905"/>
                  <a:pt x="703385" y="874206"/>
                </a:cubicBezTo>
                <a:cubicBezTo>
                  <a:pt x="700036" y="864158"/>
                  <a:pt x="695906" y="854337"/>
                  <a:pt x="693337" y="844061"/>
                </a:cubicBezTo>
                <a:cubicBezTo>
                  <a:pt x="689195" y="827492"/>
                  <a:pt x="692762" y="808030"/>
                  <a:pt x="683288" y="793819"/>
                </a:cubicBezTo>
                <a:cubicBezTo>
                  <a:pt x="677413" y="785006"/>
                  <a:pt x="663191" y="787120"/>
                  <a:pt x="653143" y="783771"/>
                </a:cubicBezTo>
                <a:cubicBezTo>
                  <a:pt x="643095" y="777072"/>
                  <a:pt x="632276" y="771405"/>
                  <a:pt x="622998" y="763674"/>
                </a:cubicBezTo>
                <a:cubicBezTo>
                  <a:pt x="589661" y="735893"/>
                  <a:pt x="600132" y="732145"/>
                  <a:pt x="562708" y="713433"/>
                </a:cubicBezTo>
                <a:cubicBezTo>
                  <a:pt x="479505" y="671831"/>
                  <a:pt x="588809" y="740880"/>
                  <a:pt x="502418" y="683288"/>
                </a:cubicBezTo>
                <a:cubicBezTo>
                  <a:pt x="495719" y="656492"/>
                  <a:pt x="495735" y="627046"/>
                  <a:pt x="482321" y="602901"/>
                </a:cubicBezTo>
                <a:cubicBezTo>
                  <a:pt x="477177" y="593642"/>
                  <a:pt x="458332" y="601471"/>
                  <a:pt x="452176" y="592852"/>
                </a:cubicBezTo>
                <a:cubicBezTo>
                  <a:pt x="402430" y="523207"/>
                  <a:pt x="458557" y="548990"/>
                  <a:pt x="411983" y="502417"/>
                </a:cubicBezTo>
                <a:cubicBezTo>
                  <a:pt x="403444" y="493878"/>
                  <a:pt x="391886" y="489020"/>
                  <a:pt x="381838" y="482321"/>
                </a:cubicBezTo>
                <a:cubicBezTo>
                  <a:pt x="378488" y="472272"/>
                  <a:pt x="374087" y="462515"/>
                  <a:pt x="371789" y="452175"/>
                </a:cubicBezTo>
                <a:cubicBezTo>
                  <a:pt x="362165" y="408867"/>
                  <a:pt x="371614" y="391710"/>
                  <a:pt x="341644" y="361740"/>
                </a:cubicBezTo>
                <a:cubicBezTo>
                  <a:pt x="333105" y="353201"/>
                  <a:pt x="321547" y="348343"/>
                  <a:pt x="311499" y="341644"/>
                </a:cubicBezTo>
                <a:cubicBezTo>
                  <a:pt x="308150" y="331596"/>
                  <a:pt x="303528" y="321885"/>
                  <a:pt x="301451" y="311499"/>
                </a:cubicBezTo>
                <a:cubicBezTo>
                  <a:pt x="296806" y="288275"/>
                  <a:pt x="302632" y="262013"/>
                  <a:pt x="291403" y="241160"/>
                </a:cubicBezTo>
                <a:cubicBezTo>
                  <a:pt x="277929" y="216136"/>
                  <a:pt x="231113" y="180870"/>
                  <a:pt x="231113" y="180870"/>
                </a:cubicBezTo>
                <a:cubicBezTo>
                  <a:pt x="224413" y="160773"/>
                  <a:pt x="211015" y="140677"/>
                  <a:pt x="231113" y="120580"/>
                </a:cubicBezTo>
                <a:cubicBezTo>
                  <a:pt x="238603" y="113091"/>
                  <a:pt x="251210" y="113881"/>
                  <a:pt x="261258" y="110532"/>
                </a:cubicBezTo>
                <a:cubicBezTo>
                  <a:pt x="271306" y="117231"/>
                  <a:pt x="285411" y="120143"/>
                  <a:pt x="291403" y="130628"/>
                </a:cubicBezTo>
                <a:cubicBezTo>
                  <a:pt x="299877" y="145457"/>
                  <a:pt x="290517" y="167750"/>
                  <a:pt x="301451" y="180870"/>
                </a:cubicBezTo>
                <a:cubicBezTo>
                  <a:pt x="310292" y="191479"/>
                  <a:pt x="328246" y="187569"/>
                  <a:pt x="341644" y="190918"/>
                </a:cubicBezTo>
                <a:cubicBezTo>
                  <a:pt x="338295" y="207665"/>
                  <a:pt x="337593" y="225168"/>
                  <a:pt x="331596" y="241160"/>
                </a:cubicBezTo>
                <a:cubicBezTo>
                  <a:pt x="308713" y="302181"/>
                  <a:pt x="274907" y="245138"/>
                  <a:pt x="321548" y="361740"/>
                </a:cubicBezTo>
                <a:cubicBezTo>
                  <a:pt x="325482" y="371574"/>
                  <a:pt x="341645" y="368439"/>
                  <a:pt x="351693" y="371789"/>
                </a:cubicBezTo>
                <a:cubicBezTo>
                  <a:pt x="344994" y="385187"/>
                  <a:pt x="333715" y="397153"/>
                  <a:pt x="331596" y="411982"/>
                </a:cubicBezTo>
                <a:cubicBezTo>
                  <a:pt x="330098" y="422467"/>
                  <a:pt x="339346" y="431787"/>
                  <a:pt x="341644" y="442127"/>
                </a:cubicBezTo>
                <a:cubicBezTo>
                  <a:pt x="346064" y="462016"/>
                  <a:pt x="339851" y="485838"/>
                  <a:pt x="351693" y="502417"/>
                </a:cubicBezTo>
                <a:cubicBezTo>
                  <a:pt x="359720" y="513655"/>
                  <a:pt x="378488" y="509116"/>
                  <a:pt x="391886" y="512466"/>
                </a:cubicBezTo>
                <a:cubicBezTo>
                  <a:pt x="395236" y="522514"/>
                  <a:pt x="399025" y="532427"/>
                  <a:pt x="401935" y="542611"/>
                </a:cubicBezTo>
                <a:cubicBezTo>
                  <a:pt x="405729" y="555890"/>
                  <a:pt x="405131" y="570814"/>
                  <a:pt x="411983" y="582804"/>
                </a:cubicBezTo>
                <a:cubicBezTo>
                  <a:pt x="419033" y="595142"/>
                  <a:pt x="432080" y="602901"/>
                  <a:pt x="442128" y="612949"/>
                </a:cubicBezTo>
                <a:cubicBezTo>
                  <a:pt x="450072" y="668562"/>
                  <a:pt x="437897" y="683817"/>
                  <a:pt x="482321" y="713433"/>
                </a:cubicBezTo>
                <a:cubicBezTo>
                  <a:pt x="491134" y="719308"/>
                  <a:pt x="502418" y="720132"/>
                  <a:pt x="512466" y="723481"/>
                </a:cubicBezTo>
                <a:cubicBezTo>
                  <a:pt x="525864" y="743578"/>
                  <a:pt x="548689" y="759946"/>
                  <a:pt x="552660" y="783771"/>
                </a:cubicBezTo>
                <a:cubicBezTo>
                  <a:pt x="570796" y="892588"/>
                  <a:pt x="552966" y="804936"/>
                  <a:pt x="572757" y="874206"/>
                </a:cubicBezTo>
                <a:cubicBezTo>
                  <a:pt x="576551" y="887485"/>
                  <a:pt x="576629" y="902048"/>
                  <a:pt x="582805" y="914400"/>
                </a:cubicBezTo>
                <a:cubicBezTo>
                  <a:pt x="593606" y="936003"/>
                  <a:pt x="601395" y="963889"/>
                  <a:pt x="622998" y="974690"/>
                </a:cubicBezTo>
                <a:cubicBezTo>
                  <a:pt x="636396" y="981389"/>
                  <a:pt x="650186" y="987354"/>
                  <a:pt x="663192" y="994786"/>
                </a:cubicBezTo>
                <a:cubicBezTo>
                  <a:pt x="673678" y="1000778"/>
                  <a:pt x="682535" y="1009482"/>
                  <a:pt x="693337" y="1014883"/>
                </a:cubicBezTo>
                <a:cubicBezTo>
                  <a:pt x="702811" y="1019620"/>
                  <a:pt x="713434" y="1021582"/>
                  <a:pt x="723482" y="1024932"/>
                </a:cubicBezTo>
                <a:cubicBezTo>
                  <a:pt x="720132" y="984738"/>
                  <a:pt x="720064" y="944135"/>
                  <a:pt x="713433" y="904351"/>
                </a:cubicBezTo>
                <a:cubicBezTo>
                  <a:pt x="713430" y="904334"/>
                  <a:pt x="688315" y="828996"/>
                  <a:pt x="683288" y="813916"/>
                </a:cubicBezTo>
                <a:cubicBezTo>
                  <a:pt x="679939" y="803868"/>
                  <a:pt x="675317" y="794157"/>
                  <a:pt x="673240" y="783771"/>
                </a:cubicBezTo>
                <a:cubicBezTo>
                  <a:pt x="669891" y="767024"/>
                  <a:pt x="670259" y="749077"/>
                  <a:pt x="663192" y="733529"/>
                </a:cubicBezTo>
                <a:cubicBezTo>
                  <a:pt x="653197" y="711541"/>
                  <a:pt x="622998" y="673239"/>
                  <a:pt x="622998" y="673239"/>
                </a:cubicBezTo>
                <a:cubicBezTo>
                  <a:pt x="626348" y="663191"/>
                  <a:pt x="634361" y="653604"/>
                  <a:pt x="633047" y="643094"/>
                </a:cubicBezTo>
                <a:cubicBezTo>
                  <a:pt x="628413" y="606017"/>
                  <a:pt x="609365" y="584840"/>
                  <a:pt x="582805" y="562707"/>
                </a:cubicBezTo>
                <a:cubicBezTo>
                  <a:pt x="573528" y="554976"/>
                  <a:pt x="562708" y="549310"/>
                  <a:pt x="552660" y="542611"/>
                </a:cubicBezTo>
                <a:cubicBezTo>
                  <a:pt x="545961" y="532563"/>
                  <a:pt x="534789" y="524336"/>
                  <a:pt x="532563" y="512466"/>
                </a:cubicBezTo>
                <a:cubicBezTo>
                  <a:pt x="524515" y="469542"/>
                  <a:pt x="537612" y="422816"/>
                  <a:pt x="522515" y="381837"/>
                </a:cubicBezTo>
                <a:cubicBezTo>
                  <a:pt x="512690" y="355168"/>
                  <a:pt x="462225" y="321547"/>
                  <a:pt x="462225" y="321547"/>
                </a:cubicBezTo>
                <a:cubicBezTo>
                  <a:pt x="455971" y="265268"/>
                  <a:pt x="443028" y="232062"/>
                  <a:pt x="462225" y="180870"/>
                </a:cubicBezTo>
                <a:cubicBezTo>
                  <a:pt x="466465" y="169562"/>
                  <a:pt x="475622" y="160773"/>
                  <a:pt x="482321" y="150725"/>
                </a:cubicBezTo>
                <a:cubicBezTo>
                  <a:pt x="499068" y="154074"/>
                  <a:pt x="517287" y="153135"/>
                  <a:pt x="532563" y="160773"/>
                </a:cubicBezTo>
                <a:cubicBezTo>
                  <a:pt x="545273" y="167128"/>
                  <a:pt x="558214" y="177437"/>
                  <a:pt x="562708" y="190918"/>
                </a:cubicBezTo>
                <a:cubicBezTo>
                  <a:pt x="567331" y="204786"/>
                  <a:pt x="537454" y="243872"/>
                  <a:pt x="532563" y="251208"/>
                </a:cubicBezTo>
                <a:cubicBezTo>
                  <a:pt x="556479" y="322956"/>
                  <a:pt x="564411" y="293873"/>
                  <a:pt x="532563" y="341644"/>
                </a:cubicBezTo>
                <a:cubicBezTo>
                  <a:pt x="525864" y="361741"/>
                  <a:pt x="492369" y="395235"/>
                  <a:pt x="512466" y="401934"/>
                </a:cubicBezTo>
                <a:lnTo>
                  <a:pt x="572757" y="422030"/>
                </a:lnTo>
                <a:cubicBezTo>
                  <a:pt x="564916" y="492595"/>
                  <a:pt x="552285" y="551346"/>
                  <a:pt x="572757" y="622997"/>
                </a:cubicBezTo>
                <a:cubicBezTo>
                  <a:pt x="576661" y="636661"/>
                  <a:pt x="593805" y="642226"/>
                  <a:pt x="602902" y="653143"/>
                </a:cubicBezTo>
                <a:cubicBezTo>
                  <a:pt x="644768" y="703383"/>
                  <a:pt x="597879" y="666542"/>
                  <a:pt x="653143" y="703384"/>
                </a:cubicBezTo>
                <a:cubicBezTo>
                  <a:pt x="656493" y="716782"/>
                  <a:pt x="654565" y="732794"/>
                  <a:pt x="663192" y="743578"/>
                </a:cubicBezTo>
                <a:cubicBezTo>
                  <a:pt x="669809" y="751849"/>
                  <a:pt x="685066" y="747009"/>
                  <a:pt x="693337" y="753626"/>
                </a:cubicBezTo>
                <a:cubicBezTo>
                  <a:pt x="702767" y="761170"/>
                  <a:pt x="706734" y="773723"/>
                  <a:pt x="713433" y="783771"/>
                </a:cubicBezTo>
                <a:cubicBezTo>
                  <a:pt x="716783" y="800518"/>
                  <a:pt x="719340" y="817444"/>
                  <a:pt x="723482" y="834013"/>
                </a:cubicBezTo>
                <a:cubicBezTo>
                  <a:pt x="726051" y="844289"/>
                  <a:pt x="730961" y="853882"/>
                  <a:pt x="733530" y="864158"/>
                </a:cubicBezTo>
                <a:cubicBezTo>
                  <a:pt x="737672" y="880727"/>
                  <a:pt x="737581" y="898408"/>
                  <a:pt x="743578" y="914400"/>
                </a:cubicBezTo>
                <a:cubicBezTo>
                  <a:pt x="747818" y="925708"/>
                  <a:pt x="758770" y="933509"/>
                  <a:pt x="763675" y="944545"/>
                </a:cubicBezTo>
                <a:cubicBezTo>
                  <a:pt x="777656" y="976001"/>
                  <a:pt x="785469" y="1011622"/>
                  <a:pt x="793820" y="1045028"/>
                </a:cubicBezTo>
                <a:cubicBezTo>
                  <a:pt x="803868" y="1041679"/>
                  <a:pt x="822467" y="1045465"/>
                  <a:pt x="823965" y="1034980"/>
                </a:cubicBezTo>
                <a:cubicBezTo>
                  <a:pt x="828186" y="1005436"/>
                  <a:pt x="799580" y="968256"/>
                  <a:pt x="783772" y="944545"/>
                </a:cubicBezTo>
                <a:cubicBezTo>
                  <a:pt x="780423" y="911050"/>
                  <a:pt x="780777" y="876976"/>
                  <a:pt x="773724" y="844061"/>
                </a:cubicBezTo>
                <a:cubicBezTo>
                  <a:pt x="770585" y="829414"/>
                  <a:pt x="754871" y="818795"/>
                  <a:pt x="753627" y="803868"/>
                </a:cubicBezTo>
                <a:cubicBezTo>
                  <a:pt x="751384" y="776957"/>
                  <a:pt x="760326" y="750277"/>
                  <a:pt x="763675" y="723481"/>
                </a:cubicBezTo>
                <a:cubicBezTo>
                  <a:pt x="760326" y="703384"/>
                  <a:pt x="761902" y="681809"/>
                  <a:pt x="753627" y="663191"/>
                </a:cubicBezTo>
                <a:cubicBezTo>
                  <a:pt x="747856" y="650205"/>
                  <a:pt x="729254" y="646032"/>
                  <a:pt x="723482" y="633046"/>
                </a:cubicBezTo>
                <a:cubicBezTo>
                  <a:pt x="715207" y="614428"/>
                  <a:pt x="721708" y="591374"/>
                  <a:pt x="713433" y="572756"/>
                </a:cubicBezTo>
                <a:cubicBezTo>
                  <a:pt x="707661" y="559770"/>
                  <a:pt x="694505" y="551335"/>
                  <a:pt x="683288" y="542611"/>
                </a:cubicBezTo>
                <a:cubicBezTo>
                  <a:pt x="664223" y="527782"/>
                  <a:pt x="622998" y="502417"/>
                  <a:pt x="622998" y="502417"/>
                </a:cubicBezTo>
                <a:cubicBezTo>
                  <a:pt x="626348" y="425380"/>
                  <a:pt x="628519" y="348282"/>
                  <a:pt x="633047" y="271305"/>
                </a:cubicBezTo>
                <a:cubicBezTo>
                  <a:pt x="635220" y="234373"/>
                  <a:pt x="628866" y="194923"/>
                  <a:pt x="643095" y="160773"/>
                </a:cubicBezTo>
                <a:cubicBezTo>
                  <a:pt x="648406" y="148025"/>
                  <a:pt x="669890" y="154074"/>
                  <a:pt x="683288" y="150725"/>
                </a:cubicBezTo>
                <a:cubicBezTo>
                  <a:pt x="686638" y="164123"/>
                  <a:pt x="694711" y="177176"/>
                  <a:pt x="693337" y="190918"/>
                </a:cubicBezTo>
                <a:cubicBezTo>
                  <a:pt x="691229" y="211997"/>
                  <a:pt x="677394" y="230436"/>
                  <a:pt x="673240" y="251208"/>
                </a:cubicBezTo>
                <a:cubicBezTo>
                  <a:pt x="661115" y="311836"/>
                  <a:pt x="668593" y="285248"/>
                  <a:pt x="653143" y="331595"/>
                </a:cubicBezTo>
                <a:cubicBezTo>
                  <a:pt x="656493" y="348342"/>
                  <a:pt x="661848" y="364811"/>
                  <a:pt x="663192" y="381837"/>
                </a:cubicBezTo>
                <a:cubicBezTo>
                  <a:pt x="671907" y="492228"/>
                  <a:pt x="633765" y="614389"/>
                  <a:pt x="683288" y="713433"/>
                </a:cubicBezTo>
                <a:cubicBezTo>
                  <a:pt x="689987" y="726831"/>
                  <a:pt x="697484" y="739858"/>
                  <a:pt x="703385" y="753626"/>
                </a:cubicBezTo>
                <a:cubicBezTo>
                  <a:pt x="717444" y="786429"/>
                  <a:pt x="709723" y="790635"/>
                  <a:pt x="733530" y="823965"/>
                </a:cubicBezTo>
                <a:cubicBezTo>
                  <a:pt x="741790" y="835529"/>
                  <a:pt x="754578" y="843193"/>
                  <a:pt x="763675" y="854110"/>
                </a:cubicBezTo>
                <a:cubicBezTo>
                  <a:pt x="771406" y="863388"/>
                  <a:pt x="777073" y="874207"/>
                  <a:pt x="783772" y="884255"/>
                </a:cubicBezTo>
                <a:cubicBezTo>
                  <a:pt x="787121" y="894303"/>
                  <a:pt x="791438" y="904079"/>
                  <a:pt x="793820" y="914400"/>
                </a:cubicBezTo>
                <a:cubicBezTo>
                  <a:pt x="801501" y="947683"/>
                  <a:pt x="798641" y="1045434"/>
                  <a:pt x="813917" y="1014883"/>
                </a:cubicBezTo>
                <a:cubicBezTo>
                  <a:pt x="847072" y="948576"/>
                  <a:pt x="813005" y="908007"/>
                  <a:pt x="783772" y="864158"/>
                </a:cubicBezTo>
                <a:cubicBezTo>
                  <a:pt x="780423" y="854110"/>
                  <a:pt x="778461" y="843487"/>
                  <a:pt x="773724" y="834013"/>
                </a:cubicBezTo>
                <a:cubicBezTo>
                  <a:pt x="768323" y="823211"/>
                  <a:pt x="757097" y="815435"/>
                  <a:pt x="753627" y="803868"/>
                </a:cubicBezTo>
                <a:cubicBezTo>
                  <a:pt x="746821" y="781183"/>
                  <a:pt x="747815" y="756831"/>
                  <a:pt x="743578" y="733529"/>
                </a:cubicBezTo>
                <a:cubicBezTo>
                  <a:pt x="741108" y="719942"/>
                  <a:pt x="736238" y="706878"/>
                  <a:pt x="733530" y="693336"/>
                </a:cubicBezTo>
                <a:cubicBezTo>
                  <a:pt x="722663" y="639001"/>
                  <a:pt x="727440" y="639541"/>
                  <a:pt x="713433" y="592852"/>
                </a:cubicBezTo>
                <a:cubicBezTo>
                  <a:pt x="707346" y="572562"/>
                  <a:pt x="705088" y="550188"/>
                  <a:pt x="693337" y="532562"/>
                </a:cubicBezTo>
                <a:lnTo>
                  <a:pt x="673240" y="502417"/>
                </a:lnTo>
                <a:cubicBezTo>
                  <a:pt x="648325" y="427670"/>
                  <a:pt x="653143" y="450713"/>
                  <a:pt x="653143" y="311499"/>
                </a:cubicBezTo>
                <a:cubicBezTo>
                  <a:pt x="653143" y="250936"/>
                  <a:pt x="647503" y="190777"/>
                  <a:pt x="683288" y="140677"/>
                </a:cubicBezTo>
                <a:cubicBezTo>
                  <a:pt x="691548" y="129113"/>
                  <a:pt x="703385" y="120580"/>
                  <a:pt x="713433" y="110532"/>
                </a:cubicBezTo>
                <a:cubicBezTo>
                  <a:pt x="703385" y="103833"/>
                  <a:pt x="695097" y="92966"/>
                  <a:pt x="683288" y="90435"/>
                </a:cubicBezTo>
                <a:cubicBezTo>
                  <a:pt x="647114" y="82683"/>
                  <a:pt x="609499" y="84709"/>
                  <a:pt x="572757" y="80386"/>
                </a:cubicBezTo>
                <a:cubicBezTo>
                  <a:pt x="552522" y="78005"/>
                  <a:pt x="532563" y="73687"/>
                  <a:pt x="512466" y="70338"/>
                </a:cubicBezTo>
                <a:cubicBezTo>
                  <a:pt x="482321" y="73687"/>
                  <a:pt x="451020" y="71466"/>
                  <a:pt x="422031" y="80386"/>
                </a:cubicBezTo>
                <a:cubicBezTo>
                  <a:pt x="406024" y="85311"/>
                  <a:pt x="396379" y="102223"/>
                  <a:pt x="381838" y="110532"/>
                </a:cubicBezTo>
                <a:cubicBezTo>
                  <a:pt x="372642" y="115787"/>
                  <a:pt x="361741" y="117231"/>
                  <a:pt x="351693" y="120580"/>
                </a:cubicBezTo>
                <a:cubicBezTo>
                  <a:pt x="341645" y="127279"/>
                  <a:pt x="333625" y="140677"/>
                  <a:pt x="321548" y="140677"/>
                </a:cubicBezTo>
                <a:cubicBezTo>
                  <a:pt x="309471" y="140677"/>
                  <a:pt x="302439" y="125485"/>
                  <a:pt x="291403" y="120580"/>
                </a:cubicBezTo>
                <a:cubicBezTo>
                  <a:pt x="272045" y="111976"/>
                  <a:pt x="251210" y="107182"/>
                  <a:pt x="231113" y="100483"/>
                </a:cubicBezTo>
                <a:lnTo>
                  <a:pt x="200968" y="90435"/>
                </a:lnTo>
                <a:cubicBezTo>
                  <a:pt x="190919" y="87085"/>
                  <a:pt x="181209" y="82463"/>
                  <a:pt x="170822" y="80386"/>
                </a:cubicBezTo>
                <a:cubicBezTo>
                  <a:pt x="154075" y="77037"/>
                  <a:pt x="137058" y="74832"/>
                  <a:pt x="120581" y="70338"/>
                </a:cubicBezTo>
                <a:cubicBezTo>
                  <a:pt x="100144" y="64764"/>
                  <a:pt x="80842" y="55379"/>
                  <a:pt x="60291" y="50241"/>
                </a:cubicBezTo>
                <a:lnTo>
                  <a:pt x="20097" y="40193"/>
                </a:lnTo>
                <a:cubicBezTo>
                  <a:pt x="8551" y="5554"/>
                  <a:pt x="17539" y="17537"/>
                  <a:pt x="0" y="0"/>
                </a:cubicBezTo>
              </a:path>
            </a:pathLst>
          </a:custGeom>
          <a:noFill/>
          <a:ln w="936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олилиния 46"/>
          <p:cNvSpPr/>
          <p:nvPr/>
        </p:nvSpPr>
        <p:spPr>
          <a:xfrm>
            <a:off x="7466040" y="2421000"/>
            <a:ext cx="622440" cy="1361880"/>
          </a:xfrm>
          <a:custGeom>
            <a:avLst/>
            <a:gdLst/>
            <a:ahLst/>
            <a:rect l="l" t="t" r="r" b="b"/>
            <a:pathLst>
              <a:path w="622998" h="1361264">
                <a:moveTo>
                  <a:pt x="50242" y="50242"/>
                </a:moveTo>
                <a:cubicBezTo>
                  <a:pt x="119695" y="84968"/>
                  <a:pt x="60648" y="60370"/>
                  <a:pt x="150726" y="80387"/>
                </a:cubicBezTo>
                <a:cubicBezTo>
                  <a:pt x="161066" y="82685"/>
                  <a:pt x="170531" y="88137"/>
                  <a:pt x="180871" y="90435"/>
                </a:cubicBezTo>
                <a:cubicBezTo>
                  <a:pt x="200760" y="94855"/>
                  <a:pt x="221064" y="97134"/>
                  <a:pt x="241161" y="100483"/>
                </a:cubicBezTo>
                <a:cubicBezTo>
                  <a:pt x="251209" y="110531"/>
                  <a:pt x="257642" y="126724"/>
                  <a:pt x="271306" y="130628"/>
                </a:cubicBezTo>
                <a:cubicBezTo>
                  <a:pt x="284585" y="134422"/>
                  <a:pt x="298018" y="123576"/>
                  <a:pt x="311499" y="120580"/>
                </a:cubicBezTo>
                <a:cubicBezTo>
                  <a:pt x="384250" y="104414"/>
                  <a:pt x="338020" y="118439"/>
                  <a:pt x="391886" y="100483"/>
                </a:cubicBezTo>
                <a:cubicBezTo>
                  <a:pt x="463633" y="124399"/>
                  <a:pt x="434550" y="108829"/>
                  <a:pt x="482321" y="140677"/>
                </a:cubicBezTo>
                <a:cubicBezTo>
                  <a:pt x="516810" y="129180"/>
                  <a:pt x="522244" y="130899"/>
                  <a:pt x="552660" y="100483"/>
                </a:cubicBezTo>
                <a:cubicBezTo>
                  <a:pt x="576389" y="76754"/>
                  <a:pt x="573155" y="57722"/>
                  <a:pt x="592853" y="30145"/>
                </a:cubicBezTo>
                <a:cubicBezTo>
                  <a:pt x="601113" y="18581"/>
                  <a:pt x="612950" y="10048"/>
                  <a:pt x="622998" y="0"/>
                </a:cubicBezTo>
                <a:cubicBezTo>
                  <a:pt x="619649" y="10048"/>
                  <a:pt x="614561" y="19676"/>
                  <a:pt x="612950" y="30145"/>
                </a:cubicBezTo>
                <a:cubicBezTo>
                  <a:pt x="607831" y="63415"/>
                  <a:pt x="613546" y="98694"/>
                  <a:pt x="602901" y="130628"/>
                </a:cubicBezTo>
                <a:cubicBezTo>
                  <a:pt x="599082" y="142085"/>
                  <a:pt x="582804" y="144026"/>
                  <a:pt x="572756" y="150725"/>
                </a:cubicBezTo>
                <a:cubicBezTo>
                  <a:pt x="525864" y="147376"/>
                  <a:pt x="477687" y="152079"/>
                  <a:pt x="432079" y="140677"/>
                </a:cubicBezTo>
                <a:cubicBezTo>
                  <a:pt x="420363" y="137748"/>
                  <a:pt x="423825" y="112901"/>
                  <a:pt x="411983" y="110532"/>
                </a:cubicBezTo>
                <a:cubicBezTo>
                  <a:pt x="400141" y="108163"/>
                  <a:pt x="393187" y="126501"/>
                  <a:pt x="381838" y="130628"/>
                </a:cubicBezTo>
                <a:cubicBezTo>
                  <a:pt x="355881" y="140067"/>
                  <a:pt x="327654" y="141991"/>
                  <a:pt x="301451" y="150725"/>
                </a:cubicBezTo>
                <a:lnTo>
                  <a:pt x="271306" y="160773"/>
                </a:lnTo>
                <a:cubicBezTo>
                  <a:pt x="247860" y="157424"/>
                  <a:pt x="223653" y="157531"/>
                  <a:pt x="200967" y="150725"/>
                </a:cubicBezTo>
                <a:cubicBezTo>
                  <a:pt x="189400" y="147255"/>
                  <a:pt x="182899" y="130628"/>
                  <a:pt x="170822" y="130628"/>
                </a:cubicBezTo>
                <a:cubicBezTo>
                  <a:pt x="158745" y="130628"/>
                  <a:pt x="152134" y="146906"/>
                  <a:pt x="140677" y="150725"/>
                </a:cubicBezTo>
                <a:cubicBezTo>
                  <a:pt x="121349" y="157168"/>
                  <a:pt x="100484" y="157424"/>
                  <a:pt x="80387" y="160773"/>
                </a:cubicBezTo>
                <a:cubicBezTo>
                  <a:pt x="91349" y="177215"/>
                  <a:pt x="106270" y="207970"/>
                  <a:pt x="130629" y="211015"/>
                </a:cubicBezTo>
                <a:cubicBezTo>
                  <a:pt x="147576" y="213134"/>
                  <a:pt x="164229" y="204807"/>
                  <a:pt x="180871" y="200967"/>
                </a:cubicBezTo>
                <a:cubicBezTo>
                  <a:pt x="207784" y="194756"/>
                  <a:pt x="261257" y="180870"/>
                  <a:pt x="261257" y="180870"/>
                </a:cubicBezTo>
                <a:cubicBezTo>
                  <a:pt x="274655" y="187569"/>
                  <a:pt x="286622" y="198849"/>
                  <a:pt x="301451" y="200967"/>
                </a:cubicBezTo>
                <a:cubicBezTo>
                  <a:pt x="311936" y="202465"/>
                  <a:pt x="321004" y="190918"/>
                  <a:pt x="331596" y="190918"/>
                </a:cubicBezTo>
                <a:cubicBezTo>
                  <a:pt x="342188" y="190918"/>
                  <a:pt x="351693" y="197617"/>
                  <a:pt x="361741" y="200967"/>
                </a:cubicBezTo>
                <a:cubicBezTo>
                  <a:pt x="388537" y="197617"/>
                  <a:pt x="415815" y="196990"/>
                  <a:pt x="442128" y="190918"/>
                </a:cubicBezTo>
                <a:cubicBezTo>
                  <a:pt x="520226" y="172895"/>
                  <a:pt x="464676" y="161591"/>
                  <a:pt x="522515" y="180870"/>
                </a:cubicBezTo>
                <a:cubicBezTo>
                  <a:pt x="532563" y="170822"/>
                  <a:pt x="538450" y="150725"/>
                  <a:pt x="552660" y="150725"/>
                </a:cubicBezTo>
                <a:cubicBezTo>
                  <a:pt x="563252" y="150725"/>
                  <a:pt x="562708" y="170278"/>
                  <a:pt x="562708" y="180870"/>
                </a:cubicBezTo>
                <a:cubicBezTo>
                  <a:pt x="562708" y="235023"/>
                  <a:pt x="556829" y="234907"/>
                  <a:pt x="532563" y="271305"/>
                </a:cubicBezTo>
                <a:cubicBezTo>
                  <a:pt x="522515" y="267956"/>
                  <a:pt x="513010" y="261257"/>
                  <a:pt x="502418" y="261257"/>
                </a:cubicBezTo>
                <a:cubicBezTo>
                  <a:pt x="392090" y="261257"/>
                  <a:pt x="394387" y="263143"/>
                  <a:pt x="321548" y="281354"/>
                </a:cubicBezTo>
                <a:cubicBezTo>
                  <a:pt x="298102" y="278004"/>
                  <a:pt x="274893" y="271305"/>
                  <a:pt x="251209" y="271305"/>
                </a:cubicBezTo>
                <a:cubicBezTo>
                  <a:pt x="215844" y="271305"/>
                  <a:pt x="191858" y="281041"/>
                  <a:pt x="160774" y="291402"/>
                </a:cubicBezTo>
                <a:cubicBezTo>
                  <a:pt x="158296" y="283968"/>
                  <a:pt x="143616" y="231112"/>
                  <a:pt x="130629" y="231112"/>
                </a:cubicBezTo>
                <a:cubicBezTo>
                  <a:pt x="116419" y="231112"/>
                  <a:pt x="110532" y="251209"/>
                  <a:pt x="100484" y="261257"/>
                </a:cubicBezTo>
                <a:cubicBezTo>
                  <a:pt x="156774" y="345695"/>
                  <a:pt x="87010" y="258421"/>
                  <a:pt x="291402" y="301450"/>
                </a:cubicBezTo>
                <a:cubicBezTo>
                  <a:pt x="303220" y="303938"/>
                  <a:pt x="302960" y="323056"/>
                  <a:pt x="311499" y="331595"/>
                </a:cubicBezTo>
                <a:cubicBezTo>
                  <a:pt x="339758" y="359854"/>
                  <a:pt x="361512" y="355003"/>
                  <a:pt x="401934" y="361740"/>
                </a:cubicBezTo>
                <a:cubicBezTo>
                  <a:pt x="422031" y="358391"/>
                  <a:pt x="441921" y="350000"/>
                  <a:pt x="462224" y="351692"/>
                </a:cubicBezTo>
                <a:cubicBezTo>
                  <a:pt x="483335" y="353451"/>
                  <a:pt x="522515" y="371789"/>
                  <a:pt x="522515" y="371789"/>
                </a:cubicBezTo>
                <a:cubicBezTo>
                  <a:pt x="502418" y="391886"/>
                  <a:pt x="490562" y="429899"/>
                  <a:pt x="462224" y="432079"/>
                </a:cubicBezTo>
                <a:cubicBezTo>
                  <a:pt x="301355" y="444453"/>
                  <a:pt x="375000" y="437304"/>
                  <a:pt x="241161" y="452176"/>
                </a:cubicBezTo>
                <a:cubicBezTo>
                  <a:pt x="231113" y="445477"/>
                  <a:pt x="223057" y="433005"/>
                  <a:pt x="211016" y="432079"/>
                </a:cubicBezTo>
                <a:cubicBezTo>
                  <a:pt x="147869" y="427221"/>
                  <a:pt x="127402" y="436503"/>
                  <a:pt x="80387" y="452176"/>
                </a:cubicBezTo>
                <a:cubicBezTo>
                  <a:pt x="83736" y="442128"/>
                  <a:pt x="79843" y="422031"/>
                  <a:pt x="90435" y="422031"/>
                </a:cubicBezTo>
                <a:cubicBezTo>
                  <a:pt x="102512" y="422031"/>
                  <a:pt x="98690" y="449808"/>
                  <a:pt x="110532" y="452176"/>
                </a:cubicBezTo>
                <a:cubicBezTo>
                  <a:pt x="169742" y="464018"/>
                  <a:pt x="231112" y="458875"/>
                  <a:pt x="291402" y="462224"/>
                </a:cubicBezTo>
                <a:cubicBezTo>
                  <a:pt x="324294" y="560894"/>
                  <a:pt x="267086" y="422676"/>
                  <a:pt x="341644" y="482321"/>
                </a:cubicBezTo>
                <a:cubicBezTo>
                  <a:pt x="354980" y="492990"/>
                  <a:pt x="337483" y="523088"/>
                  <a:pt x="351693" y="532562"/>
                </a:cubicBezTo>
                <a:cubicBezTo>
                  <a:pt x="374162" y="547541"/>
                  <a:pt x="405284" y="539261"/>
                  <a:pt x="432079" y="542611"/>
                </a:cubicBezTo>
                <a:cubicBezTo>
                  <a:pt x="428730" y="562708"/>
                  <a:pt x="438330" y="590677"/>
                  <a:pt x="422031" y="602901"/>
                </a:cubicBezTo>
                <a:cubicBezTo>
                  <a:pt x="410663" y="611427"/>
                  <a:pt x="402803" y="581853"/>
                  <a:pt x="391886" y="572756"/>
                </a:cubicBezTo>
                <a:cubicBezTo>
                  <a:pt x="382608" y="565025"/>
                  <a:pt x="373457" y="555588"/>
                  <a:pt x="361741" y="552659"/>
                </a:cubicBezTo>
                <a:cubicBezTo>
                  <a:pt x="332316" y="545303"/>
                  <a:pt x="301451" y="545960"/>
                  <a:pt x="271306" y="542611"/>
                </a:cubicBezTo>
                <a:cubicBezTo>
                  <a:pt x="261258" y="539261"/>
                  <a:pt x="251582" y="534457"/>
                  <a:pt x="241161" y="532562"/>
                </a:cubicBezTo>
                <a:cubicBezTo>
                  <a:pt x="214592" y="527731"/>
                  <a:pt x="186827" y="529619"/>
                  <a:pt x="160774" y="522514"/>
                </a:cubicBezTo>
                <a:cubicBezTo>
                  <a:pt x="149123" y="519336"/>
                  <a:pt x="141431" y="507818"/>
                  <a:pt x="130629" y="502417"/>
                </a:cubicBezTo>
                <a:cubicBezTo>
                  <a:pt x="110031" y="492118"/>
                  <a:pt x="69350" y="486142"/>
                  <a:pt x="50242" y="482321"/>
                </a:cubicBezTo>
                <a:cubicBezTo>
                  <a:pt x="60290" y="492369"/>
                  <a:pt x="69470" y="503369"/>
                  <a:pt x="80387" y="512466"/>
                </a:cubicBezTo>
                <a:cubicBezTo>
                  <a:pt x="150300" y="570726"/>
                  <a:pt x="208236" y="537215"/>
                  <a:pt x="321548" y="542611"/>
                </a:cubicBezTo>
                <a:cubicBezTo>
                  <a:pt x="304364" y="594163"/>
                  <a:pt x="291567" y="596587"/>
                  <a:pt x="311499" y="643094"/>
                </a:cubicBezTo>
                <a:cubicBezTo>
                  <a:pt x="316256" y="654194"/>
                  <a:pt x="324897" y="663191"/>
                  <a:pt x="331596" y="673239"/>
                </a:cubicBezTo>
                <a:cubicBezTo>
                  <a:pt x="334945" y="683287"/>
                  <a:pt x="349134" y="695894"/>
                  <a:pt x="341644" y="703384"/>
                </a:cubicBezTo>
                <a:cubicBezTo>
                  <a:pt x="334154" y="710874"/>
                  <a:pt x="321234" y="697508"/>
                  <a:pt x="311499" y="693336"/>
                </a:cubicBezTo>
                <a:cubicBezTo>
                  <a:pt x="297731" y="687435"/>
                  <a:pt x="284312" y="680671"/>
                  <a:pt x="271306" y="673239"/>
                </a:cubicBezTo>
                <a:cubicBezTo>
                  <a:pt x="260821" y="667247"/>
                  <a:pt x="252469" y="657383"/>
                  <a:pt x="241161" y="653143"/>
                </a:cubicBezTo>
                <a:cubicBezTo>
                  <a:pt x="229920" y="648928"/>
                  <a:pt x="137408" y="634176"/>
                  <a:pt x="130629" y="633046"/>
                </a:cubicBezTo>
                <a:lnTo>
                  <a:pt x="70339" y="592852"/>
                </a:lnTo>
                <a:cubicBezTo>
                  <a:pt x="60291" y="586153"/>
                  <a:pt x="88457" y="611856"/>
                  <a:pt x="100484" y="612949"/>
                </a:cubicBezTo>
                <a:lnTo>
                  <a:pt x="211016" y="622998"/>
                </a:lnTo>
                <a:cubicBezTo>
                  <a:pt x="196498" y="666549"/>
                  <a:pt x="185127" y="686623"/>
                  <a:pt x="211016" y="743578"/>
                </a:cubicBezTo>
                <a:cubicBezTo>
                  <a:pt x="217214" y="757214"/>
                  <a:pt x="237811" y="756975"/>
                  <a:pt x="251209" y="763674"/>
                </a:cubicBezTo>
                <a:cubicBezTo>
                  <a:pt x="254558" y="773723"/>
                  <a:pt x="261257" y="783228"/>
                  <a:pt x="261257" y="793820"/>
                </a:cubicBezTo>
                <a:cubicBezTo>
                  <a:pt x="261257" y="804412"/>
                  <a:pt x="253104" y="813544"/>
                  <a:pt x="251209" y="823965"/>
                </a:cubicBezTo>
                <a:cubicBezTo>
                  <a:pt x="246379" y="850533"/>
                  <a:pt x="244510" y="877556"/>
                  <a:pt x="241161" y="904351"/>
                </a:cubicBezTo>
                <a:cubicBezTo>
                  <a:pt x="244510" y="944545"/>
                  <a:pt x="238455" y="986669"/>
                  <a:pt x="251209" y="1024932"/>
                </a:cubicBezTo>
                <a:cubicBezTo>
                  <a:pt x="256505" y="1040820"/>
                  <a:pt x="279560" y="1043235"/>
                  <a:pt x="291402" y="1055077"/>
                </a:cubicBezTo>
                <a:cubicBezTo>
                  <a:pt x="310881" y="1074556"/>
                  <a:pt x="313375" y="1090849"/>
                  <a:pt x="321548" y="1115367"/>
                </a:cubicBezTo>
                <a:cubicBezTo>
                  <a:pt x="314849" y="1125415"/>
                  <a:pt x="306852" y="1134710"/>
                  <a:pt x="301451" y="1145512"/>
                </a:cubicBezTo>
                <a:cubicBezTo>
                  <a:pt x="296714" y="1154986"/>
                  <a:pt x="295121" y="1165739"/>
                  <a:pt x="291402" y="1175657"/>
                </a:cubicBezTo>
                <a:cubicBezTo>
                  <a:pt x="285069" y="1192546"/>
                  <a:pt x="278005" y="1209152"/>
                  <a:pt x="271306" y="1225899"/>
                </a:cubicBezTo>
                <a:cubicBezTo>
                  <a:pt x="274655" y="1245996"/>
                  <a:pt x="274911" y="1266861"/>
                  <a:pt x="281354" y="1286189"/>
                </a:cubicBezTo>
                <a:cubicBezTo>
                  <a:pt x="288349" y="1307173"/>
                  <a:pt x="317604" y="1332487"/>
                  <a:pt x="331596" y="1346479"/>
                </a:cubicBezTo>
                <a:cubicBezTo>
                  <a:pt x="321548" y="1349828"/>
                  <a:pt x="310925" y="1361264"/>
                  <a:pt x="301451" y="1356527"/>
                </a:cubicBezTo>
                <a:cubicBezTo>
                  <a:pt x="291977" y="1351790"/>
                  <a:pt x="297277" y="1335195"/>
                  <a:pt x="291402" y="1326382"/>
                </a:cubicBezTo>
                <a:cubicBezTo>
                  <a:pt x="283519" y="1314558"/>
                  <a:pt x="271305" y="1306285"/>
                  <a:pt x="261257" y="1296237"/>
                </a:cubicBezTo>
                <a:cubicBezTo>
                  <a:pt x="264607" y="1279490"/>
                  <a:pt x="265905" y="1262198"/>
                  <a:pt x="271306" y="1245995"/>
                </a:cubicBezTo>
                <a:cubicBezTo>
                  <a:pt x="288923" y="1193145"/>
                  <a:pt x="289446" y="1219761"/>
                  <a:pt x="311499" y="1175657"/>
                </a:cubicBezTo>
                <a:cubicBezTo>
                  <a:pt x="316236" y="1166183"/>
                  <a:pt x="318198" y="1155560"/>
                  <a:pt x="321548" y="1145512"/>
                </a:cubicBezTo>
                <a:cubicBezTo>
                  <a:pt x="318198" y="1125415"/>
                  <a:pt x="322297" y="1102499"/>
                  <a:pt x="311499" y="1085222"/>
                </a:cubicBezTo>
                <a:cubicBezTo>
                  <a:pt x="304963" y="1074764"/>
                  <a:pt x="255019" y="1059696"/>
                  <a:pt x="241161" y="1055077"/>
                </a:cubicBezTo>
                <a:cubicBezTo>
                  <a:pt x="231113" y="1048378"/>
                  <a:pt x="221818" y="1040381"/>
                  <a:pt x="211016" y="1034980"/>
                </a:cubicBezTo>
                <a:cubicBezTo>
                  <a:pt x="201542" y="1030243"/>
                  <a:pt x="190067" y="1030187"/>
                  <a:pt x="180871" y="1024932"/>
                </a:cubicBezTo>
                <a:cubicBezTo>
                  <a:pt x="166330" y="1016623"/>
                  <a:pt x="154075" y="1004835"/>
                  <a:pt x="140677" y="994787"/>
                </a:cubicBezTo>
                <a:cubicBezTo>
                  <a:pt x="148364" y="964040"/>
                  <a:pt x="147692" y="947578"/>
                  <a:pt x="170822" y="924448"/>
                </a:cubicBezTo>
                <a:cubicBezTo>
                  <a:pt x="179361" y="915908"/>
                  <a:pt x="190919" y="911050"/>
                  <a:pt x="200967" y="904351"/>
                </a:cubicBezTo>
                <a:cubicBezTo>
                  <a:pt x="213834" y="865752"/>
                  <a:pt x="222961" y="853353"/>
                  <a:pt x="200967" y="803868"/>
                </a:cubicBezTo>
                <a:cubicBezTo>
                  <a:pt x="196062" y="792832"/>
                  <a:pt x="180100" y="791502"/>
                  <a:pt x="170822" y="783771"/>
                </a:cubicBezTo>
                <a:cubicBezTo>
                  <a:pt x="159905" y="774674"/>
                  <a:pt x="149774" y="764543"/>
                  <a:pt x="140677" y="753626"/>
                </a:cubicBezTo>
                <a:cubicBezTo>
                  <a:pt x="132946" y="744348"/>
                  <a:pt x="130821" y="729882"/>
                  <a:pt x="120580" y="723481"/>
                </a:cubicBezTo>
                <a:cubicBezTo>
                  <a:pt x="102616" y="712254"/>
                  <a:pt x="60290" y="703384"/>
                  <a:pt x="60290" y="703384"/>
                </a:cubicBezTo>
                <a:cubicBezTo>
                  <a:pt x="66989" y="713432"/>
                  <a:pt x="72656" y="724251"/>
                  <a:pt x="80387" y="733529"/>
                </a:cubicBezTo>
                <a:cubicBezTo>
                  <a:pt x="89484" y="744446"/>
                  <a:pt x="108371" y="749629"/>
                  <a:pt x="110532" y="763674"/>
                </a:cubicBezTo>
                <a:cubicBezTo>
                  <a:pt x="118713" y="816852"/>
                  <a:pt x="105062" y="850426"/>
                  <a:pt x="90435" y="894303"/>
                </a:cubicBezTo>
                <a:cubicBezTo>
                  <a:pt x="93785" y="921099"/>
                  <a:pt x="93379" y="948637"/>
                  <a:pt x="100484" y="974690"/>
                </a:cubicBezTo>
                <a:cubicBezTo>
                  <a:pt x="103662" y="986341"/>
                  <a:pt x="115823" y="993735"/>
                  <a:pt x="120580" y="1004835"/>
                </a:cubicBezTo>
                <a:cubicBezTo>
                  <a:pt x="126020" y="1017528"/>
                  <a:pt x="126835" y="1031749"/>
                  <a:pt x="130629" y="1045028"/>
                </a:cubicBezTo>
                <a:cubicBezTo>
                  <a:pt x="133539" y="1055212"/>
                  <a:pt x="137328" y="1065125"/>
                  <a:pt x="140677" y="1075173"/>
                </a:cubicBezTo>
                <a:cubicBezTo>
                  <a:pt x="144027" y="1108668"/>
                  <a:pt x="140686" y="1143528"/>
                  <a:pt x="150726" y="1175657"/>
                </a:cubicBezTo>
                <a:cubicBezTo>
                  <a:pt x="157930" y="1198711"/>
                  <a:pt x="190919" y="1235947"/>
                  <a:pt x="190919" y="1235947"/>
                </a:cubicBezTo>
                <a:cubicBezTo>
                  <a:pt x="184220" y="1245995"/>
                  <a:pt x="176223" y="1255290"/>
                  <a:pt x="170822" y="1266092"/>
                </a:cubicBezTo>
                <a:cubicBezTo>
                  <a:pt x="166085" y="1275566"/>
                  <a:pt x="153284" y="1303726"/>
                  <a:pt x="160774" y="1296237"/>
                </a:cubicBezTo>
                <a:cubicBezTo>
                  <a:pt x="171366" y="1285646"/>
                  <a:pt x="174172" y="1269442"/>
                  <a:pt x="180871" y="1256044"/>
                </a:cubicBezTo>
                <a:cubicBezTo>
                  <a:pt x="177521" y="1225899"/>
                  <a:pt x="175434" y="1195587"/>
                  <a:pt x="170822" y="1165609"/>
                </a:cubicBezTo>
                <a:cubicBezTo>
                  <a:pt x="167217" y="1142175"/>
                  <a:pt x="158230" y="1117782"/>
                  <a:pt x="150726" y="1095270"/>
                </a:cubicBezTo>
                <a:cubicBezTo>
                  <a:pt x="160774" y="944549"/>
                  <a:pt x="167473" y="944541"/>
                  <a:pt x="150726" y="793820"/>
                </a:cubicBezTo>
                <a:cubicBezTo>
                  <a:pt x="149556" y="783293"/>
                  <a:pt x="146553" y="772487"/>
                  <a:pt x="140677" y="763674"/>
                </a:cubicBezTo>
                <a:cubicBezTo>
                  <a:pt x="132794" y="751850"/>
                  <a:pt x="119629" y="744446"/>
                  <a:pt x="110532" y="733529"/>
                </a:cubicBezTo>
                <a:cubicBezTo>
                  <a:pt x="102801" y="724251"/>
                  <a:pt x="97134" y="713432"/>
                  <a:pt x="90435" y="703384"/>
                </a:cubicBezTo>
                <a:cubicBezTo>
                  <a:pt x="87086" y="693336"/>
                  <a:pt x="87004" y="681510"/>
                  <a:pt x="80387" y="673239"/>
                </a:cubicBezTo>
                <a:cubicBezTo>
                  <a:pt x="72843" y="663809"/>
                  <a:pt x="58781" y="661682"/>
                  <a:pt x="50242" y="653143"/>
                </a:cubicBezTo>
                <a:cubicBezTo>
                  <a:pt x="41702" y="644604"/>
                  <a:pt x="36844" y="633046"/>
                  <a:pt x="30145" y="622998"/>
                </a:cubicBezTo>
                <a:cubicBezTo>
                  <a:pt x="33495" y="596202"/>
                  <a:pt x="33089" y="568664"/>
                  <a:pt x="40194" y="542611"/>
                </a:cubicBezTo>
                <a:cubicBezTo>
                  <a:pt x="43372" y="530960"/>
                  <a:pt x="58792" y="524449"/>
                  <a:pt x="60290" y="512466"/>
                </a:cubicBezTo>
                <a:cubicBezTo>
                  <a:pt x="62408" y="495519"/>
                  <a:pt x="53050" y="479071"/>
                  <a:pt x="50242" y="462224"/>
                </a:cubicBezTo>
                <a:cubicBezTo>
                  <a:pt x="46348" y="438862"/>
                  <a:pt x="43543" y="415331"/>
                  <a:pt x="40194" y="391885"/>
                </a:cubicBezTo>
                <a:cubicBezTo>
                  <a:pt x="44179" y="352031"/>
                  <a:pt x="51406" y="265484"/>
                  <a:pt x="60290" y="221063"/>
                </a:cubicBezTo>
                <a:cubicBezTo>
                  <a:pt x="62367" y="210677"/>
                  <a:pt x="66989" y="200966"/>
                  <a:pt x="70339" y="190918"/>
                </a:cubicBezTo>
                <a:cubicBezTo>
                  <a:pt x="66989" y="164123"/>
                  <a:pt x="67395" y="136584"/>
                  <a:pt x="60290" y="110532"/>
                </a:cubicBezTo>
                <a:cubicBezTo>
                  <a:pt x="57112" y="98881"/>
                  <a:pt x="47925" y="89664"/>
                  <a:pt x="40194" y="80387"/>
                </a:cubicBezTo>
                <a:lnTo>
                  <a:pt x="0" y="40193"/>
                </a:lnTo>
              </a:path>
            </a:pathLst>
          </a:custGeom>
          <a:noFill/>
          <a:ln w="936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олилиния 47"/>
          <p:cNvSpPr/>
          <p:nvPr/>
        </p:nvSpPr>
        <p:spPr>
          <a:xfrm>
            <a:off x="7466040" y="2090880"/>
            <a:ext cx="847800" cy="1817640"/>
          </a:xfrm>
          <a:custGeom>
            <a:avLst/>
            <a:gdLst/>
            <a:ahLst/>
            <a:rect l="l" t="t" r="r" b="b"/>
            <a:pathLst>
              <a:path w="847996" h="1818752">
                <a:moveTo>
                  <a:pt x="0" y="311499"/>
                </a:moveTo>
                <a:cubicBezTo>
                  <a:pt x="16747" y="314848"/>
                  <a:pt x="33673" y="317405"/>
                  <a:pt x="50242" y="321547"/>
                </a:cubicBezTo>
                <a:cubicBezTo>
                  <a:pt x="60518" y="324116"/>
                  <a:pt x="69795" y="331596"/>
                  <a:pt x="80387" y="331596"/>
                </a:cubicBezTo>
                <a:cubicBezTo>
                  <a:pt x="127399" y="331596"/>
                  <a:pt x="174172" y="324897"/>
                  <a:pt x="221064" y="321547"/>
                </a:cubicBezTo>
                <a:cubicBezTo>
                  <a:pt x="234982" y="318764"/>
                  <a:pt x="284072" y="311106"/>
                  <a:pt x="301451" y="301451"/>
                </a:cubicBezTo>
                <a:cubicBezTo>
                  <a:pt x="322565" y="289721"/>
                  <a:pt x="344662" y="278336"/>
                  <a:pt x="361741" y="261257"/>
                </a:cubicBezTo>
                <a:lnTo>
                  <a:pt x="422031" y="200967"/>
                </a:lnTo>
                <a:cubicBezTo>
                  <a:pt x="432079" y="190919"/>
                  <a:pt x="440352" y="178705"/>
                  <a:pt x="452176" y="170822"/>
                </a:cubicBezTo>
                <a:cubicBezTo>
                  <a:pt x="462224" y="164123"/>
                  <a:pt x="473295" y="158748"/>
                  <a:pt x="482321" y="150725"/>
                </a:cubicBezTo>
                <a:cubicBezTo>
                  <a:pt x="503563" y="131843"/>
                  <a:pt x="518963" y="106200"/>
                  <a:pt x="542611" y="90435"/>
                </a:cubicBezTo>
                <a:cubicBezTo>
                  <a:pt x="552659" y="83736"/>
                  <a:pt x="561720" y="75244"/>
                  <a:pt x="572756" y="70339"/>
                </a:cubicBezTo>
                <a:cubicBezTo>
                  <a:pt x="592114" y="61736"/>
                  <a:pt x="612949" y="56941"/>
                  <a:pt x="633046" y="50242"/>
                </a:cubicBezTo>
                <a:cubicBezTo>
                  <a:pt x="643094" y="46893"/>
                  <a:pt x="652743" y="41935"/>
                  <a:pt x="663191" y="40194"/>
                </a:cubicBezTo>
                <a:cubicBezTo>
                  <a:pt x="683288" y="36844"/>
                  <a:pt x="703503" y="34141"/>
                  <a:pt x="723482" y="30145"/>
                </a:cubicBezTo>
                <a:cubicBezTo>
                  <a:pt x="775851" y="19671"/>
                  <a:pt x="749116" y="22821"/>
                  <a:pt x="793820" y="10048"/>
                </a:cubicBezTo>
                <a:cubicBezTo>
                  <a:pt x="807099" y="6254"/>
                  <a:pt x="820615" y="3349"/>
                  <a:pt x="834013" y="0"/>
                </a:cubicBezTo>
                <a:cubicBezTo>
                  <a:pt x="837363" y="10048"/>
                  <a:pt x="847996" y="20311"/>
                  <a:pt x="844062" y="30145"/>
                </a:cubicBezTo>
                <a:cubicBezTo>
                  <a:pt x="839577" y="41358"/>
                  <a:pt x="821461" y="40812"/>
                  <a:pt x="813917" y="50242"/>
                </a:cubicBezTo>
                <a:cubicBezTo>
                  <a:pt x="807300" y="58513"/>
                  <a:pt x="809743" y="71574"/>
                  <a:pt x="803868" y="80387"/>
                </a:cubicBezTo>
                <a:cubicBezTo>
                  <a:pt x="795985" y="92211"/>
                  <a:pt x="783771" y="100484"/>
                  <a:pt x="773723" y="110532"/>
                </a:cubicBezTo>
                <a:lnTo>
                  <a:pt x="733530" y="231112"/>
                </a:lnTo>
                <a:cubicBezTo>
                  <a:pt x="730181" y="241160"/>
                  <a:pt x="729357" y="252444"/>
                  <a:pt x="723482" y="261257"/>
                </a:cubicBezTo>
                <a:lnTo>
                  <a:pt x="703385" y="291402"/>
                </a:lnTo>
                <a:cubicBezTo>
                  <a:pt x="700036" y="314848"/>
                  <a:pt x="696104" y="338219"/>
                  <a:pt x="693337" y="361741"/>
                </a:cubicBezTo>
                <a:cubicBezTo>
                  <a:pt x="689404" y="395172"/>
                  <a:pt x="688407" y="428954"/>
                  <a:pt x="683288" y="462224"/>
                </a:cubicBezTo>
                <a:cubicBezTo>
                  <a:pt x="681677" y="472693"/>
                  <a:pt x="675317" y="481983"/>
                  <a:pt x="673240" y="492369"/>
                </a:cubicBezTo>
                <a:cubicBezTo>
                  <a:pt x="670113" y="508006"/>
                  <a:pt x="655396" y="639713"/>
                  <a:pt x="633046" y="673240"/>
                </a:cubicBezTo>
                <a:cubicBezTo>
                  <a:pt x="626347" y="683288"/>
                  <a:pt x="618351" y="692583"/>
                  <a:pt x="612950" y="703385"/>
                </a:cubicBezTo>
                <a:cubicBezTo>
                  <a:pt x="608213" y="712859"/>
                  <a:pt x="608045" y="724271"/>
                  <a:pt x="602901" y="733530"/>
                </a:cubicBezTo>
                <a:cubicBezTo>
                  <a:pt x="572853" y="787617"/>
                  <a:pt x="569181" y="787347"/>
                  <a:pt x="532563" y="823965"/>
                </a:cubicBezTo>
                <a:lnTo>
                  <a:pt x="512466" y="884255"/>
                </a:lnTo>
                <a:cubicBezTo>
                  <a:pt x="509117" y="894303"/>
                  <a:pt x="504159" y="903952"/>
                  <a:pt x="502418" y="914400"/>
                </a:cubicBezTo>
                <a:cubicBezTo>
                  <a:pt x="484282" y="1023217"/>
                  <a:pt x="502112" y="935565"/>
                  <a:pt x="482321" y="1004835"/>
                </a:cubicBezTo>
                <a:cubicBezTo>
                  <a:pt x="475299" y="1029412"/>
                  <a:pt x="464118" y="1087406"/>
                  <a:pt x="452176" y="1105319"/>
                </a:cubicBezTo>
                <a:lnTo>
                  <a:pt x="432079" y="1135464"/>
                </a:lnTo>
                <a:cubicBezTo>
                  <a:pt x="408179" y="1207166"/>
                  <a:pt x="416775" y="1168550"/>
                  <a:pt x="432079" y="1306286"/>
                </a:cubicBezTo>
                <a:cubicBezTo>
                  <a:pt x="435206" y="1334432"/>
                  <a:pt x="447401" y="1362956"/>
                  <a:pt x="462224" y="1386673"/>
                </a:cubicBezTo>
                <a:cubicBezTo>
                  <a:pt x="471100" y="1400875"/>
                  <a:pt x="482321" y="1413468"/>
                  <a:pt x="492370" y="1426866"/>
                </a:cubicBezTo>
                <a:cubicBezTo>
                  <a:pt x="493631" y="1434434"/>
                  <a:pt x="504972" y="1512362"/>
                  <a:pt x="512466" y="1527350"/>
                </a:cubicBezTo>
                <a:cubicBezTo>
                  <a:pt x="523268" y="1548953"/>
                  <a:pt x="539262" y="1567543"/>
                  <a:pt x="552660" y="1587640"/>
                </a:cubicBezTo>
                <a:lnTo>
                  <a:pt x="572756" y="1617785"/>
                </a:lnTo>
                <a:cubicBezTo>
                  <a:pt x="579455" y="1627833"/>
                  <a:pt x="587452" y="1637128"/>
                  <a:pt x="592853" y="1647930"/>
                </a:cubicBezTo>
                <a:cubicBezTo>
                  <a:pt x="599552" y="1661328"/>
                  <a:pt x="604243" y="1675934"/>
                  <a:pt x="612950" y="1688123"/>
                </a:cubicBezTo>
                <a:cubicBezTo>
                  <a:pt x="621210" y="1699687"/>
                  <a:pt x="633047" y="1708220"/>
                  <a:pt x="643095" y="1718268"/>
                </a:cubicBezTo>
                <a:cubicBezTo>
                  <a:pt x="663412" y="1758905"/>
                  <a:pt x="658418" y="1759508"/>
                  <a:pt x="693337" y="1788607"/>
                </a:cubicBezTo>
                <a:cubicBezTo>
                  <a:pt x="702615" y="1796338"/>
                  <a:pt x="712680" y="1803302"/>
                  <a:pt x="723482" y="1808703"/>
                </a:cubicBezTo>
                <a:cubicBezTo>
                  <a:pt x="732956" y="1813440"/>
                  <a:pt x="764219" y="1818752"/>
                  <a:pt x="753627" y="1818752"/>
                </a:cubicBezTo>
                <a:cubicBezTo>
                  <a:pt x="680852" y="1818752"/>
                  <a:pt x="684187" y="1806303"/>
                  <a:pt x="622998" y="1798655"/>
                </a:cubicBezTo>
                <a:cubicBezTo>
                  <a:pt x="586288" y="1794066"/>
                  <a:pt x="549310" y="1791956"/>
                  <a:pt x="512466" y="1788607"/>
                </a:cubicBezTo>
                <a:cubicBezTo>
                  <a:pt x="482321" y="1791956"/>
                  <a:pt x="451872" y="1804081"/>
                  <a:pt x="422031" y="1798655"/>
                </a:cubicBezTo>
                <a:cubicBezTo>
                  <a:pt x="410149" y="1796495"/>
                  <a:pt x="404464" y="1780319"/>
                  <a:pt x="401934" y="1768510"/>
                </a:cubicBezTo>
                <a:cubicBezTo>
                  <a:pt x="394182" y="1732335"/>
                  <a:pt x="396475" y="1694688"/>
                  <a:pt x="391886" y="1657978"/>
                </a:cubicBezTo>
                <a:cubicBezTo>
                  <a:pt x="389768" y="1641031"/>
                  <a:pt x="385187" y="1624483"/>
                  <a:pt x="381838" y="1607736"/>
                </a:cubicBezTo>
                <a:cubicBezTo>
                  <a:pt x="375232" y="1521870"/>
                  <a:pt x="380956" y="1500966"/>
                  <a:pt x="361741" y="1436914"/>
                </a:cubicBezTo>
                <a:cubicBezTo>
                  <a:pt x="355654" y="1416624"/>
                  <a:pt x="348343" y="1396721"/>
                  <a:pt x="341644" y="1376624"/>
                </a:cubicBezTo>
                <a:lnTo>
                  <a:pt x="331596" y="1346479"/>
                </a:lnTo>
                <a:lnTo>
                  <a:pt x="321548" y="1316334"/>
                </a:lnTo>
                <a:cubicBezTo>
                  <a:pt x="324897" y="1252695"/>
                  <a:pt x="325827" y="1188882"/>
                  <a:pt x="331596" y="1125416"/>
                </a:cubicBezTo>
                <a:cubicBezTo>
                  <a:pt x="332555" y="1114867"/>
                  <a:pt x="336907" y="1104744"/>
                  <a:pt x="341644" y="1095270"/>
                </a:cubicBezTo>
                <a:cubicBezTo>
                  <a:pt x="347045" y="1084468"/>
                  <a:pt x="353201" y="1073664"/>
                  <a:pt x="361741" y="1065125"/>
                </a:cubicBezTo>
                <a:cubicBezTo>
                  <a:pt x="370280" y="1056586"/>
                  <a:pt x="381838" y="1051728"/>
                  <a:pt x="391886" y="1045029"/>
                </a:cubicBezTo>
                <a:cubicBezTo>
                  <a:pt x="398585" y="1034981"/>
                  <a:pt x="403444" y="1023424"/>
                  <a:pt x="411983" y="1014884"/>
                </a:cubicBezTo>
                <a:cubicBezTo>
                  <a:pt x="427148" y="999719"/>
                  <a:pt x="446084" y="988813"/>
                  <a:pt x="462224" y="974690"/>
                </a:cubicBezTo>
                <a:cubicBezTo>
                  <a:pt x="472919" y="965332"/>
                  <a:pt x="482321" y="954593"/>
                  <a:pt x="492370" y="944545"/>
                </a:cubicBezTo>
                <a:cubicBezTo>
                  <a:pt x="495719" y="897653"/>
                  <a:pt x="491016" y="849476"/>
                  <a:pt x="502418" y="803868"/>
                </a:cubicBezTo>
                <a:cubicBezTo>
                  <a:pt x="510431" y="771817"/>
                  <a:pt x="549103" y="737086"/>
                  <a:pt x="572756" y="713433"/>
                </a:cubicBezTo>
                <a:cubicBezTo>
                  <a:pt x="597590" y="638933"/>
                  <a:pt x="583379" y="672090"/>
                  <a:pt x="612950" y="612950"/>
                </a:cubicBezTo>
                <a:cubicBezTo>
                  <a:pt x="616299" y="576106"/>
                  <a:pt x="615246" y="538593"/>
                  <a:pt x="622998" y="502418"/>
                </a:cubicBezTo>
                <a:cubicBezTo>
                  <a:pt x="625528" y="490609"/>
                  <a:pt x="637103" y="482759"/>
                  <a:pt x="643095" y="472273"/>
                </a:cubicBezTo>
                <a:cubicBezTo>
                  <a:pt x="694090" y="383031"/>
                  <a:pt x="634325" y="475377"/>
                  <a:pt x="683288" y="401934"/>
                </a:cubicBezTo>
                <a:cubicBezTo>
                  <a:pt x="686638" y="388536"/>
                  <a:pt x="693337" y="375551"/>
                  <a:pt x="693337" y="361741"/>
                </a:cubicBezTo>
                <a:cubicBezTo>
                  <a:pt x="693337" y="114960"/>
                  <a:pt x="732115" y="198866"/>
                  <a:pt x="653143" y="211016"/>
                </a:cubicBezTo>
                <a:cubicBezTo>
                  <a:pt x="619873" y="216135"/>
                  <a:pt x="586154" y="217715"/>
                  <a:pt x="552660" y="221064"/>
                </a:cubicBezTo>
                <a:cubicBezTo>
                  <a:pt x="495064" y="307456"/>
                  <a:pt x="571755" y="205788"/>
                  <a:pt x="502418" y="261257"/>
                </a:cubicBezTo>
                <a:cubicBezTo>
                  <a:pt x="492988" y="268801"/>
                  <a:pt x="490052" y="282124"/>
                  <a:pt x="482321" y="291402"/>
                </a:cubicBezTo>
                <a:cubicBezTo>
                  <a:pt x="442290" y="339439"/>
                  <a:pt x="465144" y="305716"/>
                  <a:pt x="422031" y="341644"/>
                </a:cubicBezTo>
                <a:cubicBezTo>
                  <a:pt x="411114" y="350741"/>
                  <a:pt x="401934" y="361741"/>
                  <a:pt x="391886" y="371789"/>
                </a:cubicBezTo>
                <a:cubicBezTo>
                  <a:pt x="314855" y="368288"/>
                  <a:pt x="237884" y="361741"/>
                  <a:pt x="160774" y="361741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48"/>
          <p:cNvSpPr/>
          <p:nvPr/>
        </p:nvSpPr>
        <p:spPr>
          <a:xfrm>
            <a:off x="6048360" y="3527280"/>
            <a:ext cx="539640" cy="384480"/>
          </a:xfrm>
          <a:custGeom>
            <a:avLst/>
            <a:gdLst/>
            <a:ahLst/>
            <a:rect l="l" t="t" r="r" b="b"/>
            <a:pathLst>
              <a:path w="539411" h="385096">
                <a:moveTo>
                  <a:pt x="10048" y="70339"/>
                </a:moveTo>
                <a:cubicBezTo>
                  <a:pt x="13397" y="80387"/>
                  <a:pt x="17798" y="90144"/>
                  <a:pt x="20096" y="100484"/>
                </a:cubicBezTo>
                <a:cubicBezTo>
                  <a:pt x="24516" y="120373"/>
                  <a:pt x="21870" y="142156"/>
                  <a:pt x="30145" y="160774"/>
                </a:cubicBezTo>
                <a:cubicBezTo>
                  <a:pt x="35917" y="173760"/>
                  <a:pt x="50242" y="180871"/>
                  <a:pt x="60290" y="190919"/>
                </a:cubicBezTo>
                <a:cubicBezTo>
                  <a:pt x="66989" y="211016"/>
                  <a:pt x="68636" y="233583"/>
                  <a:pt x="80387" y="251209"/>
                </a:cubicBezTo>
                <a:lnTo>
                  <a:pt x="120580" y="311499"/>
                </a:lnTo>
                <a:cubicBezTo>
                  <a:pt x="153734" y="212035"/>
                  <a:pt x="98911" y="385096"/>
                  <a:pt x="140677" y="120581"/>
                </a:cubicBezTo>
                <a:cubicBezTo>
                  <a:pt x="142560" y="108652"/>
                  <a:pt x="155372" y="101238"/>
                  <a:pt x="160773" y="90436"/>
                </a:cubicBezTo>
                <a:cubicBezTo>
                  <a:pt x="165510" y="80962"/>
                  <a:pt x="167472" y="70339"/>
                  <a:pt x="170822" y="60291"/>
                </a:cubicBezTo>
                <a:cubicBezTo>
                  <a:pt x="174171" y="83737"/>
                  <a:pt x="174064" y="107944"/>
                  <a:pt x="180870" y="130629"/>
                </a:cubicBezTo>
                <a:cubicBezTo>
                  <a:pt x="187887" y="154017"/>
                  <a:pt x="217095" y="174098"/>
                  <a:pt x="231112" y="190919"/>
                </a:cubicBezTo>
                <a:cubicBezTo>
                  <a:pt x="252754" y="216889"/>
                  <a:pt x="251186" y="220999"/>
                  <a:pt x="261257" y="251209"/>
                </a:cubicBezTo>
                <a:cubicBezTo>
                  <a:pt x="264606" y="271306"/>
                  <a:pt x="264862" y="292171"/>
                  <a:pt x="271305" y="311499"/>
                </a:cubicBezTo>
                <a:cubicBezTo>
                  <a:pt x="275124" y="322956"/>
                  <a:pt x="279325" y="341644"/>
                  <a:pt x="291402" y="341644"/>
                </a:cubicBezTo>
                <a:cubicBezTo>
                  <a:pt x="301994" y="341644"/>
                  <a:pt x="298101" y="321547"/>
                  <a:pt x="301450" y="311499"/>
                </a:cubicBezTo>
                <a:cubicBezTo>
                  <a:pt x="304800" y="251209"/>
                  <a:pt x="305774" y="190740"/>
                  <a:pt x="311499" y="130629"/>
                </a:cubicBezTo>
                <a:cubicBezTo>
                  <a:pt x="312503" y="120085"/>
                  <a:pt x="318198" y="90436"/>
                  <a:pt x="321547" y="100484"/>
                </a:cubicBezTo>
                <a:cubicBezTo>
                  <a:pt x="368015" y="239894"/>
                  <a:pt x="293820" y="153144"/>
                  <a:pt x="361740" y="221064"/>
                </a:cubicBezTo>
                <a:cubicBezTo>
                  <a:pt x="365090" y="231112"/>
                  <a:pt x="365914" y="242396"/>
                  <a:pt x="371789" y="251209"/>
                </a:cubicBezTo>
                <a:cubicBezTo>
                  <a:pt x="387263" y="274420"/>
                  <a:pt x="409835" y="286622"/>
                  <a:pt x="432079" y="301451"/>
                </a:cubicBezTo>
                <a:cubicBezTo>
                  <a:pt x="429258" y="284527"/>
                  <a:pt x="411982" y="183760"/>
                  <a:pt x="411982" y="170822"/>
                </a:cubicBezTo>
                <a:cubicBezTo>
                  <a:pt x="411982" y="153743"/>
                  <a:pt x="418681" y="137328"/>
                  <a:pt x="422030" y="120581"/>
                </a:cubicBezTo>
                <a:cubicBezTo>
                  <a:pt x="425380" y="133979"/>
                  <a:pt x="430126" y="147103"/>
                  <a:pt x="432079" y="160774"/>
                </a:cubicBezTo>
                <a:cubicBezTo>
                  <a:pt x="436840" y="194097"/>
                  <a:pt x="428456" y="230497"/>
                  <a:pt x="442127" y="261258"/>
                </a:cubicBezTo>
                <a:cubicBezTo>
                  <a:pt x="446429" y="270937"/>
                  <a:pt x="462224" y="254559"/>
                  <a:pt x="472272" y="251209"/>
                </a:cubicBezTo>
                <a:cubicBezTo>
                  <a:pt x="478971" y="237811"/>
                  <a:pt x="483662" y="223205"/>
                  <a:pt x="492369" y="211016"/>
                </a:cubicBezTo>
                <a:cubicBezTo>
                  <a:pt x="539411" y="145158"/>
                  <a:pt x="511008" y="215389"/>
                  <a:pt x="532562" y="150726"/>
                </a:cubicBezTo>
                <a:cubicBezTo>
                  <a:pt x="525863" y="120581"/>
                  <a:pt x="530175" y="85589"/>
                  <a:pt x="512466" y="60291"/>
                </a:cubicBezTo>
                <a:cubicBezTo>
                  <a:pt x="502672" y="46299"/>
                  <a:pt x="478216" y="56239"/>
                  <a:pt x="462224" y="50242"/>
                </a:cubicBezTo>
                <a:cubicBezTo>
                  <a:pt x="450916" y="46001"/>
                  <a:pt x="443115" y="35050"/>
                  <a:pt x="432079" y="30145"/>
                </a:cubicBezTo>
                <a:cubicBezTo>
                  <a:pt x="412721" y="21542"/>
                  <a:pt x="371789" y="10049"/>
                  <a:pt x="371789" y="10049"/>
                </a:cubicBezTo>
                <a:cubicBezTo>
                  <a:pt x="276401" y="41844"/>
                  <a:pt x="332596" y="32063"/>
                  <a:pt x="200967" y="20097"/>
                </a:cubicBezTo>
                <a:cubicBezTo>
                  <a:pt x="184220" y="16748"/>
                  <a:pt x="167719" y="11748"/>
                  <a:pt x="150725" y="10049"/>
                </a:cubicBezTo>
                <a:cubicBezTo>
                  <a:pt x="100622" y="5039"/>
                  <a:pt x="0" y="0"/>
                  <a:pt x="0" y="0"/>
                </a:cubicBezTo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олилиния 49"/>
          <p:cNvSpPr/>
          <p:nvPr/>
        </p:nvSpPr>
        <p:spPr>
          <a:xfrm>
            <a:off x="5878440" y="1415880"/>
            <a:ext cx="1001880" cy="414360"/>
          </a:xfrm>
          <a:custGeom>
            <a:avLst/>
            <a:gdLst/>
            <a:ahLst/>
            <a:rect l="l" t="t" r="r" b="b"/>
            <a:pathLst>
              <a:path w="1001215" h="413771">
                <a:moveTo>
                  <a:pt x="60290" y="321547"/>
                </a:moveTo>
                <a:cubicBezTo>
                  <a:pt x="63639" y="311499"/>
                  <a:pt x="67428" y="301586"/>
                  <a:pt x="70338" y="291402"/>
                </a:cubicBezTo>
                <a:cubicBezTo>
                  <a:pt x="74132" y="278123"/>
                  <a:pt x="72726" y="262699"/>
                  <a:pt x="80387" y="251208"/>
                </a:cubicBezTo>
                <a:cubicBezTo>
                  <a:pt x="87086" y="241160"/>
                  <a:pt x="100484" y="237811"/>
                  <a:pt x="110532" y="231112"/>
                </a:cubicBezTo>
                <a:cubicBezTo>
                  <a:pt x="117231" y="221064"/>
                  <a:pt x="122605" y="209993"/>
                  <a:pt x="130628" y="200967"/>
                </a:cubicBezTo>
                <a:cubicBezTo>
                  <a:pt x="149510" y="179725"/>
                  <a:pt x="175153" y="164325"/>
                  <a:pt x="190918" y="140677"/>
                </a:cubicBezTo>
                <a:cubicBezTo>
                  <a:pt x="240812" y="65835"/>
                  <a:pt x="176689" y="157750"/>
                  <a:pt x="241160" y="80386"/>
                </a:cubicBezTo>
                <a:cubicBezTo>
                  <a:pt x="248891" y="71108"/>
                  <a:pt x="252717" y="58780"/>
                  <a:pt x="261257" y="50241"/>
                </a:cubicBezTo>
                <a:cubicBezTo>
                  <a:pt x="269796" y="41702"/>
                  <a:pt x="282125" y="37876"/>
                  <a:pt x="291402" y="30145"/>
                </a:cubicBezTo>
                <a:cubicBezTo>
                  <a:pt x="302319" y="21048"/>
                  <a:pt x="311499" y="10048"/>
                  <a:pt x="321547" y="0"/>
                </a:cubicBezTo>
                <a:cubicBezTo>
                  <a:pt x="306361" y="60747"/>
                  <a:pt x="315867" y="27087"/>
                  <a:pt x="291402" y="100483"/>
                </a:cubicBezTo>
                <a:lnTo>
                  <a:pt x="281354" y="130628"/>
                </a:lnTo>
                <a:cubicBezTo>
                  <a:pt x="288702" y="174716"/>
                  <a:pt x="276041" y="222617"/>
                  <a:pt x="341644" y="180870"/>
                </a:cubicBezTo>
                <a:cubicBezTo>
                  <a:pt x="432183" y="123255"/>
                  <a:pt x="374977" y="127440"/>
                  <a:pt x="442127" y="60290"/>
                </a:cubicBezTo>
                <a:lnTo>
                  <a:pt x="502417" y="0"/>
                </a:lnTo>
                <a:cubicBezTo>
                  <a:pt x="499068" y="13398"/>
                  <a:pt x="496163" y="26914"/>
                  <a:pt x="492369" y="40193"/>
                </a:cubicBezTo>
                <a:cubicBezTo>
                  <a:pt x="489459" y="50377"/>
                  <a:pt x="482321" y="59746"/>
                  <a:pt x="482321" y="70338"/>
                </a:cubicBezTo>
                <a:cubicBezTo>
                  <a:pt x="482321" y="100668"/>
                  <a:pt x="487383" y="130855"/>
                  <a:pt x="492369" y="160773"/>
                </a:cubicBezTo>
                <a:cubicBezTo>
                  <a:pt x="494110" y="171221"/>
                  <a:pt x="494928" y="183428"/>
                  <a:pt x="502417" y="190918"/>
                </a:cubicBezTo>
                <a:cubicBezTo>
                  <a:pt x="509907" y="198408"/>
                  <a:pt x="522514" y="197617"/>
                  <a:pt x="532562" y="200967"/>
                </a:cubicBezTo>
                <a:cubicBezTo>
                  <a:pt x="542610" y="197617"/>
                  <a:pt x="554436" y="197535"/>
                  <a:pt x="562707" y="190918"/>
                </a:cubicBezTo>
                <a:cubicBezTo>
                  <a:pt x="586706" y="171718"/>
                  <a:pt x="580715" y="154901"/>
                  <a:pt x="592852" y="130628"/>
                </a:cubicBezTo>
                <a:cubicBezTo>
                  <a:pt x="598253" y="119826"/>
                  <a:pt x="607548" y="111285"/>
                  <a:pt x="612949" y="100483"/>
                </a:cubicBezTo>
                <a:cubicBezTo>
                  <a:pt x="616665" y="93050"/>
                  <a:pt x="628697" y="40193"/>
                  <a:pt x="643094" y="40193"/>
                </a:cubicBezTo>
                <a:cubicBezTo>
                  <a:pt x="653686" y="40193"/>
                  <a:pt x="636395" y="60290"/>
                  <a:pt x="633046" y="70338"/>
                </a:cubicBezTo>
                <a:cubicBezTo>
                  <a:pt x="636395" y="93784"/>
                  <a:pt x="639964" y="117200"/>
                  <a:pt x="643094" y="140677"/>
                </a:cubicBezTo>
                <a:cubicBezTo>
                  <a:pt x="646663" y="167444"/>
                  <a:pt x="638164" y="198595"/>
                  <a:pt x="653143" y="221063"/>
                </a:cubicBezTo>
                <a:cubicBezTo>
                  <a:pt x="659842" y="231111"/>
                  <a:pt x="674011" y="208698"/>
                  <a:pt x="683288" y="200967"/>
                </a:cubicBezTo>
                <a:cubicBezTo>
                  <a:pt x="694205" y="191870"/>
                  <a:pt x="704336" y="181739"/>
                  <a:pt x="713433" y="170822"/>
                </a:cubicBezTo>
                <a:cubicBezTo>
                  <a:pt x="732579" y="147847"/>
                  <a:pt x="735697" y="138115"/>
                  <a:pt x="743578" y="110531"/>
                </a:cubicBezTo>
                <a:cubicBezTo>
                  <a:pt x="747372" y="97252"/>
                  <a:pt x="747450" y="82690"/>
                  <a:pt x="753626" y="70338"/>
                </a:cubicBezTo>
                <a:cubicBezTo>
                  <a:pt x="761116" y="55359"/>
                  <a:pt x="773723" y="43543"/>
                  <a:pt x="783771" y="30145"/>
                </a:cubicBezTo>
                <a:cubicBezTo>
                  <a:pt x="787120" y="40193"/>
                  <a:pt x="792974" y="49732"/>
                  <a:pt x="793819" y="60290"/>
                </a:cubicBezTo>
                <a:cubicBezTo>
                  <a:pt x="799701" y="133819"/>
                  <a:pt x="787866" y="209346"/>
                  <a:pt x="803868" y="281353"/>
                </a:cubicBezTo>
                <a:cubicBezTo>
                  <a:pt x="807501" y="297701"/>
                  <a:pt x="824279" y="254788"/>
                  <a:pt x="834013" y="241160"/>
                </a:cubicBezTo>
                <a:cubicBezTo>
                  <a:pt x="841032" y="231333"/>
                  <a:pt x="847411" y="221063"/>
                  <a:pt x="854110" y="211015"/>
                </a:cubicBezTo>
                <a:cubicBezTo>
                  <a:pt x="854197" y="211363"/>
                  <a:pt x="869401" y="276548"/>
                  <a:pt x="874206" y="281353"/>
                </a:cubicBezTo>
                <a:cubicBezTo>
                  <a:pt x="881696" y="288843"/>
                  <a:pt x="894303" y="288052"/>
                  <a:pt x="904351" y="291402"/>
                </a:cubicBezTo>
                <a:cubicBezTo>
                  <a:pt x="907701" y="281354"/>
                  <a:pt x="911831" y="271533"/>
                  <a:pt x="914400" y="261257"/>
                </a:cubicBezTo>
                <a:cubicBezTo>
                  <a:pt x="918542" y="244688"/>
                  <a:pt x="916810" y="226291"/>
                  <a:pt x="924448" y="211015"/>
                </a:cubicBezTo>
                <a:cubicBezTo>
                  <a:pt x="930803" y="198305"/>
                  <a:pt x="944545" y="190918"/>
                  <a:pt x="954593" y="180870"/>
                </a:cubicBezTo>
                <a:cubicBezTo>
                  <a:pt x="957942" y="170822"/>
                  <a:pt x="955167" y="155462"/>
                  <a:pt x="964641" y="150725"/>
                </a:cubicBezTo>
                <a:cubicBezTo>
                  <a:pt x="974115" y="145988"/>
                  <a:pt x="993975" y="150212"/>
                  <a:pt x="994787" y="160773"/>
                </a:cubicBezTo>
                <a:cubicBezTo>
                  <a:pt x="1001215" y="244329"/>
                  <a:pt x="988088" y="328246"/>
                  <a:pt x="984738" y="411982"/>
                </a:cubicBezTo>
                <a:cubicBezTo>
                  <a:pt x="923363" y="350607"/>
                  <a:pt x="990468" y="413771"/>
                  <a:pt x="894303" y="341644"/>
                </a:cubicBezTo>
                <a:cubicBezTo>
                  <a:pt x="880905" y="331595"/>
                  <a:pt x="868312" y="320374"/>
                  <a:pt x="854110" y="311498"/>
                </a:cubicBezTo>
                <a:cubicBezTo>
                  <a:pt x="841408" y="303559"/>
                  <a:pt x="826761" y="299109"/>
                  <a:pt x="813916" y="291402"/>
                </a:cubicBezTo>
                <a:cubicBezTo>
                  <a:pt x="793205" y="278975"/>
                  <a:pt x="753626" y="251208"/>
                  <a:pt x="753626" y="251208"/>
                </a:cubicBezTo>
                <a:cubicBezTo>
                  <a:pt x="738194" y="228061"/>
                  <a:pt x="735741" y="211015"/>
                  <a:pt x="703384" y="211015"/>
                </a:cubicBezTo>
                <a:cubicBezTo>
                  <a:pt x="529180" y="211015"/>
                  <a:pt x="355041" y="217714"/>
                  <a:pt x="180870" y="221063"/>
                </a:cubicBezTo>
                <a:cubicBezTo>
                  <a:pt x="127077" y="256925"/>
                  <a:pt x="159264" y="232621"/>
                  <a:pt x="90435" y="301450"/>
                </a:cubicBezTo>
                <a:cubicBezTo>
                  <a:pt x="80387" y="311498"/>
                  <a:pt x="68173" y="319771"/>
                  <a:pt x="60290" y="331595"/>
                </a:cubicBezTo>
                <a:lnTo>
                  <a:pt x="20096" y="391885"/>
                </a:lnTo>
                <a:lnTo>
                  <a:pt x="0" y="361740"/>
                </a:lnTo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лилиния 50"/>
          <p:cNvSpPr/>
          <p:nvPr/>
        </p:nvSpPr>
        <p:spPr>
          <a:xfrm>
            <a:off x="7485120" y="2441520"/>
            <a:ext cx="315720" cy="774720"/>
          </a:xfrm>
          <a:custGeom>
            <a:avLst/>
            <a:gdLst/>
            <a:ahLst/>
            <a:rect l="l" t="t" r="r" b="b"/>
            <a:pathLst>
              <a:path w="315760" h="774983">
                <a:moveTo>
                  <a:pt x="455" y="0"/>
                </a:moveTo>
                <a:cubicBezTo>
                  <a:pt x="7154" y="20097"/>
                  <a:pt x="0" y="55153"/>
                  <a:pt x="20552" y="60291"/>
                </a:cubicBezTo>
                <a:cubicBezTo>
                  <a:pt x="125815" y="86606"/>
                  <a:pt x="46952" y="69649"/>
                  <a:pt x="261712" y="80387"/>
                </a:cubicBezTo>
                <a:cubicBezTo>
                  <a:pt x="168835" y="142306"/>
                  <a:pt x="315760" y="51683"/>
                  <a:pt x="60745" y="110532"/>
                </a:cubicBezTo>
                <a:cubicBezTo>
                  <a:pt x="46149" y="113900"/>
                  <a:pt x="87170" y="124728"/>
                  <a:pt x="100938" y="130629"/>
                </a:cubicBezTo>
                <a:cubicBezTo>
                  <a:pt x="110674" y="134801"/>
                  <a:pt x="120585" y="139277"/>
                  <a:pt x="131084" y="140677"/>
                </a:cubicBezTo>
                <a:cubicBezTo>
                  <a:pt x="171063" y="146008"/>
                  <a:pt x="211471" y="147376"/>
                  <a:pt x="251664" y="150726"/>
                </a:cubicBezTo>
                <a:cubicBezTo>
                  <a:pt x="241616" y="157425"/>
                  <a:pt x="233412" y="168723"/>
                  <a:pt x="221519" y="170822"/>
                </a:cubicBezTo>
                <a:cubicBezTo>
                  <a:pt x="175223" y="178992"/>
                  <a:pt x="124238" y="162790"/>
                  <a:pt x="80842" y="180871"/>
                </a:cubicBezTo>
                <a:cubicBezTo>
                  <a:pt x="67015" y="186632"/>
                  <a:pt x="88955" y="212077"/>
                  <a:pt x="100938" y="221064"/>
                </a:cubicBezTo>
                <a:cubicBezTo>
                  <a:pt x="117885" y="233774"/>
                  <a:pt x="161229" y="241161"/>
                  <a:pt x="161229" y="241161"/>
                </a:cubicBezTo>
                <a:cubicBezTo>
                  <a:pt x="171277" y="247860"/>
                  <a:pt x="180572" y="255857"/>
                  <a:pt x="191374" y="261258"/>
                </a:cubicBezTo>
                <a:cubicBezTo>
                  <a:pt x="200848" y="265995"/>
                  <a:pt x="221519" y="260714"/>
                  <a:pt x="221519" y="271306"/>
                </a:cubicBezTo>
                <a:cubicBezTo>
                  <a:pt x="221519" y="281898"/>
                  <a:pt x="201859" y="279856"/>
                  <a:pt x="191374" y="281354"/>
                </a:cubicBezTo>
                <a:cubicBezTo>
                  <a:pt x="154750" y="286586"/>
                  <a:pt x="117686" y="288053"/>
                  <a:pt x="80842" y="291403"/>
                </a:cubicBezTo>
                <a:cubicBezTo>
                  <a:pt x="84191" y="301451"/>
                  <a:pt x="83400" y="314059"/>
                  <a:pt x="90890" y="321548"/>
                </a:cubicBezTo>
                <a:cubicBezTo>
                  <a:pt x="101482" y="332140"/>
                  <a:pt x="118078" y="334212"/>
                  <a:pt x="131084" y="341644"/>
                </a:cubicBezTo>
                <a:cubicBezTo>
                  <a:pt x="141570" y="347636"/>
                  <a:pt x="150193" y="356836"/>
                  <a:pt x="161229" y="361741"/>
                </a:cubicBezTo>
                <a:cubicBezTo>
                  <a:pt x="180587" y="370345"/>
                  <a:pt x="201422" y="375139"/>
                  <a:pt x="221519" y="381838"/>
                </a:cubicBezTo>
                <a:lnTo>
                  <a:pt x="251664" y="391886"/>
                </a:lnTo>
                <a:cubicBezTo>
                  <a:pt x="241616" y="401934"/>
                  <a:pt x="234229" y="415676"/>
                  <a:pt x="221519" y="422031"/>
                </a:cubicBezTo>
                <a:cubicBezTo>
                  <a:pt x="206243" y="429669"/>
                  <a:pt x="188224" y="429962"/>
                  <a:pt x="171277" y="432080"/>
                </a:cubicBezTo>
                <a:cubicBezTo>
                  <a:pt x="134567" y="436669"/>
                  <a:pt x="97589" y="438779"/>
                  <a:pt x="60745" y="442128"/>
                </a:cubicBezTo>
                <a:cubicBezTo>
                  <a:pt x="70793" y="448827"/>
                  <a:pt x="80088" y="456824"/>
                  <a:pt x="90890" y="462225"/>
                </a:cubicBezTo>
                <a:cubicBezTo>
                  <a:pt x="118950" y="476255"/>
                  <a:pt x="165456" y="478619"/>
                  <a:pt x="191374" y="482321"/>
                </a:cubicBezTo>
                <a:cubicBezTo>
                  <a:pt x="181326" y="485671"/>
                  <a:pt x="171569" y="490072"/>
                  <a:pt x="161229" y="492370"/>
                </a:cubicBezTo>
                <a:cubicBezTo>
                  <a:pt x="141340" y="496790"/>
                  <a:pt x="118628" y="492310"/>
                  <a:pt x="100938" y="502418"/>
                </a:cubicBezTo>
                <a:cubicBezTo>
                  <a:pt x="91742" y="507673"/>
                  <a:pt x="94239" y="522515"/>
                  <a:pt x="90890" y="532563"/>
                </a:cubicBezTo>
                <a:cubicBezTo>
                  <a:pt x="94239" y="545961"/>
                  <a:pt x="92911" y="561518"/>
                  <a:pt x="100938" y="572756"/>
                </a:cubicBezTo>
                <a:cubicBezTo>
                  <a:pt x="106606" y="580691"/>
                  <a:pt x="159060" y="614854"/>
                  <a:pt x="171277" y="622998"/>
                </a:cubicBezTo>
                <a:cubicBezTo>
                  <a:pt x="177976" y="633046"/>
                  <a:pt x="183643" y="643865"/>
                  <a:pt x="191374" y="653143"/>
                </a:cubicBezTo>
                <a:cubicBezTo>
                  <a:pt x="200471" y="664060"/>
                  <a:pt x="231567" y="673240"/>
                  <a:pt x="221519" y="683288"/>
                </a:cubicBezTo>
                <a:cubicBezTo>
                  <a:pt x="210927" y="693880"/>
                  <a:pt x="194170" y="670899"/>
                  <a:pt x="181325" y="663192"/>
                </a:cubicBezTo>
                <a:cubicBezTo>
                  <a:pt x="160614" y="650765"/>
                  <a:pt x="121035" y="622998"/>
                  <a:pt x="121035" y="622998"/>
                </a:cubicBezTo>
                <a:cubicBezTo>
                  <a:pt x="117686" y="633046"/>
                  <a:pt x="112485" y="642658"/>
                  <a:pt x="110987" y="653143"/>
                </a:cubicBezTo>
                <a:cubicBezTo>
                  <a:pt x="105755" y="689767"/>
                  <a:pt x="113928" y="729035"/>
                  <a:pt x="100938" y="763675"/>
                </a:cubicBezTo>
                <a:cubicBezTo>
                  <a:pt x="96698" y="774983"/>
                  <a:pt x="88865" y="742556"/>
                  <a:pt x="80842" y="733530"/>
                </a:cubicBezTo>
                <a:cubicBezTo>
                  <a:pt x="61960" y="712288"/>
                  <a:pt x="20552" y="673240"/>
                  <a:pt x="20552" y="673240"/>
                </a:cubicBezTo>
                <a:cubicBezTo>
                  <a:pt x="17202" y="663192"/>
                  <a:pt x="10503" y="653687"/>
                  <a:pt x="10503" y="643095"/>
                </a:cubicBezTo>
                <a:cubicBezTo>
                  <a:pt x="10503" y="629285"/>
                  <a:pt x="18082" y="616489"/>
                  <a:pt x="20552" y="602902"/>
                </a:cubicBezTo>
                <a:cubicBezTo>
                  <a:pt x="24789" y="579600"/>
                  <a:pt x="27251" y="556009"/>
                  <a:pt x="30600" y="532563"/>
                </a:cubicBezTo>
                <a:cubicBezTo>
                  <a:pt x="42376" y="167501"/>
                  <a:pt x="40648" y="324951"/>
                  <a:pt x="40648" y="60291"/>
                </a:cubicBezTo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Полилиния 51"/>
          <p:cNvGrpSpPr/>
          <p:nvPr/>
        </p:nvGrpSpPr>
        <p:grpSpPr>
          <a:xfrm>
            <a:off x="5767560" y="3144960"/>
            <a:ext cx="693720" cy="1884240"/>
            <a:chOff x="5767560" y="3144960"/>
            <a:chExt cx="693720" cy="1884240"/>
          </a:xfrm>
        </p:grpSpPr>
        <p:pic>
          <p:nvPicPr>
            <p:cNvPr id="101" name="Полилиния 51" descr=""/>
            <p:cNvPicPr/>
            <p:nvPr/>
          </p:nvPicPr>
          <p:blipFill>
            <a:blip r:embed="rId9"/>
            <a:stretch/>
          </p:blipFill>
          <p:spPr>
            <a:xfrm>
              <a:off x="5767560" y="3144960"/>
              <a:ext cx="69372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843520" y="3235320"/>
              <a:ext cx="536760" cy="17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Полилиния 53"/>
          <p:cNvGrpSpPr/>
          <p:nvPr/>
        </p:nvGrpSpPr>
        <p:grpSpPr>
          <a:xfrm>
            <a:off x="5346720" y="3127320"/>
            <a:ext cx="517680" cy="1627200"/>
            <a:chOff x="5346720" y="3127320"/>
            <a:chExt cx="517680" cy="1627200"/>
          </a:xfrm>
        </p:grpSpPr>
        <p:pic>
          <p:nvPicPr>
            <p:cNvPr id="104" name="Полилиния 53" descr=""/>
            <p:cNvPicPr/>
            <p:nvPr/>
          </p:nvPicPr>
          <p:blipFill>
            <a:blip r:embed="rId10"/>
            <a:stretch/>
          </p:blipFill>
          <p:spPr>
            <a:xfrm>
              <a:off x="5346720" y="3127320"/>
              <a:ext cx="51768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429160" y="3214800"/>
              <a:ext cx="363600" cy="14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Полилиния 54"/>
          <p:cNvGrpSpPr/>
          <p:nvPr/>
        </p:nvGrpSpPr>
        <p:grpSpPr>
          <a:xfrm>
            <a:off x="6705720" y="480960"/>
            <a:ext cx="622080" cy="1603440"/>
            <a:chOff x="6705720" y="480960"/>
            <a:chExt cx="622080" cy="1603440"/>
          </a:xfrm>
        </p:grpSpPr>
        <p:pic>
          <p:nvPicPr>
            <p:cNvPr id="107" name="Полилиния 54" descr=""/>
            <p:cNvPicPr/>
            <p:nvPr/>
          </p:nvPicPr>
          <p:blipFill>
            <a:blip r:embed="rId11"/>
            <a:stretch/>
          </p:blipFill>
          <p:spPr>
            <a:xfrm>
              <a:off x="6705720" y="480960"/>
              <a:ext cx="6220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29560" y="609480"/>
              <a:ext cx="39204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Полилиния 55"/>
          <p:cNvSpPr/>
          <p:nvPr/>
        </p:nvSpPr>
        <p:spPr>
          <a:xfrm>
            <a:off x="7829640" y="2090880"/>
            <a:ext cx="842760" cy="2181240"/>
          </a:xfrm>
          <a:custGeom>
            <a:avLst/>
            <a:gdLst/>
            <a:ahLst/>
            <a:rect l="l" t="t" r="r" b="b"/>
            <a:pathLst>
              <a:path w="841689" h="2181863">
                <a:moveTo>
                  <a:pt x="519956" y="0"/>
                </a:moveTo>
                <a:cubicBezTo>
                  <a:pt x="536703" y="3349"/>
                  <a:pt x="555988" y="574"/>
                  <a:pt x="570198" y="10048"/>
                </a:cubicBezTo>
                <a:cubicBezTo>
                  <a:pt x="579011" y="15924"/>
                  <a:pt x="580246" y="29602"/>
                  <a:pt x="580246" y="40194"/>
                </a:cubicBezTo>
                <a:cubicBezTo>
                  <a:pt x="580246" y="124866"/>
                  <a:pt x="587503" y="109043"/>
                  <a:pt x="540053" y="140677"/>
                </a:cubicBezTo>
                <a:cubicBezTo>
                  <a:pt x="493452" y="210578"/>
                  <a:pt x="533062" y="131066"/>
                  <a:pt x="540053" y="200967"/>
                </a:cubicBezTo>
                <a:cubicBezTo>
                  <a:pt x="541941" y="219850"/>
                  <a:pt x="536186" y="283933"/>
                  <a:pt x="509908" y="301451"/>
                </a:cubicBezTo>
                <a:cubicBezTo>
                  <a:pt x="498417" y="309111"/>
                  <a:pt x="483112" y="308150"/>
                  <a:pt x="469714" y="311499"/>
                </a:cubicBezTo>
                <a:cubicBezTo>
                  <a:pt x="459666" y="321547"/>
                  <a:pt x="447452" y="329820"/>
                  <a:pt x="439569" y="341644"/>
                </a:cubicBezTo>
                <a:cubicBezTo>
                  <a:pt x="424291" y="364562"/>
                  <a:pt x="424781" y="403403"/>
                  <a:pt x="449618" y="422031"/>
                </a:cubicBezTo>
                <a:cubicBezTo>
                  <a:pt x="465917" y="434255"/>
                  <a:pt x="489811" y="428730"/>
                  <a:pt x="509908" y="432079"/>
                </a:cubicBezTo>
                <a:cubicBezTo>
                  <a:pt x="502147" y="470885"/>
                  <a:pt x="507715" y="491354"/>
                  <a:pt x="469714" y="512466"/>
                </a:cubicBezTo>
                <a:cubicBezTo>
                  <a:pt x="451196" y="522754"/>
                  <a:pt x="409424" y="532563"/>
                  <a:pt x="409424" y="532563"/>
                </a:cubicBezTo>
                <a:cubicBezTo>
                  <a:pt x="391299" y="550688"/>
                  <a:pt x="369231" y="563768"/>
                  <a:pt x="369231" y="592853"/>
                </a:cubicBezTo>
                <a:cubicBezTo>
                  <a:pt x="369231" y="603445"/>
                  <a:pt x="375930" y="612950"/>
                  <a:pt x="379279" y="622998"/>
                </a:cubicBezTo>
                <a:cubicBezTo>
                  <a:pt x="361594" y="676056"/>
                  <a:pt x="375106" y="644331"/>
                  <a:pt x="329038" y="713433"/>
                </a:cubicBezTo>
                <a:lnTo>
                  <a:pt x="308941" y="743578"/>
                </a:lnTo>
                <a:cubicBezTo>
                  <a:pt x="318989" y="750277"/>
                  <a:pt x="327986" y="758918"/>
                  <a:pt x="339086" y="763675"/>
                </a:cubicBezTo>
                <a:cubicBezTo>
                  <a:pt x="351779" y="769115"/>
                  <a:pt x="373103" y="761371"/>
                  <a:pt x="379279" y="773723"/>
                </a:cubicBezTo>
                <a:cubicBezTo>
                  <a:pt x="384680" y="784524"/>
                  <a:pt x="368271" y="795916"/>
                  <a:pt x="359183" y="803868"/>
                </a:cubicBezTo>
                <a:cubicBezTo>
                  <a:pt x="341006" y="819773"/>
                  <a:pt x="315971" y="826983"/>
                  <a:pt x="298892" y="844062"/>
                </a:cubicBezTo>
                <a:cubicBezTo>
                  <a:pt x="260208" y="882746"/>
                  <a:pt x="276629" y="862383"/>
                  <a:pt x="248651" y="904352"/>
                </a:cubicBezTo>
                <a:cubicBezTo>
                  <a:pt x="255350" y="924449"/>
                  <a:pt x="281457" y="947695"/>
                  <a:pt x="268747" y="964642"/>
                </a:cubicBezTo>
                <a:cubicBezTo>
                  <a:pt x="258699" y="978040"/>
                  <a:pt x="248336" y="991207"/>
                  <a:pt x="238602" y="1004835"/>
                </a:cubicBezTo>
                <a:cubicBezTo>
                  <a:pt x="231583" y="1014662"/>
                  <a:pt x="227936" y="1027436"/>
                  <a:pt x="218506" y="1034980"/>
                </a:cubicBezTo>
                <a:cubicBezTo>
                  <a:pt x="210235" y="1041597"/>
                  <a:pt x="198409" y="1041679"/>
                  <a:pt x="188361" y="1045029"/>
                </a:cubicBezTo>
                <a:cubicBezTo>
                  <a:pt x="185011" y="1058427"/>
                  <a:pt x="173183" y="1072400"/>
                  <a:pt x="178312" y="1085222"/>
                </a:cubicBezTo>
                <a:cubicBezTo>
                  <a:pt x="182246" y="1095056"/>
                  <a:pt x="198273" y="1092360"/>
                  <a:pt x="208457" y="1095270"/>
                </a:cubicBezTo>
                <a:cubicBezTo>
                  <a:pt x="221736" y="1099064"/>
                  <a:pt x="235253" y="1101969"/>
                  <a:pt x="248651" y="1105319"/>
                </a:cubicBezTo>
                <a:cubicBezTo>
                  <a:pt x="255350" y="1115367"/>
                  <a:pt x="267039" y="1123509"/>
                  <a:pt x="268747" y="1135464"/>
                </a:cubicBezTo>
                <a:cubicBezTo>
                  <a:pt x="270700" y="1149135"/>
                  <a:pt x="264139" y="1162964"/>
                  <a:pt x="258699" y="1175657"/>
                </a:cubicBezTo>
                <a:cubicBezTo>
                  <a:pt x="248207" y="1200138"/>
                  <a:pt x="226564" y="1217840"/>
                  <a:pt x="208457" y="1235947"/>
                </a:cubicBezTo>
                <a:cubicBezTo>
                  <a:pt x="205108" y="1245995"/>
                  <a:pt x="198409" y="1255500"/>
                  <a:pt x="198409" y="1266092"/>
                </a:cubicBezTo>
                <a:cubicBezTo>
                  <a:pt x="198409" y="1302270"/>
                  <a:pt x="202688" y="1338571"/>
                  <a:pt x="238602" y="1356528"/>
                </a:cubicBezTo>
                <a:cubicBezTo>
                  <a:pt x="253878" y="1364166"/>
                  <a:pt x="272097" y="1363227"/>
                  <a:pt x="288844" y="1366576"/>
                </a:cubicBezTo>
                <a:cubicBezTo>
                  <a:pt x="268747" y="1386673"/>
                  <a:pt x="212789" y="1403218"/>
                  <a:pt x="228554" y="1426866"/>
                </a:cubicBezTo>
                <a:cubicBezTo>
                  <a:pt x="235253" y="1436914"/>
                  <a:pt x="240112" y="1448472"/>
                  <a:pt x="248651" y="1457011"/>
                </a:cubicBezTo>
                <a:cubicBezTo>
                  <a:pt x="257190" y="1465550"/>
                  <a:pt x="268969" y="1470089"/>
                  <a:pt x="278796" y="1477108"/>
                </a:cubicBezTo>
                <a:cubicBezTo>
                  <a:pt x="292424" y="1486842"/>
                  <a:pt x="307147" y="1495411"/>
                  <a:pt x="318989" y="1507253"/>
                </a:cubicBezTo>
                <a:cubicBezTo>
                  <a:pt x="327528" y="1515792"/>
                  <a:pt x="332387" y="1527350"/>
                  <a:pt x="339086" y="1537398"/>
                </a:cubicBezTo>
                <a:cubicBezTo>
                  <a:pt x="333325" y="1543159"/>
                  <a:pt x="288844" y="1583699"/>
                  <a:pt x="288844" y="1597688"/>
                </a:cubicBezTo>
                <a:cubicBezTo>
                  <a:pt x="288844" y="1609765"/>
                  <a:pt x="299511" y="1620289"/>
                  <a:pt x="308941" y="1627833"/>
                </a:cubicBezTo>
                <a:cubicBezTo>
                  <a:pt x="317212" y="1634450"/>
                  <a:pt x="329038" y="1634532"/>
                  <a:pt x="339086" y="1637881"/>
                </a:cubicBezTo>
                <a:cubicBezTo>
                  <a:pt x="349134" y="1644580"/>
                  <a:pt x="358429" y="1652577"/>
                  <a:pt x="369231" y="1657978"/>
                </a:cubicBezTo>
                <a:cubicBezTo>
                  <a:pt x="378705" y="1662715"/>
                  <a:pt x="399376" y="1657435"/>
                  <a:pt x="399376" y="1668027"/>
                </a:cubicBezTo>
                <a:cubicBezTo>
                  <a:pt x="399376" y="1680103"/>
                  <a:pt x="380539" y="1683883"/>
                  <a:pt x="369231" y="1688123"/>
                </a:cubicBezTo>
                <a:cubicBezTo>
                  <a:pt x="353239" y="1694120"/>
                  <a:pt x="335736" y="1694822"/>
                  <a:pt x="318989" y="1698172"/>
                </a:cubicBezTo>
                <a:lnTo>
                  <a:pt x="409424" y="1758462"/>
                </a:lnTo>
                <a:cubicBezTo>
                  <a:pt x="419472" y="1765161"/>
                  <a:pt x="427552" y="1777356"/>
                  <a:pt x="439569" y="1778558"/>
                </a:cubicBezTo>
                <a:cubicBezTo>
                  <a:pt x="590156" y="1793618"/>
                  <a:pt x="506466" y="1786368"/>
                  <a:pt x="690778" y="1798655"/>
                </a:cubicBezTo>
                <a:cubicBezTo>
                  <a:pt x="700826" y="1805354"/>
                  <a:pt x="708888" y="1817749"/>
                  <a:pt x="720923" y="1818752"/>
                </a:cubicBezTo>
                <a:cubicBezTo>
                  <a:pt x="751149" y="1821271"/>
                  <a:pt x="841689" y="1808703"/>
                  <a:pt x="811358" y="1808703"/>
                </a:cubicBezTo>
                <a:cubicBezTo>
                  <a:pt x="737594" y="1808703"/>
                  <a:pt x="663983" y="1815402"/>
                  <a:pt x="590295" y="1818752"/>
                </a:cubicBezTo>
                <a:cubicBezTo>
                  <a:pt x="583596" y="1828800"/>
                  <a:pt x="582040" y="1846529"/>
                  <a:pt x="570198" y="1848897"/>
                </a:cubicBezTo>
                <a:cubicBezTo>
                  <a:pt x="518623" y="1859212"/>
                  <a:pt x="500006" y="1838885"/>
                  <a:pt x="459666" y="1828800"/>
                </a:cubicBezTo>
                <a:cubicBezTo>
                  <a:pt x="443097" y="1824658"/>
                  <a:pt x="426096" y="1822457"/>
                  <a:pt x="409424" y="1818752"/>
                </a:cubicBezTo>
                <a:cubicBezTo>
                  <a:pt x="395943" y="1815756"/>
                  <a:pt x="382629" y="1812053"/>
                  <a:pt x="369231" y="1808703"/>
                </a:cubicBezTo>
                <a:cubicBezTo>
                  <a:pt x="359183" y="1815402"/>
                  <a:pt x="342905" y="1817343"/>
                  <a:pt x="339086" y="1828800"/>
                </a:cubicBezTo>
                <a:cubicBezTo>
                  <a:pt x="317330" y="1894068"/>
                  <a:pt x="421412" y="1877025"/>
                  <a:pt x="439569" y="1879042"/>
                </a:cubicBezTo>
                <a:cubicBezTo>
                  <a:pt x="457653" y="1885070"/>
                  <a:pt x="492248" y="1897457"/>
                  <a:pt x="509908" y="1899139"/>
                </a:cubicBezTo>
                <a:cubicBezTo>
                  <a:pt x="566690" y="1904547"/>
                  <a:pt x="623789" y="1905838"/>
                  <a:pt x="680730" y="1909187"/>
                </a:cubicBezTo>
                <a:cubicBezTo>
                  <a:pt x="694128" y="1915886"/>
                  <a:pt x="707917" y="1921852"/>
                  <a:pt x="720923" y="1929284"/>
                </a:cubicBezTo>
                <a:cubicBezTo>
                  <a:pt x="731408" y="1935276"/>
                  <a:pt x="739760" y="1945140"/>
                  <a:pt x="751068" y="1949380"/>
                </a:cubicBezTo>
                <a:cubicBezTo>
                  <a:pt x="767060" y="1955377"/>
                  <a:pt x="784563" y="1956079"/>
                  <a:pt x="801310" y="1959429"/>
                </a:cubicBezTo>
                <a:cubicBezTo>
                  <a:pt x="791262" y="1969477"/>
                  <a:pt x="785278" y="1987914"/>
                  <a:pt x="771165" y="1989574"/>
                </a:cubicBezTo>
                <a:cubicBezTo>
                  <a:pt x="724475" y="1995067"/>
                  <a:pt x="676784" y="1987695"/>
                  <a:pt x="630488" y="1979525"/>
                </a:cubicBezTo>
                <a:cubicBezTo>
                  <a:pt x="618595" y="1977426"/>
                  <a:pt x="611443" y="1964186"/>
                  <a:pt x="600343" y="1959429"/>
                </a:cubicBezTo>
                <a:cubicBezTo>
                  <a:pt x="587650" y="1953989"/>
                  <a:pt x="573548" y="1952730"/>
                  <a:pt x="560150" y="1949380"/>
                </a:cubicBezTo>
                <a:cubicBezTo>
                  <a:pt x="550102" y="1942681"/>
                  <a:pt x="539282" y="1937015"/>
                  <a:pt x="530005" y="1929284"/>
                </a:cubicBezTo>
                <a:cubicBezTo>
                  <a:pt x="519088" y="1920187"/>
                  <a:pt x="511684" y="1907022"/>
                  <a:pt x="499860" y="1899139"/>
                </a:cubicBezTo>
                <a:cubicBezTo>
                  <a:pt x="491047" y="1893263"/>
                  <a:pt x="479763" y="1892440"/>
                  <a:pt x="469714" y="1889090"/>
                </a:cubicBezTo>
                <a:cubicBezTo>
                  <a:pt x="408819" y="1897790"/>
                  <a:pt x="362160" y="1910180"/>
                  <a:pt x="298892" y="1889090"/>
                </a:cubicBezTo>
                <a:cubicBezTo>
                  <a:pt x="287435" y="1885271"/>
                  <a:pt x="285495" y="1868993"/>
                  <a:pt x="278796" y="1858945"/>
                </a:cubicBezTo>
                <a:cubicBezTo>
                  <a:pt x="288844" y="1855596"/>
                  <a:pt x="299467" y="1853634"/>
                  <a:pt x="308941" y="1848897"/>
                </a:cubicBezTo>
                <a:cubicBezTo>
                  <a:pt x="319743" y="1843496"/>
                  <a:pt x="333685" y="1817998"/>
                  <a:pt x="339086" y="1828800"/>
                </a:cubicBezTo>
                <a:cubicBezTo>
                  <a:pt x="354140" y="1858908"/>
                  <a:pt x="344015" y="1896014"/>
                  <a:pt x="349134" y="1929284"/>
                </a:cubicBezTo>
                <a:cubicBezTo>
                  <a:pt x="350745" y="1939753"/>
                  <a:pt x="352566" y="1951158"/>
                  <a:pt x="359183" y="1959429"/>
                </a:cubicBezTo>
                <a:cubicBezTo>
                  <a:pt x="366727" y="1968859"/>
                  <a:pt x="378363" y="1974464"/>
                  <a:pt x="389328" y="1979525"/>
                </a:cubicBezTo>
                <a:cubicBezTo>
                  <a:pt x="422082" y="1994642"/>
                  <a:pt x="459795" y="1999708"/>
                  <a:pt x="489811" y="2019719"/>
                </a:cubicBezTo>
                <a:cubicBezTo>
                  <a:pt x="499859" y="2026418"/>
                  <a:pt x="509154" y="2034415"/>
                  <a:pt x="519956" y="2039816"/>
                </a:cubicBezTo>
                <a:cubicBezTo>
                  <a:pt x="540554" y="2050115"/>
                  <a:pt x="581235" y="2056091"/>
                  <a:pt x="600343" y="2059912"/>
                </a:cubicBezTo>
                <a:cubicBezTo>
                  <a:pt x="603692" y="2069960"/>
                  <a:pt x="605654" y="2080583"/>
                  <a:pt x="610391" y="2090057"/>
                </a:cubicBezTo>
                <a:cubicBezTo>
                  <a:pt x="615792" y="2100859"/>
                  <a:pt x="630488" y="2108125"/>
                  <a:pt x="630488" y="2120202"/>
                </a:cubicBezTo>
                <a:cubicBezTo>
                  <a:pt x="630488" y="2141386"/>
                  <a:pt x="610391" y="2180492"/>
                  <a:pt x="610391" y="2180492"/>
                </a:cubicBezTo>
                <a:cubicBezTo>
                  <a:pt x="580178" y="2170421"/>
                  <a:pt x="576074" y="2171991"/>
                  <a:pt x="550101" y="2150347"/>
                </a:cubicBezTo>
                <a:cubicBezTo>
                  <a:pt x="539184" y="2141250"/>
                  <a:pt x="533150" y="2125480"/>
                  <a:pt x="519956" y="2120202"/>
                </a:cubicBezTo>
                <a:cubicBezTo>
                  <a:pt x="497966" y="2111406"/>
                  <a:pt x="473064" y="2113503"/>
                  <a:pt x="449618" y="2110154"/>
                </a:cubicBezTo>
                <a:cubicBezTo>
                  <a:pt x="442919" y="2100106"/>
                  <a:pt x="438060" y="2088548"/>
                  <a:pt x="429521" y="2080009"/>
                </a:cubicBezTo>
                <a:cubicBezTo>
                  <a:pt x="420982" y="2071470"/>
                  <a:pt x="406920" y="2069342"/>
                  <a:pt x="399376" y="2059912"/>
                </a:cubicBezTo>
                <a:cubicBezTo>
                  <a:pt x="392759" y="2051641"/>
                  <a:pt x="394065" y="2039241"/>
                  <a:pt x="389328" y="2029767"/>
                </a:cubicBezTo>
                <a:cubicBezTo>
                  <a:pt x="375339" y="2001789"/>
                  <a:pt x="361308" y="1991699"/>
                  <a:pt x="339086" y="1969477"/>
                </a:cubicBezTo>
                <a:cubicBezTo>
                  <a:pt x="335737" y="1959429"/>
                  <a:pt x="335655" y="1947603"/>
                  <a:pt x="329038" y="1939332"/>
                </a:cubicBezTo>
                <a:cubicBezTo>
                  <a:pt x="311689" y="1917647"/>
                  <a:pt x="282835" y="1915221"/>
                  <a:pt x="258699" y="1909187"/>
                </a:cubicBezTo>
                <a:lnTo>
                  <a:pt x="298892" y="1969477"/>
                </a:lnTo>
                <a:cubicBezTo>
                  <a:pt x="299378" y="1973850"/>
                  <a:pt x="307663" y="2105952"/>
                  <a:pt x="329038" y="2120202"/>
                </a:cubicBezTo>
                <a:lnTo>
                  <a:pt x="359183" y="2140299"/>
                </a:lnTo>
                <a:cubicBezTo>
                  <a:pt x="362532" y="2150347"/>
                  <a:pt x="379507" y="2167875"/>
                  <a:pt x="369231" y="2170444"/>
                </a:cubicBezTo>
                <a:cubicBezTo>
                  <a:pt x="323554" y="2181863"/>
                  <a:pt x="292853" y="2111142"/>
                  <a:pt x="278796" y="2090057"/>
                </a:cubicBezTo>
                <a:lnTo>
                  <a:pt x="258699" y="2059912"/>
                </a:lnTo>
                <a:lnTo>
                  <a:pt x="238602" y="2029767"/>
                </a:lnTo>
                <a:cubicBezTo>
                  <a:pt x="235253" y="1996273"/>
                  <a:pt x="233314" y="1962607"/>
                  <a:pt x="228554" y="1929284"/>
                </a:cubicBezTo>
                <a:cubicBezTo>
                  <a:pt x="226601" y="1915612"/>
                  <a:pt x="227133" y="1899874"/>
                  <a:pt x="218506" y="1889090"/>
                </a:cubicBezTo>
                <a:cubicBezTo>
                  <a:pt x="211889" y="1880819"/>
                  <a:pt x="198409" y="1882391"/>
                  <a:pt x="188361" y="1879042"/>
                </a:cubicBezTo>
                <a:cubicBezTo>
                  <a:pt x="178313" y="1872343"/>
                  <a:pt x="170025" y="1861475"/>
                  <a:pt x="158216" y="1858945"/>
                </a:cubicBezTo>
                <a:cubicBezTo>
                  <a:pt x="31773" y="1831850"/>
                  <a:pt x="60919" y="1888600"/>
                  <a:pt x="37635" y="1818752"/>
                </a:cubicBezTo>
                <a:cubicBezTo>
                  <a:pt x="47683" y="1812053"/>
                  <a:pt x="55777" y="1799989"/>
                  <a:pt x="67780" y="1798655"/>
                </a:cubicBezTo>
                <a:cubicBezTo>
                  <a:pt x="88030" y="1796405"/>
                  <a:pt x="107697" y="1808703"/>
                  <a:pt x="128071" y="1808703"/>
                </a:cubicBezTo>
                <a:cubicBezTo>
                  <a:pt x="138663" y="1808703"/>
                  <a:pt x="148168" y="1802004"/>
                  <a:pt x="158216" y="1798655"/>
                </a:cubicBezTo>
                <a:cubicBezTo>
                  <a:pt x="168264" y="1785257"/>
                  <a:pt x="186910" y="1775146"/>
                  <a:pt x="188361" y="1758462"/>
                </a:cubicBezTo>
                <a:cubicBezTo>
                  <a:pt x="213484" y="1469535"/>
                  <a:pt x="192526" y="1642532"/>
                  <a:pt x="168264" y="1537398"/>
                </a:cubicBezTo>
                <a:cubicBezTo>
                  <a:pt x="160583" y="1504115"/>
                  <a:pt x="172320" y="1461067"/>
                  <a:pt x="148167" y="1436914"/>
                </a:cubicBezTo>
                <a:lnTo>
                  <a:pt x="118022" y="1406769"/>
                </a:lnTo>
                <a:cubicBezTo>
                  <a:pt x="114673" y="1393371"/>
                  <a:pt x="113414" y="1379269"/>
                  <a:pt x="107974" y="1366576"/>
                </a:cubicBezTo>
                <a:cubicBezTo>
                  <a:pt x="103217" y="1355476"/>
                  <a:pt x="93278" y="1347233"/>
                  <a:pt x="87877" y="1336431"/>
                </a:cubicBezTo>
                <a:cubicBezTo>
                  <a:pt x="83140" y="1326957"/>
                  <a:pt x="81178" y="1316334"/>
                  <a:pt x="77829" y="1306286"/>
                </a:cubicBezTo>
                <a:cubicBezTo>
                  <a:pt x="81178" y="1289539"/>
                  <a:pt x="83735" y="1272613"/>
                  <a:pt x="87877" y="1256044"/>
                </a:cubicBezTo>
                <a:cubicBezTo>
                  <a:pt x="90446" y="1245768"/>
                  <a:pt x="99666" y="1236347"/>
                  <a:pt x="97925" y="1225899"/>
                </a:cubicBezTo>
                <a:cubicBezTo>
                  <a:pt x="95940" y="1213987"/>
                  <a:pt x="86917" y="1203706"/>
                  <a:pt x="77829" y="1195754"/>
                </a:cubicBezTo>
                <a:cubicBezTo>
                  <a:pt x="59652" y="1179849"/>
                  <a:pt x="17539" y="1155561"/>
                  <a:pt x="17539" y="1155561"/>
                </a:cubicBezTo>
                <a:cubicBezTo>
                  <a:pt x="14189" y="1145513"/>
                  <a:pt x="0" y="1132906"/>
                  <a:pt x="7490" y="1125416"/>
                </a:cubicBezTo>
                <a:cubicBezTo>
                  <a:pt x="22469" y="1110437"/>
                  <a:pt x="47683" y="1112018"/>
                  <a:pt x="67780" y="1105319"/>
                </a:cubicBezTo>
                <a:lnTo>
                  <a:pt x="97925" y="1095270"/>
                </a:lnTo>
                <a:cubicBezTo>
                  <a:pt x="151257" y="1015274"/>
                  <a:pt x="141535" y="1058891"/>
                  <a:pt x="128071" y="964642"/>
                </a:cubicBezTo>
                <a:cubicBezTo>
                  <a:pt x="135037" y="901943"/>
                  <a:pt x="123052" y="883621"/>
                  <a:pt x="158216" y="844062"/>
                </a:cubicBezTo>
                <a:cubicBezTo>
                  <a:pt x="177098" y="822820"/>
                  <a:pt x="198409" y="803869"/>
                  <a:pt x="218506" y="783772"/>
                </a:cubicBezTo>
                <a:lnTo>
                  <a:pt x="248651" y="753627"/>
                </a:lnTo>
                <a:cubicBezTo>
                  <a:pt x="245301" y="743578"/>
                  <a:pt x="238602" y="734073"/>
                  <a:pt x="238602" y="723481"/>
                </a:cubicBezTo>
                <a:cubicBezTo>
                  <a:pt x="238602" y="669331"/>
                  <a:pt x="244483" y="669443"/>
                  <a:pt x="268747" y="633046"/>
                </a:cubicBezTo>
                <a:cubicBezTo>
                  <a:pt x="262048" y="622998"/>
                  <a:pt x="250149" y="614884"/>
                  <a:pt x="248651" y="602901"/>
                </a:cubicBezTo>
                <a:cubicBezTo>
                  <a:pt x="246533" y="585954"/>
                  <a:pt x="253791" y="569018"/>
                  <a:pt x="258699" y="552659"/>
                </a:cubicBezTo>
                <a:cubicBezTo>
                  <a:pt x="275011" y="498287"/>
                  <a:pt x="273182" y="508032"/>
                  <a:pt x="308941" y="472273"/>
                </a:cubicBezTo>
                <a:cubicBezTo>
                  <a:pt x="301683" y="421471"/>
                  <a:pt x="289402" y="382398"/>
                  <a:pt x="308941" y="331596"/>
                </a:cubicBezTo>
                <a:cubicBezTo>
                  <a:pt x="317612" y="309053"/>
                  <a:pt x="341496" y="294220"/>
                  <a:pt x="349134" y="271306"/>
                </a:cubicBezTo>
                <a:cubicBezTo>
                  <a:pt x="357307" y="246790"/>
                  <a:pt x="359802" y="230494"/>
                  <a:pt x="379279" y="211016"/>
                </a:cubicBezTo>
                <a:cubicBezTo>
                  <a:pt x="387818" y="202476"/>
                  <a:pt x="400146" y="198650"/>
                  <a:pt x="409424" y="190919"/>
                </a:cubicBezTo>
                <a:cubicBezTo>
                  <a:pt x="486793" y="126444"/>
                  <a:pt x="394870" y="190574"/>
                  <a:pt x="469714" y="140677"/>
                </a:cubicBezTo>
                <a:lnTo>
                  <a:pt x="479763" y="30145"/>
                </a:lnTo>
              </a:path>
            </a:pathLst>
          </a:custGeom>
          <a:solidFill>
            <a:srgbClr val="632523"/>
          </a:solidFill>
          <a:ln w="93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Полилиния 56"/>
          <p:cNvGrpSpPr/>
          <p:nvPr/>
        </p:nvGrpSpPr>
        <p:grpSpPr>
          <a:xfrm>
            <a:off x="6510240" y="3468600"/>
            <a:ext cx="744480" cy="1401840"/>
            <a:chOff x="6510240" y="3468600"/>
            <a:chExt cx="744480" cy="1401840"/>
          </a:xfrm>
        </p:grpSpPr>
        <p:pic>
          <p:nvPicPr>
            <p:cNvPr id="111" name="Полилиния 56" descr=""/>
            <p:cNvPicPr/>
            <p:nvPr/>
          </p:nvPicPr>
          <p:blipFill>
            <a:blip r:embed="rId12"/>
            <a:stretch/>
          </p:blipFill>
          <p:spPr>
            <a:xfrm>
              <a:off x="6510240" y="3468600"/>
              <a:ext cx="744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600960" y="3557520"/>
              <a:ext cx="5634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вал 57"/>
          <p:cNvGrpSpPr/>
          <p:nvPr/>
        </p:nvGrpSpPr>
        <p:grpSpPr>
          <a:xfrm>
            <a:off x="4748040" y="176040"/>
            <a:ext cx="714600" cy="714600"/>
            <a:chOff x="4748040" y="176040"/>
            <a:chExt cx="714600" cy="714600"/>
          </a:xfrm>
        </p:grpSpPr>
        <p:pic>
          <p:nvPicPr>
            <p:cNvPr id="114" name="Овал 57" descr=""/>
            <p:cNvPicPr/>
            <p:nvPr/>
          </p:nvPicPr>
          <p:blipFill>
            <a:blip r:embed="rId13"/>
            <a:stretch/>
          </p:blipFill>
          <p:spPr>
            <a:xfrm>
              <a:off x="4748040" y="176040"/>
              <a:ext cx="7146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032440" y="4604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Полилиния 62"/>
          <p:cNvGrpSpPr/>
          <p:nvPr/>
        </p:nvGrpSpPr>
        <p:grpSpPr>
          <a:xfrm>
            <a:off x="3642480" y="2388960"/>
            <a:ext cx="1659960" cy="1462320"/>
            <a:chOff x="3642480" y="2388960"/>
            <a:chExt cx="1659960" cy="1462320"/>
          </a:xfrm>
        </p:grpSpPr>
        <p:pic>
          <p:nvPicPr>
            <p:cNvPr id="117" name="Полилиния 62" descr=""/>
            <p:cNvPicPr/>
            <p:nvPr/>
          </p:nvPicPr>
          <p:blipFill>
            <a:blip r:embed="rId14"/>
            <a:stretch/>
          </p:blipFill>
          <p:spPr>
            <a:xfrm>
              <a:off x="3724200" y="2539440"/>
              <a:ext cx="139248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667200">
              <a:off x="3744720" y="2517840"/>
              <a:ext cx="1455120" cy="12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Полилиния 67"/>
          <p:cNvSpPr/>
          <p:nvPr/>
        </p:nvSpPr>
        <p:spPr>
          <a:xfrm>
            <a:off x="7004160" y="4497480"/>
            <a:ext cx="431640" cy="406440"/>
          </a:xfrm>
          <a:custGeom>
            <a:avLst/>
            <a:gdLst/>
            <a:ahLst/>
            <a:rect l="l" t="t" r="r" b="b"/>
            <a:pathLst>
              <a:path w="432079" h="405853">
                <a:moveTo>
                  <a:pt x="50242" y="4494"/>
                </a:moveTo>
                <a:cubicBezTo>
                  <a:pt x="62560" y="7573"/>
                  <a:pt x="134470" y="23366"/>
                  <a:pt x="160774" y="34639"/>
                </a:cubicBezTo>
                <a:cubicBezTo>
                  <a:pt x="174542" y="40540"/>
                  <a:pt x="187059" y="49172"/>
                  <a:pt x="200967" y="54735"/>
                </a:cubicBezTo>
                <a:cubicBezTo>
                  <a:pt x="220636" y="62602"/>
                  <a:pt x="261257" y="74832"/>
                  <a:pt x="261257" y="74832"/>
                </a:cubicBezTo>
                <a:cubicBezTo>
                  <a:pt x="306204" y="142251"/>
                  <a:pt x="253256" y="76196"/>
                  <a:pt x="311499" y="115025"/>
                </a:cubicBezTo>
                <a:cubicBezTo>
                  <a:pt x="339484" y="133681"/>
                  <a:pt x="338913" y="154308"/>
                  <a:pt x="371789" y="165267"/>
                </a:cubicBezTo>
                <a:cubicBezTo>
                  <a:pt x="391117" y="171710"/>
                  <a:pt x="411982" y="171966"/>
                  <a:pt x="432079" y="175316"/>
                </a:cubicBezTo>
                <a:cubicBezTo>
                  <a:pt x="425380" y="185364"/>
                  <a:pt x="423966" y="203963"/>
                  <a:pt x="411983" y="205461"/>
                </a:cubicBezTo>
                <a:cubicBezTo>
                  <a:pt x="390962" y="208088"/>
                  <a:pt x="351692" y="185364"/>
                  <a:pt x="351692" y="185364"/>
                </a:cubicBezTo>
                <a:cubicBezTo>
                  <a:pt x="263623" y="97295"/>
                  <a:pt x="375340" y="205070"/>
                  <a:pt x="291402" y="135122"/>
                </a:cubicBezTo>
                <a:cubicBezTo>
                  <a:pt x="196956" y="56417"/>
                  <a:pt x="353343" y="166368"/>
                  <a:pt x="200967" y="64784"/>
                </a:cubicBezTo>
                <a:cubicBezTo>
                  <a:pt x="190919" y="58085"/>
                  <a:pt x="182805" y="46185"/>
                  <a:pt x="170822" y="44687"/>
                </a:cubicBezTo>
                <a:lnTo>
                  <a:pt x="90435" y="34639"/>
                </a:lnTo>
                <a:cubicBezTo>
                  <a:pt x="80387" y="24591"/>
                  <a:pt x="46809" y="0"/>
                  <a:pt x="60290" y="4494"/>
                </a:cubicBezTo>
                <a:cubicBezTo>
                  <a:pt x="86146" y="13112"/>
                  <a:pt x="130717" y="50823"/>
                  <a:pt x="150725" y="74832"/>
                </a:cubicBezTo>
                <a:cubicBezTo>
                  <a:pt x="158456" y="84110"/>
                  <a:pt x="162283" y="96438"/>
                  <a:pt x="170822" y="104977"/>
                </a:cubicBezTo>
                <a:cubicBezTo>
                  <a:pt x="179361" y="113516"/>
                  <a:pt x="190919" y="118375"/>
                  <a:pt x="200967" y="125074"/>
                </a:cubicBezTo>
                <a:cubicBezTo>
                  <a:pt x="197618" y="161918"/>
                  <a:pt x="208886" y="203266"/>
                  <a:pt x="190919" y="235606"/>
                </a:cubicBezTo>
                <a:cubicBezTo>
                  <a:pt x="183644" y="248700"/>
                  <a:pt x="163570" y="223216"/>
                  <a:pt x="150725" y="215509"/>
                </a:cubicBezTo>
                <a:cubicBezTo>
                  <a:pt x="130014" y="203082"/>
                  <a:pt x="113349" y="182954"/>
                  <a:pt x="90435" y="175316"/>
                </a:cubicBezTo>
                <a:cubicBezTo>
                  <a:pt x="80387" y="171966"/>
                  <a:pt x="69549" y="170411"/>
                  <a:pt x="60290" y="165267"/>
                </a:cubicBezTo>
                <a:cubicBezTo>
                  <a:pt x="39176" y="153537"/>
                  <a:pt x="0" y="125074"/>
                  <a:pt x="0" y="125074"/>
                </a:cubicBezTo>
                <a:cubicBezTo>
                  <a:pt x="3349" y="145171"/>
                  <a:pt x="1773" y="166746"/>
                  <a:pt x="10048" y="185364"/>
                </a:cubicBezTo>
                <a:cubicBezTo>
                  <a:pt x="15820" y="198350"/>
                  <a:pt x="28370" y="207626"/>
                  <a:pt x="40194" y="215509"/>
                </a:cubicBezTo>
                <a:cubicBezTo>
                  <a:pt x="53973" y="224695"/>
                  <a:pt x="112467" y="233578"/>
                  <a:pt x="120580" y="235606"/>
                </a:cubicBezTo>
                <a:cubicBezTo>
                  <a:pt x="130856" y="238175"/>
                  <a:pt x="140677" y="242305"/>
                  <a:pt x="150725" y="245654"/>
                </a:cubicBezTo>
                <a:cubicBezTo>
                  <a:pt x="195143" y="312280"/>
                  <a:pt x="142940" y="238246"/>
                  <a:pt x="200967" y="305944"/>
                </a:cubicBezTo>
                <a:cubicBezTo>
                  <a:pt x="211866" y="318659"/>
                  <a:pt x="217178" y="336847"/>
                  <a:pt x="231112" y="346137"/>
                </a:cubicBezTo>
                <a:cubicBezTo>
                  <a:pt x="248738" y="357888"/>
                  <a:pt x="291402" y="366234"/>
                  <a:pt x="291402" y="366234"/>
                </a:cubicBezTo>
                <a:cubicBezTo>
                  <a:pt x="301450" y="372933"/>
                  <a:pt x="310745" y="380930"/>
                  <a:pt x="321547" y="386331"/>
                </a:cubicBezTo>
                <a:cubicBezTo>
                  <a:pt x="331021" y="391068"/>
                  <a:pt x="346955" y="405853"/>
                  <a:pt x="351692" y="396379"/>
                </a:cubicBezTo>
                <a:cubicBezTo>
                  <a:pt x="364679" y="370407"/>
                  <a:pt x="308884" y="358664"/>
                  <a:pt x="301451" y="356186"/>
                </a:cubicBezTo>
                <a:cubicBezTo>
                  <a:pt x="291403" y="349487"/>
                  <a:pt x="282406" y="340846"/>
                  <a:pt x="271306" y="336089"/>
                </a:cubicBezTo>
                <a:cubicBezTo>
                  <a:pt x="255523" y="329325"/>
                  <a:pt x="193974" y="319566"/>
                  <a:pt x="180870" y="315992"/>
                </a:cubicBezTo>
                <a:cubicBezTo>
                  <a:pt x="160433" y="310418"/>
                  <a:pt x="120580" y="295896"/>
                  <a:pt x="120580" y="295896"/>
                </a:cubicBezTo>
                <a:cubicBezTo>
                  <a:pt x="110058" y="222241"/>
                  <a:pt x="134216" y="225557"/>
                  <a:pt x="100484" y="225557"/>
                </a:cubicBezTo>
              </a:path>
            </a:pathLst>
          </a:cu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олилиния 71"/>
          <p:cNvSpPr/>
          <p:nvPr/>
        </p:nvSpPr>
        <p:spPr>
          <a:xfrm>
            <a:off x="3757680" y="3537000"/>
            <a:ext cx="1060560" cy="361800"/>
          </a:xfrm>
          <a:custGeom>
            <a:avLst/>
            <a:gdLst/>
            <a:ahLst/>
            <a:rect l="l" t="t" r="r" b="b"/>
            <a:pathLst>
              <a:path w="1060477" h="361740">
                <a:moveTo>
                  <a:pt x="381837" y="20096"/>
                </a:moveTo>
                <a:cubicBezTo>
                  <a:pt x="284703" y="23446"/>
                  <a:pt x="186876" y="18090"/>
                  <a:pt x="90435" y="30145"/>
                </a:cubicBezTo>
                <a:cubicBezTo>
                  <a:pt x="76334" y="31908"/>
                  <a:pt x="71207" y="51193"/>
                  <a:pt x="60290" y="60290"/>
                </a:cubicBezTo>
                <a:cubicBezTo>
                  <a:pt x="34317" y="81934"/>
                  <a:pt x="30213" y="80364"/>
                  <a:pt x="0" y="90435"/>
                </a:cubicBezTo>
                <a:cubicBezTo>
                  <a:pt x="46892" y="93784"/>
                  <a:pt x="96304" y="84953"/>
                  <a:pt x="140676" y="100483"/>
                </a:cubicBezTo>
                <a:cubicBezTo>
                  <a:pt x="167502" y="109872"/>
                  <a:pt x="172687" y="157945"/>
                  <a:pt x="200967" y="160773"/>
                </a:cubicBezTo>
                <a:lnTo>
                  <a:pt x="301450" y="170822"/>
                </a:lnTo>
                <a:cubicBezTo>
                  <a:pt x="308149" y="180870"/>
                  <a:pt x="312117" y="193423"/>
                  <a:pt x="321547" y="200967"/>
                </a:cubicBezTo>
                <a:cubicBezTo>
                  <a:pt x="329818" y="207584"/>
                  <a:pt x="341306" y="208938"/>
                  <a:pt x="351692" y="211015"/>
                </a:cubicBezTo>
                <a:cubicBezTo>
                  <a:pt x="387549" y="218186"/>
                  <a:pt x="481100" y="227627"/>
                  <a:pt x="512465" y="231112"/>
                </a:cubicBezTo>
                <a:cubicBezTo>
                  <a:pt x="522514" y="237811"/>
                  <a:pt x="534071" y="242669"/>
                  <a:pt x="542611" y="251209"/>
                </a:cubicBezTo>
                <a:cubicBezTo>
                  <a:pt x="559699" y="268297"/>
                  <a:pt x="566982" y="302092"/>
                  <a:pt x="592852" y="311499"/>
                </a:cubicBezTo>
                <a:cubicBezTo>
                  <a:pt x="618230" y="320727"/>
                  <a:pt x="646443" y="318198"/>
                  <a:pt x="673239" y="321547"/>
                </a:cubicBezTo>
                <a:cubicBezTo>
                  <a:pt x="749009" y="346803"/>
                  <a:pt x="655613" y="312734"/>
                  <a:pt x="733529" y="351692"/>
                </a:cubicBezTo>
                <a:cubicBezTo>
                  <a:pt x="743003" y="356429"/>
                  <a:pt x="753626" y="358391"/>
                  <a:pt x="763674" y="361740"/>
                </a:cubicBezTo>
                <a:cubicBezTo>
                  <a:pt x="783771" y="358391"/>
                  <a:pt x="804636" y="358135"/>
                  <a:pt x="823964" y="351692"/>
                </a:cubicBezTo>
                <a:cubicBezTo>
                  <a:pt x="835421" y="347873"/>
                  <a:pt x="842216" y="333694"/>
                  <a:pt x="854109" y="331595"/>
                </a:cubicBezTo>
                <a:cubicBezTo>
                  <a:pt x="900405" y="323425"/>
                  <a:pt x="947894" y="324896"/>
                  <a:pt x="994786" y="321547"/>
                </a:cubicBezTo>
                <a:cubicBezTo>
                  <a:pt x="1004834" y="311499"/>
                  <a:pt x="1014014" y="300499"/>
                  <a:pt x="1024931" y="291402"/>
                </a:cubicBezTo>
                <a:cubicBezTo>
                  <a:pt x="1034209" y="283671"/>
                  <a:pt x="1060477" y="282107"/>
                  <a:pt x="1055076" y="271305"/>
                </a:cubicBezTo>
                <a:cubicBezTo>
                  <a:pt x="1044274" y="249702"/>
                  <a:pt x="1017700" y="238750"/>
                  <a:pt x="994786" y="231112"/>
                </a:cubicBezTo>
                <a:lnTo>
                  <a:pt x="874206" y="190918"/>
                </a:lnTo>
                <a:lnTo>
                  <a:pt x="844061" y="180870"/>
                </a:lnTo>
                <a:cubicBezTo>
                  <a:pt x="834013" y="177521"/>
                  <a:pt x="824192" y="173391"/>
                  <a:pt x="813916" y="170822"/>
                </a:cubicBezTo>
                <a:cubicBezTo>
                  <a:pt x="800518" y="167472"/>
                  <a:pt x="787002" y="164567"/>
                  <a:pt x="773723" y="160773"/>
                </a:cubicBezTo>
                <a:cubicBezTo>
                  <a:pt x="763539" y="157863"/>
                  <a:pt x="753762" y="153635"/>
                  <a:pt x="743578" y="150725"/>
                </a:cubicBezTo>
                <a:cubicBezTo>
                  <a:pt x="730299" y="146931"/>
                  <a:pt x="716612" y="144645"/>
                  <a:pt x="703384" y="140677"/>
                </a:cubicBezTo>
                <a:cubicBezTo>
                  <a:pt x="683094" y="134590"/>
                  <a:pt x="643094" y="120580"/>
                  <a:pt x="643094" y="120580"/>
                </a:cubicBezTo>
                <a:cubicBezTo>
                  <a:pt x="633046" y="110532"/>
                  <a:pt x="624773" y="98318"/>
                  <a:pt x="612949" y="90435"/>
                </a:cubicBezTo>
                <a:cubicBezTo>
                  <a:pt x="598879" y="81055"/>
                  <a:pt x="541143" y="72678"/>
                  <a:pt x="532562" y="70338"/>
                </a:cubicBezTo>
                <a:cubicBezTo>
                  <a:pt x="512125" y="64764"/>
                  <a:pt x="492369" y="56941"/>
                  <a:pt x="472272" y="50242"/>
                </a:cubicBezTo>
                <a:cubicBezTo>
                  <a:pt x="462224" y="46893"/>
                  <a:pt x="452612" y="41691"/>
                  <a:pt x="442127" y="40193"/>
                </a:cubicBezTo>
                <a:lnTo>
                  <a:pt x="371789" y="30145"/>
                </a:lnTo>
                <a:cubicBezTo>
                  <a:pt x="328599" y="8550"/>
                  <a:pt x="331595" y="25027"/>
                  <a:pt x="331595" y="0"/>
                </a:cubicBezTo>
              </a:path>
            </a:pathLst>
          </a:custGeom>
          <a:solidFill>
            <a:srgbClr val="5b401b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олилиния 72"/>
          <p:cNvSpPr/>
          <p:nvPr/>
        </p:nvSpPr>
        <p:spPr>
          <a:xfrm>
            <a:off x="4361040" y="3618000"/>
            <a:ext cx="934920" cy="388800"/>
          </a:xfrm>
          <a:custGeom>
            <a:avLst/>
            <a:gdLst/>
            <a:ahLst/>
            <a:rect l="l" t="t" r="r" b="b"/>
            <a:pathLst>
              <a:path w="934496" h="390054">
                <a:moveTo>
                  <a:pt x="823964" y="100483"/>
                </a:moveTo>
                <a:cubicBezTo>
                  <a:pt x="783771" y="97134"/>
                  <a:pt x="742245" y="101230"/>
                  <a:pt x="703384" y="90435"/>
                </a:cubicBezTo>
                <a:cubicBezTo>
                  <a:pt x="680112" y="83970"/>
                  <a:pt x="643094" y="50241"/>
                  <a:pt x="643094" y="50241"/>
                </a:cubicBezTo>
                <a:cubicBezTo>
                  <a:pt x="579454" y="53591"/>
                  <a:pt x="514875" y="48890"/>
                  <a:pt x="452175" y="60290"/>
                </a:cubicBezTo>
                <a:cubicBezTo>
                  <a:pt x="438194" y="62832"/>
                  <a:pt x="431127" y="79518"/>
                  <a:pt x="422030" y="90435"/>
                </a:cubicBezTo>
                <a:cubicBezTo>
                  <a:pt x="400388" y="116405"/>
                  <a:pt x="401956" y="120515"/>
                  <a:pt x="391885" y="150725"/>
                </a:cubicBezTo>
                <a:cubicBezTo>
                  <a:pt x="395235" y="174171"/>
                  <a:pt x="419636" y="205328"/>
                  <a:pt x="401934" y="221063"/>
                </a:cubicBezTo>
                <a:cubicBezTo>
                  <a:pt x="376775" y="243427"/>
                  <a:pt x="334773" y="226351"/>
                  <a:pt x="301450" y="231112"/>
                </a:cubicBezTo>
                <a:cubicBezTo>
                  <a:pt x="287779" y="233065"/>
                  <a:pt x="274655" y="237811"/>
                  <a:pt x="261257" y="241160"/>
                </a:cubicBezTo>
                <a:cubicBezTo>
                  <a:pt x="254558" y="251208"/>
                  <a:pt x="250249" y="263353"/>
                  <a:pt x="241160" y="271305"/>
                </a:cubicBezTo>
                <a:cubicBezTo>
                  <a:pt x="158730" y="343431"/>
                  <a:pt x="134732" y="314061"/>
                  <a:pt x="0" y="321547"/>
                </a:cubicBezTo>
                <a:cubicBezTo>
                  <a:pt x="205529" y="390054"/>
                  <a:pt x="65409" y="347068"/>
                  <a:pt x="592852" y="321547"/>
                </a:cubicBezTo>
                <a:cubicBezTo>
                  <a:pt x="614011" y="320523"/>
                  <a:pt x="633045" y="308149"/>
                  <a:pt x="653142" y="301450"/>
                </a:cubicBezTo>
                <a:lnTo>
                  <a:pt x="683288" y="291402"/>
                </a:lnTo>
                <a:cubicBezTo>
                  <a:pt x="693336" y="288053"/>
                  <a:pt x="703157" y="283922"/>
                  <a:pt x="713433" y="281353"/>
                </a:cubicBezTo>
                <a:cubicBezTo>
                  <a:pt x="726831" y="278004"/>
                  <a:pt x="740347" y="275099"/>
                  <a:pt x="753626" y="271305"/>
                </a:cubicBezTo>
                <a:cubicBezTo>
                  <a:pt x="778819" y="264107"/>
                  <a:pt x="801397" y="255265"/>
                  <a:pt x="823964" y="241160"/>
                </a:cubicBezTo>
                <a:cubicBezTo>
                  <a:pt x="838166" y="232284"/>
                  <a:pt x="851710" y="222218"/>
                  <a:pt x="864158" y="211015"/>
                </a:cubicBezTo>
                <a:cubicBezTo>
                  <a:pt x="885283" y="192002"/>
                  <a:pt x="924448" y="150725"/>
                  <a:pt x="924448" y="150725"/>
                </a:cubicBezTo>
                <a:cubicBezTo>
                  <a:pt x="927797" y="140677"/>
                  <a:pt x="934496" y="131172"/>
                  <a:pt x="934496" y="120580"/>
                </a:cubicBezTo>
                <a:cubicBezTo>
                  <a:pt x="934496" y="100206"/>
                  <a:pt x="932723" y="78908"/>
                  <a:pt x="924448" y="60290"/>
                </a:cubicBezTo>
                <a:cubicBezTo>
                  <a:pt x="918677" y="47304"/>
                  <a:pt x="905220" y="39242"/>
                  <a:pt x="894303" y="30145"/>
                </a:cubicBezTo>
                <a:cubicBezTo>
                  <a:pt x="868330" y="8501"/>
                  <a:pt x="864226" y="10071"/>
                  <a:pt x="834013" y="0"/>
                </a:cubicBezTo>
                <a:cubicBezTo>
                  <a:pt x="814453" y="2445"/>
                  <a:pt x="706399" y="15474"/>
                  <a:pt x="683288" y="20096"/>
                </a:cubicBezTo>
                <a:cubicBezTo>
                  <a:pt x="606564" y="35441"/>
                  <a:pt x="712258" y="30145"/>
                  <a:pt x="602901" y="30145"/>
                </a:cubicBezTo>
              </a:path>
            </a:pathLst>
          </a:custGeom>
          <a:solidFill>
            <a:srgbClr val="c49848"/>
          </a:solidFill>
          <a:ln w="9360">
            <a:solidFill>
              <a:srgbClr val="dfa4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Полилиния 73"/>
          <p:cNvGrpSpPr/>
          <p:nvPr/>
        </p:nvGrpSpPr>
        <p:grpSpPr>
          <a:xfrm>
            <a:off x="3535200" y="4260960"/>
            <a:ext cx="1420920" cy="1433520"/>
            <a:chOff x="3535200" y="4260960"/>
            <a:chExt cx="1420920" cy="1433520"/>
          </a:xfrm>
        </p:grpSpPr>
        <p:pic>
          <p:nvPicPr>
            <p:cNvPr id="123" name="Полилиния 73" descr=""/>
            <p:cNvPicPr/>
            <p:nvPr/>
          </p:nvPicPr>
          <p:blipFill>
            <a:blip r:embed="rId15"/>
            <a:stretch/>
          </p:blipFill>
          <p:spPr>
            <a:xfrm>
              <a:off x="3535200" y="4260960"/>
              <a:ext cx="14209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786120" y="4500720"/>
              <a:ext cx="91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Полилиния 74"/>
          <p:cNvSpPr/>
          <p:nvPr/>
        </p:nvSpPr>
        <p:spPr>
          <a:xfrm flipV="1">
            <a:off x="4143240" y="4714200"/>
            <a:ext cx="295560" cy="142920"/>
          </a:xfrm>
          <a:custGeom>
            <a:avLst/>
            <a:gdLst/>
            <a:ahLst/>
            <a:rect l="l" t="t" r="r" b="b"/>
            <a:pathLst>
              <a:path w="295236" h="159606">
                <a:moveTo>
                  <a:pt x="204801" y="51731"/>
                </a:moveTo>
                <a:cubicBezTo>
                  <a:pt x="129120" y="1276"/>
                  <a:pt x="225304" y="60518"/>
                  <a:pt x="134463" y="21586"/>
                </a:cubicBezTo>
                <a:cubicBezTo>
                  <a:pt x="123363" y="16829"/>
                  <a:pt x="114366" y="8188"/>
                  <a:pt x="104318" y="1489"/>
                </a:cubicBezTo>
                <a:cubicBezTo>
                  <a:pt x="80698" y="4863"/>
                  <a:pt x="14255" y="0"/>
                  <a:pt x="3834" y="41682"/>
                </a:cubicBezTo>
                <a:cubicBezTo>
                  <a:pt x="0" y="57019"/>
                  <a:pt x="15899" y="110769"/>
                  <a:pt x="33979" y="122069"/>
                </a:cubicBezTo>
                <a:cubicBezTo>
                  <a:pt x="51943" y="133296"/>
                  <a:pt x="94269" y="142166"/>
                  <a:pt x="94269" y="142166"/>
                </a:cubicBezTo>
                <a:cubicBezTo>
                  <a:pt x="103675" y="141578"/>
                  <a:pt x="247120" y="159606"/>
                  <a:pt x="285188" y="112021"/>
                </a:cubicBezTo>
                <a:cubicBezTo>
                  <a:pt x="291805" y="103750"/>
                  <a:pt x="291887" y="91924"/>
                  <a:pt x="295236" y="81876"/>
                </a:cubicBezTo>
                <a:cubicBezTo>
                  <a:pt x="288537" y="71828"/>
                  <a:pt x="283679" y="60270"/>
                  <a:pt x="275140" y="51731"/>
                </a:cubicBezTo>
                <a:cubicBezTo>
                  <a:pt x="255661" y="32251"/>
                  <a:pt x="239368" y="29758"/>
                  <a:pt x="214850" y="21586"/>
                </a:cubicBezTo>
                <a:cubicBezTo>
                  <a:pt x="168157" y="33259"/>
                  <a:pt x="188466" y="31634"/>
                  <a:pt x="154559" y="31634"/>
                </a:cubicBezTo>
              </a:path>
            </a:pathLst>
          </a:custGeom>
          <a:solidFill>
            <a:srgbClr val="663300"/>
          </a:solidFill>
          <a:ln w="9360">
            <a:solidFill>
              <a:srgbClr val="5b40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75"/>
          <p:cNvSpPr/>
          <p:nvPr/>
        </p:nvSpPr>
        <p:spPr>
          <a:xfrm>
            <a:off x="3929040" y="4786200"/>
            <a:ext cx="690480" cy="214560"/>
          </a:xfrm>
          <a:custGeom>
            <a:avLst/>
            <a:gdLst/>
            <a:ahLst/>
            <a:rect l="l" t="t" r="r" b="b"/>
            <a:pathLst>
              <a:path w="690778" h="213900">
                <a:moveTo>
                  <a:pt x="150725" y="30145"/>
                </a:moveTo>
                <a:cubicBezTo>
                  <a:pt x="157424" y="38518"/>
                  <a:pt x="158697" y="49904"/>
                  <a:pt x="160774" y="60290"/>
                </a:cubicBezTo>
                <a:cubicBezTo>
                  <a:pt x="165419" y="83514"/>
                  <a:pt x="152840" y="115215"/>
                  <a:pt x="170822" y="130629"/>
                </a:cubicBezTo>
                <a:cubicBezTo>
                  <a:pt x="186291" y="143888"/>
                  <a:pt x="211015" y="123930"/>
                  <a:pt x="231112" y="120580"/>
                </a:cubicBezTo>
                <a:cubicBezTo>
                  <a:pt x="249237" y="102455"/>
                  <a:pt x="262317" y="80387"/>
                  <a:pt x="291402" y="80387"/>
                </a:cubicBezTo>
                <a:cubicBezTo>
                  <a:pt x="305212" y="80387"/>
                  <a:pt x="318198" y="87086"/>
                  <a:pt x="331596" y="90435"/>
                </a:cubicBezTo>
                <a:cubicBezTo>
                  <a:pt x="328246" y="100483"/>
                  <a:pt x="321547" y="109988"/>
                  <a:pt x="321547" y="120580"/>
                </a:cubicBezTo>
                <a:cubicBezTo>
                  <a:pt x="321547" y="181681"/>
                  <a:pt x="377311" y="145646"/>
                  <a:pt x="422031" y="140677"/>
                </a:cubicBezTo>
                <a:cubicBezTo>
                  <a:pt x="432079" y="130629"/>
                  <a:pt x="438512" y="114436"/>
                  <a:pt x="452176" y="110532"/>
                </a:cubicBezTo>
                <a:cubicBezTo>
                  <a:pt x="483664" y="101535"/>
                  <a:pt x="505747" y="133958"/>
                  <a:pt x="522514" y="150725"/>
                </a:cubicBezTo>
                <a:cubicBezTo>
                  <a:pt x="533584" y="183933"/>
                  <a:pt x="532544" y="213900"/>
                  <a:pt x="592853" y="170822"/>
                </a:cubicBezTo>
                <a:cubicBezTo>
                  <a:pt x="604091" y="162795"/>
                  <a:pt x="595241" y="142120"/>
                  <a:pt x="602901" y="130629"/>
                </a:cubicBezTo>
                <a:cubicBezTo>
                  <a:pt x="609600" y="120581"/>
                  <a:pt x="622998" y="117231"/>
                  <a:pt x="633046" y="110532"/>
                </a:cubicBezTo>
                <a:cubicBezTo>
                  <a:pt x="649793" y="113881"/>
                  <a:pt x="671211" y="108503"/>
                  <a:pt x="683288" y="120580"/>
                </a:cubicBezTo>
                <a:cubicBezTo>
                  <a:pt x="690778" y="128070"/>
                  <a:pt x="663419" y="128060"/>
                  <a:pt x="653143" y="130629"/>
                </a:cubicBezTo>
                <a:cubicBezTo>
                  <a:pt x="636574" y="134771"/>
                  <a:pt x="619648" y="137328"/>
                  <a:pt x="602901" y="140677"/>
                </a:cubicBezTo>
                <a:cubicBezTo>
                  <a:pt x="599512" y="150845"/>
                  <a:pt x="586782" y="197850"/>
                  <a:pt x="572756" y="200967"/>
                </a:cubicBezTo>
                <a:cubicBezTo>
                  <a:pt x="549636" y="206105"/>
                  <a:pt x="525864" y="194268"/>
                  <a:pt x="502418" y="190919"/>
                </a:cubicBezTo>
                <a:cubicBezTo>
                  <a:pt x="444997" y="171780"/>
                  <a:pt x="499547" y="183263"/>
                  <a:pt x="442127" y="190919"/>
                </a:cubicBezTo>
                <a:cubicBezTo>
                  <a:pt x="402148" y="196249"/>
                  <a:pt x="361740" y="197618"/>
                  <a:pt x="321547" y="200967"/>
                </a:cubicBezTo>
                <a:cubicBezTo>
                  <a:pt x="210316" y="163891"/>
                  <a:pt x="282399" y="182192"/>
                  <a:pt x="100483" y="170822"/>
                </a:cubicBezTo>
                <a:cubicBezTo>
                  <a:pt x="90435" y="160774"/>
                  <a:pt x="65844" y="154158"/>
                  <a:pt x="70338" y="140677"/>
                </a:cubicBezTo>
                <a:cubicBezTo>
                  <a:pt x="79326" y="113714"/>
                  <a:pt x="130629" y="80387"/>
                  <a:pt x="130629" y="80387"/>
                </a:cubicBezTo>
                <a:cubicBezTo>
                  <a:pt x="49244" y="26131"/>
                  <a:pt x="176797" y="101678"/>
                  <a:pt x="20097" y="70339"/>
                </a:cubicBezTo>
                <a:cubicBezTo>
                  <a:pt x="8255" y="67971"/>
                  <a:pt x="6699" y="50242"/>
                  <a:pt x="0" y="40194"/>
                </a:cubicBezTo>
                <a:cubicBezTo>
                  <a:pt x="10048" y="33495"/>
                  <a:pt x="19109" y="25002"/>
                  <a:pt x="30145" y="20097"/>
                </a:cubicBezTo>
                <a:cubicBezTo>
                  <a:pt x="49503" y="11493"/>
                  <a:pt x="90435" y="0"/>
                  <a:pt x="90435" y="0"/>
                </a:cubicBezTo>
                <a:cubicBezTo>
                  <a:pt x="100483" y="3350"/>
                  <a:pt x="113090" y="2559"/>
                  <a:pt x="120580" y="10049"/>
                </a:cubicBezTo>
                <a:cubicBezTo>
                  <a:pt x="128070" y="17539"/>
                  <a:pt x="144026" y="21772"/>
                  <a:pt x="150725" y="30145"/>
                </a:cubicBezTo>
                <a:close/>
              </a:path>
            </a:pathLst>
          </a:custGeom>
          <a:solidFill>
            <a:srgbClr val="663300"/>
          </a:solidFill>
          <a:ln w="25560">
            <a:solidFill>
              <a:srgbClr val="5b40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76"/>
          <p:cNvSpPr/>
          <p:nvPr/>
        </p:nvSpPr>
        <p:spPr>
          <a:xfrm>
            <a:off x="5072040" y="21430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Овал 77"/>
          <p:cNvGrpSpPr/>
          <p:nvPr/>
        </p:nvGrpSpPr>
        <p:grpSpPr>
          <a:xfrm>
            <a:off x="4535640" y="1036800"/>
            <a:ext cx="858600" cy="858600"/>
            <a:chOff x="4535640" y="1036800"/>
            <a:chExt cx="858600" cy="858600"/>
          </a:xfrm>
        </p:grpSpPr>
        <p:pic>
          <p:nvPicPr>
            <p:cNvPr id="129" name="Овал 77" descr=""/>
            <p:cNvPicPr/>
            <p:nvPr/>
          </p:nvPicPr>
          <p:blipFill>
            <a:blip r:embed="rId16"/>
            <a:stretch/>
          </p:blipFill>
          <p:spPr>
            <a:xfrm>
              <a:off x="4535640" y="1036800"/>
              <a:ext cx="858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838760" y="1338120"/>
              <a:ext cx="2523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вал 78"/>
          <p:cNvGrpSpPr/>
          <p:nvPr/>
        </p:nvGrpSpPr>
        <p:grpSpPr>
          <a:xfrm>
            <a:off x="5048280" y="695160"/>
            <a:ext cx="547560" cy="543240"/>
            <a:chOff x="5048280" y="695160"/>
            <a:chExt cx="547560" cy="543240"/>
          </a:xfrm>
        </p:grpSpPr>
        <p:pic>
          <p:nvPicPr>
            <p:cNvPr id="132" name="Овал 78" descr=""/>
            <p:cNvPicPr/>
            <p:nvPr/>
          </p:nvPicPr>
          <p:blipFill>
            <a:blip r:embed="rId17"/>
            <a:stretch/>
          </p:blipFill>
          <p:spPr>
            <a:xfrm>
              <a:off x="5048280" y="695160"/>
              <a:ext cx="54756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246640" y="8888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Овал 79"/>
          <p:cNvSpPr/>
          <p:nvPr/>
        </p:nvSpPr>
        <p:spPr>
          <a:xfrm>
            <a:off x="5000760" y="428760"/>
            <a:ext cx="142920" cy="14292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вал 80"/>
          <p:cNvSpPr/>
          <p:nvPr/>
        </p:nvSpPr>
        <p:spPr>
          <a:xfrm>
            <a:off x="4786200" y="7142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Полилиния 81"/>
          <p:cNvGrpSpPr/>
          <p:nvPr/>
        </p:nvGrpSpPr>
        <p:grpSpPr>
          <a:xfrm>
            <a:off x="7454880" y="42840"/>
            <a:ext cx="1311120" cy="6138720"/>
            <a:chOff x="7454880" y="42840"/>
            <a:chExt cx="1311120" cy="6138720"/>
          </a:xfrm>
        </p:grpSpPr>
        <p:pic>
          <p:nvPicPr>
            <p:cNvPr id="137" name="Полилиния 81" descr=""/>
            <p:cNvPicPr/>
            <p:nvPr/>
          </p:nvPicPr>
          <p:blipFill>
            <a:blip r:embed="rId18"/>
            <a:stretch/>
          </p:blipFill>
          <p:spPr>
            <a:xfrm>
              <a:off x="7454880" y="42840"/>
              <a:ext cx="1311120" cy="61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707240" y="282600"/>
              <a:ext cx="81432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Полилиния 82"/>
          <p:cNvSpPr/>
          <p:nvPr/>
        </p:nvSpPr>
        <p:spPr>
          <a:xfrm>
            <a:off x="7601040" y="271440"/>
            <a:ext cx="990360" cy="5761080"/>
          </a:xfrm>
          <a:custGeom>
            <a:avLst/>
            <a:gdLst/>
            <a:ahLst/>
            <a:rect l="l" t="t" r="r" b="b"/>
            <a:pathLst>
              <a:path w="990819" h="5761102">
                <a:moveTo>
                  <a:pt x="327627" y="5677269"/>
                </a:moveTo>
                <a:cubicBezTo>
                  <a:pt x="334326" y="5667221"/>
                  <a:pt x="346561" y="5659144"/>
                  <a:pt x="347724" y="5647124"/>
                </a:cubicBezTo>
                <a:cubicBezTo>
                  <a:pt x="356764" y="5553716"/>
                  <a:pt x="351731" y="5459420"/>
                  <a:pt x="357773" y="5365770"/>
                </a:cubicBezTo>
                <a:cubicBezTo>
                  <a:pt x="358455" y="5355200"/>
                  <a:pt x="363084" y="5345099"/>
                  <a:pt x="367821" y="5335625"/>
                </a:cubicBezTo>
                <a:cubicBezTo>
                  <a:pt x="373222" y="5324823"/>
                  <a:pt x="380187" y="5314758"/>
                  <a:pt x="387918" y="5305480"/>
                </a:cubicBezTo>
                <a:cubicBezTo>
                  <a:pt x="397015" y="5294563"/>
                  <a:pt x="406239" y="5283218"/>
                  <a:pt x="418063" y="5275335"/>
                </a:cubicBezTo>
                <a:cubicBezTo>
                  <a:pt x="426876" y="5269460"/>
                  <a:pt x="438160" y="5268636"/>
                  <a:pt x="448208" y="5265287"/>
                </a:cubicBezTo>
                <a:lnTo>
                  <a:pt x="538643" y="5204997"/>
                </a:lnTo>
                <a:cubicBezTo>
                  <a:pt x="577810" y="5178886"/>
                  <a:pt x="594667" y="5170492"/>
                  <a:pt x="629078" y="5124610"/>
                </a:cubicBezTo>
                <a:cubicBezTo>
                  <a:pt x="639126" y="5111212"/>
                  <a:pt x="650347" y="5098618"/>
                  <a:pt x="659223" y="5084416"/>
                </a:cubicBezTo>
                <a:cubicBezTo>
                  <a:pt x="667162" y="5071714"/>
                  <a:pt x="671888" y="5057229"/>
                  <a:pt x="679320" y="5044223"/>
                </a:cubicBezTo>
                <a:cubicBezTo>
                  <a:pt x="685312" y="5033738"/>
                  <a:pt x="692717" y="5024126"/>
                  <a:pt x="699416" y="5014078"/>
                </a:cubicBezTo>
                <a:cubicBezTo>
                  <a:pt x="696067" y="4916944"/>
                  <a:pt x="697668" y="4819513"/>
                  <a:pt x="689368" y="4722676"/>
                </a:cubicBezTo>
                <a:cubicBezTo>
                  <a:pt x="688058" y="4707390"/>
                  <a:pt x="664902" y="4654957"/>
                  <a:pt x="659223" y="4632241"/>
                </a:cubicBezTo>
                <a:cubicBezTo>
                  <a:pt x="646246" y="4580331"/>
                  <a:pt x="656836" y="4603538"/>
                  <a:pt x="629078" y="4561902"/>
                </a:cubicBezTo>
                <a:cubicBezTo>
                  <a:pt x="625729" y="4551854"/>
                  <a:pt x="621940" y="4541941"/>
                  <a:pt x="619030" y="4531757"/>
                </a:cubicBezTo>
                <a:cubicBezTo>
                  <a:pt x="615236" y="4518478"/>
                  <a:pt x="615157" y="4503916"/>
                  <a:pt x="608981" y="4491564"/>
                </a:cubicBezTo>
                <a:cubicBezTo>
                  <a:pt x="598179" y="4469961"/>
                  <a:pt x="582186" y="4451371"/>
                  <a:pt x="568788" y="4431274"/>
                </a:cubicBezTo>
                <a:cubicBezTo>
                  <a:pt x="562089" y="4421226"/>
                  <a:pt x="554092" y="4411931"/>
                  <a:pt x="548691" y="4401129"/>
                </a:cubicBezTo>
                <a:cubicBezTo>
                  <a:pt x="541992" y="4387731"/>
                  <a:pt x="534495" y="4374703"/>
                  <a:pt x="528594" y="4360935"/>
                </a:cubicBezTo>
                <a:cubicBezTo>
                  <a:pt x="524422" y="4351200"/>
                  <a:pt x="523283" y="4340264"/>
                  <a:pt x="518546" y="4330790"/>
                </a:cubicBezTo>
                <a:cubicBezTo>
                  <a:pt x="489390" y="4272478"/>
                  <a:pt x="504780" y="4330925"/>
                  <a:pt x="478353" y="4260452"/>
                </a:cubicBezTo>
                <a:cubicBezTo>
                  <a:pt x="473504" y="4247521"/>
                  <a:pt x="472272" y="4233486"/>
                  <a:pt x="468304" y="4220258"/>
                </a:cubicBezTo>
                <a:cubicBezTo>
                  <a:pt x="462217" y="4199968"/>
                  <a:pt x="453346" y="4180519"/>
                  <a:pt x="448208" y="4159968"/>
                </a:cubicBezTo>
                <a:cubicBezTo>
                  <a:pt x="416776" y="4034251"/>
                  <a:pt x="456955" y="4190590"/>
                  <a:pt x="428111" y="4089630"/>
                </a:cubicBezTo>
                <a:cubicBezTo>
                  <a:pt x="424317" y="4076351"/>
                  <a:pt x="421412" y="4062834"/>
                  <a:pt x="418063" y="4049436"/>
                </a:cubicBezTo>
                <a:cubicBezTo>
                  <a:pt x="421412" y="3965700"/>
                  <a:pt x="419488" y="3881585"/>
                  <a:pt x="428111" y="3798227"/>
                </a:cubicBezTo>
                <a:cubicBezTo>
                  <a:pt x="429652" y="3783327"/>
                  <a:pt x="438851" y="3769731"/>
                  <a:pt x="448208" y="3758034"/>
                </a:cubicBezTo>
                <a:cubicBezTo>
                  <a:pt x="535810" y="3648533"/>
                  <a:pt x="474266" y="3730809"/>
                  <a:pt x="548691" y="3677647"/>
                </a:cubicBezTo>
                <a:cubicBezTo>
                  <a:pt x="560255" y="3669387"/>
                  <a:pt x="567619" y="3656226"/>
                  <a:pt x="578836" y="3647502"/>
                </a:cubicBezTo>
                <a:cubicBezTo>
                  <a:pt x="597901" y="3632673"/>
                  <a:pt x="622047" y="3624388"/>
                  <a:pt x="639126" y="3607309"/>
                </a:cubicBezTo>
                <a:cubicBezTo>
                  <a:pt x="652524" y="3593911"/>
                  <a:pt x="664524" y="3578951"/>
                  <a:pt x="679320" y="3567115"/>
                </a:cubicBezTo>
                <a:cubicBezTo>
                  <a:pt x="698180" y="3552027"/>
                  <a:pt x="719513" y="3540320"/>
                  <a:pt x="739610" y="3526922"/>
                </a:cubicBezTo>
                <a:cubicBezTo>
                  <a:pt x="749658" y="3520223"/>
                  <a:pt x="762509" y="3516486"/>
                  <a:pt x="769755" y="3506825"/>
                </a:cubicBezTo>
                <a:lnTo>
                  <a:pt x="799900" y="3466632"/>
                </a:lnTo>
                <a:cubicBezTo>
                  <a:pt x="803249" y="3456584"/>
                  <a:pt x="805776" y="3446222"/>
                  <a:pt x="809948" y="3436487"/>
                </a:cubicBezTo>
                <a:cubicBezTo>
                  <a:pt x="847198" y="3349569"/>
                  <a:pt x="816529" y="3436843"/>
                  <a:pt x="840093" y="3366148"/>
                </a:cubicBezTo>
                <a:cubicBezTo>
                  <a:pt x="836744" y="3212073"/>
                  <a:pt x="836204" y="3057912"/>
                  <a:pt x="830045" y="2903924"/>
                </a:cubicBezTo>
                <a:cubicBezTo>
                  <a:pt x="829150" y="2881542"/>
                  <a:pt x="815374" y="2855290"/>
                  <a:pt x="809948" y="2833586"/>
                </a:cubicBezTo>
                <a:cubicBezTo>
                  <a:pt x="805806" y="2817017"/>
                  <a:pt x="803249" y="2800091"/>
                  <a:pt x="799900" y="2783344"/>
                </a:cubicBezTo>
                <a:cubicBezTo>
                  <a:pt x="795119" y="2730755"/>
                  <a:pt x="793962" y="2674488"/>
                  <a:pt x="779803" y="2622570"/>
                </a:cubicBezTo>
                <a:cubicBezTo>
                  <a:pt x="741557" y="2482333"/>
                  <a:pt x="774141" y="2634445"/>
                  <a:pt x="749658" y="2512038"/>
                </a:cubicBezTo>
                <a:cubicBezTo>
                  <a:pt x="754212" y="2493825"/>
                  <a:pt x="771651" y="2419707"/>
                  <a:pt x="779803" y="2411555"/>
                </a:cubicBezTo>
                <a:cubicBezTo>
                  <a:pt x="789851" y="2401507"/>
                  <a:pt x="801688" y="2392974"/>
                  <a:pt x="809948" y="2381410"/>
                </a:cubicBezTo>
                <a:cubicBezTo>
                  <a:pt x="876078" y="2288828"/>
                  <a:pt x="781812" y="2389449"/>
                  <a:pt x="860190" y="2311071"/>
                </a:cubicBezTo>
                <a:cubicBezTo>
                  <a:pt x="870585" y="2279884"/>
                  <a:pt x="871709" y="2271776"/>
                  <a:pt x="890335" y="2240733"/>
                </a:cubicBezTo>
                <a:cubicBezTo>
                  <a:pt x="918652" y="2193540"/>
                  <a:pt x="932247" y="2186195"/>
                  <a:pt x="950625" y="2140249"/>
                </a:cubicBezTo>
                <a:cubicBezTo>
                  <a:pt x="974510" y="2080535"/>
                  <a:pt x="965962" y="2091594"/>
                  <a:pt x="980770" y="2039766"/>
                </a:cubicBezTo>
                <a:cubicBezTo>
                  <a:pt x="983680" y="2029582"/>
                  <a:pt x="987469" y="2019669"/>
                  <a:pt x="990819" y="2009621"/>
                </a:cubicBezTo>
                <a:cubicBezTo>
                  <a:pt x="987469" y="1882342"/>
                  <a:pt x="986974" y="1754955"/>
                  <a:pt x="980770" y="1627783"/>
                </a:cubicBezTo>
                <a:cubicBezTo>
                  <a:pt x="980254" y="1617204"/>
                  <a:pt x="975105" y="1607280"/>
                  <a:pt x="970722" y="1597638"/>
                </a:cubicBezTo>
                <a:cubicBezTo>
                  <a:pt x="946151" y="1543581"/>
                  <a:pt x="935584" y="1518125"/>
                  <a:pt x="900383" y="1477058"/>
                </a:cubicBezTo>
                <a:cubicBezTo>
                  <a:pt x="891135" y="1466269"/>
                  <a:pt x="880286" y="1456961"/>
                  <a:pt x="870238" y="1446913"/>
                </a:cubicBezTo>
                <a:cubicBezTo>
                  <a:pt x="815384" y="1337203"/>
                  <a:pt x="886274" y="1462368"/>
                  <a:pt x="819997" y="1386623"/>
                </a:cubicBezTo>
                <a:cubicBezTo>
                  <a:pt x="804092" y="1368446"/>
                  <a:pt x="796882" y="1343412"/>
                  <a:pt x="779803" y="1326333"/>
                </a:cubicBezTo>
                <a:cubicBezTo>
                  <a:pt x="769755" y="1316285"/>
                  <a:pt x="758755" y="1307105"/>
                  <a:pt x="749658" y="1296188"/>
                </a:cubicBezTo>
                <a:cubicBezTo>
                  <a:pt x="741927" y="1286911"/>
                  <a:pt x="738101" y="1274582"/>
                  <a:pt x="729562" y="1266043"/>
                </a:cubicBezTo>
                <a:cubicBezTo>
                  <a:pt x="636523" y="1173004"/>
                  <a:pt x="768046" y="1331039"/>
                  <a:pt x="669271" y="1215801"/>
                </a:cubicBezTo>
                <a:cubicBezTo>
                  <a:pt x="658372" y="1203086"/>
                  <a:pt x="650968" y="1187450"/>
                  <a:pt x="639126" y="1175608"/>
                </a:cubicBezTo>
                <a:cubicBezTo>
                  <a:pt x="630587" y="1167069"/>
                  <a:pt x="618259" y="1163242"/>
                  <a:pt x="608981" y="1155511"/>
                </a:cubicBezTo>
                <a:cubicBezTo>
                  <a:pt x="517641" y="1079394"/>
                  <a:pt x="644886" y="1169015"/>
                  <a:pt x="538643" y="1105269"/>
                </a:cubicBezTo>
                <a:cubicBezTo>
                  <a:pt x="517932" y="1092842"/>
                  <a:pt x="478353" y="1065076"/>
                  <a:pt x="478353" y="1065076"/>
                </a:cubicBezTo>
                <a:cubicBezTo>
                  <a:pt x="424761" y="984689"/>
                  <a:pt x="495100" y="1081823"/>
                  <a:pt x="428111" y="1014834"/>
                </a:cubicBezTo>
                <a:cubicBezTo>
                  <a:pt x="419572" y="1006295"/>
                  <a:pt x="415745" y="993967"/>
                  <a:pt x="408014" y="984689"/>
                </a:cubicBezTo>
                <a:cubicBezTo>
                  <a:pt x="398917" y="973772"/>
                  <a:pt x="386593" y="965761"/>
                  <a:pt x="377869" y="954544"/>
                </a:cubicBezTo>
                <a:cubicBezTo>
                  <a:pt x="336590" y="901471"/>
                  <a:pt x="350756" y="900130"/>
                  <a:pt x="307531" y="864109"/>
                </a:cubicBezTo>
                <a:cubicBezTo>
                  <a:pt x="298253" y="856378"/>
                  <a:pt x="287434" y="850711"/>
                  <a:pt x="277386" y="844012"/>
                </a:cubicBezTo>
                <a:cubicBezTo>
                  <a:pt x="253299" y="771754"/>
                  <a:pt x="282515" y="861968"/>
                  <a:pt x="257289" y="773674"/>
                </a:cubicBezTo>
                <a:cubicBezTo>
                  <a:pt x="254379" y="763490"/>
                  <a:pt x="249810" y="753805"/>
                  <a:pt x="247241" y="743529"/>
                </a:cubicBezTo>
                <a:cubicBezTo>
                  <a:pt x="243099" y="726960"/>
                  <a:pt x="240897" y="709959"/>
                  <a:pt x="237192" y="693287"/>
                </a:cubicBezTo>
                <a:cubicBezTo>
                  <a:pt x="234196" y="679806"/>
                  <a:pt x="230493" y="666491"/>
                  <a:pt x="227144" y="653093"/>
                </a:cubicBezTo>
                <a:cubicBezTo>
                  <a:pt x="223795" y="512416"/>
                  <a:pt x="225524" y="371527"/>
                  <a:pt x="217096" y="231063"/>
                </a:cubicBezTo>
                <a:cubicBezTo>
                  <a:pt x="215442" y="203492"/>
                  <a:pt x="196999" y="150676"/>
                  <a:pt x="196999" y="150676"/>
                </a:cubicBezTo>
                <a:cubicBezTo>
                  <a:pt x="187004" y="40731"/>
                  <a:pt x="221759" y="48654"/>
                  <a:pt x="156805" y="30096"/>
                </a:cubicBezTo>
                <a:cubicBezTo>
                  <a:pt x="143526" y="26302"/>
                  <a:pt x="130010" y="23397"/>
                  <a:pt x="116612" y="20047"/>
                </a:cubicBezTo>
                <a:cubicBezTo>
                  <a:pt x="86467" y="23397"/>
                  <a:pt x="29939" y="0"/>
                  <a:pt x="26177" y="30096"/>
                </a:cubicBezTo>
                <a:cubicBezTo>
                  <a:pt x="0" y="239508"/>
                  <a:pt x="30282" y="452184"/>
                  <a:pt x="36225" y="663142"/>
                </a:cubicBezTo>
                <a:cubicBezTo>
                  <a:pt x="36985" y="690136"/>
                  <a:pt x="40616" y="717124"/>
                  <a:pt x="46274" y="743529"/>
                </a:cubicBezTo>
                <a:cubicBezTo>
                  <a:pt x="53333" y="776472"/>
                  <a:pt x="69464" y="814257"/>
                  <a:pt x="86467" y="844012"/>
                </a:cubicBezTo>
                <a:cubicBezTo>
                  <a:pt x="92459" y="854497"/>
                  <a:pt x="100572" y="863672"/>
                  <a:pt x="106564" y="874157"/>
                </a:cubicBezTo>
                <a:cubicBezTo>
                  <a:pt x="113996" y="887162"/>
                  <a:pt x="119228" y="901345"/>
                  <a:pt x="126660" y="914350"/>
                </a:cubicBezTo>
                <a:cubicBezTo>
                  <a:pt x="132652" y="924836"/>
                  <a:pt x="141356" y="933694"/>
                  <a:pt x="146757" y="944496"/>
                </a:cubicBezTo>
                <a:cubicBezTo>
                  <a:pt x="154824" y="960629"/>
                  <a:pt x="160521" y="977848"/>
                  <a:pt x="166854" y="994737"/>
                </a:cubicBezTo>
                <a:cubicBezTo>
                  <a:pt x="170573" y="1004654"/>
                  <a:pt x="171027" y="1016069"/>
                  <a:pt x="176902" y="1024882"/>
                </a:cubicBezTo>
                <a:cubicBezTo>
                  <a:pt x="184785" y="1036706"/>
                  <a:pt x="198323" y="1043810"/>
                  <a:pt x="207047" y="1055027"/>
                </a:cubicBezTo>
                <a:cubicBezTo>
                  <a:pt x="221876" y="1074093"/>
                  <a:pt x="233843" y="1095221"/>
                  <a:pt x="247241" y="1115318"/>
                </a:cubicBezTo>
                <a:cubicBezTo>
                  <a:pt x="253940" y="1125366"/>
                  <a:pt x="261936" y="1134662"/>
                  <a:pt x="267337" y="1145463"/>
                </a:cubicBezTo>
                <a:cubicBezTo>
                  <a:pt x="275218" y="1161225"/>
                  <a:pt x="293328" y="1201598"/>
                  <a:pt x="307531" y="1215801"/>
                </a:cubicBezTo>
                <a:cubicBezTo>
                  <a:pt x="316070" y="1224340"/>
                  <a:pt x="327628" y="1229199"/>
                  <a:pt x="337676" y="1235898"/>
                </a:cubicBezTo>
                <a:cubicBezTo>
                  <a:pt x="359230" y="1300561"/>
                  <a:pt x="330827" y="1230330"/>
                  <a:pt x="377869" y="1296188"/>
                </a:cubicBezTo>
                <a:cubicBezTo>
                  <a:pt x="424229" y="1361091"/>
                  <a:pt x="368683" y="1316859"/>
                  <a:pt x="428111" y="1356478"/>
                </a:cubicBezTo>
                <a:cubicBezTo>
                  <a:pt x="434810" y="1366526"/>
                  <a:pt x="438930" y="1378892"/>
                  <a:pt x="448208" y="1386623"/>
                </a:cubicBezTo>
                <a:cubicBezTo>
                  <a:pt x="459715" y="1396212"/>
                  <a:pt x="475307" y="1399445"/>
                  <a:pt x="488401" y="1406720"/>
                </a:cubicBezTo>
                <a:cubicBezTo>
                  <a:pt x="559587" y="1446268"/>
                  <a:pt x="513682" y="1428545"/>
                  <a:pt x="568788" y="1446913"/>
                </a:cubicBezTo>
                <a:cubicBezTo>
                  <a:pt x="578836" y="1456961"/>
                  <a:pt x="587109" y="1469175"/>
                  <a:pt x="598933" y="1477058"/>
                </a:cubicBezTo>
                <a:cubicBezTo>
                  <a:pt x="607746" y="1482933"/>
                  <a:pt x="619819" y="1481963"/>
                  <a:pt x="629078" y="1487107"/>
                </a:cubicBezTo>
                <a:cubicBezTo>
                  <a:pt x="650192" y="1498837"/>
                  <a:pt x="669271" y="1513902"/>
                  <a:pt x="689368" y="1527300"/>
                </a:cubicBezTo>
                <a:lnTo>
                  <a:pt x="719513" y="1547397"/>
                </a:lnTo>
                <a:cubicBezTo>
                  <a:pt x="726212" y="1557445"/>
                  <a:pt x="731070" y="1569003"/>
                  <a:pt x="739610" y="1577542"/>
                </a:cubicBezTo>
                <a:cubicBezTo>
                  <a:pt x="748149" y="1586081"/>
                  <a:pt x="762211" y="1588208"/>
                  <a:pt x="769755" y="1597638"/>
                </a:cubicBezTo>
                <a:cubicBezTo>
                  <a:pt x="776372" y="1605909"/>
                  <a:pt x="774659" y="1618524"/>
                  <a:pt x="779803" y="1627783"/>
                </a:cubicBezTo>
                <a:cubicBezTo>
                  <a:pt x="791533" y="1648897"/>
                  <a:pt x="819997" y="1688074"/>
                  <a:pt x="819997" y="1688074"/>
                </a:cubicBezTo>
                <a:cubicBezTo>
                  <a:pt x="830393" y="1719262"/>
                  <a:pt x="831515" y="1727368"/>
                  <a:pt x="850142" y="1758412"/>
                </a:cubicBezTo>
                <a:cubicBezTo>
                  <a:pt x="862569" y="1779123"/>
                  <a:pt x="890335" y="1818702"/>
                  <a:pt x="890335" y="1818702"/>
                </a:cubicBezTo>
                <a:cubicBezTo>
                  <a:pt x="886986" y="1949331"/>
                  <a:pt x="886503" y="2080064"/>
                  <a:pt x="880287" y="2210588"/>
                </a:cubicBezTo>
                <a:cubicBezTo>
                  <a:pt x="879783" y="2221168"/>
                  <a:pt x="875382" y="2231474"/>
                  <a:pt x="870238" y="2240733"/>
                </a:cubicBezTo>
                <a:cubicBezTo>
                  <a:pt x="858508" y="2261847"/>
                  <a:pt x="843443" y="2280926"/>
                  <a:pt x="830045" y="2301023"/>
                </a:cubicBezTo>
                <a:cubicBezTo>
                  <a:pt x="803250" y="2341216"/>
                  <a:pt x="819996" y="2324470"/>
                  <a:pt x="779803" y="2351265"/>
                </a:cubicBezTo>
                <a:cubicBezTo>
                  <a:pt x="746563" y="2450989"/>
                  <a:pt x="802332" y="2298657"/>
                  <a:pt x="739610" y="2411555"/>
                </a:cubicBezTo>
                <a:cubicBezTo>
                  <a:pt x="729322" y="2430073"/>
                  <a:pt x="726212" y="2451748"/>
                  <a:pt x="719513" y="2471845"/>
                </a:cubicBezTo>
                <a:lnTo>
                  <a:pt x="709465" y="2501990"/>
                </a:lnTo>
                <a:cubicBezTo>
                  <a:pt x="712814" y="2575678"/>
                  <a:pt x="713855" y="2649507"/>
                  <a:pt x="719513" y="2723054"/>
                </a:cubicBezTo>
                <a:cubicBezTo>
                  <a:pt x="720572" y="2736823"/>
                  <a:pt x="726566" y="2749766"/>
                  <a:pt x="729562" y="2763247"/>
                </a:cubicBezTo>
                <a:cubicBezTo>
                  <a:pt x="733267" y="2779919"/>
                  <a:pt x="735468" y="2796920"/>
                  <a:pt x="739610" y="2813489"/>
                </a:cubicBezTo>
                <a:cubicBezTo>
                  <a:pt x="742179" y="2823765"/>
                  <a:pt x="747089" y="2833358"/>
                  <a:pt x="749658" y="2843634"/>
                </a:cubicBezTo>
                <a:cubicBezTo>
                  <a:pt x="756683" y="2871734"/>
                  <a:pt x="765273" y="2927275"/>
                  <a:pt x="769755" y="2954166"/>
                </a:cubicBezTo>
                <a:cubicBezTo>
                  <a:pt x="766406" y="3104891"/>
                  <a:pt x="765983" y="3255710"/>
                  <a:pt x="759707" y="3406342"/>
                </a:cubicBezTo>
                <a:cubicBezTo>
                  <a:pt x="759266" y="3416925"/>
                  <a:pt x="754802" y="3427228"/>
                  <a:pt x="749658" y="3436487"/>
                </a:cubicBezTo>
                <a:cubicBezTo>
                  <a:pt x="737928" y="3457601"/>
                  <a:pt x="726544" y="3479698"/>
                  <a:pt x="709465" y="3496777"/>
                </a:cubicBezTo>
                <a:cubicBezTo>
                  <a:pt x="670781" y="3535461"/>
                  <a:pt x="691144" y="3519039"/>
                  <a:pt x="649175" y="3547019"/>
                </a:cubicBezTo>
                <a:lnTo>
                  <a:pt x="608981" y="3607309"/>
                </a:lnTo>
                <a:cubicBezTo>
                  <a:pt x="602282" y="3617357"/>
                  <a:pt x="598933" y="3630755"/>
                  <a:pt x="588885" y="3637454"/>
                </a:cubicBezTo>
                <a:cubicBezTo>
                  <a:pt x="481178" y="3709256"/>
                  <a:pt x="644636" y="3597441"/>
                  <a:pt x="528594" y="3687696"/>
                </a:cubicBezTo>
                <a:cubicBezTo>
                  <a:pt x="509529" y="3702525"/>
                  <a:pt x="488401" y="3714491"/>
                  <a:pt x="468304" y="3727889"/>
                </a:cubicBezTo>
                <a:cubicBezTo>
                  <a:pt x="458256" y="3734588"/>
                  <a:pt x="446698" y="3739447"/>
                  <a:pt x="438159" y="3747986"/>
                </a:cubicBezTo>
                <a:lnTo>
                  <a:pt x="377869" y="3808276"/>
                </a:lnTo>
                <a:lnTo>
                  <a:pt x="347724" y="3838421"/>
                </a:lnTo>
                <a:cubicBezTo>
                  <a:pt x="344375" y="3848469"/>
                  <a:pt x="342413" y="3859092"/>
                  <a:pt x="337676" y="3868566"/>
                </a:cubicBezTo>
                <a:cubicBezTo>
                  <a:pt x="332275" y="3879368"/>
                  <a:pt x="322336" y="3887611"/>
                  <a:pt x="317579" y="3898711"/>
                </a:cubicBezTo>
                <a:cubicBezTo>
                  <a:pt x="312139" y="3911404"/>
                  <a:pt x="310880" y="3925506"/>
                  <a:pt x="307531" y="3938904"/>
                </a:cubicBezTo>
                <a:cubicBezTo>
                  <a:pt x="310880" y="3989146"/>
                  <a:pt x="312019" y="4039584"/>
                  <a:pt x="317579" y="4089630"/>
                </a:cubicBezTo>
                <a:cubicBezTo>
                  <a:pt x="321850" y="4128066"/>
                  <a:pt x="333918" y="4119249"/>
                  <a:pt x="357773" y="4149920"/>
                </a:cubicBezTo>
                <a:cubicBezTo>
                  <a:pt x="372602" y="4168985"/>
                  <a:pt x="384568" y="4190113"/>
                  <a:pt x="397966" y="4210210"/>
                </a:cubicBezTo>
                <a:cubicBezTo>
                  <a:pt x="404665" y="4220258"/>
                  <a:pt x="408015" y="4233656"/>
                  <a:pt x="418063" y="4240355"/>
                </a:cubicBezTo>
                <a:cubicBezTo>
                  <a:pt x="428111" y="4247054"/>
                  <a:pt x="438930" y="4252721"/>
                  <a:pt x="448208" y="4260452"/>
                </a:cubicBezTo>
                <a:cubicBezTo>
                  <a:pt x="459125" y="4269549"/>
                  <a:pt x="466015" y="4283547"/>
                  <a:pt x="478353" y="4290597"/>
                </a:cubicBezTo>
                <a:cubicBezTo>
                  <a:pt x="490343" y="4297449"/>
                  <a:pt x="505148" y="4297296"/>
                  <a:pt x="518546" y="4300645"/>
                </a:cubicBezTo>
                <a:cubicBezTo>
                  <a:pt x="589607" y="4348020"/>
                  <a:pt x="501613" y="4288551"/>
                  <a:pt x="588885" y="4350887"/>
                </a:cubicBezTo>
                <a:cubicBezTo>
                  <a:pt x="598712" y="4357906"/>
                  <a:pt x="609753" y="4363252"/>
                  <a:pt x="619030" y="4370983"/>
                </a:cubicBezTo>
                <a:cubicBezTo>
                  <a:pt x="706673" y="4444020"/>
                  <a:pt x="584001" y="4356012"/>
                  <a:pt x="689368" y="4431274"/>
                </a:cubicBezTo>
                <a:cubicBezTo>
                  <a:pt x="794148" y="4506116"/>
                  <a:pt x="637064" y="4387686"/>
                  <a:pt x="749658" y="4481515"/>
                </a:cubicBezTo>
                <a:cubicBezTo>
                  <a:pt x="792771" y="4517443"/>
                  <a:pt x="769917" y="4483720"/>
                  <a:pt x="809948" y="4531757"/>
                </a:cubicBezTo>
                <a:cubicBezTo>
                  <a:pt x="817679" y="4541035"/>
                  <a:pt x="823026" y="4552075"/>
                  <a:pt x="830045" y="4561902"/>
                </a:cubicBezTo>
                <a:cubicBezTo>
                  <a:pt x="892364" y="4649148"/>
                  <a:pt x="832925" y="4561199"/>
                  <a:pt x="880287" y="4632241"/>
                </a:cubicBezTo>
                <a:cubicBezTo>
                  <a:pt x="891040" y="4675256"/>
                  <a:pt x="891877" y="4675894"/>
                  <a:pt x="900383" y="4722676"/>
                </a:cubicBezTo>
                <a:cubicBezTo>
                  <a:pt x="916807" y="4813006"/>
                  <a:pt x="902709" y="4752072"/>
                  <a:pt x="920480" y="4823159"/>
                </a:cubicBezTo>
                <a:cubicBezTo>
                  <a:pt x="917131" y="4883449"/>
                  <a:pt x="922747" y="4944916"/>
                  <a:pt x="910432" y="5004030"/>
                </a:cubicBezTo>
                <a:cubicBezTo>
                  <a:pt x="905506" y="5027676"/>
                  <a:pt x="883636" y="5044223"/>
                  <a:pt x="870238" y="5064320"/>
                </a:cubicBezTo>
                <a:lnTo>
                  <a:pt x="830045" y="5124610"/>
                </a:lnTo>
                <a:cubicBezTo>
                  <a:pt x="819997" y="5131309"/>
                  <a:pt x="810702" y="5139306"/>
                  <a:pt x="799900" y="5144707"/>
                </a:cubicBezTo>
                <a:cubicBezTo>
                  <a:pt x="790426" y="5149444"/>
                  <a:pt x="780031" y="5152186"/>
                  <a:pt x="769755" y="5154755"/>
                </a:cubicBezTo>
                <a:cubicBezTo>
                  <a:pt x="753186" y="5158897"/>
                  <a:pt x="736260" y="5161454"/>
                  <a:pt x="719513" y="5164803"/>
                </a:cubicBezTo>
                <a:cubicBezTo>
                  <a:pt x="706115" y="5171502"/>
                  <a:pt x="692325" y="5177468"/>
                  <a:pt x="679320" y="5184900"/>
                </a:cubicBezTo>
                <a:cubicBezTo>
                  <a:pt x="668835" y="5190892"/>
                  <a:pt x="661017" y="5202629"/>
                  <a:pt x="649175" y="5204997"/>
                </a:cubicBezTo>
                <a:cubicBezTo>
                  <a:pt x="627832" y="5209266"/>
                  <a:pt x="382300" y="5224798"/>
                  <a:pt x="377869" y="5225093"/>
                </a:cubicBezTo>
                <a:cubicBezTo>
                  <a:pt x="324811" y="5242780"/>
                  <a:pt x="356536" y="5229267"/>
                  <a:pt x="287434" y="5275335"/>
                </a:cubicBezTo>
                <a:cubicBezTo>
                  <a:pt x="277386" y="5282034"/>
                  <a:pt x="268746" y="5291613"/>
                  <a:pt x="257289" y="5295432"/>
                </a:cubicBezTo>
                <a:lnTo>
                  <a:pt x="227144" y="5305480"/>
                </a:lnTo>
                <a:cubicBezTo>
                  <a:pt x="158315" y="5374309"/>
                  <a:pt x="182619" y="5342122"/>
                  <a:pt x="146757" y="5395915"/>
                </a:cubicBezTo>
                <a:cubicBezTo>
                  <a:pt x="150106" y="5432759"/>
                  <a:pt x="152216" y="5469737"/>
                  <a:pt x="156805" y="5506447"/>
                </a:cubicBezTo>
                <a:cubicBezTo>
                  <a:pt x="169211" y="5605697"/>
                  <a:pt x="161280" y="5516535"/>
                  <a:pt x="176902" y="5586834"/>
                </a:cubicBezTo>
                <a:cubicBezTo>
                  <a:pt x="178725" y="5595037"/>
                  <a:pt x="185690" y="5660306"/>
                  <a:pt x="196999" y="5677269"/>
                </a:cubicBezTo>
                <a:cubicBezTo>
                  <a:pt x="204882" y="5689093"/>
                  <a:pt x="215320" y="5699531"/>
                  <a:pt x="227144" y="5707414"/>
                </a:cubicBezTo>
                <a:cubicBezTo>
                  <a:pt x="235957" y="5713289"/>
                  <a:pt x="247241" y="5714113"/>
                  <a:pt x="257289" y="5717463"/>
                </a:cubicBezTo>
                <a:cubicBezTo>
                  <a:pt x="260638" y="5730861"/>
                  <a:pt x="253939" y="5754307"/>
                  <a:pt x="267337" y="5757656"/>
                </a:cubicBezTo>
                <a:cubicBezTo>
                  <a:pt x="281123" y="5761102"/>
                  <a:pt x="285060" y="5734412"/>
                  <a:pt x="297482" y="5727511"/>
                </a:cubicBezTo>
                <a:cubicBezTo>
                  <a:pt x="316000" y="5717223"/>
                  <a:pt x="337676" y="5714113"/>
                  <a:pt x="357773" y="5707414"/>
                </a:cubicBezTo>
                <a:lnTo>
                  <a:pt x="387918" y="5697366"/>
                </a:lnTo>
                <a:cubicBezTo>
                  <a:pt x="396957" y="5670248"/>
                  <a:pt x="407544" y="5656467"/>
                  <a:pt x="387918" y="5627027"/>
                </a:cubicBezTo>
                <a:cubicBezTo>
                  <a:pt x="381219" y="5616979"/>
                  <a:pt x="367821" y="5613630"/>
                  <a:pt x="357773" y="5606931"/>
                </a:cubicBezTo>
                <a:cubicBezTo>
                  <a:pt x="344546" y="5567253"/>
                  <a:pt x="347724" y="5587378"/>
                  <a:pt x="347724" y="5546641"/>
                </a:cubicBezTo>
              </a:path>
            </a:pathLst>
          </a:custGeom>
          <a:solidFill>
            <a:srgbClr val="003300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Полилиния 83"/>
          <p:cNvGrpSpPr/>
          <p:nvPr/>
        </p:nvGrpSpPr>
        <p:grpSpPr>
          <a:xfrm>
            <a:off x="6888240" y="30240"/>
            <a:ext cx="1469880" cy="6261120"/>
            <a:chOff x="6888240" y="30240"/>
            <a:chExt cx="1469880" cy="6261120"/>
          </a:xfrm>
        </p:grpSpPr>
        <p:pic>
          <p:nvPicPr>
            <p:cNvPr id="141" name="Полилиния 83" descr=""/>
            <p:cNvPicPr/>
            <p:nvPr/>
          </p:nvPicPr>
          <p:blipFill>
            <a:blip r:embed="rId19"/>
            <a:stretch/>
          </p:blipFill>
          <p:spPr>
            <a:xfrm>
              <a:off x="6888240" y="30240"/>
              <a:ext cx="1469880" cy="626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34120" y="262080"/>
              <a:ext cx="998640" cy="57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Полилиния 84"/>
          <p:cNvGrpSpPr/>
          <p:nvPr/>
        </p:nvGrpSpPr>
        <p:grpSpPr>
          <a:xfrm>
            <a:off x="7107120" y="285840"/>
            <a:ext cx="957240" cy="5823000"/>
            <a:chOff x="7107120" y="285840"/>
            <a:chExt cx="957240" cy="5823000"/>
          </a:xfrm>
        </p:grpSpPr>
        <p:pic>
          <p:nvPicPr>
            <p:cNvPr id="144" name="Полилиния 84" descr=""/>
            <p:cNvPicPr/>
            <p:nvPr/>
          </p:nvPicPr>
          <p:blipFill>
            <a:blip r:embed="rId20"/>
            <a:stretch/>
          </p:blipFill>
          <p:spPr>
            <a:xfrm>
              <a:off x="7107120" y="285840"/>
              <a:ext cx="957240" cy="58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194600" y="316080"/>
              <a:ext cx="806400" cy="57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Полилиния 85"/>
          <p:cNvSpPr/>
          <p:nvPr/>
        </p:nvSpPr>
        <p:spPr>
          <a:xfrm>
            <a:off x="4140360" y="1003320"/>
            <a:ext cx="290520" cy="3006720"/>
          </a:xfrm>
          <a:custGeom>
            <a:avLst/>
            <a:gdLst/>
            <a:ahLst/>
            <a:rect l="l" t="t" r="r" b="b"/>
            <a:pathLst>
              <a:path w="291402" h="3006509">
                <a:moveTo>
                  <a:pt x="160774" y="3006509"/>
                </a:moveTo>
                <a:lnTo>
                  <a:pt x="120580" y="2946219"/>
                </a:lnTo>
                <a:lnTo>
                  <a:pt x="100483" y="2916074"/>
                </a:lnTo>
                <a:cubicBezTo>
                  <a:pt x="97134" y="2906026"/>
                  <a:pt x="95172" y="2895403"/>
                  <a:pt x="90435" y="2885929"/>
                </a:cubicBezTo>
                <a:cubicBezTo>
                  <a:pt x="51477" y="2808013"/>
                  <a:pt x="85546" y="2901409"/>
                  <a:pt x="60290" y="2825639"/>
                </a:cubicBezTo>
                <a:cubicBezTo>
                  <a:pt x="63639" y="2782096"/>
                  <a:pt x="59086" y="2737207"/>
                  <a:pt x="70338" y="2695010"/>
                </a:cubicBezTo>
                <a:cubicBezTo>
                  <a:pt x="73450" y="2683341"/>
                  <a:pt x="94082" y="2685155"/>
                  <a:pt x="100483" y="2674914"/>
                </a:cubicBezTo>
                <a:cubicBezTo>
                  <a:pt x="111711" y="2656950"/>
                  <a:pt x="120580" y="2614624"/>
                  <a:pt x="120580" y="2614624"/>
                </a:cubicBezTo>
                <a:cubicBezTo>
                  <a:pt x="117231" y="2584479"/>
                  <a:pt x="119452" y="2553178"/>
                  <a:pt x="110532" y="2524188"/>
                </a:cubicBezTo>
                <a:cubicBezTo>
                  <a:pt x="105607" y="2508181"/>
                  <a:pt x="88696" y="2498536"/>
                  <a:pt x="80387" y="2483995"/>
                </a:cubicBezTo>
                <a:cubicBezTo>
                  <a:pt x="75132" y="2474799"/>
                  <a:pt x="75075" y="2463324"/>
                  <a:pt x="70338" y="2453850"/>
                </a:cubicBezTo>
                <a:cubicBezTo>
                  <a:pt x="64937" y="2443048"/>
                  <a:pt x="55147" y="2434741"/>
                  <a:pt x="50242" y="2423705"/>
                </a:cubicBezTo>
                <a:cubicBezTo>
                  <a:pt x="41639" y="2404347"/>
                  <a:pt x="30145" y="2363415"/>
                  <a:pt x="30145" y="2363415"/>
                </a:cubicBezTo>
                <a:cubicBezTo>
                  <a:pt x="33494" y="2229437"/>
                  <a:pt x="25711" y="2094716"/>
                  <a:pt x="40193" y="1961481"/>
                </a:cubicBezTo>
                <a:cubicBezTo>
                  <a:pt x="42803" y="1937469"/>
                  <a:pt x="63308" y="1918270"/>
                  <a:pt x="80387" y="1901191"/>
                </a:cubicBezTo>
                <a:lnTo>
                  <a:pt x="140677" y="1840901"/>
                </a:lnTo>
                <a:cubicBezTo>
                  <a:pt x="150725" y="1830852"/>
                  <a:pt x="162939" y="1822579"/>
                  <a:pt x="170822" y="1810755"/>
                </a:cubicBezTo>
                <a:lnTo>
                  <a:pt x="190919" y="1780610"/>
                </a:lnTo>
                <a:cubicBezTo>
                  <a:pt x="219460" y="1694985"/>
                  <a:pt x="211505" y="1731097"/>
                  <a:pt x="190919" y="1559547"/>
                </a:cubicBezTo>
                <a:cubicBezTo>
                  <a:pt x="188395" y="1538514"/>
                  <a:pt x="177521" y="1519354"/>
                  <a:pt x="170822" y="1499257"/>
                </a:cubicBezTo>
                <a:cubicBezTo>
                  <a:pt x="170821" y="1499253"/>
                  <a:pt x="150727" y="1438969"/>
                  <a:pt x="150725" y="1438966"/>
                </a:cubicBezTo>
                <a:lnTo>
                  <a:pt x="130628" y="1408821"/>
                </a:lnTo>
                <a:cubicBezTo>
                  <a:pt x="127279" y="1395423"/>
                  <a:pt x="124374" y="1381907"/>
                  <a:pt x="120580" y="1368628"/>
                </a:cubicBezTo>
                <a:cubicBezTo>
                  <a:pt x="117670" y="1358444"/>
                  <a:pt x="110532" y="1349075"/>
                  <a:pt x="110532" y="1338483"/>
                </a:cubicBezTo>
                <a:cubicBezTo>
                  <a:pt x="110532" y="1306697"/>
                  <a:pt x="132600" y="1299943"/>
                  <a:pt x="150725" y="1278193"/>
                </a:cubicBezTo>
                <a:cubicBezTo>
                  <a:pt x="220673" y="1194255"/>
                  <a:pt x="112898" y="1305972"/>
                  <a:pt x="200967" y="1217903"/>
                </a:cubicBezTo>
                <a:cubicBezTo>
                  <a:pt x="226465" y="1141410"/>
                  <a:pt x="225219" y="1178385"/>
                  <a:pt x="211015" y="1107371"/>
                </a:cubicBezTo>
                <a:cubicBezTo>
                  <a:pt x="207666" y="1063828"/>
                  <a:pt x="209015" y="1019666"/>
                  <a:pt x="200967" y="976742"/>
                </a:cubicBezTo>
                <a:cubicBezTo>
                  <a:pt x="182366" y="877538"/>
                  <a:pt x="162987" y="1036006"/>
                  <a:pt x="190919" y="896355"/>
                </a:cubicBezTo>
                <a:cubicBezTo>
                  <a:pt x="187569" y="869560"/>
                  <a:pt x="185701" y="842537"/>
                  <a:pt x="180870" y="815969"/>
                </a:cubicBezTo>
                <a:cubicBezTo>
                  <a:pt x="178975" y="805548"/>
                  <a:pt x="170822" y="796416"/>
                  <a:pt x="170822" y="785824"/>
                </a:cubicBezTo>
                <a:cubicBezTo>
                  <a:pt x="170822" y="775232"/>
                  <a:pt x="177521" y="765727"/>
                  <a:pt x="180870" y="755679"/>
                </a:cubicBezTo>
                <a:cubicBezTo>
                  <a:pt x="177651" y="742802"/>
                  <a:pt x="167982" y="699755"/>
                  <a:pt x="160774" y="685340"/>
                </a:cubicBezTo>
                <a:cubicBezTo>
                  <a:pt x="155373" y="674538"/>
                  <a:pt x="147376" y="665243"/>
                  <a:pt x="140677" y="655195"/>
                </a:cubicBezTo>
                <a:cubicBezTo>
                  <a:pt x="144026" y="631749"/>
                  <a:pt x="146080" y="608081"/>
                  <a:pt x="150725" y="584857"/>
                </a:cubicBezTo>
                <a:cubicBezTo>
                  <a:pt x="155653" y="560220"/>
                  <a:pt x="169979" y="536300"/>
                  <a:pt x="180870" y="514518"/>
                </a:cubicBezTo>
                <a:cubicBezTo>
                  <a:pt x="184220" y="484373"/>
                  <a:pt x="183563" y="453508"/>
                  <a:pt x="190919" y="424083"/>
                </a:cubicBezTo>
                <a:cubicBezTo>
                  <a:pt x="193848" y="412367"/>
                  <a:pt x="205614" y="404740"/>
                  <a:pt x="211015" y="393938"/>
                </a:cubicBezTo>
                <a:cubicBezTo>
                  <a:pt x="215752" y="384464"/>
                  <a:pt x="217714" y="373841"/>
                  <a:pt x="221064" y="363793"/>
                </a:cubicBezTo>
                <a:cubicBezTo>
                  <a:pt x="214158" y="329264"/>
                  <a:pt x="210426" y="306465"/>
                  <a:pt x="200967" y="273358"/>
                </a:cubicBezTo>
                <a:cubicBezTo>
                  <a:pt x="198057" y="263174"/>
                  <a:pt x="194268" y="253261"/>
                  <a:pt x="190919" y="243213"/>
                </a:cubicBezTo>
                <a:cubicBezTo>
                  <a:pt x="194268" y="196321"/>
                  <a:pt x="195474" y="149226"/>
                  <a:pt x="200967" y="102536"/>
                </a:cubicBezTo>
                <a:cubicBezTo>
                  <a:pt x="202205" y="92017"/>
                  <a:pt x="205871" y="81650"/>
                  <a:pt x="211015" y="72391"/>
                </a:cubicBezTo>
                <a:cubicBezTo>
                  <a:pt x="222745" y="51277"/>
                  <a:pt x="237811" y="32198"/>
                  <a:pt x="251209" y="12101"/>
                </a:cubicBezTo>
                <a:lnTo>
                  <a:pt x="231112" y="42246"/>
                </a:lnTo>
                <a:cubicBezTo>
                  <a:pt x="175016" y="210539"/>
                  <a:pt x="241916" y="0"/>
                  <a:pt x="211015" y="494421"/>
                </a:cubicBezTo>
                <a:cubicBezTo>
                  <a:pt x="209694" y="515564"/>
                  <a:pt x="190919" y="554712"/>
                  <a:pt x="190919" y="554712"/>
                </a:cubicBezTo>
                <a:cubicBezTo>
                  <a:pt x="187569" y="641798"/>
                  <a:pt x="180870" y="728819"/>
                  <a:pt x="180870" y="815969"/>
                </a:cubicBezTo>
                <a:cubicBezTo>
                  <a:pt x="180870" y="846300"/>
                  <a:pt x="180554" y="877900"/>
                  <a:pt x="190919" y="906404"/>
                </a:cubicBezTo>
                <a:cubicBezTo>
                  <a:pt x="195046" y="917754"/>
                  <a:pt x="211016" y="919802"/>
                  <a:pt x="221064" y="926501"/>
                </a:cubicBezTo>
                <a:cubicBezTo>
                  <a:pt x="217714" y="959995"/>
                  <a:pt x="216134" y="993714"/>
                  <a:pt x="211015" y="1026984"/>
                </a:cubicBezTo>
                <a:cubicBezTo>
                  <a:pt x="209404" y="1037453"/>
                  <a:pt x="200967" y="1046537"/>
                  <a:pt x="200967" y="1057129"/>
                </a:cubicBezTo>
                <a:cubicBezTo>
                  <a:pt x="200967" y="1070939"/>
                  <a:pt x="207221" y="1084043"/>
                  <a:pt x="211015" y="1097322"/>
                </a:cubicBezTo>
                <a:cubicBezTo>
                  <a:pt x="221415" y="1133723"/>
                  <a:pt x="219142" y="1124585"/>
                  <a:pt x="241160" y="1157613"/>
                </a:cubicBezTo>
                <a:cubicBezTo>
                  <a:pt x="233201" y="1205369"/>
                  <a:pt x="239998" y="1215442"/>
                  <a:pt x="211015" y="1248048"/>
                </a:cubicBezTo>
                <a:cubicBezTo>
                  <a:pt x="192133" y="1269290"/>
                  <a:pt x="150725" y="1308338"/>
                  <a:pt x="150725" y="1308338"/>
                </a:cubicBezTo>
                <a:cubicBezTo>
                  <a:pt x="136351" y="1351462"/>
                  <a:pt x="136867" y="1333295"/>
                  <a:pt x="150725" y="1388725"/>
                </a:cubicBezTo>
                <a:cubicBezTo>
                  <a:pt x="153294" y="1399001"/>
                  <a:pt x="154157" y="1410599"/>
                  <a:pt x="160774" y="1418870"/>
                </a:cubicBezTo>
                <a:cubicBezTo>
                  <a:pt x="168318" y="1428300"/>
                  <a:pt x="180871" y="1432267"/>
                  <a:pt x="190919" y="1438966"/>
                </a:cubicBezTo>
                <a:cubicBezTo>
                  <a:pt x="200714" y="1452026"/>
                  <a:pt x="239814" y="1499168"/>
                  <a:pt x="241160" y="1519353"/>
                </a:cubicBezTo>
                <a:cubicBezTo>
                  <a:pt x="243621" y="1556267"/>
                  <a:pt x="238864" y="1593710"/>
                  <a:pt x="231112" y="1629885"/>
                </a:cubicBezTo>
                <a:cubicBezTo>
                  <a:pt x="228582" y="1641694"/>
                  <a:pt x="217714" y="1649982"/>
                  <a:pt x="211015" y="1660030"/>
                </a:cubicBezTo>
                <a:cubicBezTo>
                  <a:pt x="187226" y="1731398"/>
                  <a:pt x="183886" y="1728867"/>
                  <a:pt x="211015" y="1850949"/>
                </a:cubicBezTo>
                <a:cubicBezTo>
                  <a:pt x="213635" y="1862738"/>
                  <a:pt x="231112" y="1864347"/>
                  <a:pt x="241160" y="1871046"/>
                </a:cubicBezTo>
                <a:cubicBezTo>
                  <a:pt x="247859" y="1881094"/>
                  <a:pt x="252717" y="1892652"/>
                  <a:pt x="261257" y="1901191"/>
                </a:cubicBezTo>
                <a:cubicBezTo>
                  <a:pt x="269796" y="1909730"/>
                  <a:pt x="291402" y="1909211"/>
                  <a:pt x="291402" y="1921287"/>
                </a:cubicBezTo>
                <a:cubicBezTo>
                  <a:pt x="291402" y="1931879"/>
                  <a:pt x="271805" y="1930377"/>
                  <a:pt x="261257" y="1931336"/>
                </a:cubicBezTo>
                <a:cubicBezTo>
                  <a:pt x="197791" y="1937106"/>
                  <a:pt x="133978" y="1938035"/>
                  <a:pt x="70338" y="1941384"/>
                </a:cubicBezTo>
                <a:cubicBezTo>
                  <a:pt x="63639" y="1951432"/>
                  <a:pt x="57261" y="1961702"/>
                  <a:pt x="50242" y="1971529"/>
                </a:cubicBezTo>
                <a:cubicBezTo>
                  <a:pt x="40508" y="1985157"/>
                  <a:pt x="28406" y="1997181"/>
                  <a:pt x="20097" y="2011722"/>
                </a:cubicBezTo>
                <a:cubicBezTo>
                  <a:pt x="14842" y="2020919"/>
                  <a:pt x="13398" y="2031819"/>
                  <a:pt x="10048" y="2041868"/>
                </a:cubicBezTo>
                <a:cubicBezTo>
                  <a:pt x="13398" y="2078712"/>
                  <a:pt x="12345" y="2116225"/>
                  <a:pt x="20097" y="2152399"/>
                </a:cubicBezTo>
                <a:cubicBezTo>
                  <a:pt x="22627" y="2164207"/>
                  <a:pt x="38859" y="2170541"/>
                  <a:pt x="40193" y="2182544"/>
                </a:cubicBezTo>
                <a:cubicBezTo>
                  <a:pt x="46385" y="2238276"/>
                  <a:pt x="31595" y="2241385"/>
                  <a:pt x="0" y="2272980"/>
                </a:cubicBezTo>
                <a:cubicBezTo>
                  <a:pt x="3349" y="2293077"/>
                  <a:pt x="1773" y="2314652"/>
                  <a:pt x="10048" y="2333270"/>
                </a:cubicBezTo>
                <a:cubicBezTo>
                  <a:pt x="15819" y="2346256"/>
                  <a:pt x="29276" y="2354318"/>
                  <a:pt x="40193" y="2363415"/>
                </a:cubicBezTo>
                <a:cubicBezTo>
                  <a:pt x="66166" y="2385059"/>
                  <a:pt x="70270" y="2383489"/>
                  <a:pt x="100483" y="2393560"/>
                </a:cubicBezTo>
                <a:cubicBezTo>
                  <a:pt x="103833" y="2406958"/>
                  <a:pt x="110532" y="2419943"/>
                  <a:pt x="110532" y="2433753"/>
                </a:cubicBezTo>
                <a:cubicBezTo>
                  <a:pt x="110532" y="2498770"/>
                  <a:pt x="87250" y="2569531"/>
                  <a:pt x="110532" y="2634720"/>
                </a:cubicBezTo>
                <a:cubicBezTo>
                  <a:pt x="118656" y="2657466"/>
                  <a:pt x="150725" y="2695010"/>
                  <a:pt x="150725" y="2695010"/>
                </a:cubicBezTo>
                <a:cubicBezTo>
                  <a:pt x="147376" y="2708408"/>
                  <a:pt x="147529" y="2723213"/>
                  <a:pt x="140677" y="2735204"/>
                </a:cubicBezTo>
                <a:cubicBezTo>
                  <a:pt x="122967" y="2766197"/>
                  <a:pt x="109163" y="2765805"/>
                  <a:pt x="80387" y="2775397"/>
                </a:cubicBezTo>
                <a:cubicBezTo>
                  <a:pt x="70339" y="2782096"/>
                  <a:pt x="53560" y="2783882"/>
                  <a:pt x="50242" y="2795494"/>
                </a:cubicBezTo>
                <a:cubicBezTo>
                  <a:pt x="45550" y="2811916"/>
                  <a:pt x="56148" y="2829167"/>
                  <a:pt x="60290" y="2845736"/>
                </a:cubicBezTo>
                <a:cubicBezTo>
                  <a:pt x="68610" y="2879018"/>
                  <a:pt x="70787" y="2876554"/>
                  <a:pt x="90435" y="2906026"/>
                </a:cubicBezTo>
                <a:cubicBezTo>
                  <a:pt x="79730" y="2959553"/>
                  <a:pt x="97466" y="2956268"/>
                  <a:pt x="70338" y="2956268"/>
                </a:cubicBezTo>
              </a:path>
            </a:pathLst>
          </a:custGeom>
          <a:solidFill>
            <a:srgbClr val="003300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олилиния 86"/>
          <p:cNvSpPr/>
          <p:nvPr/>
        </p:nvSpPr>
        <p:spPr>
          <a:xfrm>
            <a:off x="4010040" y="735120"/>
            <a:ext cx="270000" cy="3301920"/>
          </a:xfrm>
          <a:custGeom>
            <a:avLst/>
            <a:gdLst/>
            <a:ahLst/>
            <a:rect l="l" t="t" r="r" b="b"/>
            <a:pathLst>
              <a:path w="270112" h="3301246">
                <a:moveTo>
                  <a:pt x="251209" y="3263961"/>
                </a:moveTo>
                <a:cubicBezTo>
                  <a:pt x="177765" y="3214998"/>
                  <a:pt x="270112" y="3274763"/>
                  <a:pt x="180871" y="3223768"/>
                </a:cubicBezTo>
                <a:cubicBezTo>
                  <a:pt x="170386" y="3217776"/>
                  <a:pt x="160774" y="3210370"/>
                  <a:pt x="150726" y="3203671"/>
                </a:cubicBezTo>
                <a:cubicBezTo>
                  <a:pt x="101017" y="3054553"/>
                  <a:pt x="180035" y="3301246"/>
                  <a:pt x="130629" y="2831882"/>
                </a:cubicBezTo>
                <a:cubicBezTo>
                  <a:pt x="128876" y="2815227"/>
                  <a:pt x="110218" y="2805316"/>
                  <a:pt x="100484" y="2791688"/>
                </a:cubicBezTo>
                <a:cubicBezTo>
                  <a:pt x="93465" y="2781861"/>
                  <a:pt x="87086" y="2771591"/>
                  <a:pt x="80387" y="2761543"/>
                </a:cubicBezTo>
                <a:cubicBezTo>
                  <a:pt x="87086" y="2741446"/>
                  <a:pt x="101190" y="2722425"/>
                  <a:pt x="100484" y="2701253"/>
                </a:cubicBezTo>
                <a:cubicBezTo>
                  <a:pt x="90082" y="2389217"/>
                  <a:pt x="122227" y="2495183"/>
                  <a:pt x="80387" y="2369658"/>
                </a:cubicBezTo>
                <a:cubicBezTo>
                  <a:pt x="83736" y="2316067"/>
                  <a:pt x="82470" y="2261986"/>
                  <a:pt x="90435" y="2208884"/>
                </a:cubicBezTo>
                <a:cubicBezTo>
                  <a:pt x="92657" y="2194071"/>
                  <a:pt x="104969" y="2182599"/>
                  <a:pt x="110532" y="2168691"/>
                </a:cubicBezTo>
                <a:cubicBezTo>
                  <a:pt x="118400" y="2149022"/>
                  <a:pt x="130629" y="2108401"/>
                  <a:pt x="130629" y="2108401"/>
                </a:cubicBezTo>
                <a:cubicBezTo>
                  <a:pt x="127280" y="2048111"/>
                  <a:pt x="128071" y="1987447"/>
                  <a:pt x="120581" y="1927530"/>
                </a:cubicBezTo>
                <a:cubicBezTo>
                  <a:pt x="115402" y="1886101"/>
                  <a:pt x="91935" y="1850934"/>
                  <a:pt x="70339" y="1816998"/>
                </a:cubicBezTo>
                <a:cubicBezTo>
                  <a:pt x="57372" y="1796621"/>
                  <a:pt x="39115" y="1779134"/>
                  <a:pt x="30145" y="1756708"/>
                </a:cubicBezTo>
                <a:cubicBezTo>
                  <a:pt x="4920" y="1693644"/>
                  <a:pt x="14424" y="1723965"/>
                  <a:pt x="0" y="1666273"/>
                </a:cubicBezTo>
                <a:cubicBezTo>
                  <a:pt x="3350" y="1639477"/>
                  <a:pt x="966" y="1611317"/>
                  <a:pt x="10049" y="1585886"/>
                </a:cubicBezTo>
                <a:cubicBezTo>
                  <a:pt x="29097" y="1532553"/>
                  <a:pt x="50242" y="1531625"/>
                  <a:pt x="80387" y="1495451"/>
                </a:cubicBezTo>
                <a:cubicBezTo>
                  <a:pt x="88118" y="1486173"/>
                  <a:pt x="92753" y="1474584"/>
                  <a:pt x="100484" y="1465306"/>
                </a:cubicBezTo>
                <a:cubicBezTo>
                  <a:pt x="164959" y="1387937"/>
                  <a:pt x="100829" y="1479860"/>
                  <a:pt x="150726" y="1405016"/>
                </a:cubicBezTo>
                <a:cubicBezTo>
                  <a:pt x="154075" y="1394968"/>
                  <a:pt x="160133" y="1385443"/>
                  <a:pt x="160774" y="1374871"/>
                </a:cubicBezTo>
                <a:cubicBezTo>
                  <a:pt x="166421" y="1281700"/>
                  <a:pt x="157825" y="1118308"/>
                  <a:pt x="180871" y="1003082"/>
                </a:cubicBezTo>
                <a:cubicBezTo>
                  <a:pt x="182948" y="992696"/>
                  <a:pt x="187570" y="982985"/>
                  <a:pt x="190919" y="972937"/>
                </a:cubicBezTo>
                <a:cubicBezTo>
                  <a:pt x="187570" y="952840"/>
                  <a:pt x="187314" y="931975"/>
                  <a:pt x="180871" y="912647"/>
                </a:cubicBezTo>
                <a:cubicBezTo>
                  <a:pt x="177052" y="901190"/>
                  <a:pt x="164244" y="894069"/>
                  <a:pt x="160774" y="882502"/>
                </a:cubicBezTo>
                <a:cubicBezTo>
                  <a:pt x="125505" y="764939"/>
                  <a:pt x="175853" y="849853"/>
                  <a:pt x="130629" y="782018"/>
                </a:cubicBezTo>
                <a:cubicBezTo>
                  <a:pt x="127280" y="771970"/>
                  <a:pt x="120581" y="762465"/>
                  <a:pt x="120581" y="751873"/>
                </a:cubicBezTo>
                <a:cubicBezTo>
                  <a:pt x="120581" y="708413"/>
                  <a:pt x="129935" y="702672"/>
                  <a:pt x="150726" y="671486"/>
                </a:cubicBezTo>
                <a:cubicBezTo>
                  <a:pt x="127280" y="601148"/>
                  <a:pt x="123930" y="631293"/>
                  <a:pt x="140677" y="581051"/>
                </a:cubicBezTo>
                <a:cubicBezTo>
                  <a:pt x="137328" y="527460"/>
                  <a:pt x="135972" y="473706"/>
                  <a:pt x="130629" y="420277"/>
                </a:cubicBezTo>
                <a:cubicBezTo>
                  <a:pt x="128826" y="402248"/>
                  <a:pt x="116654" y="368304"/>
                  <a:pt x="110532" y="349939"/>
                </a:cubicBezTo>
                <a:cubicBezTo>
                  <a:pt x="113882" y="306396"/>
                  <a:pt x="115478" y="262683"/>
                  <a:pt x="120581" y="219310"/>
                </a:cubicBezTo>
                <a:cubicBezTo>
                  <a:pt x="122195" y="205595"/>
                  <a:pt x="128916" y="192820"/>
                  <a:pt x="130629" y="179117"/>
                </a:cubicBezTo>
                <a:cubicBezTo>
                  <a:pt x="153018" y="0"/>
                  <a:pt x="127061" y="112996"/>
                  <a:pt x="150726" y="18343"/>
                </a:cubicBezTo>
                <a:cubicBezTo>
                  <a:pt x="154075" y="28391"/>
                  <a:pt x="161944" y="37961"/>
                  <a:pt x="160774" y="48488"/>
                </a:cubicBezTo>
                <a:cubicBezTo>
                  <a:pt x="158434" y="69543"/>
                  <a:pt x="140677" y="108779"/>
                  <a:pt x="140677" y="108779"/>
                </a:cubicBezTo>
                <a:cubicBezTo>
                  <a:pt x="144027" y="175768"/>
                  <a:pt x="145156" y="242905"/>
                  <a:pt x="150726" y="309746"/>
                </a:cubicBezTo>
                <a:cubicBezTo>
                  <a:pt x="152128" y="326569"/>
                  <a:pt x="165009" y="362643"/>
                  <a:pt x="170822" y="380084"/>
                </a:cubicBezTo>
                <a:cubicBezTo>
                  <a:pt x="174172" y="477218"/>
                  <a:pt x="174808" y="574484"/>
                  <a:pt x="180871" y="671486"/>
                </a:cubicBezTo>
                <a:cubicBezTo>
                  <a:pt x="181532" y="682057"/>
                  <a:pt x="190919" y="691039"/>
                  <a:pt x="190919" y="701631"/>
                </a:cubicBezTo>
                <a:cubicBezTo>
                  <a:pt x="190919" y="720153"/>
                  <a:pt x="183198" y="777364"/>
                  <a:pt x="170822" y="802115"/>
                </a:cubicBezTo>
                <a:cubicBezTo>
                  <a:pt x="165421" y="812917"/>
                  <a:pt x="157425" y="822212"/>
                  <a:pt x="150726" y="832260"/>
                </a:cubicBezTo>
                <a:cubicBezTo>
                  <a:pt x="173189" y="1034431"/>
                  <a:pt x="147256" y="858577"/>
                  <a:pt x="170822" y="952840"/>
                </a:cubicBezTo>
                <a:cubicBezTo>
                  <a:pt x="174964" y="969409"/>
                  <a:pt x="174874" y="987090"/>
                  <a:pt x="180871" y="1003082"/>
                </a:cubicBezTo>
                <a:cubicBezTo>
                  <a:pt x="185111" y="1014390"/>
                  <a:pt x="194268" y="1023179"/>
                  <a:pt x="200967" y="1033227"/>
                </a:cubicBezTo>
                <a:cubicBezTo>
                  <a:pt x="197618" y="1120313"/>
                  <a:pt x="196915" y="1207540"/>
                  <a:pt x="190919" y="1294484"/>
                </a:cubicBezTo>
                <a:cubicBezTo>
                  <a:pt x="190190" y="1305051"/>
                  <a:pt x="183440" y="1314353"/>
                  <a:pt x="180871" y="1324629"/>
                </a:cubicBezTo>
                <a:cubicBezTo>
                  <a:pt x="176729" y="1341198"/>
                  <a:pt x="174527" y="1358199"/>
                  <a:pt x="170822" y="1374871"/>
                </a:cubicBezTo>
                <a:cubicBezTo>
                  <a:pt x="167826" y="1388352"/>
                  <a:pt x="164123" y="1401666"/>
                  <a:pt x="160774" y="1415064"/>
                </a:cubicBezTo>
                <a:cubicBezTo>
                  <a:pt x="157425" y="1455257"/>
                  <a:pt x="168763" y="1499569"/>
                  <a:pt x="150726" y="1535644"/>
                </a:cubicBezTo>
                <a:cubicBezTo>
                  <a:pt x="141252" y="1554592"/>
                  <a:pt x="90435" y="1555741"/>
                  <a:pt x="90435" y="1555741"/>
                </a:cubicBezTo>
                <a:cubicBezTo>
                  <a:pt x="80387" y="1562440"/>
                  <a:pt x="67834" y="1566408"/>
                  <a:pt x="60290" y="1575838"/>
                </a:cubicBezTo>
                <a:cubicBezTo>
                  <a:pt x="53673" y="1584109"/>
                  <a:pt x="50242" y="1595391"/>
                  <a:pt x="50242" y="1605983"/>
                </a:cubicBezTo>
                <a:cubicBezTo>
                  <a:pt x="50242" y="1646316"/>
                  <a:pt x="55287" y="1686542"/>
                  <a:pt x="60290" y="1726563"/>
                </a:cubicBezTo>
                <a:cubicBezTo>
                  <a:pt x="62003" y="1740267"/>
                  <a:pt x="62678" y="1755266"/>
                  <a:pt x="70339" y="1766757"/>
                </a:cubicBezTo>
                <a:cubicBezTo>
                  <a:pt x="77038" y="1776805"/>
                  <a:pt x="90436" y="1780154"/>
                  <a:pt x="100484" y="1786853"/>
                </a:cubicBezTo>
                <a:cubicBezTo>
                  <a:pt x="132333" y="1834625"/>
                  <a:pt x="116761" y="1805539"/>
                  <a:pt x="140677" y="1877288"/>
                </a:cubicBezTo>
                <a:lnTo>
                  <a:pt x="150726" y="1907433"/>
                </a:lnTo>
                <a:cubicBezTo>
                  <a:pt x="154075" y="1927530"/>
                  <a:pt x="160774" y="1947350"/>
                  <a:pt x="160774" y="1967724"/>
                </a:cubicBezTo>
                <a:cubicBezTo>
                  <a:pt x="160774" y="1978316"/>
                  <a:pt x="150726" y="1987277"/>
                  <a:pt x="150726" y="1997869"/>
                </a:cubicBezTo>
                <a:cubicBezTo>
                  <a:pt x="150726" y="2002548"/>
                  <a:pt x="158448" y="2079791"/>
                  <a:pt x="170822" y="2098352"/>
                </a:cubicBezTo>
                <a:cubicBezTo>
                  <a:pt x="178705" y="2110176"/>
                  <a:pt x="190919" y="2118449"/>
                  <a:pt x="200967" y="2128497"/>
                </a:cubicBezTo>
                <a:cubicBezTo>
                  <a:pt x="182885" y="2273158"/>
                  <a:pt x="208821" y="2163030"/>
                  <a:pt x="170822" y="2239029"/>
                </a:cubicBezTo>
                <a:cubicBezTo>
                  <a:pt x="166085" y="2248503"/>
                  <a:pt x="167391" y="2260903"/>
                  <a:pt x="160774" y="2269174"/>
                </a:cubicBezTo>
                <a:cubicBezTo>
                  <a:pt x="153230" y="2278604"/>
                  <a:pt x="139168" y="2280732"/>
                  <a:pt x="130629" y="2289271"/>
                </a:cubicBezTo>
                <a:cubicBezTo>
                  <a:pt x="118166" y="2301734"/>
                  <a:pt x="91798" y="2342493"/>
                  <a:pt x="80387" y="2359609"/>
                </a:cubicBezTo>
                <a:cubicBezTo>
                  <a:pt x="63638" y="2409854"/>
                  <a:pt x="50242" y="2409849"/>
                  <a:pt x="70339" y="2450044"/>
                </a:cubicBezTo>
                <a:cubicBezTo>
                  <a:pt x="75740" y="2460846"/>
                  <a:pt x="83736" y="2470141"/>
                  <a:pt x="90435" y="2480190"/>
                </a:cubicBezTo>
                <a:cubicBezTo>
                  <a:pt x="93785" y="2493588"/>
                  <a:pt x="97776" y="2506841"/>
                  <a:pt x="100484" y="2520383"/>
                </a:cubicBezTo>
                <a:cubicBezTo>
                  <a:pt x="104480" y="2540361"/>
                  <a:pt x="106112" y="2560784"/>
                  <a:pt x="110532" y="2580673"/>
                </a:cubicBezTo>
                <a:cubicBezTo>
                  <a:pt x="112830" y="2591013"/>
                  <a:pt x="117231" y="2600770"/>
                  <a:pt x="120581" y="2610818"/>
                </a:cubicBezTo>
                <a:cubicBezTo>
                  <a:pt x="74512" y="2679921"/>
                  <a:pt x="88025" y="2648194"/>
                  <a:pt x="70339" y="2701253"/>
                </a:cubicBezTo>
                <a:cubicBezTo>
                  <a:pt x="77038" y="2734748"/>
                  <a:pt x="86198" y="2767843"/>
                  <a:pt x="90435" y="2801737"/>
                </a:cubicBezTo>
                <a:cubicBezTo>
                  <a:pt x="101798" y="2892634"/>
                  <a:pt x="91945" y="2856505"/>
                  <a:pt x="110532" y="2912269"/>
                </a:cubicBezTo>
                <a:cubicBezTo>
                  <a:pt x="79519" y="3005306"/>
                  <a:pt x="80158" y="2977732"/>
                  <a:pt x="100484" y="3113236"/>
                </a:cubicBezTo>
                <a:cubicBezTo>
                  <a:pt x="103627" y="3134185"/>
                  <a:pt x="108830" y="3155900"/>
                  <a:pt x="120581" y="3173526"/>
                </a:cubicBezTo>
                <a:cubicBezTo>
                  <a:pt x="133979" y="3193623"/>
                  <a:pt x="177853" y="3250895"/>
                  <a:pt x="160774" y="3233816"/>
                </a:cubicBezTo>
                <a:cubicBezTo>
                  <a:pt x="125333" y="3198375"/>
                  <a:pt x="136984" y="3216381"/>
                  <a:pt x="120581" y="3183574"/>
                </a:cubicBezTo>
              </a:path>
            </a:pathLst>
          </a:custGeom>
          <a:solidFill>
            <a:srgbClr val="4f6228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олилиния 87"/>
          <p:cNvSpPr/>
          <p:nvPr/>
        </p:nvSpPr>
        <p:spPr>
          <a:xfrm>
            <a:off x="3876840" y="600120"/>
            <a:ext cx="644400" cy="3443400"/>
          </a:xfrm>
          <a:custGeom>
            <a:avLst/>
            <a:gdLst/>
            <a:ahLst/>
            <a:rect l="l" t="t" r="r" b="b"/>
            <a:pathLst>
              <a:path w="644503" h="3444039">
                <a:moveTo>
                  <a:pt x="322956" y="3429837"/>
                </a:moveTo>
                <a:lnTo>
                  <a:pt x="272714" y="3379595"/>
                </a:lnTo>
                <a:cubicBezTo>
                  <a:pt x="222535" y="3337779"/>
                  <a:pt x="265400" y="3357060"/>
                  <a:pt x="212424" y="3339402"/>
                </a:cubicBezTo>
                <a:cubicBezTo>
                  <a:pt x="205725" y="3329354"/>
                  <a:pt x="200866" y="3317796"/>
                  <a:pt x="192327" y="3309257"/>
                </a:cubicBezTo>
                <a:cubicBezTo>
                  <a:pt x="183788" y="3300718"/>
                  <a:pt x="168583" y="3299401"/>
                  <a:pt x="162182" y="3289160"/>
                </a:cubicBezTo>
                <a:cubicBezTo>
                  <a:pt x="150955" y="3271196"/>
                  <a:pt x="148785" y="3248967"/>
                  <a:pt x="142086" y="3228870"/>
                </a:cubicBezTo>
                <a:lnTo>
                  <a:pt x="132037" y="3198725"/>
                </a:lnTo>
                <a:cubicBezTo>
                  <a:pt x="135387" y="3165230"/>
                  <a:pt x="132186" y="3130414"/>
                  <a:pt x="142086" y="3098241"/>
                </a:cubicBezTo>
                <a:cubicBezTo>
                  <a:pt x="146265" y="3084659"/>
                  <a:pt x="163134" y="3079013"/>
                  <a:pt x="172231" y="3068096"/>
                </a:cubicBezTo>
                <a:cubicBezTo>
                  <a:pt x="179962" y="3058819"/>
                  <a:pt x="185628" y="3047999"/>
                  <a:pt x="192327" y="3037951"/>
                </a:cubicBezTo>
                <a:cubicBezTo>
                  <a:pt x="188978" y="3011155"/>
                  <a:pt x="191507" y="2982942"/>
                  <a:pt x="182279" y="2957564"/>
                </a:cubicBezTo>
                <a:cubicBezTo>
                  <a:pt x="177423" y="2944209"/>
                  <a:pt x="155581" y="2941205"/>
                  <a:pt x="152134" y="2927419"/>
                </a:cubicBezTo>
                <a:cubicBezTo>
                  <a:pt x="148669" y="2913559"/>
                  <a:pt x="166450" y="2864376"/>
                  <a:pt x="172231" y="2847033"/>
                </a:cubicBezTo>
                <a:cubicBezTo>
                  <a:pt x="165532" y="2820237"/>
                  <a:pt x="161573" y="2792603"/>
                  <a:pt x="152134" y="2766646"/>
                </a:cubicBezTo>
                <a:cubicBezTo>
                  <a:pt x="148007" y="2755296"/>
                  <a:pt x="132037" y="2748578"/>
                  <a:pt x="132037" y="2736501"/>
                </a:cubicBezTo>
                <a:cubicBezTo>
                  <a:pt x="132037" y="2718464"/>
                  <a:pt x="141525" y="2700847"/>
                  <a:pt x="152134" y="2686259"/>
                </a:cubicBezTo>
                <a:cubicBezTo>
                  <a:pt x="168850" y="2663274"/>
                  <a:pt x="192327" y="2646066"/>
                  <a:pt x="212424" y="2625969"/>
                </a:cubicBezTo>
                <a:cubicBezTo>
                  <a:pt x="222472" y="2615921"/>
                  <a:pt x="234686" y="2607648"/>
                  <a:pt x="242569" y="2595824"/>
                </a:cubicBezTo>
                <a:cubicBezTo>
                  <a:pt x="270549" y="2553855"/>
                  <a:pt x="254127" y="2574218"/>
                  <a:pt x="292811" y="2535534"/>
                </a:cubicBezTo>
                <a:cubicBezTo>
                  <a:pt x="314245" y="2471229"/>
                  <a:pt x="313663" y="2485973"/>
                  <a:pt x="292811" y="2374760"/>
                </a:cubicBezTo>
                <a:cubicBezTo>
                  <a:pt x="289583" y="2357543"/>
                  <a:pt x="252129" y="2324030"/>
                  <a:pt x="242569" y="2314470"/>
                </a:cubicBezTo>
                <a:cubicBezTo>
                  <a:pt x="239220" y="2304422"/>
                  <a:pt x="238396" y="2293138"/>
                  <a:pt x="232521" y="2284325"/>
                </a:cubicBezTo>
                <a:cubicBezTo>
                  <a:pt x="224638" y="2272501"/>
                  <a:pt x="211473" y="2265097"/>
                  <a:pt x="202376" y="2254180"/>
                </a:cubicBezTo>
                <a:cubicBezTo>
                  <a:pt x="194645" y="2244902"/>
                  <a:pt x="188978" y="2234083"/>
                  <a:pt x="182279" y="2224035"/>
                </a:cubicBezTo>
                <a:cubicBezTo>
                  <a:pt x="164593" y="2170975"/>
                  <a:pt x="178107" y="2202705"/>
                  <a:pt x="132037" y="2133600"/>
                </a:cubicBezTo>
                <a:cubicBezTo>
                  <a:pt x="125338" y="2123552"/>
                  <a:pt x="120480" y="2111994"/>
                  <a:pt x="111941" y="2103455"/>
                </a:cubicBezTo>
                <a:cubicBezTo>
                  <a:pt x="89716" y="2081230"/>
                  <a:pt x="75690" y="2071145"/>
                  <a:pt x="61699" y="2043164"/>
                </a:cubicBezTo>
                <a:cubicBezTo>
                  <a:pt x="56962" y="2033690"/>
                  <a:pt x="55000" y="2023067"/>
                  <a:pt x="51650" y="2013019"/>
                </a:cubicBezTo>
                <a:cubicBezTo>
                  <a:pt x="58349" y="1999621"/>
                  <a:pt x="61155" y="1983418"/>
                  <a:pt x="71747" y="1972826"/>
                </a:cubicBezTo>
                <a:cubicBezTo>
                  <a:pt x="82339" y="1962234"/>
                  <a:pt x="107204" y="1966940"/>
                  <a:pt x="111941" y="1952729"/>
                </a:cubicBezTo>
                <a:cubicBezTo>
                  <a:pt x="120636" y="1926644"/>
                  <a:pt x="89936" y="1846522"/>
                  <a:pt x="81796" y="1822101"/>
                </a:cubicBezTo>
                <a:lnTo>
                  <a:pt x="71747" y="1791956"/>
                </a:lnTo>
                <a:cubicBezTo>
                  <a:pt x="72709" y="1771762"/>
                  <a:pt x="52389" y="1600151"/>
                  <a:pt x="101892" y="1540747"/>
                </a:cubicBezTo>
                <a:cubicBezTo>
                  <a:pt x="109623" y="1531469"/>
                  <a:pt x="121989" y="1527349"/>
                  <a:pt x="132037" y="1520650"/>
                </a:cubicBezTo>
                <a:cubicBezTo>
                  <a:pt x="138736" y="1510602"/>
                  <a:pt x="142856" y="1498236"/>
                  <a:pt x="152134" y="1490505"/>
                </a:cubicBezTo>
                <a:cubicBezTo>
                  <a:pt x="163641" y="1480916"/>
                  <a:pt x="179625" y="1478347"/>
                  <a:pt x="192327" y="1470408"/>
                </a:cubicBezTo>
                <a:cubicBezTo>
                  <a:pt x="206529" y="1461532"/>
                  <a:pt x="218801" y="1449867"/>
                  <a:pt x="232521" y="1440263"/>
                </a:cubicBezTo>
                <a:cubicBezTo>
                  <a:pt x="252308" y="1426412"/>
                  <a:pt x="272714" y="1413468"/>
                  <a:pt x="292811" y="1400070"/>
                </a:cubicBezTo>
                <a:cubicBezTo>
                  <a:pt x="292818" y="1400065"/>
                  <a:pt x="353093" y="1359881"/>
                  <a:pt x="353101" y="1359877"/>
                </a:cubicBezTo>
                <a:cubicBezTo>
                  <a:pt x="366499" y="1353178"/>
                  <a:pt x="379526" y="1345681"/>
                  <a:pt x="393294" y="1339780"/>
                </a:cubicBezTo>
                <a:cubicBezTo>
                  <a:pt x="403030" y="1335608"/>
                  <a:pt x="413391" y="1333081"/>
                  <a:pt x="423440" y="1329732"/>
                </a:cubicBezTo>
                <a:cubicBezTo>
                  <a:pt x="575820" y="1228144"/>
                  <a:pt x="419427" y="1338100"/>
                  <a:pt x="513875" y="1259393"/>
                </a:cubicBezTo>
                <a:cubicBezTo>
                  <a:pt x="523153" y="1251662"/>
                  <a:pt x="534994" y="1247319"/>
                  <a:pt x="544020" y="1239296"/>
                </a:cubicBezTo>
                <a:cubicBezTo>
                  <a:pt x="565262" y="1220414"/>
                  <a:pt x="604310" y="1179006"/>
                  <a:pt x="604310" y="1179006"/>
                </a:cubicBezTo>
                <a:cubicBezTo>
                  <a:pt x="618527" y="1093704"/>
                  <a:pt x="624024" y="1089751"/>
                  <a:pt x="604310" y="978039"/>
                </a:cubicBezTo>
                <a:cubicBezTo>
                  <a:pt x="602211" y="966146"/>
                  <a:pt x="590912" y="957942"/>
                  <a:pt x="584213" y="947894"/>
                </a:cubicBezTo>
                <a:cubicBezTo>
                  <a:pt x="580864" y="937846"/>
                  <a:pt x="578902" y="927223"/>
                  <a:pt x="574165" y="917749"/>
                </a:cubicBezTo>
                <a:cubicBezTo>
                  <a:pt x="568764" y="906947"/>
                  <a:pt x="558973" y="898640"/>
                  <a:pt x="554068" y="887604"/>
                </a:cubicBezTo>
                <a:cubicBezTo>
                  <a:pt x="545464" y="868246"/>
                  <a:pt x="533971" y="827314"/>
                  <a:pt x="533971" y="827314"/>
                </a:cubicBezTo>
                <a:cubicBezTo>
                  <a:pt x="542144" y="802798"/>
                  <a:pt x="544639" y="786502"/>
                  <a:pt x="564116" y="767024"/>
                </a:cubicBezTo>
                <a:cubicBezTo>
                  <a:pt x="572655" y="758484"/>
                  <a:pt x="584213" y="753626"/>
                  <a:pt x="594261" y="746927"/>
                </a:cubicBezTo>
                <a:cubicBezTo>
                  <a:pt x="602217" y="627597"/>
                  <a:pt x="613102" y="564807"/>
                  <a:pt x="594261" y="445477"/>
                </a:cubicBezTo>
                <a:cubicBezTo>
                  <a:pt x="591623" y="428768"/>
                  <a:pt x="564045" y="390103"/>
                  <a:pt x="554068" y="375138"/>
                </a:cubicBezTo>
                <a:cubicBezTo>
                  <a:pt x="537731" y="309787"/>
                  <a:pt x="538077" y="330409"/>
                  <a:pt x="554068" y="234461"/>
                </a:cubicBezTo>
                <a:cubicBezTo>
                  <a:pt x="558609" y="207216"/>
                  <a:pt x="558844" y="177056"/>
                  <a:pt x="574165" y="154074"/>
                </a:cubicBezTo>
                <a:cubicBezTo>
                  <a:pt x="580864" y="144026"/>
                  <a:pt x="589356" y="134965"/>
                  <a:pt x="594261" y="123929"/>
                </a:cubicBezTo>
                <a:cubicBezTo>
                  <a:pt x="602864" y="104571"/>
                  <a:pt x="607659" y="83736"/>
                  <a:pt x="614358" y="63639"/>
                </a:cubicBezTo>
                <a:lnTo>
                  <a:pt x="624407" y="33494"/>
                </a:lnTo>
                <a:cubicBezTo>
                  <a:pt x="627756" y="23446"/>
                  <a:pt x="644503" y="0"/>
                  <a:pt x="634455" y="3349"/>
                </a:cubicBezTo>
                <a:lnTo>
                  <a:pt x="604310" y="13397"/>
                </a:lnTo>
                <a:cubicBezTo>
                  <a:pt x="597611" y="23446"/>
                  <a:pt x="591944" y="34265"/>
                  <a:pt x="584213" y="43543"/>
                </a:cubicBezTo>
                <a:cubicBezTo>
                  <a:pt x="575116" y="54460"/>
                  <a:pt x="560969" y="61266"/>
                  <a:pt x="554068" y="73688"/>
                </a:cubicBezTo>
                <a:cubicBezTo>
                  <a:pt x="543780" y="92206"/>
                  <a:pt x="533971" y="133978"/>
                  <a:pt x="533971" y="133978"/>
                </a:cubicBezTo>
                <a:cubicBezTo>
                  <a:pt x="541060" y="297018"/>
                  <a:pt x="554068" y="569747"/>
                  <a:pt x="554068" y="716782"/>
                </a:cubicBezTo>
                <a:cubicBezTo>
                  <a:pt x="554068" y="740466"/>
                  <a:pt x="552522" y="765015"/>
                  <a:pt x="544020" y="787121"/>
                </a:cubicBezTo>
                <a:cubicBezTo>
                  <a:pt x="535349" y="809664"/>
                  <a:pt x="503826" y="847411"/>
                  <a:pt x="503826" y="847411"/>
                </a:cubicBezTo>
                <a:cubicBezTo>
                  <a:pt x="484543" y="905261"/>
                  <a:pt x="491588" y="870090"/>
                  <a:pt x="503826" y="967991"/>
                </a:cubicBezTo>
                <a:cubicBezTo>
                  <a:pt x="526041" y="1145710"/>
                  <a:pt x="500993" y="909506"/>
                  <a:pt x="523923" y="1138813"/>
                </a:cubicBezTo>
                <a:cubicBezTo>
                  <a:pt x="520574" y="1168958"/>
                  <a:pt x="523466" y="1200474"/>
                  <a:pt x="513875" y="1229248"/>
                </a:cubicBezTo>
                <a:cubicBezTo>
                  <a:pt x="509720" y="1241714"/>
                  <a:pt x="472409" y="1305076"/>
                  <a:pt x="443536" y="1309635"/>
                </a:cubicBezTo>
                <a:cubicBezTo>
                  <a:pt x="390498" y="1318010"/>
                  <a:pt x="336354" y="1316334"/>
                  <a:pt x="282763" y="1319683"/>
                </a:cubicBezTo>
                <a:cubicBezTo>
                  <a:pt x="194695" y="1407751"/>
                  <a:pt x="306410" y="1299977"/>
                  <a:pt x="222472" y="1369925"/>
                </a:cubicBezTo>
                <a:cubicBezTo>
                  <a:pt x="211555" y="1379022"/>
                  <a:pt x="204665" y="1393020"/>
                  <a:pt x="192327" y="1400070"/>
                </a:cubicBezTo>
                <a:cubicBezTo>
                  <a:pt x="180337" y="1406922"/>
                  <a:pt x="165532" y="1406769"/>
                  <a:pt x="152134" y="1410118"/>
                </a:cubicBezTo>
                <a:cubicBezTo>
                  <a:pt x="142086" y="1420166"/>
                  <a:pt x="131086" y="1429346"/>
                  <a:pt x="121989" y="1440263"/>
                </a:cubicBezTo>
                <a:cubicBezTo>
                  <a:pt x="52041" y="1524201"/>
                  <a:pt x="159816" y="1412484"/>
                  <a:pt x="71747" y="1500553"/>
                </a:cubicBezTo>
                <a:cubicBezTo>
                  <a:pt x="46492" y="1576323"/>
                  <a:pt x="80559" y="1482930"/>
                  <a:pt x="41602" y="1560844"/>
                </a:cubicBezTo>
                <a:cubicBezTo>
                  <a:pt x="0" y="1644048"/>
                  <a:pt x="69053" y="1534742"/>
                  <a:pt x="11457" y="1621134"/>
                </a:cubicBezTo>
                <a:cubicBezTo>
                  <a:pt x="8108" y="1631182"/>
                  <a:pt x="1409" y="1640687"/>
                  <a:pt x="1409" y="1651279"/>
                </a:cubicBezTo>
                <a:cubicBezTo>
                  <a:pt x="1409" y="1687974"/>
                  <a:pt x="10922" y="1734820"/>
                  <a:pt x="21505" y="1771859"/>
                </a:cubicBezTo>
                <a:cubicBezTo>
                  <a:pt x="24415" y="1782043"/>
                  <a:pt x="24937" y="1793733"/>
                  <a:pt x="31554" y="1802004"/>
                </a:cubicBezTo>
                <a:cubicBezTo>
                  <a:pt x="39098" y="1811434"/>
                  <a:pt x="51651" y="1815402"/>
                  <a:pt x="61699" y="1822101"/>
                </a:cubicBezTo>
                <a:cubicBezTo>
                  <a:pt x="68398" y="1832149"/>
                  <a:pt x="76891" y="1841210"/>
                  <a:pt x="81796" y="1852246"/>
                </a:cubicBezTo>
                <a:cubicBezTo>
                  <a:pt x="129627" y="1959866"/>
                  <a:pt x="76507" y="1874459"/>
                  <a:pt x="121989" y="1942681"/>
                </a:cubicBezTo>
                <a:cubicBezTo>
                  <a:pt x="118640" y="1979525"/>
                  <a:pt x="117173" y="2016589"/>
                  <a:pt x="111941" y="2053213"/>
                </a:cubicBezTo>
                <a:cubicBezTo>
                  <a:pt x="105503" y="2098278"/>
                  <a:pt x="80811" y="2081389"/>
                  <a:pt x="111941" y="2143648"/>
                </a:cubicBezTo>
                <a:cubicBezTo>
                  <a:pt x="117342" y="2154450"/>
                  <a:pt x="130986" y="2158988"/>
                  <a:pt x="142086" y="2163745"/>
                </a:cubicBezTo>
                <a:cubicBezTo>
                  <a:pt x="154779" y="2169185"/>
                  <a:pt x="169000" y="2169999"/>
                  <a:pt x="182279" y="2173793"/>
                </a:cubicBezTo>
                <a:cubicBezTo>
                  <a:pt x="192463" y="2176703"/>
                  <a:pt x="202376" y="2180492"/>
                  <a:pt x="212424" y="2183841"/>
                </a:cubicBezTo>
                <a:cubicBezTo>
                  <a:pt x="269566" y="2240983"/>
                  <a:pt x="223535" y="2185964"/>
                  <a:pt x="252618" y="2244132"/>
                </a:cubicBezTo>
                <a:cubicBezTo>
                  <a:pt x="291577" y="2322052"/>
                  <a:pt x="257503" y="2228648"/>
                  <a:pt x="282763" y="2304422"/>
                </a:cubicBezTo>
                <a:cubicBezTo>
                  <a:pt x="279413" y="2331217"/>
                  <a:pt x="284791" y="2360655"/>
                  <a:pt x="272714" y="2384808"/>
                </a:cubicBezTo>
                <a:cubicBezTo>
                  <a:pt x="260004" y="2410229"/>
                  <a:pt x="228189" y="2421451"/>
                  <a:pt x="212424" y="2445099"/>
                </a:cubicBezTo>
                <a:lnTo>
                  <a:pt x="192327" y="2475244"/>
                </a:lnTo>
                <a:cubicBezTo>
                  <a:pt x="195677" y="2495341"/>
                  <a:pt x="197956" y="2515645"/>
                  <a:pt x="202376" y="2535534"/>
                </a:cubicBezTo>
                <a:cubicBezTo>
                  <a:pt x="204674" y="2545874"/>
                  <a:pt x="212424" y="2555087"/>
                  <a:pt x="212424" y="2565679"/>
                </a:cubicBezTo>
                <a:cubicBezTo>
                  <a:pt x="212424" y="2590260"/>
                  <a:pt x="190356" y="2613886"/>
                  <a:pt x="172231" y="2625969"/>
                </a:cubicBezTo>
                <a:cubicBezTo>
                  <a:pt x="163418" y="2631844"/>
                  <a:pt x="152134" y="2632668"/>
                  <a:pt x="142086" y="2636017"/>
                </a:cubicBezTo>
                <a:cubicBezTo>
                  <a:pt x="138736" y="2646065"/>
                  <a:pt x="132037" y="2655570"/>
                  <a:pt x="132037" y="2666162"/>
                </a:cubicBezTo>
                <a:cubicBezTo>
                  <a:pt x="132037" y="2706646"/>
                  <a:pt x="146207" y="2710477"/>
                  <a:pt x="172231" y="2736501"/>
                </a:cubicBezTo>
                <a:cubicBezTo>
                  <a:pt x="175580" y="2746549"/>
                  <a:pt x="176404" y="2757833"/>
                  <a:pt x="182279" y="2766646"/>
                </a:cubicBezTo>
                <a:cubicBezTo>
                  <a:pt x="190162" y="2778470"/>
                  <a:pt x="208520" y="2783127"/>
                  <a:pt x="212424" y="2796791"/>
                </a:cubicBezTo>
                <a:cubicBezTo>
                  <a:pt x="216218" y="2810070"/>
                  <a:pt x="208552" y="2824632"/>
                  <a:pt x="202376" y="2836984"/>
                </a:cubicBezTo>
                <a:cubicBezTo>
                  <a:pt x="194886" y="2851963"/>
                  <a:pt x="181965" y="2863550"/>
                  <a:pt x="172231" y="2877178"/>
                </a:cubicBezTo>
                <a:cubicBezTo>
                  <a:pt x="141782" y="2919806"/>
                  <a:pt x="165835" y="2898189"/>
                  <a:pt x="121989" y="2927419"/>
                </a:cubicBezTo>
                <a:cubicBezTo>
                  <a:pt x="122646" y="2930048"/>
                  <a:pt x="136842" y="2991203"/>
                  <a:pt x="142086" y="2997758"/>
                </a:cubicBezTo>
                <a:cubicBezTo>
                  <a:pt x="149630" y="3007188"/>
                  <a:pt x="162183" y="3011156"/>
                  <a:pt x="172231" y="3017855"/>
                </a:cubicBezTo>
                <a:cubicBezTo>
                  <a:pt x="168881" y="3027903"/>
                  <a:pt x="167326" y="3038741"/>
                  <a:pt x="162182" y="3048000"/>
                </a:cubicBezTo>
                <a:cubicBezTo>
                  <a:pt x="150452" y="3069114"/>
                  <a:pt x="121989" y="3108290"/>
                  <a:pt x="121989" y="3108290"/>
                </a:cubicBezTo>
                <a:cubicBezTo>
                  <a:pt x="122417" y="3112145"/>
                  <a:pt x="139494" y="3269610"/>
                  <a:pt x="142086" y="3279112"/>
                </a:cubicBezTo>
                <a:cubicBezTo>
                  <a:pt x="147332" y="3298349"/>
                  <a:pt x="180392" y="3327467"/>
                  <a:pt x="192327" y="3339402"/>
                </a:cubicBezTo>
                <a:cubicBezTo>
                  <a:pt x="195677" y="3352800"/>
                  <a:pt x="195524" y="3367605"/>
                  <a:pt x="202376" y="3379595"/>
                </a:cubicBezTo>
                <a:cubicBezTo>
                  <a:pt x="222331" y="3414516"/>
                  <a:pt x="238127" y="3411142"/>
                  <a:pt x="272714" y="3419789"/>
                </a:cubicBezTo>
                <a:cubicBezTo>
                  <a:pt x="309091" y="3444039"/>
                  <a:pt x="322956" y="3436536"/>
                  <a:pt x="322956" y="3429837"/>
                </a:cubicBezTo>
                <a:close/>
              </a:path>
            </a:pathLst>
          </a:custGeom>
          <a:solidFill>
            <a:srgbClr val="9bbb59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олилиния 88"/>
          <p:cNvSpPr/>
          <p:nvPr/>
        </p:nvSpPr>
        <p:spPr>
          <a:xfrm>
            <a:off x="566640" y="290520"/>
            <a:ext cx="704880" cy="5145120"/>
          </a:xfrm>
          <a:custGeom>
            <a:avLst/>
            <a:gdLst/>
            <a:ahLst/>
            <a:rect l="l" t="t" r="r" b="b"/>
            <a:pathLst>
              <a:path w="704733" h="5145241">
                <a:moveTo>
                  <a:pt x="548083" y="5014613"/>
                </a:moveTo>
                <a:cubicBezTo>
                  <a:pt x="534685" y="5007914"/>
                  <a:pt x="520895" y="5001948"/>
                  <a:pt x="507890" y="4994516"/>
                </a:cubicBezTo>
                <a:cubicBezTo>
                  <a:pt x="497405" y="4988524"/>
                  <a:pt x="488547" y="4979820"/>
                  <a:pt x="477745" y="4974419"/>
                </a:cubicBezTo>
                <a:cubicBezTo>
                  <a:pt x="468271" y="4969682"/>
                  <a:pt x="457648" y="4967720"/>
                  <a:pt x="447600" y="4964371"/>
                </a:cubicBezTo>
                <a:cubicBezTo>
                  <a:pt x="437551" y="4957672"/>
                  <a:pt x="428256" y="4949675"/>
                  <a:pt x="417454" y="4944274"/>
                </a:cubicBezTo>
                <a:cubicBezTo>
                  <a:pt x="407980" y="4939537"/>
                  <a:pt x="395580" y="4940843"/>
                  <a:pt x="387309" y="4934226"/>
                </a:cubicBezTo>
                <a:cubicBezTo>
                  <a:pt x="363315" y="4915030"/>
                  <a:pt x="369298" y="4898204"/>
                  <a:pt x="357164" y="4873936"/>
                </a:cubicBezTo>
                <a:cubicBezTo>
                  <a:pt x="318206" y="4796020"/>
                  <a:pt x="352278" y="4889417"/>
                  <a:pt x="327019" y="4813646"/>
                </a:cubicBezTo>
                <a:cubicBezTo>
                  <a:pt x="330369" y="4770103"/>
                  <a:pt x="331651" y="4726351"/>
                  <a:pt x="337068" y="4683017"/>
                </a:cubicBezTo>
                <a:cubicBezTo>
                  <a:pt x="338382" y="4672507"/>
                  <a:pt x="340499" y="4661143"/>
                  <a:pt x="347116" y="4652872"/>
                </a:cubicBezTo>
                <a:cubicBezTo>
                  <a:pt x="354660" y="4643442"/>
                  <a:pt x="367983" y="4640506"/>
                  <a:pt x="377261" y="4632775"/>
                </a:cubicBezTo>
                <a:cubicBezTo>
                  <a:pt x="454622" y="4568307"/>
                  <a:pt x="362714" y="4632424"/>
                  <a:pt x="437551" y="4582534"/>
                </a:cubicBezTo>
                <a:cubicBezTo>
                  <a:pt x="440901" y="4569136"/>
                  <a:pt x="447600" y="4556150"/>
                  <a:pt x="447600" y="4542340"/>
                </a:cubicBezTo>
                <a:cubicBezTo>
                  <a:pt x="447600" y="4508656"/>
                  <a:pt x="441719" y="4476170"/>
                  <a:pt x="417454" y="4451905"/>
                </a:cubicBezTo>
                <a:cubicBezTo>
                  <a:pt x="408915" y="4443366"/>
                  <a:pt x="397357" y="4438507"/>
                  <a:pt x="387309" y="4431808"/>
                </a:cubicBezTo>
                <a:cubicBezTo>
                  <a:pt x="365755" y="4367145"/>
                  <a:pt x="394158" y="4437376"/>
                  <a:pt x="347116" y="4371518"/>
                </a:cubicBezTo>
                <a:cubicBezTo>
                  <a:pt x="338409" y="4359329"/>
                  <a:pt x="335726" y="4343514"/>
                  <a:pt x="327019" y="4331325"/>
                </a:cubicBezTo>
                <a:cubicBezTo>
                  <a:pt x="318759" y="4319761"/>
                  <a:pt x="305400" y="4312548"/>
                  <a:pt x="296874" y="4301180"/>
                </a:cubicBezTo>
                <a:cubicBezTo>
                  <a:pt x="285156" y="4285556"/>
                  <a:pt x="274811" y="4268718"/>
                  <a:pt x="266729" y="4250938"/>
                </a:cubicBezTo>
                <a:cubicBezTo>
                  <a:pt x="257963" y="4231653"/>
                  <a:pt x="246632" y="4190648"/>
                  <a:pt x="246632" y="4190648"/>
                </a:cubicBezTo>
                <a:cubicBezTo>
                  <a:pt x="249982" y="4173901"/>
                  <a:pt x="252539" y="4156975"/>
                  <a:pt x="256681" y="4140406"/>
                </a:cubicBezTo>
                <a:cubicBezTo>
                  <a:pt x="259250" y="4130130"/>
                  <a:pt x="264988" y="4120709"/>
                  <a:pt x="266729" y="4110261"/>
                </a:cubicBezTo>
                <a:cubicBezTo>
                  <a:pt x="272299" y="4076839"/>
                  <a:pt x="269159" y="4025014"/>
                  <a:pt x="286826" y="3989681"/>
                </a:cubicBezTo>
                <a:cubicBezTo>
                  <a:pt x="292227" y="3978879"/>
                  <a:pt x="300224" y="3969584"/>
                  <a:pt x="306923" y="3959536"/>
                </a:cubicBezTo>
                <a:cubicBezTo>
                  <a:pt x="303573" y="3905945"/>
                  <a:pt x="302217" y="3852191"/>
                  <a:pt x="296874" y="3798762"/>
                </a:cubicBezTo>
                <a:cubicBezTo>
                  <a:pt x="293742" y="3767439"/>
                  <a:pt x="283919" y="3756986"/>
                  <a:pt x="276778" y="3728424"/>
                </a:cubicBezTo>
                <a:cubicBezTo>
                  <a:pt x="272636" y="3711855"/>
                  <a:pt x="269393" y="3695052"/>
                  <a:pt x="266729" y="3678182"/>
                </a:cubicBezTo>
                <a:cubicBezTo>
                  <a:pt x="259341" y="3631393"/>
                  <a:pt x="258120" y="3583459"/>
                  <a:pt x="246632" y="3537505"/>
                </a:cubicBezTo>
                <a:cubicBezTo>
                  <a:pt x="243283" y="3524107"/>
                  <a:pt x="239129" y="3510885"/>
                  <a:pt x="236584" y="3497312"/>
                </a:cubicBezTo>
                <a:cubicBezTo>
                  <a:pt x="203034" y="3318375"/>
                  <a:pt x="230160" y="3431423"/>
                  <a:pt x="206439" y="3336538"/>
                </a:cubicBezTo>
                <a:cubicBezTo>
                  <a:pt x="203090" y="3011641"/>
                  <a:pt x="202888" y="2686697"/>
                  <a:pt x="196391" y="2361848"/>
                </a:cubicBezTo>
                <a:cubicBezTo>
                  <a:pt x="196179" y="2351258"/>
                  <a:pt x="182993" y="2341751"/>
                  <a:pt x="186342" y="2331703"/>
                </a:cubicBezTo>
                <a:cubicBezTo>
                  <a:pt x="193116" y="2311381"/>
                  <a:pt x="231782" y="2293836"/>
                  <a:pt x="246632" y="2281461"/>
                </a:cubicBezTo>
                <a:cubicBezTo>
                  <a:pt x="257549" y="2272364"/>
                  <a:pt x="265988" y="2260564"/>
                  <a:pt x="276778" y="2251316"/>
                </a:cubicBezTo>
                <a:cubicBezTo>
                  <a:pt x="289493" y="2240417"/>
                  <a:pt x="305129" y="2233013"/>
                  <a:pt x="316971" y="2221171"/>
                </a:cubicBezTo>
                <a:cubicBezTo>
                  <a:pt x="362421" y="2175721"/>
                  <a:pt x="308528" y="2200539"/>
                  <a:pt x="367213" y="2180978"/>
                </a:cubicBezTo>
                <a:cubicBezTo>
                  <a:pt x="387310" y="2154182"/>
                  <a:pt x="416911" y="2132367"/>
                  <a:pt x="427503" y="2100591"/>
                </a:cubicBezTo>
                <a:cubicBezTo>
                  <a:pt x="434202" y="2080494"/>
                  <a:pt x="443446" y="2061073"/>
                  <a:pt x="447600" y="2040301"/>
                </a:cubicBezTo>
                <a:cubicBezTo>
                  <a:pt x="450949" y="2023554"/>
                  <a:pt x="451651" y="2006051"/>
                  <a:pt x="457648" y="1990059"/>
                </a:cubicBezTo>
                <a:cubicBezTo>
                  <a:pt x="461888" y="1978751"/>
                  <a:pt x="471344" y="1970155"/>
                  <a:pt x="477745" y="1959914"/>
                </a:cubicBezTo>
                <a:cubicBezTo>
                  <a:pt x="488096" y="1943352"/>
                  <a:pt x="496172" y="1925296"/>
                  <a:pt x="507890" y="1909672"/>
                </a:cubicBezTo>
                <a:cubicBezTo>
                  <a:pt x="516416" y="1898304"/>
                  <a:pt x="529311" y="1890744"/>
                  <a:pt x="538035" y="1879527"/>
                </a:cubicBezTo>
                <a:cubicBezTo>
                  <a:pt x="552864" y="1860462"/>
                  <a:pt x="578228" y="1819237"/>
                  <a:pt x="578228" y="1819237"/>
                </a:cubicBezTo>
                <a:cubicBezTo>
                  <a:pt x="581577" y="1779044"/>
                  <a:pt x="583822" y="1738743"/>
                  <a:pt x="588276" y="1698657"/>
                </a:cubicBezTo>
                <a:cubicBezTo>
                  <a:pt x="590526" y="1678408"/>
                  <a:pt x="598325" y="1658741"/>
                  <a:pt x="598325" y="1638367"/>
                </a:cubicBezTo>
                <a:cubicBezTo>
                  <a:pt x="598325" y="1611363"/>
                  <a:pt x="597359" y="1583411"/>
                  <a:pt x="588276" y="1557980"/>
                </a:cubicBezTo>
                <a:cubicBezTo>
                  <a:pt x="580152" y="1535234"/>
                  <a:pt x="548083" y="1497690"/>
                  <a:pt x="548083" y="1497690"/>
                </a:cubicBezTo>
                <a:cubicBezTo>
                  <a:pt x="544734" y="1440749"/>
                  <a:pt x="543711" y="1383624"/>
                  <a:pt x="538035" y="1326868"/>
                </a:cubicBezTo>
                <a:cubicBezTo>
                  <a:pt x="536981" y="1316329"/>
                  <a:pt x="529484" y="1307208"/>
                  <a:pt x="527986" y="1296723"/>
                </a:cubicBezTo>
                <a:cubicBezTo>
                  <a:pt x="522754" y="1260099"/>
                  <a:pt x="528973" y="1221503"/>
                  <a:pt x="517938" y="1186191"/>
                </a:cubicBezTo>
                <a:cubicBezTo>
                  <a:pt x="511541" y="1165720"/>
                  <a:pt x="492910" y="1151114"/>
                  <a:pt x="477745" y="1135949"/>
                </a:cubicBezTo>
                <a:cubicBezTo>
                  <a:pt x="462580" y="1120784"/>
                  <a:pt x="443643" y="1109879"/>
                  <a:pt x="427503" y="1095756"/>
                </a:cubicBezTo>
                <a:cubicBezTo>
                  <a:pt x="416808" y="1086398"/>
                  <a:pt x="407406" y="1075659"/>
                  <a:pt x="397358" y="1065610"/>
                </a:cubicBezTo>
                <a:cubicBezTo>
                  <a:pt x="400707" y="1022067"/>
                  <a:pt x="396814" y="977349"/>
                  <a:pt x="407406" y="934982"/>
                </a:cubicBezTo>
                <a:cubicBezTo>
                  <a:pt x="410853" y="921196"/>
                  <a:pt x="426634" y="913934"/>
                  <a:pt x="437551" y="904837"/>
                </a:cubicBezTo>
                <a:cubicBezTo>
                  <a:pt x="494512" y="857369"/>
                  <a:pt x="439092" y="913785"/>
                  <a:pt x="507890" y="864643"/>
                </a:cubicBezTo>
                <a:cubicBezTo>
                  <a:pt x="519454" y="856383"/>
                  <a:pt x="527987" y="844546"/>
                  <a:pt x="538035" y="834498"/>
                </a:cubicBezTo>
                <a:cubicBezTo>
                  <a:pt x="539290" y="815676"/>
                  <a:pt x="534158" y="701573"/>
                  <a:pt x="558131" y="653628"/>
                </a:cubicBezTo>
                <a:cubicBezTo>
                  <a:pt x="563532" y="642826"/>
                  <a:pt x="570205" y="632509"/>
                  <a:pt x="578228" y="623483"/>
                </a:cubicBezTo>
                <a:cubicBezTo>
                  <a:pt x="597110" y="602241"/>
                  <a:pt x="618421" y="583290"/>
                  <a:pt x="638518" y="563193"/>
                </a:cubicBezTo>
                <a:lnTo>
                  <a:pt x="668663" y="533048"/>
                </a:lnTo>
                <a:cubicBezTo>
                  <a:pt x="672013" y="523000"/>
                  <a:pt x="676817" y="513324"/>
                  <a:pt x="678712" y="502903"/>
                </a:cubicBezTo>
                <a:cubicBezTo>
                  <a:pt x="704733" y="359789"/>
                  <a:pt x="690585" y="125614"/>
                  <a:pt x="678712" y="30630"/>
                </a:cubicBezTo>
                <a:cubicBezTo>
                  <a:pt x="676999" y="16926"/>
                  <a:pt x="651746" y="24550"/>
                  <a:pt x="638518" y="20582"/>
                </a:cubicBezTo>
                <a:cubicBezTo>
                  <a:pt x="618228" y="14495"/>
                  <a:pt x="578228" y="485"/>
                  <a:pt x="578228" y="485"/>
                </a:cubicBezTo>
                <a:cubicBezTo>
                  <a:pt x="568180" y="3835"/>
                  <a:pt x="549192" y="0"/>
                  <a:pt x="548083" y="10534"/>
                </a:cubicBezTo>
                <a:cubicBezTo>
                  <a:pt x="538224" y="104192"/>
                  <a:pt x="552187" y="161685"/>
                  <a:pt x="568180" y="241646"/>
                </a:cubicBezTo>
                <a:cubicBezTo>
                  <a:pt x="552494" y="743577"/>
                  <a:pt x="634646" y="465345"/>
                  <a:pt x="527986" y="593338"/>
                </a:cubicBezTo>
                <a:cubicBezTo>
                  <a:pt x="520255" y="602615"/>
                  <a:pt x="514589" y="613435"/>
                  <a:pt x="507890" y="623483"/>
                </a:cubicBezTo>
                <a:cubicBezTo>
                  <a:pt x="504540" y="636881"/>
                  <a:pt x="497841" y="649866"/>
                  <a:pt x="497841" y="663676"/>
                </a:cubicBezTo>
                <a:cubicBezTo>
                  <a:pt x="497841" y="694007"/>
                  <a:pt x="507890" y="723781"/>
                  <a:pt x="507890" y="754112"/>
                </a:cubicBezTo>
                <a:cubicBezTo>
                  <a:pt x="507890" y="783740"/>
                  <a:pt x="497754" y="829584"/>
                  <a:pt x="477745" y="854595"/>
                </a:cubicBezTo>
                <a:cubicBezTo>
                  <a:pt x="459990" y="876788"/>
                  <a:pt x="437551" y="894788"/>
                  <a:pt x="417454" y="914885"/>
                </a:cubicBezTo>
                <a:cubicBezTo>
                  <a:pt x="407406" y="924933"/>
                  <a:pt x="399133" y="937147"/>
                  <a:pt x="387309" y="945030"/>
                </a:cubicBezTo>
                <a:lnTo>
                  <a:pt x="327019" y="985224"/>
                </a:lnTo>
                <a:lnTo>
                  <a:pt x="286826" y="1045514"/>
                </a:lnTo>
                <a:lnTo>
                  <a:pt x="266729" y="1075659"/>
                </a:lnTo>
                <a:cubicBezTo>
                  <a:pt x="248724" y="1129674"/>
                  <a:pt x="242651" y="1134471"/>
                  <a:pt x="266729" y="1216336"/>
                </a:cubicBezTo>
                <a:cubicBezTo>
                  <a:pt x="273544" y="1239508"/>
                  <a:pt x="293525" y="1256529"/>
                  <a:pt x="306923" y="1276626"/>
                </a:cubicBezTo>
                <a:cubicBezTo>
                  <a:pt x="318337" y="1293747"/>
                  <a:pt x="344695" y="1334495"/>
                  <a:pt x="357164" y="1346964"/>
                </a:cubicBezTo>
                <a:cubicBezTo>
                  <a:pt x="365703" y="1355503"/>
                  <a:pt x="377261" y="1360362"/>
                  <a:pt x="387309" y="1367061"/>
                </a:cubicBezTo>
                <a:cubicBezTo>
                  <a:pt x="435164" y="1438842"/>
                  <a:pt x="433361" y="1403919"/>
                  <a:pt x="417454" y="1467545"/>
                </a:cubicBezTo>
                <a:cubicBezTo>
                  <a:pt x="424061" y="1540216"/>
                  <a:pt x="403160" y="1571895"/>
                  <a:pt x="457648" y="1608221"/>
                </a:cubicBezTo>
                <a:cubicBezTo>
                  <a:pt x="466461" y="1614096"/>
                  <a:pt x="477745" y="1614920"/>
                  <a:pt x="487793" y="1618270"/>
                </a:cubicBezTo>
                <a:cubicBezTo>
                  <a:pt x="528707" y="1679640"/>
                  <a:pt x="504972" y="1628643"/>
                  <a:pt x="487793" y="1748898"/>
                </a:cubicBezTo>
                <a:cubicBezTo>
                  <a:pt x="478631" y="1813033"/>
                  <a:pt x="474145" y="1853727"/>
                  <a:pt x="457648" y="1919720"/>
                </a:cubicBezTo>
                <a:cubicBezTo>
                  <a:pt x="454299" y="1933118"/>
                  <a:pt x="454452" y="1947923"/>
                  <a:pt x="447600" y="1959914"/>
                </a:cubicBezTo>
                <a:cubicBezTo>
                  <a:pt x="440549" y="1972252"/>
                  <a:pt x="426552" y="1979142"/>
                  <a:pt x="417454" y="1990059"/>
                </a:cubicBezTo>
                <a:cubicBezTo>
                  <a:pt x="375584" y="2040303"/>
                  <a:pt x="422482" y="2003454"/>
                  <a:pt x="367213" y="2040301"/>
                </a:cubicBezTo>
                <a:cubicBezTo>
                  <a:pt x="335366" y="2088071"/>
                  <a:pt x="350934" y="2058990"/>
                  <a:pt x="327019" y="2130736"/>
                </a:cubicBezTo>
                <a:cubicBezTo>
                  <a:pt x="323670" y="2140784"/>
                  <a:pt x="319048" y="2150495"/>
                  <a:pt x="316971" y="2160881"/>
                </a:cubicBezTo>
                <a:cubicBezTo>
                  <a:pt x="311035" y="2190564"/>
                  <a:pt x="305188" y="2235657"/>
                  <a:pt x="286826" y="2261364"/>
                </a:cubicBezTo>
                <a:cubicBezTo>
                  <a:pt x="276147" y="2276314"/>
                  <a:pt x="243336" y="2287309"/>
                  <a:pt x="226536" y="2291509"/>
                </a:cubicBezTo>
                <a:cubicBezTo>
                  <a:pt x="209967" y="2295651"/>
                  <a:pt x="192863" y="2297416"/>
                  <a:pt x="176294" y="2301558"/>
                </a:cubicBezTo>
                <a:cubicBezTo>
                  <a:pt x="166018" y="2304127"/>
                  <a:pt x="156333" y="2308696"/>
                  <a:pt x="146149" y="2311606"/>
                </a:cubicBezTo>
                <a:cubicBezTo>
                  <a:pt x="57855" y="2336832"/>
                  <a:pt x="148069" y="2307616"/>
                  <a:pt x="75811" y="2331703"/>
                </a:cubicBezTo>
                <a:cubicBezTo>
                  <a:pt x="56878" y="2350636"/>
                  <a:pt x="36762" y="2366809"/>
                  <a:pt x="25569" y="2391993"/>
                </a:cubicBezTo>
                <a:cubicBezTo>
                  <a:pt x="16966" y="2411351"/>
                  <a:pt x="5472" y="2452283"/>
                  <a:pt x="5472" y="2452283"/>
                </a:cubicBezTo>
                <a:cubicBezTo>
                  <a:pt x="6416" y="2459833"/>
                  <a:pt x="14502" y="2550729"/>
                  <a:pt x="25569" y="2572863"/>
                </a:cubicBezTo>
                <a:cubicBezTo>
                  <a:pt x="36371" y="2594466"/>
                  <a:pt x="58124" y="2610239"/>
                  <a:pt x="65762" y="2633153"/>
                </a:cubicBezTo>
                <a:lnTo>
                  <a:pt x="85859" y="2693443"/>
                </a:lnTo>
                <a:cubicBezTo>
                  <a:pt x="82510" y="2736986"/>
                  <a:pt x="86925" y="2781838"/>
                  <a:pt x="75811" y="2824072"/>
                </a:cubicBezTo>
                <a:cubicBezTo>
                  <a:pt x="69664" y="2847430"/>
                  <a:pt x="35617" y="2884362"/>
                  <a:pt x="35617" y="2884362"/>
                </a:cubicBezTo>
                <a:cubicBezTo>
                  <a:pt x="32268" y="2894410"/>
                  <a:pt x="29741" y="2904772"/>
                  <a:pt x="25569" y="2914507"/>
                </a:cubicBezTo>
                <a:cubicBezTo>
                  <a:pt x="19668" y="2928275"/>
                  <a:pt x="6828" y="2939783"/>
                  <a:pt x="5472" y="2954701"/>
                </a:cubicBezTo>
                <a:cubicBezTo>
                  <a:pt x="0" y="3014889"/>
                  <a:pt x="16083" y="3019653"/>
                  <a:pt x="35617" y="3065232"/>
                </a:cubicBezTo>
                <a:cubicBezTo>
                  <a:pt x="39789" y="3074968"/>
                  <a:pt x="42316" y="3085329"/>
                  <a:pt x="45665" y="3095378"/>
                </a:cubicBezTo>
                <a:cubicBezTo>
                  <a:pt x="49015" y="3175765"/>
                  <a:pt x="42487" y="3257176"/>
                  <a:pt x="55714" y="3336538"/>
                </a:cubicBezTo>
                <a:cubicBezTo>
                  <a:pt x="59685" y="3360362"/>
                  <a:pt x="95907" y="3396828"/>
                  <a:pt x="95907" y="3396828"/>
                </a:cubicBezTo>
                <a:cubicBezTo>
                  <a:pt x="96386" y="3402101"/>
                  <a:pt x="111967" y="3581649"/>
                  <a:pt x="116004" y="3597795"/>
                </a:cubicBezTo>
                <a:cubicBezTo>
                  <a:pt x="121350" y="3619179"/>
                  <a:pt x="154194" y="3643623"/>
                  <a:pt x="166246" y="3658085"/>
                </a:cubicBezTo>
                <a:cubicBezTo>
                  <a:pt x="187888" y="3684055"/>
                  <a:pt x="186320" y="3688165"/>
                  <a:pt x="196391" y="3718375"/>
                </a:cubicBezTo>
                <a:cubicBezTo>
                  <a:pt x="181207" y="3961297"/>
                  <a:pt x="174417" y="3809474"/>
                  <a:pt x="196391" y="3919342"/>
                </a:cubicBezTo>
                <a:cubicBezTo>
                  <a:pt x="211864" y="3996704"/>
                  <a:pt x="193099" y="3959622"/>
                  <a:pt x="226536" y="4009778"/>
                </a:cubicBezTo>
                <a:cubicBezTo>
                  <a:pt x="223186" y="4039923"/>
                  <a:pt x="223843" y="4070788"/>
                  <a:pt x="216487" y="4100213"/>
                </a:cubicBezTo>
                <a:cubicBezTo>
                  <a:pt x="213558" y="4111929"/>
                  <a:pt x="197061" y="4118300"/>
                  <a:pt x="196391" y="4130358"/>
                </a:cubicBezTo>
                <a:cubicBezTo>
                  <a:pt x="195045" y="4154591"/>
                  <a:pt x="195902" y="4295422"/>
                  <a:pt x="226536" y="4341373"/>
                </a:cubicBezTo>
                <a:cubicBezTo>
                  <a:pt x="239934" y="4361470"/>
                  <a:pt x="259091" y="4378749"/>
                  <a:pt x="266729" y="4401663"/>
                </a:cubicBezTo>
                <a:cubicBezTo>
                  <a:pt x="281272" y="4445289"/>
                  <a:pt x="269288" y="4424318"/>
                  <a:pt x="306923" y="4461953"/>
                </a:cubicBezTo>
                <a:cubicBezTo>
                  <a:pt x="313622" y="4482050"/>
                  <a:pt x="332157" y="4501692"/>
                  <a:pt x="327019" y="4522243"/>
                </a:cubicBezTo>
                <a:cubicBezTo>
                  <a:pt x="323670" y="4535641"/>
                  <a:pt x="322411" y="4549743"/>
                  <a:pt x="316971" y="4562437"/>
                </a:cubicBezTo>
                <a:cubicBezTo>
                  <a:pt x="302283" y="4596710"/>
                  <a:pt x="289774" y="4593098"/>
                  <a:pt x="266729" y="4622727"/>
                </a:cubicBezTo>
                <a:cubicBezTo>
                  <a:pt x="218290" y="4685006"/>
                  <a:pt x="240304" y="4671978"/>
                  <a:pt x="196391" y="4723210"/>
                </a:cubicBezTo>
                <a:cubicBezTo>
                  <a:pt x="138365" y="4790908"/>
                  <a:pt x="190566" y="4716877"/>
                  <a:pt x="146149" y="4783501"/>
                </a:cubicBezTo>
                <a:cubicBezTo>
                  <a:pt x="116836" y="4871438"/>
                  <a:pt x="123174" y="4824351"/>
                  <a:pt x="136101" y="4934226"/>
                </a:cubicBezTo>
                <a:cubicBezTo>
                  <a:pt x="136496" y="4937586"/>
                  <a:pt x="141911" y="5023329"/>
                  <a:pt x="156197" y="5044758"/>
                </a:cubicBezTo>
                <a:cubicBezTo>
                  <a:pt x="178216" y="5077787"/>
                  <a:pt x="188681" y="5071827"/>
                  <a:pt x="216487" y="5094999"/>
                </a:cubicBezTo>
                <a:cubicBezTo>
                  <a:pt x="227404" y="5104097"/>
                  <a:pt x="234210" y="5118244"/>
                  <a:pt x="246632" y="5125145"/>
                </a:cubicBezTo>
                <a:cubicBezTo>
                  <a:pt x="265150" y="5135433"/>
                  <a:pt x="306923" y="5145241"/>
                  <a:pt x="306923" y="5145241"/>
                </a:cubicBezTo>
                <a:cubicBezTo>
                  <a:pt x="335573" y="5142058"/>
                  <a:pt x="393836" y="5141978"/>
                  <a:pt x="427503" y="5125145"/>
                </a:cubicBezTo>
                <a:cubicBezTo>
                  <a:pt x="493248" y="5092273"/>
                  <a:pt x="421132" y="5119345"/>
                  <a:pt x="487793" y="5074903"/>
                </a:cubicBezTo>
                <a:cubicBezTo>
                  <a:pt x="496606" y="5069028"/>
                  <a:pt x="507890" y="5068204"/>
                  <a:pt x="517938" y="5064854"/>
                </a:cubicBezTo>
                <a:cubicBezTo>
                  <a:pt x="514589" y="5048107"/>
                  <a:pt x="503198" y="5031034"/>
                  <a:pt x="507890" y="5014613"/>
                </a:cubicBezTo>
                <a:cubicBezTo>
                  <a:pt x="511208" y="5003001"/>
                  <a:pt x="534216" y="5005973"/>
                  <a:pt x="538035" y="4994516"/>
                </a:cubicBezTo>
                <a:cubicBezTo>
                  <a:pt x="542402" y="4981415"/>
                  <a:pt x="531780" y="4967602"/>
                  <a:pt x="527986" y="4954323"/>
                </a:cubicBezTo>
                <a:cubicBezTo>
                  <a:pt x="517550" y="4917798"/>
                  <a:pt x="523095" y="4929335"/>
                  <a:pt x="497841" y="4904081"/>
                </a:cubicBezTo>
              </a:path>
            </a:pathLst>
          </a:custGeom>
          <a:solidFill>
            <a:srgbClr val="9bbb59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олилиния 89"/>
          <p:cNvSpPr/>
          <p:nvPr/>
        </p:nvSpPr>
        <p:spPr>
          <a:xfrm>
            <a:off x="542880" y="257040"/>
            <a:ext cx="728640" cy="5040360"/>
          </a:xfrm>
          <a:custGeom>
            <a:avLst/>
            <a:gdLst/>
            <a:ahLst/>
            <a:rect l="l" t="t" r="r" b="b"/>
            <a:pathLst>
              <a:path w="729469" h="5040371">
                <a:moveTo>
                  <a:pt x="592853" y="4978255"/>
                </a:moveTo>
                <a:cubicBezTo>
                  <a:pt x="572756" y="4974906"/>
                  <a:pt x="551891" y="4974650"/>
                  <a:pt x="532563" y="4968207"/>
                </a:cubicBezTo>
                <a:cubicBezTo>
                  <a:pt x="521106" y="4964388"/>
                  <a:pt x="511444" y="4956133"/>
                  <a:pt x="502418" y="4948110"/>
                </a:cubicBezTo>
                <a:cubicBezTo>
                  <a:pt x="446100" y="4898050"/>
                  <a:pt x="452575" y="4903493"/>
                  <a:pt x="422031" y="4857675"/>
                </a:cubicBezTo>
                <a:cubicBezTo>
                  <a:pt x="425380" y="4827530"/>
                  <a:pt x="424723" y="4796665"/>
                  <a:pt x="432079" y="4767240"/>
                </a:cubicBezTo>
                <a:cubicBezTo>
                  <a:pt x="441135" y="4731015"/>
                  <a:pt x="455556" y="4738517"/>
                  <a:pt x="482321" y="4727046"/>
                </a:cubicBezTo>
                <a:cubicBezTo>
                  <a:pt x="496089" y="4721145"/>
                  <a:pt x="508746" y="4712851"/>
                  <a:pt x="522514" y="4706950"/>
                </a:cubicBezTo>
                <a:cubicBezTo>
                  <a:pt x="532250" y="4702778"/>
                  <a:pt x="543400" y="4702045"/>
                  <a:pt x="552659" y="4696901"/>
                </a:cubicBezTo>
                <a:cubicBezTo>
                  <a:pt x="573773" y="4685171"/>
                  <a:pt x="612949" y="4656708"/>
                  <a:pt x="612949" y="4656708"/>
                </a:cubicBezTo>
                <a:cubicBezTo>
                  <a:pt x="619648" y="4646660"/>
                  <a:pt x="629576" y="4638130"/>
                  <a:pt x="633046" y="4626563"/>
                </a:cubicBezTo>
                <a:cubicBezTo>
                  <a:pt x="639852" y="4603877"/>
                  <a:pt x="638449" y="4579448"/>
                  <a:pt x="643094" y="4556224"/>
                </a:cubicBezTo>
                <a:cubicBezTo>
                  <a:pt x="645171" y="4545838"/>
                  <a:pt x="649793" y="4536127"/>
                  <a:pt x="653143" y="4526079"/>
                </a:cubicBezTo>
                <a:cubicBezTo>
                  <a:pt x="649793" y="4445692"/>
                  <a:pt x="655328" y="4364440"/>
                  <a:pt x="643094" y="4284919"/>
                </a:cubicBezTo>
                <a:cubicBezTo>
                  <a:pt x="641258" y="4272983"/>
                  <a:pt x="621488" y="4273362"/>
                  <a:pt x="612949" y="4264822"/>
                </a:cubicBezTo>
                <a:cubicBezTo>
                  <a:pt x="604410" y="4256283"/>
                  <a:pt x="600584" y="4243954"/>
                  <a:pt x="592853" y="4234677"/>
                </a:cubicBezTo>
                <a:cubicBezTo>
                  <a:pt x="583756" y="4223760"/>
                  <a:pt x="571805" y="4215449"/>
                  <a:pt x="562708" y="4204532"/>
                </a:cubicBezTo>
                <a:cubicBezTo>
                  <a:pt x="520840" y="4154290"/>
                  <a:pt x="567732" y="4191134"/>
                  <a:pt x="512466" y="4154290"/>
                </a:cubicBezTo>
                <a:cubicBezTo>
                  <a:pt x="505767" y="4144242"/>
                  <a:pt x="500908" y="4132684"/>
                  <a:pt x="492369" y="4124145"/>
                </a:cubicBezTo>
                <a:cubicBezTo>
                  <a:pt x="480527" y="4112303"/>
                  <a:pt x="464891" y="4104899"/>
                  <a:pt x="452176" y="4094000"/>
                </a:cubicBezTo>
                <a:cubicBezTo>
                  <a:pt x="441387" y="4084752"/>
                  <a:pt x="432079" y="4073903"/>
                  <a:pt x="422031" y="4063855"/>
                </a:cubicBezTo>
                <a:cubicBezTo>
                  <a:pt x="395491" y="3984237"/>
                  <a:pt x="405416" y="4024461"/>
                  <a:pt x="391886" y="3943275"/>
                </a:cubicBezTo>
                <a:cubicBezTo>
                  <a:pt x="395235" y="3906431"/>
                  <a:pt x="386289" y="3866268"/>
                  <a:pt x="401934" y="3832743"/>
                </a:cubicBezTo>
                <a:cubicBezTo>
                  <a:pt x="414663" y="3805467"/>
                  <a:pt x="464033" y="3791947"/>
                  <a:pt x="492369" y="3782501"/>
                </a:cubicBezTo>
                <a:lnTo>
                  <a:pt x="552659" y="3722211"/>
                </a:lnTo>
                <a:cubicBezTo>
                  <a:pt x="562707" y="3712163"/>
                  <a:pt x="574921" y="3703890"/>
                  <a:pt x="582804" y="3692066"/>
                </a:cubicBezTo>
                <a:lnTo>
                  <a:pt x="602901" y="3661921"/>
                </a:lnTo>
                <a:cubicBezTo>
                  <a:pt x="596202" y="3628427"/>
                  <a:pt x="595942" y="3592968"/>
                  <a:pt x="582804" y="3561438"/>
                </a:cubicBezTo>
                <a:cubicBezTo>
                  <a:pt x="578159" y="3550290"/>
                  <a:pt x="560611" y="3550430"/>
                  <a:pt x="552659" y="3541341"/>
                </a:cubicBezTo>
                <a:cubicBezTo>
                  <a:pt x="536754" y="3523164"/>
                  <a:pt x="527554" y="3499912"/>
                  <a:pt x="512466" y="3481051"/>
                </a:cubicBezTo>
                <a:lnTo>
                  <a:pt x="472273" y="3430809"/>
                </a:lnTo>
                <a:cubicBezTo>
                  <a:pt x="468923" y="3417411"/>
                  <a:pt x="466018" y="3403895"/>
                  <a:pt x="462224" y="3390616"/>
                </a:cubicBezTo>
                <a:cubicBezTo>
                  <a:pt x="459314" y="3380432"/>
                  <a:pt x="451006" y="3370998"/>
                  <a:pt x="452176" y="3360471"/>
                </a:cubicBezTo>
                <a:cubicBezTo>
                  <a:pt x="454516" y="3339416"/>
                  <a:pt x="461985" y="3318698"/>
                  <a:pt x="472273" y="3300180"/>
                </a:cubicBezTo>
                <a:cubicBezTo>
                  <a:pt x="483859" y="3279325"/>
                  <a:pt x="526877" y="3253657"/>
                  <a:pt x="542611" y="3239890"/>
                </a:cubicBezTo>
                <a:cubicBezTo>
                  <a:pt x="580455" y="3206777"/>
                  <a:pt x="583979" y="3198130"/>
                  <a:pt x="612949" y="3159504"/>
                </a:cubicBezTo>
                <a:cubicBezTo>
                  <a:pt x="634386" y="3095198"/>
                  <a:pt x="633802" y="3109947"/>
                  <a:pt x="612949" y="2998730"/>
                </a:cubicBezTo>
                <a:cubicBezTo>
                  <a:pt x="610723" y="2986860"/>
                  <a:pt x="598254" y="2979387"/>
                  <a:pt x="592853" y="2968585"/>
                </a:cubicBezTo>
                <a:cubicBezTo>
                  <a:pt x="588116" y="2959111"/>
                  <a:pt x="586154" y="2948488"/>
                  <a:pt x="582804" y="2938440"/>
                </a:cubicBezTo>
                <a:cubicBezTo>
                  <a:pt x="586154" y="2921693"/>
                  <a:pt x="586856" y="2904190"/>
                  <a:pt x="592853" y="2888198"/>
                </a:cubicBezTo>
                <a:cubicBezTo>
                  <a:pt x="597093" y="2876890"/>
                  <a:pt x="612240" y="2870109"/>
                  <a:pt x="612949" y="2858053"/>
                </a:cubicBezTo>
                <a:cubicBezTo>
                  <a:pt x="615710" y="2811122"/>
                  <a:pt x="614303" y="2762984"/>
                  <a:pt x="602901" y="2717376"/>
                </a:cubicBezTo>
                <a:cubicBezTo>
                  <a:pt x="597043" y="2693944"/>
                  <a:pt x="576106" y="2677183"/>
                  <a:pt x="562708" y="2657086"/>
                </a:cubicBezTo>
                <a:lnTo>
                  <a:pt x="542611" y="2626941"/>
                </a:lnTo>
                <a:cubicBezTo>
                  <a:pt x="517771" y="2552419"/>
                  <a:pt x="520811" y="2574091"/>
                  <a:pt x="542611" y="2436022"/>
                </a:cubicBezTo>
                <a:cubicBezTo>
                  <a:pt x="544494" y="2424093"/>
                  <a:pt x="556009" y="2415925"/>
                  <a:pt x="562708" y="2405877"/>
                </a:cubicBezTo>
                <a:cubicBezTo>
                  <a:pt x="566057" y="2395829"/>
                  <a:pt x="566253" y="2384093"/>
                  <a:pt x="572756" y="2375732"/>
                </a:cubicBezTo>
                <a:cubicBezTo>
                  <a:pt x="590205" y="2353298"/>
                  <a:pt x="612949" y="2335539"/>
                  <a:pt x="633046" y="2315442"/>
                </a:cubicBezTo>
                <a:cubicBezTo>
                  <a:pt x="643094" y="2305394"/>
                  <a:pt x="655308" y="2297121"/>
                  <a:pt x="663191" y="2285297"/>
                </a:cubicBezTo>
                <a:lnTo>
                  <a:pt x="703385" y="2225007"/>
                </a:lnTo>
                <a:cubicBezTo>
                  <a:pt x="725571" y="2136260"/>
                  <a:pt x="729469" y="2137359"/>
                  <a:pt x="703385" y="1993895"/>
                </a:cubicBezTo>
                <a:cubicBezTo>
                  <a:pt x="700717" y="1979221"/>
                  <a:pt x="654455" y="1951227"/>
                  <a:pt x="643094" y="1943653"/>
                </a:cubicBezTo>
                <a:cubicBezTo>
                  <a:pt x="633046" y="1930255"/>
                  <a:pt x="625814" y="1914181"/>
                  <a:pt x="612949" y="1903460"/>
                </a:cubicBezTo>
                <a:cubicBezTo>
                  <a:pt x="604812" y="1896679"/>
                  <a:pt x="591075" y="1900028"/>
                  <a:pt x="582804" y="1893411"/>
                </a:cubicBezTo>
                <a:cubicBezTo>
                  <a:pt x="573374" y="1885867"/>
                  <a:pt x="571247" y="1871805"/>
                  <a:pt x="562708" y="1863266"/>
                </a:cubicBezTo>
                <a:cubicBezTo>
                  <a:pt x="554169" y="1854726"/>
                  <a:pt x="542611" y="1849868"/>
                  <a:pt x="532563" y="1843169"/>
                </a:cubicBezTo>
                <a:cubicBezTo>
                  <a:pt x="525864" y="1833121"/>
                  <a:pt x="520197" y="1822302"/>
                  <a:pt x="512466" y="1813024"/>
                </a:cubicBezTo>
                <a:cubicBezTo>
                  <a:pt x="503369" y="1802107"/>
                  <a:pt x="490204" y="1794703"/>
                  <a:pt x="482321" y="1782879"/>
                </a:cubicBezTo>
                <a:cubicBezTo>
                  <a:pt x="476446" y="1774066"/>
                  <a:pt x="477417" y="1761993"/>
                  <a:pt x="472273" y="1752734"/>
                </a:cubicBezTo>
                <a:cubicBezTo>
                  <a:pt x="460543" y="1731620"/>
                  <a:pt x="449158" y="1709523"/>
                  <a:pt x="432079" y="1692444"/>
                </a:cubicBezTo>
                <a:cubicBezTo>
                  <a:pt x="422031" y="1682396"/>
                  <a:pt x="410194" y="1673863"/>
                  <a:pt x="401934" y="1662299"/>
                </a:cubicBezTo>
                <a:cubicBezTo>
                  <a:pt x="393227" y="1650110"/>
                  <a:pt x="389269" y="1635112"/>
                  <a:pt x="381837" y="1622106"/>
                </a:cubicBezTo>
                <a:cubicBezTo>
                  <a:pt x="375845" y="1611621"/>
                  <a:pt x="367142" y="1602763"/>
                  <a:pt x="361741" y="1591961"/>
                </a:cubicBezTo>
                <a:cubicBezTo>
                  <a:pt x="357004" y="1582487"/>
                  <a:pt x="356836" y="1571075"/>
                  <a:pt x="351692" y="1561816"/>
                </a:cubicBezTo>
                <a:cubicBezTo>
                  <a:pt x="339962" y="1540702"/>
                  <a:pt x="311499" y="1501526"/>
                  <a:pt x="311499" y="1501526"/>
                </a:cubicBezTo>
                <a:cubicBezTo>
                  <a:pt x="309132" y="1492059"/>
                  <a:pt x="297957" y="1442986"/>
                  <a:pt x="291402" y="1431187"/>
                </a:cubicBezTo>
                <a:cubicBezTo>
                  <a:pt x="279672" y="1410073"/>
                  <a:pt x="258847" y="1393811"/>
                  <a:pt x="251209" y="1370897"/>
                </a:cubicBezTo>
                <a:cubicBezTo>
                  <a:pt x="232785" y="1315628"/>
                  <a:pt x="252230" y="1365149"/>
                  <a:pt x="221064" y="1310607"/>
                </a:cubicBezTo>
                <a:cubicBezTo>
                  <a:pt x="213632" y="1297601"/>
                  <a:pt x="206868" y="1284181"/>
                  <a:pt x="200967" y="1270413"/>
                </a:cubicBezTo>
                <a:cubicBezTo>
                  <a:pt x="196795" y="1260678"/>
                  <a:pt x="196794" y="1249081"/>
                  <a:pt x="190919" y="1240268"/>
                </a:cubicBezTo>
                <a:cubicBezTo>
                  <a:pt x="183036" y="1228444"/>
                  <a:pt x="170822" y="1220171"/>
                  <a:pt x="160774" y="1210123"/>
                </a:cubicBezTo>
                <a:cubicBezTo>
                  <a:pt x="124122" y="1100173"/>
                  <a:pt x="182578" y="1266719"/>
                  <a:pt x="130629" y="1149833"/>
                </a:cubicBezTo>
                <a:cubicBezTo>
                  <a:pt x="122026" y="1130475"/>
                  <a:pt x="117231" y="1109640"/>
                  <a:pt x="110532" y="1089543"/>
                </a:cubicBezTo>
                <a:lnTo>
                  <a:pt x="100484" y="1059398"/>
                </a:lnTo>
                <a:cubicBezTo>
                  <a:pt x="97134" y="1049350"/>
                  <a:pt x="93004" y="1039529"/>
                  <a:pt x="90435" y="1029253"/>
                </a:cubicBezTo>
                <a:lnTo>
                  <a:pt x="80387" y="989060"/>
                </a:lnTo>
                <a:cubicBezTo>
                  <a:pt x="80814" y="985646"/>
                  <a:pt x="86184" y="899978"/>
                  <a:pt x="100484" y="878528"/>
                </a:cubicBezTo>
                <a:cubicBezTo>
                  <a:pt x="108367" y="866704"/>
                  <a:pt x="121532" y="859300"/>
                  <a:pt x="130629" y="848383"/>
                </a:cubicBezTo>
                <a:cubicBezTo>
                  <a:pt x="138360" y="839106"/>
                  <a:pt x="141637" y="826190"/>
                  <a:pt x="150725" y="818238"/>
                </a:cubicBezTo>
                <a:cubicBezTo>
                  <a:pt x="168902" y="802333"/>
                  <a:pt x="190918" y="791442"/>
                  <a:pt x="211015" y="778044"/>
                </a:cubicBezTo>
                <a:lnTo>
                  <a:pt x="241160" y="757948"/>
                </a:lnTo>
                <a:cubicBezTo>
                  <a:pt x="247859" y="747899"/>
                  <a:pt x="252717" y="736342"/>
                  <a:pt x="261257" y="727802"/>
                </a:cubicBezTo>
                <a:cubicBezTo>
                  <a:pt x="269796" y="719263"/>
                  <a:pt x="285001" y="717947"/>
                  <a:pt x="291402" y="707706"/>
                </a:cubicBezTo>
                <a:cubicBezTo>
                  <a:pt x="302630" y="689742"/>
                  <a:pt x="311499" y="647416"/>
                  <a:pt x="311499" y="647416"/>
                </a:cubicBezTo>
                <a:cubicBezTo>
                  <a:pt x="298456" y="556109"/>
                  <a:pt x="308940" y="599544"/>
                  <a:pt x="281354" y="516787"/>
                </a:cubicBezTo>
                <a:lnTo>
                  <a:pt x="271305" y="486642"/>
                </a:lnTo>
                <a:cubicBezTo>
                  <a:pt x="274655" y="446449"/>
                  <a:pt x="270559" y="404923"/>
                  <a:pt x="281354" y="366062"/>
                </a:cubicBezTo>
                <a:cubicBezTo>
                  <a:pt x="287818" y="342790"/>
                  <a:pt x="308149" y="325869"/>
                  <a:pt x="321547" y="305772"/>
                </a:cubicBezTo>
                <a:cubicBezTo>
                  <a:pt x="341731" y="275496"/>
                  <a:pt x="346442" y="271132"/>
                  <a:pt x="361741" y="235433"/>
                </a:cubicBezTo>
                <a:cubicBezTo>
                  <a:pt x="365913" y="225698"/>
                  <a:pt x="368440" y="215336"/>
                  <a:pt x="371789" y="205288"/>
                </a:cubicBezTo>
                <a:cubicBezTo>
                  <a:pt x="361050" y="114005"/>
                  <a:pt x="403440" y="0"/>
                  <a:pt x="281354" y="24418"/>
                </a:cubicBezTo>
                <a:cubicBezTo>
                  <a:pt x="267419" y="27205"/>
                  <a:pt x="261257" y="44515"/>
                  <a:pt x="251209" y="54563"/>
                </a:cubicBezTo>
                <a:cubicBezTo>
                  <a:pt x="225939" y="155635"/>
                  <a:pt x="253044" y="37117"/>
                  <a:pt x="231112" y="245482"/>
                </a:cubicBezTo>
                <a:cubicBezTo>
                  <a:pt x="230253" y="253642"/>
                  <a:pt x="216413" y="305023"/>
                  <a:pt x="211015" y="315820"/>
                </a:cubicBezTo>
                <a:cubicBezTo>
                  <a:pt x="205614" y="326622"/>
                  <a:pt x="196911" y="335480"/>
                  <a:pt x="190919" y="345965"/>
                </a:cubicBezTo>
                <a:cubicBezTo>
                  <a:pt x="139932" y="435194"/>
                  <a:pt x="199681" y="342872"/>
                  <a:pt x="150725" y="416304"/>
                </a:cubicBezTo>
                <a:cubicBezTo>
                  <a:pt x="147376" y="426352"/>
                  <a:pt x="141432" y="435884"/>
                  <a:pt x="140677" y="446449"/>
                </a:cubicBezTo>
                <a:cubicBezTo>
                  <a:pt x="134706" y="530039"/>
                  <a:pt x="143973" y="614923"/>
                  <a:pt x="130629" y="697657"/>
                </a:cubicBezTo>
                <a:cubicBezTo>
                  <a:pt x="126783" y="721502"/>
                  <a:pt x="90435" y="757948"/>
                  <a:pt x="90435" y="757948"/>
                </a:cubicBezTo>
                <a:cubicBezTo>
                  <a:pt x="87086" y="767996"/>
                  <a:pt x="85531" y="778834"/>
                  <a:pt x="80387" y="788093"/>
                </a:cubicBezTo>
                <a:cubicBezTo>
                  <a:pt x="68657" y="809207"/>
                  <a:pt x="40193" y="848383"/>
                  <a:pt x="40193" y="848383"/>
                </a:cubicBezTo>
                <a:cubicBezTo>
                  <a:pt x="33494" y="868480"/>
                  <a:pt x="25235" y="888122"/>
                  <a:pt x="20097" y="908673"/>
                </a:cubicBezTo>
                <a:lnTo>
                  <a:pt x="0" y="989060"/>
                </a:lnTo>
                <a:cubicBezTo>
                  <a:pt x="3349" y="1126387"/>
                  <a:pt x="4329" y="1263793"/>
                  <a:pt x="10048" y="1401042"/>
                </a:cubicBezTo>
                <a:cubicBezTo>
                  <a:pt x="11034" y="1424706"/>
                  <a:pt x="12003" y="1449122"/>
                  <a:pt x="20097" y="1471380"/>
                </a:cubicBezTo>
                <a:cubicBezTo>
                  <a:pt x="25820" y="1487119"/>
                  <a:pt x="40638" y="1497854"/>
                  <a:pt x="50242" y="1511574"/>
                </a:cubicBezTo>
                <a:cubicBezTo>
                  <a:pt x="64093" y="1531361"/>
                  <a:pt x="82797" y="1548950"/>
                  <a:pt x="90435" y="1571864"/>
                </a:cubicBezTo>
                <a:cubicBezTo>
                  <a:pt x="114525" y="1644129"/>
                  <a:pt x="79436" y="1553846"/>
                  <a:pt x="160774" y="1662299"/>
                </a:cubicBezTo>
                <a:cubicBezTo>
                  <a:pt x="199445" y="1713861"/>
                  <a:pt x="179077" y="1690651"/>
                  <a:pt x="221064" y="1732638"/>
                </a:cubicBezTo>
                <a:cubicBezTo>
                  <a:pt x="227763" y="1746036"/>
                  <a:pt x="233728" y="1759826"/>
                  <a:pt x="241160" y="1772831"/>
                </a:cubicBezTo>
                <a:cubicBezTo>
                  <a:pt x="250248" y="1788735"/>
                  <a:pt x="282160" y="1832387"/>
                  <a:pt x="291402" y="1843169"/>
                </a:cubicBezTo>
                <a:cubicBezTo>
                  <a:pt x="300650" y="1853959"/>
                  <a:pt x="313458" y="1861631"/>
                  <a:pt x="321547" y="1873315"/>
                </a:cubicBezTo>
                <a:cubicBezTo>
                  <a:pt x="433909" y="2035617"/>
                  <a:pt x="326968" y="1918931"/>
                  <a:pt x="442127" y="2034088"/>
                </a:cubicBezTo>
                <a:lnTo>
                  <a:pt x="502418" y="2094378"/>
                </a:lnTo>
                <a:lnTo>
                  <a:pt x="542611" y="2154668"/>
                </a:lnTo>
                <a:cubicBezTo>
                  <a:pt x="539262" y="2208259"/>
                  <a:pt x="540938" y="2262403"/>
                  <a:pt x="532563" y="2315442"/>
                </a:cubicBezTo>
                <a:cubicBezTo>
                  <a:pt x="530680" y="2327371"/>
                  <a:pt x="517867" y="2334785"/>
                  <a:pt x="512466" y="2345587"/>
                </a:cubicBezTo>
                <a:cubicBezTo>
                  <a:pt x="507729" y="2355061"/>
                  <a:pt x="509035" y="2367461"/>
                  <a:pt x="502418" y="2375732"/>
                </a:cubicBezTo>
                <a:cubicBezTo>
                  <a:pt x="494874" y="2385162"/>
                  <a:pt x="482321" y="2389130"/>
                  <a:pt x="472273" y="2395829"/>
                </a:cubicBezTo>
                <a:cubicBezTo>
                  <a:pt x="465574" y="2409227"/>
                  <a:pt x="459883" y="2423178"/>
                  <a:pt x="452176" y="2436022"/>
                </a:cubicBezTo>
                <a:cubicBezTo>
                  <a:pt x="439749" y="2456733"/>
                  <a:pt x="411982" y="2496312"/>
                  <a:pt x="411982" y="2496312"/>
                </a:cubicBezTo>
                <a:cubicBezTo>
                  <a:pt x="391496" y="2557772"/>
                  <a:pt x="396572" y="2529119"/>
                  <a:pt x="411982" y="2636989"/>
                </a:cubicBezTo>
                <a:cubicBezTo>
                  <a:pt x="413480" y="2647474"/>
                  <a:pt x="416156" y="2658321"/>
                  <a:pt x="422031" y="2667134"/>
                </a:cubicBezTo>
                <a:cubicBezTo>
                  <a:pt x="429914" y="2678958"/>
                  <a:pt x="442128" y="2687231"/>
                  <a:pt x="452176" y="2697279"/>
                </a:cubicBezTo>
                <a:cubicBezTo>
                  <a:pt x="485618" y="2831046"/>
                  <a:pt x="491392" y="2821945"/>
                  <a:pt x="462224" y="3018827"/>
                </a:cubicBezTo>
                <a:cubicBezTo>
                  <a:pt x="460141" y="3032884"/>
                  <a:pt x="442127" y="3038924"/>
                  <a:pt x="432079" y="3048972"/>
                </a:cubicBezTo>
                <a:cubicBezTo>
                  <a:pt x="425380" y="3069069"/>
                  <a:pt x="405283" y="3089165"/>
                  <a:pt x="411982" y="3109262"/>
                </a:cubicBezTo>
                <a:lnTo>
                  <a:pt x="432079" y="3169552"/>
                </a:lnTo>
                <a:cubicBezTo>
                  <a:pt x="426832" y="3222021"/>
                  <a:pt x="438550" y="3263564"/>
                  <a:pt x="401934" y="3300180"/>
                </a:cubicBezTo>
                <a:cubicBezTo>
                  <a:pt x="393395" y="3308719"/>
                  <a:pt x="381837" y="3313578"/>
                  <a:pt x="371789" y="3320277"/>
                </a:cubicBezTo>
                <a:cubicBezTo>
                  <a:pt x="340910" y="3366595"/>
                  <a:pt x="335183" y="3361182"/>
                  <a:pt x="361741" y="3440857"/>
                </a:cubicBezTo>
                <a:cubicBezTo>
                  <a:pt x="369379" y="3463771"/>
                  <a:pt x="388536" y="3481051"/>
                  <a:pt x="401934" y="3501148"/>
                </a:cubicBezTo>
                <a:lnTo>
                  <a:pt x="422031" y="3531293"/>
                </a:lnTo>
                <a:cubicBezTo>
                  <a:pt x="425380" y="3541341"/>
                  <a:pt x="427342" y="3551964"/>
                  <a:pt x="432079" y="3561438"/>
                </a:cubicBezTo>
                <a:cubicBezTo>
                  <a:pt x="437480" y="3572240"/>
                  <a:pt x="445157" y="3581756"/>
                  <a:pt x="452176" y="3591583"/>
                </a:cubicBezTo>
                <a:cubicBezTo>
                  <a:pt x="514495" y="3678828"/>
                  <a:pt x="455055" y="3590878"/>
                  <a:pt x="502418" y="3661921"/>
                </a:cubicBezTo>
                <a:cubicBezTo>
                  <a:pt x="505767" y="3671969"/>
                  <a:pt x="512466" y="3681474"/>
                  <a:pt x="512466" y="3692066"/>
                </a:cubicBezTo>
                <a:cubicBezTo>
                  <a:pt x="512466" y="3705876"/>
                  <a:pt x="508594" y="3719908"/>
                  <a:pt x="502418" y="3732260"/>
                </a:cubicBezTo>
                <a:cubicBezTo>
                  <a:pt x="494929" y="3747239"/>
                  <a:pt x="485139" y="3761732"/>
                  <a:pt x="472273" y="3772453"/>
                </a:cubicBezTo>
                <a:cubicBezTo>
                  <a:pt x="464136" y="3779234"/>
                  <a:pt x="452548" y="3780606"/>
                  <a:pt x="442127" y="3782501"/>
                </a:cubicBezTo>
                <a:cubicBezTo>
                  <a:pt x="415559" y="3787332"/>
                  <a:pt x="388536" y="3789200"/>
                  <a:pt x="361741" y="3792550"/>
                </a:cubicBezTo>
                <a:cubicBezTo>
                  <a:pt x="348343" y="3819346"/>
                  <a:pt x="319249" y="3843067"/>
                  <a:pt x="321547" y="3872937"/>
                </a:cubicBezTo>
                <a:cubicBezTo>
                  <a:pt x="324102" y="3906152"/>
                  <a:pt x="322210" y="4019632"/>
                  <a:pt x="351692" y="4063855"/>
                </a:cubicBezTo>
                <a:cubicBezTo>
                  <a:pt x="358391" y="4073903"/>
                  <a:pt x="363250" y="4085461"/>
                  <a:pt x="371789" y="4094000"/>
                </a:cubicBezTo>
                <a:cubicBezTo>
                  <a:pt x="380328" y="4102539"/>
                  <a:pt x="393395" y="4105558"/>
                  <a:pt x="401934" y="4114097"/>
                </a:cubicBezTo>
                <a:cubicBezTo>
                  <a:pt x="413776" y="4125939"/>
                  <a:pt x="422345" y="4140662"/>
                  <a:pt x="432079" y="4154290"/>
                </a:cubicBezTo>
                <a:cubicBezTo>
                  <a:pt x="439098" y="4164117"/>
                  <a:pt x="442746" y="4176891"/>
                  <a:pt x="452176" y="4184435"/>
                </a:cubicBezTo>
                <a:cubicBezTo>
                  <a:pt x="460447" y="4191052"/>
                  <a:pt x="472273" y="4191134"/>
                  <a:pt x="482321" y="4194484"/>
                </a:cubicBezTo>
                <a:cubicBezTo>
                  <a:pt x="492369" y="4204532"/>
                  <a:pt x="501549" y="4215532"/>
                  <a:pt x="512466" y="4224629"/>
                </a:cubicBezTo>
                <a:cubicBezTo>
                  <a:pt x="521744" y="4232360"/>
                  <a:pt x="535067" y="4235296"/>
                  <a:pt x="542611" y="4244726"/>
                </a:cubicBezTo>
                <a:cubicBezTo>
                  <a:pt x="549228" y="4252997"/>
                  <a:pt x="549310" y="4264823"/>
                  <a:pt x="552659" y="4274871"/>
                </a:cubicBezTo>
                <a:cubicBezTo>
                  <a:pt x="544484" y="4438384"/>
                  <a:pt x="534487" y="4450080"/>
                  <a:pt x="552659" y="4586369"/>
                </a:cubicBezTo>
                <a:cubicBezTo>
                  <a:pt x="554484" y="4600058"/>
                  <a:pt x="559358" y="4613165"/>
                  <a:pt x="562708" y="4626563"/>
                </a:cubicBezTo>
                <a:cubicBezTo>
                  <a:pt x="559358" y="4639961"/>
                  <a:pt x="559511" y="4654766"/>
                  <a:pt x="552659" y="4666756"/>
                </a:cubicBezTo>
                <a:cubicBezTo>
                  <a:pt x="533802" y="4699755"/>
                  <a:pt x="486123" y="4713196"/>
                  <a:pt x="462224" y="4737095"/>
                </a:cubicBezTo>
                <a:cubicBezTo>
                  <a:pt x="442127" y="4757192"/>
                  <a:pt x="417699" y="4773737"/>
                  <a:pt x="401934" y="4797385"/>
                </a:cubicBezTo>
                <a:cubicBezTo>
                  <a:pt x="395235" y="4807433"/>
                  <a:pt x="391885" y="4820831"/>
                  <a:pt x="381837" y="4827530"/>
                </a:cubicBezTo>
                <a:cubicBezTo>
                  <a:pt x="370346" y="4835190"/>
                  <a:pt x="355042" y="4834229"/>
                  <a:pt x="341644" y="4837578"/>
                </a:cubicBezTo>
                <a:cubicBezTo>
                  <a:pt x="349893" y="4911825"/>
                  <a:pt x="335508" y="4921877"/>
                  <a:pt x="381837" y="4968207"/>
                </a:cubicBezTo>
                <a:cubicBezTo>
                  <a:pt x="390376" y="4976747"/>
                  <a:pt x="401934" y="4981605"/>
                  <a:pt x="411982" y="4988304"/>
                </a:cubicBezTo>
                <a:cubicBezTo>
                  <a:pt x="415332" y="4998352"/>
                  <a:pt x="414541" y="5010959"/>
                  <a:pt x="422031" y="5018449"/>
                </a:cubicBezTo>
                <a:cubicBezTo>
                  <a:pt x="443953" y="5040371"/>
                  <a:pt x="510319" y="5020191"/>
                  <a:pt x="522514" y="5018449"/>
                </a:cubicBezTo>
                <a:cubicBezTo>
                  <a:pt x="499546" y="5003137"/>
                  <a:pt x="481843" y="4996917"/>
                  <a:pt x="472273" y="4968207"/>
                </a:cubicBezTo>
                <a:cubicBezTo>
                  <a:pt x="469096" y="4958674"/>
                  <a:pt x="472273" y="4948110"/>
                  <a:pt x="472273" y="4938062"/>
                </a:cubicBezTo>
              </a:path>
            </a:pathLst>
          </a:custGeom>
          <a:solidFill>
            <a:srgbClr val="003300"/>
          </a:soli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90"/>
          <p:cNvSpPr/>
          <p:nvPr/>
        </p:nvSpPr>
        <p:spPr>
          <a:xfrm>
            <a:off x="6451560" y="5033880"/>
            <a:ext cx="1355760" cy="992160"/>
          </a:xfrm>
          <a:custGeom>
            <a:avLst/>
            <a:gdLst/>
            <a:ahLst/>
            <a:rect l="l" t="t" r="r" b="b"/>
            <a:pathLst>
              <a:path w="1356527" h="992652">
                <a:moveTo>
                  <a:pt x="1286189" y="161224"/>
                </a:moveTo>
                <a:cubicBezTo>
                  <a:pt x="1258207" y="133242"/>
                  <a:pt x="1207575" y="74728"/>
                  <a:pt x="1165609" y="60740"/>
                </a:cubicBezTo>
                <a:cubicBezTo>
                  <a:pt x="1145512" y="54041"/>
                  <a:pt x="1125869" y="45782"/>
                  <a:pt x="1105318" y="40644"/>
                </a:cubicBezTo>
                <a:cubicBezTo>
                  <a:pt x="1091920" y="37294"/>
                  <a:pt x="1078353" y="34563"/>
                  <a:pt x="1065125" y="30595"/>
                </a:cubicBezTo>
                <a:cubicBezTo>
                  <a:pt x="963141" y="0"/>
                  <a:pt x="1046159" y="18764"/>
                  <a:pt x="954593" y="450"/>
                </a:cubicBezTo>
                <a:cubicBezTo>
                  <a:pt x="927728" y="4928"/>
                  <a:pt x="872140" y="13528"/>
                  <a:pt x="844061" y="20547"/>
                </a:cubicBezTo>
                <a:cubicBezTo>
                  <a:pt x="833785" y="23116"/>
                  <a:pt x="823964" y="27246"/>
                  <a:pt x="813916" y="30595"/>
                </a:cubicBezTo>
                <a:cubicBezTo>
                  <a:pt x="807217" y="40643"/>
                  <a:pt x="799221" y="49938"/>
                  <a:pt x="793820" y="60740"/>
                </a:cubicBezTo>
                <a:cubicBezTo>
                  <a:pt x="789083" y="70214"/>
                  <a:pt x="791261" y="83395"/>
                  <a:pt x="783771" y="90885"/>
                </a:cubicBezTo>
                <a:cubicBezTo>
                  <a:pt x="776281" y="98375"/>
                  <a:pt x="764210" y="100519"/>
                  <a:pt x="753626" y="100934"/>
                </a:cubicBezTo>
                <a:cubicBezTo>
                  <a:pt x="592941" y="107235"/>
                  <a:pt x="432079" y="107633"/>
                  <a:pt x="271305" y="110982"/>
                </a:cubicBezTo>
                <a:cubicBezTo>
                  <a:pt x="261257" y="117681"/>
                  <a:pt x="249699" y="122540"/>
                  <a:pt x="241160" y="131079"/>
                </a:cubicBezTo>
                <a:cubicBezTo>
                  <a:pt x="218028" y="154211"/>
                  <a:pt x="218702" y="170668"/>
                  <a:pt x="211015" y="201417"/>
                </a:cubicBezTo>
                <a:cubicBezTo>
                  <a:pt x="207666" y="248309"/>
                  <a:pt x="209137" y="295798"/>
                  <a:pt x="200967" y="342094"/>
                </a:cubicBezTo>
                <a:cubicBezTo>
                  <a:pt x="197455" y="361998"/>
                  <a:pt x="160619" y="389663"/>
                  <a:pt x="150725" y="402384"/>
                </a:cubicBezTo>
                <a:cubicBezTo>
                  <a:pt x="135896" y="421449"/>
                  <a:pt x="127611" y="445595"/>
                  <a:pt x="110532" y="462674"/>
                </a:cubicBezTo>
                <a:cubicBezTo>
                  <a:pt x="100484" y="472722"/>
                  <a:pt x="89484" y="481902"/>
                  <a:pt x="80387" y="492819"/>
                </a:cubicBezTo>
                <a:cubicBezTo>
                  <a:pt x="72656" y="502097"/>
                  <a:pt x="68829" y="514425"/>
                  <a:pt x="60290" y="522964"/>
                </a:cubicBezTo>
                <a:cubicBezTo>
                  <a:pt x="51751" y="531503"/>
                  <a:pt x="40193" y="536362"/>
                  <a:pt x="30145" y="543061"/>
                </a:cubicBezTo>
                <a:cubicBezTo>
                  <a:pt x="19983" y="558303"/>
                  <a:pt x="0" y="582549"/>
                  <a:pt x="0" y="603351"/>
                </a:cubicBezTo>
                <a:cubicBezTo>
                  <a:pt x="0" y="637013"/>
                  <a:pt x="4930" y="670565"/>
                  <a:pt x="10048" y="703835"/>
                </a:cubicBezTo>
                <a:cubicBezTo>
                  <a:pt x="11659" y="714304"/>
                  <a:pt x="14221" y="725167"/>
                  <a:pt x="20096" y="733980"/>
                </a:cubicBezTo>
                <a:cubicBezTo>
                  <a:pt x="27979" y="745804"/>
                  <a:pt x="41144" y="753208"/>
                  <a:pt x="50242" y="764125"/>
                </a:cubicBezTo>
                <a:cubicBezTo>
                  <a:pt x="92112" y="814369"/>
                  <a:pt x="45214" y="777520"/>
                  <a:pt x="100483" y="814367"/>
                </a:cubicBezTo>
                <a:cubicBezTo>
                  <a:pt x="107182" y="824415"/>
                  <a:pt x="111491" y="836560"/>
                  <a:pt x="120580" y="844512"/>
                </a:cubicBezTo>
                <a:cubicBezTo>
                  <a:pt x="138757" y="860417"/>
                  <a:pt x="160773" y="871307"/>
                  <a:pt x="180870" y="884705"/>
                </a:cubicBezTo>
                <a:cubicBezTo>
                  <a:pt x="303027" y="966143"/>
                  <a:pt x="198924" y="904436"/>
                  <a:pt x="542611" y="914850"/>
                </a:cubicBezTo>
                <a:cubicBezTo>
                  <a:pt x="552659" y="918200"/>
                  <a:pt x="562480" y="922330"/>
                  <a:pt x="572756" y="924899"/>
                </a:cubicBezTo>
                <a:cubicBezTo>
                  <a:pt x="623941" y="937695"/>
                  <a:pt x="657168" y="938743"/>
                  <a:pt x="713433" y="944995"/>
                </a:cubicBezTo>
                <a:cubicBezTo>
                  <a:pt x="856401" y="992652"/>
                  <a:pt x="752555" y="965906"/>
                  <a:pt x="1034980" y="955044"/>
                </a:cubicBezTo>
                <a:cubicBezTo>
                  <a:pt x="1057681" y="886939"/>
                  <a:pt x="1034980" y="970023"/>
                  <a:pt x="1034980" y="854560"/>
                </a:cubicBezTo>
                <a:cubicBezTo>
                  <a:pt x="1034980" y="817564"/>
                  <a:pt x="1042190" y="780915"/>
                  <a:pt x="1045028" y="744028"/>
                </a:cubicBezTo>
                <a:cubicBezTo>
                  <a:pt x="1048890" y="693823"/>
                  <a:pt x="1039154" y="641072"/>
                  <a:pt x="1055077" y="593303"/>
                </a:cubicBezTo>
                <a:cubicBezTo>
                  <a:pt x="1064065" y="566341"/>
                  <a:pt x="1095270" y="553110"/>
                  <a:pt x="1115367" y="533013"/>
                </a:cubicBezTo>
                <a:cubicBezTo>
                  <a:pt x="1203436" y="444944"/>
                  <a:pt x="1095661" y="556661"/>
                  <a:pt x="1165609" y="472723"/>
                </a:cubicBezTo>
                <a:cubicBezTo>
                  <a:pt x="1174706" y="461806"/>
                  <a:pt x="1185706" y="452626"/>
                  <a:pt x="1195754" y="442578"/>
                </a:cubicBezTo>
                <a:cubicBezTo>
                  <a:pt x="1199103" y="432530"/>
                  <a:pt x="1199299" y="420794"/>
                  <a:pt x="1205802" y="412433"/>
                </a:cubicBezTo>
                <a:cubicBezTo>
                  <a:pt x="1223251" y="389999"/>
                  <a:pt x="1242444" y="367907"/>
                  <a:pt x="1266092" y="352142"/>
                </a:cubicBezTo>
                <a:cubicBezTo>
                  <a:pt x="1290130" y="336117"/>
                  <a:pt x="1308798" y="326519"/>
                  <a:pt x="1326382" y="301901"/>
                </a:cubicBezTo>
                <a:cubicBezTo>
                  <a:pt x="1341904" y="280170"/>
                  <a:pt x="1348327" y="256164"/>
                  <a:pt x="1356527" y="231562"/>
                </a:cubicBezTo>
                <a:cubicBezTo>
                  <a:pt x="1349359" y="210058"/>
                  <a:pt x="1344716" y="187314"/>
                  <a:pt x="1326382" y="171272"/>
                </a:cubicBezTo>
                <a:cubicBezTo>
                  <a:pt x="1308205" y="155367"/>
                  <a:pt x="1289006" y="138717"/>
                  <a:pt x="1266092" y="131079"/>
                </a:cubicBezTo>
                <a:cubicBezTo>
                  <a:pt x="1228842" y="118661"/>
                  <a:pt x="1245421" y="125767"/>
                  <a:pt x="1215850" y="110982"/>
                </a:cubicBezTo>
              </a:path>
            </a:pathLst>
          </a:custGeom>
          <a:solidFill>
            <a:srgbClr val="262626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91"/>
          <p:cNvSpPr/>
          <p:nvPr/>
        </p:nvSpPr>
        <p:spPr>
          <a:xfrm>
            <a:off x="7728120" y="5365800"/>
            <a:ext cx="150480" cy="322200"/>
          </a:xfrm>
          <a:custGeom>
            <a:avLst/>
            <a:gdLst/>
            <a:ahLst/>
            <a:rect l="l" t="t" r="r" b="b"/>
            <a:pathLst>
              <a:path w="151481" h="321547">
                <a:moveTo>
                  <a:pt x="120581" y="50242"/>
                </a:moveTo>
                <a:cubicBezTo>
                  <a:pt x="110533" y="53591"/>
                  <a:pt x="99249" y="54415"/>
                  <a:pt x="90436" y="60290"/>
                </a:cubicBezTo>
                <a:cubicBezTo>
                  <a:pt x="47578" y="88862"/>
                  <a:pt x="68678" y="83709"/>
                  <a:pt x="50242" y="120580"/>
                </a:cubicBezTo>
                <a:cubicBezTo>
                  <a:pt x="44841" y="131382"/>
                  <a:pt x="36844" y="140677"/>
                  <a:pt x="30145" y="150725"/>
                </a:cubicBezTo>
                <a:cubicBezTo>
                  <a:pt x="26796" y="160773"/>
                  <a:pt x="24834" y="171396"/>
                  <a:pt x="20097" y="180870"/>
                </a:cubicBezTo>
                <a:cubicBezTo>
                  <a:pt x="14696" y="191672"/>
                  <a:pt x="0" y="198938"/>
                  <a:pt x="0" y="211015"/>
                </a:cubicBezTo>
                <a:cubicBezTo>
                  <a:pt x="0" y="248463"/>
                  <a:pt x="13398" y="284703"/>
                  <a:pt x="20097" y="321547"/>
                </a:cubicBezTo>
                <a:cubicBezTo>
                  <a:pt x="30145" y="311499"/>
                  <a:pt x="39325" y="300499"/>
                  <a:pt x="50242" y="291402"/>
                </a:cubicBezTo>
                <a:cubicBezTo>
                  <a:pt x="59520" y="283671"/>
                  <a:pt x="71848" y="279844"/>
                  <a:pt x="80387" y="271305"/>
                </a:cubicBezTo>
                <a:cubicBezTo>
                  <a:pt x="88926" y="262766"/>
                  <a:pt x="92753" y="250438"/>
                  <a:pt x="100484" y="241160"/>
                </a:cubicBezTo>
                <a:cubicBezTo>
                  <a:pt x="109581" y="230243"/>
                  <a:pt x="120581" y="221063"/>
                  <a:pt x="130629" y="211015"/>
                </a:cubicBezTo>
                <a:cubicBezTo>
                  <a:pt x="133978" y="197617"/>
                  <a:pt x="136883" y="184101"/>
                  <a:pt x="140677" y="170822"/>
                </a:cubicBezTo>
                <a:cubicBezTo>
                  <a:pt x="143587" y="160638"/>
                  <a:pt x="151481" y="151242"/>
                  <a:pt x="150726" y="140677"/>
                </a:cubicBezTo>
                <a:cubicBezTo>
                  <a:pt x="143604" y="40966"/>
                  <a:pt x="146521" y="53982"/>
                  <a:pt x="110532" y="0"/>
                </a:cubicBezTo>
                <a:cubicBezTo>
                  <a:pt x="68481" y="63077"/>
                  <a:pt x="70339" y="36137"/>
                  <a:pt x="70339" y="70338"/>
                </a:cubicBezTo>
              </a:path>
            </a:pathLst>
          </a:custGeom>
          <a:solidFill>
            <a:srgbClr val="262626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92"/>
          <p:cNvSpPr/>
          <p:nvPr/>
        </p:nvSpPr>
        <p:spPr>
          <a:xfrm>
            <a:off x="5991120" y="5396040"/>
            <a:ext cx="1203480" cy="633240"/>
          </a:xfrm>
          <a:custGeom>
            <a:avLst/>
            <a:gdLst/>
            <a:ahLst/>
            <a:rect l="l" t="t" r="r" b="b"/>
            <a:pathLst>
              <a:path w="1202818" h="633390">
                <a:moveTo>
                  <a:pt x="1052093" y="190919"/>
                </a:moveTo>
                <a:cubicBezTo>
                  <a:pt x="1048743" y="180870"/>
                  <a:pt x="1050315" y="167390"/>
                  <a:pt x="1042044" y="160773"/>
                </a:cubicBezTo>
                <a:cubicBezTo>
                  <a:pt x="1031260" y="152146"/>
                  <a:pt x="1014782" y="155574"/>
                  <a:pt x="1001851" y="150725"/>
                </a:cubicBezTo>
                <a:cubicBezTo>
                  <a:pt x="987825" y="145465"/>
                  <a:pt x="975425" y="136529"/>
                  <a:pt x="961657" y="130628"/>
                </a:cubicBezTo>
                <a:cubicBezTo>
                  <a:pt x="951922" y="126456"/>
                  <a:pt x="941560" y="123929"/>
                  <a:pt x="931512" y="120580"/>
                </a:cubicBezTo>
                <a:cubicBezTo>
                  <a:pt x="921464" y="113881"/>
                  <a:pt x="913237" y="102709"/>
                  <a:pt x="901367" y="100483"/>
                </a:cubicBezTo>
                <a:cubicBezTo>
                  <a:pt x="653112" y="53935"/>
                  <a:pt x="838137" y="112900"/>
                  <a:pt x="740594" y="80387"/>
                </a:cubicBezTo>
                <a:cubicBezTo>
                  <a:pt x="733895" y="70339"/>
                  <a:pt x="729927" y="57786"/>
                  <a:pt x="720497" y="50242"/>
                </a:cubicBezTo>
                <a:cubicBezTo>
                  <a:pt x="712226" y="43625"/>
                  <a:pt x="699826" y="44930"/>
                  <a:pt x="690352" y="40193"/>
                </a:cubicBezTo>
                <a:cubicBezTo>
                  <a:pt x="679550" y="34792"/>
                  <a:pt x="671664" y="23916"/>
                  <a:pt x="660207" y="20097"/>
                </a:cubicBezTo>
                <a:cubicBezTo>
                  <a:pt x="640879" y="13654"/>
                  <a:pt x="619806" y="14468"/>
                  <a:pt x="599917" y="10048"/>
                </a:cubicBezTo>
                <a:cubicBezTo>
                  <a:pt x="589577" y="7750"/>
                  <a:pt x="579820" y="3349"/>
                  <a:pt x="569772" y="0"/>
                </a:cubicBezTo>
                <a:cubicBezTo>
                  <a:pt x="509482" y="3349"/>
                  <a:pt x="448818" y="2558"/>
                  <a:pt x="388901" y="10048"/>
                </a:cubicBezTo>
                <a:cubicBezTo>
                  <a:pt x="367881" y="12676"/>
                  <a:pt x="328611" y="30145"/>
                  <a:pt x="328611" y="30145"/>
                </a:cubicBezTo>
                <a:cubicBezTo>
                  <a:pt x="318563" y="36844"/>
                  <a:pt x="307005" y="41703"/>
                  <a:pt x="298466" y="50242"/>
                </a:cubicBezTo>
                <a:cubicBezTo>
                  <a:pt x="279709" y="68999"/>
                  <a:pt x="280379" y="95124"/>
                  <a:pt x="248224" y="100483"/>
                </a:cubicBezTo>
                <a:cubicBezTo>
                  <a:pt x="198556" y="108761"/>
                  <a:pt x="147741" y="107182"/>
                  <a:pt x="97499" y="110532"/>
                </a:cubicBezTo>
                <a:cubicBezTo>
                  <a:pt x="87451" y="117231"/>
                  <a:pt x="75306" y="121539"/>
                  <a:pt x="67354" y="130628"/>
                </a:cubicBezTo>
                <a:cubicBezTo>
                  <a:pt x="51449" y="148805"/>
                  <a:pt x="27161" y="190919"/>
                  <a:pt x="27161" y="190919"/>
                </a:cubicBezTo>
                <a:cubicBezTo>
                  <a:pt x="1498" y="293568"/>
                  <a:pt x="0" y="262053"/>
                  <a:pt x="17112" y="381837"/>
                </a:cubicBezTo>
                <a:cubicBezTo>
                  <a:pt x="18610" y="392322"/>
                  <a:pt x="20544" y="403711"/>
                  <a:pt x="27161" y="411982"/>
                </a:cubicBezTo>
                <a:cubicBezTo>
                  <a:pt x="34705" y="421412"/>
                  <a:pt x="47258" y="425380"/>
                  <a:pt x="57306" y="432079"/>
                </a:cubicBezTo>
                <a:cubicBezTo>
                  <a:pt x="63925" y="451938"/>
                  <a:pt x="69742" y="478202"/>
                  <a:pt x="87451" y="492369"/>
                </a:cubicBezTo>
                <a:cubicBezTo>
                  <a:pt x="95722" y="498986"/>
                  <a:pt x="107548" y="499068"/>
                  <a:pt x="117596" y="502417"/>
                </a:cubicBezTo>
                <a:cubicBezTo>
                  <a:pt x="179512" y="543695"/>
                  <a:pt x="111065" y="503589"/>
                  <a:pt x="197983" y="532562"/>
                </a:cubicBezTo>
                <a:cubicBezTo>
                  <a:pt x="212193" y="537299"/>
                  <a:pt x="224151" y="547399"/>
                  <a:pt x="238176" y="552659"/>
                </a:cubicBezTo>
                <a:cubicBezTo>
                  <a:pt x="251107" y="557508"/>
                  <a:pt x="265090" y="558914"/>
                  <a:pt x="278369" y="562708"/>
                </a:cubicBezTo>
                <a:cubicBezTo>
                  <a:pt x="288553" y="565618"/>
                  <a:pt x="298466" y="569407"/>
                  <a:pt x="308514" y="572756"/>
                </a:cubicBezTo>
                <a:cubicBezTo>
                  <a:pt x="321912" y="569407"/>
                  <a:pt x="335166" y="565416"/>
                  <a:pt x="348708" y="562708"/>
                </a:cubicBezTo>
                <a:cubicBezTo>
                  <a:pt x="368686" y="558712"/>
                  <a:pt x="389670" y="559102"/>
                  <a:pt x="408998" y="552659"/>
                </a:cubicBezTo>
                <a:cubicBezTo>
                  <a:pt x="420455" y="548840"/>
                  <a:pt x="428658" y="538554"/>
                  <a:pt x="439143" y="532562"/>
                </a:cubicBezTo>
                <a:cubicBezTo>
                  <a:pt x="452148" y="525130"/>
                  <a:pt x="465938" y="519165"/>
                  <a:pt x="479336" y="512466"/>
                </a:cubicBezTo>
                <a:cubicBezTo>
                  <a:pt x="499433" y="515815"/>
                  <a:pt x="519738" y="518094"/>
                  <a:pt x="539627" y="522514"/>
                </a:cubicBezTo>
                <a:cubicBezTo>
                  <a:pt x="549967" y="524812"/>
                  <a:pt x="559341" y="530721"/>
                  <a:pt x="569772" y="532562"/>
                </a:cubicBezTo>
                <a:cubicBezTo>
                  <a:pt x="616420" y="540794"/>
                  <a:pt x="664001" y="543369"/>
                  <a:pt x="710449" y="552659"/>
                </a:cubicBezTo>
                <a:lnTo>
                  <a:pt x="760690" y="562708"/>
                </a:lnTo>
                <a:cubicBezTo>
                  <a:pt x="780787" y="576106"/>
                  <a:pt x="798066" y="595263"/>
                  <a:pt x="820980" y="602901"/>
                </a:cubicBezTo>
                <a:cubicBezTo>
                  <a:pt x="900599" y="629441"/>
                  <a:pt x="860375" y="619515"/>
                  <a:pt x="941561" y="633046"/>
                </a:cubicBezTo>
                <a:cubicBezTo>
                  <a:pt x="981754" y="629697"/>
                  <a:pt x="1023170" y="633390"/>
                  <a:pt x="1062141" y="622998"/>
                </a:cubicBezTo>
                <a:cubicBezTo>
                  <a:pt x="1075872" y="619337"/>
                  <a:pt x="1081369" y="601950"/>
                  <a:pt x="1092286" y="592853"/>
                </a:cubicBezTo>
                <a:cubicBezTo>
                  <a:pt x="1101564" y="585122"/>
                  <a:pt x="1112383" y="579455"/>
                  <a:pt x="1122431" y="572756"/>
                </a:cubicBezTo>
                <a:cubicBezTo>
                  <a:pt x="1176026" y="492365"/>
                  <a:pt x="1105681" y="589507"/>
                  <a:pt x="1172673" y="522514"/>
                </a:cubicBezTo>
                <a:cubicBezTo>
                  <a:pt x="1192150" y="503036"/>
                  <a:pt x="1194645" y="486740"/>
                  <a:pt x="1202818" y="462224"/>
                </a:cubicBezTo>
                <a:cubicBezTo>
                  <a:pt x="1199468" y="411982"/>
                  <a:pt x="1201047" y="361167"/>
                  <a:pt x="1192769" y="311499"/>
                </a:cubicBezTo>
                <a:cubicBezTo>
                  <a:pt x="1190784" y="299587"/>
                  <a:pt x="1178074" y="292156"/>
                  <a:pt x="1172673" y="281354"/>
                </a:cubicBezTo>
                <a:cubicBezTo>
                  <a:pt x="1167936" y="271880"/>
                  <a:pt x="1168499" y="260022"/>
                  <a:pt x="1162624" y="251209"/>
                </a:cubicBezTo>
                <a:cubicBezTo>
                  <a:pt x="1140607" y="218183"/>
                  <a:pt x="1130138" y="224138"/>
                  <a:pt x="1102334" y="200967"/>
                </a:cubicBezTo>
                <a:cubicBezTo>
                  <a:pt x="1091417" y="191870"/>
                  <a:pt x="1084527" y="177872"/>
                  <a:pt x="1072189" y="170822"/>
                </a:cubicBezTo>
                <a:cubicBezTo>
                  <a:pt x="1014051" y="137599"/>
                  <a:pt x="1043964" y="184707"/>
                  <a:pt x="1021947" y="140677"/>
                </a:cubicBezTo>
              </a:path>
            </a:pathLst>
          </a:custGeom>
          <a:solidFill>
            <a:srgbClr val="404040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93"/>
          <p:cNvSpPr/>
          <p:nvPr/>
        </p:nvSpPr>
        <p:spPr>
          <a:xfrm>
            <a:off x="5986440" y="5526000"/>
            <a:ext cx="1228680" cy="527040"/>
          </a:xfrm>
          <a:custGeom>
            <a:avLst/>
            <a:gdLst/>
            <a:ahLst/>
            <a:rect l="l" t="t" r="r" b="b"/>
            <a:pathLst>
              <a:path w="1229403" h="527609">
                <a:moveTo>
                  <a:pt x="183718" y="543"/>
                </a:moveTo>
                <a:cubicBezTo>
                  <a:pt x="170320" y="20640"/>
                  <a:pt x="151163" y="37920"/>
                  <a:pt x="143525" y="60834"/>
                </a:cubicBezTo>
                <a:lnTo>
                  <a:pt x="123428" y="121124"/>
                </a:lnTo>
                <a:cubicBezTo>
                  <a:pt x="126777" y="137871"/>
                  <a:pt x="131358" y="154418"/>
                  <a:pt x="133476" y="171365"/>
                </a:cubicBezTo>
                <a:cubicBezTo>
                  <a:pt x="138065" y="208075"/>
                  <a:pt x="136270" y="245619"/>
                  <a:pt x="143525" y="281897"/>
                </a:cubicBezTo>
                <a:cubicBezTo>
                  <a:pt x="146463" y="296585"/>
                  <a:pt x="153029" y="311499"/>
                  <a:pt x="163621" y="322091"/>
                </a:cubicBezTo>
                <a:cubicBezTo>
                  <a:pt x="171110" y="329581"/>
                  <a:pt x="183256" y="330825"/>
                  <a:pt x="193766" y="332139"/>
                </a:cubicBezTo>
                <a:cubicBezTo>
                  <a:pt x="237100" y="337556"/>
                  <a:pt x="280852" y="338838"/>
                  <a:pt x="324395" y="342187"/>
                </a:cubicBezTo>
                <a:cubicBezTo>
                  <a:pt x="334443" y="345537"/>
                  <a:pt x="343948" y="352236"/>
                  <a:pt x="354540" y="352236"/>
                </a:cubicBezTo>
                <a:cubicBezTo>
                  <a:pt x="463142" y="352236"/>
                  <a:pt x="451641" y="353362"/>
                  <a:pt x="515314" y="332139"/>
                </a:cubicBezTo>
                <a:cubicBezTo>
                  <a:pt x="600458" y="388902"/>
                  <a:pt x="460737" y="302245"/>
                  <a:pt x="625845" y="362284"/>
                </a:cubicBezTo>
                <a:cubicBezTo>
                  <a:pt x="673829" y="379733"/>
                  <a:pt x="640205" y="398652"/>
                  <a:pt x="676087" y="422574"/>
                </a:cubicBezTo>
                <a:cubicBezTo>
                  <a:pt x="687578" y="430235"/>
                  <a:pt x="702539" y="431249"/>
                  <a:pt x="716281" y="432623"/>
                </a:cubicBezTo>
                <a:cubicBezTo>
                  <a:pt x="769710" y="437966"/>
                  <a:pt x="823463" y="439322"/>
                  <a:pt x="877054" y="442671"/>
                </a:cubicBezTo>
                <a:cubicBezTo>
                  <a:pt x="941359" y="464105"/>
                  <a:pt x="926615" y="463523"/>
                  <a:pt x="1037828" y="442671"/>
                </a:cubicBezTo>
                <a:cubicBezTo>
                  <a:pt x="1049698" y="440445"/>
                  <a:pt x="1058146" y="429593"/>
                  <a:pt x="1067973" y="422574"/>
                </a:cubicBezTo>
                <a:cubicBezTo>
                  <a:pt x="1121201" y="384553"/>
                  <a:pt x="1089393" y="398686"/>
                  <a:pt x="1138311" y="382381"/>
                </a:cubicBezTo>
                <a:cubicBezTo>
                  <a:pt x="1148359" y="372333"/>
                  <a:pt x="1160196" y="363800"/>
                  <a:pt x="1168456" y="352236"/>
                </a:cubicBezTo>
                <a:cubicBezTo>
                  <a:pt x="1207619" y="297407"/>
                  <a:pt x="1193631" y="240947"/>
                  <a:pt x="1198601" y="171365"/>
                </a:cubicBezTo>
                <a:cubicBezTo>
                  <a:pt x="1229403" y="263766"/>
                  <a:pt x="1227059" y="244711"/>
                  <a:pt x="1198601" y="422574"/>
                </a:cubicBezTo>
                <a:cubicBezTo>
                  <a:pt x="1196356" y="436606"/>
                  <a:pt x="1177553" y="441802"/>
                  <a:pt x="1168456" y="452719"/>
                </a:cubicBezTo>
                <a:cubicBezTo>
                  <a:pt x="1160725" y="461996"/>
                  <a:pt x="1157790" y="475320"/>
                  <a:pt x="1148360" y="482864"/>
                </a:cubicBezTo>
                <a:cubicBezTo>
                  <a:pt x="1140089" y="489481"/>
                  <a:pt x="1127689" y="488176"/>
                  <a:pt x="1118215" y="492913"/>
                </a:cubicBezTo>
                <a:cubicBezTo>
                  <a:pt x="1048824" y="527609"/>
                  <a:pt x="1131526" y="502144"/>
                  <a:pt x="1047876" y="523058"/>
                </a:cubicBezTo>
                <a:cubicBezTo>
                  <a:pt x="1007683" y="519708"/>
                  <a:pt x="967275" y="518340"/>
                  <a:pt x="927296" y="513009"/>
                </a:cubicBezTo>
                <a:cubicBezTo>
                  <a:pt x="886318" y="507545"/>
                  <a:pt x="905253" y="499255"/>
                  <a:pt x="867006" y="482864"/>
                </a:cubicBezTo>
                <a:cubicBezTo>
                  <a:pt x="854312" y="477424"/>
                  <a:pt x="840091" y="476610"/>
                  <a:pt x="826812" y="472816"/>
                </a:cubicBezTo>
                <a:cubicBezTo>
                  <a:pt x="816628" y="469906"/>
                  <a:pt x="807186" y="464006"/>
                  <a:pt x="796667" y="462768"/>
                </a:cubicBezTo>
                <a:cubicBezTo>
                  <a:pt x="749977" y="457275"/>
                  <a:pt x="702882" y="456069"/>
                  <a:pt x="655990" y="452719"/>
                </a:cubicBezTo>
                <a:cubicBezTo>
                  <a:pt x="639243" y="449370"/>
                  <a:pt x="622318" y="446813"/>
                  <a:pt x="605749" y="442671"/>
                </a:cubicBezTo>
                <a:cubicBezTo>
                  <a:pt x="595473" y="440102"/>
                  <a:pt x="586196" y="432623"/>
                  <a:pt x="575604" y="432623"/>
                </a:cubicBezTo>
                <a:cubicBezTo>
                  <a:pt x="541942" y="432623"/>
                  <a:pt x="508615" y="439322"/>
                  <a:pt x="475120" y="442671"/>
                </a:cubicBezTo>
                <a:cubicBezTo>
                  <a:pt x="361792" y="437275"/>
                  <a:pt x="303874" y="470788"/>
                  <a:pt x="233960" y="412526"/>
                </a:cubicBezTo>
                <a:cubicBezTo>
                  <a:pt x="223043" y="403429"/>
                  <a:pt x="216237" y="389282"/>
                  <a:pt x="203815" y="382381"/>
                </a:cubicBezTo>
                <a:cubicBezTo>
                  <a:pt x="164771" y="360690"/>
                  <a:pt x="134106" y="363369"/>
                  <a:pt x="93283" y="352236"/>
                </a:cubicBezTo>
                <a:cubicBezTo>
                  <a:pt x="72846" y="346662"/>
                  <a:pt x="32993" y="332139"/>
                  <a:pt x="32993" y="332139"/>
                </a:cubicBezTo>
                <a:cubicBezTo>
                  <a:pt x="29643" y="322091"/>
                  <a:pt x="27681" y="311468"/>
                  <a:pt x="22944" y="301994"/>
                </a:cubicBezTo>
                <a:cubicBezTo>
                  <a:pt x="17543" y="291192"/>
                  <a:pt x="3451" y="283910"/>
                  <a:pt x="2848" y="271849"/>
                </a:cubicBezTo>
                <a:cubicBezTo>
                  <a:pt x="0" y="214881"/>
                  <a:pt x="4435" y="157435"/>
                  <a:pt x="12896" y="101027"/>
                </a:cubicBezTo>
                <a:cubicBezTo>
                  <a:pt x="14687" y="89084"/>
                  <a:pt x="21780" y="75367"/>
                  <a:pt x="32993" y="70882"/>
                </a:cubicBezTo>
                <a:cubicBezTo>
                  <a:pt x="58065" y="60853"/>
                  <a:pt x="86584" y="64183"/>
                  <a:pt x="113379" y="60834"/>
                </a:cubicBezTo>
                <a:cubicBezTo>
                  <a:pt x="123428" y="50785"/>
                  <a:pt x="132608" y="39786"/>
                  <a:pt x="143525" y="30688"/>
                </a:cubicBezTo>
                <a:cubicBezTo>
                  <a:pt x="152802" y="22957"/>
                  <a:pt x="173670" y="22668"/>
                  <a:pt x="173670" y="10592"/>
                </a:cubicBezTo>
                <a:cubicBezTo>
                  <a:pt x="173670" y="0"/>
                  <a:pt x="153573" y="3893"/>
                  <a:pt x="143525" y="543"/>
                </a:cubicBezTo>
                <a:cubicBezTo>
                  <a:pt x="126778" y="3893"/>
                  <a:pt x="107494" y="1118"/>
                  <a:pt x="93283" y="10592"/>
                </a:cubicBezTo>
                <a:cubicBezTo>
                  <a:pt x="84470" y="16467"/>
                  <a:pt x="89589" y="32263"/>
                  <a:pt x="83234" y="40737"/>
                </a:cubicBezTo>
                <a:cubicBezTo>
                  <a:pt x="78740" y="46728"/>
                  <a:pt x="69837" y="47436"/>
                  <a:pt x="63138" y="50785"/>
                </a:cubicBezTo>
              </a:path>
            </a:pathLst>
          </a:custGeom>
          <a:solidFill>
            <a:srgbClr val="262626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олилиния 94"/>
          <p:cNvSpPr/>
          <p:nvPr/>
        </p:nvSpPr>
        <p:spPr>
          <a:xfrm>
            <a:off x="6696000" y="5043600"/>
            <a:ext cx="911160" cy="352440"/>
          </a:xfrm>
          <a:custGeom>
            <a:avLst/>
            <a:gdLst/>
            <a:ahLst/>
            <a:rect l="l" t="t" r="r" b="b"/>
            <a:pathLst>
              <a:path w="911050" h="351692">
                <a:moveTo>
                  <a:pt x="16747" y="140676"/>
                </a:moveTo>
                <a:cubicBezTo>
                  <a:pt x="0" y="154074"/>
                  <a:pt x="19231" y="171815"/>
                  <a:pt x="66989" y="190918"/>
                </a:cubicBezTo>
                <a:cubicBezTo>
                  <a:pt x="86658" y="198785"/>
                  <a:pt x="127279" y="211015"/>
                  <a:pt x="127279" y="211015"/>
                </a:cubicBezTo>
                <a:cubicBezTo>
                  <a:pt x="130628" y="231112"/>
                  <a:pt x="132907" y="251416"/>
                  <a:pt x="137327" y="271305"/>
                </a:cubicBezTo>
                <a:cubicBezTo>
                  <a:pt x="139625" y="281645"/>
                  <a:pt x="139885" y="293960"/>
                  <a:pt x="147375" y="301450"/>
                </a:cubicBezTo>
                <a:cubicBezTo>
                  <a:pt x="181925" y="335999"/>
                  <a:pt x="199905" y="339056"/>
                  <a:pt x="237811" y="351692"/>
                </a:cubicBezTo>
                <a:cubicBezTo>
                  <a:pt x="261257" y="348342"/>
                  <a:pt x="284517" y="343218"/>
                  <a:pt x="308149" y="341643"/>
                </a:cubicBezTo>
                <a:cubicBezTo>
                  <a:pt x="385088" y="336514"/>
                  <a:pt x="463200" y="344272"/>
                  <a:pt x="539261" y="331595"/>
                </a:cubicBezTo>
                <a:cubicBezTo>
                  <a:pt x="549709" y="329854"/>
                  <a:pt x="542693" y="309721"/>
                  <a:pt x="549310" y="301450"/>
                </a:cubicBezTo>
                <a:cubicBezTo>
                  <a:pt x="556854" y="292020"/>
                  <a:pt x="567739" y="284282"/>
                  <a:pt x="579455" y="281353"/>
                </a:cubicBezTo>
                <a:cubicBezTo>
                  <a:pt x="608880" y="273997"/>
                  <a:pt x="639745" y="274654"/>
                  <a:pt x="669890" y="271305"/>
                </a:cubicBezTo>
                <a:cubicBezTo>
                  <a:pt x="727687" y="232773"/>
                  <a:pt x="670071" y="261257"/>
                  <a:pt x="760325" y="261257"/>
                </a:cubicBezTo>
                <a:cubicBezTo>
                  <a:pt x="784009" y="261257"/>
                  <a:pt x="807217" y="254558"/>
                  <a:pt x="830663" y="251208"/>
                </a:cubicBezTo>
                <a:cubicBezTo>
                  <a:pt x="855813" y="150615"/>
                  <a:pt x="817999" y="253826"/>
                  <a:pt x="870857" y="200967"/>
                </a:cubicBezTo>
                <a:cubicBezTo>
                  <a:pt x="887936" y="183888"/>
                  <a:pt x="911050" y="140676"/>
                  <a:pt x="911050" y="140676"/>
                </a:cubicBezTo>
                <a:cubicBezTo>
                  <a:pt x="907701" y="130628"/>
                  <a:pt x="906877" y="119344"/>
                  <a:pt x="901002" y="110531"/>
                </a:cubicBezTo>
                <a:cubicBezTo>
                  <a:pt x="884379" y="85597"/>
                  <a:pt x="852333" y="68815"/>
                  <a:pt x="830663" y="50241"/>
                </a:cubicBezTo>
                <a:cubicBezTo>
                  <a:pt x="819874" y="40993"/>
                  <a:pt x="812940" y="26997"/>
                  <a:pt x="800518" y="20096"/>
                </a:cubicBezTo>
                <a:cubicBezTo>
                  <a:pt x="782000" y="9808"/>
                  <a:pt x="740228" y="0"/>
                  <a:pt x="740228" y="0"/>
                </a:cubicBezTo>
                <a:cubicBezTo>
                  <a:pt x="666540" y="3349"/>
                  <a:pt x="592508" y="2190"/>
                  <a:pt x="519164" y="10048"/>
                </a:cubicBezTo>
                <a:cubicBezTo>
                  <a:pt x="358408" y="27272"/>
                  <a:pt x="524179" y="26558"/>
                  <a:pt x="428729" y="40193"/>
                </a:cubicBezTo>
                <a:lnTo>
                  <a:pt x="358391" y="50241"/>
                </a:lnTo>
                <a:cubicBezTo>
                  <a:pt x="348343" y="53591"/>
                  <a:pt x="338694" y="58549"/>
                  <a:pt x="328246" y="60290"/>
                </a:cubicBezTo>
                <a:cubicBezTo>
                  <a:pt x="298328" y="65276"/>
                  <a:pt x="267365" y="63518"/>
                  <a:pt x="237811" y="70338"/>
                </a:cubicBezTo>
                <a:cubicBezTo>
                  <a:pt x="218314" y="74837"/>
                  <a:pt x="184686" y="99055"/>
                  <a:pt x="167472" y="110531"/>
                </a:cubicBezTo>
                <a:cubicBezTo>
                  <a:pt x="81102" y="93258"/>
                  <a:pt x="33494" y="127278"/>
                  <a:pt x="16747" y="140676"/>
                </a:cubicBezTo>
                <a:close/>
              </a:path>
            </a:pathLst>
          </a:custGeom>
          <a:solidFill>
            <a:srgbClr val="595959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олилиния 95"/>
          <p:cNvSpPr/>
          <p:nvPr/>
        </p:nvSpPr>
        <p:spPr>
          <a:xfrm>
            <a:off x="439560" y="3727440"/>
            <a:ext cx="8636040" cy="2975040"/>
          </a:xfrm>
          <a:custGeom>
            <a:avLst/>
            <a:gdLst/>
            <a:ahLst/>
            <a:rect l="l" t="t" r="r" b="b"/>
            <a:pathLst>
              <a:path w="8635756" h="2974313">
                <a:moveTo>
                  <a:pt x="8271829" y="0"/>
                </a:moveTo>
                <a:cubicBezTo>
                  <a:pt x="8274788" y="204165"/>
                  <a:pt x="8293036" y="749241"/>
                  <a:pt x="8271829" y="1024932"/>
                </a:cubicBezTo>
                <a:cubicBezTo>
                  <a:pt x="8270204" y="1046053"/>
                  <a:pt x="8256870" y="1064671"/>
                  <a:pt x="8251732" y="1085222"/>
                </a:cubicBezTo>
                <a:cubicBezTo>
                  <a:pt x="8236546" y="1145971"/>
                  <a:pt x="8246052" y="1112310"/>
                  <a:pt x="8221587" y="1185706"/>
                </a:cubicBezTo>
                <a:lnTo>
                  <a:pt x="8191442" y="1276141"/>
                </a:lnTo>
                <a:cubicBezTo>
                  <a:pt x="8188093" y="1286189"/>
                  <a:pt x="8183135" y="1295838"/>
                  <a:pt x="8181394" y="1306286"/>
                </a:cubicBezTo>
                <a:cubicBezTo>
                  <a:pt x="8169604" y="1377024"/>
                  <a:pt x="8177788" y="1347248"/>
                  <a:pt x="8161297" y="1396721"/>
                </a:cubicBezTo>
                <a:cubicBezTo>
                  <a:pt x="8157948" y="1664677"/>
                  <a:pt x="8160591" y="1932775"/>
                  <a:pt x="8151249" y="2200589"/>
                </a:cubicBezTo>
                <a:cubicBezTo>
                  <a:pt x="8150292" y="2228028"/>
                  <a:pt x="8129815" y="2268514"/>
                  <a:pt x="8111055" y="2291025"/>
                </a:cubicBezTo>
                <a:cubicBezTo>
                  <a:pt x="8101958" y="2301942"/>
                  <a:pt x="8090007" y="2310253"/>
                  <a:pt x="8080910" y="2321170"/>
                </a:cubicBezTo>
                <a:cubicBezTo>
                  <a:pt x="8073179" y="2330448"/>
                  <a:pt x="8069353" y="2342776"/>
                  <a:pt x="8060813" y="2351315"/>
                </a:cubicBezTo>
                <a:cubicBezTo>
                  <a:pt x="8036928" y="2375199"/>
                  <a:pt x="8000225" y="2381559"/>
                  <a:pt x="7970378" y="2391508"/>
                </a:cubicBezTo>
                <a:cubicBezTo>
                  <a:pt x="7960330" y="2394858"/>
                  <a:pt x="7950681" y="2399816"/>
                  <a:pt x="7940233" y="2401557"/>
                </a:cubicBezTo>
                <a:cubicBezTo>
                  <a:pt x="7808281" y="2423548"/>
                  <a:pt x="7918405" y="2407569"/>
                  <a:pt x="7678976" y="2421653"/>
                </a:cubicBezTo>
                <a:cubicBezTo>
                  <a:pt x="7632045" y="2424414"/>
                  <a:pt x="7585191" y="2428352"/>
                  <a:pt x="7538299" y="2431702"/>
                </a:cubicBezTo>
                <a:cubicBezTo>
                  <a:pt x="7372085" y="2487105"/>
                  <a:pt x="7510527" y="2444242"/>
                  <a:pt x="7076075" y="2451798"/>
                </a:cubicBezTo>
                <a:lnTo>
                  <a:pt x="6352594" y="2461847"/>
                </a:lnTo>
                <a:cubicBezTo>
                  <a:pt x="6305702" y="2458497"/>
                  <a:pt x="6258607" y="2457291"/>
                  <a:pt x="6211917" y="2451798"/>
                </a:cubicBezTo>
                <a:cubicBezTo>
                  <a:pt x="6201398" y="2450560"/>
                  <a:pt x="6192361" y="2442008"/>
                  <a:pt x="6181772" y="2441750"/>
                </a:cubicBezTo>
                <a:cubicBezTo>
                  <a:pt x="5917223" y="2435298"/>
                  <a:pt x="5652559" y="2435051"/>
                  <a:pt x="5387952" y="2431702"/>
                </a:cubicBezTo>
                <a:cubicBezTo>
                  <a:pt x="5320963" y="2428352"/>
                  <a:pt x="5253806" y="2427464"/>
                  <a:pt x="5186985" y="2421653"/>
                </a:cubicBezTo>
                <a:cubicBezTo>
                  <a:pt x="5000836" y="2405466"/>
                  <a:pt x="5465923" y="2410083"/>
                  <a:pt x="5086501" y="2401557"/>
                </a:cubicBezTo>
                <a:cubicBezTo>
                  <a:pt x="4811895" y="2395386"/>
                  <a:pt x="4537192" y="2394858"/>
                  <a:pt x="4262537" y="2391508"/>
                </a:cubicBezTo>
                <a:cubicBezTo>
                  <a:pt x="4149254" y="2368852"/>
                  <a:pt x="4287277" y="2394601"/>
                  <a:pt x="4101763" y="2371411"/>
                </a:cubicBezTo>
                <a:cubicBezTo>
                  <a:pt x="4084816" y="2369293"/>
                  <a:pt x="4068523" y="2362982"/>
                  <a:pt x="4051521" y="2361363"/>
                </a:cubicBezTo>
                <a:cubicBezTo>
                  <a:pt x="3998067" y="2356272"/>
                  <a:pt x="3944339" y="2354664"/>
                  <a:pt x="3890748" y="2351315"/>
                </a:cubicBezTo>
                <a:lnTo>
                  <a:pt x="22132" y="2361363"/>
                </a:lnTo>
                <a:cubicBezTo>
                  <a:pt x="952" y="2361746"/>
                  <a:pt x="2035" y="2421653"/>
                  <a:pt x="2035" y="2421653"/>
                </a:cubicBezTo>
                <a:cubicBezTo>
                  <a:pt x="5385" y="2455148"/>
                  <a:pt x="0" y="2490719"/>
                  <a:pt x="12084" y="2522137"/>
                </a:cubicBezTo>
                <a:cubicBezTo>
                  <a:pt x="18096" y="2537768"/>
                  <a:pt x="37811" y="2543844"/>
                  <a:pt x="52277" y="2552282"/>
                </a:cubicBezTo>
                <a:cubicBezTo>
                  <a:pt x="78154" y="2567377"/>
                  <a:pt x="105868" y="2579077"/>
                  <a:pt x="132664" y="2592475"/>
                </a:cubicBezTo>
                <a:lnTo>
                  <a:pt x="172857" y="2612572"/>
                </a:lnTo>
                <a:cubicBezTo>
                  <a:pt x="186255" y="2619271"/>
                  <a:pt x="200587" y="2624360"/>
                  <a:pt x="213051" y="2632669"/>
                </a:cubicBezTo>
                <a:cubicBezTo>
                  <a:pt x="223099" y="2639368"/>
                  <a:pt x="232096" y="2648008"/>
                  <a:pt x="243196" y="2652765"/>
                </a:cubicBezTo>
                <a:cubicBezTo>
                  <a:pt x="255889" y="2658205"/>
                  <a:pt x="269991" y="2659464"/>
                  <a:pt x="283389" y="2662814"/>
                </a:cubicBezTo>
                <a:cubicBezTo>
                  <a:pt x="293437" y="2669513"/>
                  <a:pt x="302732" y="2677509"/>
                  <a:pt x="313534" y="2682910"/>
                </a:cubicBezTo>
                <a:cubicBezTo>
                  <a:pt x="323008" y="2687647"/>
                  <a:pt x="333943" y="2688787"/>
                  <a:pt x="343679" y="2692959"/>
                </a:cubicBezTo>
                <a:cubicBezTo>
                  <a:pt x="357447" y="2698860"/>
                  <a:pt x="370105" y="2707154"/>
                  <a:pt x="383873" y="2713055"/>
                </a:cubicBezTo>
                <a:cubicBezTo>
                  <a:pt x="393609" y="2717227"/>
                  <a:pt x="404282" y="2718932"/>
                  <a:pt x="414018" y="2723104"/>
                </a:cubicBezTo>
                <a:cubicBezTo>
                  <a:pt x="537321" y="2775949"/>
                  <a:pt x="383450" y="2712842"/>
                  <a:pt x="484356" y="2763297"/>
                </a:cubicBezTo>
                <a:cubicBezTo>
                  <a:pt x="501246" y="2771743"/>
                  <a:pt x="538590" y="2778562"/>
                  <a:pt x="554695" y="2783394"/>
                </a:cubicBezTo>
                <a:cubicBezTo>
                  <a:pt x="574985" y="2789481"/>
                  <a:pt x="597359" y="2791741"/>
                  <a:pt x="614985" y="2803491"/>
                </a:cubicBezTo>
                <a:cubicBezTo>
                  <a:pt x="701376" y="2861083"/>
                  <a:pt x="592072" y="2792034"/>
                  <a:pt x="675275" y="2833636"/>
                </a:cubicBezTo>
                <a:cubicBezTo>
                  <a:pt x="686077" y="2839037"/>
                  <a:pt x="694320" y="2848975"/>
                  <a:pt x="705420" y="2853732"/>
                </a:cubicBezTo>
                <a:cubicBezTo>
                  <a:pt x="718113" y="2859172"/>
                  <a:pt x="732385" y="2859813"/>
                  <a:pt x="745613" y="2863781"/>
                </a:cubicBezTo>
                <a:cubicBezTo>
                  <a:pt x="765904" y="2869868"/>
                  <a:pt x="784979" y="2880573"/>
                  <a:pt x="805904" y="2883877"/>
                </a:cubicBezTo>
                <a:cubicBezTo>
                  <a:pt x="849041" y="2890688"/>
                  <a:pt x="892989" y="2890576"/>
                  <a:pt x="936532" y="2893926"/>
                </a:cubicBezTo>
                <a:lnTo>
                  <a:pt x="1057112" y="2924071"/>
                </a:lnTo>
                <a:cubicBezTo>
                  <a:pt x="1070510" y="2927421"/>
                  <a:pt x="1084204" y="2929752"/>
                  <a:pt x="1097306" y="2934119"/>
                </a:cubicBezTo>
                <a:cubicBezTo>
                  <a:pt x="1117403" y="2940818"/>
                  <a:pt x="1136576" y="2951588"/>
                  <a:pt x="1157596" y="2954216"/>
                </a:cubicBezTo>
                <a:cubicBezTo>
                  <a:pt x="1217513" y="2961706"/>
                  <a:pt x="1278194" y="2960611"/>
                  <a:pt x="1338466" y="2964264"/>
                </a:cubicBezTo>
                <a:lnTo>
                  <a:pt x="1489192" y="2974313"/>
                </a:lnTo>
                <a:lnTo>
                  <a:pt x="2303108" y="2964264"/>
                </a:lnTo>
                <a:cubicBezTo>
                  <a:pt x="2328590" y="2963106"/>
                  <a:pt x="2349246" y="2942185"/>
                  <a:pt x="2373446" y="2934119"/>
                </a:cubicBezTo>
                <a:cubicBezTo>
                  <a:pt x="2405435" y="2923456"/>
                  <a:pt x="2491946" y="2916486"/>
                  <a:pt x="2514123" y="2914022"/>
                </a:cubicBezTo>
                <a:cubicBezTo>
                  <a:pt x="2643974" y="2870740"/>
                  <a:pt x="2494961" y="2915731"/>
                  <a:pt x="2664849" y="2883877"/>
                </a:cubicBezTo>
                <a:cubicBezTo>
                  <a:pt x="2892285" y="2841233"/>
                  <a:pt x="2551819" y="2884157"/>
                  <a:pt x="2825622" y="2853732"/>
                </a:cubicBezTo>
                <a:cubicBezTo>
                  <a:pt x="2842369" y="2847033"/>
                  <a:pt x="2858289" y="2837692"/>
                  <a:pt x="2875864" y="2833636"/>
                </a:cubicBezTo>
                <a:cubicBezTo>
                  <a:pt x="2918582" y="2823778"/>
                  <a:pt x="3076104" y="2815026"/>
                  <a:pt x="3096928" y="2813539"/>
                </a:cubicBezTo>
                <a:cubicBezTo>
                  <a:pt x="3110326" y="2810190"/>
                  <a:pt x="3123798" y="2807125"/>
                  <a:pt x="3137121" y="2803491"/>
                </a:cubicBezTo>
                <a:cubicBezTo>
                  <a:pt x="3199410" y="2786503"/>
                  <a:pt x="3223002" y="2777192"/>
                  <a:pt x="3287846" y="2763297"/>
                </a:cubicBezTo>
                <a:cubicBezTo>
                  <a:pt x="3307768" y="2759028"/>
                  <a:pt x="3327988" y="2756271"/>
                  <a:pt x="3348137" y="2753249"/>
                </a:cubicBezTo>
                <a:cubicBezTo>
                  <a:pt x="3394981" y="2746222"/>
                  <a:pt x="3441475" y="2734843"/>
                  <a:pt x="3488813" y="2733152"/>
                </a:cubicBezTo>
                <a:lnTo>
                  <a:pt x="3770167" y="2723104"/>
                </a:lnTo>
                <a:cubicBezTo>
                  <a:pt x="4128650" y="2663356"/>
                  <a:pt x="3850004" y="2702441"/>
                  <a:pt x="4614229" y="2713055"/>
                </a:cubicBezTo>
                <a:cubicBezTo>
                  <a:pt x="4627627" y="2716405"/>
                  <a:pt x="4641223" y="2719043"/>
                  <a:pt x="4654422" y="2723104"/>
                </a:cubicBezTo>
                <a:cubicBezTo>
                  <a:pt x="4684792" y="2732449"/>
                  <a:pt x="4714712" y="2743201"/>
                  <a:pt x="4744857" y="2753249"/>
                </a:cubicBezTo>
                <a:cubicBezTo>
                  <a:pt x="4754906" y="2756598"/>
                  <a:pt x="4764818" y="2760387"/>
                  <a:pt x="4775003" y="2763297"/>
                </a:cubicBezTo>
                <a:cubicBezTo>
                  <a:pt x="4798449" y="2769996"/>
                  <a:pt x="4822208" y="2775683"/>
                  <a:pt x="4845341" y="2783394"/>
                </a:cubicBezTo>
                <a:cubicBezTo>
                  <a:pt x="4862453" y="2789098"/>
                  <a:pt x="4877664" y="2801423"/>
                  <a:pt x="4895583" y="2803491"/>
                </a:cubicBezTo>
                <a:cubicBezTo>
                  <a:pt x="4965537" y="2811563"/>
                  <a:pt x="5036200" y="2811863"/>
                  <a:pt x="5106598" y="2813539"/>
                </a:cubicBezTo>
                <a:lnTo>
                  <a:pt x="5739644" y="2823587"/>
                </a:lnTo>
                <a:cubicBezTo>
                  <a:pt x="6115859" y="2840689"/>
                  <a:pt x="5824395" y="2824656"/>
                  <a:pt x="6081288" y="2843684"/>
                </a:cubicBezTo>
                <a:cubicBezTo>
                  <a:pt x="6163212" y="2849752"/>
                  <a:pt x="6279273" y="2855841"/>
                  <a:pt x="6362642" y="2863781"/>
                </a:cubicBezTo>
                <a:cubicBezTo>
                  <a:pt x="6628734" y="2889123"/>
                  <a:pt x="6162977" y="2855159"/>
                  <a:pt x="6593754" y="2883877"/>
                </a:cubicBezTo>
                <a:cubicBezTo>
                  <a:pt x="6607152" y="2887227"/>
                  <a:pt x="6620161" y="2893115"/>
                  <a:pt x="6633948" y="2893926"/>
                </a:cubicBezTo>
                <a:cubicBezTo>
                  <a:pt x="6902522" y="2909725"/>
                  <a:pt x="7733846" y="2913367"/>
                  <a:pt x="7789508" y="2914022"/>
                </a:cubicBezTo>
                <a:cubicBezTo>
                  <a:pt x="7789537" y="2914021"/>
                  <a:pt x="8137966" y="2945785"/>
                  <a:pt x="8261781" y="2883877"/>
                </a:cubicBezTo>
                <a:cubicBezTo>
                  <a:pt x="8288576" y="2870479"/>
                  <a:pt x="8313746" y="2853157"/>
                  <a:pt x="8342167" y="2843684"/>
                </a:cubicBezTo>
                <a:cubicBezTo>
                  <a:pt x="8373354" y="2833289"/>
                  <a:pt x="8381462" y="2832165"/>
                  <a:pt x="8412506" y="2813539"/>
                </a:cubicBezTo>
                <a:cubicBezTo>
                  <a:pt x="8433217" y="2801112"/>
                  <a:pt x="8452699" y="2786744"/>
                  <a:pt x="8472796" y="2773346"/>
                </a:cubicBezTo>
                <a:lnTo>
                  <a:pt x="8502941" y="2753249"/>
                </a:lnTo>
                <a:cubicBezTo>
                  <a:pt x="8509640" y="2743201"/>
                  <a:pt x="8515307" y="2732382"/>
                  <a:pt x="8523038" y="2723104"/>
                </a:cubicBezTo>
                <a:cubicBezTo>
                  <a:pt x="8545576" y="2696059"/>
                  <a:pt x="8559022" y="2694892"/>
                  <a:pt x="8573279" y="2662814"/>
                </a:cubicBezTo>
                <a:cubicBezTo>
                  <a:pt x="8587261" y="2631355"/>
                  <a:pt x="8595072" y="2595738"/>
                  <a:pt x="8603424" y="2562330"/>
                </a:cubicBezTo>
                <a:cubicBezTo>
                  <a:pt x="8627966" y="2341467"/>
                  <a:pt x="8623521" y="2405728"/>
                  <a:pt x="8623521" y="2019719"/>
                </a:cubicBezTo>
                <a:cubicBezTo>
                  <a:pt x="8623521" y="1745044"/>
                  <a:pt x="8635756" y="1469524"/>
                  <a:pt x="8613473" y="1195754"/>
                </a:cubicBezTo>
                <a:cubicBezTo>
                  <a:pt x="8611514" y="1171680"/>
                  <a:pt x="8570262" y="1172640"/>
                  <a:pt x="8553183" y="1155561"/>
                </a:cubicBezTo>
                <a:cubicBezTo>
                  <a:pt x="8514499" y="1116877"/>
                  <a:pt x="8534862" y="1133299"/>
                  <a:pt x="8492893" y="1105319"/>
                </a:cubicBezTo>
                <a:cubicBezTo>
                  <a:pt x="8470263" y="1037433"/>
                  <a:pt x="8501647" y="1111018"/>
                  <a:pt x="8452699" y="1055077"/>
                </a:cubicBezTo>
                <a:cubicBezTo>
                  <a:pt x="8436794" y="1036900"/>
                  <a:pt x="8425904" y="1014884"/>
                  <a:pt x="8412506" y="994787"/>
                </a:cubicBezTo>
                <a:lnTo>
                  <a:pt x="8392409" y="964642"/>
                </a:lnTo>
                <a:cubicBezTo>
                  <a:pt x="8394078" y="942940"/>
                  <a:pt x="8405069" y="780763"/>
                  <a:pt x="8412506" y="743578"/>
                </a:cubicBezTo>
                <a:cubicBezTo>
                  <a:pt x="8416661" y="722806"/>
                  <a:pt x="8420853" y="700914"/>
                  <a:pt x="8432603" y="683288"/>
                </a:cubicBezTo>
                <a:lnTo>
                  <a:pt x="8452699" y="653143"/>
                </a:lnTo>
                <a:cubicBezTo>
                  <a:pt x="8456049" y="606251"/>
                  <a:pt x="8452329" y="558309"/>
                  <a:pt x="8462748" y="512466"/>
                </a:cubicBezTo>
                <a:cubicBezTo>
                  <a:pt x="8469387" y="483253"/>
                  <a:pt x="8502941" y="432080"/>
                  <a:pt x="8502941" y="432080"/>
                </a:cubicBezTo>
                <a:cubicBezTo>
                  <a:pt x="8499592" y="341645"/>
                  <a:pt x="8501898" y="250822"/>
                  <a:pt x="8492893" y="160774"/>
                </a:cubicBezTo>
                <a:cubicBezTo>
                  <a:pt x="8490420" y="136041"/>
                  <a:pt x="8458522" y="121868"/>
                  <a:pt x="8442651" y="110532"/>
                </a:cubicBezTo>
                <a:cubicBezTo>
                  <a:pt x="8363636" y="54093"/>
                  <a:pt x="8437538" y="98293"/>
                  <a:pt x="8372312" y="70339"/>
                </a:cubicBezTo>
                <a:cubicBezTo>
                  <a:pt x="8358544" y="64438"/>
                  <a:pt x="8346741" y="53491"/>
                  <a:pt x="8332119" y="50242"/>
                </a:cubicBezTo>
                <a:cubicBezTo>
                  <a:pt x="8315770" y="46609"/>
                  <a:pt x="8298624" y="50242"/>
                  <a:pt x="8281877" y="50242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96"/>
          <p:cNvSpPr/>
          <p:nvPr/>
        </p:nvSpPr>
        <p:spPr>
          <a:xfrm>
            <a:off x="7072200" y="5643720"/>
            <a:ext cx="1557360" cy="48564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Calibri"/>
              </a:rPr>
              <a:t>Филинкова Татья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Calibri"/>
              </a:rPr>
              <a:t>«На дне морск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21:08Z</dcterms:created>
  <dc:creator>Admin</dc:creator>
  <dc:description/>
  <dc:language>en-US</dc:language>
  <cp:lastModifiedBy>Admin</cp:lastModifiedBy>
  <dcterms:modified xsi:type="dcterms:W3CDTF">2012-01-23T15:21:26Z</dcterms:modified>
  <cp:revision>1</cp:revision>
  <dc:subject/>
  <dc:title>Слайд 1</dc:title>
</cp:coreProperties>
</file>