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C51-5570-4001-A56B-8620FB98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89C-C85D-4455-B751-C3E189B4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5F0-1B22-4258-85AD-251E9548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A70-2687-46FE-A355-602B8FF3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B39-2660-4435-A24F-F9B1DEA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93B-A884-4F49-903E-8AFB90B5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297-6FAE-46B9-9DD3-8C4CAAA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4C5-2225-4967-BE37-ED40F0D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042-05A6-491F-BE89-53EC781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1D0-3E26-42F2-97A0-E044B87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7AE-C038-4FCB-9F7C-CFCC702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D74-9699-4659-ABF6-D1288F7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42DF-4AE5-40B2-963A-27722951E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  <p:grpSp>
        <p:nvGrpSpPr>
          <p:cNvPr id="43" name="Полилиния 3"/>
          <p:cNvGrpSpPr/>
          <p:nvPr/>
        </p:nvGrpSpPr>
        <p:grpSpPr>
          <a:xfrm>
            <a:off x="3027240" y="341640"/>
            <a:ext cx="6562080" cy="5910840"/>
            <a:chOff x="3027240" y="341640"/>
            <a:chExt cx="6562080" cy="5910840"/>
          </a:xfrm>
        </p:grpSpPr>
        <p:pic>
          <p:nvPicPr>
            <p:cNvPr id="44" name="Полилиния 3" descr=""/>
            <p:cNvPicPr/>
            <p:nvPr/>
          </p:nvPicPr>
          <p:blipFill>
            <a:blip r:embed="rId2"/>
            <a:stretch/>
          </p:blipFill>
          <p:spPr>
            <a:xfrm>
              <a:off x="3048120" y="378000"/>
              <a:ext cx="560736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0653200">
              <a:off x="3546000" y="1006200"/>
              <a:ext cx="5524560" cy="45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Полилиния 5"/>
          <p:cNvGrpSpPr/>
          <p:nvPr/>
        </p:nvGrpSpPr>
        <p:grpSpPr>
          <a:xfrm>
            <a:off x="45360" y="1798200"/>
            <a:ext cx="7282440" cy="5654160"/>
            <a:chOff x="45360" y="1798200"/>
            <a:chExt cx="7282440" cy="5654160"/>
          </a:xfrm>
        </p:grpSpPr>
        <p:pic>
          <p:nvPicPr>
            <p:cNvPr id="47" name="Полилиния 5" descr=""/>
            <p:cNvPicPr/>
            <p:nvPr/>
          </p:nvPicPr>
          <p:blipFill>
            <a:blip r:embed="rId3"/>
            <a:stretch/>
          </p:blipFill>
          <p:spPr>
            <a:xfrm>
              <a:off x="128520" y="2073240"/>
              <a:ext cx="7199280" cy="40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0304600">
              <a:off x="490680" y="2819880"/>
              <a:ext cx="6242040" cy="36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Полилиния 8"/>
          <p:cNvGrpSpPr/>
          <p:nvPr/>
        </p:nvGrpSpPr>
        <p:grpSpPr>
          <a:xfrm>
            <a:off x="853920" y="414360"/>
            <a:ext cx="2602080" cy="2347920"/>
            <a:chOff x="853920" y="414360"/>
            <a:chExt cx="2602080" cy="2347920"/>
          </a:xfrm>
        </p:grpSpPr>
        <p:pic>
          <p:nvPicPr>
            <p:cNvPr id="50" name="Полилиния 8" descr=""/>
            <p:cNvPicPr/>
            <p:nvPr/>
          </p:nvPicPr>
          <p:blipFill>
            <a:blip r:embed="rId4"/>
            <a:stretch/>
          </p:blipFill>
          <p:spPr>
            <a:xfrm>
              <a:off x="853920" y="414360"/>
              <a:ext cx="260208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00080" y="571680"/>
              <a:ext cx="2227320" cy="20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Овал 9" descr=""/>
          <p:cNvPicPr/>
          <p:nvPr/>
        </p:nvPicPr>
        <p:blipFill>
          <a:blip r:embed="rId5"/>
          <a:stretch/>
        </p:blipFill>
        <p:spPr>
          <a:xfrm>
            <a:off x="1457280" y="749160"/>
            <a:ext cx="1432080" cy="2414880"/>
          </a:xfrm>
          <a:prstGeom prst="rect">
            <a:avLst/>
          </a:prstGeom>
          <a:ln w="0">
            <a:noFill/>
          </a:ln>
        </p:spPr>
      </p:pic>
      <p:grpSp>
        <p:nvGrpSpPr>
          <p:cNvPr id="53" name="5-конечная звезда 11"/>
          <p:cNvGrpSpPr/>
          <p:nvPr/>
        </p:nvGrpSpPr>
        <p:grpSpPr>
          <a:xfrm>
            <a:off x="4359240" y="371520"/>
            <a:ext cx="1071720" cy="896760"/>
            <a:chOff x="4359240" y="371520"/>
            <a:chExt cx="1071720" cy="896760"/>
          </a:xfrm>
        </p:grpSpPr>
        <p:pic>
          <p:nvPicPr>
            <p:cNvPr id="54" name="5-конечная звезда 11" descr=""/>
            <p:cNvPicPr/>
            <p:nvPr/>
          </p:nvPicPr>
          <p:blipFill>
            <a:blip r:embed="rId6"/>
            <a:stretch/>
          </p:blipFill>
          <p:spPr>
            <a:xfrm>
              <a:off x="4359240" y="371520"/>
              <a:ext cx="10717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797360" y="779400"/>
              <a:ext cx="192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5-конечная звезда 12"/>
          <p:cNvGrpSpPr/>
          <p:nvPr/>
        </p:nvGrpSpPr>
        <p:grpSpPr>
          <a:xfrm>
            <a:off x="646200" y="2511360"/>
            <a:ext cx="1133280" cy="1042920"/>
            <a:chOff x="646200" y="2511360"/>
            <a:chExt cx="1133280" cy="1042920"/>
          </a:xfrm>
        </p:grpSpPr>
        <p:pic>
          <p:nvPicPr>
            <p:cNvPr id="57" name="5-конечная звезда 12" descr=""/>
            <p:cNvPicPr/>
            <p:nvPr/>
          </p:nvPicPr>
          <p:blipFill>
            <a:blip r:embed="rId7"/>
            <a:stretch/>
          </p:blipFill>
          <p:spPr>
            <a:xfrm>
              <a:off x="646200" y="2511360"/>
              <a:ext cx="11332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04840" y="297648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5-конечная звезда 13"/>
          <p:cNvGrpSpPr/>
          <p:nvPr/>
        </p:nvGrpSpPr>
        <p:grpSpPr>
          <a:xfrm>
            <a:off x="1865160" y="5297400"/>
            <a:ext cx="987480" cy="901800"/>
            <a:chOff x="1865160" y="5297400"/>
            <a:chExt cx="987480" cy="901800"/>
          </a:xfrm>
        </p:grpSpPr>
        <p:pic>
          <p:nvPicPr>
            <p:cNvPr id="60" name="5-конечная звезда 13" descr=""/>
            <p:cNvPicPr/>
            <p:nvPr/>
          </p:nvPicPr>
          <p:blipFill>
            <a:blip r:embed="rId8"/>
            <a:stretch/>
          </p:blipFill>
          <p:spPr>
            <a:xfrm>
              <a:off x="1865160" y="5297400"/>
              <a:ext cx="9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74840" y="5708520"/>
              <a:ext cx="1652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олилиния 14"/>
          <p:cNvGrpSpPr/>
          <p:nvPr/>
        </p:nvGrpSpPr>
        <p:grpSpPr>
          <a:xfrm>
            <a:off x="469800" y="2401920"/>
            <a:ext cx="5029200" cy="2859120"/>
            <a:chOff x="469800" y="2401920"/>
            <a:chExt cx="5029200" cy="2859120"/>
          </a:xfrm>
        </p:grpSpPr>
        <p:pic>
          <p:nvPicPr>
            <p:cNvPr id="63" name="Полилиния 14" descr=""/>
            <p:cNvPicPr/>
            <p:nvPr/>
          </p:nvPicPr>
          <p:blipFill>
            <a:blip r:embed="rId9"/>
            <a:stretch/>
          </p:blipFill>
          <p:spPr>
            <a:xfrm>
              <a:off x="469800" y="2401920"/>
              <a:ext cx="502920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14240" y="2643120"/>
              <a:ext cx="456732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Полилиния 15"/>
          <p:cNvGrpSpPr/>
          <p:nvPr/>
        </p:nvGrpSpPr>
        <p:grpSpPr>
          <a:xfrm>
            <a:off x="3328920" y="328680"/>
            <a:ext cx="5570640" cy="3157560"/>
            <a:chOff x="3328920" y="328680"/>
            <a:chExt cx="5570640" cy="3157560"/>
          </a:xfrm>
        </p:grpSpPr>
        <p:pic>
          <p:nvPicPr>
            <p:cNvPr id="66" name="Полилиния 15" descr=""/>
            <p:cNvPicPr/>
            <p:nvPr/>
          </p:nvPicPr>
          <p:blipFill>
            <a:blip r:embed="rId10"/>
            <a:stretch/>
          </p:blipFill>
          <p:spPr>
            <a:xfrm>
              <a:off x="3328920" y="328680"/>
              <a:ext cx="557064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920" y="571680"/>
              <a:ext cx="508932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5-конечная звезда 16"/>
          <p:cNvGrpSpPr/>
          <p:nvPr/>
        </p:nvGrpSpPr>
        <p:grpSpPr>
          <a:xfrm>
            <a:off x="5937120" y="4084560"/>
            <a:ext cx="987480" cy="895320"/>
            <a:chOff x="5937120" y="4084560"/>
            <a:chExt cx="987480" cy="895320"/>
          </a:xfrm>
        </p:grpSpPr>
        <p:pic>
          <p:nvPicPr>
            <p:cNvPr id="69" name="5-конечная звезда 16" descr=""/>
            <p:cNvPicPr/>
            <p:nvPr/>
          </p:nvPicPr>
          <p:blipFill>
            <a:blip r:embed="rId11"/>
            <a:stretch/>
          </p:blipFill>
          <p:spPr>
            <a:xfrm>
              <a:off x="5937120" y="4084560"/>
              <a:ext cx="9874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346800" y="4494240"/>
              <a:ext cx="165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17"/>
          <p:cNvGrpSpPr/>
          <p:nvPr/>
        </p:nvGrpSpPr>
        <p:grpSpPr>
          <a:xfrm>
            <a:off x="6291360" y="652320"/>
            <a:ext cx="920520" cy="828720"/>
            <a:chOff x="6291360" y="652320"/>
            <a:chExt cx="920520" cy="828720"/>
          </a:xfrm>
        </p:grpSpPr>
        <p:pic>
          <p:nvPicPr>
            <p:cNvPr id="72" name="5-конечная звезда 17" descr=""/>
            <p:cNvPicPr/>
            <p:nvPr/>
          </p:nvPicPr>
          <p:blipFill>
            <a:blip r:embed="rId12"/>
            <a:stretch/>
          </p:blipFill>
          <p:spPr>
            <a:xfrm>
              <a:off x="6291360" y="652320"/>
              <a:ext cx="9205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683400" y="1038240"/>
              <a:ext cx="13500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Полилиния 18"/>
          <p:cNvSpPr/>
          <p:nvPr/>
        </p:nvSpPr>
        <p:spPr>
          <a:xfrm>
            <a:off x="739800" y="4052880"/>
            <a:ext cx="3360600" cy="1041480"/>
          </a:xfrm>
          <a:custGeom>
            <a:avLst/>
            <a:gdLst/>
            <a:ahLst/>
            <a:rect l="l" t="t" r="r" b="b"/>
            <a:pathLst>
              <a:path w="3359746" h="1041679">
                <a:moveTo>
                  <a:pt x="2847281" y="689987"/>
                </a:moveTo>
                <a:cubicBezTo>
                  <a:pt x="2853980" y="700035"/>
                  <a:pt x="2861976" y="709330"/>
                  <a:pt x="2867377" y="720132"/>
                </a:cubicBezTo>
                <a:cubicBezTo>
                  <a:pt x="2872114" y="729606"/>
                  <a:pt x="2870809" y="742006"/>
                  <a:pt x="2877426" y="750277"/>
                </a:cubicBezTo>
                <a:cubicBezTo>
                  <a:pt x="2891593" y="767986"/>
                  <a:pt x="2917857" y="773802"/>
                  <a:pt x="2937716" y="780422"/>
                </a:cubicBezTo>
                <a:cubicBezTo>
                  <a:pt x="2944415" y="790470"/>
                  <a:pt x="2952411" y="799765"/>
                  <a:pt x="2957812" y="810567"/>
                </a:cubicBezTo>
                <a:cubicBezTo>
                  <a:pt x="2962549" y="820041"/>
                  <a:pt x="2961244" y="832441"/>
                  <a:pt x="2967861" y="840712"/>
                </a:cubicBezTo>
                <a:cubicBezTo>
                  <a:pt x="2975405" y="850142"/>
                  <a:pt x="2987958" y="854110"/>
                  <a:pt x="2998006" y="860809"/>
                </a:cubicBezTo>
                <a:cubicBezTo>
                  <a:pt x="3001355" y="884255"/>
                  <a:pt x="3016850" y="909157"/>
                  <a:pt x="3008054" y="931147"/>
                </a:cubicBezTo>
                <a:cubicBezTo>
                  <a:pt x="3003569" y="942360"/>
                  <a:pt x="2987186" y="918782"/>
                  <a:pt x="2977909" y="911051"/>
                </a:cubicBezTo>
                <a:cubicBezTo>
                  <a:pt x="2966992" y="901954"/>
                  <a:pt x="2956861" y="891823"/>
                  <a:pt x="2947764" y="880906"/>
                </a:cubicBezTo>
                <a:cubicBezTo>
                  <a:pt x="2940033" y="871628"/>
                  <a:pt x="2936206" y="859300"/>
                  <a:pt x="2927667" y="850761"/>
                </a:cubicBezTo>
                <a:cubicBezTo>
                  <a:pt x="2848634" y="771728"/>
                  <a:pt x="2949675" y="899278"/>
                  <a:pt x="2867377" y="800519"/>
                </a:cubicBezTo>
                <a:cubicBezTo>
                  <a:pt x="2832415" y="758563"/>
                  <a:pt x="2866624" y="776822"/>
                  <a:pt x="2817135" y="760325"/>
                </a:cubicBezTo>
                <a:cubicBezTo>
                  <a:pt x="2810436" y="793820"/>
                  <a:pt x="2801276" y="826915"/>
                  <a:pt x="2797039" y="860809"/>
                </a:cubicBezTo>
                <a:cubicBezTo>
                  <a:pt x="2785277" y="954899"/>
                  <a:pt x="2793539" y="914998"/>
                  <a:pt x="2776942" y="981389"/>
                </a:cubicBezTo>
                <a:cubicBezTo>
                  <a:pt x="2773593" y="803868"/>
                  <a:pt x="2776392" y="626125"/>
                  <a:pt x="2766894" y="448827"/>
                </a:cubicBezTo>
                <a:cubicBezTo>
                  <a:pt x="2766037" y="432829"/>
                  <a:pt x="2723423" y="396661"/>
                  <a:pt x="2716652" y="388536"/>
                </a:cubicBezTo>
                <a:cubicBezTo>
                  <a:pt x="2708921" y="379258"/>
                  <a:pt x="2704634" y="367367"/>
                  <a:pt x="2696555" y="358391"/>
                </a:cubicBezTo>
                <a:cubicBezTo>
                  <a:pt x="2652647" y="309604"/>
                  <a:pt x="2633413" y="291081"/>
                  <a:pt x="2586023" y="257908"/>
                </a:cubicBezTo>
                <a:cubicBezTo>
                  <a:pt x="2585938" y="257849"/>
                  <a:pt x="2510704" y="207695"/>
                  <a:pt x="2495588" y="197618"/>
                </a:cubicBezTo>
                <a:lnTo>
                  <a:pt x="2465443" y="177521"/>
                </a:lnTo>
                <a:cubicBezTo>
                  <a:pt x="2458744" y="187569"/>
                  <a:pt x="2448062" y="195899"/>
                  <a:pt x="2445346" y="207666"/>
                </a:cubicBezTo>
                <a:cubicBezTo>
                  <a:pt x="2437777" y="240466"/>
                  <a:pt x="2450352" y="278042"/>
                  <a:pt x="2435298" y="308150"/>
                </a:cubicBezTo>
                <a:cubicBezTo>
                  <a:pt x="2429897" y="318952"/>
                  <a:pt x="2415955" y="293454"/>
                  <a:pt x="2405153" y="288053"/>
                </a:cubicBezTo>
                <a:cubicBezTo>
                  <a:pt x="2395679" y="283316"/>
                  <a:pt x="2385056" y="281354"/>
                  <a:pt x="2375008" y="278005"/>
                </a:cubicBezTo>
                <a:cubicBezTo>
                  <a:pt x="2349752" y="353775"/>
                  <a:pt x="2383821" y="260379"/>
                  <a:pt x="2344863" y="338295"/>
                </a:cubicBezTo>
                <a:cubicBezTo>
                  <a:pt x="2340126" y="347769"/>
                  <a:pt x="2340690" y="359627"/>
                  <a:pt x="2334815" y="368440"/>
                </a:cubicBezTo>
                <a:cubicBezTo>
                  <a:pt x="2326932" y="380264"/>
                  <a:pt x="2312930" y="387021"/>
                  <a:pt x="2304670" y="398585"/>
                </a:cubicBezTo>
                <a:cubicBezTo>
                  <a:pt x="2295963" y="410774"/>
                  <a:pt x="2292005" y="425773"/>
                  <a:pt x="2284573" y="438778"/>
                </a:cubicBezTo>
                <a:cubicBezTo>
                  <a:pt x="2278581" y="449263"/>
                  <a:pt x="2271175" y="458875"/>
                  <a:pt x="2264476" y="468923"/>
                </a:cubicBezTo>
                <a:cubicBezTo>
                  <a:pt x="2239885" y="542694"/>
                  <a:pt x="2259358" y="514234"/>
                  <a:pt x="2214234" y="559358"/>
                </a:cubicBezTo>
                <a:cubicBezTo>
                  <a:pt x="2185914" y="446074"/>
                  <a:pt x="2191179" y="483141"/>
                  <a:pt x="2214234" y="267956"/>
                </a:cubicBezTo>
                <a:cubicBezTo>
                  <a:pt x="2215521" y="255948"/>
                  <a:pt x="2227632" y="247859"/>
                  <a:pt x="2234331" y="237811"/>
                </a:cubicBezTo>
                <a:cubicBezTo>
                  <a:pt x="2230982" y="207666"/>
                  <a:pt x="2243230" y="171060"/>
                  <a:pt x="2224283" y="147376"/>
                </a:cubicBezTo>
                <a:cubicBezTo>
                  <a:pt x="2213821" y="134299"/>
                  <a:pt x="2202447" y="173028"/>
                  <a:pt x="2194138" y="187569"/>
                </a:cubicBezTo>
                <a:cubicBezTo>
                  <a:pt x="2137251" y="287120"/>
                  <a:pt x="2239014" y="142829"/>
                  <a:pt x="2163993" y="247860"/>
                </a:cubicBezTo>
                <a:cubicBezTo>
                  <a:pt x="2154259" y="261488"/>
                  <a:pt x="2145690" y="276211"/>
                  <a:pt x="2133848" y="288053"/>
                </a:cubicBezTo>
                <a:cubicBezTo>
                  <a:pt x="2054812" y="367089"/>
                  <a:pt x="2155860" y="239532"/>
                  <a:pt x="2073557" y="338295"/>
                </a:cubicBezTo>
                <a:cubicBezTo>
                  <a:pt x="2065826" y="347572"/>
                  <a:pt x="2061484" y="359414"/>
                  <a:pt x="2053461" y="368440"/>
                </a:cubicBezTo>
                <a:cubicBezTo>
                  <a:pt x="2034579" y="389682"/>
                  <a:pt x="2013268" y="408633"/>
                  <a:pt x="1993171" y="428730"/>
                </a:cubicBezTo>
                <a:cubicBezTo>
                  <a:pt x="1983123" y="438778"/>
                  <a:pt x="1976507" y="454381"/>
                  <a:pt x="1963026" y="458875"/>
                </a:cubicBezTo>
                <a:cubicBezTo>
                  <a:pt x="1942929" y="465574"/>
                  <a:pt x="1920361" y="467221"/>
                  <a:pt x="1902735" y="478972"/>
                </a:cubicBezTo>
                <a:lnTo>
                  <a:pt x="1842445" y="519165"/>
                </a:lnTo>
                <a:cubicBezTo>
                  <a:pt x="1832397" y="525864"/>
                  <a:pt x="1824016" y="536333"/>
                  <a:pt x="1812300" y="539262"/>
                </a:cubicBezTo>
                <a:cubicBezTo>
                  <a:pt x="1798902" y="542611"/>
                  <a:pt x="1785335" y="545342"/>
                  <a:pt x="1772107" y="549310"/>
                </a:cubicBezTo>
                <a:cubicBezTo>
                  <a:pt x="1751817" y="555397"/>
                  <a:pt x="1711817" y="569407"/>
                  <a:pt x="1711817" y="569407"/>
                </a:cubicBezTo>
                <a:cubicBezTo>
                  <a:pt x="1695070" y="566057"/>
                  <a:pt x="1667918" y="575215"/>
                  <a:pt x="1661575" y="559358"/>
                </a:cubicBezTo>
                <a:cubicBezTo>
                  <a:pt x="1650310" y="531197"/>
                  <a:pt x="1666637" y="498841"/>
                  <a:pt x="1671623" y="468923"/>
                </a:cubicBezTo>
                <a:cubicBezTo>
                  <a:pt x="1677518" y="433553"/>
                  <a:pt x="1702687" y="407255"/>
                  <a:pt x="1721865" y="378488"/>
                </a:cubicBezTo>
                <a:lnTo>
                  <a:pt x="1762059" y="318198"/>
                </a:lnTo>
                <a:lnTo>
                  <a:pt x="1782155" y="288053"/>
                </a:lnTo>
                <a:lnTo>
                  <a:pt x="1762059" y="318198"/>
                </a:lnTo>
                <a:cubicBezTo>
                  <a:pt x="1755360" y="328246"/>
                  <a:pt x="1750501" y="339804"/>
                  <a:pt x="1741962" y="348343"/>
                </a:cubicBezTo>
                <a:cubicBezTo>
                  <a:pt x="1671080" y="419225"/>
                  <a:pt x="1707092" y="395923"/>
                  <a:pt x="1641478" y="428730"/>
                </a:cubicBezTo>
                <a:cubicBezTo>
                  <a:pt x="1634779" y="438778"/>
                  <a:pt x="1630470" y="450923"/>
                  <a:pt x="1621382" y="458875"/>
                </a:cubicBezTo>
                <a:cubicBezTo>
                  <a:pt x="1569364" y="504391"/>
                  <a:pt x="1563639" y="500140"/>
                  <a:pt x="1500801" y="509117"/>
                </a:cubicBezTo>
                <a:cubicBezTo>
                  <a:pt x="1434432" y="518598"/>
                  <a:pt x="1388175" y="522389"/>
                  <a:pt x="1319931" y="529213"/>
                </a:cubicBezTo>
                <a:cubicBezTo>
                  <a:pt x="1309883" y="532563"/>
                  <a:pt x="1300005" y="536475"/>
                  <a:pt x="1289786" y="539262"/>
                </a:cubicBezTo>
                <a:cubicBezTo>
                  <a:pt x="1263139" y="546529"/>
                  <a:pt x="1235602" y="550623"/>
                  <a:pt x="1209399" y="559358"/>
                </a:cubicBezTo>
                <a:lnTo>
                  <a:pt x="1179254" y="569407"/>
                </a:lnTo>
                <a:cubicBezTo>
                  <a:pt x="1224200" y="501989"/>
                  <a:pt x="1171253" y="568042"/>
                  <a:pt x="1229496" y="529213"/>
                </a:cubicBezTo>
                <a:cubicBezTo>
                  <a:pt x="1241320" y="521330"/>
                  <a:pt x="1248424" y="507792"/>
                  <a:pt x="1259641" y="499068"/>
                </a:cubicBezTo>
                <a:cubicBezTo>
                  <a:pt x="1278706" y="484239"/>
                  <a:pt x="1299834" y="472273"/>
                  <a:pt x="1319931" y="458875"/>
                </a:cubicBezTo>
                <a:lnTo>
                  <a:pt x="1350076" y="438778"/>
                </a:lnTo>
                <a:lnTo>
                  <a:pt x="1380221" y="418681"/>
                </a:lnTo>
                <a:cubicBezTo>
                  <a:pt x="1399785" y="359993"/>
                  <a:pt x="1374963" y="413892"/>
                  <a:pt x="1420415" y="368440"/>
                </a:cubicBezTo>
                <a:cubicBezTo>
                  <a:pt x="1428954" y="359901"/>
                  <a:pt x="1450172" y="331049"/>
                  <a:pt x="1440511" y="338295"/>
                </a:cubicBezTo>
                <a:cubicBezTo>
                  <a:pt x="1361056" y="397885"/>
                  <a:pt x="1408272" y="393933"/>
                  <a:pt x="1329979" y="428730"/>
                </a:cubicBezTo>
                <a:cubicBezTo>
                  <a:pt x="1317359" y="434339"/>
                  <a:pt x="1303184" y="435429"/>
                  <a:pt x="1289786" y="438778"/>
                </a:cubicBezTo>
                <a:cubicBezTo>
                  <a:pt x="1276388" y="445477"/>
                  <a:pt x="1264125" y="455242"/>
                  <a:pt x="1249593" y="458875"/>
                </a:cubicBezTo>
                <a:cubicBezTo>
                  <a:pt x="1223395" y="465424"/>
                  <a:pt x="1196150" y="467127"/>
                  <a:pt x="1169206" y="468923"/>
                </a:cubicBezTo>
                <a:cubicBezTo>
                  <a:pt x="1095605" y="473830"/>
                  <a:pt x="1021830" y="475622"/>
                  <a:pt x="948142" y="478972"/>
                </a:cubicBezTo>
                <a:cubicBezTo>
                  <a:pt x="796121" y="509375"/>
                  <a:pt x="798396" y="512809"/>
                  <a:pt x="536160" y="478972"/>
                </a:cubicBezTo>
                <a:cubicBezTo>
                  <a:pt x="516790" y="476473"/>
                  <a:pt x="568933" y="457561"/>
                  <a:pt x="586401" y="448827"/>
                </a:cubicBezTo>
                <a:cubicBezTo>
                  <a:pt x="610797" y="436629"/>
                  <a:pt x="641556" y="435612"/>
                  <a:pt x="666788" y="428730"/>
                </a:cubicBezTo>
                <a:cubicBezTo>
                  <a:pt x="687225" y="423156"/>
                  <a:pt x="727078" y="408633"/>
                  <a:pt x="727078" y="408633"/>
                </a:cubicBezTo>
                <a:cubicBezTo>
                  <a:pt x="784223" y="351488"/>
                  <a:pt x="729200" y="397524"/>
                  <a:pt x="787368" y="368440"/>
                </a:cubicBezTo>
                <a:cubicBezTo>
                  <a:pt x="815348" y="354450"/>
                  <a:pt x="825435" y="340422"/>
                  <a:pt x="847659" y="318198"/>
                </a:cubicBezTo>
                <a:cubicBezTo>
                  <a:pt x="851008" y="308150"/>
                  <a:pt x="852970" y="297527"/>
                  <a:pt x="857707" y="288053"/>
                </a:cubicBezTo>
                <a:cubicBezTo>
                  <a:pt x="863108" y="277251"/>
                  <a:pt x="873564" y="269216"/>
                  <a:pt x="877804" y="257908"/>
                </a:cubicBezTo>
                <a:cubicBezTo>
                  <a:pt x="883801" y="241916"/>
                  <a:pt x="884503" y="224413"/>
                  <a:pt x="887852" y="207666"/>
                </a:cubicBezTo>
                <a:cubicBezTo>
                  <a:pt x="635695" y="144628"/>
                  <a:pt x="971843" y="225430"/>
                  <a:pt x="214612" y="187569"/>
                </a:cubicBezTo>
                <a:cubicBezTo>
                  <a:pt x="202551" y="186966"/>
                  <a:pt x="232915" y="169841"/>
                  <a:pt x="244757" y="167473"/>
                </a:cubicBezTo>
                <a:cubicBezTo>
                  <a:pt x="284307" y="159563"/>
                  <a:pt x="325144" y="160774"/>
                  <a:pt x="365338" y="157424"/>
                </a:cubicBezTo>
                <a:cubicBezTo>
                  <a:pt x="437636" y="133326"/>
                  <a:pt x="347329" y="162570"/>
                  <a:pt x="435676" y="137328"/>
                </a:cubicBezTo>
                <a:cubicBezTo>
                  <a:pt x="445860" y="134418"/>
                  <a:pt x="455481" y="129577"/>
                  <a:pt x="465821" y="127279"/>
                </a:cubicBezTo>
                <a:cubicBezTo>
                  <a:pt x="485710" y="122859"/>
                  <a:pt x="506014" y="120580"/>
                  <a:pt x="526111" y="117231"/>
                </a:cubicBezTo>
                <a:cubicBezTo>
                  <a:pt x="536159" y="110532"/>
                  <a:pt x="545220" y="102039"/>
                  <a:pt x="556256" y="97134"/>
                </a:cubicBezTo>
                <a:cubicBezTo>
                  <a:pt x="575614" y="88531"/>
                  <a:pt x="616546" y="77038"/>
                  <a:pt x="616546" y="77038"/>
                </a:cubicBezTo>
                <a:cubicBezTo>
                  <a:pt x="623245" y="66989"/>
                  <a:pt x="645182" y="55432"/>
                  <a:pt x="636643" y="46892"/>
                </a:cubicBezTo>
                <a:cubicBezTo>
                  <a:pt x="628104" y="38352"/>
                  <a:pt x="615037" y="58450"/>
                  <a:pt x="606498" y="66989"/>
                </a:cubicBezTo>
                <a:cubicBezTo>
                  <a:pt x="597959" y="75528"/>
                  <a:pt x="595831" y="89590"/>
                  <a:pt x="586401" y="97134"/>
                </a:cubicBezTo>
                <a:cubicBezTo>
                  <a:pt x="578130" y="103751"/>
                  <a:pt x="566704" y="105442"/>
                  <a:pt x="556256" y="107183"/>
                </a:cubicBezTo>
                <a:cubicBezTo>
                  <a:pt x="526338" y="112169"/>
                  <a:pt x="495966" y="113882"/>
                  <a:pt x="465821" y="117231"/>
                </a:cubicBezTo>
                <a:lnTo>
                  <a:pt x="385434" y="137328"/>
                </a:lnTo>
                <a:lnTo>
                  <a:pt x="345241" y="147376"/>
                </a:lnTo>
                <a:lnTo>
                  <a:pt x="13645" y="137328"/>
                </a:lnTo>
                <a:cubicBezTo>
                  <a:pt x="0" y="135196"/>
                  <a:pt x="16033" y="108625"/>
                  <a:pt x="23694" y="97134"/>
                </a:cubicBezTo>
                <a:cubicBezTo>
                  <a:pt x="30393" y="87086"/>
                  <a:pt x="42739" y="81795"/>
                  <a:pt x="53839" y="77038"/>
                </a:cubicBezTo>
                <a:cubicBezTo>
                  <a:pt x="74267" y="68283"/>
                  <a:pt x="138728" y="60060"/>
                  <a:pt x="154322" y="56941"/>
                </a:cubicBezTo>
                <a:cubicBezTo>
                  <a:pt x="167864" y="54233"/>
                  <a:pt x="180827" y="48717"/>
                  <a:pt x="194516" y="46892"/>
                </a:cubicBezTo>
                <a:cubicBezTo>
                  <a:pt x="491892" y="7242"/>
                  <a:pt x="176834" y="58212"/>
                  <a:pt x="365338" y="26796"/>
                </a:cubicBezTo>
                <a:cubicBezTo>
                  <a:pt x="435676" y="3350"/>
                  <a:pt x="405531" y="0"/>
                  <a:pt x="455773" y="16747"/>
                </a:cubicBezTo>
                <a:cubicBezTo>
                  <a:pt x="375909" y="56679"/>
                  <a:pt x="440187" y="30760"/>
                  <a:pt x="294999" y="46892"/>
                </a:cubicBezTo>
                <a:cubicBezTo>
                  <a:pt x="274750" y="49142"/>
                  <a:pt x="254926" y="54414"/>
                  <a:pt x="234709" y="56941"/>
                </a:cubicBezTo>
                <a:cubicBezTo>
                  <a:pt x="201308" y="61116"/>
                  <a:pt x="167720" y="63640"/>
                  <a:pt x="134226" y="66989"/>
                </a:cubicBezTo>
                <a:cubicBezTo>
                  <a:pt x="121353" y="70207"/>
                  <a:pt x="78299" y="79880"/>
                  <a:pt x="63887" y="87086"/>
                </a:cubicBezTo>
                <a:cubicBezTo>
                  <a:pt x="53085" y="92487"/>
                  <a:pt x="43790" y="100484"/>
                  <a:pt x="33742" y="107183"/>
                </a:cubicBezTo>
                <a:cubicBezTo>
                  <a:pt x="27043" y="117231"/>
                  <a:pt x="15353" y="125373"/>
                  <a:pt x="13645" y="137328"/>
                </a:cubicBezTo>
                <a:cubicBezTo>
                  <a:pt x="11692" y="150999"/>
                  <a:pt x="10049" y="175389"/>
                  <a:pt x="23694" y="177521"/>
                </a:cubicBezTo>
                <a:cubicBezTo>
                  <a:pt x="126336" y="193558"/>
                  <a:pt x="231360" y="184220"/>
                  <a:pt x="335193" y="187569"/>
                </a:cubicBezTo>
                <a:cubicBezTo>
                  <a:pt x="294999" y="190919"/>
                  <a:pt x="250687" y="179581"/>
                  <a:pt x="214612" y="197618"/>
                </a:cubicBezTo>
                <a:cubicBezTo>
                  <a:pt x="195664" y="207092"/>
                  <a:pt x="253792" y="215955"/>
                  <a:pt x="274903" y="217714"/>
                </a:cubicBezTo>
                <a:lnTo>
                  <a:pt x="395483" y="227763"/>
                </a:lnTo>
                <a:cubicBezTo>
                  <a:pt x="495966" y="224413"/>
                  <a:pt x="596558" y="223450"/>
                  <a:pt x="696933" y="217714"/>
                </a:cubicBezTo>
                <a:cubicBezTo>
                  <a:pt x="713984" y="216740"/>
                  <a:pt x="730371" y="210721"/>
                  <a:pt x="747175" y="207666"/>
                </a:cubicBezTo>
                <a:cubicBezTo>
                  <a:pt x="767220" y="204022"/>
                  <a:pt x="787368" y="200967"/>
                  <a:pt x="807465" y="197618"/>
                </a:cubicBezTo>
                <a:cubicBezTo>
                  <a:pt x="804116" y="221064"/>
                  <a:pt x="802062" y="244732"/>
                  <a:pt x="797417" y="267956"/>
                </a:cubicBezTo>
                <a:cubicBezTo>
                  <a:pt x="788999" y="310046"/>
                  <a:pt x="787029" y="288731"/>
                  <a:pt x="767272" y="328246"/>
                </a:cubicBezTo>
                <a:cubicBezTo>
                  <a:pt x="728109" y="406573"/>
                  <a:pt x="812071" y="291958"/>
                  <a:pt x="717030" y="418681"/>
                </a:cubicBezTo>
                <a:cubicBezTo>
                  <a:pt x="706982" y="432079"/>
                  <a:pt x="696619" y="445247"/>
                  <a:pt x="686885" y="458875"/>
                </a:cubicBezTo>
                <a:cubicBezTo>
                  <a:pt x="679866" y="468702"/>
                  <a:pt x="675327" y="480481"/>
                  <a:pt x="666788" y="489020"/>
                </a:cubicBezTo>
                <a:cubicBezTo>
                  <a:pt x="658249" y="497559"/>
                  <a:pt x="646691" y="502418"/>
                  <a:pt x="636643" y="509117"/>
                </a:cubicBezTo>
                <a:cubicBezTo>
                  <a:pt x="626595" y="525864"/>
                  <a:pt x="616849" y="542796"/>
                  <a:pt x="606498" y="559358"/>
                </a:cubicBezTo>
                <a:cubicBezTo>
                  <a:pt x="600097" y="569599"/>
                  <a:pt x="597614" y="585018"/>
                  <a:pt x="586401" y="589503"/>
                </a:cubicBezTo>
                <a:cubicBezTo>
                  <a:pt x="576567" y="593437"/>
                  <a:pt x="566304" y="582804"/>
                  <a:pt x="556256" y="579455"/>
                </a:cubicBezTo>
                <a:cubicBezTo>
                  <a:pt x="611034" y="415133"/>
                  <a:pt x="552695" y="558624"/>
                  <a:pt x="988335" y="539262"/>
                </a:cubicBezTo>
                <a:cubicBezTo>
                  <a:pt x="998917" y="538792"/>
                  <a:pt x="1008296" y="532123"/>
                  <a:pt x="1018481" y="529213"/>
                </a:cubicBezTo>
                <a:cubicBezTo>
                  <a:pt x="1031760" y="525419"/>
                  <a:pt x="1045446" y="523133"/>
                  <a:pt x="1058674" y="519165"/>
                </a:cubicBezTo>
                <a:cubicBezTo>
                  <a:pt x="1078964" y="513078"/>
                  <a:pt x="1098192" y="503222"/>
                  <a:pt x="1118964" y="499068"/>
                </a:cubicBezTo>
                <a:lnTo>
                  <a:pt x="1169206" y="489020"/>
                </a:lnTo>
                <a:cubicBezTo>
                  <a:pt x="1179254" y="482321"/>
                  <a:pt x="1188866" y="474915"/>
                  <a:pt x="1199351" y="468923"/>
                </a:cubicBezTo>
                <a:cubicBezTo>
                  <a:pt x="1234116" y="449057"/>
                  <a:pt x="1264291" y="440578"/>
                  <a:pt x="1209399" y="458875"/>
                </a:cubicBezTo>
                <a:cubicBezTo>
                  <a:pt x="1199351" y="468923"/>
                  <a:pt x="1190471" y="480296"/>
                  <a:pt x="1179254" y="489020"/>
                </a:cubicBezTo>
                <a:cubicBezTo>
                  <a:pt x="1160189" y="503849"/>
                  <a:pt x="1139061" y="515815"/>
                  <a:pt x="1118964" y="529213"/>
                </a:cubicBezTo>
                <a:cubicBezTo>
                  <a:pt x="1108916" y="535912"/>
                  <a:pt x="1097358" y="540771"/>
                  <a:pt x="1088819" y="549310"/>
                </a:cubicBezTo>
                <a:cubicBezTo>
                  <a:pt x="1050135" y="587994"/>
                  <a:pt x="1066557" y="567631"/>
                  <a:pt x="1038577" y="609600"/>
                </a:cubicBezTo>
                <a:cubicBezTo>
                  <a:pt x="1048625" y="616299"/>
                  <a:pt x="1056653" y="629266"/>
                  <a:pt x="1068722" y="629697"/>
                </a:cubicBezTo>
                <a:cubicBezTo>
                  <a:pt x="1436748" y="642842"/>
                  <a:pt x="1227002" y="643167"/>
                  <a:pt x="1350076" y="609600"/>
                </a:cubicBezTo>
                <a:cubicBezTo>
                  <a:pt x="1376723" y="602332"/>
                  <a:pt x="1404260" y="598237"/>
                  <a:pt x="1430463" y="589503"/>
                </a:cubicBezTo>
                <a:lnTo>
                  <a:pt x="1490753" y="569407"/>
                </a:lnTo>
                <a:cubicBezTo>
                  <a:pt x="1535877" y="524283"/>
                  <a:pt x="1507417" y="543755"/>
                  <a:pt x="1581188" y="519165"/>
                </a:cubicBezTo>
                <a:lnTo>
                  <a:pt x="1611333" y="509117"/>
                </a:lnTo>
                <a:cubicBezTo>
                  <a:pt x="1620426" y="503055"/>
                  <a:pt x="1671623" y="471769"/>
                  <a:pt x="1671623" y="458875"/>
                </a:cubicBezTo>
                <a:cubicBezTo>
                  <a:pt x="1671623" y="446798"/>
                  <a:pt x="1651526" y="472273"/>
                  <a:pt x="1641478" y="478972"/>
                </a:cubicBezTo>
                <a:lnTo>
                  <a:pt x="1621382" y="539262"/>
                </a:lnTo>
                <a:cubicBezTo>
                  <a:pt x="1618033" y="549310"/>
                  <a:pt x="1617208" y="560594"/>
                  <a:pt x="1611333" y="569407"/>
                </a:cubicBezTo>
                <a:cubicBezTo>
                  <a:pt x="1607596" y="575013"/>
                  <a:pt x="1566042" y="634646"/>
                  <a:pt x="1571140" y="639745"/>
                </a:cubicBezTo>
                <a:cubicBezTo>
                  <a:pt x="1581731" y="650337"/>
                  <a:pt x="1596611" y="622409"/>
                  <a:pt x="1611333" y="619649"/>
                </a:cubicBezTo>
                <a:cubicBezTo>
                  <a:pt x="1650975" y="612216"/>
                  <a:pt x="1691720" y="612950"/>
                  <a:pt x="1731914" y="609600"/>
                </a:cubicBezTo>
                <a:cubicBezTo>
                  <a:pt x="1741962" y="606251"/>
                  <a:pt x="1752800" y="604696"/>
                  <a:pt x="1762059" y="599552"/>
                </a:cubicBezTo>
                <a:cubicBezTo>
                  <a:pt x="1865713" y="541966"/>
                  <a:pt x="1784283" y="572046"/>
                  <a:pt x="1852494" y="549310"/>
                </a:cubicBezTo>
                <a:cubicBezTo>
                  <a:pt x="1890627" y="492109"/>
                  <a:pt x="1850467" y="538984"/>
                  <a:pt x="1902735" y="509117"/>
                </a:cubicBezTo>
                <a:cubicBezTo>
                  <a:pt x="1934584" y="490918"/>
                  <a:pt x="1941979" y="474422"/>
                  <a:pt x="1973074" y="458875"/>
                </a:cubicBezTo>
                <a:cubicBezTo>
                  <a:pt x="1982548" y="454138"/>
                  <a:pt x="1993171" y="452176"/>
                  <a:pt x="2003219" y="448827"/>
                </a:cubicBezTo>
                <a:lnTo>
                  <a:pt x="2063509" y="408633"/>
                </a:lnTo>
                <a:lnTo>
                  <a:pt x="2093654" y="388536"/>
                </a:lnTo>
                <a:cubicBezTo>
                  <a:pt x="2100353" y="371789"/>
                  <a:pt x="2105684" y="354428"/>
                  <a:pt x="2113751" y="338295"/>
                </a:cubicBezTo>
                <a:cubicBezTo>
                  <a:pt x="2119152" y="327493"/>
                  <a:pt x="2128447" y="318952"/>
                  <a:pt x="2133848" y="308150"/>
                </a:cubicBezTo>
                <a:cubicBezTo>
                  <a:pt x="2175450" y="224946"/>
                  <a:pt x="2106397" y="334252"/>
                  <a:pt x="2163993" y="247860"/>
                </a:cubicBezTo>
                <a:cubicBezTo>
                  <a:pt x="2201292" y="303811"/>
                  <a:pt x="2178342" y="252200"/>
                  <a:pt x="2163993" y="338295"/>
                </a:cubicBezTo>
                <a:cubicBezTo>
                  <a:pt x="2162613" y="346574"/>
                  <a:pt x="2142865" y="473049"/>
                  <a:pt x="2133848" y="509117"/>
                </a:cubicBezTo>
                <a:cubicBezTo>
                  <a:pt x="2131279" y="519393"/>
                  <a:pt x="2127149" y="529214"/>
                  <a:pt x="2123799" y="539262"/>
                </a:cubicBezTo>
                <a:cubicBezTo>
                  <a:pt x="2132181" y="623080"/>
                  <a:pt x="2102439" y="660384"/>
                  <a:pt x="2174041" y="629697"/>
                </a:cubicBezTo>
                <a:cubicBezTo>
                  <a:pt x="2185141" y="624940"/>
                  <a:pt x="2194138" y="616299"/>
                  <a:pt x="2204186" y="609600"/>
                </a:cubicBezTo>
                <a:cubicBezTo>
                  <a:pt x="2210885" y="599552"/>
                  <a:pt x="2216552" y="588733"/>
                  <a:pt x="2224283" y="579455"/>
                </a:cubicBezTo>
                <a:cubicBezTo>
                  <a:pt x="2233380" y="568538"/>
                  <a:pt x="2247527" y="561732"/>
                  <a:pt x="2254428" y="549310"/>
                </a:cubicBezTo>
                <a:cubicBezTo>
                  <a:pt x="2264716" y="530792"/>
                  <a:pt x="2267825" y="509117"/>
                  <a:pt x="2274524" y="489020"/>
                </a:cubicBezTo>
                <a:cubicBezTo>
                  <a:pt x="2277873" y="478972"/>
                  <a:pt x="2278698" y="467688"/>
                  <a:pt x="2284573" y="458875"/>
                </a:cubicBezTo>
                <a:lnTo>
                  <a:pt x="2304670" y="428730"/>
                </a:lnTo>
                <a:cubicBezTo>
                  <a:pt x="2345723" y="305572"/>
                  <a:pt x="2305682" y="328752"/>
                  <a:pt x="2364960" y="358391"/>
                </a:cubicBezTo>
                <a:cubicBezTo>
                  <a:pt x="2374434" y="363128"/>
                  <a:pt x="2385057" y="365090"/>
                  <a:pt x="2395105" y="368440"/>
                </a:cubicBezTo>
                <a:cubicBezTo>
                  <a:pt x="2441173" y="299337"/>
                  <a:pt x="2427660" y="331064"/>
                  <a:pt x="2445346" y="278005"/>
                </a:cubicBezTo>
                <a:cubicBezTo>
                  <a:pt x="2506095" y="293191"/>
                  <a:pt x="2472434" y="283685"/>
                  <a:pt x="2545830" y="308150"/>
                </a:cubicBezTo>
                <a:lnTo>
                  <a:pt x="2575975" y="318198"/>
                </a:lnTo>
                <a:cubicBezTo>
                  <a:pt x="2586023" y="328246"/>
                  <a:pt x="2599070" y="336005"/>
                  <a:pt x="2606120" y="348343"/>
                </a:cubicBezTo>
                <a:cubicBezTo>
                  <a:pt x="2612972" y="360333"/>
                  <a:pt x="2611319" y="375605"/>
                  <a:pt x="2616168" y="388536"/>
                </a:cubicBezTo>
                <a:cubicBezTo>
                  <a:pt x="2621428" y="402562"/>
                  <a:pt x="2630702" y="414822"/>
                  <a:pt x="2636265" y="428730"/>
                </a:cubicBezTo>
                <a:cubicBezTo>
                  <a:pt x="2644133" y="448399"/>
                  <a:pt x="2656362" y="489020"/>
                  <a:pt x="2656362" y="489020"/>
                </a:cubicBezTo>
                <a:cubicBezTo>
                  <a:pt x="2659711" y="545961"/>
                  <a:pt x="2663246" y="602891"/>
                  <a:pt x="2666410" y="659842"/>
                </a:cubicBezTo>
                <a:cubicBezTo>
                  <a:pt x="2669945" y="723472"/>
                  <a:pt x="2672220" y="787174"/>
                  <a:pt x="2676459" y="850761"/>
                </a:cubicBezTo>
                <a:cubicBezTo>
                  <a:pt x="2678920" y="887675"/>
                  <a:pt x="2683158" y="924448"/>
                  <a:pt x="2686507" y="961292"/>
                </a:cubicBezTo>
                <a:cubicBezTo>
                  <a:pt x="2763544" y="884255"/>
                  <a:pt x="2742778" y="929137"/>
                  <a:pt x="2756845" y="830664"/>
                </a:cubicBezTo>
                <a:cubicBezTo>
                  <a:pt x="2773529" y="836225"/>
                  <a:pt x="2829220" y="854132"/>
                  <a:pt x="2837232" y="860809"/>
                </a:cubicBezTo>
                <a:cubicBezTo>
                  <a:pt x="2845369" y="867590"/>
                  <a:pt x="2843931" y="880906"/>
                  <a:pt x="2847281" y="890954"/>
                </a:cubicBezTo>
                <a:cubicBezTo>
                  <a:pt x="2850630" y="914400"/>
                  <a:pt x="2848827" y="939187"/>
                  <a:pt x="2857329" y="961292"/>
                </a:cubicBezTo>
                <a:cubicBezTo>
                  <a:pt x="2877542" y="1013846"/>
                  <a:pt x="2890764" y="1017078"/>
                  <a:pt x="2927667" y="1041679"/>
                </a:cubicBezTo>
                <a:cubicBezTo>
                  <a:pt x="2944414" y="1038330"/>
                  <a:pt x="2963080" y="1040104"/>
                  <a:pt x="2977909" y="1031631"/>
                </a:cubicBezTo>
                <a:cubicBezTo>
                  <a:pt x="2988395" y="1025639"/>
                  <a:pt x="2995907" y="1013379"/>
                  <a:pt x="2998006" y="1001486"/>
                </a:cubicBezTo>
                <a:cubicBezTo>
                  <a:pt x="3042566" y="748978"/>
                  <a:pt x="2985581" y="928224"/>
                  <a:pt x="3018103" y="830664"/>
                </a:cubicBezTo>
                <a:cubicBezTo>
                  <a:pt x="3038507" y="835765"/>
                  <a:pt x="3068254" y="842109"/>
                  <a:pt x="3088441" y="850761"/>
                </a:cubicBezTo>
                <a:cubicBezTo>
                  <a:pt x="3124141" y="866061"/>
                  <a:pt x="3128502" y="870769"/>
                  <a:pt x="3158779" y="890954"/>
                </a:cubicBezTo>
                <a:cubicBezTo>
                  <a:pt x="3202322" y="887605"/>
                  <a:pt x="3246074" y="886323"/>
                  <a:pt x="3289408" y="880906"/>
                </a:cubicBezTo>
                <a:cubicBezTo>
                  <a:pt x="3299918" y="879592"/>
                  <a:pt x="3309369" y="873767"/>
                  <a:pt x="3319553" y="870857"/>
                </a:cubicBezTo>
                <a:cubicBezTo>
                  <a:pt x="3332832" y="867063"/>
                  <a:pt x="3346348" y="864158"/>
                  <a:pt x="3359746" y="860809"/>
                </a:cubicBezTo>
                <a:cubicBezTo>
                  <a:pt x="3294852" y="817545"/>
                  <a:pt x="3353782" y="849908"/>
                  <a:pt x="3219070" y="830664"/>
                </a:cubicBezTo>
                <a:cubicBezTo>
                  <a:pt x="3208584" y="829166"/>
                  <a:pt x="3199345" y="822511"/>
                  <a:pt x="3188924" y="820616"/>
                </a:cubicBezTo>
                <a:cubicBezTo>
                  <a:pt x="3162356" y="815785"/>
                  <a:pt x="3135333" y="813917"/>
                  <a:pt x="3108538" y="810567"/>
                </a:cubicBezTo>
                <a:cubicBezTo>
                  <a:pt x="3098490" y="803868"/>
                  <a:pt x="3089429" y="795375"/>
                  <a:pt x="3078393" y="790470"/>
                </a:cubicBezTo>
                <a:cubicBezTo>
                  <a:pt x="3059035" y="781867"/>
                  <a:pt x="3018103" y="770374"/>
                  <a:pt x="3018103" y="770374"/>
                </a:cubicBezTo>
                <a:lnTo>
                  <a:pt x="2987957" y="750277"/>
                </a:lnTo>
              </a:path>
            </a:pathLst>
          </a:cu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лилиния 19"/>
          <p:cNvSpPr/>
          <p:nvPr/>
        </p:nvSpPr>
        <p:spPr>
          <a:xfrm>
            <a:off x="4309920" y="2752560"/>
            <a:ext cx="968400" cy="714600"/>
          </a:xfrm>
          <a:custGeom>
            <a:avLst/>
            <a:gdLst/>
            <a:ahLst/>
            <a:rect l="l" t="t" r="r" b="b"/>
            <a:pathLst>
              <a:path w="967224" h="713433">
                <a:moveTo>
                  <a:pt x="190919" y="492370"/>
                </a:moveTo>
                <a:cubicBezTo>
                  <a:pt x="343299" y="390782"/>
                  <a:pt x="186906" y="500738"/>
                  <a:pt x="281354" y="422031"/>
                </a:cubicBezTo>
                <a:cubicBezTo>
                  <a:pt x="290632" y="414300"/>
                  <a:pt x="302473" y="409957"/>
                  <a:pt x="311499" y="401934"/>
                </a:cubicBezTo>
                <a:cubicBezTo>
                  <a:pt x="332741" y="383052"/>
                  <a:pt x="371789" y="341644"/>
                  <a:pt x="371789" y="341644"/>
                </a:cubicBezTo>
                <a:cubicBezTo>
                  <a:pt x="378488" y="321547"/>
                  <a:pt x="386748" y="301905"/>
                  <a:pt x="391886" y="281354"/>
                </a:cubicBezTo>
                <a:cubicBezTo>
                  <a:pt x="395235" y="267956"/>
                  <a:pt x="397966" y="254389"/>
                  <a:pt x="401934" y="241161"/>
                </a:cubicBezTo>
                <a:cubicBezTo>
                  <a:pt x="408021" y="220871"/>
                  <a:pt x="407052" y="195850"/>
                  <a:pt x="422031" y="180871"/>
                </a:cubicBezTo>
                <a:lnTo>
                  <a:pt x="452176" y="150726"/>
                </a:lnTo>
                <a:cubicBezTo>
                  <a:pt x="487975" y="43326"/>
                  <a:pt x="449774" y="127974"/>
                  <a:pt x="502417" y="60290"/>
                </a:cubicBezTo>
                <a:cubicBezTo>
                  <a:pt x="517246" y="41225"/>
                  <a:pt x="542611" y="0"/>
                  <a:pt x="542611" y="0"/>
                </a:cubicBezTo>
                <a:cubicBezTo>
                  <a:pt x="545960" y="13398"/>
                  <a:pt x="552659" y="26384"/>
                  <a:pt x="552659" y="40194"/>
                </a:cubicBezTo>
                <a:cubicBezTo>
                  <a:pt x="552659" y="133986"/>
                  <a:pt x="556669" y="200998"/>
                  <a:pt x="532562" y="281354"/>
                </a:cubicBezTo>
                <a:cubicBezTo>
                  <a:pt x="502588" y="381266"/>
                  <a:pt x="531057" y="309129"/>
                  <a:pt x="482321" y="371789"/>
                </a:cubicBezTo>
                <a:cubicBezTo>
                  <a:pt x="467492" y="390854"/>
                  <a:pt x="442127" y="432079"/>
                  <a:pt x="442127" y="432079"/>
                </a:cubicBezTo>
                <a:cubicBezTo>
                  <a:pt x="458874" y="435429"/>
                  <a:pt x="475800" y="437986"/>
                  <a:pt x="492369" y="442128"/>
                </a:cubicBezTo>
                <a:cubicBezTo>
                  <a:pt x="502645" y="444697"/>
                  <a:pt x="511946" y="452881"/>
                  <a:pt x="522514" y="452176"/>
                </a:cubicBezTo>
                <a:cubicBezTo>
                  <a:pt x="604404" y="446716"/>
                  <a:pt x="617210" y="440707"/>
                  <a:pt x="673239" y="422031"/>
                </a:cubicBezTo>
                <a:cubicBezTo>
                  <a:pt x="693336" y="408633"/>
                  <a:pt x="720132" y="401935"/>
                  <a:pt x="733530" y="381838"/>
                </a:cubicBezTo>
                <a:cubicBezTo>
                  <a:pt x="740229" y="371790"/>
                  <a:pt x="744349" y="359424"/>
                  <a:pt x="753626" y="351693"/>
                </a:cubicBezTo>
                <a:cubicBezTo>
                  <a:pt x="848762" y="272412"/>
                  <a:pt x="727600" y="417917"/>
                  <a:pt x="854110" y="291403"/>
                </a:cubicBezTo>
                <a:cubicBezTo>
                  <a:pt x="864158" y="281354"/>
                  <a:pt x="875158" y="272174"/>
                  <a:pt x="884255" y="261257"/>
                </a:cubicBezTo>
                <a:cubicBezTo>
                  <a:pt x="891986" y="251979"/>
                  <a:pt x="895074" y="238843"/>
                  <a:pt x="904352" y="231112"/>
                </a:cubicBezTo>
                <a:cubicBezTo>
                  <a:pt x="915859" y="221523"/>
                  <a:pt x="931147" y="217715"/>
                  <a:pt x="944545" y="211016"/>
                </a:cubicBezTo>
                <a:cubicBezTo>
                  <a:pt x="951244" y="221064"/>
                  <a:pt x="963716" y="229120"/>
                  <a:pt x="964642" y="241161"/>
                </a:cubicBezTo>
                <a:cubicBezTo>
                  <a:pt x="967224" y="274723"/>
                  <a:pt x="962162" y="308845"/>
                  <a:pt x="954593" y="341644"/>
                </a:cubicBezTo>
                <a:cubicBezTo>
                  <a:pt x="951877" y="353411"/>
                  <a:pt x="942576" y="362813"/>
                  <a:pt x="934497" y="371789"/>
                </a:cubicBezTo>
                <a:cubicBezTo>
                  <a:pt x="912315" y="396435"/>
                  <a:pt x="890684" y="422233"/>
                  <a:pt x="864158" y="442128"/>
                </a:cubicBezTo>
                <a:cubicBezTo>
                  <a:pt x="850760" y="452176"/>
                  <a:pt x="839269" y="465471"/>
                  <a:pt x="823965" y="472273"/>
                </a:cubicBezTo>
                <a:cubicBezTo>
                  <a:pt x="808358" y="479209"/>
                  <a:pt x="790732" y="480775"/>
                  <a:pt x="773723" y="482321"/>
                </a:cubicBezTo>
                <a:cubicBezTo>
                  <a:pt x="716918" y="487485"/>
                  <a:pt x="659822" y="488698"/>
                  <a:pt x="602901" y="492370"/>
                </a:cubicBezTo>
                <a:lnTo>
                  <a:pt x="462224" y="502418"/>
                </a:lnTo>
                <a:cubicBezTo>
                  <a:pt x="475622" y="505767"/>
                  <a:pt x="488607" y="512466"/>
                  <a:pt x="502417" y="512466"/>
                </a:cubicBezTo>
                <a:cubicBezTo>
                  <a:pt x="863862" y="512466"/>
                  <a:pt x="766042" y="541821"/>
                  <a:pt x="914400" y="492370"/>
                </a:cubicBezTo>
                <a:cubicBezTo>
                  <a:pt x="898094" y="541290"/>
                  <a:pt x="912229" y="509476"/>
                  <a:pt x="874206" y="562708"/>
                </a:cubicBezTo>
                <a:cubicBezTo>
                  <a:pt x="867187" y="572535"/>
                  <a:pt x="862649" y="584314"/>
                  <a:pt x="854110" y="592853"/>
                </a:cubicBezTo>
                <a:cubicBezTo>
                  <a:pt x="842268" y="604695"/>
                  <a:pt x="826364" y="611795"/>
                  <a:pt x="813916" y="622998"/>
                </a:cubicBezTo>
                <a:cubicBezTo>
                  <a:pt x="792791" y="642011"/>
                  <a:pt x="780588" y="674300"/>
                  <a:pt x="753626" y="683288"/>
                </a:cubicBezTo>
                <a:cubicBezTo>
                  <a:pt x="712024" y="697156"/>
                  <a:pt x="732294" y="687462"/>
                  <a:pt x="693336" y="713433"/>
                </a:cubicBezTo>
                <a:cubicBezTo>
                  <a:pt x="609600" y="710084"/>
                  <a:pt x="525453" y="712313"/>
                  <a:pt x="442127" y="703385"/>
                </a:cubicBezTo>
                <a:cubicBezTo>
                  <a:pt x="430119" y="702098"/>
                  <a:pt x="421008" y="691311"/>
                  <a:pt x="411982" y="683288"/>
                </a:cubicBezTo>
                <a:cubicBezTo>
                  <a:pt x="377746" y="652856"/>
                  <a:pt x="360640" y="622448"/>
                  <a:pt x="321547" y="602901"/>
                </a:cubicBezTo>
                <a:cubicBezTo>
                  <a:pt x="312073" y="598164"/>
                  <a:pt x="301973" y="593514"/>
                  <a:pt x="291402" y="592853"/>
                </a:cubicBezTo>
                <a:cubicBezTo>
                  <a:pt x="194400" y="586791"/>
                  <a:pt x="97134" y="586154"/>
                  <a:pt x="0" y="582805"/>
                </a:cubicBezTo>
                <a:cubicBezTo>
                  <a:pt x="10048" y="579455"/>
                  <a:pt x="20671" y="577493"/>
                  <a:pt x="30145" y="572756"/>
                </a:cubicBezTo>
                <a:cubicBezTo>
                  <a:pt x="40947" y="567355"/>
                  <a:pt x="49254" y="557565"/>
                  <a:pt x="60290" y="552660"/>
                </a:cubicBezTo>
                <a:cubicBezTo>
                  <a:pt x="79648" y="544057"/>
                  <a:pt x="120580" y="532563"/>
                  <a:pt x="120580" y="532563"/>
                </a:cubicBezTo>
                <a:cubicBezTo>
                  <a:pt x="150859" y="512377"/>
                  <a:pt x="155217" y="507671"/>
                  <a:pt x="190919" y="492370"/>
                </a:cubicBezTo>
                <a:cubicBezTo>
                  <a:pt x="200655" y="488198"/>
                  <a:pt x="211805" y="487465"/>
                  <a:pt x="221064" y="482321"/>
                </a:cubicBezTo>
                <a:cubicBezTo>
                  <a:pt x="242178" y="470591"/>
                  <a:pt x="261257" y="455526"/>
                  <a:pt x="281354" y="442128"/>
                </a:cubicBezTo>
                <a:cubicBezTo>
                  <a:pt x="291402" y="435429"/>
                  <a:pt x="302960" y="430570"/>
                  <a:pt x="311499" y="422031"/>
                </a:cubicBezTo>
                <a:cubicBezTo>
                  <a:pt x="350183" y="383347"/>
                  <a:pt x="329820" y="399769"/>
                  <a:pt x="371789" y="371789"/>
                </a:cubicBezTo>
                <a:cubicBezTo>
                  <a:pt x="347538" y="335413"/>
                  <a:pt x="357093" y="352446"/>
                  <a:pt x="341644" y="321548"/>
                </a:cubicBezTo>
              </a:path>
            </a:pathLst>
          </a:custGeom>
          <a:solidFill>
            <a:srgbClr val="8eb4e3"/>
          </a:solidFill>
          <a:ln w="93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лилиния 20"/>
          <p:cNvSpPr/>
          <p:nvPr/>
        </p:nvSpPr>
        <p:spPr>
          <a:xfrm>
            <a:off x="2332080" y="3581280"/>
            <a:ext cx="403200" cy="328680"/>
          </a:xfrm>
          <a:custGeom>
            <a:avLst/>
            <a:gdLst/>
            <a:ahLst/>
            <a:rect l="l" t="t" r="r" b="b"/>
            <a:pathLst>
              <a:path w="404158" h="328850">
                <a:moveTo>
                  <a:pt x="260664" y="46497"/>
                </a:moveTo>
                <a:cubicBezTo>
                  <a:pt x="252290" y="48172"/>
                  <a:pt x="211509" y="45953"/>
                  <a:pt x="190325" y="56545"/>
                </a:cubicBezTo>
                <a:cubicBezTo>
                  <a:pt x="180851" y="61282"/>
                  <a:pt x="180277" y="76098"/>
                  <a:pt x="180277" y="86690"/>
                </a:cubicBezTo>
                <a:cubicBezTo>
                  <a:pt x="180277" y="113694"/>
                  <a:pt x="185494" y="140508"/>
                  <a:pt x="190325" y="167077"/>
                </a:cubicBezTo>
                <a:cubicBezTo>
                  <a:pt x="192220" y="177498"/>
                  <a:pt x="192884" y="189732"/>
                  <a:pt x="200374" y="197222"/>
                </a:cubicBezTo>
                <a:cubicBezTo>
                  <a:pt x="207864" y="204712"/>
                  <a:pt x="220471" y="203921"/>
                  <a:pt x="230519" y="207271"/>
                </a:cubicBezTo>
                <a:cubicBezTo>
                  <a:pt x="280761" y="203921"/>
                  <a:pt x="333475" y="181299"/>
                  <a:pt x="381244" y="197222"/>
                </a:cubicBezTo>
                <a:cubicBezTo>
                  <a:pt x="404158" y="204860"/>
                  <a:pt x="340277" y="222924"/>
                  <a:pt x="320954" y="237416"/>
                </a:cubicBezTo>
                <a:cubicBezTo>
                  <a:pt x="261434" y="282055"/>
                  <a:pt x="294700" y="258268"/>
                  <a:pt x="220470" y="307754"/>
                </a:cubicBezTo>
                <a:lnTo>
                  <a:pt x="190325" y="327851"/>
                </a:lnTo>
                <a:cubicBezTo>
                  <a:pt x="176927" y="324501"/>
                  <a:pt x="158418" y="328850"/>
                  <a:pt x="150132" y="317802"/>
                </a:cubicBezTo>
                <a:cubicBezTo>
                  <a:pt x="143777" y="309328"/>
                  <a:pt x="160180" y="298249"/>
                  <a:pt x="160180" y="287657"/>
                </a:cubicBezTo>
                <a:cubicBezTo>
                  <a:pt x="160180" y="267283"/>
                  <a:pt x="157968" y="246174"/>
                  <a:pt x="150132" y="227367"/>
                </a:cubicBezTo>
                <a:cubicBezTo>
                  <a:pt x="140842" y="205072"/>
                  <a:pt x="109938" y="167077"/>
                  <a:pt x="109938" y="167077"/>
                </a:cubicBezTo>
                <a:cubicBezTo>
                  <a:pt x="113288" y="157029"/>
                  <a:pt x="115814" y="146667"/>
                  <a:pt x="119987" y="136932"/>
                </a:cubicBezTo>
                <a:cubicBezTo>
                  <a:pt x="126423" y="121915"/>
                  <a:pt x="157831" y="86448"/>
                  <a:pt x="130035" y="66594"/>
                </a:cubicBezTo>
                <a:cubicBezTo>
                  <a:pt x="112797" y="54281"/>
                  <a:pt x="69745" y="46497"/>
                  <a:pt x="69745" y="46497"/>
                </a:cubicBezTo>
                <a:cubicBezTo>
                  <a:pt x="0" y="0"/>
                  <a:pt x="17976" y="19214"/>
                  <a:pt x="190325" y="36449"/>
                </a:cubicBezTo>
                <a:cubicBezTo>
                  <a:pt x="207319" y="38148"/>
                  <a:pt x="225291" y="38859"/>
                  <a:pt x="240567" y="46497"/>
                </a:cubicBezTo>
                <a:cubicBezTo>
                  <a:pt x="244804" y="48615"/>
                  <a:pt x="269038" y="44822"/>
                  <a:pt x="260664" y="46497"/>
                </a:cubicBezTo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лилиния 21"/>
          <p:cNvSpPr/>
          <p:nvPr/>
        </p:nvSpPr>
        <p:spPr>
          <a:xfrm>
            <a:off x="3564000" y="3030480"/>
            <a:ext cx="1725480" cy="1040040"/>
          </a:xfrm>
          <a:custGeom>
            <a:avLst/>
            <a:gdLst/>
            <a:ahLst/>
            <a:rect l="l" t="t" r="r" b="b"/>
            <a:pathLst>
              <a:path w="1724852" h="1038329">
                <a:moveTo>
                  <a:pt x="1721503" y="3349"/>
                </a:moveTo>
                <a:cubicBezTo>
                  <a:pt x="1724852" y="0"/>
                  <a:pt x="1716192" y="24020"/>
                  <a:pt x="1711455" y="33494"/>
                </a:cubicBezTo>
                <a:cubicBezTo>
                  <a:pt x="1706054" y="44296"/>
                  <a:pt x="1699089" y="54361"/>
                  <a:pt x="1691358" y="63639"/>
                </a:cubicBezTo>
                <a:cubicBezTo>
                  <a:pt x="1677439" y="80342"/>
                  <a:pt x="1651990" y="104582"/>
                  <a:pt x="1631068" y="113881"/>
                </a:cubicBezTo>
                <a:cubicBezTo>
                  <a:pt x="1578798" y="137112"/>
                  <a:pt x="1557661" y="135852"/>
                  <a:pt x="1500439" y="144026"/>
                </a:cubicBezTo>
                <a:cubicBezTo>
                  <a:pt x="1490391" y="147375"/>
                  <a:pt x="1479553" y="148930"/>
                  <a:pt x="1470294" y="154074"/>
                </a:cubicBezTo>
                <a:cubicBezTo>
                  <a:pt x="1449180" y="165804"/>
                  <a:pt x="1410004" y="194268"/>
                  <a:pt x="1410004" y="194268"/>
                </a:cubicBezTo>
                <a:cubicBezTo>
                  <a:pt x="1403305" y="204316"/>
                  <a:pt x="1398446" y="215874"/>
                  <a:pt x="1389907" y="224413"/>
                </a:cubicBezTo>
                <a:cubicBezTo>
                  <a:pt x="1381368" y="232952"/>
                  <a:pt x="1347697" y="243985"/>
                  <a:pt x="1359762" y="244510"/>
                </a:cubicBezTo>
                <a:lnTo>
                  <a:pt x="1621019" y="234461"/>
                </a:lnTo>
                <a:cubicBezTo>
                  <a:pt x="1600922" y="254558"/>
                  <a:pt x="1576494" y="271103"/>
                  <a:pt x="1560729" y="294751"/>
                </a:cubicBezTo>
                <a:cubicBezTo>
                  <a:pt x="1547331" y="314848"/>
                  <a:pt x="1540633" y="341644"/>
                  <a:pt x="1520536" y="355042"/>
                </a:cubicBezTo>
                <a:cubicBezTo>
                  <a:pt x="1510488" y="361741"/>
                  <a:pt x="1501427" y="370233"/>
                  <a:pt x="1490391" y="375138"/>
                </a:cubicBezTo>
                <a:cubicBezTo>
                  <a:pt x="1471033" y="383741"/>
                  <a:pt x="1430101" y="395235"/>
                  <a:pt x="1430101" y="395235"/>
                </a:cubicBezTo>
                <a:cubicBezTo>
                  <a:pt x="1357538" y="443611"/>
                  <a:pt x="1424858" y="405901"/>
                  <a:pt x="1259279" y="425380"/>
                </a:cubicBezTo>
                <a:cubicBezTo>
                  <a:pt x="1248760" y="426618"/>
                  <a:pt x="1239555" y="433533"/>
                  <a:pt x="1229134" y="435428"/>
                </a:cubicBezTo>
                <a:cubicBezTo>
                  <a:pt x="1202565" y="440259"/>
                  <a:pt x="1175384" y="441037"/>
                  <a:pt x="1148747" y="445477"/>
                </a:cubicBezTo>
                <a:cubicBezTo>
                  <a:pt x="1135125" y="447747"/>
                  <a:pt x="1121782" y="451557"/>
                  <a:pt x="1108554" y="455525"/>
                </a:cubicBezTo>
                <a:cubicBezTo>
                  <a:pt x="1088263" y="461612"/>
                  <a:pt x="1048263" y="475622"/>
                  <a:pt x="1048263" y="475622"/>
                </a:cubicBezTo>
                <a:cubicBezTo>
                  <a:pt x="980483" y="543402"/>
                  <a:pt x="1014936" y="526925"/>
                  <a:pt x="957828" y="545960"/>
                </a:cubicBezTo>
                <a:cubicBezTo>
                  <a:pt x="1055931" y="611363"/>
                  <a:pt x="951651" y="549361"/>
                  <a:pt x="1219085" y="576105"/>
                </a:cubicBezTo>
                <a:cubicBezTo>
                  <a:pt x="1229624" y="577159"/>
                  <a:pt x="1199519" y="585638"/>
                  <a:pt x="1188940" y="586154"/>
                </a:cubicBezTo>
                <a:cubicBezTo>
                  <a:pt x="1061768" y="592358"/>
                  <a:pt x="934382" y="592853"/>
                  <a:pt x="807103" y="596202"/>
                </a:cubicBezTo>
                <a:cubicBezTo>
                  <a:pt x="814316" y="661120"/>
                  <a:pt x="797768" y="683763"/>
                  <a:pt x="847296" y="716782"/>
                </a:cubicBezTo>
                <a:cubicBezTo>
                  <a:pt x="856109" y="722657"/>
                  <a:pt x="867393" y="723481"/>
                  <a:pt x="877441" y="726831"/>
                </a:cubicBezTo>
                <a:cubicBezTo>
                  <a:pt x="874092" y="736879"/>
                  <a:pt x="874010" y="748705"/>
                  <a:pt x="867393" y="756976"/>
                </a:cubicBezTo>
                <a:cubicBezTo>
                  <a:pt x="850604" y="777963"/>
                  <a:pt x="829261" y="777625"/>
                  <a:pt x="807103" y="787121"/>
                </a:cubicBezTo>
                <a:cubicBezTo>
                  <a:pt x="793335" y="793022"/>
                  <a:pt x="780308" y="800518"/>
                  <a:pt x="766910" y="807217"/>
                </a:cubicBezTo>
                <a:cubicBezTo>
                  <a:pt x="669776" y="803868"/>
                  <a:pt x="572652" y="794133"/>
                  <a:pt x="475507" y="797169"/>
                </a:cubicBezTo>
                <a:cubicBezTo>
                  <a:pt x="463436" y="797546"/>
                  <a:pt x="445362" y="805189"/>
                  <a:pt x="445362" y="817266"/>
                </a:cubicBezTo>
                <a:lnTo>
                  <a:pt x="475507" y="847411"/>
                </a:lnTo>
                <a:cubicBezTo>
                  <a:pt x="478857" y="857459"/>
                  <a:pt x="478939" y="869285"/>
                  <a:pt x="485556" y="877556"/>
                </a:cubicBezTo>
                <a:cubicBezTo>
                  <a:pt x="502904" y="899240"/>
                  <a:pt x="531760" y="901667"/>
                  <a:pt x="555894" y="907701"/>
                </a:cubicBezTo>
                <a:cubicBezTo>
                  <a:pt x="512351" y="911050"/>
                  <a:pt x="468670" y="912926"/>
                  <a:pt x="425266" y="917749"/>
                </a:cubicBezTo>
                <a:cubicBezTo>
                  <a:pt x="382664" y="922483"/>
                  <a:pt x="355986" y="934143"/>
                  <a:pt x="314734" y="947894"/>
                </a:cubicBezTo>
                <a:cubicBezTo>
                  <a:pt x="304686" y="951243"/>
                  <a:pt x="294975" y="955866"/>
                  <a:pt x="284589" y="957943"/>
                </a:cubicBezTo>
                <a:cubicBezTo>
                  <a:pt x="223961" y="970068"/>
                  <a:pt x="250550" y="962590"/>
                  <a:pt x="204202" y="978039"/>
                </a:cubicBezTo>
                <a:cubicBezTo>
                  <a:pt x="197503" y="988087"/>
                  <a:pt x="193535" y="1000640"/>
                  <a:pt x="184105" y="1008184"/>
                </a:cubicBezTo>
                <a:cubicBezTo>
                  <a:pt x="175834" y="1014801"/>
                  <a:pt x="163696" y="1014061"/>
                  <a:pt x="153960" y="1018233"/>
                </a:cubicBezTo>
                <a:cubicBezTo>
                  <a:pt x="140192" y="1024134"/>
                  <a:pt x="127165" y="1031630"/>
                  <a:pt x="113767" y="1038329"/>
                </a:cubicBezTo>
                <a:cubicBezTo>
                  <a:pt x="102588" y="1035534"/>
                  <a:pt x="0" y="1018223"/>
                  <a:pt x="123815" y="1008184"/>
                </a:cubicBezTo>
                <a:cubicBezTo>
                  <a:pt x="230699" y="999518"/>
                  <a:pt x="338180" y="1001485"/>
                  <a:pt x="445362" y="998136"/>
                </a:cubicBezTo>
                <a:cubicBezTo>
                  <a:pt x="465459" y="994787"/>
                  <a:pt x="485886" y="993029"/>
                  <a:pt x="505652" y="988088"/>
                </a:cubicBezTo>
                <a:cubicBezTo>
                  <a:pt x="526204" y="982950"/>
                  <a:pt x="565943" y="967991"/>
                  <a:pt x="565943" y="967991"/>
                </a:cubicBezTo>
                <a:cubicBezTo>
                  <a:pt x="575991" y="961292"/>
                  <a:pt x="585052" y="952799"/>
                  <a:pt x="596088" y="947894"/>
                </a:cubicBezTo>
                <a:cubicBezTo>
                  <a:pt x="615446" y="939291"/>
                  <a:pt x="656378" y="927798"/>
                  <a:pt x="656378" y="927798"/>
                </a:cubicBezTo>
                <a:cubicBezTo>
                  <a:pt x="642980" y="917749"/>
                  <a:pt x="631163" y="905142"/>
                  <a:pt x="616184" y="897652"/>
                </a:cubicBezTo>
                <a:cubicBezTo>
                  <a:pt x="560668" y="869894"/>
                  <a:pt x="584229" y="912318"/>
                  <a:pt x="565943" y="857459"/>
                </a:cubicBezTo>
                <a:cubicBezTo>
                  <a:pt x="699590" y="768359"/>
                  <a:pt x="478782" y="907886"/>
                  <a:pt x="927683" y="827314"/>
                </a:cubicBezTo>
                <a:cubicBezTo>
                  <a:pt x="955657" y="822293"/>
                  <a:pt x="987973" y="767024"/>
                  <a:pt x="987973" y="767024"/>
                </a:cubicBezTo>
                <a:cubicBezTo>
                  <a:pt x="984624" y="756976"/>
                  <a:pt x="985415" y="744369"/>
                  <a:pt x="977925" y="736879"/>
                </a:cubicBezTo>
                <a:cubicBezTo>
                  <a:pt x="970435" y="729389"/>
                  <a:pt x="957254" y="731568"/>
                  <a:pt x="947780" y="726831"/>
                </a:cubicBezTo>
                <a:cubicBezTo>
                  <a:pt x="936978" y="721430"/>
                  <a:pt x="926913" y="714465"/>
                  <a:pt x="917635" y="706734"/>
                </a:cubicBezTo>
                <a:cubicBezTo>
                  <a:pt x="888622" y="682556"/>
                  <a:pt x="887154" y="676084"/>
                  <a:pt x="867393" y="646444"/>
                </a:cubicBezTo>
                <a:lnTo>
                  <a:pt x="1369811" y="636395"/>
                </a:lnTo>
                <a:cubicBezTo>
                  <a:pt x="1383970" y="635190"/>
                  <a:pt x="1352603" y="612130"/>
                  <a:pt x="1339666" y="606250"/>
                </a:cubicBezTo>
                <a:cubicBezTo>
                  <a:pt x="1314521" y="594821"/>
                  <a:pt x="1286363" y="591571"/>
                  <a:pt x="1259279" y="586154"/>
                </a:cubicBezTo>
                <a:cubicBezTo>
                  <a:pt x="1188270" y="571951"/>
                  <a:pt x="1225233" y="581504"/>
                  <a:pt x="1148747" y="556009"/>
                </a:cubicBezTo>
                <a:cubicBezTo>
                  <a:pt x="1138699" y="552660"/>
                  <a:pt x="1127415" y="551835"/>
                  <a:pt x="1118602" y="545960"/>
                </a:cubicBezTo>
                <a:lnTo>
                  <a:pt x="1088457" y="525863"/>
                </a:lnTo>
                <a:cubicBezTo>
                  <a:pt x="1091806" y="512465"/>
                  <a:pt x="1089878" y="496454"/>
                  <a:pt x="1098505" y="485670"/>
                </a:cubicBezTo>
                <a:cubicBezTo>
                  <a:pt x="1105122" y="477399"/>
                  <a:pt x="1118102" y="476581"/>
                  <a:pt x="1128650" y="475622"/>
                </a:cubicBezTo>
                <a:cubicBezTo>
                  <a:pt x="1192116" y="469852"/>
                  <a:pt x="1255929" y="468923"/>
                  <a:pt x="1319569" y="465573"/>
                </a:cubicBezTo>
                <a:cubicBezTo>
                  <a:pt x="1336316" y="462224"/>
                  <a:pt x="1353242" y="459667"/>
                  <a:pt x="1369811" y="455525"/>
                </a:cubicBezTo>
                <a:cubicBezTo>
                  <a:pt x="1380087" y="452956"/>
                  <a:pt x="1389680" y="448046"/>
                  <a:pt x="1399956" y="445477"/>
                </a:cubicBezTo>
                <a:lnTo>
                  <a:pt x="1480343" y="425380"/>
                </a:lnTo>
                <a:cubicBezTo>
                  <a:pt x="1566735" y="367784"/>
                  <a:pt x="1457429" y="436837"/>
                  <a:pt x="1540633" y="395235"/>
                </a:cubicBezTo>
                <a:cubicBezTo>
                  <a:pt x="1618549" y="356277"/>
                  <a:pt x="1525153" y="390346"/>
                  <a:pt x="1600923" y="365090"/>
                </a:cubicBezTo>
                <a:lnTo>
                  <a:pt x="1661213" y="324896"/>
                </a:lnTo>
                <a:lnTo>
                  <a:pt x="1691358" y="304800"/>
                </a:lnTo>
                <a:cubicBezTo>
                  <a:pt x="1658885" y="207377"/>
                  <a:pt x="1722792" y="368103"/>
                  <a:pt x="1530584" y="264606"/>
                </a:cubicBezTo>
                <a:cubicBezTo>
                  <a:pt x="1497385" y="246729"/>
                  <a:pt x="1574468" y="181800"/>
                  <a:pt x="1580826" y="174171"/>
                </a:cubicBezTo>
                <a:cubicBezTo>
                  <a:pt x="1588557" y="164893"/>
                  <a:pt x="1591493" y="151570"/>
                  <a:pt x="1600923" y="144026"/>
                </a:cubicBezTo>
                <a:cubicBezTo>
                  <a:pt x="1609194" y="137409"/>
                  <a:pt x="1621020" y="137327"/>
                  <a:pt x="1631068" y="133978"/>
                </a:cubicBezTo>
                <a:cubicBezTo>
                  <a:pt x="1641116" y="127279"/>
                  <a:pt x="1652674" y="122420"/>
                  <a:pt x="1661213" y="113881"/>
                </a:cubicBezTo>
                <a:cubicBezTo>
                  <a:pt x="1678829" y="96265"/>
                  <a:pt x="1684820" y="76475"/>
                  <a:pt x="1691358" y="53591"/>
                </a:cubicBezTo>
                <a:cubicBezTo>
                  <a:pt x="1702218" y="15579"/>
                  <a:pt x="1718154" y="6698"/>
                  <a:pt x="1721503" y="3349"/>
                </a:cubicBezTo>
                <a:close/>
              </a:path>
            </a:pathLst>
          </a:custGeom>
          <a:solidFill>
            <a:srgbClr val="558ed5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лилиния 22"/>
          <p:cNvSpPr/>
          <p:nvPr/>
        </p:nvSpPr>
        <p:spPr>
          <a:xfrm>
            <a:off x="3664080" y="1968480"/>
            <a:ext cx="4402080" cy="1347840"/>
          </a:xfrm>
          <a:custGeom>
            <a:avLst/>
            <a:gdLst/>
            <a:ahLst/>
            <a:rect l="l" t="t" r="r" b="b"/>
            <a:pathLst>
              <a:path w="4401794" h="1348154">
                <a:moveTo>
                  <a:pt x="555886" y="1675"/>
                </a:moveTo>
                <a:cubicBezTo>
                  <a:pt x="545838" y="3350"/>
                  <a:pt x="537565" y="23937"/>
                  <a:pt x="525741" y="31820"/>
                </a:cubicBezTo>
                <a:cubicBezTo>
                  <a:pt x="516928" y="37695"/>
                  <a:pt x="504855" y="36724"/>
                  <a:pt x="495596" y="41868"/>
                </a:cubicBezTo>
                <a:cubicBezTo>
                  <a:pt x="474482" y="53598"/>
                  <a:pt x="455402" y="68664"/>
                  <a:pt x="435305" y="82062"/>
                </a:cubicBezTo>
                <a:lnTo>
                  <a:pt x="405160" y="102158"/>
                </a:lnTo>
                <a:cubicBezTo>
                  <a:pt x="350002" y="184897"/>
                  <a:pt x="422119" y="90085"/>
                  <a:pt x="354919" y="142352"/>
                </a:cubicBezTo>
                <a:cubicBezTo>
                  <a:pt x="332485" y="159801"/>
                  <a:pt x="318277" y="186877"/>
                  <a:pt x="294629" y="202642"/>
                </a:cubicBezTo>
                <a:cubicBezTo>
                  <a:pt x="284580" y="209341"/>
                  <a:pt x="273509" y="214716"/>
                  <a:pt x="264483" y="222739"/>
                </a:cubicBezTo>
                <a:cubicBezTo>
                  <a:pt x="243241" y="241621"/>
                  <a:pt x="227841" y="267264"/>
                  <a:pt x="204193" y="283029"/>
                </a:cubicBezTo>
                <a:cubicBezTo>
                  <a:pt x="194145" y="289728"/>
                  <a:pt x="184850" y="297724"/>
                  <a:pt x="174048" y="303125"/>
                </a:cubicBezTo>
                <a:cubicBezTo>
                  <a:pt x="164574" y="307862"/>
                  <a:pt x="133311" y="313174"/>
                  <a:pt x="143903" y="313174"/>
                </a:cubicBezTo>
                <a:cubicBezTo>
                  <a:pt x="224360" y="313174"/>
                  <a:pt x="304677" y="306475"/>
                  <a:pt x="385064" y="303125"/>
                </a:cubicBezTo>
                <a:cubicBezTo>
                  <a:pt x="405161" y="296426"/>
                  <a:pt x="427728" y="294780"/>
                  <a:pt x="445354" y="283029"/>
                </a:cubicBezTo>
                <a:lnTo>
                  <a:pt x="505644" y="242835"/>
                </a:lnTo>
                <a:cubicBezTo>
                  <a:pt x="515692" y="236136"/>
                  <a:pt x="524073" y="225668"/>
                  <a:pt x="535789" y="222739"/>
                </a:cubicBezTo>
                <a:cubicBezTo>
                  <a:pt x="614886" y="202963"/>
                  <a:pt x="547013" y="217871"/>
                  <a:pt x="676466" y="202642"/>
                </a:cubicBezTo>
                <a:cubicBezTo>
                  <a:pt x="699988" y="199875"/>
                  <a:pt x="723358" y="195943"/>
                  <a:pt x="746804" y="192594"/>
                </a:cubicBezTo>
                <a:cubicBezTo>
                  <a:pt x="756852" y="189244"/>
                  <a:pt x="767475" y="187282"/>
                  <a:pt x="776949" y="182545"/>
                </a:cubicBezTo>
                <a:cubicBezTo>
                  <a:pt x="787751" y="177144"/>
                  <a:pt x="796058" y="167354"/>
                  <a:pt x="807094" y="162449"/>
                </a:cubicBezTo>
                <a:cubicBezTo>
                  <a:pt x="826452" y="153845"/>
                  <a:pt x="867385" y="142352"/>
                  <a:pt x="867385" y="142352"/>
                </a:cubicBezTo>
                <a:cubicBezTo>
                  <a:pt x="870734" y="152400"/>
                  <a:pt x="878931" y="162012"/>
                  <a:pt x="877433" y="172497"/>
                </a:cubicBezTo>
                <a:cubicBezTo>
                  <a:pt x="875314" y="187326"/>
                  <a:pt x="864768" y="199684"/>
                  <a:pt x="857336" y="212690"/>
                </a:cubicBezTo>
                <a:cubicBezTo>
                  <a:pt x="830117" y="260324"/>
                  <a:pt x="844886" y="227630"/>
                  <a:pt x="807094" y="272980"/>
                </a:cubicBezTo>
                <a:cubicBezTo>
                  <a:pt x="799363" y="282257"/>
                  <a:pt x="794729" y="293847"/>
                  <a:pt x="786998" y="303125"/>
                </a:cubicBezTo>
                <a:cubicBezTo>
                  <a:pt x="746965" y="351166"/>
                  <a:pt x="769823" y="317438"/>
                  <a:pt x="726708" y="353367"/>
                </a:cubicBezTo>
                <a:cubicBezTo>
                  <a:pt x="701145" y="374669"/>
                  <a:pt x="697235" y="390402"/>
                  <a:pt x="666418" y="403609"/>
                </a:cubicBezTo>
                <a:cubicBezTo>
                  <a:pt x="653724" y="409049"/>
                  <a:pt x="639622" y="410308"/>
                  <a:pt x="626224" y="413657"/>
                </a:cubicBezTo>
                <a:cubicBezTo>
                  <a:pt x="575137" y="490286"/>
                  <a:pt x="571057" y="478951"/>
                  <a:pt x="797046" y="433754"/>
                </a:cubicBezTo>
                <a:cubicBezTo>
                  <a:pt x="832020" y="426759"/>
                  <a:pt x="897872" y="353025"/>
                  <a:pt x="917626" y="333271"/>
                </a:cubicBezTo>
                <a:cubicBezTo>
                  <a:pt x="927674" y="323222"/>
                  <a:pt x="935947" y="311008"/>
                  <a:pt x="947771" y="303125"/>
                </a:cubicBezTo>
                <a:cubicBezTo>
                  <a:pt x="967868" y="289727"/>
                  <a:pt x="990983" y="280011"/>
                  <a:pt x="1008062" y="262932"/>
                </a:cubicBezTo>
                <a:cubicBezTo>
                  <a:pt x="1045697" y="225297"/>
                  <a:pt x="1024726" y="237281"/>
                  <a:pt x="1068352" y="222739"/>
                </a:cubicBezTo>
                <a:cubicBezTo>
                  <a:pt x="1126666" y="183862"/>
                  <a:pt x="1069944" y="215415"/>
                  <a:pt x="1168835" y="192594"/>
                </a:cubicBezTo>
                <a:cubicBezTo>
                  <a:pt x="1189476" y="187831"/>
                  <a:pt x="1209028" y="179196"/>
                  <a:pt x="1229125" y="172497"/>
                </a:cubicBezTo>
                <a:cubicBezTo>
                  <a:pt x="1229130" y="172495"/>
                  <a:pt x="1289411" y="152403"/>
                  <a:pt x="1289415" y="152400"/>
                </a:cubicBezTo>
                <a:lnTo>
                  <a:pt x="1319560" y="132303"/>
                </a:lnTo>
                <a:cubicBezTo>
                  <a:pt x="1316211" y="162448"/>
                  <a:pt x="1315460" y="192997"/>
                  <a:pt x="1309512" y="222739"/>
                </a:cubicBezTo>
                <a:cubicBezTo>
                  <a:pt x="1292231" y="309144"/>
                  <a:pt x="1297383" y="257046"/>
                  <a:pt x="1269319" y="313174"/>
                </a:cubicBezTo>
                <a:cubicBezTo>
                  <a:pt x="1264582" y="322648"/>
                  <a:pt x="1265145" y="334506"/>
                  <a:pt x="1259270" y="343319"/>
                </a:cubicBezTo>
                <a:cubicBezTo>
                  <a:pt x="1251387" y="355143"/>
                  <a:pt x="1238222" y="362547"/>
                  <a:pt x="1229125" y="373464"/>
                </a:cubicBezTo>
                <a:cubicBezTo>
                  <a:pt x="1159184" y="457394"/>
                  <a:pt x="1266947" y="345693"/>
                  <a:pt x="1178883" y="433754"/>
                </a:cubicBezTo>
                <a:cubicBezTo>
                  <a:pt x="1175534" y="443802"/>
                  <a:pt x="1175338" y="455538"/>
                  <a:pt x="1168835" y="463899"/>
                </a:cubicBezTo>
                <a:cubicBezTo>
                  <a:pt x="1121390" y="524900"/>
                  <a:pt x="1127929" y="517727"/>
                  <a:pt x="1078400" y="534238"/>
                </a:cubicBezTo>
                <a:cubicBezTo>
                  <a:pt x="1091798" y="524190"/>
                  <a:pt x="1104052" y="512402"/>
                  <a:pt x="1118593" y="504093"/>
                </a:cubicBezTo>
                <a:cubicBezTo>
                  <a:pt x="1127789" y="498838"/>
                  <a:pt x="1140467" y="500661"/>
                  <a:pt x="1148738" y="494044"/>
                </a:cubicBezTo>
                <a:cubicBezTo>
                  <a:pt x="1158168" y="486500"/>
                  <a:pt x="1160295" y="472438"/>
                  <a:pt x="1168835" y="463899"/>
                </a:cubicBezTo>
                <a:cubicBezTo>
                  <a:pt x="1180677" y="452057"/>
                  <a:pt x="1196313" y="444653"/>
                  <a:pt x="1209029" y="433754"/>
                </a:cubicBezTo>
                <a:cubicBezTo>
                  <a:pt x="1219818" y="424506"/>
                  <a:pt x="1227957" y="412333"/>
                  <a:pt x="1239174" y="403609"/>
                </a:cubicBezTo>
                <a:cubicBezTo>
                  <a:pt x="1258239" y="388780"/>
                  <a:pt x="1282385" y="380495"/>
                  <a:pt x="1299464" y="363416"/>
                </a:cubicBezTo>
                <a:cubicBezTo>
                  <a:pt x="1360830" y="302050"/>
                  <a:pt x="1293748" y="365191"/>
                  <a:pt x="1389899" y="293077"/>
                </a:cubicBezTo>
                <a:cubicBezTo>
                  <a:pt x="1438565" y="256577"/>
                  <a:pt x="1414204" y="268228"/>
                  <a:pt x="1460237" y="252884"/>
                </a:cubicBezTo>
                <a:lnTo>
                  <a:pt x="1520527" y="212690"/>
                </a:lnTo>
                <a:lnTo>
                  <a:pt x="1550673" y="192594"/>
                </a:lnTo>
                <a:cubicBezTo>
                  <a:pt x="1547792" y="221405"/>
                  <a:pt x="1548681" y="287011"/>
                  <a:pt x="1530576" y="323222"/>
                </a:cubicBezTo>
                <a:cubicBezTo>
                  <a:pt x="1525175" y="334024"/>
                  <a:pt x="1517178" y="343319"/>
                  <a:pt x="1510479" y="353367"/>
                </a:cubicBezTo>
                <a:cubicBezTo>
                  <a:pt x="1490918" y="412052"/>
                  <a:pt x="1515736" y="358159"/>
                  <a:pt x="1470286" y="403609"/>
                </a:cubicBezTo>
                <a:cubicBezTo>
                  <a:pt x="1461747" y="412148"/>
                  <a:pt x="1457208" y="423927"/>
                  <a:pt x="1450189" y="433754"/>
                </a:cubicBezTo>
                <a:cubicBezTo>
                  <a:pt x="1440455" y="447382"/>
                  <a:pt x="1429648" y="460227"/>
                  <a:pt x="1420044" y="473947"/>
                </a:cubicBezTo>
                <a:cubicBezTo>
                  <a:pt x="1406193" y="493734"/>
                  <a:pt x="1393249" y="514141"/>
                  <a:pt x="1379851" y="534238"/>
                </a:cubicBezTo>
                <a:cubicBezTo>
                  <a:pt x="1373152" y="544286"/>
                  <a:pt x="1348038" y="567312"/>
                  <a:pt x="1359754" y="564383"/>
                </a:cubicBezTo>
                <a:cubicBezTo>
                  <a:pt x="1410223" y="551765"/>
                  <a:pt x="1386846" y="558701"/>
                  <a:pt x="1430092" y="544286"/>
                </a:cubicBezTo>
                <a:cubicBezTo>
                  <a:pt x="1440140" y="537587"/>
                  <a:pt x="1449435" y="529590"/>
                  <a:pt x="1460237" y="524189"/>
                </a:cubicBezTo>
                <a:cubicBezTo>
                  <a:pt x="1469711" y="519452"/>
                  <a:pt x="1482021" y="520644"/>
                  <a:pt x="1490382" y="514141"/>
                </a:cubicBezTo>
                <a:cubicBezTo>
                  <a:pt x="1512816" y="496692"/>
                  <a:pt x="1550673" y="453851"/>
                  <a:pt x="1550673" y="453851"/>
                </a:cubicBezTo>
                <a:cubicBezTo>
                  <a:pt x="1554022" y="443803"/>
                  <a:pt x="1554104" y="431977"/>
                  <a:pt x="1560721" y="423706"/>
                </a:cubicBezTo>
                <a:cubicBezTo>
                  <a:pt x="1568265" y="414276"/>
                  <a:pt x="1582327" y="412148"/>
                  <a:pt x="1590866" y="403609"/>
                </a:cubicBezTo>
                <a:cubicBezTo>
                  <a:pt x="1599405" y="395070"/>
                  <a:pt x="1604264" y="383512"/>
                  <a:pt x="1610963" y="373464"/>
                </a:cubicBezTo>
                <a:cubicBezTo>
                  <a:pt x="1614312" y="363416"/>
                  <a:pt x="1614394" y="351590"/>
                  <a:pt x="1621011" y="343319"/>
                </a:cubicBezTo>
                <a:cubicBezTo>
                  <a:pt x="1628555" y="333889"/>
                  <a:pt x="1642130" y="331245"/>
                  <a:pt x="1651156" y="323222"/>
                </a:cubicBezTo>
                <a:cubicBezTo>
                  <a:pt x="1672398" y="304340"/>
                  <a:pt x="1691349" y="283029"/>
                  <a:pt x="1711446" y="262932"/>
                </a:cubicBezTo>
                <a:lnTo>
                  <a:pt x="1741591" y="232787"/>
                </a:lnTo>
                <a:cubicBezTo>
                  <a:pt x="1765302" y="303916"/>
                  <a:pt x="1763098" y="284621"/>
                  <a:pt x="1741591" y="413657"/>
                </a:cubicBezTo>
                <a:cubicBezTo>
                  <a:pt x="1739606" y="425569"/>
                  <a:pt x="1728193" y="433754"/>
                  <a:pt x="1721494" y="443802"/>
                </a:cubicBezTo>
                <a:cubicBezTo>
                  <a:pt x="1703836" y="496778"/>
                  <a:pt x="1723116" y="453914"/>
                  <a:pt x="1681301" y="504093"/>
                </a:cubicBezTo>
                <a:cubicBezTo>
                  <a:pt x="1639435" y="554332"/>
                  <a:pt x="1686322" y="517493"/>
                  <a:pt x="1631059" y="554334"/>
                </a:cubicBezTo>
                <a:cubicBezTo>
                  <a:pt x="1624360" y="564382"/>
                  <a:pt x="1620240" y="576748"/>
                  <a:pt x="1610963" y="584479"/>
                </a:cubicBezTo>
                <a:cubicBezTo>
                  <a:pt x="1575486" y="614043"/>
                  <a:pt x="1546524" y="596495"/>
                  <a:pt x="1600914" y="614624"/>
                </a:cubicBezTo>
                <a:cubicBezTo>
                  <a:pt x="1621011" y="611275"/>
                  <a:pt x="1641876" y="611019"/>
                  <a:pt x="1661204" y="604576"/>
                </a:cubicBezTo>
                <a:cubicBezTo>
                  <a:pt x="1672661" y="600757"/>
                  <a:pt x="1680547" y="589880"/>
                  <a:pt x="1691349" y="584479"/>
                </a:cubicBezTo>
                <a:cubicBezTo>
                  <a:pt x="1700823" y="579742"/>
                  <a:pt x="1711446" y="577780"/>
                  <a:pt x="1721494" y="574431"/>
                </a:cubicBezTo>
                <a:cubicBezTo>
                  <a:pt x="1766441" y="507012"/>
                  <a:pt x="1713493" y="573067"/>
                  <a:pt x="1771736" y="534238"/>
                </a:cubicBezTo>
                <a:cubicBezTo>
                  <a:pt x="1783560" y="526355"/>
                  <a:pt x="1790057" y="511976"/>
                  <a:pt x="1801881" y="504093"/>
                </a:cubicBezTo>
                <a:cubicBezTo>
                  <a:pt x="1810694" y="498218"/>
                  <a:pt x="1822767" y="499188"/>
                  <a:pt x="1832026" y="494044"/>
                </a:cubicBezTo>
                <a:cubicBezTo>
                  <a:pt x="1853140" y="482314"/>
                  <a:pt x="1875237" y="470930"/>
                  <a:pt x="1892316" y="453851"/>
                </a:cubicBezTo>
                <a:cubicBezTo>
                  <a:pt x="1902365" y="443803"/>
                  <a:pt x="1910638" y="431589"/>
                  <a:pt x="1922462" y="423706"/>
                </a:cubicBezTo>
                <a:cubicBezTo>
                  <a:pt x="1931275" y="417831"/>
                  <a:pt x="1943133" y="418394"/>
                  <a:pt x="1952607" y="413657"/>
                </a:cubicBezTo>
                <a:cubicBezTo>
                  <a:pt x="1963409" y="408256"/>
                  <a:pt x="1971950" y="398962"/>
                  <a:pt x="1982752" y="393561"/>
                </a:cubicBezTo>
                <a:cubicBezTo>
                  <a:pt x="1992226" y="388824"/>
                  <a:pt x="2003638" y="388656"/>
                  <a:pt x="2012897" y="383512"/>
                </a:cubicBezTo>
                <a:cubicBezTo>
                  <a:pt x="2066984" y="353464"/>
                  <a:pt x="2066714" y="349792"/>
                  <a:pt x="2103332" y="313174"/>
                </a:cubicBezTo>
                <a:cubicBezTo>
                  <a:pt x="2099982" y="329921"/>
                  <a:pt x="2096338" y="346612"/>
                  <a:pt x="2093283" y="363416"/>
                </a:cubicBezTo>
                <a:cubicBezTo>
                  <a:pt x="2089638" y="383461"/>
                  <a:pt x="2088176" y="403940"/>
                  <a:pt x="2083235" y="423706"/>
                </a:cubicBezTo>
                <a:cubicBezTo>
                  <a:pt x="2078097" y="444257"/>
                  <a:pt x="2074888" y="466370"/>
                  <a:pt x="2063138" y="483996"/>
                </a:cubicBezTo>
                <a:cubicBezTo>
                  <a:pt x="2056439" y="494044"/>
                  <a:pt x="2049034" y="503656"/>
                  <a:pt x="2043042" y="514141"/>
                </a:cubicBezTo>
                <a:cubicBezTo>
                  <a:pt x="2035610" y="527147"/>
                  <a:pt x="2030884" y="541632"/>
                  <a:pt x="2022945" y="554334"/>
                </a:cubicBezTo>
                <a:cubicBezTo>
                  <a:pt x="2014069" y="568536"/>
                  <a:pt x="2002534" y="580900"/>
                  <a:pt x="1992800" y="594528"/>
                </a:cubicBezTo>
                <a:cubicBezTo>
                  <a:pt x="1917953" y="699313"/>
                  <a:pt x="2036390" y="542218"/>
                  <a:pt x="1942558" y="654818"/>
                </a:cubicBezTo>
                <a:cubicBezTo>
                  <a:pt x="1934827" y="664095"/>
                  <a:pt x="1931892" y="677419"/>
                  <a:pt x="1922462" y="684963"/>
                </a:cubicBezTo>
                <a:cubicBezTo>
                  <a:pt x="1914191" y="691580"/>
                  <a:pt x="1902365" y="691662"/>
                  <a:pt x="1892316" y="695011"/>
                </a:cubicBezTo>
                <a:cubicBezTo>
                  <a:pt x="1885617" y="705059"/>
                  <a:pt x="1879951" y="715879"/>
                  <a:pt x="1872220" y="725156"/>
                </a:cubicBezTo>
                <a:cubicBezTo>
                  <a:pt x="1863123" y="736073"/>
                  <a:pt x="1842075" y="741091"/>
                  <a:pt x="1842075" y="755301"/>
                </a:cubicBezTo>
                <a:cubicBezTo>
                  <a:pt x="1842075" y="765893"/>
                  <a:pt x="1862036" y="748163"/>
                  <a:pt x="1872220" y="745253"/>
                </a:cubicBezTo>
                <a:cubicBezTo>
                  <a:pt x="1885499" y="741459"/>
                  <a:pt x="1899015" y="738554"/>
                  <a:pt x="1912413" y="735205"/>
                </a:cubicBezTo>
                <a:cubicBezTo>
                  <a:pt x="1922461" y="728506"/>
                  <a:pt x="1931756" y="720509"/>
                  <a:pt x="1942558" y="715108"/>
                </a:cubicBezTo>
                <a:cubicBezTo>
                  <a:pt x="1952032" y="710371"/>
                  <a:pt x="1964432" y="711677"/>
                  <a:pt x="1972703" y="705060"/>
                </a:cubicBezTo>
                <a:cubicBezTo>
                  <a:pt x="1982133" y="697516"/>
                  <a:pt x="1985069" y="684192"/>
                  <a:pt x="1992800" y="674914"/>
                </a:cubicBezTo>
                <a:cubicBezTo>
                  <a:pt x="2021749" y="640174"/>
                  <a:pt x="2015937" y="647105"/>
                  <a:pt x="2053090" y="634721"/>
                </a:cubicBezTo>
                <a:cubicBezTo>
                  <a:pt x="2059789" y="624673"/>
                  <a:pt x="2065456" y="613854"/>
                  <a:pt x="2073187" y="604576"/>
                </a:cubicBezTo>
                <a:cubicBezTo>
                  <a:pt x="2097365" y="575563"/>
                  <a:pt x="2103837" y="574095"/>
                  <a:pt x="2133477" y="554334"/>
                </a:cubicBezTo>
                <a:cubicBezTo>
                  <a:pt x="2178424" y="486915"/>
                  <a:pt x="2125476" y="552970"/>
                  <a:pt x="2183719" y="514141"/>
                </a:cubicBezTo>
                <a:cubicBezTo>
                  <a:pt x="2195543" y="506258"/>
                  <a:pt x="2202040" y="491879"/>
                  <a:pt x="2213864" y="483996"/>
                </a:cubicBezTo>
                <a:cubicBezTo>
                  <a:pt x="2222677" y="478121"/>
                  <a:pt x="2234750" y="479091"/>
                  <a:pt x="2244009" y="473947"/>
                </a:cubicBezTo>
                <a:cubicBezTo>
                  <a:pt x="2265123" y="462217"/>
                  <a:pt x="2284202" y="447152"/>
                  <a:pt x="2304299" y="433754"/>
                </a:cubicBezTo>
                <a:lnTo>
                  <a:pt x="2334444" y="413657"/>
                </a:lnTo>
                <a:cubicBezTo>
                  <a:pt x="2449840" y="442508"/>
                  <a:pt x="2307629" y="402165"/>
                  <a:pt x="2404782" y="443802"/>
                </a:cubicBezTo>
                <a:cubicBezTo>
                  <a:pt x="2417476" y="449242"/>
                  <a:pt x="2431578" y="450501"/>
                  <a:pt x="2444976" y="453851"/>
                </a:cubicBezTo>
                <a:cubicBezTo>
                  <a:pt x="2455024" y="460550"/>
                  <a:pt x="2466582" y="465408"/>
                  <a:pt x="2475121" y="473947"/>
                </a:cubicBezTo>
                <a:cubicBezTo>
                  <a:pt x="2522099" y="520925"/>
                  <a:pt x="2498792" y="596547"/>
                  <a:pt x="2505266" y="654818"/>
                </a:cubicBezTo>
                <a:cubicBezTo>
                  <a:pt x="2509804" y="695659"/>
                  <a:pt x="2521246" y="681210"/>
                  <a:pt x="2545459" y="715108"/>
                </a:cubicBezTo>
                <a:cubicBezTo>
                  <a:pt x="2554166" y="727297"/>
                  <a:pt x="2558857" y="741903"/>
                  <a:pt x="2565556" y="755301"/>
                </a:cubicBezTo>
                <a:cubicBezTo>
                  <a:pt x="2562207" y="855785"/>
                  <a:pt x="2561590" y="956397"/>
                  <a:pt x="2555508" y="1056752"/>
                </a:cubicBezTo>
                <a:cubicBezTo>
                  <a:pt x="2554867" y="1067325"/>
                  <a:pt x="2545459" y="1076305"/>
                  <a:pt x="2545459" y="1086897"/>
                </a:cubicBezTo>
                <a:cubicBezTo>
                  <a:pt x="2545459" y="1150625"/>
                  <a:pt x="2549738" y="1214350"/>
                  <a:pt x="2555508" y="1277816"/>
                </a:cubicBezTo>
                <a:cubicBezTo>
                  <a:pt x="2556467" y="1288364"/>
                  <a:pt x="2559681" y="1299148"/>
                  <a:pt x="2565556" y="1307961"/>
                </a:cubicBezTo>
                <a:cubicBezTo>
                  <a:pt x="2573439" y="1319785"/>
                  <a:pt x="2585653" y="1328058"/>
                  <a:pt x="2595701" y="1338106"/>
                </a:cubicBezTo>
                <a:cubicBezTo>
                  <a:pt x="2609099" y="1334756"/>
                  <a:pt x="2632695" y="1341492"/>
                  <a:pt x="2635894" y="1328057"/>
                </a:cubicBezTo>
                <a:cubicBezTo>
                  <a:pt x="2724226" y="957064"/>
                  <a:pt x="2598631" y="1221712"/>
                  <a:pt x="2666040" y="1086897"/>
                </a:cubicBezTo>
                <a:cubicBezTo>
                  <a:pt x="2692669" y="1113526"/>
                  <a:pt x="2720614" y="1149354"/>
                  <a:pt x="2756475" y="1167284"/>
                </a:cubicBezTo>
                <a:cubicBezTo>
                  <a:pt x="2765949" y="1172021"/>
                  <a:pt x="2776572" y="1173983"/>
                  <a:pt x="2786620" y="1177332"/>
                </a:cubicBezTo>
                <a:cubicBezTo>
                  <a:pt x="2789969" y="1190730"/>
                  <a:pt x="2788041" y="1206741"/>
                  <a:pt x="2796668" y="1217525"/>
                </a:cubicBezTo>
                <a:cubicBezTo>
                  <a:pt x="2803285" y="1225796"/>
                  <a:pt x="2816537" y="1225005"/>
                  <a:pt x="2826813" y="1227574"/>
                </a:cubicBezTo>
                <a:cubicBezTo>
                  <a:pt x="2843382" y="1231716"/>
                  <a:pt x="2860308" y="1234273"/>
                  <a:pt x="2877055" y="1237622"/>
                </a:cubicBezTo>
                <a:cubicBezTo>
                  <a:pt x="2890453" y="1234273"/>
                  <a:pt x="2905258" y="1234426"/>
                  <a:pt x="2917248" y="1227574"/>
                </a:cubicBezTo>
                <a:cubicBezTo>
                  <a:pt x="2929586" y="1220524"/>
                  <a:pt x="2944310" y="1211301"/>
                  <a:pt x="2947393" y="1197429"/>
                </a:cubicBezTo>
                <a:cubicBezTo>
                  <a:pt x="2953518" y="1169869"/>
                  <a:pt x="2937883" y="1127629"/>
                  <a:pt x="2917248" y="1106994"/>
                </a:cubicBezTo>
                <a:cubicBezTo>
                  <a:pt x="2908709" y="1098455"/>
                  <a:pt x="2897151" y="1093596"/>
                  <a:pt x="2887103" y="1086897"/>
                </a:cubicBezTo>
                <a:cubicBezTo>
                  <a:pt x="2876944" y="1071657"/>
                  <a:pt x="2856958" y="1047406"/>
                  <a:pt x="2856958" y="1026607"/>
                </a:cubicBezTo>
                <a:cubicBezTo>
                  <a:pt x="2856958" y="1012797"/>
                  <a:pt x="2863657" y="999811"/>
                  <a:pt x="2867007" y="986413"/>
                </a:cubicBezTo>
                <a:cubicBezTo>
                  <a:pt x="2880405" y="996461"/>
                  <a:pt x="2892659" y="1008249"/>
                  <a:pt x="2907200" y="1016558"/>
                </a:cubicBezTo>
                <a:cubicBezTo>
                  <a:pt x="2916396" y="1021813"/>
                  <a:pt x="2928532" y="1020732"/>
                  <a:pt x="2937345" y="1026607"/>
                </a:cubicBezTo>
                <a:cubicBezTo>
                  <a:pt x="2989367" y="1061289"/>
                  <a:pt x="2947512" y="1070187"/>
                  <a:pt x="3027780" y="1096945"/>
                </a:cubicBezTo>
                <a:cubicBezTo>
                  <a:pt x="3072135" y="1111731"/>
                  <a:pt x="3048451" y="1102257"/>
                  <a:pt x="3098119" y="1127090"/>
                </a:cubicBezTo>
                <a:cubicBezTo>
                  <a:pt x="3121565" y="1123741"/>
                  <a:pt x="3147273" y="1127634"/>
                  <a:pt x="3168457" y="1117042"/>
                </a:cubicBezTo>
                <a:cubicBezTo>
                  <a:pt x="3177931" y="1112305"/>
                  <a:pt x="3178505" y="1097489"/>
                  <a:pt x="3178505" y="1086897"/>
                </a:cubicBezTo>
                <a:cubicBezTo>
                  <a:pt x="3178505" y="1056567"/>
                  <a:pt x="3178822" y="1024966"/>
                  <a:pt x="3168457" y="996462"/>
                </a:cubicBezTo>
                <a:cubicBezTo>
                  <a:pt x="3164330" y="985112"/>
                  <a:pt x="3147590" y="984096"/>
                  <a:pt x="3138312" y="976365"/>
                </a:cubicBezTo>
                <a:cubicBezTo>
                  <a:pt x="3060943" y="911890"/>
                  <a:pt x="3152866" y="976020"/>
                  <a:pt x="3078022" y="926123"/>
                </a:cubicBezTo>
                <a:cubicBezTo>
                  <a:pt x="3078022" y="926123"/>
                  <a:pt x="3051227" y="865833"/>
                  <a:pt x="3078022" y="865833"/>
                </a:cubicBezTo>
                <a:cubicBezTo>
                  <a:pt x="3092232" y="865833"/>
                  <a:pt x="3097378" y="886730"/>
                  <a:pt x="3108167" y="895978"/>
                </a:cubicBezTo>
                <a:cubicBezTo>
                  <a:pt x="3134206" y="918297"/>
                  <a:pt x="3182708" y="949022"/>
                  <a:pt x="3208651" y="966317"/>
                </a:cubicBezTo>
                <a:cubicBezTo>
                  <a:pt x="3218699" y="973016"/>
                  <a:pt x="3227339" y="982594"/>
                  <a:pt x="3238796" y="986413"/>
                </a:cubicBezTo>
                <a:cubicBezTo>
                  <a:pt x="3248844" y="989763"/>
                  <a:pt x="3259682" y="991318"/>
                  <a:pt x="3268941" y="996462"/>
                </a:cubicBezTo>
                <a:cubicBezTo>
                  <a:pt x="3290055" y="1008192"/>
                  <a:pt x="3329231" y="1036655"/>
                  <a:pt x="3329231" y="1036655"/>
                </a:cubicBezTo>
                <a:cubicBezTo>
                  <a:pt x="3372774" y="1033306"/>
                  <a:pt x="3417868" y="1038604"/>
                  <a:pt x="3459859" y="1026607"/>
                </a:cubicBezTo>
                <a:cubicBezTo>
                  <a:pt x="3482369" y="1020176"/>
                  <a:pt x="3464147" y="972748"/>
                  <a:pt x="3459859" y="966317"/>
                </a:cubicBezTo>
                <a:cubicBezTo>
                  <a:pt x="3432014" y="924550"/>
                  <a:pt x="3419779" y="934516"/>
                  <a:pt x="3369424" y="926123"/>
                </a:cubicBezTo>
                <a:cubicBezTo>
                  <a:pt x="3359376" y="919424"/>
                  <a:pt x="3347010" y="915304"/>
                  <a:pt x="3339279" y="906027"/>
                </a:cubicBezTo>
                <a:cubicBezTo>
                  <a:pt x="3221998" y="765290"/>
                  <a:pt x="3655850" y="855931"/>
                  <a:pt x="3660826" y="855785"/>
                </a:cubicBezTo>
                <a:cubicBezTo>
                  <a:pt x="3677573" y="852435"/>
                  <a:pt x="3694591" y="850230"/>
                  <a:pt x="3711068" y="845736"/>
                </a:cubicBezTo>
                <a:cubicBezTo>
                  <a:pt x="3731505" y="840162"/>
                  <a:pt x="3771358" y="825640"/>
                  <a:pt x="3771358" y="825640"/>
                </a:cubicBezTo>
                <a:cubicBezTo>
                  <a:pt x="3774708" y="815592"/>
                  <a:pt x="3784756" y="805543"/>
                  <a:pt x="3781407" y="795495"/>
                </a:cubicBezTo>
                <a:cubicBezTo>
                  <a:pt x="3775881" y="778916"/>
                  <a:pt x="3734906" y="754446"/>
                  <a:pt x="3721116" y="745253"/>
                </a:cubicBezTo>
                <a:cubicBezTo>
                  <a:pt x="3826329" y="703167"/>
                  <a:pt x="3711671" y="738706"/>
                  <a:pt x="3881890" y="745253"/>
                </a:cubicBezTo>
                <a:cubicBezTo>
                  <a:pt x="3932206" y="747188"/>
                  <a:pt x="3982373" y="738554"/>
                  <a:pt x="4032615" y="735205"/>
                </a:cubicBezTo>
                <a:cubicBezTo>
                  <a:pt x="4042663" y="731855"/>
                  <a:pt x="4053024" y="729328"/>
                  <a:pt x="4062760" y="725156"/>
                </a:cubicBezTo>
                <a:cubicBezTo>
                  <a:pt x="4092204" y="712537"/>
                  <a:pt x="4107866" y="702987"/>
                  <a:pt x="4133099" y="684963"/>
                </a:cubicBezTo>
                <a:cubicBezTo>
                  <a:pt x="4146727" y="675229"/>
                  <a:pt x="4160844" y="666021"/>
                  <a:pt x="4173292" y="654818"/>
                </a:cubicBezTo>
                <a:cubicBezTo>
                  <a:pt x="4194417" y="635805"/>
                  <a:pt x="4213485" y="614625"/>
                  <a:pt x="4233582" y="594528"/>
                </a:cubicBezTo>
                <a:cubicBezTo>
                  <a:pt x="4243630" y="584480"/>
                  <a:pt x="4255844" y="576207"/>
                  <a:pt x="4263727" y="564383"/>
                </a:cubicBezTo>
                <a:cubicBezTo>
                  <a:pt x="4277125" y="544286"/>
                  <a:pt x="4289429" y="523416"/>
                  <a:pt x="4303921" y="504093"/>
                </a:cubicBezTo>
                <a:cubicBezTo>
                  <a:pt x="4343053" y="451916"/>
                  <a:pt x="4326576" y="478878"/>
                  <a:pt x="4354163" y="423706"/>
                </a:cubicBezTo>
                <a:cubicBezTo>
                  <a:pt x="4350813" y="386862"/>
                  <a:pt x="4362081" y="345514"/>
                  <a:pt x="4344114" y="313174"/>
                </a:cubicBezTo>
                <a:cubicBezTo>
                  <a:pt x="4336839" y="300080"/>
                  <a:pt x="4316110" y="324564"/>
                  <a:pt x="4303921" y="333271"/>
                </a:cubicBezTo>
                <a:cubicBezTo>
                  <a:pt x="4292357" y="341531"/>
                  <a:pt x="4285600" y="355533"/>
                  <a:pt x="4273776" y="363416"/>
                </a:cubicBezTo>
                <a:cubicBezTo>
                  <a:pt x="4265127" y="369182"/>
                  <a:pt x="4208796" y="382172"/>
                  <a:pt x="4203437" y="383512"/>
                </a:cubicBezTo>
                <a:cubicBezTo>
                  <a:pt x="4117045" y="441108"/>
                  <a:pt x="4226351" y="372055"/>
                  <a:pt x="4143147" y="413657"/>
                </a:cubicBezTo>
                <a:cubicBezTo>
                  <a:pt x="4132345" y="419058"/>
                  <a:pt x="4123804" y="428353"/>
                  <a:pt x="4113002" y="433754"/>
                </a:cubicBezTo>
                <a:cubicBezTo>
                  <a:pt x="4096869" y="441821"/>
                  <a:pt x="4078595" y="445214"/>
                  <a:pt x="4062760" y="453851"/>
                </a:cubicBezTo>
                <a:cubicBezTo>
                  <a:pt x="4041556" y="465417"/>
                  <a:pt x="4002470" y="494044"/>
                  <a:pt x="4002470" y="494044"/>
                </a:cubicBezTo>
                <a:cubicBezTo>
                  <a:pt x="3995771" y="504092"/>
                  <a:pt x="3992422" y="517490"/>
                  <a:pt x="3982374" y="524189"/>
                </a:cubicBezTo>
                <a:cubicBezTo>
                  <a:pt x="3970883" y="531850"/>
                  <a:pt x="3954874" y="528798"/>
                  <a:pt x="3942180" y="534238"/>
                </a:cubicBezTo>
                <a:cubicBezTo>
                  <a:pt x="3931080" y="538995"/>
                  <a:pt x="3922083" y="547635"/>
                  <a:pt x="3912035" y="554334"/>
                </a:cubicBezTo>
                <a:cubicBezTo>
                  <a:pt x="3908686" y="544286"/>
                  <a:pt x="3898638" y="534237"/>
                  <a:pt x="3901987" y="524189"/>
                </a:cubicBezTo>
                <a:cubicBezTo>
                  <a:pt x="3911396" y="495963"/>
                  <a:pt x="3939689" y="491525"/>
                  <a:pt x="3962277" y="483996"/>
                </a:cubicBezTo>
                <a:cubicBezTo>
                  <a:pt x="3982374" y="470598"/>
                  <a:pt x="4005488" y="460881"/>
                  <a:pt x="4022567" y="443802"/>
                </a:cubicBezTo>
                <a:cubicBezTo>
                  <a:pt x="4060202" y="406167"/>
                  <a:pt x="4039231" y="418151"/>
                  <a:pt x="4082857" y="403609"/>
                </a:cubicBezTo>
                <a:cubicBezTo>
                  <a:pt x="4160136" y="352089"/>
                  <a:pt x="4054599" y="416921"/>
                  <a:pt x="4163244" y="373464"/>
                </a:cubicBezTo>
                <a:cubicBezTo>
                  <a:pt x="4181378" y="366211"/>
                  <a:pt x="4195706" y="351401"/>
                  <a:pt x="4213486" y="343319"/>
                </a:cubicBezTo>
                <a:cubicBezTo>
                  <a:pt x="4232771" y="334553"/>
                  <a:pt x="4256150" y="334973"/>
                  <a:pt x="4273776" y="323222"/>
                </a:cubicBezTo>
                <a:cubicBezTo>
                  <a:pt x="4348000" y="273739"/>
                  <a:pt x="4314744" y="297521"/>
                  <a:pt x="4374259" y="252884"/>
                </a:cubicBezTo>
                <a:cubicBezTo>
                  <a:pt x="4396133" y="340375"/>
                  <a:pt x="4401794" y="346322"/>
                  <a:pt x="4374259" y="483996"/>
                </a:cubicBezTo>
                <a:cubicBezTo>
                  <a:pt x="4369777" y="506404"/>
                  <a:pt x="4325496" y="556451"/>
                  <a:pt x="4303921" y="574431"/>
                </a:cubicBezTo>
                <a:cubicBezTo>
                  <a:pt x="4294643" y="582162"/>
                  <a:pt x="4283824" y="587829"/>
                  <a:pt x="4273776" y="594528"/>
                </a:cubicBezTo>
                <a:cubicBezTo>
                  <a:pt x="4267077" y="604576"/>
                  <a:pt x="4263109" y="617129"/>
                  <a:pt x="4253679" y="624673"/>
                </a:cubicBezTo>
                <a:cubicBezTo>
                  <a:pt x="4245408" y="631290"/>
                  <a:pt x="4233269" y="630549"/>
                  <a:pt x="4223534" y="634721"/>
                </a:cubicBezTo>
                <a:cubicBezTo>
                  <a:pt x="4209766" y="640622"/>
                  <a:pt x="4197249" y="649255"/>
                  <a:pt x="4183341" y="654818"/>
                </a:cubicBezTo>
                <a:cubicBezTo>
                  <a:pt x="4163672" y="662685"/>
                  <a:pt x="4123051" y="674914"/>
                  <a:pt x="4123051" y="674914"/>
                </a:cubicBezTo>
                <a:cubicBezTo>
                  <a:pt x="4113002" y="681613"/>
                  <a:pt x="4103707" y="689610"/>
                  <a:pt x="4092905" y="695011"/>
                </a:cubicBezTo>
                <a:cubicBezTo>
                  <a:pt x="4038258" y="722335"/>
                  <a:pt x="3886449" y="714855"/>
                  <a:pt x="3881890" y="715108"/>
                </a:cubicBezTo>
                <a:cubicBezTo>
                  <a:pt x="3871842" y="718457"/>
                  <a:pt x="3858362" y="716885"/>
                  <a:pt x="3851745" y="725156"/>
                </a:cubicBezTo>
                <a:cubicBezTo>
                  <a:pt x="3843118" y="735940"/>
                  <a:pt x="3847137" y="752656"/>
                  <a:pt x="3841697" y="765350"/>
                </a:cubicBezTo>
                <a:cubicBezTo>
                  <a:pt x="3836940" y="776450"/>
                  <a:pt x="3828299" y="785447"/>
                  <a:pt x="3821600" y="795495"/>
                </a:cubicBezTo>
                <a:cubicBezTo>
                  <a:pt x="3810327" y="829316"/>
                  <a:pt x="3811323" y="831065"/>
                  <a:pt x="3791455" y="865833"/>
                </a:cubicBezTo>
                <a:cubicBezTo>
                  <a:pt x="3785463" y="876318"/>
                  <a:pt x="3780447" y="888025"/>
                  <a:pt x="3771358" y="895978"/>
                </a:cubicBezTo>
                <a:cubicBezTo>
                  <a:pt x="3753181" y="911883"/>
                  <a:pt x="3733982" y="928534"/>
                  <a:pt x="3711068" y="936172"/>
                </a:cubicBezTo>
                <a:cubicBezTo>
                  <a:pt x="3585543" y="978012"/>
                  <a:pt x="3691509" y="945867"/>
                  <a:pt x="3379473" y="956268"/>
                </a:cubicBezTo>
                <a:cubicBezTo>
                  <a:pt x="3389521" y="959618"/>
                  <a:pt x="3399342" y="963748"/>
                  <a:pt x="3409618" y="966317"/>
                </a:cubicBezTo>
                <a:lnTo>
                  <a:pt x="3490004" y="986413"/>
                </a:lnTo>
                <a:cubicBezTo>
                  <a:pt x="3486655" y="996461"/>
                  <a:pt x="3486459" y="1008197"/>
                  <a:pt x="3479956" y="1016558"/>
                </a:cubicBezTo>
                <a:cubicBezTo>
                  <a:pt x="3442892" y="1064212"/>
                  <a:pt x="3429817" y="1070082"/>
                  <a:pt x="3389521" y="1096945"/>
                </a:cubicBezTo>
                <a:cubicBezTo>
                  <a:pt x="3376123" y="1093596"/>
                  <a:pt x="3361679" y="1093073"/>
                  <a:pt x="3349327" y="1086897"/>
                </a:cubicBezTo>
                <a:cubicBezTo>
                  <a:pt x="3327724" y="1076095"/>
                  <a:pt x="3309134" y="1060101"/>
                  <a:pt x="3289037" y="1046703"/>
                </a:cubicBezTo>
                <a:cubicBezTo>
                  <a:pt x="3278989" y="1040004"/>
                  <a:pt x="3270349" y="1030426"/>
                  <a:pt x="3258892" y="1026607"/>
                </a:cubicBezTo>
                <a:cubicBezTo>
                  <a:pt x="3212545" y="1011157"/>
                  <a:pt x="3239133" y="1018635"/>
                  <a:pt x="3178505" y="1006510"/>
                </a:cubicBezTo>
                <a:cubicBezTo>
                  <a:pt x="3175156" y="1033306"/>
                  <a:pt x="3177685" y="1061519"/>
                  <a:pt x="3168457" y="1086897"/>
                </a:cubicBezTo>
                <a:cubicBezTo>
                  <a:pt x="3143558" y="1155370"/>
                  <a:pt x="3007741" y="1108338"/>
                  <a:pt x="2987587" y="1106994"/>
                </a:cubicBezTo>
                <a:cubicBezTo>
                  <a:pt x="2838830" y="1077241"/>
                  <a:pt x="3019796" y="1123097"/>
                  <a:pt x="2907200" y="1066800"/>
                </a:cubicBezTo>
                <a:cubicBezTo>
                  <a:pt x="2891924" y="1059162"/>
                  <a:pt x="2873705" y="1060101"/>
                  <a:pt x="2856958" y="1056752"/>
                </a:cubicBezTo>
                <a:cubicBezTo>
                  <a:pt x="2867006" y="1066800"/>
                  <a:pt x="2876186" y="1077800"/>
                  <a:pt x="2887103" y="1086897"/>
                </a:cubicBezTo>
                <a:cubicBezTo>
                  <a:pt x="2896381" y="1094628"/>
                  <a:pt x="2909704" y="1097564"/>
                  <a:pt x="2917248" y="1106994"/>
                </a:cubicBezTo>
                <a:cubicBezTo>
                  <a:pt x="2923865" y="1115265"/>
                  <a:pt x="2923947" y="1127091"/>
                  <a:pt x="2927297" y="1137139"/>
                </a:cubicBezTo>
                <a:cubicBezTo>
                  <a:pt x="2926068" y="1148203"/>
                  <a:pt x="2933827" y="1249931"/>
                  <a:pt x="2887103" y="1257719"/>
                </a:cubicBezTo>
                <a:cubicBezTo>
                  <a:pt x="2857185" y="1262705"/>
                  <a:pt x="2826813" y="1251020"/>
                  <a:pt x="2796668" y="1247671"/>
                </a:cubicBezTo>
                <a:cubicBezTo>
                  <a:pt x="2786620" y="1237622"/>
                  <a:pt x="2774406" y="1229349"/>
                  <a:pt x="2766523" y="1217525"/>
                </a:cubicBezTo>
                <a:cubicBezTo>
                  <a:pt x="2737027" y="1173280"/>
                  <a:pt x="2784028" y="1195700"/>
                  <a:pt x="2726330" y="1157235"/>
                </a:cubicBezTo>
                <a:cubicBezTo>
                  <a:pt x="2717517" y="1151360"/>
                  <a:pt x="2706233" y="1150536"/>
                  <a:pt x="2696185" y="1147187"/>
                </a:cubicBezTo>
                <a:cubicBezTo>
                  <a:pt x="2692835" y="1170633"/>
                  <a:pt x="2688903" y="1194003"/>
                  <a:pt x="2686136" y="1217525"/>
                </a:cubicBezTo>
                <a:cubicBezTo>
                  <a:pt x="2682203" y="1250956"/>
                  <a:pt x="2685987" y="1285836"/>
                  <a:pt x="2676088" y="1318009"/>
                </a:cubicBezTo>
                <a:cubicBezTo>
                  <a:pt x="2671909" y="1331591"/>
                  <a:pt x="2655991" y="1338106"/>
                  <a:pt x="2645943" y="1348154"/>
                </a:cubicBezTo>
                <a:cubicBezTo>
                  <a:pt x="2615798" y="1344805"/>
                  <a:pt x="2584282" y="1347697"/>
                  <a:pt x="2555508" y="1338106"/>
                </a:cubicBezTo>
                <a:cubicBezTo>
                  <a:pt x="2542027" y="1333612"/>
                  <a:pt x="2536280" y="1317058"/>
                  <a:pt x="2525363" y="1307961"/>
                </a:cubicBezTo>
                <a:cubicBezTo>
                  <a:pt x="2516085" y="1300230"/>
                  <a:pt x="2505266" y="1294563"/>
                  <a:pt x="2495218" y="1287864"/>
                </a:cubicBezTo>
                <a:cubicBezTo>
                  <a:pt x="2463397" y="1192407"/>
                  <a:pt x="2465680" y="1211218"/>
                  <a:pt x="2495218" y="1026607"/>
                </a:cubicBezTo>
                <a:cubicBezTo>
                  <a:pt x="2497126" y="1014682"/>
                  <a:pt x="2515315" y="1013209"/>
                  <a:pt x="2525363" y="1006510"/>
                </a:cubicBezTo>
                <a:cubicBezTo>
                  <a:pt x="2585298" y="916604"/>
                  <a:pt x="2552584" y="978563"/>
                  <a:pt x="2535411" y="755301"/>
                </a:cubicBezTo>
                <a:cubicBezTo>
                  <a:pt x="2532590" y="718625"/>
                  <a:pt x="2524142" y="713277"/>
                  <a:pt x="2505266" y="684963"/>
                </a:cubicBezTo>
                <a:cubicBezTo>
                  <a:pt x="2501443" y="665846"/>
                  <a:pt x="2495470" y="625179"/>
                  <a:pt x="2485169" y="604576"/>
                </a:cubicBezTo>
                <a:cubicBezTo>
                  <a:pt x="2479768" y="593774"/>
                  <a:pt x="2472804" y="583708"/>
                  <a:pt x="2465073" y="574431"/>
                </a:cubicBezTo>
                <a:cubicBezTo>
                  <a:pt x="2455975" y="563514"/>
                  <a:pt x="2447349" y="551187"/>
                  <a:pt x="2434927" y="544286"/>
                </a:cubicBezTo>
                <a:cubicBezTo>
                  <a:pt x="2416409" y="533998"/>
                  <a:pt x="2392263" y="535939"/>
                  <a:pt x="2374637" y="524189"/>
                </a:cubicBezTo>
                <a:lnTo>
                  <a:pt x="2344492" y="504093"/>
                </a:lnTo>
                <a:cubicBezTo>
                  <a:pt x="2259153" y="511204"/>
                  <a:pt x="2243315" y="492948"/>
                  <a:pt x="2193767" y="534238"/>
                </a:cubicBezTo>
                <a:cubicBezTo>
                  <a:pt x="2182850" y="543335"/>
                  <a:pt x="2173670" y="554335"/>
                  <a:pt x="2163622" y="564383"/>
                </a:cubicBezTo>
                <a:cubicBezTo>
                  <a:pt x="2160273" y="574431"/>
                  <a:pt x="2157746" y="584793"/>
                  <a:pt x="2153574" y="594528"/>
                </a:cubicBezTo>
                <a:cubicBezTo>
                  <a:pt x="2138276" y="630223"/>
                  <a:pt x="2133562" y="634593"/>
                  <a:pt x="2113380" y="664866"/>
                </a:cubicBezTo>
                <a:cubicBezTo>
                  <a:pt x="2095722" y="717842"/>
                  <a:pt x="2115003" y="674977"/>
                  <a:pt x="2073187" y="725156"/>
                </a:cubicBezTo>
                <a:cubicBezTo>
                  <a:pt x="2065456" y="734434"/>
                  <a:pt x="2059082" y="744816"/>
                  <a:pt x="2053090" y="755301"/>
                </a:cubicBezTo>
                <a:cubicBezTo>
                  <a:pt x="2045658" y="768307"/>
                  <a:pt x="2043585" y="784903"/>
                  <a:pt x="2032993" y="795495"/>
                </a:cubicBezTo>
                <a:cubicBezTo>
                  <a:pt x="2008744" y="819744"/>
                  <a:pt x="1964225" y="839927"/>
                  <a:pt x="1932510" y="855785"/>
                </a:cubicBezTo>
                <a:cubicBezTo>
                  <a:pt x="1888967" y="852435"/>
                  <a:pt x="1843872" y="857734"/>
                  <a:pt x="1801881" y="845736"/>
                </a:cubicBezTo>
                <a:cubicBezTo>
                  <a:pt x="1791697" y="842826"/>
                  <a:pt x="1791833" y="826183"/>
                  <a:pt x="1791833" y="815591"/>
                </a:cubicBezTo>
                <a:cubicBezTo>
                  <a:pt x="1791833" y="716562"/>
                  <a:pt x="1789002" y="756690"/>
                  <a:pt x="1832026" y="705060"/>
                </a:cubicBezTo>
                <a:cubicBezTo>
                  <a:pt x="1866989" y="663104"/>
                  <a:pt x="1832781" y="681361"/>
                  <a:pt x="1882268" y="664866"/>
                </a:cubicBezTo>
                <a:lnTo>
                  <a:pt x="1942558" y="624673"/>
                </a:lnTo>
                <a:lnTo>
                  <a:pt x="1972703" y="604576"/>
                </a:lnTo>
                <a:cubicBezTo>
                  <a:pt x="2027867" y="521832"/>
                  <a:pt x="1955741" y="616653"/>
                  <a:pt x="2022945" y="564383"/>
                </a:cubicBezTo>
                <a:cubicBezTo>
                  <a:pt x="2045379" y="546934"/>
                  <a:pt x="2063138" y="524190"/>
                  <a:pt x="2083235" y="504093"/>
                </a:cubicBezTo>
                <a:cubicBezTo>
                  <a:pt x="2091774" y="495554"/>
                  <a:pt x="2103332" y="490695"/>
                  <a:pt x="2113380" y="483996"/>
                </a:cubicBezTo>
                <a:cubicBezTo>
                  <a:pt x="2065609" y="452148"/>
                  <a:pt x="2094692" y="460080"/>
                  <a:pt x="2022945" y="483996"/>
                </a:cubicBezTo>
                <a:lnTo>
                  <a:pt x="1992800" y="494044"/>
                </a:lnTo>
                <a:cubicBezTo>
                  <a:pt x="1912413" y="547636"/>
                  <a:pt x="2009547" y="477297"/>
                  <a:pt x="1942558" y="544286"/>
                </a:cubicBezTo>
                <a:cubicBezTo>
                  <a:pt x="1930716" y="556128"/>
                  <a:pt x="1915080" y="563532"/>
                  <a:pt x="1902365" y="574431"/>
                </a:cubicBezTo>
                <a:cubicBezTo>
                  <a:pt x="1891576" y="583679"/>
                  <a:pt x="1883137" y="595479"/>
                  <a:pt x="1872220" y="604576"/>
                </a:cubicBezTo>
                <a:cubicBezTo>
                  <a:pt x="1837990" y="633102"/>
                  <a:pt x="1838078" y="618622"/>
                  <a:pt x="1801881" y="654818"/>
                </a:cubicBezTo>
                <a:cubicBezTo>
                  <a:pt x="1736658" y="720040"/>
                  <a:pt x="1810051" y="675853"/>
                  <a:pt x="1731543" y="715108"/>
                </a:cubicBezTo>
                <a:cubicBezTo>
                  <a:pt x="1701398" y="711759"/>
                  <a:pt x="1669612" y="715425"/>
                  <a:pt x="1641108" y="705060"/>
                </a:cubicBezTo>
                <a:cubicBezTo>
                  <a:pt x="1629758" y="700933"/>
                  <a:pt x="1627003" y="685400"/>
                  <a:pt x="1621011" y="674914"/>
                </a:cubicBezTo>
                <a:cubicBezTo>
                  <a:pt x="1601143" y="640145"/>
                  <a:pt x="1602139" y="638398"/>
                  <a:pt x="1590866" y="604576"/>
                </a:cubicBezTo>
                <a:cubicBezTo>
                  <a:pt x="1594215" y="584479"/>
                  <a:pt x="1594471" y="563614"/>
                  <a:pt x="1600914" y="544286"/>
                </a:cubicBezTo>
                <a:cubicBezTo>
                  <a:pt x="1609409" y="518801"/>
                  <a:pt x="1676877" y="456063"/>
                  <a:pt x="1681301" y="453851"/>
                </a:cubicBezTo>
                <a:cubicBezTo>
                  <a:pt x="1694699" y="447152"/>
                  <a:pt x="1708649" y="441461"/>
                  <a:pt x="1721494" y="433754"/>
                </a:cubicBezTo>
                <a:cubicBezTo>
                  <a:pt x="1742205" y="421327"/>
                  <a:pt x="1781785" y="393561"/>
                  <a:pt x="1781785" y="393561"/>
                </a:cubicBezTo>
                <a:cubicBezTo>
                  <a:pt x="1788484" y="383513"/>
                  <a:pt x="1804250" y="375258"/>
                  <a:pt x="1801881" y="363416"/>
                </a:cubicBezTo>
                <a:cubicBezTo>
                  <a:pt x="1799512" y="351574"/>
                  <a:pt x="1783771" y="344322"/>
                  <a:pt x="1771736" y="343319"/>
                </a:cubicBezTo>
                <a:cubicBezTo>
                  <a:pt x="1741510" y="340800"/>
                  <a:pt x="1711446" y="350018"/>
                  <a:pt x="1681301" y="353367"/>
                </a:cubicBezTo>
                <a:cubicBezTo>
                  <a:pt x="1659079" y="375589"/>
                  <a:pt x="1645048" y="385679"/>
                  <a:pt x="1631059" y="413657"/>
                </a:cubicBezTo>
                <a:cubicBezTo>
                  <a:pt x="1626322" y="423131"/>
                  <a:pt x="1626886" y="434989"/>
                  <a:pt x="1621011" y="443802"/>
                </a:cubicBezTo>
                <a:cubicBezTo>
                  <a:pt x="1613128" y="455626"/>
                  <a:pt x="1599590" y="462730"/>
                  <a:pt x="1590866" y="473947"/>
                </a:cubicBezTo>
                <a:cubicBezTo>
                  <a:pt x="1549586" y="527022"/>
                  <a:pt x="1563754" y="528361"/>
                  <a:pt x="1520527" y="564383"/>
                </a:cubicBezTo>
                <a:cubicBezTo>
                  <a:pt x="1511249" y="572114"/>
                  <a:pt x="1501839" y="580660"/>
                  <a:pt x="1490382" y="584479"/>
                </a:cubicBezTo>
                <a:cubicBezTo>
                  <a:pt x="1471054" y="590922"/>
                  <a:pt x="1450189" y="591178"/>
                  <a:pt x="1430092" y="594528"/>
                </a:cubicBezTo>
                <a:cubicBezTo>
                  <a:pt x="1414884" y="584389"/>
                  <a:pt x="1381661" y="567823"/>
                  <a:pt x="1379851" y="544286"/>
                </a:cubicBezTo>
                <a:cubicBezTo>
                  <a:pt x="1377320" y="511381"/>
                  <a:pt x="1376171" y="443254"/>
                  <a:pt x="1409996" y="413657"/>
                </a:cubicBezTo>
                <a:cubicBezTo>
                  <a:pt x="1428173" y="397752"/>
                  <a:pt x="1453207" y="390543"/>
                  <a:pt x="1470286" y="373464"/>
                </a:cubicBezTo>
                <a:cubicBezTo>
                  <a:pt x="1480334" y="363416"/>
                  <a:pt x="1489514" y="352416"/>
                  <a:pt x="1500431" y="343319"/>
                </a:cubicBezTo>
                <a:cubicBezTo>
                  <a:pt x="1509709" y="335588"/>
                  <a:pt x="1521550" y="331245"/>
                  <a:pt x="1530576" y="323222"/>
                </a:cubicBezTo>
                <a:cubicBezTo>
                  <a:pt x="1551818" y="304340"/>
                  <a:pt x="1590866" y="262932"/>
                  <a:pt x="1590866" y="262932"/>
                </a:cubicBezTo>
                <a:cubicBezTo>
                  <a:pt x="1580818" y="259583"/>
                  <a:pt x="1571313" y="252884"/>
                  <a:pt x="1560721" y="252884"/>
                </a:cubicBezTo>
                <a:cubicBezTo>
                  <a:pt x="1501981" y="252884"/>
                  <a:pt x="1463444" y="262291"/>
                  <a:pt x="1409996" y="272980"/>
                </a:cubicBezTo>
                <a:cubicBezTo>
                  <a:pt x="1389899" y="293077"/>
                  <a:pt x="1365470" y="309623"/>
                  <a:pt x="1349705" y="333271"/>
                </a:cubicBezTo>
                <a:lnTo>
                  <a:pt x="1289415" y="423706"/>
                </a:lnTo>
                <a:lnTo>
                  <a:pt x="1249222" y="483996"/>
                </a:lnTo>
                <a:cubicBezTo>
                  <a:pt x="1229461" y="513636"/>
                  <a:pt x="1227993" y="520108"/>
                  <a:pt x="1198980" y="544286"/>
                </a:cubicBezTo>
                <a:cubicBezTo>
                  <a:pt x="1173033" y="565909"/>
                  <a:pt x="1151363" y="572563"/>
                  <a:pt x="1118593" y="584479"/>
                </a:cubicBezTo>
                <a:cubicBezTo>
                  <a:pt x="1098685" y="591718"/>
                  <a:pt x="1058303" y="604576"/>
                  <a:pt x="1058303" y="604576"/>
                </a:cubicBezTo>
                <a:cubicBezTo>
                  <a:pt x="1044905" y="601227"/>
                  <a:pt x="1022959" y="607459"/>
                  <a:pt x="1018110" y="594528"/>
                </a:cubicBezTo>
                <a:cubicBezTo>
                  <a:pt x="1014915" y="586009"/>
                  <a:pt x="1035192" y="472608"/>
                  <a:pt x="1048255" y="463899"/>
                </a:cubicBezTo>
                <a:cubicBezTo>
                  <a:pt x="1058303" y="457200"/>
                  <a:pt x="1068573" y="450821"/>
                  <a:pt x="1078400" y="443802"/>
                </a:cubicBezTo>
                <a:cubicBezTo>
                  <a:pt x="1092028" y="434068"/>
                  <a:pt x="1104127" y="422095"/>
                  <a:pt x="1118593" y="413657"/>
                </a:cubicBezTo>
                <a:cubicBezTo>
                  <a:pt x="1144470" y="398562"/>
                  <a:pt x="1172184" y="386862"/>
                  <a:pt x="1198980" y="373464"/>
                </a:cubicBezTo>
                <a:cubicBezTo>
                  <a:pt x="1212378" y="366765"/>
                  <a:pt x="1226710" y="361676"/>
                  <a:pt x="1239174" y="353367"/>
                </a:cubicBezTo>
                <a:cubicBezTo>
                  <a:pt x="1249222" y="346668"/>
                  <a:pt x="1259492" y="340290"/>
                  <a:pt x="1269319" y="333271"/>
                </a:cubicBezTo>
                <a:cubicBezTo>
                  <a:pt x="1282947" y="323537"/>
                  <a:pt x="1297670" y="314967"/>
                  <a:pt x="1309512" y="303125"/>
                </a:cubicBezTo>
                <a:cubicBezTo>
                  <a:pt x="1376494" y="236142"/>
                  <a:pt x="1279375" y="306468"/>
                  <a:pt x="1359754" y="252884"/>
                </a:cubicBezTo>
                <a:cubicBezTo>
                  <a:pt x="1356404" y="242836"/>
                  <a:pt x="1360126" y="224634"/>
                  <a:pt x="1349705" y="222739"/>
                </a:cubicBezTo>
                <a:cubicBezTo>
                  <a:pt x="1299419" y="213596"/>
                  <a:pt x="1262045" y="228513"/>
                  <a:pt x="1219077" y="242835"/>
                </a:cubicBezTo>
                <a:cubicBezTo>
                  <a:pt x="1209029" y="252883"/>
                  <a:pt x="1200756" y="265097"/>
                  <a:pt x="1188932" y="272980"/>
                </a:cubicBezTo>
                <a:cubicBezTo>
                  <a:pt x="1119102" y="319534"/>
                  <a:pt x="1199785" y="239887"/>
                  <a:pt x="1128642" y="303125"/>
                </a:cubicBezTo>
                <a:cubicBezTo>
                  <a:pt x="1107400" y="322007"/>
                  <a:pt x="1092000" y="347651"/>
                  <a:pt x="1068352" y="363416"/>
                </a:cubicBezTo>
                <a:cubicBezTo>
                  <a:pt x="1058304" y="370115"/>
                  <a:pt x="1047484" y="375781"/>
                  <a:pt x="1038207" y="383512"/>
                </a:cubicBezTo>
                <a:cubicBezTo>
                  <a:pt x="1027290" y="392609"/>
                  <a:pt x="1019626" y="405397"/>
                  <a:pt x="1008062" y="413657"/>
                </a:cubicBezTo>
                <a:cubicBezTo>
                  <a:pt x="979768" y="433867"/>
                  <a:pt x="960042" y="435710"/>
                  <a:pt x="927675" y="443802"/>
                </a:cubicBezTo>
                <a:lnTo>
                  <a:pt x="415209" y="433754"/>
                </a:lnTo>
                <a:cubicBezTo>
                  <a:pt x="401048" y="432574"/>
                  <a:pt x="433790" y="411869"/>
                  <a:pt x="445354" y="403609"/>
                </a:cubicBezTo>
                <a:cubicBezTo>
                  <a:pt x="483716" y="376208"/>
                  <a:pt x="507109" y="380432"/>
                  <a:pt x="555886" y="373464"/>
                </a:cubicBezTo>
                <a:cubicBezTo>
                  <a:pt x="565934" y="370115"/>
                  <a:pt x="575645" y="365493"/>
                  <a:pt x="586031" y="363416"/>
                </a:cubicBezTo>
                <a:cubicBezTo>
                  <a:pt x="609255" y="358771"/>
                  <a:pt x="633519" y="359599"/>
                  <a:pt x="656369" y="353367"/>
                </a:cubicBezTo>
                <a:cubicBezTo>
                  <a:pt x="670820" y="349426"/>
                  <a:pt x="682352" y="338008"/>
                  <a:pt x="696563" y="333271"/>
                </a:cubicBezTo>
                <a:cubicBezTo>
                  <a:pt x="712765" y="327870"/>
                  <a:pt x="730057" y="326572"/>
                  <a:pt x="746804" y="323222"/>
                </a:cubicBezTo>
                <a:cubicBezTo>
                  <a:pt x="766901" y="309824"/>
                  <a:pt x="790015" y="300108"/>
                  <a:pt x="807094" y="283029"/>
                </a:cubicBezTo>
                <a:cubicBezTo>
                  <a:pt x="817143" y="272981"/>
                  <a:pt x="828142" y="263801"/>
                  <a:pt x="837240" y="252884"/>
                </a:cubicBezTo>
                <a:cubicBezTo>
                  <a:pt x="844971" y="243607"/>
                  <a:pt x="848797" y="231278"/>
                  <a:pt x="857336" y="222739"/>
                </a:cubicBezTo>
                <a:cubicBezTo>
                  <a:pt x="865875" y="214199"/>
                  <a:pt x="877433" y="209341"/>
                  <a:pt x="887481" y="202642"/>
                </a:cubicBezTo>
                <a:cubicBezTo>
                  <a:pt x="890831" y="192594"/>
                  <a:pt x="908122" y="172497"/>
                  <a:pt x="897530" y="172497"/>
                </a:cubicBezTo>
                <a:cubicBezTo>
                  <a:pt x="885453" y="172497"/>
                  <a:pt x="889102" y="199530"/>
                  <a:pt x="877433" y="202642"/>
                </a:cubicBezTo>
                <a:cubicBezTo>
                  <a:pt x="835236" y="213894"/>
                  <a:pt x="790347" y="209341"/>
                  <a:pt x="746804" y="212690"/>
                </a:cubicBezTo>
                <a:cubicBezTo>
                  <a:pt x="730057" y="216040"/>
                  <a:pt x="712554" y="216742"/>
                  <a:pt x="696563" y="222739"/>
                </a:cubicBezTo>
                <a:cubicBezTo>
                  <a:pt x="685255" y="226979"/>
                  <a:pt x="678226" y="240305"/>
                  <a:pt x="666418" y="242835"/>
                </a:cubicBezTo>
                <a:cubicBezTo>
                  <a:pt x="630243" y="250587"/>
                  <a:pt x="592730" y="249534"/>
                  <a:pt x="555886" y="252884"/>
                </a:cubicBezTo>
                <a:cubicBezTo>
                  <a:pt x="545838" y="259583"/>
                  <a:pt x="537049" y="268740"/>
                  <a:pt x="525741" y="272980"/>
                </a:cubicBezTo>
                <a:cubicBezTo>
                  <a:pt x="509749" y="278977"/>
                  <a:pt x="492068" y="278887"/>
                  <a:pt x="475499" y="283029"/>
                </a:cubicBezTo>
                <a:cubicBezTo>
                  <a:pt x="465223" y="285598"/>
                  <a:pt x="455402" y="289728"/>
                  <a:pt x="445354" y="293077"/>
                </a:cubicBezTo>
                <a:cubicBezTo>
                  <a:pt x="435306" y="299776"/>
                  <a:pt x="426011" y="307773"/>
                  <a:pt x="415209" y="313174"/>
                </a:cubicBezTo>
                <a:cubicBezTo>
                  <a:pt x="390475" y="325541"/>
                  <a:pt x="347925" y="329412"/>
                  <a:pt x="324774" y="333271"/>
                </a:cubicBezTo>
                <a:cubicBezTo>
                  <a:pt x="224290" y="329921"/>
                  <a:pt x="120405" y="349360"/>
                  <a:pt x="23323" y="323222"/>
                </a:cubicBezTo>
                <a:cubicBezTo>
                  <a:pt x="0" y="316943"/>
                  <a:pt x="43419" y="276330"/>
                  <a:pt x="63516" y="262932"/>
                </a:cubicBezTo>
                <a:cubicBezTo>
                  <a:pt x="83613" y="249534"/>
                  <a:pt x="100375" y="228597"/>
                  <a:pt x="123807" y="222739"/>
                </a:cubicBezTo>
                <a:lnTo>
                  <a:pt x="204193" y="202642"/>
                </a:lnTo>
                <a:cubicBezTo>
                  <a:pt x="217591" y="199293"/>
                  <a:pt x="231285" y="196961"/>
                  <a:pt x="244387" y="192594"/>
                </a:cubicBezTo>
                <a:cubicBezTo>
                  <a:pt x="254435" y="189244"/>
                  <a:pt x="264146" y="184622"/>
                  <a:pt x="274532" y="182545"/>
                </a:cubicBezTo>
                <a:cubicBezTo>
                  <a:pt x="297756" y="177900"/>
                  <a:pt x="321424" y="175846"/>
                  <a:pt x="344870" y="172497"/>
                </a:cubicBezTo>
                <a:cubicBezTo>
                  <a:pt x="354918" y="169148"/>
                  <a:pt x="364831" y="165359"/>
                  <a:pt x="375015" y="162449"/>
                </a:cubicBezTo>
                <a:cubicBezTo>
                  <a:pt x="463336" y="137214"/>
                  <a:pt x="373077" y="166443"/>
                  <a:pt x="445354" y="142352"/>
                </a:cubicBezTo>
                <a:cubicBezTo>
                  <a:pt x="525741" y="88760"/>
                  <a:pt x="428607" y="159099"/>
                  <a:pt x="495596" y="92110"/>
                </a:cubicBezTo>
                <a:cubicBezTo>
                  <a:pt x="504135" y="83571"/>
                  <a:pt x="515693" y="78712"/>
                  <a:pt x="525741" y="72013"/>
                </a:cubicBezTo>
                <a:cubicBezTo>
                  <a:pt x="532440" y="61965"/>
                  <a:pt x="537298" y="50407"/>
                  <a:pt x="545837" y="41868"/>
                </a:cubicBezTo>
                <a:cubicBezTo>
                  <a:pt x="554376" y="33329"/>
                  <a:pt x="575982" y="33848"/>
                  <a:pt x="575982" y="21772"/>
                </a:cubicBezTo>
                <a:cubicBezTo>
                  <a:pt x="575982" y="11180"/>
                  <a:pt x="556021" y="28910"/>
                  <a:pt x="545837" y="31820"/>
                </a:cubicBezTo>
                <a:cubicBezTo>
                  <a:pt x="494019" y="46625"/>
                  <a:pt x="505053" y="38085"/>
                  <a:pt x="445354" y="61965"/>
                </a:cubicBezTo>
                <a:cubicBezTo>
                  <a:pt x="428607" y="68664"/>
                  <a:pt x="377425" y="85600"/>
                  <a:pt x="395112" y="82062"/>
                </a:cubicBezTo>
                <a:cubicBezTo>
                  <a:pt x="411859" y="78712"/>
                  <a:pt x="428785" y="76155"/>
                  <a:pt x="445354" y="72013"/>
                </a:cubicBezTo>
                <a:cubicBezTo>
                  <a:pt x="455630" y="69444"/>
                  <a:pt x="465223" y="64534"/>
                  <a:pt x="475499" y="61965"/>
                </a:cubicBezTo>
                <a:cubicBezTo>
                  <a:pt x="492068" y="57823"/>
                  <a:pt x="508994" y="55266"/>
                  <a:pt x="525741" y="51917"/>
                </a:cubicBezTo>
                <a:cubicBezTo>
                  <a:pt x="535789" y="45218"/>
                  <a:pt x="545084" y="37221"/>
                  <a:pt x="555886" y="31820"/>
                </a:cubicBezTo>
                <a:cubicBezTo>
                  <a:pt x="565360" y="27083"/>
                  <a:pt x="586031" y="11180"/>
                  <a:pt x="586031" y="21772"/>
                </a:cubicBezTo>
                <a:cubicBezTo>
                  <a:pt x="586031" y="33848"/>
                  <a:pt x="565934" y="0"/>
                  <a:pt x="555886" y="1675"/>
                </a:cubicBezTo>
                <a:close/>
              </a:path>
            </a:pathLst>
          </a:custGeom>
          <a:solidFill>
            <a:srgbClr val="632523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лилиния 23"/>
          <p:cNvSpPr/>
          <p:nvPr/>
        </p:nvSpPr>
        <p:spPr>
          <a:xfrm>
            <a:off x="6391440" y="1406520"/>
            <a:ext cx="1798560" cy="1008000"/>
          </a:xfrm>
          <a:custGeom>
            <a:avLst/>
            <a:gdLst/>
            <a:ahLst/>
            <a:rect l="l" t="t" r="r" b="b"/>
            <a:pathLst>
              <a:path w="1798770" h="1007417">
                <a:moveTo>
                  <a:pt x="40308" y="673240"/>
                </a:moveTo>
                <a:cubicBezTo>
                  <a:pt x="43657" y="663192"/>
                  <a:pt x="42866" y="650585"/>
                  <a:pt x="50356" y="643095"/>
                </a:cubicBezTo>
                <a:cubicBezTo>
                  <a:pt x="65141" y="628310"/>
                  <a:pt x="139068" y="606825"/>
                  <a:pt x="150840" y="602901"/>
                </a:cubicBezTo>
                <a:lnTo>
                  <a:pt x="180985" y="592853"/>
                </a:lnTo>
                <a:lnTo>
                  <a:pt x="211130" y="582805"/>
                </a:lnTo>
                <a:cubicBezTo>
                  <a:pt x="298216" y="586154"/>
                  <a:pt x="385443" y="586857"/>
                  <a:pt x="472387" y="592853"/>
                </a:cubicBezTo>
                <a:cubicBezTo>
                  <a:pt x="526075" y="596555"/>
                  <a:pt x="479939" y="608615"/>
                  <a:pt x="532677" y="622998"/>
                </a:cubicBezTo>
                <a:cubicBezTo>
                  <a:pt x="558730" y="630103"/>
                  <a:pt x="586268" y="629697"/>
                  <a:pt x="613064" y="633046"/>
                </a:cubicBezTo>
                <a:lnTo>
                  <a:pt x="673354" y="653143"/>
                </a:lnTo>
                <a:lnTo>
                  <a:pt x="703499" y="663191"/>
                </a:lnTo>
                <a:cubicBezTo>
                  <a:pt x="713547" y="669890"/>
                  <a:pt x="721641" y="681954"/>
                  <a:pt x="733644" y="683288"/>
                </a:cubicBezTo>
                <a:cubicBezTo>
                  <a:pt x="760173" y="686236"/>
                  <a:pt x="797589" y="672022"/>
                  <a:pt x="824079" y="663191"/>
                </a:cubicBezTo>
                <a:cubicBezTo>
                  <a:pt x="820730" y="646444"/>
                  <a:pt x="823083" y="627433"/>
                  <a:pt x="814031" y="612950"/>
                </a:cubicBezTo>
                <a:cubicBezTo>
                  <a:pt x="787846" y="571054"/>
                  <a:pt x="733033" y="577704"/>
                  <a:pt x="693451" y="572756"/>
                </a:cubicBezTo>
                <a:cubicBezTo>
                  <a:pt x="683403" y="569407"/>
                  <a:pt x="672119" y="568583"/>
                  <a:pt x="663306" y="562708"/>
                </a:cubicBezTo>
                <a:cubicBezTo>
                  <a:pt x="651482" y="554825"/>
                  <a:pt x="646516" y="537419"/>
                  <a:pt x="633161" y="532563"/>
                </a:cubicBezTo>
                <a:cubicBezTo>
                  <a:pt x="607783" y="523335"/>
                  <a:pt x="579570" y="525864"/>
                  <a:pt x="552774" y="522515"/>
                </a:cubicBezTo>
                <a:cubicBezTo>
                  <a:pt x="546075" y="512466"/>
                  <a:pt x="529748" y="504085"/>
                  <a:pt x="532677" y="492369"/>
                </a:cubicBezTo>
                <a:cubicBezTo>
                  <a:pt x="535246" y="482093"/>
                  <a:pt x="552230" y="482321"/>
                  <a:pt x="562822" y="482321"/>
                </a:cubicBezTo>
                <a:cubicBezTo>
                  <a:pt x="583196" y="482321"/>
                  <a:pt x="603015" y="489020"/>
                  <a:pt x="623112" y="492369"/>
                </a:cubicBezTo>
                <a:cubicBezTo>
                  <a:pt x="696800" y="489020"/>
                  <a:pt x="770832" y="490179"/>
                  <a:pt x="844176" y="482321"/>
                </a:cubicBezTo>
                <a:cubicBezTo>
                  <a:pt x="865239" y="480064"/>
                  <a:pt x="886840" y="473974"/>
                  <a:pt x="904466" y="462224"/>
                </a:cubicBezTo>
                <a:cubicBezTo>
                  <a:pt x="914514" y="455525"/>
                  <a:pt x="934611" y="454204"/>
                  <a:pt x="934611" y="442128"/>
                </a:cubicBezTo>
                <a:cubicBezTo>
                  <a:pt x="934611" y="431536"/>
                  <a:pt x="914514" y="448827"/>
                  <a:pt x="904466" y="452176"/>
                </a:cubicBezTo>
                <a:cubicBezTo>
                  <a:pt x="977623" y="403404"/>
                  <a:pt x="917911" y="435983"/>
                  <a:pt x="1085337" y="422031"/>
                </a:cubicBezTo>
                <a:cubicBezTo>
                  <a:pt x="1115563" y="419512"/>
                  <a:pt x="1145627" y="415332"/>
                  <a:pt x="1175772" y="411983"/>
                </a:cubicBezTo>
                <a:cubicBezTo>
                  <a:pt x="1185820" y="408633"/>
                  <a:pt x="1195733" y="404844"/>
                  <a:pt x="1205917" y="401934"/>
                </a:cubicBezTo>
                <a:cubicBezTo>
                  <a:pt x="1219196" y="398140"/>
                  <a:pt x="1233758" y="398062"/>
                  <a:pt x="1246110" y="391886"/>
                </a:cubicBezTo>
                <a:cubicBezTo>
                  <a:pt x="1267713" y="381084"/>
                  <a:pt x="1286303" y="365091"/>
                  <a:pt x="1306400" y="351693"/>
                </a:cubicBezTo>
                <a:lnTo>
                  <a:pt x="1336545" y="331596"/>
                </a:lnTo>
                <a:lnTo>
                  <a:pt x="1366690" y="311499"/>
                </a:lnTo>
                <a:cubicBezTo>
                  <a:pt x="1353292" y="304800"/>
                  <a:pt x="1341385" y="293056"/>
                  <a:pt x="1326497" y="291402"/>
                </a:cubicBezTo>
                <a:cubicBezTo>
                  <a:pt x="1309522" y="289516"/>
                  <a:pt x="1259176" y="301451"/>
                  <a:pt x="1276255" y="301451"/>
                </a:cubicBezTo>
                <a:cubicBezTo>
                  <a:pt x="1323267" y="301451"/>
                  <a:pt x="1370040" y="294752"/>
                  <a:pt x="1416932" y="291402"/>
                </a:cubicBezTo>
                <a:cubicBezTo>
                  <a:pt x="1437029" y="284703"/>
                  <a:pt x="1458275" y="280780"/>
                  <a:pt x="1477222" y="271306"/>
                </a:cubicBezTo>
                <a:cubicBezTo>
                  <a:pt x="1538044" y="240895"/>
                  <a:pt x="1544923" y="241609"/>
                  <a:pt x="1587754" y="211016"/>
                </a:cubicBezTo>
                <a:cubicBezTo>
                  <a:pt x="1601382" y="201282"/>
                  <a:pt x="1616106" y="192713"/>
                  <a:pt x="1627948" y="180871"/>
                </a:cubicBezTo>
                <a:cubicBezTo>
                  <a:pt x="1636487" y="172332"/>
                  <a:pt x="1607851" y="194268"/>
                  <a:pt x="1597803" y="200967"/>
                </a:cubicBezTo>
                <a:cubicBezTo>
                  <a:pt x="1557609" y="197618"/>
                  <a:pt x="1516595" y="199668"/>
                  <a:pt x="1477222" y="190919"/>
                </a:cubicBezTo>
                <a:cubicBezTo>
                  <a:pt x="1466882" y="188621"/>
                  <a:pt x="1497027" y="183169"/>
                  <a:pt x="1507367" y="180871"/>
                </a:cubicBezTo>
                <a:cubicBezTo>
                  <a:pt x="1527256" y="176451"/>
                  <a:pt x="1547633" y="174577"/>
                  <a:pt x="1567658" y="170822"/>
                </a:cubicBezTo>
                <a:cubicBezTo>
                  <a:pt x="1601231" y="164527"/>
                  <a:pt x="1668141" y="150726"/>
                  <a:pt x="1668141" y="150726"/>
                </a:cubicBezTo>
                <a:cubicBezTo>
                  <a:pt x="1678189" y="140677"/>
                  <a:pt x="1689562" y="131797"/>
                  <a:pt x="1698286" y="120580"/>
                </a:cubicBezTo>
                <a:cubicBezTo>
                  <a:pt x="1713114" y="101515"/>
                  <a:pt x="1721400" y="77369"/>
                  <a:pt x="1738479" y="60290"/>
                </a:cubicBezTo>
                <a:cubicBezTo>
                  <a:pt x="1748528" y="50242"/>
                  <a:pt x="1754414" y="30145"/>
                  <a:pt x="1768625" y="30145"/>
                </a:cubicBezTo>
                <a:cubicBezTo>
                  <a:pt x="1780702" y="30145"/>
                  <a:pt x="1758576" y="53591"/>
                  <a:pt x="1748528" y="60290"/>
                </a:cubicBezTo>
                <a:cubicBezTo>
                  <a:pt x="1737037" y="67951"/>
                  <a:pt x="1721732" y="66989"/>
                  <a:pt x="1708334" y="70339"/>
                </a:cubicBezTo>
                <a:cubicBezTo>
                  <a:pt x="1654743" y="66989"/>
                  <a:pt x="1599191" y="75042"/>
                  <a:pt x="1547561" y="60290"/>
                </a:cubicBezTo>
                <a:cubicBezTo>
                  <a:pt x="1535949" y="56972"/>
                  <a:pt x="1556308" y="34272"/>
                  <a:pt x="1567658" y="30145"/>
                </a:cubicBezTo>
                <a:cubicBezTo>
                  <a:pt x="1596162" y="19780"/>
                  <a:pt x="1627997" y="23859"/>
                  <a:pt x="1658093" y="20097"/>
                </a:cubicBezTo>
                <a:cubicBezTo>
                  <a:pt x="1709826" y="13631"/>
                  <a:pt x="1738425" y="8383"/>
                  <a:pt x="1788721" y="0"/>
                </a:cubicBezTo>
                <a:cubicBezTo>
                  <a:pt x="1792071" y="10048"/>
                  <a:pt x="1798770" y="19553"/>
                  <a:pt x="1798770" y="30145"/>
                </a:cubicBezTo>
                <a:cubicBezTo>
                  <a:pt x="1798770" y="48270"/>
                  <a:pt x="1778784" y="78244"/>
                  <a:pt x="1768625" y="90435"/>
                </a:cubicBezTo>
                <a:cubicBezTo>
                  <a:pt x="1759527" y="101352"/>
                  <a:pt x="1747576" y="109663"/>
                  <a:pt x="1738479" y="120580"/>
                </a:cubicBezTo>
                <a:cubicBezTo>
                  <a:pt x="1730748" y="129858"/>
                  <a:pt x="1707581" y="145325"/>
                  <a:pt x="1718383" y="150726"/>
                </a:cubicBezTo>
                <a:cubicBezTo>
                  <a:pt x="1736606" y="159837"/>
                  <a:pt x="1758576" y="144027"/>
                  <a:pt x="1778673" y="140677"/>
                </a:cubicBezTo>
                <a:cubicBezTo>
                  <a:pt x="1771974" y="150725"/>
                  <a:pt x="1767854" y="163091"/>
                  <a:pt x="1758576" y="170822"/>
                </a:cubicBezTo>
                <a:cubicBezTo>
                  <a:pt x="1723926" y="199697"/>
                  <a:pt x="1679711" y="195008"/>
                  <a:pt x="1637996" y="200967"/>
                </a:cubicBezTo>
                <a:cubicBezTo>
                  <a:pt x="1617827" y="203848"/>
                  <a:pt x="1597803" y="207666"/>
                  <a:pt x="1577706" y="211016"/>
                </a:cubicBezTo>
                <a:cubicBezTo>
                  <a:pt x="1567658" y="207666"/>
                  <a:pt x="1547561" y="211559"/>
                  <a:pt x="1547561" y="200967"/>
                </a:cubicBezTo>
                <a:cubicBezTo>
                  <a:pt x="1547561" y="190375"/>
                  <a:pt x="1570216" y="183429"/>
                  <a:pt x="1577706" y="190919"/>
                </a:cubicBezTo>
                <a:cubicBezTo>
                  <a:pt x="1596714" y="209927"/>
                  <a:pt x="1538986" y="240950"/>
                  <a:pt x="1537512" y="241161"/>
                </a:cubicBezTo>
                <a:cubicBezTo>
                  <a:pt x="1477736" y="249700"/>
                  <a:pt x="1416932" y="247860"/>
                  <a:pt x="1356642" y="251209"/>
                </a:cubicBezTo>
                <a:cubicBezTo>
                  <a:pt x="1343244" y="254558"/>
                  <a:pt x="1320816" y="248156"/>
                  <a:pt x="1316449" y="261257"/>
                </a:cubicBezTo>
                <a:cubicBezTo>
                  <a:pt x="1312630" y="272714"/>
                  <a:pt x="1350413" y="269897"/>
                  <a:pt x="1346594" y="281354"/>
                </a:cubicBezTo>
                <a:cubicBezTo>
                  <a:pt x="1342227" y="294456"/>
                  <a:pt x="1319798" y="288053"/>
                  <a:pt x="1306400" y="291402"/>
                </a:cubicBezTo>
                <a:cubicBezTo>
                  <a:pt x="1234501" y="339335"/>
                  <a:pt x="1322578" y="285498"/>
                  <a:pt x="1236062" y="321547"/>
                </a:cubicBezTo>
                <a:cubicBezTo>
                  <a:pt x="1208408" y="333070"/>
                  <a:pt x="1155675" y="361741"/>
                  <a:pt x="1155675" y="361741"/>
                </a:cubicBezTo>
                <a:cubicBezTo>
                  <a:pt x="1143167" y="380503"/>
                  <a:pt x="1125913" y="410653"/>
                  <a:pt x="1105433" y="422031"/>
                </a:cubicBezTo>
                <a:cubicBezTo>
                  <a:pt x="1086915" y="432319"/>
                  <a:pt x="1045143" y="442128"/>
                  <a:pt x="1045143" y="442128"/>
                </a:cubicBezTo>
                <a:cubicBezTo>
                  <a:pt x="1025046" y="438778"/>
                  <a:pt x="1001805" y="443381"/>
                  <a:pt x="984853" y="432079"/>
                </a:cubicBezTo>
                <a:cubicBezTo>
                  <a:pt x="976040" y="426204"/>
                  <a:pt x="1004722" y="424600"/>
                  <a:pt x="1014998" y="422031"/>
                </a:cubicBezTo>
                <a:cubicBezTo>
                  <a:pt x="1031567" y="417889"/>
                  <a:pt x="1048493" y="415332"/>
                  <a:pt x="1065240" y="411983"/>
                </a:cubicBezTo>
                <a:cubicBezTo>
                  <a:pt x="1061891" y="422031"/>
                  <a:pt x="1061809" y="433857"/>
                  <a:pt x="1055192" y="442128"/>
                </a:cubicBezTo>
                <a:cubicBezTo>
                  <a:pt x="1032513" y="470476"/>
                  <a:pt x="995762" y="465383"/>
                  <a:pt x="964756" y="472273"/>
                </a:cubicBezTo>
                <a:cubicBezTo>
                  <a:pt x="954416" y="474571"/>
                  <a:pt x="945096" y="480823"/>
                  <a:pt x="934611" y="482321"/>
                </a:cubicBezTo>
                <a:cubicBezTo>
                  <a:pt x="897987" y="487553"/>
                  <a:pt x="860923" y="489020"/>
                  <a:pt x="824079" y="492369"/>
                </a:cubicBezTo>
                <a:cubicBezTo>
                  <a:pt x="744461" y="518909"/>
                  <a:pt x="784685" y="508983"/>
                  <a:pt x="703499" y="522515"/>
                </a:cubicBezTo>
                <a:cubicBezTo>
                  <a:pt x="713547" y="525864"/>
                  <a:pt x="723125" y="531325"/>
                  <a:pt x="733644" y="532563"/>
                </a:cubicBezTo>
                <a:cubicBezTo>
                  <a:pt x="780334" y="538056"/>
                  <a:pt x="830443" y="525735"/>
                  <a:pt x="874321" y="542611"/>
                </a:cubicBezTo>
                <a:cubicBezTo>
                  <a:pt x="887211" y="547569"/>
                  <a:pt x="870449" y="570453"/>
                  <a:pt x="864273" y="582805"/>
                </a:cubicBezTo>
                <a:cubicBezTo>
                  <a:pt x="851903" y="607544"/>
                  <a:pt x="812837" y="658084"/>
                  <a:pt x="793934" y="683288"/>
                </a:cubicBezTo>
                <a:cubicBezTo>
                  <a:pt x="768111" y="674681"/>
                  <a:pt x="751347" y="668237"/>
                  <a:pt x="723596" y="663191"/>
                </a:cubicBezTo>
                <a:cubicBezTo>
                  <a:pt x="591559" y="639184"/>
                  <a:pt x="704240" y="665888"/>
                  <a:pt x="613064" y="643095"/>
                </a:cubicBezTo>
                <a:lnTo>
                  <a:pt x="170937" y="653143"/>
                </a:lnTo>
                <a:cubicBezTo>
                  <a:pt x="146904" y="655546"/>
                  <a:pt x="110647" y="693336"/>
                  <a:pt x="110647" y="693336"/>
                </a:cubicBezTo>
                <a:cubicBezTo>
                  <a:pt x="86731" y="765084"/>
                  <a:pt x="102301" y="736001"/>
                  <a:pt x="70453" y="783772"/>
                </a:cubicBezTo>
                <a:cubicBezTo>
                  <a:pt x="67104" y="793820"/>
                  <a:pt x="65142" y="804443"/>
                  <a:pt x="60405" y="813917"/>
                </a:cubicBezTo>
                <a:cubicBezTo>
                  <a:pt x="55004" y="824719"/>
                  <a:pt x="45213" y="833026"/>
                  <a:pt x="40308" y="844062"/>
                </a:cubicBezTo>
                <a:cubicBezTo>
                  <a:pt x="31704" y="863420"/>
                  <a:pt x="20211" y="904352"/>
                  <a:pt x="20211" y="904352"/>
                </a:cubicBezTo>
                <a:cubicBezTo>
                  <a:pt x="26855" y="930927"/>
                  <a:pt x="44844" y="1007417"/>
                  <a:pt x="20211" y="884255"/>
                </a:cubicBezTo>
                <a:cubicBezTo>
                  <a:pt x="13902" y="852710"/>
                  <a:pt x="9692" y="842649"/>
                  <a:pt x="115" y="813917"/>
                </a:cubicBezTo>
                <a:cubicBezTo>
                  <a:pt x="3464" y="777073"/>
                  <a:pt x="0" y="738957"/>
                  <a:pt x="10163" y="703385"/>
                </a:cubicBezTo>
                <a:cubicBezTo>
                  <a:pt x="14067" y="689721"/>
                  <a:pt x="29391" y="682337"/>
                  <a:pt x="40308" y="673240"/>
                </a:cubicBezTo>
                <a:cubicBezTo>
                  <a:pt x="66281" y="651596"/>
                  <a:pt x="70385" y="653166"/>
                  <a:pt x="100598" y="643095"/>
                </a:cubicBezTo>
                <a:lnTo>
                  <a:pt x="110647" y="612950"/>
                </a:ln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лилиния 24"/>
          <p:cNvSpPr/>
          <p:nvPr/>
        </p:nvSpPr>
        <p:spPr>
          <a:xfrm>
            <a:off x="5681520" y="1405080"/>
            <a:ext cx="287640" cy="409320"/>
          </a:xfrm>
          <a:custGeom>
            <a:avLst/>
            <a:gdLst/>
            <a:ahLst/>
            <a:rect l="l" t="t" r="r" b="b"/>
            <a:pathLst>
              <a:path w="287099" h="410181">
                <a:moveTo>
                  <a:pt x="5401" y="343947"/>
                </a:moveTo>
                <a:cubicBezTo>
                  <a:pt x="25498" y="347297"/>
                  <a:pt x="45496" y="351303"/>
                  <a:pt x="65691" y="353996"/>
                </a:cubicBezTo>
                <a:cubicBezTo>
                  <a:pt x="250201" y="378598"/>
                  <a:pt x="76617" y="350793"/>
                  <a:pt x="216416" y="374092"/>
                </a:cubicBezTo>
                <a:cubicBezTo>
                  <a:pt x="221494" y="377478"/>
                  <a:pt x="264819" y="410181"/>
                  <a:pt x="276707" y="404237"/>
                </a:cubicBezTo>
                <a:cubicBezTo>
                  <a:pt x="286181" y="399500"/>
                  <a:pt x="283406" y="384140"/>
                  <a:pt x="286755" y="374092"/>
                </a:cubicBezTo>
                <a:cubicBezTo>
                  <a:pt x="283406" y="333899"/>
                  <a:pt x="287099" y="292483"/>
                  <a:pt x="276707" y="253512"/>
                </a:cubicBezTo>
                <a:cubicBezTo>
                  <a:pt x="273045" y="239781"/>
                  <a:pt x="258983" y="230268"/>
                  <a:pt x="246561" y="223367"/>
                </a:cubicBezTo>
                <a:cubicBezTo>
                  <a:pt x="228043" y="213079"/>
                  <a:pt x="186271" y="203270"/>
                  <a:pt x="186271" y="203270"/>
                </a:cubicBezTo>
                <a:cubicBezTo>
                  <a:pt x="176223" y="193222"/>
                  <a:pt x="159572" y="186911"/>
                  <a:pt x="156126" y="173125"/>
                </a:cubicBezTo>
                <a:cubicBezTo>
                  <a:pt x="148225" y="141520"/>
                  <a:pt x="171069" y="115542"/>
                  <a:pt x="186271" y="92738"/>
                </a:cubicBezTo>
                <a:cubicBezTo>
                  <a:pt x="182922" y="82690"/>
                  <a:pt x="182098" y="71406"/>
                  <a:pt x="176223" y="62593"/>
                </a:cubicBezTo>
                <a:cubicBezTo>
                  <a:pt x="168746" y="51378"/>
                  <a:pt x="131381" y="16986"/>
                  <a:pt x="115933" y="12352"/>
                </a:cubicBezTo>
                <a:cubicBezTo>
                  <a:pt x="93247" y="5546"/>
                  <a:pt x="69040" y="5653"/>
                  <a:pt x="45594" y="2303"/>
                </a:cubicBezTo>
                <a:cubicBezTo>
                  <a:pt x="32196" y="5653"/>
                  <a:pt x="11577" y="0"/>
                  <a:pt x="5401" y="12352"/>
                </a:cubicBezTo>
                <a:cubicBezTo>
                  <a:pt x="0" y="23154"/>
                  <a:pt x="20097" y="31695"/>
                  <a:pt x="25498" y="42497"/>
                </a:cubicBezTo>
                <a:cubicBezTo>
                  <a:pt x="30235" y="51971"/>
                  <a:pt x="30809" y="63168"/>
                  <a:pt x="35546" y="72642"/>
                </a:cubicBezTo>
                <a:cubicBezTo>
                  <a:pt x="49535" y="100620"/>
                  <a:pt x="63566" y="110710"/>
                  <a:pt x="85788" y="132932"/>
                </a:cubicBezTo>
                <a:cubicBezTo>
                  <a:pt x="82438" y="159728"/>
                  <a:pt x="80570" y="186750"/>
                  <a:pt x="75739" y="213319"/>
                </a:cubicBezTo>
                <a:cubicBezTo>
                  <a:pt x="68988" y="250447"/>
                  <a:pt x="49589" y="247943"/>
                  <a:pt x="75739" y="293705"/>
                </a:cubicBezTo>
                <a:cubicBezTo>
                  <a:pt x="81731" y="304191"/>
                  <a:pt x="95836" y="307103"/>
                  <a:pt x="105885" y="313802"/>
                </a:cubicBezTo>
                <a:cubicBezTo>
                  <a:pt x="118051" y="350302"/>
                  <a:pt x="115933" y="333355"/>
                  <a:pt x="115933" y="364044"/>
                </a:cubicBez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5"/>
          <p:cNvSpPr/>
          <p:nvPr/>
        </p:nvSpPr>
        <p:spPr>
          <a:xfrm>
            <a:off x="6715080" y="5715000"/>
            <a:ext cx="198612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«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2:09Z</dcterms:created>
  <dc:creator>Admin</dc:creator>
  <dc:description/>
  <dc:language>en-US</dc:language>
  <cp:lastModifiedBy>Admin</cp:lastModifiedBy>
  <dcterms:modified xsi:type="dcterms:W3CDTF">2012-01-23T15:22:35Z</dcterms:modified>
  <cp:revision>1</cp:revision>
  <dc:subject/>
  <dc:title>Слайд 1</dc:title>
</cp:coreProperties>
</file>