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DB5-3179-45AE-BC0F-EAC88004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708-D417-4AAB-B87C-AD57B8B5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C93-B752-4440-ACE3-CC6C7504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B0F-D088-4F8B-9794-8A35DCDB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A29-9C4D-4D4F-80BC-EF836172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A31-82D8-44F6-A7B9-6BC508B2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F95-2148-4AA4-8205-A8DD482D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9EC-6411-444B-80DB-1FF07269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D41-97C9-4800-9B3A-46D7861E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732-69E6-4B8F-BE8C-0FF354A6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CA3-BB6A-40C4-A5AB-A1AE3E05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B86-F4C0-40A8-A31F-8D388A24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19C8-541B-4928-AF93-4BDA46BF0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1"/>
          <p:cNvGrpSpPr/>
          <p:nvPr/>
        </p:nvGrpSpPr>
        <p:grpSpPr>
          <a:xfrm>
            <a:off x="-128520" y="-128520"/>
            <a:ext cx="9401040" cy="7115040"/>
            <a:chOff x="-128520" y="-128520"/>
            <a:chExt cx="9401040" cy="7115040"/>
          </a:xfrm>
        </p:grpSpPr>
        <p:pic>
          <p:nvPicPr>
            <p:cNvPr id="4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128520" y="-128520"/>
              <a:ext cx="9401040" cy="71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Полилиния 3"/>
          <p:cNvSpPr/>
          <p:nvPr/>
        </p:nvSpPr>
        <p:spPr>
          <a:xfrm>
            <a:off x="2387520" y="2441520"/>
            <a:ext cx="6907320" cy="4299120"/>
          </a:xfrm>
          <a:custGeom>
            <a:avLst/>
            <a:gdLst/>
            <a:ahLst/>
            <a:rect l="l" t="t" r="r" b="b"/>
            <a:pathLst>
              <a:path w="6907151" h="4299381">
                <a:moveTo>
                  <a:pt x="154659" y="1939332"/>
                </a:moveTo>
                <a:cubicBezTo>
                  <a:pt x="171406" y="1942681"/>
                  <a:pt x="187822" y="1949381"/>
                  <a:pt x="204901" y="1949381"/>
                </a:cubicBezTo>
                <a:cubicBezTo>
                  <a:pt x="255704" y="1949381"/>
                  <a:pt x="248908" y="1940024"/>
                  <a:pt x="285288" y="1919236"/>
                </a:cubicBezTo>
                <a:cubicBezTo>
                  <a:pt x="298294" y="1911804"/>
                  <a:pt x="312637" y="1906846"/>
                  <a:pt x="325481" y="1899139"/>
                </a:cubicBezTo>
                <a:cubicBezTo>
                  <a:pt x="346192" y="1886712"/>
                  <a:pt x="364168" y="1869748"/>
                  <a:pt x="385771" y="1858946"/>
                </a:cubicBezTo>
                <a:cubicBezTo>
                  <a:pt x="399169" y="1852247"/>
                  <a:pt x="412196" y="1844750"/>
                  <a:pt x="425964" y="1838849"/>
                </a:cubicBezTo>
                <a:cubicBezTo>
                  <a:pt x="435700" y="1834676"/>
                  <a:pt x="446636" y="1833537"/>
                  <a:pt x="456110" y="1828800"/>
                </a:cubicBezTo>
                <a:cubicBezTo>
                  <a:pt x="466912" y="1823399"/>
                  <a:pt x="475453" y="1814105"/>
                  <a:pt x="486255" y="1808704"/>
                </a:cubicBezTo>
                <a:cubicBezTo>
                  <a:pt x="495729" y="1803967"/>
                  <a:pt x="506664" y="1802827"/>
                  <a:pt x="516400" y="1798655"/>
                </a:cubicBezTo>
                <a:cubicBezTo>
                  <a:pt x="530168" y="1792754"/>
                  <a:pt x="543588" y="1785991"/>
                  <a:pt x="556593" y="1778559"/>
                </a:cubicBezTo>
                <a:cubicBezTo>
                  <a:pt x="567078" y="1772567"/>
                  <a:pt x="576253" y="1764454"/>
                  <a:pt x="586738" y="1758462"/>
                </a:cubicBezTo>
                <a:cubicBezTo>
                  <a:pt x="621507" y="1738594"/>
                  <a:pt x="623255" y="1739590"/>
                  <a:pt x="657077" y="1728317"/>
                </a:cubicBezTo>
                <a:cubicBezTo>
                  <a:pt x="743469" y="1670721"/>
                  <a:pt x="634163" y="1739774"/>
                  <a:pt x="717367" y="1698172"/>
                </a:cubicBezTo>
                <a:cubicBezTo>
                  <a:pt x="739949" y="1686881"/>
                  <a:pt x="761785" y="1666977"/>
                  <a:pt x="777657" y="1647930"/>
                </a:cubicBezTo>
                <a:cubicBezTo>
                  <a:pt x="785388" y="1638653"/>
                  <a:pt x="791054" y="1627833"/>
                  <a:pt x="797753" y="1617785"/>
                </a:cubicBezTo>
                <a:cubicBezTo>
                  <a:pt x="801103" y="1604387"/>
                  <a:pt x="806428" y="1591334"/>
                  <a:pt x="807802" y="1577592"/>
                </a:cubicBezTo>
                <a:cubicBezTo>
                  <a:pt x="813145" y="1524163"/>
                  <a:pt x="809885" y="1469920"/>
                  <a:pt x="817850" y="1416818"/>
                </a:cubicBezTo>
                <a:cubicBezTo>
                  <a:pt x="823159" y="1381425"/>
                  <a:pt x="847414" y="1370605"/>
                  <a:pt x="868092" y="1346480"/>
                </a:cubicBezTo>
                <a:cubicBezTo>
                  <a:pt x="878991" y="1333764"/>
                  <a:pt x="886395" y="1318128"/>
                  <a:pt x="898237" y="1306286"/>
                </a:cubicBezTo>
                <a:cubicBezTo>
                  <a:pt x="927796" y="1276727"/>
                  <a:pt x="948871" y="1285994"/>
                  <a:pt x="988672" y="1266093"/>
                </a:cubicBezTo>
                <a:cubicBezTo>
                  <a:pt x="1002070" y="1259394"/>
                  <a:pt x="1014840" y="1251256"/>
                  <a:pt x="1028866" y="1245996"/>
                </a:cubicBezTo>
                <a:cubicBezTo>
                  <a:pt x="1041797" y="1241147"/>
                  <a:pt x="1055780" y="1239742"/>
                  <a:pt x="1069059" y="1235948"/>
                </a:cubicBezTo>
                <a:cubicBezTo>
                  <a:pt x="1079243" y="1233038"/>
                  <a:pt x="1089156" y="1229249"/>
                  <a:pt x="1099204" y="1225899"/>
                </a:cubicBezTo>
                <a:cubicBezTo>
                  <a:pt x="1185736" y="1139367"/>
                  <a:pt x="1044383" y="1268382"/>
                  <a:pt x="1209736" y="1185706"/>
                </a:cubicBezTo>
                <a:cubicBezTo>
                  <a:pt x="1270019" y="1155565"/>
                  <a:pt x="1254957" y="1125414"/>
                  <a:pt x="1300171" y="1095271"/>
                </a:cubicBezTo>
                <a:cubicBezTo>
                  <a:pt x="1438773" y="1002868"/>
                  <a:pt x="1301332" y="1104158"/>
                  <a:pt x="1390606" y="1014884"/>
                </a:cubicBezTo>
                <a:cubicBezTo>
                  <a:pt x="1399145" y="1006345"/>
                  <a:pt x="1412212" y="1003326"/>
                  <a:pt x="1420751" y="994787"/>
                </a:cubicBezTo>
                <a:cubicBezTo>
                  <a:pt x="1432593" y="982945"/>
                  <a:pt x="1439054" y="966436"/>
                  <a:pt x="1450896" y="954594"/>
                </a:cubicBezTo>
                <a:cubicBezTo>
                  <a:pt x="1459435" y="946055"/>
                  <a:pt x="1471872" y="942356"/>
                  <a:pt x="1481041" y="934497"/>
                </a:cubicBezTo>
                <a:cubicBezTo>
                  <a:pt x="1495427" y="922166"/>
                  <a:pt x="1506440" y="906140"/>
                  <a:pt x="1521235" y="894304"/>
                </a:cubicBezTo>
                <a:cubicBezTo>
                  <a:pt x="1561658" y="861966"/>
                  <a:pt x="1579972" y="854887"/>
                  <a:pt x="1621718" y="834014"/>
                </a:cubicBezTo>
                <a:cubicBezTo>
                  <a:pt x="1717883" y="737849"/>
                  <a:pt x="1594756" y="851989"/>
                  <a:pt x="1682008" y="793820"/>
                </a:cubicBezTo>
                <a:cubicBezTo>
                  <a:pt x="1693832" y="785937"/>
                  <a:pt x="1700936" y="772399"/>
                  <a:pt x="1712153" y="763675"/>
                </a:cubicBezTo>
                <a:cubicBezTo>
                  <a:pt x="1731219" y="748846"/>
                  <a:pt x="1753121" y="737974"/>
                  <a:pt x="1772444" y="723482"/>
                </a:cubicBezTo>
                <a:cubicBezTo>
                  <a:pt x="1785842" y="713434"/>
                  <a:pt x="1798096" y="701646"/>
                  <a:pt x="1812637" y="693337"/>
                </a:cubicBezTo>
                <a:cubicBezTo>
                  <a:pt x="1821833" y="688082"/>
                  <a:pt x="1833308" y="688025"/>
                  <a:pt x="1842782" y="683288"/>
                </a:cubicBezTo>
                <a:cubicBezTo>
                  <a:pt x="1920698" y="644330"/>
                  <a:pt x="1827301" y="678402"/>
                  <a:pt x="1903072" y="653143"/>
                </a:cubicBezTo>
                <a:lnTo>
                  <a:pt x="1983459" y="572756"/>
                </a:lnTo>
                <a:cubicBezTo>
                  <a:pt x="1993507" y="562708"/>
                  <a:pt x="2007249" y="555321"/>
                  <a:pt x="2013604" y="542611"/>
                </a:cubicBezTo>
                <a:cubicBezTo>
                  <a:pt x="2040056" y="489708"/>
                  <a:pt x="2023109" y="513010"/>
                  <a:pt x="2063846" y="472273"/>
                </a:cubicBezTo>
                <a:cubicBezTo>
                  <a:pt x="2072019" y="447754"/>
                  <a:pt x="2074511" y="431463"/>
                  <a:pt x="2093991" y="411983"/>
                </a:cubicBezTo>
                <a:cubicBezTo>
                  <a:pt x="2109156" y="396818"/>
                  <a:pt x="2129886" y="387731"/>
                  <a:pt x="2144233" y="371789"/>
                </a:cubicBezTo>
                <a:cubicBezTo>
                  <a:pt x="2157232" y="357346"/>
                  <a:pt x="2187985" y="294647"/>
                  <a:pt x="2214571" y="281354"/>
                </a:cubicBezTo>
                <a:cubicBezTo>
                  <a:pt x="2281024" y="248128"/>
                  <a:pt x="2325764" y="251606"/>
                  <a:pt x="2395441" y="231113"/>
                </a:cubicBezTo>
                <a:cubicBezTo>
                  <a:pt x="2422896" y="223038"/>
                  <a:pt x="2448476" y="209383"/>
                  <a:pt x="2475828" y="200967"/>
                </a:cubicBezTo>
                <a:cubicBezTo>
                  <a:pt x="2516617" y="188416"/>
                  <a:pt x="2522171" y="196584"/>
                  <a:pt x="2556215" y="180871"/>
                </a:cubicBezTo>
                <a:cubicBezTo>
                  <a:pt x="2590216" y="165178"/>
                  <a:pt x="2626741" y="153098"/>
                  <a:pt x="2656699" y="130629"/>
                </a:cubicBezTo>
                <a:cubicBezTo>
                  <a:pt x="2670097" y="120581"/>
                  <a:pt x="2683123" y="110017"/>
                  <a:pt x="2696892" y="100484"/>
                </a:cubicBezTo>
                <a:cubicBezTo>
                  <a:pt x="2726680" y="79862"/>
                  <a:pt x="2758343" y="61932"/>
                  <a:pt x="2787327" y="40194"/>
                </a:cubicBezTo>
                <a:cubicBezTo>
                  <a:pt x="2800725" y="30146"/>
                  <a:pt x="2812217" y="16851"/>
                  <a:pt x="2827521" y="10049"/>
                </a:cubicBezTo>
                <a:cubicBezTo>
                  <a:pt x="2843128" y="3113"/>
                  <a:pt x="2861015" y="3350"/>
                  <a:pt x="2877762" y="0"/>
                </a:cubicBezTo>
                <a:cubicBezTo>
                  <a:pt x="2944751" y="6699"/>
                  <a:pt x="3013237" y="4504"/>
                  <a:pt x="3078729" y="20097"/>
                </a:cubicBezTo>
                <a:cubicBezTo>
                  <a:pt x="3089033" y="22550"/>
                  <a:pt x="3086883" y="39821"/>
                  <a:pt x="3088778" y="50242"/>
                </a:cubicBezTo>
                <a:cubicBezTo>
                  <a:pt x="3093609" y="76811"/>
                  <a:pt x="3090771" y="104854"/>
                  <a:pt x="3098826" y="130629"/>
                </a:cubicBezTo>
                <a:cubicBezTo>
                  <a:pt x="3107762" y="159224"/>
                  <a:pt x="3139019" y="211016"/>
                  <a:pt x="3139019" y="211016"/>
                </a:cubicBezTo>
                <a:cubicBezTo>
                  <a:pt x="3142369" y="257908"/>
                  <a:pt x="3132029" y="307878"/>
                  <a:pt x="3149068" y="351693"/>
                </a:cubicBezTo>
                <a:cubicBezTo>
                  <a:pt x="3157822" y="374204"/>
                  <a:pt x="3189261" y="378488"/>
                  <a:pt x="3209358" y="391886"/>
                </a:cubicBezTo>
                <a:cubicBezTo>
                  <a:pt x="3250995" y="419644"/>
                  <a:pt x="3227786" y="409054"/>
                  <a:pt x="3279696" y="422031"/>
                </a:cubicBezTo>
                <a:cubicBezTo>
                  <a:pt x="3289744" y="428730"/>
                  <a:pt x="3300563" y="434397"/>
                  <a:pt x="3309841" y="442128"/>
                </a:cubicBezTo>
                <a:cubicBezTo>
                  <a:pt x="3320758" y="451225"/>
                  <a:pt x="3328162" y="464390"/>
                  <a:pt x="3339986" y="472273"/>
                </a:cubicBezTo>
                <a:cubicBezTo>
                  <a:pt x="3356950" y="483582"/>
                  <a:pt x="3422219" y="490547"/>
                  <a:pt x="3430422" y="492370"/>
                </a:cubicBezTo>
                <a:cubicBezTo>
                  <a:pt x="3440762" y="494668"/>
                  <a:pt x="3450383" y="499508"/>
                  <a:pt x="3460567" y="502418"/>
                </a:cubicBezTo>
                <a:cubicBezTo>
                  <a:pt x="3502536" y="514409"/>
                  <a:pt x="3513678" y="514619"/>
                  <a:pt x="3561050" y="522515"/>
                </a:cubicBezTo>
                <a:cubicBezTo>
                  <a:pt x="3571098" y="529214"/>
                  <a:pt x="3580095" y="537854"/>
                  <a:pt x="3591195" y="542611"/>
                </a:cubicBezTo>
                <a:cubicBezTo>
                  <a:pt x="3603889" y="548051"/>
                  <a:pt x="3624284" y="540818"/>
                  <a:pt x="3631389" y="552660"/>
                </a:cubicBezTo>
                <a:cubicBezTo>
                  <a:pt x="3647277" y="579140"/>
                  <a:pt x="3634656" y="617204"/>
                  <a:pt x="3651485" y="643095"/>
                </a:cubicBezTo>
                <a:cubicBezTo>
                  <a:pt x="3679882" y="686782"/>
                  <a:pt x="3725173" y="716783"/>
                  <a:pt x="3762017" y="753627"/>
                </a:cubicBezTo>
                <a:cubicBezTo>
                  <a:pt x="3796612" y="788222"/>
                  <a:pt x="3820926" y="814959"/>
                  <a:pt x="3862501" y="844062"/>
                </a:cubicBezTo>
                <a:cubicBezTo>
                  <a:pt x="3874772" y="852652"/>
                  <a:pt x="3887751" y="863116"/>
                  <a:pt x="3902694" y="864159"/>
                </a:cubicBezTo>
                <a:cubicBezTo>
                  <a:pt x="4033049" y="873254"/>
                  <a:pt x="4163951" y="870858"/>
                  <a:pt x="4294580" y="874207"/>
                </a:cubicBezTo>
                <a:cubicBezTo>
                  <a:pt x="4357017" y="905426"/>
                  <a:pt x="4311121" y="886111"/>
                  <a:pt x="4374967" y="904352"/>
                </a:cubicBezTo>
                <a:cubicBezTo>
                  <a:pt x="4385151" y="907262"/>
                  <a:pt x="4394928" y="911490"/>
                  <a:pt x="4405112" y="914400"/>
                </a:cubicBezTo>
                <a:cubicBezTo>
                  <a:pt x="4418391" y="918194"/>
                  <a:pt x="4432026" y="920655"/>
                  <a:pt x="4445305" y="924449"/>
                </a:cubicBezTo>
                <a:cubicBezTo>
                  <a:pt x="4455489" y="927359"/>
                  <a:pt x="4465110" y="932199"/>
                  <a:pt x="4475450" y="934497"/>
                </a:cubicBezTo>
                <a:cubicBezTo>
                  <a:pt x="4495339" y="938917"/>
                  <a:pt x="4515643" y="941196"/>
                  <a:pt x="4535740" y="944546"/>
                </a:cubicBezTo>
                <a:cubicBezTo>
                  <a:pt x="4569214" y="961282"/>
                  <a:pt x="4594627" y="972703"/>
                  <a:pt x="4626175" y="994787"/>
                </a:cubicBezTo>
                <a:cubicBezTo>
                  <a:pt x="4643745" y="1007086"/>
                  <a:pt x="4658323" y="1023467"/>
                  <a:pt x="4676417" y="1034981"/>
                </a:cubicBezTo>
                <a:cubicBezTo>
                  <a:pt x="4695373" y="1047044"/>
                  <a:pt x="4717440" y="1053566"/>
                  <a:pt x="4736707" y="1065126"/>
                </a:cubicBezTo>
                <a:cubicBezTo>
                  <a:pt x="4812748" y="1110750"/>
                  <a:pt x="4743701" y="1084205"/>
                  <a:pt x="4807046" y="1105319"/>
                </a:cubicBezTo>
                <a:cubicBezTo>
                  <a:pt x="4876149" y="1151388"/>
                  <a:pt x="4844422" y="1137875"/>
                  <a:pt x="4897481" y="1155561"/>
                </a:cubicBezTo>
                <a:cubicBezTo>
                  <a:pt x="5008013" y="1152212"/>
                  <a:pt x="5118665" y="1139379"/>
                  <a:pt x="5229077" y="1145513"/>
                </a:cubicBezTo>
                <a:cubicBezTo>
                  <a:pt x="5243266" y="1146301"/>
                  <a:pt x="5246512" y="1169303"/>
                  <a:pt x="5259222" y="1175658"/>
                </a:cubicBezTo>
                <a:cubicBezTo>
                  <a:pt x="5274498" y="1183296"/>
                  <a:pt x="5292716" y="1182357"/>
                  <a:pt x="5309463" y="1185706"/>
                </a:cubicBezTo>
                <a:lnTo>
                  <a:pt x="5369753" y="1225899"/>
                </a:lnTo>
                <a:cubicBezTo>
                  <a:pt x="5379802" y="1232598"/>
                  <a:pt x="5388442" y="1242177"/>
                  <a:pt x="5399899" y="1245996"/>
                </a:cubicBezTo>
                <a:cubicBezTo>
                  <a:pt x="5433429" y="1257172"/>
                  <a:pt x="5479271" y="1273308"/>
                  <a:pt x="5510430" y="1276141"/>
                </a:cubicBezTo>
                <a:lnTo>
                  <a:pt x="5620962" y="1286189"/>
                </a:lnTo>
                <a:cubicBezTo>
                  <a:pt x="5631010" y="1289539"/>
                  <a:pt x="5640591" y="1294976"/>
                  <a:pt x="5651107" y="1296238"/>
                </a:cubicBezTo>
                <a:cubicBezTo>
                  <a:pt x="5724572" y="1305054"/>
                  <a:pt x="5799331" y="1303328"/>
                  <a:pt x="5872171" y="1316335"/>
                </a:cubicBezTo>
                <a:cubicBezTo>
                  <a:pt x="5907265" y="1322602"/>
                  <a:pt x="6006645" y="1398645"/>
                  <a:pt x="6022896" y="1406770"/>
                </a:cubicBezTo>
                <a:cubicBezTo>
                  <a:pt x="6194676" y="1492656"/>
                  <a:pt x="5920738" y="1352697"/>
                  <a:pt x="6103283" y="1457011"/>
                </a:cubicBezTo>
                <a:cubicBezTo>
                  <a:pt x="6112479" y="1462266"/>
                  <a:pt x="6124169" y="1461916"/>
                  <a:pt x="6133428" y="1467060"/>
                </a:cubicBezTo>
                <a:cubicBezTo>
                  <a:pt x="6154542" y="1478790"/>
                  <a:pt x="6170804" y="1499615"/>
                  <a:pt x="6193718" y="1507253"/>
                </a:cubicBezTo>
                <a:cubicBezTo>
                  <a:pt x="6213815" y="1513952"/>
                  <a:pt x="6235061" y="1517876"/>
                  <a:pt x="6254008" y="1527350"/>
                </a:cubicBezTo>
                <a:cubicBezTo>
                  <a:pt x="6273806" y="1537249"/>
                  <a:pt x="6301112" y="1553271"/>
                  <a:pt x="6324347" y="1557495"/>
                </a:cubicBezTo>
                <a:cubicBezTo>
                  <a:pt x="6350916" y="1562325"/>
                  <a:pt x="6377938" y="1564194"/>
                  <a:pt x="6404734" y="1567543"/>
                </a:cubicBezTo>
                <a:cubicBezTo>
                  <a:pt x="6414782" y="1570893"/>
                  <a:pt x="6425897" y="1571978"/>
                  <a:pt x="6434879" y="1577592"/>
                </a:cubicBezTo>
                <a:cubicBezTo>
                  <a:pt x="6511122" y="1625244"/>
                  <a:pt x="6476299" y="1631267"/>
                  <a:pt x="6565507" y="1698172"/>
                </a:cubicBezTo>
                <a:cubicBezTo>
                  <a:pt x="6578905" y="1708220"/>
                  <a:pt x="6592623" y="1717855"/>
                  <a:pt x="6605701" y="1728317"/>
                </a:cubicBezTo>
                <a:cubicBezTo>
                  <a:pt x="6626129" y="1744659"/>
                  <a:pt x="6643559" y="1765100"/>
                  <a:pt x="6665991" y="1778559"/>
                </a:cubicBezTo>
                <a:cubicBezTo>
                  <a:pt x="6677833" y="1785664"/>
                  <a:pt x="6692905" y="1784813"/>
                  <a:pt x="6706184" y="1788607"/>
                </a:cubicBezTo>
                <a:cubicBezTo>
                  <a:pt x="6807123" y="1817446"/>
                  <a:pt x="6650831" y="1777279"/>
                  <a:pt x="6776523" y="1808704"/>
                </a:cubicBezTo>
                <a:cubicBezTo>
                  <a:pt x="6779872" y="1838849"/>
                  <a:pt x="6785194" y="1868840"/>
                  <a:pt x="6786571" y="1899139"/>
                </a:cubicBezTo>
                <a:cubicBezTo>
                  <a:pt x="6793866" y="2059637"/>
                  <a:pt x="6795201" y="2319992"/>
                  <a:pt x="6806668" y="2491992"/>
                </a:cubicBezTo>
                <a:cubicBezTo>
                  <a:pt x="6808023" y="2512321"/>
                  <a:pt x="6813618" y="2532145"/>
                  <a:pt x="6816716" y="2552282"/>
                </a:cubicBezTo>
                <a:cubicBezTo>
                  <a:pt x="6820317" y="2575691"/>
                  <a:pt x="6823415" y="2599174"/>
                  <a:pt x="6826764" y="2622620"/>
                </a:cubicBezTo>
                <a:cubicBezTo>
                  <a:pt x="6823415" y="2679561"/>
                  <a:pt x="6816716" y="2736403"/>
                  <a:pt x="6816716" y="2793442"/>
                </a:cubicBezTo>
                <a:cubicBezTo>
                  <a:pt x="6816716" y="2823772"/>
                  <a:pt x="6823746" y="2853697"/>
                  <a:pt x="6826764" y="2883877"/>
                </a:cubicBezTo>
                <a:cubicBezTo>
                  <a:pt x="6830445" y="2920689"/>
                  <a:pt x="6833463" y="2957565"/>
                  <a:pt x="6836813" y="2994409"/>
                </a:cubicBezTo>
                <a:cubicBezTo>
                  <a:pt x="6833463" y="3078145"/>
                  <a:pt x="6824943" y="3161834"/>
                  <a:pt x="6826764" y="3245618"/>
                </a:cubicBezTo>
                <a:cubicBezTo>
                  <a:pt x="6828300" y="3316258"/>
                  <a:pt x="6838762" y="3386442"/>
                  <a:pt x="6846861" y="3456633"/>
                </a:cubicBezTo>
                <a:cubicBezTo>
                  <a:pt x="6850392" y="3487234"/>
                  <a:pt x="6872069" y="3565870"/>
                  <a:pt x="6877006" y="3587262"/>
                </a:cubicBezTo>
                <a:cubicBezTo>
                  <a:pt x="6880846" y="3603904"/>
                  <a:pt x="6883705" y="3620757"/>
                  <a:pt x="6887055" y="3637504"/>
                </a:cubicBezTo>
                <a:cubicBezTo>
                  <a:pt x="6890404" y="3681047"/>
                  <a:pt x="6892001" y="3724760"/>
                  <a:pt x="6897103" y="3768132"/>
                </a:cubicBezTo>
                <a:cubicBezTo>
                  <a:pt x="6898717" y="3781848"/>
                  <a:pt x="6907151" y="3794516"/>
                  <a:pt x="6907151" y="3808326"/>
                </a:cubicBezTo>
                <a:cubicBezTo>
                  <a:pt x="6907151" y="3928849"/>
                  <a:pt x="6905651" y="3883920"/>
                  <a:pt x="6887055" y="3949003"/>
                </a:cubicBezTo>
                <a:cubicBezTo>
                  <a:pt x="6883261" y="3962282"/>
                  <a:pt x="6883858" y="3977206"/>
                  <a:pt x="6877006" y="3989196"/>
                </a:cubicBezTo>
                <a:cubicBezTo>
                  <a:pt x="6869956" y="4001534"/>
                  <a:pt x="6855958" y="4008424"/>
                  <a:pt x="6846861" y="4019341"/>
                </a:cubicBezTo>
                <a:cubicBezTo>
                  <a:pt x="6839130" y="4028619"/>
                  <a:pt x="6833463" y="4039438"/>
                  <a:pt x="6826764" y="4049486"/>
                </a:cubicBezTo>
                <a:cubicBezTo>
                  <a:pt x="6803739" y="4141589"/>
                  <a:pt x="6821989" y="4106892"/>
                  <a:pt x="6786571" y="4160018"/>
                </a:cubicBezTo>
                <a:cubicBezTo>
                  <a:pt x="6778572" y="4184016"/>
                  <a:pt x="6771265" y="4216530"/>
                  <a:pt x="6746378" y="4230356"/>
                </a:cubicBezTo>
                <a:cubicBezTo>
                  <a:pt x="6728568" y="4240250"/>
                  <a:pt x="6706185" y="4237055"/>
                  <a:pt x="6686088" y="4240405"/>
                </a:cubicBezTo>
                <a:cubicBezTo>
                  <a:pt x="6689437" y="4257152"/>
                  <a:pt x="6711412" y="4283009"/>
                  <a:pt x="6696136" y="4290647"/>
                </a:cubicBezTo>
                <a:cubicBezTo>
                  <a:pt x="6678667" y="4299381"/>
                  <a:pt x="6664249" y="4267177"/>
                  <a:pt x="6645894" y="4260502"/>
                </a:cubicBezTo>
                <a:cubicBezTo>
                  <a:pt x="6626747" y="4253539"/>
                  <a:pt x="6605582" y="4254449"/>
                  <a:pt x="6585604" y="4250453"/>
                </a:cubicBezTo>
                <a:cubicBezTo>
                  <a:pt x="6440739" y="4221479"/>
                  <a:pt x="6672092" y="4264539"/>
                  <a:pt x="6495169" y="4220308"/>
                </a:cubicBezTo>
                <a:cubicBezTo>
                  <a:pt x="6458839" y="4211225"/>
                  <a:pt x="6421358" y="4207555"/>
                  <a:pt x="6384637" y="4200211"/>
                </a:cubicBezTo>
                <a:cubicBezTo>
                  <a:pt x="6234587" y="4170201"/>
                  <a:pt x="6354366" y="4186800"/>
                  <a:pt x="6203767" y="4170066"/>
                </a:cubicBezTo>
                <a:cubicBezTo>
                  <a:pt x="6190369" y="4163367"/>
                  <a:pt x="6176579" y="4157402"/>
                  <a:pt x="6163573" y="4149970"/>
                </a:cubicBezTo>
                <a:cubicBezTo>
                  <a:pt x="6153087" y="4143978"/>
                  <a:pt x="6144230" y="4135274"/>
                  <a:pt x="6133428" y="4129873"/>
                </a:cubicBezTo>
                <a:cubicBezTo>
                  <a:pt x="6123954" y="4125136"/>
                  <a:pt x="6113866" y="4120248"/>
                  <a:pt x="6103283" y="4119825"/>
                </a:cubicBezTo>
                <a:cubicBezTo>
                  <a:pt x="5945949" y="4113532"/>
                  <a:pt x="5788435" y="4113126"/>
                  <a:pt x="5631011" y="4109776"/>
                </a:cubicBezTo>
                <a:cubicBezTo>
                  <a:pt x="5541947" y="4080089"/>
                  <a:pt x="5591775" y="4092019"/>
                  <a:pt x="5480285" y="4079631"/>
                </a:cubicBezTo>
                <a:cubicBezTo>
                  <a:pt x="5448628" y="4071717"/>
                  <a:pt x="5367495" y="4051060"/>
                  <a:pt x="5349657" y="4049486"/>
                </a:cubicBezTo>
                <a:cubicBezTo>
                  <a:pt x="5266178" y="4042120"/>
                  <a:pt x="5182184" y="4042787"/>
                  <a:pt x="5098448" y="4039438"/>
                </a:cubicBezTo>
                <a:cubicBezTo>
                  <a:pt x="5085050" y="4032739"/>
                  <a:pt x="5072280" y="4024601"/>
                  <a:pt x="5058255" y="4019341"/>
                </a:cubicBezTo>
                <a:cubicBezTo>
                  <a:pt x="4986619" y="3992478"/>
                  <a:pt x="4789725" y="3999365"/>
                  <a:pt x="4786949" y="3999244"/>
                </a:cubicBezTo>
                <a:cubicBezTo>
                  <a:pt x="4766852" y="3995895"/>
                  <a:pt x="4746581" y="3993465"/>
                  <a:pt x="4726659" y="3989196"/>
                </a:cubicBezTo>
                <a:cubicBezTo>
                  <a:pt x="4699652" y="3983409"/>
                  <a:pt x="4673554" y="3973407"/>
                  <a:pt x="4646272" y="3969099"/>
                </a:cubicBezTo>
                <a:cubicBezTo>
                  <a:pt x="4609729" y="3963329"/>
                  <a:pt x="4572584" y="3962400"/>
                  <a:pt x="4535740" y="3959051"/>
                </a:cubicBezTo>
                <a:cubicBezTo>
                  <a:pt x="4530450" y="3957993"/>
                  <a:pt x="4454768" y="3943686"/>
                  <a:pt x="4445305" y="3938954"/>
                </a:cubicBezTo>
                <a:cubicBezTo>
                  <a:pt x="4423702" y="3928152"/>
                  <a:pt x="4385015" y="3898761"/>
                  <a:pt x="4385015" y="3898761"/>
                </a:cubicBezTo>
                <a:cubicBezTo>
                  <a:pt x="4378316" y="3888713"/>
                  <a:pt x="4374348" y="3876160"/>
                  <a:pt x="4364918" y="3868616"/>
                </a:cubicBezTo>
                <a:cubicBezTo>
                  <a:pt x="4354617" y="3860375"/>
                  <a:pt x="4287037" y="3849020"/>
                  <a:pt x="4284531" y="3848519"/>
                </a:cubicBezTo>
                <a:cubicBezTo>
                  <a:pt x="4271133" y="3841820"/>
                  <a:pt x="4258106" y="3834323"/>
                  <a:pt x="4244338" y="3828422"/>
                </a:cubicBezTo>
                <a:cubicBezTo>
                  <a:pt x="4234603" y="3824250"/>
                  <a:pt x="4223667" y="3823111"/>
                  <a:pt x="4214193" y="3818374"/>
                </a:cubicBezTo>
                <a:cubicBezTo>
                  <a:pt x="4203391" y="3812973"/>
                  <a:pt x="4194533" y="3804269"/>
                  <a:pt x="4184048" y="3798277"/>
                </a:cubicBezTo>
                <a:cubicBezTo>
                  <a:pt x="4171043" y="3790845"/>
                  <a:pt x="4157253" y="3784880"/>
                  <a:pt x="4143855" y="3778181"/>
                </a:cubicBezTo>
                <a:cubicBezTo>
                  <a:pt x="4133807" y="3768133"/>
                  <a:pt x="4125274" y="3756296"/>
                  <a:pt x="4113710" y="3748036"/>
                </a:cubicBezTo>
                <a:cubicBezTo>
                  <a:pt x="4101521" y="3739329"/>
                  <a:pt x="4087204" y="3734023"/>
                  <a:pt x="4073516" y="3727939"/>
                </a:cubicBezTo>
                <a:cubicBezTo>
                  <a:pt x="4011928" y="3700566"/>
                  <a:pt x="4027154" y="3708396"/>
                  <a:pt x="3952936" y="3697794"/>
                </a:cubicBezTo>
                <a:cubicBezTo>
                  <a:pt x="3942888" y="3694445"/>
                  <a:pt x="3932975" y="3690656"/>
                  <a:pt x="3922791" y="3687746"/>
                </a:cubicBezTo>
                <a:cubicBezTo>
                  <a:pt x="3909512" y="3683952"/>
                  <a:pt x="3895528" y="3682546"/>
                  <a:pt x="3882597" y="3677697"/>
                </a:cubicBezTo>
                <a:cubicBezTo>
                  <a:pt x="3866828" y="3671784"/>
                  <a:pt x="3832645" y="3648958"/>
                  <a:pt x="3812259" y="3647552"/>
                </a:cubicBezTo>
                <a:cubicBezTo>
                  <a:pt x="3725315" y="3641556"/>
                  <a:pt x="3638088" y="3640853"/>
                  <a:pt x="3551002" y="3637504"/>
                </a:cubicBezTo>
                <a:cubicBezTo>
                  <a:pt x="3540954" y="3634154"/>
                  <a:pt x="3531441" y="3627870"/>
                  <a:pt x="3520857" y="3627455"/>
                </a:cubicBezTo>
                <a:cubicBezTo>
                  <a:pt x="2997136" y="3606917"/>
                  <a:pt x="3193122" y="3668934"/>
                  <a:pt x="3008391" y="3607359"/>
                </a:cubicBezTo>
                <a:cubicBezTo>
                  <a:pt x="2998343" y="3600660"/>
                  <a:pt x="2988731" y="3593254"/>
                  <a:pt x="2978246" y="3587262"/>
                </a:cubicBezTo>
                <a:cubicBezTo>
                  <a:pt x="2888991" y="3536259"/>
                  <a:pt x="2981361" y="3596036"/>
                  <a:pt x="2907907" y="3547069"/>
                </a:cubicBezTo>
                <a:cubicBezTo>
                  <a:pt x="2901208" y="3533671"/>
                  <a:pt x="2896799" y="3518858"/>
                  <a:pt x="2887811" y="3506875"/>
                </a:cubicBezTo>
                <a:cubicBezTo>
                  <a:pt x="2857702" y="3466730"/>
                  <a:pt x="2786132" y="3419392"/>
                  <a:pt x="2747134" y="3406392"/>
                </a:cubicBezTo>
                <a:cubicBezTo>
                  <a:pt x="2737086" y="3403042"/>
                  <a:pt x="2726725" y="3400515"/>
                  <a:pt x="2716989" y="3396343"/>
                </a:cubicBezTo>
                <a:cubicBezTo>
                  <a:pt x="2610445" y="3350682"/>
                  <a:pt x="2751172" y="3402882"/>
                  <a:pt x="2626553" y="3356150"/>
                </a:cubicBezTo>
                <a:cubicBezTo>
                  <a:pt x="2616636" y="3352431"/>
                  <a:pt x="2606143" y="3350274"/>
                  <a:pt x="2596408" y="3346102"/>
                </a:cubicBezTo>
                <a:cubicBezTo>
                  <a:pt x="2582640" y="3340201"/>
                  <a:pt x="2570938" y="3328766"/>
                  <a:pt x="2556215" y="3326005"/>
                </a:cubicBezTo>
                <a:cubicBezTo>
                  <a:pt x="2516573" y="3318572"/>
                  <a:pt x="2475828" y="3319306"/>
                  <a:pt x="2435635" y="3315956"/>
                </a:cubicBezTo>
                <a:cubicBezTo>
                  <a:pt x="2336594" y="3291197"/>
                  <a:pt x="2466792" y="3321451"/>
                  <a:pt x="2274861" y="3295860"/>
                </a:cubicBezTo>
                <a:cubicBezTo>
                  <a:pt x="2264362" y="3294460"/>
                  <a:pt x="2255102" y="3287888"/>
                  <a:pt x="2244716" y="3285811"/>
                </a:cubicBezTo>
                <a:cubicBezTo>
                  <a:pt x="2221492" y="3281166"/>
                  <a:pt x="2197824" y="3279112"/>
                  <a:pt x="2174378" y="3275763"/>
                </a:cubicBezTo>
                <a:cubicBezTo>
                  <a:pt x="2121251" y="3240344"/>
                  <a:pt x="2155951" y="3258596"/>
                  <a:pt x="2063846" y="3235570"/>
                </a:cubicBezTo>
                <a:cubicBezTo>
                  <a:pt x="2050448" y="3232221"/>
                  <a:pt x="2036754" y="3229888"/>
                  <a:pt x="2023652" y="3225521"/>
                </a:cubicBezTo>
                <a:cubicBezTo>
                  <a:pt x="2013604" y="3222172"/>
                  <a:pt x="2003847" y="3217771"/>
                  <a:pt x="1993507" y="3215473"/>
                </a:cubicBezTo>
                <a:cubicBezTo>
                  <a:pt x="1973618" y="3211053"/>
                  <a:pt x="1953314" y="3208774"/>
                  <a:pt x="1933217" y="3205425"/>
                </a:cubicBezTo>
                <a:cubicBezTo>
                  <a:pt x="1820207" y="3156992"/>
                  <a:pt x="1903856" y="3188423"/>
                  <a:pt x="1822685" y="3165231"/>
                </a:cubicBezTo>
                <a:cubicBezTo>
                  <a:pt x="1812501" y="3162321"/>
                  <a:pt x="1802926" y="3157260"/>
                  <a:pt x="1792540" y="3155183"/>
                </a:cubicBezTo>
                <a:cubicBezTo>
                  <a:pt x="1769316" y="3150538"/>
                  <a:pt x="1745648" y="3148484"/>
                  <a:pt x="1722202" y="3145135"/>
                </a:cubicBezTo>
                <a:cubicBezTo>
                  <a:pt x="1712154" y="3141785"/>
                  <a:pt x="1701975" y="3138805"/>
                  <a:pt x="1692057" y="3135086"/>
                </a:cubicBezTo>
                <a:cubicBezTo>
                  <a:pt x="1675168" y="3128752"/>
                  <a:pt x="1658927" y="3120693"/>
                  <a:pt x="1641815" y="3114989"/>
                </a:cubicBezTo>
                <a:cubicBezTo>
                  <a:pt x="1628714" y="3110622"/>
                  <a:pt x="1614850" y="3108909"/>
                  <a:pt x="1601622" y="3104941"/>
                </a:cubicBezTo>
                <a:cubicBezTo>
                  <a:pt x="1581331" y="3098854"/>
                  <a:pt x="1561883" y="3089982"/>
                  <a:pt x="1541331" y="3084844"/>
                </a:cubicBezTo>
                <a:cubicBezTo>
                  <a:pt x="1527933" y="3081495"/>
                  <a:pt x="1514239" y="3079163"/>
                  <a:pt x="1501138" y="3074796"/>
                </a:cubicBezTo>
                <a:cubicBezTo>
                  <a:pt x="1376139" y="3033130"/>
                  <a:pt x="1467649" y="3051351"/>
                  <a:pt x="1350413" y="3034603"/>
                </a:cubicBezTo>
                <a:cubicBezTo>
                  <a:pt x="1166882" y="2982165"/>
                  <a:pt x="1395239" y="3050612"/>
                  <a:pt x="1209736" y="2984361"/>
                </a:cubicBezTo>
                <a:cubicBezTo>
                  <a:pt x="1186772" y="2976160"/>
                  <a:pt x="1162703" y="2971435"/>
                  <a:pt x="1139397" y="2964264"/>
                </a:cubicBezTo>
                <a:cubicBezTo>
                  <a:pt x="1033390" y="2931646"/>
                  <a:pt x="1120921" y="2954620"/>
                  <a:pt x="1038914" y="2934119"/>
                </a:cubicBezTo>
                <a:cubicBezTo>
                  <a:pt x="1025516" y="2927420"/>
                  <a:pt x="1010228" y="2923611"/>
                  <a:pt x="998721" y="2914022"/>
                </a:cubicBezTo>
                <a:cubicBezTo>
                  <a:pt x="964321" y="2885355"/>
                  <a:pt x="973624" y="2828786"/>
                  <a:pt x="968575" y="2793442"/>
                </a:cubicBezTo>
                <a:cubicBezTo>
                  <a:pt x="966160" y="2776535"/>
                  <a:pt x="962669" y="2759769"/>
                  <a:pt x="958527" y="2743200"/>
                </a:cubicBezTo>
                <a:cubicBezTo>
                  <a:pt x="952264" y="2718147"/>
                  <a:pt x="941165" y="2695231"/>
                  <a:pt x="928382" y="2672862"/>
                </a:cubicBezTo>
                <a:cubicBezTo>
                  <a:pt x="922390" y="2662377"/>
                  <a:pt x="914277" y="2653202"/>
                  <a:pt x="908285" y="2642717"/>
                </a:cubicBezTo>
                <a:cubicBezTo>
                  <a:pt x="900853" y="2629712"/>
                  <a:pt x="895621" y="2615529"/>
                  <a:pt x="888189" y="2602524"/>
                </a:cubicBezTo>
                <a:cubicBezTo>
                  <a:pt x="882197" y="2592038"/>
                  <a:pt x="873493" y="2583180"/>
                  <a:pt x="868092" y="2572378"/>
                </a:cubicBezTo>
                <a:cubicBezTo>
                  <a:pt x="823688" y="2483571"/>
                  <a:pt x="871879" y="2505827"/>
                  <a:pt x="757560" y="2391508"/>
                </a:cubicBezTo>
                <a:lnTo>
                  <a:pt x="677173" y="2311121"/>
                </a:lnTo>
                <a:cubicBezTo>
                  <a:pt x="667125" y="2301073"/>
                  <a:pt x="661228" y="2281522"/>
                  <a:pt x="647028" y="2280976"/>
                </a:cubicBezTo>
                <a:lnTo>
                  <a:pt x="385771" y="2270928"/>
                </a:lnTo>
                <a:cubicBezTo>
                  <a:pt x="372373" y="2267579"/>
                  <a:pt x="358509" y="2265729"/>
                  <a:pt x="345578" y="2260880"/>
                </a:cubicBezTo>
                <a:cubicBezTo>
                  <a:pt x="331552" y="2255620"/>
                  <a:pt x="319732" y="2245087"/>
                  <a:pt x="305384" y="2240783"/>
                </a:cubicBezTo>
                <a:cubicBezTo>
                  <a:pt x="285869" y="2234929"/>
                  <a:pt x="265191" y="2234084"/>
                  <a:pt x="245094" y="2230735"/>
                </a:cubicBezTo>
                <a:cubicBezTo>
                  <a:pt x="231696" y="2210638"/>
                  <a:pt x="221980" y="2187523"/>
                  <a:pt x="204901" y="2170444"/>
                </a:cubicBezTo>
                <a:lnTo>
                  <a:pt x="144611" y="2110154"/>
                </a:lnTo>
                <a:cubicBezTo>
                  <a:pt x="141261" y="2100106"/>
                  <a:pt x="141343" y="2088146"/>
                  <a:pt x="134562" y="2080009"/>
                </a:cubicBezTo>
                <a:cubicBezTo>
                  <a:pt x="102671" y="2041740"/>
                  <a:pt x="80960" y="2047629"/>
                  <a:pt x="34079" y="2039816"/>
                </a:cubicBezTo>
                <a:cubicBezTo>
                  <a:pt x="24031" y="2033117"/>
                  <a:pt x="8419" y="2030932"/>
                  <a:pt x="3934" y="2019719"/>
                </a:cubicBezTo>
                <a:cubicBezTo>
                  <a:pt x="0" y="2009885"/>
                  <a:pt x="7365" y="1997845"/>
                  <a:pt x="13982" y="1989574"/>
                </a:cubicBezTo>
                <a:cubicBezTo>
                  <a:pt x="21526" y="1980144"/>
                  <a:pt x="34849" y="1977208"/>
                  <a:pt x="44127" y="1969477"/>
                </a:cubicBezTo>
                <a:cubicBezTo>
                  <a:pt x="94306" y="1927661"/>
                  <a:pt x="51441" y="1946942"/>
                  <a:pt x="104417" y="1929284"/>
                </a:cubicBezTo>
                <a:cubicBezTo>
                  <a:pt x="148497" y="1899897"/>
                  <a:pt x="137912" y="1935983"/>
                  <a:pt x="154659" y="1939332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191d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олилиния 4"/>
          <p:cNvSpPr/>
          <p:nvPr/>
        </p:nvSpPr>
        <p:spPr>
          <a:xfrm>
            <a:off x="3316320" y="3255840"/>
            <a:ext cx="6068880" cy="3568680"/>
          </a:xfrm>
          <a:custGeom>
            <a:avLst/>
            <a:gdLst/>
            <a:ahLst/>
            <a:rect l="l" t="t" r="r" b="b"/>
            <a:pathLst>
              <a:path w="6069204" h="3569099">
                <a:moveTo>
                  <a:pt x="40193" y="1969477"/>
                </a:moveTo>
                <a:cubicBezTo>
                  <a:pt x="53591" y="1966128"/>
                  <a:pt x="96112" y="1956590"/>
                  <a:pt x="110532" y="1949380"/>
                </a:cubicBezTo>
                <a:cubicBezTo>
                  <a:pt x="188440" y="1910425"/>
                  <a:pt x="95059" y="1944489"/>
                  <a:pt x="170822" y="1919235"/>
                </a:cubicBezTo>
                <a:cubicBezTo>
                  <a:pt x="180870" y="1912536"/>
                  <a:pt x="191689" y="1906869"/>
                  <a:pt x="200967" y="1899138"/>
                </a:cubicBezTo>
                <a:cubicBezTo>
                  <a:pt x="211884" y="1890041"/>
                  <a:pt x="219288" y="1876876"/>
                  <a:pt x="231112" y="1868993"/>
                </a:cubicBezTo>
                <a:cubicBezTo>
                  <a:pt x="239925" y="1863118"/>
                  <a:pt x="251209" y="1862294"/>
                  <a:pt x="261257" y="1858945"/>
                </a:cubicBezTo>
                <a:cubicBezTo>
                  <a:pt x="280146" y="1830612"/>
                  <a:pt x="301545" y="1789976"/>
                  <a:pt x="331596" y="1768510"/>
                </a:cubicBezTo>
                <a:cubicBezTo>
                  <a:pt x="343785" y="1759803"/>
                  <a:pt x="358784" y="1755845"/>
                  <a:pt x="371789" y="1748413"/>
                </a:cubicBezTo>
                <a:cubicBezTo>
                  <a:pt x="382274" y="1742421"/>
                  <a:pt x="391132" y="1733717"/>
                  <a:pt x="401934" y="1728316"/>
                </a:cubicBezTo>
                <a:cubicBezTo>
                  <a:pt x="411408" y="1723579"/>
                  <a:pt x="422400" y="1722570"/>
                  <a:pt x="432079" y="1718268"/>
                </a:cubicBezTo>
                <a:cubicBezTo>
                  <a:pt x="502177" y="1687114"/>
                  <a:pt x="478249" y="1696774"/>
                  <a:pt x="532563" y="1657978"/>
                </a:cubicBezTo>
                <a:cubicBezTo>
                  <a:pt x="542390" y="1650959"/>
                  <a:pt x="553682" y="1645904"/>
                  <a:pt x="562708" y="1637881"/>
                </a:cubicBezTo>
                <a:cubicBezTo>
                  <a:pt x="583950" y="1618999"/>
                  <a:pt x="600261" y="1594644"/>
                  <a:pt x="622998" y="1577591"/>
                </a:cubicBezTo>
                <a:cubicBezTo>
                  <a:pt x="636396" y="1567543"/>
                  <a:pt x="650476" y="1558345"/>
                  <a:pt x="663191" y="1547446"/>
                </a:cubicBezTo>
                <a:cubicBezTo>
                  <a:pt x="673980" y="1538198"/>
                  <a:pt x="684239" y="1528218"/>
                  <a:pt x="693336" y="1517301"/>
                </a:cubicBezTo>
                <a:cubicBezTo>
                  <a:pt x="701067" y="1508023"/>
                  <a:pt x="704003" y="1494700"/>
                  <a:pt x="713433" y="1487156"/>
                </a:cubicBezTo>
                <a:cubicBezTo>
                  <a:pt x="721704" y="1480539"/>
                  <a:pt x="733530" y="1480457"/>
                  <a:pt x="743578" y="1477108"/>
                </a:cubicBezTo>
                <a:cubicBezTo>
                  <a:pt x="773723" y="1480457"/>
                  <a:pt x="807386" y="1472632"/>
                  <a:pt x="834013" y="1487156"/>
                </a:cubicBezTo>
                <a:cubicBezTo>
                  <a:pt x="849848" y="1495793"/>
                  <a:pt x="839102" y="1527393"/>
                  <a:pt x="854110" y="1537398"/>
                </a:cubicBezTo>
                <a:cubicBezTo>
                  <a:pt x="873816" y="1550536"/>
                  <a:pt x="901002" y="1544097"/>
                  <a:pt x="924448" y="1547446"/>
                </a:cubicBezTo>
                <a:cubicBezTo>
                  <a:pt x="986886" y="1578665"/>
                  <a:pt x="940990" y="1559350"/>
                  <a:pt x="1004835" y="1577591"/>
                </a:cubicBezTo>
                <a:cubicBezTo>
                  <a:pt x="1015019" y="1580501"/>
                  <a:pt x="1024495" y="1586141"/>
                  <a:pt x="1034980" y="1587639"/>
                </a:cubicBezTo>
                <a:cubicBezTo>
                  <a:pt x="1071604" y="1592871"/>
                  <a:pt x="1108668" y="1594338"/>
                  <a:pt x="1145512" y="1597688"/>
                </a:cubicBezTo>
                <a:cubicBezTo>
                  <a:pt x="1239297" y="1594338"/>
                  <a:pt x="1333458" y="1596678"/>
                  <a:pt x="1426866" y="1587639"/>
                </a:cubicBezTo>
                <a:cubicBezTo>
                  <a:pt x="1438886" y="1586476"/>
                  <a:pt x="1446209" y="1572944"/>
                  <a:pt x="1457011" y="1567543"/>
                </a:cubicBezTo>
                <a:cubicBezTo>
                  <a:pt x="1466485" y="1562806"/>
                  <a:pt x="1477108" y="1560844"/>
                  <a:pt x="1487156" y="1557494"/>
                </a:cubicBezTo>
                <a:cubicBezTo>
                  <a:pt x="1500554" y="1547446"/>
                  <a:pt x="1512808" y="1535658"/>
                  <a:pt x="1527349" y="1527349"/>
                </a:cubicBezTo>
                <a:cubicBezTo>
                  <a:pt x="1536546" y="1522094"/>
                  <a:pt x="1547276" y="1520088"/>
                  <a:pt x="1557495" y="1517301"/>
                </a:cubicBezTo>
                <a:cubicBezTo>
                  <a:pt x="1584142" y="1510034"/>
                  <a:pt x="1611678" y="1505938"/>
                  <a:pt x="1637881" y="1497204"/>
                </a:cubicBezTo>
                <a:cubicBezTo>
                  <a:pt x="1657978" y="1490505"/>
                  <a:pt x="1677399" y="1481263"/>
                  <a:pt x="1698171" y="1477108"/>
                </a:cubicBezTo>
                <a:cubicBezTo>
                  <a:pt x="1761955" y="1464350"/>
                  <a:pt x="1731844" y="1471201"/>
                  <a:pt x="1788607" y="1457011"/>
                </a:cubicBezTo>
                <a:cubicBezTo>
                  <a:pt x="1874999" y="1399415"/>
                  <a:pt x="1765693" y="1468468"/>
                  <a:pt x="1848897" y="1426866"/>
                </a:cubicBezTo>
                <a:cubicBezTo>
                  <a:pt x="1859699" y="1421465"/>
                  <a:pt x="1868240" y="1412170"/>
                  <a:pt x="1879042" y="1406769"/>
                </a:cubicBezTo>
                <a:cubicBezTo>
                  <a:pt x="1895098" y="1398741"/>
                  <a:pt x="1934363" y="1390963"/>
                  <a:pt x="1949380" y="1386672"/>
                </a:cubicBezTo>
                <a:cubicBezTo>
                  <a:pt x="1959564" y="1383762"/>
                  <a:pt x="1969477" y="1379973"/>
                  <a:pt x="1979525" y="1376624"/>
                </a:cubicBezTo>
                <a:cubicBezTo>
                  <a:pt x="2023068" y="1379973"/>
                  <a:pt x="2067230" y="1378624"/>
                  <a:pt x="2110154" y="1386672"/>
                </a:cubicBezTo>
                <a:cubicBezTo>
                  <a:pt x="2220973" y="1407451"/>
                  <a:pt x="2020885" y="1426671"/>
                  <a:pt x="2200589" y="1396721"/>
                </a:cubicBezTo>
                <a:cubicBezTo>
                  <a:pt x="2222641" y="1382019"/>
                  <a:pt x="2245429" y="1365027"/>
                  <a:pt x="2270928" y="1356527"/>
                </a:cubicBezTo>
                <a:cubicBezTo>
                  <a:pt x="2287130" y="1351126"/>
                  <a:pt x="2304323" y="1349287"/>
                  <a:pt x="2321169" y="1346479"/>
                </a:cubicBezTo>
                <a:cubicBezTo>
                  <a:pt x="2456695" y="1323892"/>
                  <a:pt x="2329421" y="1348633"/>
                  <a:pt x="2451798" y="1326382"/>
                </a:cubicBezTo>
                <a:cubicBezTo>
                  <a:pt x="2646493" y="1290982"/>
                  <a:pt x="2402694" y="1336169"/>
                  <a:pt x="2532185" y="1306286"/>
                </a:cubicBezTo>
                <a:cubicBezTo>
                  <a:pt x="2565468" y="1298605"/>
                  <a:pt x="2600263" y="1296991"/>
                  <a:pt x="2632668" y="1286189"/>
                </a:cubicBezTo>
                <a:cubicBezTo>
                  <a:pt x="2652765" y="1279490"/>
                  <a:pt x="2671781" y="1266621"/>
                  <a:pt x="2692958" y="1266092"/>
                </a:cubicBezTo>
                <a:lnTo>
                  <a:pt x="3094892" y="1256044"/>
                </a:lnTo>
                <a:cubicBezTo>
                  <a:pt x="3140557" y="1187548"/>
                  <a:pt x="3088936" y="1273913"/>
                  <a:pt x="3125037" y="1165609"/>
                </a:cubicBezTo>
                <a:cubicBezTo>
                  <a:pt x="3128856" y="1154152"/>
                  <a:pt x="3138115" y="1145291"/>
                  <a:pt x="3145134" y="1135464"/>
                </a:cubicBezTo>
                <a:cubicBezTo>
                  <a:pt x="3177362" y="1090345"/>
                  <a:pt x="3168904" y="1101645"/>
                  <a:pt x="3205424" y="1065125"/>
                </a:cubicBezTo>
                <a:cubicBezTo>
                  <a:pt x="3208774" y="1051727"/>
                  <a:pt x="3210033" y="1037625"/>
                  <a:pt x="3215473" y="1024932"/>
                </a:cubicBezTo>
                <a:cubicBezTo>
                  <a:pt x="3231848" y="986723"/>
                  <a:pt x="3235940" y="999502"/>
                  <a:pt x="3265714" y="974690"/>
                </a:cubicBezTo>
                <a:cubicBezTo>
                  <a:pt x="3276631" y="965593"/>
                  <a:pt x="3284035" y="952428"/>
                  <a:pt x="3295859" y="944545"/>
                </a:cubicBezTo>
                <a:cubicBezTo>
                  <a:pt x="3304672" y="938670"/>
                  <a:pt x="3316269" y="938669"/>
                  <a:pt x="3326004" y="934497"/>
                </a:cubicBezTo>
                <a:cubicBezTo>
                  <a:pt x="3412922" y="897247"/>
                  <a:pt x="3325648" y="927916"/>
                  <a:pt x="3396343" y="904352"/>
                </a:cubicBezTo>
                <a:cubicBezTo>
                  <a:pt x="3409741" y="894304"/>
                  <a:pt x="3422334" y="883083"/>
                  <a:pt x="3436536" y="874207"/>
                </a:cubicBezTo>
                <a:cubicBezTo>
                  <a:pt x="3449239" y="866268"/>
                  <a:pt x="3464541" y="862817"/>
                  <a:pt x="3476730" y="854110"/>
                </a:cubicBezTo>
                <a:cubicBezTo>
                  <a:pt x="3488294" y="845850"/>
                  <a:pt x="3495958" y="833062"/>
                  <a:pt x="3506875" y="823965"/>
                </a:cubicBezTo>
                <a:cubicBezTo>
                  <a:pt x="3522776" y="810714"/>
                  <a:pt x="3559344" y="790472"/>
                  <a:pt x="3577213" y="783771"/>
                </a:cubicBezTo>
                <a:cubicBezTo>
                  <a:pt x="3590144" y="778922"/>
                  <a:pt x="3604009" y="777072"/>
                  <a:pt x="3617407" y="773723"/>
                </a:cubicBezTo>
                <a:cubicBezTo>
                  <a:pt x="3627455" y="767024"/>
                  <a:pt x="3636750" y="759027"/>
                  <a:pt x="3647552" y="753626"/>
                </a:cubicBezTo>
                <a:cubicBezTo>
                  <a:pt x="3657026" y="748889"/>
                  <a:pt x="3668884" y="749453"/>
                  <a:pt x="3677697" y="743578"/>
                </a:cubicBezTo>
                <a:cubicBezTo>
                  <a:pt x="3689521" y="735695"/>
                  <a:pt x="3696925" y="722530"/>
                  <a:pt x="3707842" y="713433"/>
                </a:cubicBezTo>
                <a:cubicBezTo>
                  <a:pt x="3717120" y="705702"/>
                  <a:pt x="3727939" y="700035"/>
                  <a:pt x="3737987" y="693336"/>
                </a:cubicBezTo>
                <a:cubicBezTo>
                  <a:pt x="3751385" y="673239"/>
                  <a:pt x="3758083" y="646444"/>
                  <a:pt x="3778180" y="633046"/>
                </a:cubicBezTo>
                <a:cubicBezTo>
                  <a:pt x="3788228" y="626347"/>
                  <a:pt x="3798664" y="620195"/>
                  <a:pt x="3808325" y="612949"/>
                </a:cubicBezTo>
                <a:cubicBezTo>
                  <a:pt x="3825483" y="600081"/>
                  <a:pt x="3840380" y="584123"/>
                  <a:pt x="3858567" y="572756"/>
                </a:cubicBezTo>
                <a:cubicBezTo>
                  <a:pt x="3867549" y="567142"/>
                  <a:pt x="3878664" y="566057"/>
                  <a:pt x="3888712" y="562708"/>
                </a:cubicBezTo>
                <a:cubicBezTo>
                  <a:pt x="3898760" y="552660"/>
                  <a:pt x="3907940" y="541660"/>
                  <a:pt x="3918857" y="532563"/>
                </a:cubicBezTo>
                <a:cubicBezTo>
                  <a:pt x="3964163" y="494808"/>
                  <a:pt x="3960435" y="525460"/>
                  <a:pt x="4009292" y="452176"/>
                </a:cubicBezTo>
                <a:cubicBezTo>
                  <a:pt x="4022948" y="431692"/>
                  <a:pt x="4043958" y="398971"/>
                  <a:pt x="4059534" y="381837"/>
                </a:cubicBezTo>
                <a:cubicBezTo>
                  <a:pt x="4081838" y="357302"/>
                  <a:pt x="4106427" y="334945"/>
                  <a:pt x="4129873" y="311499"/>
                </a:cubicBezTo>
                <a:cubicBezTo>
                  <a:pt x="4139921" y="301451"/>
                  <a:pt x="4146232" y="284801"/>
                  <a:pt x="4160018" y="281354"/>
                </a:cubicBezTo>
                <a:cubicBezTo>
                  <a:pt x="4173416" y="278004"/>
                  <a:pt x="4186932" y="275099"/>
                  <a:pt x="4200211" y="271305"/>
                </a:cubicBezTo>
                <a:cubicBezTo>
                  <a:pt x="4210395" y="268395"/>
                  <a:pt x="4219812" y="262261"/>
                  <a:pt x="4230356" y="261257"/>
                </a:cubicBezTo>
                <a:cubicBezTo>
                  <a:pt x="4290467" y="255532"/>
                  <a:pt x="4350936" y="254558"/>
                  <a:pt x="4411226" y="251209"/>
                </a:cubicBezTo>
                <a:cubicBezTo>
                  <a:pt x="4494895" y="230291"/>
                  <a:pt x="4406838" y="250399"/>
                  <a:pt x="4541855" y="231112"/>
                </a:cubicBezTo>
                <a:cubicBezTo>
                  <a:pt x="4571630" y="226859"/>
                  <a:pt x="4603028" y="218331"/>
                  <a:pt x="4632290" y="211015"/>
                </a:cubicBezTo>
                <a:cubicBezTo>
                  <a:pt x="4642338" y="200967"/>
                  <a:pt x="4653338" y="191787"/>
                  <a:pt x="4662435" y="180870"/>
                </a:cubicBezTo>
                <a:cubicBezTo>
                  <a:pt x="4670166" y="171592"/>
                  <a:pt x="4674801" y="160003"/>
                  <a:pt x="4682532" y="150725"/>
                </a:cubicBezTo>
                <a:cubicBezTo>
                  <a:pt x="4696897" y="133487"/>
                  <a:pt x="4733861" y="99939"/>
                  <a:pt x="4752870" y="90435"/>
                </a:cubicBezTo>
                <a:cubicBezTo>
                  <a:pt x="4800084" y="66828"/>
                  <a:pt x="4831930" y="68885"/>
                  <a:pt x="4883499" y="60290"/>
                </a:cubicBezTo>
                <a:cubicBezTo>
                  <a:pt x="4900346" y="57482"/>
                  <a:pt x="4916994" y="53591"/>
                  <a:pt x="4933741" y="50242"/>
                </a:cubicBezTo>
                <a:cubicBezTo>
                  <a:pt x="4950488" y="43543"/>
                  <a:pt x="4967093" y="36478"/>
                  <a:pt x="4983982" y="30145"/>
                </a:cubicBezTo>
                <a:cubicBezTo>
                  <a:pt x="4993900" y="26426"/>
                  <a:pt x="5004654" y="24834"/>
                  <a:pt x="5014128" y="20097"/>
                </a:cubicBezTo>
                <a:cubicBezTo>
                  <a:pt x="5024930" y="14696"/>
                  <a:pt x="5034225" y="6699"/>
                  <a:pt x="5044273" y="0"/>
                </a:cubicBezTo>
                <a:lnTo>
                  <a:pt x="5365820" y="20097"/>
                </a:lnTo>
                <a:cubicBezTo>
                  <a:pt x="5382843" y="21477"/>
                  <a:pt x="5399115" y="28027"/>
                  <a:pt x="5416062" y="30145"/>
                </a:cubicBezTo>
                <a:cubicBezTo>
                  <a:pt x="5452772" y="34734"/>
                  <a:pt x="5489749" y="36844"/>
                  <a:pt x="5526593" y="40193"/>
                </a:cubicBezTo>
                <a:lnTo>
                  <a:pt x="5586884" y="100483"/>
                </a:lnTo>
                <a:cubicBezTo>
                  <a:pt x="5596933" y="110532"/>
                  <a:pt x="5604318" y="124274"/>
                  <a:pt x="5617029" y="130629"/>
                </a:cubicBezTo>
                <a:cubicBezTo>
                  <a:pt x="5630427" y="137328"/>
                  <a:pt x="5644378" y="143018"/>
                  <a:pt x="5657222" y="150725"/>
                </a:cubicBezTo>
                <a:cubicBezTo>
                  <a:pt x="5677933" y="163152"/>
                  <a:pt x="5696461" y="179078"/>
                  <a:pt x="5717512" y="190919"/>
                </a:cubicBezTo>
                <a:cubicBezTo>
                  <a:pt x="5750151" y="209278"/>
                  <a:pt x="5782470" y="229318"/>
                  <a:pt x="5817996" y="241160"/>
                </a:cubicBezTo>
                <a:lnTo>
                  <a:pt x="5878286" y="261257"/>
                </a:lnTo>
                <a:cubicBezTo>
                  <a:pt x="5884985" y="271305"/>
                  <a:pt x="5898382" y="279326"/>
                  <a:pt x="5898382" y="291402"/>
                </a:cubicBezTo>
                <a:cubicBezTo>
                  <a:pt x="5898382" y="319022"/>
                  <a:pt x="5878286" y="371789"/>
                  <a:pt x="5878286" y="371789"/>
                </a:cubicBezTo>
                <a:cubicBezTo>
                  <a:pt x="5881635" y="586154"/>
                  <a:pt x="5880946" y="800620"/>
                  <a:pt x="5888334" y="1014883"/>
                </a:cubicBezTo>
                <a:cubicBezTo>
                  <a:pt x="5890999" y="1092165"/>
                  <a:pt x="5899126" y="1169230"/>
                  <a:pt x="5908431" y="1245996"/>
                </a:cubicBezTo>
                <a:cubicBezTo>
                  <a:pt x="5912541" y="1279905"/>
                  <a:pt x="5928528" y="1346479"/>
                  <a:pt x="5928528" y="1346479"/>
                </a:cubicBezTo>
                <a:cubicBezTo>
                  <a:pt x="5931877" y="1400070"/>
                  <a:pt x="5931321" y="1454049"/>
                  <a:pt x="5938576" y="1507253"/>
                </a:cubicBezTo>
                <a:cubicBezTo>
                  <a:pt x="5941438" y="1528243"/>
                  <a:pt x="5951235" y="1547708"/>
                  <a:pt x="5958673" y="1567543"/>
                </a:cubicBezTo>
                <a:cubicBezTo>
                  <a:pt x="5994815" y="1663921"/>
                  <a:pt x="5983206" y="1619868"/>
                  <a:pt x="5998866" y="1698171"/>
                </a:cubicBezTo>
                <a:cubicBezTo>
                  <a:pt x="6005565" y="1775208"/>
                  <a:pt x="6012940" y="1852190"/>
                  <a:pt x="6018963" y="1929283"/>
                </a:cubicBezTo>
                <a:cubicBezTo>
                  <a:pt x="6029688" y="2066559"/>
                  <a:pt x="6036642" y="2204137"/>
                  <a:pt x="6049108" y="2341266"/>
                </a:cubicBezTo>
                <a:cubicBezTo>
                  <a:pt x="6050067" y="2351814"/>
                  <a:pt x="6056246" y="2361227"/>
                  <a:pt x="6059156" y="2371411"/>
                </a:cubicBezTo>
                <a:cubicBezTo>
                  <a:pt x="6062950" y="2384690"/>
                  <a:pt x="6065855" y="2398206"/>
                  <a:pt x="6069204" y="2411604"/>
                </a:cubicBezTo>
                <a:cubicBezTo>
                  <a:pt x="6065855" y="2498690"/>
                  <a:pt x="6064953" y="2585904"/>
                  <a:pt x="6059156" y="2672861"/>
                </a:cubicBezTo>
                <a:cubicBezTo>
                  <a:pt x="6058237" y="2686641"/>
                  <a:pt x="6051578" y="2699467"/>
                  <a:pt x="6049108" y="2713055"/>
                </a:cubicBezTo>
                <a:cubicBezTo>
                  <a:pt x="6013857" y="2906933"/>
                  <a:pt x="6057149" y="2710365"/>
                  <a:pt x="6029011" y="2813538"/>
                </a:cubicBezTo>
                <a:cubicBezTo>
                  <a:pt x="6000536" y="2917948"/>
                  <a:pt x="6023839" y="2864073"/>
                  <a:pt x="5988818" y="2934119"/>
                </a:cubicBezTo>
                <a:cubicBezTo>
                  <a:pt x="5992167" y="2950866"/>
                  <a:pt x="5994724" y="2967791"/>
                  <a:pt x="5998866" y="2984360"/>
                </a:cubicBezTo>
                <a:cubicBezTo>
                  <a:pt x="6001435" y="2994636"/>
                  <a:pt x="6006004" y="3004321"/>
                  <a:pt x="6008914" y="3014505"/>
                </a:cubicBezTo>
                <a:cubicBezTo>
                  <a:pt x="6012708" y="3027784"/>
                  <a:pt x="6015613" y="3041301"/>
                  <a:pt x="6018963" y="3054699"/>
                </a:cubicBezTo>
                <a:cubicBezTo>
                  <a:pt x="5996774" y="3309870"/>
                  <a:pt x="6041760" y="3221471"/>
                  <a:pt x="5958673" y="3346101"/>
                </a:cubicBezTo>
                <a:lnTo>
                  <a:pt x="5938576" y="3376246"/>
                </a:lnTo>
                <a:lnTo>
                  <a:pt x="5898382" y="3436536"/>
                </a:lnTo>
                <a:cubicBezTo>
                  <a:pt x="5891683" y="3446584"/>
                  <a:pt x="5888334" y="3459982"/>
                  <a:pt x="5878286" y="3466681"/>
                </a:cubicBezTo>
                <a:lnTo>
                  <a:pt x="5817996" y="3506875"/>
                </a:lnTo>
                <a:cubicBezTo>
                  <a:pt x="5813030" y="3514324"/>
                  <a:pt x="5779359" y="3569099"/>
                  <a:pt x="5767754" y="3567165"/>
                </a:cubicBezTo>
                <a:cubicBezTo>
                  <a:pt x="5751234" y="3564412"/>
                  <a:pt x="5750571" y="3537576"/>
                  <a:pt x="5737609" y="3526971"/>
                </a:cubicBezTo>
                <a:cubicBezTo>
                  <a:pt x="5713153" y="3506962"/>
                  <a:pt x="5687877" y="3484394"/>
                  <a:pt x="5657222" y="3476730"/>
                </a:cubicBezTo>
                <a:cubicBezTo>
                  <a:pt x="5531505" y="3445298"/>
                  <a:pt x="5687844" y="3485477"/>
                  <a:pt x="5586884" y="3456633"/>
                </a:cubicBezTo>
                <a:cubicBezTo>
                  <a:pt x="5514683" y="3436005"/>
                  <a:pt x="5579323" y="3457255"/>
                  <a:pt x="5496448" y="3436536"/>
                </a:cubicBezTo>
                <a:cubicBezTo>
                  <a:pt x="5473632" y="3430832"/>
                  <a:pt x="5434516" y="3413311"/>
                  <a:pt x="5416062" y="3406391"/>
                </a:cubicBezTo>
                <a:cubicBezTo>
                  <a:pt x="5406145" y="3402672"/>
                  <a:pt x="5395965" y="3399692"/>
                  <a:pt x="5385917" y="3396343"/>
                </a:cubicBezTo>
                <a:lnTo>
                  <a:pt x="4943789" y="3406391"/>
                </a:lnTo>
                <a:cubicBezTo>
                  <a:pt x="4920123" y="3407319"/>
                  <a:pt x="4897135" y="3416439"/>
                  <a:pt x="4873451" y="3416439"/>
                </a:cubicBezTo>
                <a:cubicBezTo>
                  <a:pt x="4736082" y="3416439"/>
                  <a:pt x="4598796" y="3409740"/>
                  <a:pt x="4461468" y="3406391"/>
                </a:cubicBezTo>
                <a:cubicBezTo>
                  <a:pt x="4441371" y="3399692"/>
                  <a:pt x="4420125" y="3395767"/>
                  <a:pt x="4401178" y="3386294"/>
                </a:cubicBezTo>
                <a:cubicBezTo>
                  <a:pt x="4365457" y="3368434"/>
                  <a:pt x="4365334" y="3366004"/>
                  <a:pt x="4330840" y="3356149"/>
                </a:cubicBezTo>
                <a:cubicBezTo>
                  <a:pt x="4303785" y="3348419"/>
                  <a:pt x="4252070" y="3339032"/>
                  <a:pt x="4230356" y="3326004"/>
                </a:cubicBezTo>
                <a:cubicBezTo>
                  <a:pt x="4213609" y="3315956"/>
                  <a:pt x="4197894" y="3303941"/>
                  <a:pt x="4180114" y="3295859"/>
                </a:cubicBezTo>
                <a:cubicBezTo>
                  <a:pt x="4160829" y="3287093"/>
                  <a:pt x="4139921" y="3282462"/>
                  <a:pt x="4119824" y="3275763"/>
                </a:cubicBezTo>
                <a:cubicBezTo>
                  <a:pt x="4109776" y="3272414"/>
                  <a:pt x="4099955" y="3268283"/>
                  <a:pt x="4089679" y="3265714"/>
                </a:cubicBezTo>
                <a:cubicBezTo>
                  <a:pt x="4076281" y="3262365"/>
                  <a:pt x="4063073" y="3258136"/>
                  <a:pt x="4049486" y="3255666"/>
                </a:cubicBezTo>
                <a:cubicBezTo>
                  <a:pt x="3969968" y="3241209"/>
                  <a:pt x="3916319" y="3241429"/>
                  <a:pt x="3828422" y="3235569"/>
                </a:cubicBezTo>
                <a:cubicBezTo>
                  <a:pt x="3811675" y="3232220"/>
                  <a:pt x="3794749" y="3229663"/>
                  <a:pt x="3778180" y="3225521"/>
                </a:cubicBezTo>
                <a:cubicBezTo>
                  <a:pt x="3767904" y="3222952"/>
                  <a:pt x="3758219" y="3218382"/>
                  <a:pt x="3748035" y="3215472"/>
                </a:cubicBezTo>
                <a:cubicBezTo>
                  <a:pt x="3734756" y="3211678"/>
                  <a:pt x="3721240" y="3208773"/>
                  <a:pt x="3707842" y="3205424"/>
                </a:cubicBezTo>
                <a:cubicBezTo>
                  <a:pt x="3697794" y="3198725"/>
                  <a:pt x="3689622" y="3187235"/>
                  <a:pt x="3677697" y="3185327"/>
                </a:cubicBezTo>
                <a:cubicBezTo>
                  <a:pt x="3604634" y="3173637"/>
                  <a:pt x="3530137" y="3173712"/>
                  <a:pt x="3456633" y="3165231"/>
                </a:cubicBezTo>
                <a:cubicBezTo>
                  <a:pt x="3442914" y="3163648"/>
                  <a:pt x="3429838" y="3158532"/>
                  <a:pt x="3416440" y="3155182"/>
                </a:cubicBezTo>
                <a:cubicBezTo>
                  <a:pt x="3406392" y="3148483"/>
                  <a:pt x="3396122" y="3142105"/>
                  <a:pt x="3386295" y="3135086"/>
                </a:cubicBezTo>
                <a:cubicBezTo>
                  <a:pt x="3372667" y="3125352"/>
                  <a:pt x="3360642" y="3113250"/>
                  <a:pt x="3346101" y="3104941"/>
                </a:cubicBezTo>
                <a:cubicBezTo>
                  <a:pt x="3336905" y="3099686"/>
                  <a:pt x="3325430" y="3099629"/>
                  <a:pt x="3315956" y="3094892"/>
                </a:cubicBezTo>
                <a:cubicBezTo>
                  <a:pt x="3257656" y="3065742"/>
                  <a:pt x="3316076" y="3081122"/>
                  <a:pt x="3245618" y="3054699"/>
                </a:cubicBezTo>
                <a:cubicBezTo>
                  <a:pt x="3232687" y="3049850"/>
                  <a:pt x="3218822" y="3048000"/>
                  <a:pt x="3205424" y="3044650"/>
                </a:cubicBezTo>
                <a:cubicBezTo>
                  <a:pt x="3195376" y="3037951"/>
                  <a:pt x="3186587" y="3028794"/>
                  <a:pt x="3175279" y="3024554"/>
                </a:cubicBezTo>
                <a:cubicBezTo>
                  <a:pt x="3134439" y="3009239"/>
                  <a:pt x="2989301" y="3004837"/>
                  <a:pt x="2984360" y="3004457"/>
                </a:cubicBezTo>
                <a:lnTo>
                  <a:pt x="2863780" y="2994409"/>
                </a:lnTo>
                <a:cubicBezTo>
                  <a:pt x="2850382" y="2991059"/>
                  <a:pt x="2837209" y="2986630"/>
                  <a:pt x="2823587" y="2984360"/>
                </a:cubicBezTo>
                <a:cubicBezTo>
                  <a:pt x="2796950" y="2979920"/>
                  <a:pt x="2769605" y="2979970"/>
                  <a:pt x="2743200" y="2974312"/>
                </a:cubicBezTo>
                <a:cubicBezTo>
                  <a:pt x="2722486" y="2969873"/>
                  <a:pt x="2703007" y="2960914"/>
                  <a:pt x="2682910" y="2954215"/>
                </a:cubicBezTo>
                <a:lnTo>
                  <a:pt x="2652765" y="2944167"/>
                </a:lnTo>
                <a:cubicBezTo>
                  <a:pt x="2642717" y="2940818"/>
                  <a:pt x="2632896" y="2936688"/>
                  <a:pt x="2622620" y="2934119"/>
                </a:cubicBezTo>
                <a:lnTo>
                  <a:pt x="2542233" y="2914022"/>
                </a:lnTo>
                <a:cubicBezTo>
                  <a:pt x="2512088" y="2917371"/>
                  <a:pt x="2482128" y="2924070"/>
                  <a:pt x="2451798" y="2924070"/>
                </a:cubicBezTo>
                <a:cubicBezTo>
                  <a:pt x="2331162" y="2924070"/>
                  <a:pt x="2337891" y="2923226"/>
                  <a:pt x="2260879" y="2903974"/>
                </a:cubicBezTo>
                <a:cubicBezTo>
                  <a:pt x="2202946" y="2865351"/>
                  <a:pt x="2258833" y="2898791"/>
                  <a:pt x="2200589" y="2873829"/>
                </a:cubicBezTo>
                <a:cubicBezTo>
                  <a:pt x="2186821" y="2867928"/>
                  <a:pt x="2174421" y="2858992"/>
                  <a:pt x="2160396" y="2853732"/>
                </a:cubicBezTo>
                <a:cubicBezTo>
                  <a:pt x="2136409" y="2844737"/>
                  <a:pt x="2080756" y="2837109"/>
                  <a:pt x="2059912" y="2833635"/>
                </a:cubicBezTo>
                <a:cubicBezTo>
                  <a:pt x="2026418" y="2820237"/>
                  <a:pt x="1989445" y="2813453"/>
                  <a:pt x="1959429" y="2793442"/>
                </a:cubicBezTo>
                <a:cubicBezTo>
                  <a:pt x="1811943" y="2695116"/>
                  <a:pt x="1967090" y="2794948"/>
                  <a:pt x="1858945" y="2733152"/>
                </a:cubicBezTo>
                <a:cubicBezTo>
                  <a:pt x="1848459" y="2727160"/>
                  <a:pt x="1839602" y="2718456"/>
                  <a:pt x="1828800" y="2713055"/>
                </a:cubicBezTo>
                <a:cubicBezTo>
                  <a:pt x="1814389" y="2705849"/>
                  <a:pt x="1771334" y="2696176"/>
                  <a:pt x="1758462" y="2692958"/>
                </a:cubicBezTo>
                <a:cubicBezTo>
                  <a:pt x="1741715" y="2682910"/>
                  <a:pt x="1726449" y="2669824"/>
                  <a:pt x="1708220" y="2662813"/>
                </a:cubicBezTo>
                <a:cubicBezTo>
                  <a:pt x="1602931" y="2622317"/>
                  <a:pt x="1430713" y="2635676"/>
                  <a:pt x="1346479" y="2632668"/>
                </a:cubicBezTo>
                <a:cubicBezTo>
                  <a:pt x="1336431" y="2629319"/>
                  <a:pt x="1326610" y="2625189"/>
                  <a:pt x="1316334" y="2622620"/>
                </a:cubicBezTo>
                <a:cubicBezTo>
                  <a:pt x="1299765" y="2618478"/>
                  <a:pt x="1281949" y="2618914"/>
                  <a:pt x="1266092" y="2612571"/>
                </a:cubicBezTo>
                <a:cubicBezTo>
                  <a:pt x="1247959" y="2605318"/>
                  <a:pt x="1233319" y="2591160"/>
                  <a:pt x="1215851" y="2582426"/>
                </a:cubicBezTo>
                <a:cubicBezTo>
                  <a:pt x="1206377" y="2577689"/>
                  <a:pt x="1195348" y="2576761"/>
                  <a:pt x="1185706" y="2572378"/>
                </a:cubicBezTo>
                <a:cubicBezTo>
                  <a:pt x="1158433" y="2559981"/>
                  <a:pt x="1134383" y="2539451"/>
                  <a:pt x="1105319" y="2532185"/>
                </a:cubicBezTo>
                <a:cubicBezTo>
                  <a:pt x="1048556" y="2517994"/>
                  <a:pt x="1078667" y="2524844"/>
                  <a:pt x="1014884" y="2512088"/>
                </a:cubicBezTo>
                <a:cubicBezTo>
                  <a:pt x="988330" y="2501466"/>
                  <a:pt x="962069" y="2489821"/>
                  <a:pt x="934497" y="2481943"/>
                </a:cubicBezTo>
                <a:cubicBezTo>
                  <a:pt x="921218" y="2478149"/>
                  <a:pt x="907701" y="2475244"/>
                  <a:pt x="894303" y="2471894"/>
                </a:cubicBezTo>
                <a:cubicBezTo>
                  <a:pt x="826523" y="2404114"/>
                  <a:pt x="860976" y="2420591"/>
                  <a:pt x="803868" y="2401556"/>
                </a:cubicBezTo>
                <a:cubicBezTo>
                  <a:pt x="748795" y="2364840"/>
                  <a:pt x="784528" y="2386862"/>
                  <a:pt x="693336" y="2341266"/>
                </a:cubicBezTo>
                <a:cubicBezTo>
                  <a:pt x="679938" y="2334567"/>
                  <a:pt x="667353" y="2325906"/>
                  <a:pt x="653143" y="2321169"/>
                </a:cubicBezTo>
                <a:lnTo>
                  <a:pt x="532563" y="2280976"/>
                </a:lnTo>
                <a:lnTo>
                  <a:pt x="472273" y="2260879"/>
                </a:lnTo>
                <a:cubicBezTo>
                  <a:pt x="462225" y="2257530"/>
                  <a:pt x="452514" y="2252908"/>
                  <a:pt x="442128" y="2250831"/>
                </a:cubicBezTo>
                <a:cubicBezTo>
                  <a:pt x="413455" y="2245096"/>
                  <a:pt x="380064" y="2239245"/>
                  <a:pt x="351692" y="2230734"/>
                </a:cubicBezTo>
                <a:cubicBezTo>
                  <a:pt x="331402" y="2224647"/>
                  <a:pt x="311499" y="2217336"/>
                  <a:pt x="291402" y="2210637"/>
                </a:cubicBezTo>
                <a:lnTo>
                  <a:pt x="261257" y="2200589"/>
                </a:lnTo>
                <a:cubicBezTo>
                  <a:pt x="251209" y="2193890"/>
                  <a:pt x="242148" y="2185397"/>
                  <a:pt x="231112" y="2180492"/>
                </a:cubicBezTo>
                <a:cubicBezTo>
                  <a:pt x="178847" y="2157263"/>
                  <a:pt x="157700" y="2158521"/>
                  <a:pt x="100484" y="2150347"/>
                </a:cubicBezTo>
                <a:cubicBezTo>
                  <a:pt x="90436" y="2146998"/>
                  <a:pt x="80615" y="2142868"/>
                  <a:pt x="70339" y="2140299"/>
                </a:cubicBezTo>
                <a:cubicBezTo>
                  <a:pt x="53770" y="2136157"/>
                  <a:pt x="34926" y="2138724"/>
                  <a:pt x="20097" y="2130250"/>
                </a:cubicBezTo>
                <a:cubicBezTo>
                  <a:pt x="9612" y="2124258"/>
                  <a:pt x="6699" y="2110153"/>
                  <a:pt x="0" y="2100105"/>
                </a:cubicBezTo>
                <a:cubicBezTo>
                  <a:pt x="13398" y="2080008"/>
                  <a:pt x="43609" y="2063725"/>
                  <a:pt x="40193" y="2039815"/>
                </a:cubicBezTo>
                <a:cubicBezTo>
                  <a:pt x="36844" y="2016369"/>
                  <a:pt x="36951" y="1992162"/>
                  <a:pt x="30145" y="1969477"/>
                </a:cubicBezTo>
                <a:cubicBezTo>
                  <a:pt x="26675" y="1957910"/>
                  <a:pt x="26795" y="1972827"/>
                  <a:pt x="40193" y="1969477"/>
                </a:cubicBezTo>
                <a:close/>
              </a:path>
            </a:pathLst>
          </a:custGeom>
          <a:solidFill>
            <a:srgbClr val="131220"/>
          </a:solidFill>
          <a:ln w="25560">
            <a:solidFill>
              <a:srgbClr val="1312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Овал 6"/>
          <p:cNvGrpSpPr/>
          <p:nvPr/>
        </p:nvGrpSpPr>
        <p:grpSpPr>
          <a:xfrm>
            <a:off x="749160" y="2036880"/>
            <a:ext cx="1146240" cy="1139760"/>
            <a:chOff x="749160" y="2036880"/>
            <a:chExt cx="1146240" cy="1139760"/>
          </a:xfrm>
        </p:grpSpPr>
        <p:pic>
          <p:nvPicPr>
            <p:cNvPr id="47" name="Овал 6" descr=""/>
            <p:cNvPicPr/>
            <p:nvPr/>
          </p:nvPicPr>
          <p:blipFill>
            <a:blip r:embed="rId2"/>
            <a:stretch/>
          </p:blipFill>
          <p:spPr>
            <a:xfrm>
              <a:off x="749160" y="2036880"/>
              <a:ext cx="11462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93680" y="237960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Полилиния 8" descr=""/>
          <p:cNvPicPr/>
          <p:nvPr/>
        </p:nvPicPr>
        <p:blipFill>
          <a:blip r:embed="rId3"/>
          <a:stretch/>
        </p:blipFill>
        <p:spPr>
          <a:xfrm>
            <a:off x="-109440" y="103320"/>
            <a:ext cx="91612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Полилиния 9" descr=""/>
          <p:cNvPicPr/>
          <p:nvPr/>
        </p:nvPicPr>
        <p:blipFill>
          <a:blip r:embed="rId4"/>
          <a:stretch/>
        </p:blipFill>
        <p:spPr>
          <a:xfrm>
            <a:off x="-109440" y="622440"/>
            <a:ext cx="9644040" cy="3359160"/>
          </a:xfrm>
          <a:prstGeom prst="rect">
            <a:avLst/>
          </a:prstGeom>
          <a:ln w="0">
            <a:noFill/>
          </a:ln>
        </p:spPr>
      </p:pic>
      <p:pic>
        <p:nvPicPr>
          <p:cNvPr id="51" name="Полилиния 10" descr=""/>
          <p:cNvPicPr/>
          <p:nvPr/>
        </p:nvPicPr>
        <p:blipFill>
          <a:blip r:embed="rId5"/>
          <a:stretch/>
        </p:blipFill>
        <p:spPr>
          <a:xfrm>
            <a:off x="1298520" y="2706840"/>
            <a:ext cx="7974000" cy="1706400"/>
          </a:xfrm>
          <a:prstGeom prst="rect">
            <a:avLst/>
          </a:prstGeom>
          <a:ln w="0">
            <a:noFill/>
          </a:ln>
        </p:spPr>
      </p:pic>
      <p:grpSp>
        <p:nvGrpSpPr>
          <p:cNvPr id="52" name="Полилиния 11"/>
          <p:cNvGrpSpPr/>
          <p:nvPr/>
        </p:nvGrpSpPr>
        <p:grpSpPr>
          <a:xfrm>
            <a:off x="317520" y="1163520"/>
            <a:ext cx="8948880" cy="1378080"/>
            <a:chOff x="317520" y="1163520"/>
            <a:chExt cx="8948880" cy="1378080"/>
          </a:xfrm>
        </p:grpSpPr>
        <p:pic>
          <p:nvPicPr>
            <p:cNvPr id="53" name="Полилиния 11" descr=""/>
            <p:cNvPicPr/>
            <p:nvPr/>
          </p:nvPicPr>
          <p:blipFill>
            <a:blip r:embed="rId6"/>
            <a:stretch/>
          </p:blipFill>
          <p:spPr>
            <a:xfrm>
              <a:off x="317520" y="1163520"/>
              <a:ext cx="89488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28760" y="1285920"/>
              <a:ext cx="87152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Полилиния 12" descr=""/>
          <p:cNvPicPr/>
          <p:nvPr/>
        </p:nvPicPr>
        <p:blipFill>
          <a:blip r:embed="rId7"/>
          <a:stretch/>
        </p:blipFill>
        <p:spPr>
          <a:xfrm>
            <a:off x="1170000" y="2097000"/>
            <a:ext cx="3992400" cy="854280"/>
          </a:xfrm>
          <a:prstGeom prst="rect">
            <a:avLst/>
          </a:prstGeom>
          <a:ln w="0">
            <a:noFill/>
          </a:ln>
        </p:spPr>
      </p:pic>
      <p:pic>
        <p:nvPicPr>
          <p:cNvPr id="56" name="Полилиния 13" descr=""/>
          <p:cNvPicPr/>
          <p:nvPr/>
        </p:nvPicPr>
        <p:blipFill>
          <a:blip r:embed="rId8"/>
          <a:stretch/>
        </p:blipFill>
        <p:spPr>
          <a:xfrm>
            <a:off x="1225440" y="1554120"/>
            <a:ext cx="3065400" cy="860400"/>
          </a:xfrm>
          <a:prstGeom prst="rect">
            <a:avLst/>
          </a:prstGeom>
          <a:ln w="0">
            <a:noFill/>
          </a:ln>
        </p:spPr>
      </p:pic>
      <p:pic>
        <p:nvPicPr>
          <p:cNvPr id="57" name="Полилиния 19" descr=""/>
          <p:cNvPicPr/>
          <p:nvPr/>
        </p:nvPicPr>
        <p:blipFill>
          <a:blip r:embed="rId9"/>
          <a:stretch/>
        </p:blipFill>
        <p:spPr>
          <a:xfrm>
            <a:off x="-249120" y="23760"/>
            <a:ext cx="9374040" cy="2732040"/>
          </a:xfrm>
          <a:prstGeom prst="rect">
            <a:avLst/>
          </a:prstGeom>
          <a:ln w="0">
            <a:noFill/>
          </a:ln>
        </p:spPr>
      </p:pic>
      <p:grpSp>
        <p:nvGrpSpPr>
          <p:cNvPr id="58" name="Полилиния 20"/>
          <p:cNvGrpSpPr/>
          <p:nvPr/>
        </p:nvGrpSpPr>
        <p:grpSpPr>
          <a:xfrm>
            <a:off x="2401920" y="1457280"/>
            <a:ext cx="6400800" cy="1225440"/>
            <a:chOff x="2401920" y="1457280"/>
            <a:chExt cx="6400800" cy="1225440"/>
          </a:xfrm>
        </p:grpSpPr>
        <p:pic>
          <p:nvPicPr>
            <p:cNvPr id="59" name="Полилиния 20" descr=""/>
            <p:cNvPicPr/>
            <p:nvPr/>
          </p:nvPicPr>
          <p:blipFill>
            <a:blip r:embed="rId10"/>
            <a:stretch/>
          </p:blipFill>
          <p:spPr>
            <a:xfrm>
              <a:off x="2401920" y="1457280"/>
              <a:ext cx="640080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641680" y="1698480"/>
              <a:ext cx="59198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Полилиния 21" descr=""/>
          <p:cNvPicPr/>
          <p:nvPr/>
        </p:nvPicPr>
        <p:blipFill>
          <a:blip r:embed="rId11"/>
          <a:stretch/>
        </p:blipFill>
        <p:spPr>
          <a:xfrm>
            <a:off x="1371600" y="2176560"/>
            <a:ext cx="7900920" cy="1712880"/>
          </a:xfrm>
          <a:prstGeom prst="rect">
            <a:avLst/>
          </a:prstGeom>
          <a:ln w="0">
            <a:noFill/>
          </a:ln>
        </p:spPr>
      </p:pic>
      <p:sp>
        <p:nvSpPr>
          <p:cNvPr id="62" name="Полилиния 23"/>
          <p:cNvSpPr/>
          <p:nvPr/>
        </p:nvSpPr>
        <p:spPr>
          <a:xfrm>
            <a:off x="385920" y="1547640"/>
            <a:ext cx="377640" cy="914400"/>
          </a:xfrm>
          <a:custGeom>
            <a:avLst/>
            <a:gdLst/>
            <a:ahLst/>
            <a:rect l="l" t="t" r="r" b="b"/>
            <a:pathLst>
              <a:path w="378540" h="914400">
                <a:moveTo>
                  <a:pt x="197669" y="0"/>
                </a:moveTo>
                <a:cubicBezTo>
                  <a:pt x="207717" y="6699"/>
                  <a:pt x="220270" y="10667"/>
                  <a:pt x="227814" y="20097"/>
                </a:cubicBezTo>
                <a:cubicBezTo>
                  <a:pt x="244305" y="40710"/>
                  <a:pt x="238121" y="59774"/>
                  <a:pt x="227814" y="80387"/>
                </a:cubicBezTo>
                <a:cubicBezTo>
                  <a:pt x="222413" y="91189"/>
                  <a:pt x="213119" y="99730"/>
                  <a:pt x="207718" y="110532"/>
                </a:cubicBezTo>
                <a:cubicBezTo>
                  <a:pt x="202981" y="120006"/>
                  <a:pt x="201019" y="130629"/>
                  <a:pt x="197669" y="140677"/>
                </a:cubicBezTo>
                <a:cubicBezTo>
                  <a:pt x="219737" y="206878"/>
                  <a:pt x="209097" y="141466"/>
                  <a:pt x="177573" y="180870"/>
                </a:cubicBezTo>
                <a:cubicBezTo>
                  <a:pt x="168946" y="191654"/>
                  <a:pt x="174376" y="209073"/>
                  <a:pt x="167524" y="221064"/>
                </a:cubicBezTo>
                <a:cubicBezTo>
                  <a:pt x="160474" y="233402"/>
                  <a:pt x="147427" y="241161"/>
                  <a:pt x="137379" y="251209"/>
                </a:cubicBezTo>
                <a:cubicBezTo>
                  <a:pt x="140729" y="241161"/>
                  <a:pt x="137954" y="216327"/>
                  <a:pt x="147428" y="221064"/>
                </a:cubicBezTo>
                <a:cubicBezTo>
                  <a:pt x="172662" y="233680"/>
                  <a:pt x="152166" y="277187"/>
                  <a:pt x="147428" y="291402"/>
                </a:cubicBezTo>
                <a:cubicBezTo>
                  <a:pt x="154127" y="301450"/>
                  <a:pt x="167524" y="309471"/>
                  <a:pt x="167524" y="321547"/>
                </a:cubicBezTo>
                <a:cubicBezTo>
                  <a:pt x="167524" y="333623"/>
                  <a:pt x="151668" y="340384"/>
                  <a:pt x="147428" y="351692"/>
                </a:cubicBezTo>
                <a:cubicBezTo>
                  <a:pt x="141431" y="367684"/>
                  <a:pt x="140729" y="385187"/>
                  <a:pt x="137379" y="401934"/>
                </a:cubicBezTo>
                <a:cubicBezTo>
                  <a:pt x="206287" y="424905"/>
                  <a:pt x="133224" y="389470"/>
                  <a:pt x="157476" y="462224"/>
                </a:cubicBezTo>
                <a:cubicBezTo>
                  <a:pt x="160826" y="472272"/>
                  <a:pt x="177573" y="468923"/>
                  <a:pt x="187621" y="472273"/>
                </a:cubicBezTo>
                <a:cubicBezTo>
                  <a:pt x="179478" y="484487"/>
                  <a:pt x="145310" y="536946"/>
                  <a:pt x="137379" y="542611"/>
                </a:cubicBezTo>
                <a:cubicBezTo>
                  <a:pt x="126141" y="550638"/>
                  <a:pt x="110584" y="549310"/>
                  <a:pt x="97186" y="552659"/>
                </a:cubicBezTo>
                <a:cubicBezTo>
                  <a:pt x="78257" y="571589"/>
                  <a:pt x="58135" y="587770"/>
                  <a:pt x="46944" y="612950"/>
                </a:cubicBezTo>
                <a:cubicBezTo>
                  <a:pt x="38340" y="632308"/>
                  <a:pt x="26847" y="673240"/>
                  <a:pt x="26847" y="673240"/>
                </a:cubicBezTo>
                <a:cubicBezTo>
                  <a:pt x="40245" y="679939"/>
                  <a:pt x="53273" y="687435"/>
                  <a:pt x="67041" y="693336"/>
                </a:cubicBezTo>
                <a:cubicBezTo>
                  <a:pt x="76777" y="697508"/>
                  <a:pt x="95688" y="692900"/>
                  <a:pt x="97186" y="703385"/>
                </a:cubicBezTo>
                <a:cubicBezTo>
                  <a:pt x="100182" y="724356"/>
                  <a:pt x="77089" y="763675"/>
                  <a:pt x="77089" y="763675"/>
                </a:cubicBezTo>
                <a:cubicBezTo>
                  <a:pt x="172300" y="827150"/>
                  <a:pt x="0" y="718773"/>
                  <a:pt x="187621" y="793820"/>
                </a:cubicBezTo>
                <a:cubicBezTo>
                  <a:pt x="198834" y="798305"/>
                  <a:pt x="200699" y="814138"/>
                  <a:pt x="207718" y="823965"/>
                </a:cubicBezTo>
                <a:cubicBezTo>
                  <a:pt x="227286" y="851360"/>
                  <a:pt x="242230" y="872822"/>
                  <a:pt x="268008" y="894303"/>
                </a:cubicBezTo>
                <a:cubicBezTo>
                  <a:pt x="277286" y="902034"/>
                  <a:pt x="288105" y="907701"/>
                  <a:pt x="298153" y="914400"/>
                </a:cubicBezTo>
                <a:cubicBezTo>
                  <a:pt x="301502" y="904352"/>
                  <a:pt x="308201" y="894847"/>
                  <a:pt x="308201" y="884255"/>
                </a:cubicBezTo>
                <a:cubicBezTo>
                  <a:pt x="308201" y="863453"/>
                  <a:pt x="288218" y="839207"/>
                  <a:pt x="278056" y="823965"/>
                </a:cubicBezTo>
                <a:cubicBezTo>
                  <a:pt x="258039" y="763911"/>
                  <a:pt x="265037" y="818303"/>
                  <a:pt x="308201" y="783772"/>
                </a:cubicBezTo>
                <a:cubicBezTo>
                  <a:pt x="316472" y="777155"/>
                  <a:pt x="314900" y="763675"/>
                  <a:pt x="318250" y="753627"/>
                </a:cubicBezTo>
                <a:cubicBezTo>
                  <a:pt x="311551" y="743578"/>
                  <a:pt x="306693" y="732021"/>
                  <a:pt x="298153" y="723481"/>
                </a:cubicBezTo>
                <a:cubicBezTo>
                  <a:pt x="289614" y="714942"/>
                  <a:pt x="275552" y="712815"/>
                  <a:pt x="268008" y="703385"/>
                </a:cubicBezTo>
                <a:cubicBezTo>
                  <a:pt x="261391" y="695114"/>
                  <a:pt x="261309" y="683288"/>
                  <a:pt x="257960" y="673240"/>
                </a:cubicBezTo>
                <a:cubicBezTo>
                  <a:pt x="261309" y="663192"/>
                  <a:pt x="269506" y="653580"/>
                  <a:pt x="268008" y="643095"/>
                </a:cubicBezTo>
                <a:cubicBezTo>
                  <a:pt x="265889" y="628266"/>
                  <a:pt x="253812" y="616669"/>
                  <a:pt x="247911" y="602901"/>
                </a:cubicBezTo>
                <a:cubicBezTo>
                  <a:pt x="243739" y="593166"/>
                  <a:pt x="241212" y="582804"/>
                  <a:pt x="237863" y="572756"/>
                </a:cubicBezTo>
                <a:cubicBezTo>
                  <a:pt x="317371" y="556855"/>
                  <a:pt x="289995" y="574646"/>
                  <a:pt x="257960" y="542611"/>
                </a:cubicBezTo>
                <a:cubicBezTo>
                  <a:pt x="249421" y="534072"/>
                  <a:pt x="244562" y="522514"/>
                  <a:pt x="237863" y="512466"/>
                </a:cubicBezTo>
                <a:cubicBezTo>
                  <a:pt x="247911" y="505767"/>
                  <a:pt x="268008" y="504446"/>
                  <a:pt x="268008" y="492369"/>
                </a:cubicBezTo>
                <a:cubicBezTo>
                  <a:pt x="268008" y="478159"/>
                  <a:pt x="246960" y="473141"/>
                  <a:pt x="237863" y="462224"/>
                </a:cubicBezTo>
                <a:cubicBezTo>
                  <a:pt x="230132" y="452946"/>
                  <a:pt x="224465" y="442127"/>
                  <a:pt x="217766" y="432079"/>
                </a:cubicBezTo>
                <a:cubicBezTo>
                  <a:pt x="244562" y="428730"/>
                  <a:pt x="274997" y="435924"/>
                  <a:pt x="298153" y="422031"/>
                </a:cubicBezTo>
                <a:cubicBezTo>
                  <a:pt x="308509" y="415818"/>
                  <a:pt x="274409" y="412175"/>
                  <a:pt x="268008" y="401934"/>
                </a:cubicBezTo>
                <a:cubicBezTo>
                  <a:pt x="256781" y="383970"/>
                  <a:pt x="257385" y="360591"/>
                  <a:pt x="247911" y="341644"/>
                </a:cubicBezTo>
                <a:lnTo>
                  <a:pt x="227814" y="301451"/>
                </a:lnTo>
                <a:cubicBezTo>
                  <a:pt x="241212" y="298101"/>
                  <a:pt x="254198" y="291402"/>
                  <a:pt x="268008" y="291402"/>
                </a:cubicBezTo>
                <a:cubicBezTo>
                  <a:pt x="285087" y="291402"/>
                  <a:pt x="301446" y="298396"/>
                  <a:pt x="318250" y="301451"/>
                </a:cubicBezTo>
                <a:cubicBezTo>
                  <a:pt x="338295" y="305096"/>
                  <a:pt x="358443" y="308150"/>
                  <a:pt x="378540" y="311499"/>
                </a:cubicBezTo>
                <a:cubicBezTo>
                  <a:pt x="358443" y="298101"/>
                  <a:pt x="331648" y="291403"/>
                  <a:pt x="318250" y="271306"/>
                </a:cubicBezTo>
                <a:lnTo>
                  <a:pt x="278056" y="211016"/>
                </a:lnTo>
                <a:cubicBezTo>
                  <a:pt x="274707" y="200967"/>
                  <a:pt x="260518" y="188360"/>
                  <a:pt x="268008" y="180870"/>
                </a:cubicBezTo>
                <a:cubicBezTo>
                  <a:pt x="304197" y="144681"/>
                  <a:pt x="361797" y="203482"/>
                  <a:pt x="278056" y="140677"/>
                </a:cubicBezTo>
                <a:cubicBezTo>
                  <a:pt x="256736" y="108697"/>
                  <a:pt x="239200" y="73853"/>
                  <a:pt x="207718" y="50242"/>
                </a:cubicBezTo>
                <a:cubicBezTo>
                  <a:pt x="205038" y="48232"/>
                  <a:pt x="201019" y="50242"/>
                  <a:pt x="197669" y="50242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олилиния 25"/>
          <p:cNvSpPr/>
          <p:nvPr/>
        </p:nvSpPr>
        <p:spPr>
          <a:xfrm>
            <a:off x="271440" y="1446120"/>
            <a:ext cx="227160" cy="593640"/>
          </a:xfrm>
          <a:custGeom>
            <a:avLst/>
            <a:gdLst/>
            <a:ahLst/>
            <a:rect l="l" t="t" r="r" b="b"/>
            <a:pathLst>
              <a:path w="226461" h="592852">
                <a:moveTo>
                  <a:pt x="110532" y="50241"/>
                </a:moveTo>
                <a:cubicBezTo>
                  <a:pt x="107183" y="73687"/>
                  <a:pt x="95166" y="131217"/>
                  <a:pt x="90436" y="140677"/>
                </a:cubicBezTo>
                <a:cubicBezTo>
                  <a:pt x="82947" y="155656"/>
                  <a:pt x="60291" y="164123"/>
                  <a:pt x="60291" y="180870"/>
                </a:cubicBezTo>
                <a:cubicBezTo>
                  <a:pt x="60291" y="191462"/>
                  <a:pt x="97926" y="163332"/>
                  <a:pt x="90436" y="170822"/>
                </a:cubicBezTo>
                <a:cubicBezTo>
                  <a:pt x="73357" y="187901"/>
                  <a:pt x="30146" y="211015"/>
                  <a:pt x="30146" y="211015"/>
                </a:cubicBezTo>
                <a:cubicBezTo>
                  <a:pt x="33495" y="221063"/>
                  <a:pt x="41935" y="230712"/>
                  <a:pt x="40194" y="241160"/>
                </a:cubicBezTo>
                <a:cubicBezTo>
                  <a:pt x="38208" y="253072"/>
                  <a:pt x="26089" y="260820"/>
                  <a:pt x="20097" y="271305"/>
                </a:cubicBezTo>
                <a:cubicBezTo>
                  <a:pt x="12665" y="284311"/>
                  <a:pt x="6699" y="298101"/>
                  <a:pt x="0" y="311499"/>
                </a:cubicBezTo>
                <a:cubicBezTo>
                  <a:pt x="13398" y="314848"/>
                  <a:pt x="26384" y="321547"/>
                  <a:pt x="40194" y="321547"/>
                </a:cubicBezTo>
                <a:cubicBezTo>
                  <a:pt x="50786" y="321547"/>
                  <a:pt x="68262" y="301113"/>
                  <a:pt x="70339" y="311499"/>
                </a:cubicBezTo>
                <a:cubicBezTo>
                  <a:pt x="74493" y="332271"/>
                  <a:pt x="56941" y="351692"/>
                  <a:pt x="50242" y="371789"/>
                </a:cubicBezTo>
                <a:lnTo>
                  <a:pt x="40194" y="401934"/>
                </a:lnTo>
                <a:cubicBezTo>
                  <a:pt x="36845" y="411982"/>
                  <a:pt x="32715" y="421803"/>
                  <a:pt x="30146" y="432079"/>
                </a:cubicBezTo>
                <a:lnTo>
                  <a:pt x="20097" y="472272"/>
                </a:lnTo>
                <a:cubicBezTo>
                  <a:pt x="16748" y="499068"/>
                  <a:pt x="4191" y="526298"/>
                  <a:pt x="10049" y="552659"/>
                </a:cubicBezTo>
                <a:cubicBezTo>
                  <a:pt x="12347" y="562999"/>
                  <a:pt x="29602" y="562707"/>
                  <a:pt x="40194" y="562707"/>
                </a:cubicBezTo>
                <a:cubicBezTo>
                  <a:pt x="70524" y="562707"/>
                  <a:pt x="100484" y="556008"/>
                  <a:pt x="130629" y="552659"/>
                </a:cubicBezTo>
                <a:cubicBezTo>
                  <a:pt x="120581" y="545960"/>
                  <a:pt x="91945" y="541101"/>
                  <a:pt x="100484" y="532562"/>
                </a:cubicBezTo>
                <a:cubicBezTo>
                  <a:pt x="113460" y="519586"/>
                  <a:pt x="163232" y="557647"/>
                  <a:pt x="170822" y="562707"/>
                </a:cubicBezTo>
                <a:cubicBezTo>
                  <a:pt x="177521" y="572755"/>
                  <a:pt x="202996" y="592852"/>
                  <a:pt x="190919" y="592852"/>
                </a:cubicBezTo>
                <a:cubicBezTo>
                  <a:pt x="176709" y="592852"/>
                  <a:pt x="168657" y="574531"/>
                  <a:pt x="160774" y="562707"/>
                </a:cubicBezTo>
                <a:cubicBezTo>
                  <a:pt x="154899" y="553894"/>
                  <a:pt x="155463" y="542036"/>
                  <a:pt x="150726" y="532562"/>
                </a:cubicBezTo>
                <a:cubicBezTo>
                  <a:pt x="133979" y="499068"/>
                  <a:pt x="130629" y="502417"/>
                  <a:pt x="100484" y="482321"/>
                </a:cubicBezTo>
                <a:cubicBezTo>
                  <a:pt x="110532" y="478971"/>
                  <a:pt x="125892" y="481746"/>
                  <a:pt x="130629" y="472272"/>
                </a:cubicBezTo>
                <a:cubicBezTo>
                  <a:pt x="135366" y="462798"/>
                  <a:pt x="110195" y="444204"/>
                  <a:pt x="120581" y="442127"/>
                </a:cubicBezTo>
                <a:cubicBezTo>
                  <a:pt x="141353" y="437973"/>
                  <a:pt x="180871" y="462224"/>
                  <a:pt x="180871" y="462224"/>
                </a:cubicBezTo>
                <a:cubicBezTo>
                  <a:pt x="184220" y="472272"/>
                  <a:pt x="198409" y="484879"/>
                  <a:pt x="190919" y="492369"/>
                </a:cubicBezTo>
                <a:cubicBezTo>
                  <a:pt x="183429" y="499859"/>
                  <a:pt x="169587" y="488196"/>
                  <a:pt x="160774" y="482321"/>
                </a:cubicBezTo>
                <a:cubicBezTo>
                  <a:pt x="137565" y="466848"/>
                  <a:pt x="125360" y="444272"/>
                  <a:pt x="110532" y="422030"/>
                </a:cubicBezTo>
                <a:cubicBezTo>
                  <a:pt x="120580" y="415331"/>
                  <a:pt x="129220" y="405753"/>
                  <a:pt x="140677" y="401934"/>
                </a:cubicBezTo>
                <a:cubicBezTo>
                  <a:pt x="200847" y="381878"/>
                  <a:pt x="225054" y="407941"/>
                  <a:pt x="170822" y="371789"/>
                </a:cubicBezTo>
                <a:cubicBezTo>
                  <a:pt x="177521" y="361741"/>
                  <a:pt x="192904" y="353556"/>
                  <a:pt x="190919" y="341644"/>
                </a:cubicBezTo>
                <a:cubicBezTo>
                  <a:pt x="188501" y="327138"/>
                  <a:pt x="141777" y="298834"/>
                  <a:pt x="130629" y="291402"/>
                </a:cubicBezTo>
                <a:cubicBezTo>
                  <a:pt x="140677" y="284703"/>
                  <a:pt x="156289" y="282518"/>
                  <a:pt x="160774" y="271305"/>
                </a:cubicBezTo>
                <a:cubicBezTo>
                  <a:pt x="169084" y="250530"/>
                  <a:pt x="127557" y="217991"/>
                  <a:pt x="120581" y="211015"/>
                </a:cubicBezTo>
                <a:cubicBezTo>
                  <a:pt x="130629" y="204316"/>
                  <a:pt x="139418" y="195158"/>
                  <a:pt x="150726" y="190918"/>
                </a:cubicBezTo>
                <a:cubicBezTo>
                  <a:pt x="196375" y="173800"/>
                  <a:pt x="226461" y="189367"/>
                  <a:pt x="170822" y="170822"/>
                </a:cubicBezTo>
                <a:cubicBezTo>
                  <a:pt x="164123" y="160774"/>
                  <a:pt x="155631" y="151713"/>
                  <a:pt x="150726" y="140677"/>
                </a:cubicBezTo>
                <a:cubicBezTo>
                  <a:pt x="142122" y="121319"/>
                  <a:pt x="130629" y="80386"/>
                  <a:pt x="130629" y="80386"/>
                </a:cubicBezTo>
                <a:cubicBezTo>
                  <a:pt x="140677" y="70338"/>
                  <a:pt x="160774" y="64451"/>
                  <a:pt x="160774" y="50241"/>
                </a:cubicBezTo>
                <a:cubicBezTo>
                  <a:pt x="160774" y="38165"/>
                  <a:pt x="139168" y="38684"/>
                  <a:pt x="130629" y="30145"/>
                </a:cubicBezTo>
                <a:cubicBezTo>
                  <a:pt x="122089" y="21606"/>
                  <a:pt x="117231" y="10048"/>
                  <a:pt x="110532" y="0"/>
                </a:cubicBezTo>
                <a:cubicBezTo>
                  <a:pt x="99814" y="75027"/>
                  <a:pt x="113881" y="26795"/>
                  <a:pt x="110532" y="50241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лилиния 27"/>
          <p:cNvSpPr/>
          <p:nvPr/>
        </p:nvSpPr>
        <p:spPr>
          <a:xfrm>
            <a:off x="1600200" y="3105000"/>
            <a:ext cx="173160" cy="462240"/>
          </a:xfrm>
          <a:custGeom>
            <a:avLst/>
            <a:gdLst/>
            <a:ahLst/>
            <a:rect l="l" t="t" r="r" b="b"/>
            <a:pathLst>
              <a:path w="173587" h="462224">
                <a:moveTo>
                  <a:pt x="108118" y="0"/>
                </a:moveTo>
                <a:cubicBezTo>
                  <a:pt x="104768" y="13398"/>
                  <a:pt x="103509" y="27500"/>
                  <a:pt x="98069" y="40193"/>
                </a:cubicBezTo>
                <a:cubicBezTo>
                  <a:pt x="93312" y="51293"/>
                  <a:pt x="82213" y="59030"/>
                  <a:pt x="77973" y="70338"/>
                </a:cubicBezTo>
                <a:cubicBezTo>
                  <a:pt x="71976" y="86330"/>
                  <a:pt x="72066" y="104011"/>
                  <a:pt x="67924" y="120580"/>
                </a:cubicBezTo>
                <a:cubicBezTo>
                  <a:pt x="65355" y="130856"/>
                  <a:pt x="61225" y="140677"/>
                  <a:pt x="57876" y="150725"/>
                </a:cubicBezTo>
                <a:cubicBezTo>
                  <a:pt x="67924" y="157424"/>
                  <a:pt x="89519" y="158839"/>
                  <a:pt x="88021" y="170822"/>
                </a:cubicBezTo>
                <a:cubicBezTo>
                  <a:pt x="81011" y="226905"/>
                  <a:pt x="7786" y="244460"/>
                  <a:pt x="77973" y="221063"/>
                </a:cubicBezTo>
                <a:cubicBezTo>
                  <a:pt x="51390" y="327389"/>
                  <a:pt x="87481" y="202182"/>
                  <a:pt x="47828" y="291402"/>
                </a:cubicBezTo>
                <a:cubicBezTo>
                  <a:pt x="0" y="399017"/>
                  <a:pt x="53114" y="313618"/>
                  <a:pt x="7634" y="381837"/>
                </a:cubicBezTo>
                <a:cubicBezTo>
                  <a:pt x="10984" y="401934"/>
                  <a:pt x="84" y="431861"/>
                  <a:pt x="17683" y="442127"/>
                </a:cubicBezTo>
                <a:cubicBezTo>
                  <a:pt x="49639" y="460768"/>
                  <a:pt x="91590" y="446943"/>
                  <a:pt x="128214" y="452175"/>
                </a:cubicBezTo>
                <a:cubicBezTo>
                  <a:pt x="138700" y="453673"/>
                  <a:pt x="148311" y="458874"/>
                  <a:pt x="158360" y="462224"/>
                </a:cubicBezTo>
                <a:cubicBezTo>
                  <a:pt x="155010" y="445477"/>
                  <a:pt x="154308" y="427974"/>
                  <a:pt x="148311" y="411982"/>
                </a:cubicBezTo>
                <a:cubicBezTo>
                  <a:pt x="144070" y="400674"/>
                  <a:pt x="129922" y="393792"/>
                  <a:pt x="128214" y="381837"/>
                </a:cubicBezTo>
                <a:cubicBezTo>
                  <a:pt x="126261" y="368166"/>
                  <a:pt x="134913" y="355042"/>
                  <a:pt x="138263" y="341644"/>
                </a:cubicBezTo>
                <a:cubicBezTo>
                  <a:pt x="129170" y="335582"/>
                  <a:pt x="77973" y="304296"/>
                  <a:pt x="77973" y="291402"/>
                </a:cubicBezTo>
                <a:cubicBezTo>
                  <a:pt x="77973" y="280810"/>
                  <a:pt x="98070" y="298101"/>
                  <a:pt x="108118" y="301450"/>
                </a:cubicBezTo>
                <a:cubicBezTo>
                  <a:pt x="118166" y="308149"/>
                  <a:pt x="129724" y="330086"/>
                  <a:pt x="138263" y="321547"/>
                </a:cubicBezTo>
                <a:cubicBezTo>
                  <a:pt x="146802" y="313008"/>
                  <a:pt x="125897" y="300680"/>
                  <a:pt x="118166" y="291402"/>
                </a:cubicBezTo>
                <a:cubicBezTo>
                  <a:pt x="109069" y="280485"/>
                  <a:pt x="98069" y="271305"/>
                  <a:pt x="88021" y="261257"/>
                </a:cubicBezTo>
                <a:cubicBezTo>
                  <a:pt x="98069" y="257907"/>
                  <a:pt x="107574" y="251208"/>
                  <a:pt x="118166" y="251208"/>
                </a:cubicBezTo>
                <a:cubicBezTo>
                  <a:pt x="161424" y="251208"/>
                  <a:pt x="173587" y="284097"/>
                  <a:pt x="138263" y="231112"/>
                </a:cubicBezTo>
                <a:cubicBezTo>
                  <a:pt x="134913" y="214365"/>
                  <a:pt x="132708" y="197347"/>
                  <a:pt x="128214" y="180870"/>
                </a:cubicBezTo>
                <a:cubicBezTo>
                  <a:pt x="102983" y="88356"/>
                  <a:pt x="112058" y="154269"/>
                  <a:pt x="98069" y="70338"/>
                </a:cubicBezTo>
                <a:cubicBezTo>
                  <a:pt x="97518" y="67034"/>
                  <a:pt x="98069" y="63639"/>
                  <a:pt x="98069" y="6029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лилиния 28"/>
          <p:cNvSpPr/>
          <p:nvPr/>
        </p:nvSpPr>
        <p:spPr>
          <a:xfrm>
            <a:off x="4581360" y="4984920"/>
            <a:ext cx="595440" cy="853920"/>
          </a:xfrm>
          <a:custGeom>
            <a:avLst/>
            <a:gdLst/>
            <a:ahLst/>
            <a:rect l="l" t="t" r="r" b="b"/>
            <a:pathLst>
              <a:path w="594351" h="854654">
                <a:moveTo>
                  <a:pt x="291403" y="0"/>
                </a:moveTo>
                <a:cubicBezTo>
                  <a:pt x="294752" y="10048"/>
                  <a:pt x="304361" y="19961"/>
                  <a:pt x="301451" y="30145"/>
                </a:cubicBezTo>
                <a:cubicBezTo>
                  <a:pt x="296850" y="46248"/>
                  <a:pt x="281040" y="56711"/>
                  <a:pt x="271306" y="70339"/>
                </a:cubicBezTo>
                <a:cubicBezTo>
                  <a:pt x="264287" y="80166"/>
                  <a:pt x="257908" y="90436"/>
                  <a:pt x="251209" y="100484"/>
                </a:cubicBezTo>
                <a:cubicBezTo>
                  <a:pt x="247860" y="113882"/>
                  <a:pt x="250926" y="130912"/>
                  <a:pt x="241161" y="140677"/>
                </a:cubicBezTo>
                <a:cubicBezTo>
                  <a:pt x="219746" y="162092"/>
                  <a:pt x="130481" y="138979"/>
                  <a:pt x="261257" y="160774"/>
                </a:cubicBezTo>
                <a:cubicBezTo>
                  <a:pt x="250295" y="177217"/>
                  <a:pt x="235376" y="207971"/>
                  <a:pt x="211016" y="211016"/>
                </a:cubicBezTo>
                <a:cubicBezTo>
                  <a:pt x="202511" y="212079"/>
                  <a:pt x="99507" y="185649"/>
                  <a:pt x="200967" y="211016"/>
                </a:cubicBezTo>
                <a:cubicBezTo>
                  <a:pt x="190919" y="221064"/>
                  <a:pt x="183244" y="234260"/>
                  <a:pt x="170822" y="241161"/>
                </a:cubicBezTo>
                <a:cubicBezTo>
                  <a:pt x="152304" y="251449"/>
                  <a:pt x="110532" y="261258"/>
                  <a:pt x="110532" y="261258"/>
                </a:cubicBezTo>
                <a:cubicBezTo>
                  <a:pt x="178641" y="283960"/>
                  <a:pt x="95544" y="258259"/>
                  <a:pt x="211016" y="281354"/>
                </a:cubicBezTo>
                <a:cubicBezTo>
                  <a:pt x="221402" y="283431"/>
                  <a:pt x="231113" y="288053"/>
                  <a:pt x="241161" y="291403"/>
                </a:cubicBezTo>
                <a:lnTo>
                  <a:pt x="180871" y="311499"/>
                </a:lnTo>
                <a:lnTo>
                  <a:pt x="150726" y="321548"/>
                </a:lnTo>
                <a:cubicBezTo>
                  <a:pt x="160774" y="324897"/>
                  <a:pt x="172600" y="324979"/>
                  <a:pt x="180871" y="331596"/>
                </a:cubicBezTo>
                <a:cubicBezTo>
                  <a:pt x="190301" y="339140"/>
                  <a:pt x="206959" y="351256"/>
                  <a:pt x="200967" y="361741"/>
                </a:cubicBezTo>
                <a:cubicBezTo>
                  <a:pt x="184708" y="390193"/>
                  <a:pt x="140417" y="402021"/>
                  <a:pt x="110532" y="411983"/>
                </a:cubicBezTo>
                <a:cubicBezTo>
                  <a:pt x="130629" y="415332"/>
                  <a:pt x="153132" y="411923"/>
                  <a:pt x="170822" y="422031"/>
                </a:cubicBezTo>
                <a:cubicBezTo>
                  <a:pt x="208639" y="443641"/>
                  <a:pt x="162378" y="469095"/>
                  <a:pt x="150726" y="472273"/>
                </a:cubicBezTo>
                <a:cubicBezTo>
                  <a:pt x="124673" y="479378"/>
                  <a:pt x="97135" y="478972"/>
                  <a:pt x="70339" y="482321"/>
                </a:cubicBezTo>
                <a:cubicBezTo>
                  <a:pt x="80387" y="485671"/>
                  <a:pt x="90063" y="490475"/>
                  <a:pt x="100484" y="492370"/>
                </a:cubicBezTo>
                <a:cubicBezTo>
                  <a:pt x="151883" y="501715"/>
                  <a:pt x="222641" y="484620"/>
                  <a:pt x="150726" y="532563"/>
                </a:cubicBezTo>
                <a:cubicBezTo>
                  <a:pt x="141913" y="538438"/>
                  <a:pt x="130629" y="539262"/>
                  <a:pt x="120581" y="542611"/>
                </a:cubicBezTo>
                <a:cubicBezTo>
                  <a:pt x="51185" y="588875"/>
                  <a:pt x="115978" y="536193"/>
                  <a:pt x="170822" y="572756"/>
                </a:cubicBezTo>
                <a:cubicBezTo>
                  <a:pt x="180870" y="579455"/>
                  <a:pt x="158585" y="593733"/>
                  <a:pt x="150726" y="602902"/>
                </a:cubicBezTo>
                <a:cubicBezTo>
                  <a:pt x="138395" y="617288"/>
                  <a:pt x="128507" y="637103"/>
                  <a:pt x="110532" y="643095"/>
                </a:cubicBezTo>
                <a:cubicBezTo>
                  <a:pt x="75435" y="654794"/>
                  <a:pt x="36844" y="649794"/>
                  <a:pt x="0" y="653143"/>
                </a:cubicBezTo>
                <a:cubicBezTo>
                  <a:pt x="63640" y="656493"/>
                  <a:pt x="130462" y="643040"/>
                  <a:pt x="190919" y="663192"/>
                </a:cubicBezTo>
                <a:cubicBezTo>
                  <a:pt x="208894" y="669184"/>
                  <a:pt x="165521" y="691549"/>
                  <a:pt x="150726" y="703385"/>
                </a:cubicBezTo>
                <a:cubicBezTo>
                  <a:pt x="131866" y="718473"/>
                  <a:pt x="113350" y="735940"/>
                  <a:pt x="90436" y="743578"/>
                </a:cubicBezTo>
                <a:cubicBezTo>
                  <a:pt x="48833" y="757446"/>
                  <a:pt x="69103" y="747752"/>
                  <a:pt x="30145" y="773723"/>
                </a:cubicBezTo>
                <a:cubicBezTo>
                  <a:pt x="11066" y="830964"/>
                  <a:pt x="7967" y="807507"/>
                  <a:pt x="110532" y="813917"/>
                </a:cubicBezTo>
                <a:cubicBezTo>
                  <a:pt x="187492" y="818727"/>
                  <a:pt x="264607" y="820616"/>
                  <a:pt x="341644" y="823965"/>
                </a:cubicBezTo>
                <a:cubicBezTo>
                  <a:pt x="365090" y="827315"/>
                  <a:pt x="388681" y="829777"/>
                  <a:pt x="411983" y="834014"/>
                </a:cubicBezTo>
                <a:cubicBezTo>
                  <a:pt x="439742" y="839061"/>
                  <a:pt x="456493" y="845501"/>
                  <a:pt x="482321" y="854110"/>
                </a:cubicBezTo>
                <a:cubicBezTo>
                  <a:pt x="505767" y="850761"/>
                  <a:pt x="531476" y="854654"/>
                  <a:pt x="552660" y="844062"/>
                </a:cubicBezTo>
                <a:cubicBezTo>
                  <a:pt x="562134" y="839325"/>
                  <a:pt x="531774" y="839158"/>
                  <a:pt x="522515" y="834014"/>
                </a:cubicBezTo>
                <a:cubicBezTo>
                  <a:pt x="501401" y="822284"/>
                  <a:pt x="484651" y="802790"/>
                  <a:pt x="462225" y="793820"/>
                </a:cubicBezTo>
                <a:cubicBezTo>
                  <a:pt x="445478" y="787121"/>
                  <a:pt x="427818" y="782360"/>
                  <a:pt x="411983" y="773723"/>
                </a:cubicBezTo>
                <a:cubicBezTo>
                  <a:pt x="390779" y="762157"/>
                  <a:pt x="327783" y="730114"/>
                  <a:pt x="351693" y="733530"/>
                </a:cubicBezTo>
                <a:cubicBezTo>
                  <a:pt x="381898" y="737845"/>
                  <a:pt x="439940" y="744809"/>
                  <a:pt x="472273" y="753627"/>
                </a:cubicBezTo>
                <a:cubicBezTo>
                  <a:pt x="492710" y="759201"/>
                  <a:pt x="532563" y="773723"/>
                  <a:pt x="532563" y="773723"/>
                </a:cubicBezTo>
                <a:cubicBezTo>
                  <a:pt x="525864" y="763675"/>
                  <a:pt x="521555" y="751530"/>
                  <a:pt x="512466" y="743578"/>
                </a:cubicBezTo>
                <a:cubicBezTo>
                  <a:pt x="494289" y="727673"/>
                  <a:pt x="475860" y="708122"/>
                  <a:pt x="452176" y="703385"/>
                </a:cubicBezTo>
                <a:cubicBezTo>
                  <a:pt x="391548" y="691260"/>
                  <a:pt x="418136" y="698738"/>
                  <a:pt x="371789" y="683288"/>
                </a:cubicBezTo>
                <a:cubicBezTo>
                  <a:pt x="388536" y="679939"/>
                  <a:pt x="405022" y="671694"/>
                  <a:pt x="422031" y="673240"/>
                </a:cubicBezTo>
                <a:cubicBezTo>
                  <a:pt x="443128" y="675158"/>
                  <a:pt x="462652" y="685470"/>
                  <a:pt x="482321" y="693337"/>
                </a:cubicBezTo>
                <a:cubicBezTo>
                  <a:pt x="542397" y="717367"/>
                  <a:pt x="515451" y="707729"/>
                  <a:pt x="562708" y="723482"/>
                </a:cubicBezTo>
                <a:cubicBezTo>
                  <a:pt x="572756" y="720132"/>
                  <a:pt x="594351" y="723918"/>
                  <a:pt x="592853" y="713433"/>
                </a:cubicBezTo>
                <a:cubicBezTo>
                  <a:pt x="584791" y="656998"/>
                  <a:pt x="558907" y="655225"/>
                  <a:pt x="522515" y="643095"/>
                </a:cubicBezTo>
                <a:cubicBezTo>
                  <a:pt x="512467" y="633047"/>
                  <a:pt x="503287" y="622047"/>
                  <a:pt x="492370" y="612950"/>
                </a:cubicBezTo>
                <a:cubicBezTo>
                  <a:pt x="483092" y="605219"/>
                  <a:pt x="455526" y="602901"/>
                  <a:pt x="462225" y="592853"/>
                </a:cubicBezTo>
                <a:cubicBezTo>
                  <a:pt x="471698" y="578643"/>
                  <a:pt x="495719" y="586154"/>
                  <a:pt x="512466" y="582805"/>
                </a:cubicBezTo>
                <a:cubicBezTo>
                  <a:pt x="495719" y="576106"/>
                  <a:pt x="479337" y="568412"/>
                  <a:pt x="462225" y="562708"/>
                </a:cubicBezTo>
                <a:cubicBezTo>
                  <a:pt x="449123" y="558341"/>
                  <a:pt x="434962" y="557509"/>
                  <a:pt x="422031" y="552660"/>
                </a:cubicBezTo>
                <a:cubicBezTo>
                  <a:pt x="408006" y="547400"/>
                  <a:pt x="394843" y="539995"/>
                  <a:pt x="381838" y="532563"/>
                </a:cubicBezTo>
                <a:cubicBezTo>
                  <a:pt x="371353" y="526571"/>
                  <a:pt x="340236" y="508647"/>
                  <a:pt x="351693" y="512466"/>
                </a:cubicBezTo>
                <a:lnTo>
                  <a:pt x="381838" y="522515"/>
                </a:lnTo>
                <a:cubicBezTo>
                  <a:pt x="371790" y="512467"/>
                  <a:pt x="363517" y="500253"/>
                  <a:pt x="351693" y="492370"/>
                </a:cubicBezTo>
                <a:cubicBezTo>
                  <a:pt x="342880" y="486495"/>
                  <a:pt x="329038" y="489811"/>
                  <a:pt x="321548" y="482321"/>
                </a:cubicBezTo>
                <a:cubicBezTo>
                  <a:pt x="314058" y="474831"/>
                  <a:pt x="301315" y="455086"/>
                  <a:pt x="311499" y="452176"/>
                </a:cubicBezTo>
                <a:cubicBezTo>
                  <a:pt x="337464" y="444758"/>
                  <a:pt x="365090" y="458875"/>
                  <a:pt x="391886" y="462225"/>
                </a:cubicBezTo>
                <a:cubicBezTo>
                  <a:pt x="401934" y="465574"/>
                  <a:pt x="414541" y="479763"/>
                  <a:pt x="422031" y="472273"/>
                </a:cubicBezTo>
                <a:lnTo>
                  <a:pt x="381838" y="432080"/>
                </a:lnTo>
                <a:cubicBezTo>
                  <a:pt x="375139" y="422031"/>
                  <a:pt x="359373" y="413776"/>
                  <a:pt x="361741" y="401934"/>
                </a:cubicBezTo>
                <a:cubicBezTo>
                  <a:pt x="364109" y="390092"/>
                  <a:pt x="379974" y="383823"/>
                  <a:pt x="391886" y="381838"/>
                </a:cubicBezTo>
                <a:cubicBezTo>
                  <a:pt x="402334" y="380097"/>
                  <a:pt x="431505" y="396623"/>
                  <a:pt x="422031" y="391886"/>
                </a:cubicBezTo>
                <a:cubicBezTo>
                  <a:pt x="405898" y="383819"/>
                  <a:pt x="388678" y="378122"/>
                  <a:pt x="371789" y="371789"/>
                </a:cubicBezTo>
                <a:cubicBezTo>
                  <a:pt x="361872" y="368070"/>
                  <a:pt x="351692" y="365090"/>
                  <a:pt x="341644" y="361741"/>
                </a:cubicBezTo>
                <a:cubicBezTo>
                  <a:pt x="331596" y="355042"/>
                  <a:pt x="306098" y="352446"/>
                  <a:pt x="311499" y="341644"/>
                </a:cubicBezTo>
                <a:cubicBezTo>
                  <a:pt x="322301" y="320041"/>
                  <a:pt x="371789" y="301451"/>
                  <a:pt x="371789" y="301451"/>
                </a:cubicBezTo>
                <a:cubicBezTo>
                  <a:pt x="351692" y="281354"/>
                  <a:pt x="302511" y="268123"/>
                  <a:pt x="311499" y="241161"/>
                </a:cubicBezTo>
                <a:lnTo>
                  <a:pt x="331596" y="180871"/>
                </a:lnTo>
                <a:cubicBezTo>
                  <a:pt x="321548" y="174172"/>
                  <a:pt x="301451" y="172851"/>
                  <a:pt x="301451" y="160774"/>
                </a:cubicBezTo>
                <a:cubicBezTo>
                  <a:pt x="301451" y="150182"/>
                  <a:pt x="334165" y="161002"/>
                  <a:pt x="331596" y="150726"/>
                </a:cubicBezTo>
                <a:cubicBezTo>
                  <a:pt x="327534" y="134479"/>
                  <a:pt x="303245" y="132423"/>
                  <a:pt x="291403" y="120581"/>
                </a:cubicBezTo>
                <a:cubicBezTo>
                  <a:pt x="282864" y="112042"/>
                  <a:pt x="276707" y="101238"/>
                  <a:pt x="271306" y="90436"/>
                </a:cubicBezTo>
                <a:cubicBezTo>
                  <a:pt x="266569" y="80962"/>
                  <a:pt x="253767" y="67781"/>
                  <a:pt x="261257" y="60291"/>
                </a:cubicBezTo>
                <a:cubicBezTo>
                  <a:pt x="268747" y="52801"/>
                  <a:pt x="291403" y="70339"/>
                  <a:pt x="291403" y="70339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лилиния 29"/>
          <p:cNvSpPr/>
          <p:nvPr/>
        </p:nvSpPr>
        <p:spPr>
          <a:xfrm>
            <a:off x="5164200" y="4765680"/>
            <a:ext cx="603360" cy="1096920"/>
          </a:xfrm>
          <a:custGeom>
            <a:avLst/>
            <a:gdLst/>
            <a:ahLst/>
            <a:rect l="l" t="t" r="r" b="b"/>
            <a:pathLst>
              <a:path w="603427" h="1097401">
                <a:moveTo>
                  <a:pt x="322073" y="17630"/>
                </a:moveTo>
                <a:cubicBezTo>
                  <a:pt x="296816" y="93403"/>
                  <a:pt x="330887" y="0"/>
                  <a:pt x="291928" y="77920"/>
                </a:cubicBezTo>
                <a:cubicBezTo>
                  <a:pt x="287191" y="87394"/>
                  <a:pt x="286617" y="98592"/>
                  <a:pt x="281880" y="108066"/>
                </a:cubicBezTo>
                <a:cubicBezTo>
                  <a:pt x="276479" y="118868"/>
                  <a:pt x="251735" y="131512"/>
                  <a:pt x="261783" y="138211"/>
                </a:cubicBezTo>
                <a:cubicBezTo>
                  <a:pt x="275994" y="147685"/>
                  <a:pt x="295278" y="131512"/>
                  <a:pt x="312025" y="128162"/>
                </a:cubicBezTo>
                <a:cubicBezTo>
                  <a:pt x="284567" y="210529"/>
                  <a:pt x="332060" y="83038"/>
                  <a:pt x="241686" y="218597"/>
                </a:cubicBezTo>
                <a:cubicBezTo>
                  <a:pt x="234987" y="228645"/>
                  <a:pt x="231019" y="241198"/>
                  <a:pt x="221589" y="248742"/>
                </a:cubicBezTo>
                <a:cubicBezTo>
                  <a:pt x="213318" y="255359"/>
                  <a:pt x="201492" y="255441"/>
                  <a:pt x="191444" y="258791"/>
                </a:cubicBezTo>
                <a:cubicBezTo>
                  <a:pt x="204842" y="248743"/>
                  <a:pt x="217097" y="236955"/>
                  <a:pt x="231638" y="228646"/>
                </a:cubicBezTo>
                <a:cubicBezTo>
                  <a:pt x="240834" y="223391"/>
                  <a:pt x="255908" y="209784"/>
                  <a:pt x="261783" y="218597"/>
                </a:cubicBezTo>
                <a:cubicBezTo>
                  <a:pt x="269444" y="230088"/>
                  <a:pt x="257175" y="246097"/>
                  <a:pt x="251735" y="258791"/>
                </a:cubicBezTo>
                <a:cubicBezTo>
                  <a:pt x="234988" y="297868"/>
                  <a:pt x="208191" y="304567"/>
                  <a:pt x="171348" y="329129"/>
                </a:cubicBezTo>
                <a:lnTo>
                  <a:pt x="201493" y="309033"/>
                </a:lnTo>
                <a:cubicBezTo>
                  <a:pt x="214891" y="315732"/>
                  <a:pt x="238748" y="314441"/>
                  <a:pt x="241686" y="329129"/>
                </a:cubicBezTo>
                <a:cubicBezTo>
                  <a:pt x="242991" y="335654"/>
                  <a:pt x="215013" y="443534"/>
                  <a:pt x="201493" y="459758"/>
                </a:cubicBezTo>
                <a:cubicBezTo>
                  <a:pt x="194712" y="467895"/>
                  <a:pt x="181396" y="466457"/>
                  <a:pt x="171348" y="469806"/>
                </a:cubicBezTo>
                <a:cubicBezTo>
                  <a:pt x="191445" y="473156"/>
                  <a:pt x="217231" y="465448"/>
                  <a:pt x="231638" y="479855"/>
                </a:cubicBezTo>
                <a:cubicBezTo>
                  <a:pt x="240177" y="488394"/>
                  <a:pt x="209037" y="490521"/>
                  <a:pt x="201493" y="499951"/>
                </a:cubicBezTo>
                <a:cubicBezTo>
                  <a:pt x="194876" y="508222"/>
                  <a:pt x="197319" y="521283"/>
                  <a:pt x="191444" y="530096"/>
                </a:cubicBezTo>
                <a:cubicBezTo>
                  <a:pt x="175970" y="553307"/>
                  <a:pt x="153398" y="565509"/>
                  <a:pt x="131154" y="580338"/>
                </a:cubicBezTo>
                <a:cubicBezTo>
                  <a:pt x="124455" y="590386"/>
                  <a:pt x="118789" y="601206"/>
                  <a:pt x="111058" y="610483"/>
                </a:cubicBezTo>
                <a:cubicBezTo>
                  <a:pt x="101961" y="621400"/>
                  <a:pt x="80913" y="626418"/>
                  <a:pt x="80913" y="640628"/>
                </a:cubicBezTo>
                <a:cubicBezTo>
                  <a:pt x="80913" y="651220"/>
                  <a:pt x="101010" y="647327"/>
                  <a:pt x="111058" y="650677"/>
                </a:cubicBezTo>
                <a:cubicBezTo>
                  <a:pt x="0" y="733969"/>
                  <a:pt x="127706" y="623389"/>
                  <a:pt x="141203" y="690870"/>
                </a:cubicBezTo>
                <a:cubicBezTo>
                  <a:pt x="146963" y="719669"/>
                  <a:pt x="70996" y="730998"/>
                  <a:pt x="50768" y="741112"/>
                </a:cubicBezTo>
                <a:cubicBezTo>
                  <a:pt x="39966" y="746513"/>
                  <a:pt x="30671" y="754509"/>
                  <a:pt x="20622" y="761208"/>
                </a:cubicBezTo>
                <a:cubicBezTo>
                  <a:pt x="34020" y="764558"/>
                  <a:pt x="47166" y="769157"/>
                  <a:pt x="60816" y="771257"/>
                </a:cubicBezTo>
                <a:cubicBezTo>
                  <a:pt x="90794" y="775869"/>
                  <a:pt x="124917" y="766257"/>
                  <a:pt x="151251" y="781305"/>
                </a:cubicBezTo>
                <a:cubicBezTo>
                  <a:pt x="161736" y="787297"/>
                  <a:pt x="138885" y="802172"/>
                  <a:pt x="131154" y="811450"/>
                </a:cubicBezTo>
                <a:cubicBezTo>
                  <a:pt x="122057" y="822367"/>
                  <a:pt x="112833" y="833712"/>
                  <a:pt x="101009" y="841595"/>
                </a:cubicBezTo>
                <a:cubicBezTo>
                  <a:pt x="92196" y="847470"/>
                  <a:pt x="80338" y="846907"/>
                  <a:pt x="70864" y="851644"/>
                </a:cubicBezTo>
                <a:cubicBezTo>
                  <a:pt x="60062" y="857045"/>
                  <a:pt x="50767" y="865041"/>
                  <a:pt x="40719" y="871740"/>
                </a:cubicBezTo>
                <a:cubicBezTo>
                  <a:pt x="99500" y="910928"/>
                  <a:pt x="50324" y="884812"/>
                  <a:pt x="161299" y="901885"/>
                </a:cubicBezTo>
                <a:cubicBezTo>
                  <a:pt x="174949" y="903985"/>
                  <a:pt x="188011" y="908938"/>
                  <a:pt x="201493" y="911934"/>
                </a:cubicBezTo>
                <a:cubicBezTo>
                  <a:pt x="218165" y="915639"/>
                  <a:pt x="235258" y="917488"/>
                  <a:pt x="251735" y="921982"/>
                </a:cubicBezTo>
                <a:cubicBezTo>
                  <a:pt x="272172" y="927556"/>
                  <a:pt x="291928" y="935380"/>
                  <a:pt x="312025" y="942079"/>
                </a:cubicBezTo>
                <a:lnTo>
                  <a:pt x="342170" y="952127"/>
                </a:lnTo>
                <a:cubicBezTo>
                  <a:pt x="352218" y="958826"/>
                  <a:pt x="364363" y="963135"/>
                  <a:pt x="372315" y="972224"/>
                </a:cubicBezTo>
                <a:cubicBezTo>
                  <a:pt x="388220" y="990401"/>
                  <a:pt x="390905" y="1021712"/>
                  <a:pt x="412508" y="1032514"/>
                </a:cubicBezTo>
                <a:cubicBezTo>
                  <a:pt x="425906" y="1039213"/>
                  <a:pt x="439857" y="1044904"/>
                  <a:pt x="452702" y="1052611"/>
                </a:cubicBezTo>
                <a:cubicBezTo>
                  <a:pt x="473413" y="1065038"/>
                  <a:pt x="512992" y="1092804"/>
                  <a:pt x="512992" y="1092804"/>
                </a:cubicBezTo>
                <a:cubicBezTo>
                  <a:pt x="529739" y="1089455"/>
                  <a:pt x="554446" y="1097401"/>
                  <a:pt x="563233" y="1082756"/>
                </a:cubicBezTo>
                <a:cubicBezTo>
                  <a:pt x="570940" y="1069911"/>
                  <a:pt x="552726" y="1054069"/>
                  <a:pt x="543137" y="1042562"/>
                </a:cubicBezTo>
                <a:cubicBezTo>
                  <a:pt x="525839" y="1021804"/>
                  <a:pt x="485512" y="1017747"/>
                  <a:pt x="472798" y="992320"/>
                </a:cubicBezTo>
                <a:cubicBezTo>
                  <a:pt x="468061" y="982846"/>
                  <a:pt x="493057" y="998567"/>
                  <a:pt x="502943" y="1002369"/>
                </a:cubicBezTo>
                <a:cubicBezTo>
                  <a:pt x="536613" y="1015319"/>
                  <a:pt x="603427" y="1042562"/>
                  <a:pt x="603427" y="1042562"/>
                </a:cubicBezTo>
                <a:cubicBezTo>
                  <a:pt x="600077" y="1029164"/>
                  <a:pt x="600085" y="1014441"/>
                  <a:pt x="593378" y="1002369"/>
                </a:cubicBezTo>
                <a:cubicBezTo>
                  <a:pt x="582962" y="983621"/>
                  <a:pt x="569325" y="966250"/>
                  <a:pt x="553185" y="952127"/>
                </a:cubicBezTo>
                <a:cubicBezTo>
                  <a:pt x="537902" y="938754"/>
                  <a:pt x="502890" y="928663"/>
                  <a:pt x="482847" y="921982"/>
                </a:cubicBezTo>
                <a:cubicBezTo>
                  <a:pt x="476148" y="911934"/>
                  <a:pt x="457349" y="902639"/>
                  <a:pt x="462750" y="891837"/>
                </a:cubicBezTo>
                <a:cubicBezTo>
                  <a:pt x="475367" y="866603"/>
                  <a:pt x="518873" y="887099"/>
                  <a:pt x="533088" y="891837"/>
                </a:cubicBezTo>
                <a:lnTo>
                  <a:pt x="593378" y="881789"/>
                </a:lnTo>
                <a:cubicBezTo>
                  <a:pt x="593378" y="857636"/>
                  <a:pt x="552411" y="856087"/>
                  <a:pt x="533088" y="841595"/>
                </a:cubicBezTo>
                <a:cubicBezTo>
                  <a:pt x="519690" y="831547"/>
                  <a:pt x="506523" y="821184"/>
                  <a:pt x="492895" y="811450"/>
                </a:cubicBezTo>
                <a:cubicBezTo>
                  <a:pt x="483068" y="804431"/>
                  <a:pt x="472798" y="798052"/>
                  <a:pt x="462750" y="791353"/>
                </a:cubicBezTo>
                <a:cubicBezTo>
                  <a:pt x="472798" y="784654"/>
                  <a:pt x="481438" y="775076"/>
                  <a:pt x="492895" y="771257"/>
                </a:cubicBezTo>
                <a:cubicBezTo>
                  <a:pt x="545949" y="753572"/>
                  <a:pt x="581707" y="770715"/>
                  <a:pt x="523040" y="751160"/>
                </a:cubicBezTo>
                <a:cubicBezTo>
                  <a:pt x="428249" y="687965"/>
                  <a:pt x="546817" y="779614"/>
                  <a:pt x="533088" y="710967"/>
                </a:cubicBezTo>
                <a:cubicBezTo>
                  <a:pt x="529258" y="691816"/>
                  <a:pt x="499409" y="691173"/>
                  <a:pt x="482847" y="680822"/>
                </a:cubicBezTo>
                <a:cubicBezTo>
                  <a:pt x="472606" y="674421"/>
                  <a:pt x="462750" y="667424"/>
                  <a:pt x="452702" y="660725"/>
                </a:cubicBezTo>
                <a:cubicBezTo>
                  <a:pt x="446003" y="650677"/>
                  <a:pt x="441144" y="639119"/>
                  <a:pt x="432605" y="630580"/>
                </a:cubicBezTo>
                <a:cubicBezTo>
                  <a:pt x="424066" y="622041"/>
                  <a:pt x="402460" y="622560"/>
                  <a:pt x="402460" y="610483"/>
                </a:cubicBezTo>
                <a:cubicBezTo>
                  <a:pt x="402460" y="597496"/>
                  <a:pt x="455316" y="582816"/>
                  <a:pt x="462750" y="580338"/>
                </a:cubicBezTo>
                <a:cubicBezTo>
                  <a:pt x="452702" y="573639"/>
                  <a:pt x="443407" y="565642"/>
                  <a:pt x="432605" y="560241"/>
                </a:cubicBezTo>
                <a:cubicBezTo>
                  <a:pt x="423131" y="555504"/>
                  <a:pt x="409950" y="557682"/>
                  <a:pt x="402460" y="550193"/>
                </a:cubicBezTo>
                <a:cubicBezTo>
                  <a:pt x="394970" y="542703"/>
                  <a:pt x="398286" y="528861"/>
                  <a:pt x="392411" y="520048"/>
                </a:cubicBezTo>
                <a:cubicBezTo>
                  <a:pt x="384528" y="508224"/>
                  <a:pt x="372314" y="499951"/>
                  <a:pt x="362266" y="489903"/>
                </a:cubicBezTo>
                <a:cubicBezTo>
                  <a:pt x="372314" y="486554"/>
                  <a:pt x="382071" y="482153"/>
                  <a:pt x="392411" y="479855"/>
                </a:cubicBezTo>
                <a:cubicBezTo>
                  <a:pt x="412300" y="475435"/>
                  <a:pt x="438295" y="484213"/>
                  <a:pt x="452702" y="469806"/>
                </a:cubicBezTo>
                <a:cubicBezTo>
                  <a:pt x="461241" y="461267"/>
                  <a:pt x="433865" y="453950"/>
                  <a:pt x="422557" y="449710"/>
                </a:cubicBezTo>
                <a:cubicBezTo>
                  <a:pt x="406565" y="443713"/>
                  <a:pt x="389062" y="443011"/>
                  <a:pt x="372315" y="439661"/>
                </a:cubicBezTo>
                <a:cubicBezTo>
                  <a:pt x="358917" y="432962"/>
                  <a:pt x="335754" y="434096"/>
                  <a:pt x="332121" y="419564"/>
                </a:cubicBezTo>
                <a:cubicBezTo>
                  <a:pt x="329192" y="407848"/>
                  <a:pt x="350809" y="403287"/>
                  <a:pt x="362266" y="399468"/>
                </a:cubicBezTo>
                <a:cubicBezTo>
                  <a:pt x="381595" y="393025"/>
                  <a:pt x="402460" y="392769"/>
                  <a:pt x="422557" y="389419"/>
                </a:cubicBezTo>
                <a:cubicBezTo>
                  <a:pt x="415858" y="379371"/>
                  <a:pt x="411000" y="367813"/>
                  <a:pt x="402460" y="359274"/>
                </a:cubicBezTo>
                <a:cubicBezTo>
                  <a:pt x="393921" y="350735"/>
                  <a:pt x="381592" y="346909"/>
                  <a:pt x="372315" y="339178"/>
                </a:cubicBezTo>
                <a:cubicBezTo>
                  <a:pt x="361398" y="330081"/>
                  <a:pt x="352218" y="319081"/>
                  <a:pt x="342170" y="309033"/>
                </a:cubicBezTo>
                <a:cubicBezTo>
                  <a:pt x="345519" y="298985"/>
                  <a:pt x="356955" y="288362"/>
                  <a:pt x="352218" y="278888"/>
                </a:cubicBezTo>
                <a:cubicBezTo>
                  <a:pt x="347481" y="269414"/>
                  <a:pt x="318724" y="278887"/>
                  <a:pt x="322073" y="268839"/>
                </a:cubicBezTo>
                <a:cubicBezTo>
                  <a:pt x="326850" y="254507"/>
                  <a:pt x="391775" y="241365"/>
                  <a:pt x="402460" y="238694"/>
                </a:cubicBezTo>
                <a:cubicBezTo>
                  <a:pt x="382364" y="225296"/>
                  <a:pt x="358917" y="215247"/>
                  <a:pt x="352218" y="188452"/>
                </a:cubicBezTo>
                <a:cubicBezTo>
                  <a:pt x="318072" y="51868"/>
                  <a:pt x="368059" y="136849"/>
                  <a:pt x="322073" y="67872"/>
                </a:cubicBezTo>
                <a:lnTo>
                  <a:pt x="322073" y="1763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олилиния 30"/>
          <p:cNvSpPr/>
          <p:nvPr/>
        </p:nvSpPr>
        <p:spPr>
          <a:xfrm>
            <a:off x="7897680" y="4924440"/>
            <a:ext cx="995400" cy="1846080"/>
          </a:xfrm>
          <a:custGeom>
            <a:avLst/>
            <a:gdLst/>
            <a:ahLst/>
            <a:rect l="l" t="t" r="r" b="b"/>
            <a:pathLst>
              <a:path w="994787" h="1847388">
                <a:moveTo>
                  <a:pt x="502418" y="60290"/>
                </a:moveTo>
                <a:cubicBezTo>
                  <a:pt x="502418" y="66989"/>
                  <a:pt x="497810" y="87790"/>
                  <a:pt x="492370" y="100484"/>
                </a:cubicBezTo>
                <a:cubicBezTo>
                  <a:pt x="487613" y="111584"/>
                  <a:pt x="480296" y="121603"/>
                  <a:pt x="472273" y="130629"/>
                </a:cubicBezTo>
                <a:cubicBezTo>
                  <a:pt x="415195" y="194841"/>
                  <a:pt x="434957" y="183261"/>
                  <a:pt x="381838" y="200967"/>
                </a:cubicBezTo>
                <a:cubicBezTo>
                  <a:pt x="408634" y="204317"/>
                  <a:pt x="446023" y="189413"/>
                  <a:pt x="462225" y="211016"/>
                </a:cubicBezTo>
                <a:cubicBezTo>
                  <a:pt x="476856" y="230523"/>
                  <a:pt x="442128" y="281354"/>
                  <a:pt x="442128" y="281354"/>
                </a:cubicBezTo>
                <a:cubicBezTo>
                  <a:pt x="432080" y="301451"/>
                  <a:pt x="426779" y="324735"/>
                  <a:pt x="411983" y="341644"/>
                </a:cubicBezTo>
                <a:cubicBezTo>
                  <a:pt x="370023" y="389598"/>
                  <a:pt x="361602" y="331182"/>
                  <a:pt x="381838" y="391886"/>
                </a:cubicBezTo>
                <a:cubicBezTo>
                  <a:pt x="377136" y="415396"/>
                  <a:pt x="368749" y="473182"/>
                  <a:pt x="351693" y="492370"/>
                </a:cubicBezTo>
                <a:cubicBezTo>
                  <a:pt x="322193" y="525558"/>
                  <a:pt x="235899" y="548952"/>
                  <a:pt x="341644" y="522515"/>
                </a:cubicBezTo>
                <a:cubicBezTo>
                  <a:pt x="351920" y="519946"/>
                  <a:pt x="361741" y="515816"/>
                  <a:pt x="371789" y="512466"/>
                </a:cubicBezTo>
                <a:cubicBezTo>
                  <a:pt x="385187" y="519165"/>
                  <a:pt x="408350" y="518031"/>
                  <a:pt x="411983" y="532563"/>
                </a:cubicBezTo>
                <a:cubicBezTo>
                  <a:pt x="414912" y="544279"/>
                  <a:pt x="391116" y="544929"/>
                  <a:pt x="381838" y="552660"/>
                </a:cubicBezTo>
                <a:cubicBezTo>
                  <a:pt x="370921" y="561757"/>
                  <a:pt x="363517" y="574922"/>
                  <a:pt x="351693" y="582805"/>
                </a:cubicBezTo>
                <a:cubicBezTo>
                  <a:pt x="342880" y="588680"/>
                  <a:pt x="314059" y="600343"/>
                  <a:pt x="321548" y="592853"/>
                </a:cubicBezTo>
                <a:cubicBezTo>
                  <a:pt x="332139" y="582261"/>
                  <a:pt x="348343" y="579455"/>
                  <a:pt x="361741" y="572756"/>
                </a:cubicBezTo>
                <a:cubicBezTo>
                  <a:pt x="378488" y="576106"/>
                  <a:pt x="411983" y="565726"/>
                  <a:pt x="411983" y="582805"/>
                </a:cubicBezTo>
                <a:cubicBezTo>
                  <a:pt x="411983" y="601385"/>
                  <a:pt x="337664" y="635037"/>
                  <a:pt x="321548" y="643095"/>
                </a:cubicBezTo>
                <a:cubicBezTo>
                  <a:pt x="365091" y="649794"/>
                  <a:pt x="410688" y="648375"/>
                  <a:pt x="452176" y="663192"/>
                </a:cubicBezTo>
                <a:cubicBezTo>
                  <a:pt x="462151" y="666754"/>
                  <a:pt x="467675" y="684254"/>
                  <a:pt x="462225" y="693337"/>
                </a:cubicBezTo>
                <a:cubicBezTo>
                  <a:pt x="445165" y="721770"/>
                  <a:pt x="419475" y="745282"/>
                  <a:pt x="391886" y="763675"/>
                </a:cubicBezTo>
                <a:cubicBezTo>
                  <a:pt x="371789" y="777073"/>
                  <a:pt x="353199" y="793066"/>
                  <a:pt x="331596" y="803868"/>
                </a:cubicBezTo>
                <a:cubicBezTo>
                  <a:pt x="318198" y="810567"/>
                  <a:pt x="303592" y="815258"/>
                  <a:pt x="291403" y="823965"/>
                </a:cubicBezTo>
                <a:cubicBezTo>
                  <a:pt x="279839" y="832225"/>
                  <a:pt x="271306" y="844062"/>
                  <a:pt x="261258" y="854110"/>
                </a:cubicBezTo>
                <a:cubicBezTo>
                  <a:pt x="274656" y="860809"/>
                  <a:pt x="287241" y="869470"/>
                  <a:pt x="301451" y="874207"/>
                </a:cubicBezTo>
                <a:cubicBezTo>
                  <a:pt x="327654" y="882941"/>
                  <a:pt x="362307" y="874773"/>
                  <a:pt x="381838" y="894304"/>
                </a:cubicBezTo>
                <a:cubicBezTo>
                  <a:pt x="391886" y="904352"/>
                  <a:pt x="360790" y="913532"/>
                  <a:pt x="351693" y="924449"/>
                </a:cubicBezTo>
                <a:cubicBezTo>
                  <a:pt x="343962" y="933727"/>
                  <a:pt x="340135" y="946055"/>
                  <a:pt x="331596" y="954594"/>
                </a:cubicBezTo>
                <a:cubicBezTo>
                  <a:pt x="299572" y="986618"/>
                  <a:pt x="288357" y="983608"/>
                  <a:pt x="251209" y="1004835"/>
                </a:cubicBezTo>
                <a:cubicBezTo>
                  <a:pt x="240723" y="1010827"/>
                  <a:pt x="231112" y="1018233"/>
                  <a:pt x="221064" y="1024932"/>
                </a:cubicBezTo>
                <a:cubicBezTo>
                  <a:pt x="231112" y="1028282"/>
                  <a:pt x="240740" y="1033370"/>
                  <a:pt x="251209" y="1034981"/>
                </a:cubicBezTo>
                <a:cubicBezTo>
                  <a:pt x="284479" y="1040100"/>
                  <a:pt x="320621" y="1032082"/>
                  <a:pt x="351693" y="1045029"/>
                </a:cubicBezTo>
                <a:cubicBezTo>
                  <a:pt x="365520" y="1050790"/>
                  <a:pt x="365090" y="1071824"/>
                  <a:pt x="371789" y="1085222"/>
                </a:cubicBezTo>
                <a:cubicBezTo>
                  <a:pt x="314650" y="1128077"/>
                  <a:pt x="347483" y="1110072"/>
                  <a:pt x="271306" y="1135464"/>
                </a:cubicBezTo>
                <a:cubicBezTo>
                  <a:pt x="212390" y="1155103"/>
                  <a:pt x="230626" y="1146683"/>
                  <a:pt x="331596" y="1135464"/>
                </a:cubicBezTo>
                <a:cubicBezTo>
                  <a:pt x="328247" y="1145512"/>
                  <a:pt x="330167" y="1159453"/>
                  <a:pt x="321548" y="1165609"/>
                </a:cubicBezTo>
                <a:cubicBezTo>
                  <a:pt x="304310" y="1177922"/>
                  <a:pt x="278884" y="1173955"/>
                  <a:pt x="261258" y="1185706"/>
                </a:cubicBezTo>
                <a:cubicBezTo>
                  <a:pt x="219621" y="1213463"/>
                  <a:pt x="242828" y="1202874"/>
                  <a:pt x="190919" y="1215851"/>
                </a:cubicBezTo>
                <a:cubicBezTo>
                  <a:pt x="160336" y="1307597"/>
                  <a:pt x="185801" y="1261162"/>
                  <a:pt x="100484" y="1346479"/>
                </a:cubicBezTo>
                <a:cubicBezTo>
                  <a:pt x="90436" y="1356527"/>
                  <a:pt x="78221" y="1364800"/>
                  <a:pt x="70339" y="1376624"/>
                </a:cubicBezTo>
                <a:cubicBezTo>
                  <a:pt x="63640" y="1386673"/>
                  <a:pt x="41703" y="1398230"/>
                  <a:pt x="50242" y="1406770"/>
                </a:cubicBezTo>
                <a:cubicBezTo>
                  <a:pt x="58781" y="1415310"/>
                  <a:pt x="70339" y="1393372"/>
                  <a:pt x="80387" y="1386673"/>
                </a:cubicBezTo>
                <a:cubicBezTo>
                  <a:pt x="113882" y="1390022"/>
                  <a:pt x="169052" y="1365203"/>
                  <a:pt x="180871" y="1396721"/>
                </a:cubicBezTo>
                <a:cubicBezTo>
                  <a:pt x="204596" y="1459988"/>
                  <a:pt x="48078" y="1481178"/>
                  <a:pt x="30145" y="1487156"/>
                </a:cubicBezTo>
                <a:lnTo>
                  <a:pt x="0" y="1497205"/>
                </a:lnTo>
                <a:cubicBezTo>
                  <a:pt x="10048" y="1500554"/>
                  <a:pt x="19676" y="1505642"/>
                  <a:pt x="30145" y="1507253"/>
                </a:cubicBezTo>
                <a:cubicBezTo>
                  <a:pt x="125727" y="1521957"/>
                  <a:pt x="105621" y="1507790"/>
                  <a:pt x="170822" y="1527350"/>
                </a:cubicBezTo>
                <a:cubicBezTo>
                  <a:pt x="191112" y="1533437"/>
                  <a:pt x="231112" y="1547446"/>
                  <a:pt x="231112" y="1547446"/>
                </a:cubicBezTo>
                <a:cubicBezTo>
                  <a:pt x="133925" y="1620339"/>
                  <a:pt x="237494" y="1549280"/>
                  <a:pt x="160774" y="1587640"/>
                </a:cubicBezTo>
                <a:cubicBezTo>
                  <a:pt x="82858" y="1626598"/>
                  <a:pt x="176254" y="1592529"/>
                  <a:pt x="100484" y="1617785"/>
                </a:cubicBezTo>
                <a:cubicBezTo>
                  <a:pt x="167473" y="1621134"/>
                  <a:pt x="234630" y="1622022"/>
                  <a:pt x="301451" y="1627833"/>
                </a:cubicBezTo>
                <a:cubicBezTo>
                  <a:pt x="312003" y="1628751"/>
                  <a:pt x="326859" y="1628408"/>
                  <a:pt x="331596" y="1637882"/>
                </a:cubicBezTo>
                <a:cubicBezTo>
                  <a:pt x="336333" y="1647356"/>
                  <a:pt x="324897" y="1657979"/>
                  <a:pt x="321548" y="1668027"/>
                </a:cubicBezTo>
                <a:cubicBezTo>
                  <a:pt x="441893" y="1728198"/>
                  <a:pt x="266069" y="1647057"/>
                  <a:pt x="572756" y="1698172"/>
                </a:cubicBezTo>
                <a:cubicBezTo>
                  <a:pt x="587262" y="1700590"/>
                  <a:pt x="615566" y="1747314"/>
                  <a:pt x="622998" y="1758462"/>
                </a:cubicBezTo>
                <a:cubicBezTo>
                  <a:pt x="633046" y="1755112"/>
                  <a:pt x="645653" y="1755903"/>
                  <a:pt x="653143" y="1748413"/>
                </a:cubicBezTo>
                <a:cubicBezTo>
                  <a:pt x="660633" y="1740923"/>
                  <a:pt x="652916" y="1720837"/>
                  <a:pt x="663192" y="1718268"/>
                </a:cubicBezTo>
                <a:cubicBezTo>
                  <a:pt x="674908" y="1715339"/>
                  <a:pt x="683096" y="1731964"/>
                  <a:pt x="693337" y="1738365"/>
                </a:cubicBezTo>
                <a:cubicBezTo>
                  <a:pt x="709899" y="1748716"/>
                  <a:pt x="727578" y="1757310"/>
                  <a:pt x="743578" y="1768510"/>
                </a:cubicBezTo>
                <a:cubicBezTo>
                  <a:pt x="818048" y="1820640"/>
                  <a:pt x="765593" y="1799295"/>
                  <a:pt x="823965" y="1818752"/>
                </a:cubicBezTo>
                <a:cubicBezTo>
                  <a:pt x="834013" y="1825451"/>
                  <a:pt x="845570" y="1847388"/>
                  <a:pt x="854110" y="1838849"/>
                </a:cubicBezTo>
                <a:cubicBezTo>
                  <a:pt x="862650" y="1830310"/>
                  <a:pt x="842553" y="1817243"/>
                  <a:pt x="834014" y="1808704"/>
                </a:cubicBezTo>
                <a:cubicBezTo>
                  <a:pt x="799854" y="1774544"/>
                  <a:pt x="795981" y="1779099"/>
                  <a:pt x="753627" y="1768510"/>
                </a:cubicBezTo>
                <a:cubicBezTo>
                  <a:pt x="751158" y="1766041"/>
                  <a:pt x="700587" y="1719411"/>
                  <a:pt x="703385" y="1708220"/>
                </a:cubicBezTo>
                <a:cubicBezTo>
                  <a:pt x="705954" y="1697944"/>
                  <a:pt x="722986" y="1699176"/>
                  <a:pt x="733530" y="1698172"/>
                </a:cubicBezTo>
                <a:cubicBezTo>
                  <a:pt x="793641" y="1692447"/>
                  <a:pt x="854110" y="1691473"/>
                  <a:pt x="914400" y="1688123"/>
                </a:cubicBezTo>
                <a:cubicBezTo>
                  <a:pt x="901002" y="1681424"/>
                  <a:pt x="888115" y="1673590"/>
                  <a:pt x="874207" y="1668027"/>
                </a:cubicBezTo>
                <a:cubicBezTo>
                  <a:pt x="854538" y="1660160"/>
                  <a:pt x="813917" y="1647930"/>
                  <a:pt x="813917" y="1647930"/>
                </a:cubicBezTo>
                <a:cubicBezTo>
                  <a:pt x="872582" y="1628376"/>
                  <a:pt x="815934" y="1645517"/>
                  <a:pt x="904352" y="1627833"/>
                </a:cubicBezTo>
                <a:cubicBezTo>
                  <a:pt x="934633" y="1621777"/>
                  <a:pt x="964642" y="1614436"/>
                  <a:pt x="994787" y="1607737"/>
                </a:cubicBezTo>
                <a:cubicBezTo>
                  <a:pt x="981389" y="1601038"/>
                  <a:pt x="967599" y="1595072"/>
                  <a:pt x="954594" y="1587640"/>
                </a:cubicBezTo>
                <a:cubicBezTo>
                  <a:pt x="944109" y="1581648"/>
                  <a:pt x="935414" y="1572604"/>
                  <a:pt x="924449" y="1567543"/>
                </a:cubicBezTo>
                <a:cubicBezTo>
                  <a:pt x="779243" y="1500525"/>
                  <a:pt x="865199" y="1554839"/>
                  <a:pt x="793820" y="1507253"/>
                </a:cubicBezTo>
                <a:cubicBezTo>
                  <a:pt x="807218" y="1503904"/>
                  <a:pt x="820392" y="1499475"/>
                  <a:pt x="834014" y="1497205"/>
                </a:cubicBezTo>
                <a:cubicBezTo>
                  <a:pt x="860650" y="1492766"/>
                  <a:pt x="893655" y="1504444"/>
                  <a:pt x="914400" y="1487156"/>
                </a:cubicBezTo>
                <a:cubicBezTo>
                  <a:pt x="925907" y="1477567"/>
                  <a:pt x="903893" y="1458470"/>
                  <a:pt x="894304" y="1446963"/>
                </a:cubicBezTo>
                <a:cubicBezTo>
                  <a:pt x="879732" y="1429477"/>
                  <a:pt x="829697" y="1412508"/>
                  <a:pt x="813917" y="1406770"/>
                </a:cubicBezTo>
                <a:cubicBezTo>
                  <a:pt x="794009" y="1399531"/>
                  <a:pt x="753627" y="1386673"/>
                  <a:pt x="753627" y="1386673"/>
                </a:cubicBezTo>
                <a:cubicBezTo>
                  <a:pt x="793820" y="1383323"/>
                  <a:pt x="841941" y="1400824"/>
                  <a:pt x="874207" y="1376624"/>
                </a:cubicBezTo>
                <a:cubicBezTo>
                  <a:pt x="896303" y="1360052"/>
                  <a:pt x="819465" y="1366786"/>
                  <a:pt x="793820" y="1356528"/>
                </a:cubicBezTo>
                <a:lnTo>
                  <a:pt x="743578" y="1336431"/>
                </a:lnTo>
                <a:cubicBezTo>
                  <a:pt x="753626" y="1329732"/>
                  <a:pt x="773723" y="1328411"/>
                  <a:pt x="773723" y="1316334"/>
                </a:cubicBezTo>
                <a:cubicBezTo>
                  <a:pt x="773723" y="1291244"/>
                  <a:pt x="729008" y="1281333"/>
                  <a:pt x="713433" y="1276141"/>
                </a:cubicBezTo>
                <a:cubicBezTo>
                  <a:pt x="723481" y="1272792"/>
                  <a:pt x="733433" y="1269137"/>
                  <a:pt x="743578" y="1266093"/>
                </a:cubicBezTo>
                <a:cubicBezTo>
                  <a:pt x="766934" y="1259086"/>
                  <a:pt x="809908" y="1270049"/>
                  <a:pt x="813917" y="1245996"/>
                </a:cubicBezTo>
                <a:cubicBezTo>
                  <a:pt x="817888" y="1222172"/>
                  <a:pt x="753627" y="1205803"/>
                  <a:pt x="753627" y="1205803"/>
                </a:cubicBezTo>
                <a:cubicBezTo>
                  <a:pt x="767070" y="1165471"/>
                  <a:pt x="787595" y="1137131"/>
                  <a:pt x="763675" y="1095271"/>
                </a:cubicBezTo>
                <a:cubicBezTo>
                  <a:pt x="757683" y="1084786"/>
                  <a:pt x="721453" y="1075174"/>
                  <a:pt x="733530" y="1075174"/>
                </a:cubicBezTo>
                <a:cubicBezTo>
                  <a:pt x="754714" y="1075174"/>
                  <a:pt x="793820" y="1095271"/>
                  <a:pt x="793820" y="1095271"/>
                </a:cubicBezTo>
                <a:cubicBezTo>
                  <a:pt x="775865" y="1041404"/>
                  <a:pt x="798200" y="1079328"/>
                  <a:pt x="733530" y="1055077"/>
                </a:cubicBezTo>
                <a:cubicBezTo>
                  <a:pt x="722222" y="1050837"/>
                  <a:pt x="714187" y="1040382"/>
                  <a:pt x="703385" y="1034981"/>
                </a:cubicBezTo>
                <a:cubicBezTo>
                  <a:pt x="693911" y="1030244"/>
                  <a:pt x="683158" y="1028651"/>
                  <a:pt x="673240" y="1024932"/>
                </a:cubicBezTo>
                <a:cubicBezTo>
                  <a:pt x="656351" y="1018598"/>
                  <a:pt x="639131" y="1012902"/>
                  <a:pt x="622998" y="1004835"/>
                </a:cubicBezTo>
                <a:cubicBezTo>
                  <a:pt x="612196" y="999434"/>
                  <a:pt x="602901" y="991438"/>
                  <a:pt x="592853" y="984739"/>
                </a:cubicBezTo>
                <a:lnTo>
                  <a:pt x="783772" y="974690"/>
                </a:lnTo>
                <a:cubicBezTo>
                  <a:pt x="798142" y="970463"/>
                  <a:pt x="774267" y="945089"/>
                  <a:pt x="763675" y="934497"/>
                </a:cubicBezTo>
                <a:cubicBezTo>
                  <a:pt x="746158" y="916980"/>
                  <a:pt x="705718" y="909959"/>
                  <a:pt x="683288" y="904352"/>
                </a:cubicBezTo>
                <a:cubicBezTo>
                  <a:pt x="656337" y="823498"/>
                  <a:pt x="671714" y="902080"/>
                  <a:pt x="813917" y="864159"/>
                </a:cubicBezTo>
                <a:cubicBezTo>
                  <a:pt x="824151" y="861430"/>
                  <a:pt x="820616" y="844062"/>
                  <a:pt x="823965" y="834013"/>
                </a:cubicBezTo>
                <a:cubicBezTo>
                  <a:pt x="813917" y="823965"/>
                  <a:pt x="806757" y="809748"/>
                  <a:pt x="793820" y="803868"/>
                </a:cubicBezTo>
                <a:cubicBezTo>
                  <a:pt x="768675" y="792439"/>
                  <a:pt x="739636" y="792507"/>
                  <a:pt x="713433" y="783772"/>
                </a:cubicBezTo>
                <a:lnTo>
                  <a:pt x="683288" y="773723"/>
                </a:lnTo>
                <a:cubicBezTo>
                  <a:pt x="710084" y="770374"/>
                  <a:pt x="740519" y="777568"/>
                  <a:pt x="763675" y="763675"/>
                </a:cubicBezTo>
                <a:cubicBezTo>
                  <a:pt x="774031" y="757462"/>
                  <a:pt x="744630" y="748335"/>
                  <a:pt x="733530" y="743578"/>
                </a:cubicBezTo>
                <a:cubicBezTo>
                  <a:pt x="720837" y="738138"/>
                  <a:pt x="706735" y="736879"/>
                  <a:pt x="693337" y="733530"/>
                </a:cubicBezTo>
                <a:cubicBezTo>
                  <a:pt x="706735" y="730181"/>
                  <a:pt x="730181" y="736880"/>
                  <a:pt x="733530" y="723482"/>
                </a:cubicBezTo>
                <a:cubicBezTo>
                  <a:pt x="736976" y="709696"/>
                  <a:pt x="714753" y="701863"/>
                  <a:pt x="703385" y="693337"/>
                </a:cubicBezTo>
                <a:cubicBezTo>
                  <a:pt x="638257" y="644491"/>
                  <a:pt x="674243" y="676128"/>
                  <a:pt x="612950" y="653143"/>
                </a:cubicBezTo>
                <a:cubicBezTo>
                  <a:pt x="598924" y="647883"/>
                  <a:pt x="586154" y="639745"/>
                  <a:pt x="572756" y="633046"/>
                </a:cubicBezTo>
                <a:lnTo>
                  <a:pt x="683288" y="622998"/>
                </a:lnTo>
                <a:cubicBezTo>
                  <a:pt x="695640" y="616822"/>
                  <a:pt x="682081" y="593414"/>
                  <a:pt x="673240" y="582805"/>
                </a:cubicBezTo>
                <a:cubicBezTo>
                  <a:pt x="663651" y="571298"/>
                  <a:pt x="645236" y="571414"/>
                  <a:pt x="633047" y="562708"/>
                </a:cubicBezTo>
                <a:cubicBezTo>
                  <a:pt x="621483" y="554448"/>
                  <a:pt x="590191" y="538918"/>
                  <a:pt x="602901" y="532563"/>
                </a:cubicBezTo>
                <a:cubicBezTo>
                  <a:pt x="624085" y="521971"/>
                  <a:pt x="649794" y="539262"/>
                  <a:pt x="673240" y="542611"/>
                </a:cubicBezTo>
                <a:cubicBezTo>
                  <a:pt x="697970" y="550855"/>
                  <a:pt x="755247" y="571946"/>
                  <a:pt x="773723" y="562708"/>
                </a:cubicBezTo>
                <a:cubicBezTo>
                  <a:pt x="786433" y="556353"/>
                  <a:pt x="754946" y="541089"/>
                  <a:pt x="743578" y="532563"/>
                </a:cubicBezTo>
                <a:cubicBezTo>
                  <a:pt x="727954" y="520845"/>
                  <a:pt x="710084" y="512466"/>
                  <a:pt x="693337" y="502418"/>
                </a:cubicBezTo>
                <a:cubicBezTo>
                  <a:pt x="686638" y="492370"/>
                  <a:pt x="670872" y="484115"/>
                  <a:pt x="673240" y="472273"/>
                </a:cubicBezTo>
                <a:cubicBezTo>
                  <a:pt x="675608" y="460431"/>
                  <a:pt x="699566" y="463633"/>
                  <a:pt x="703385" y="452176"/>
                </a:cubicBezTo>
                <a:cubicBezTo>
                  <a:pt x="717264" y="410540"/>
                  <a:pt x="686117" y="409576"/>
                  <a:pt x="663192" y="401934"/>
                </a:cubicBezTo>
                <a:cubicBezTo>
                  <a:pt x="656493" y="391886"/>
                  <a:pt x="637694" y="382591"/>
                  <a:pt x="643095" y="371789"/>
                </a:cubicBezTo>
                <a:cubicBezTo>
                  <a:pt x="649271" y="359437"/>
                  <a:pt x="683288" y="375551"/>
                  <a:pt x="683288" y="361741"/>
                </a:cubicBezTo>
                <a:cubicBezTo>
                  <a:pt x="683288" y="346762"/>
                  <a:pt x="656101" y="349076"/>
                  <a:pt x="643095" y="341644"/>
                </a:cubicBezTo>
                <a:cubicBezTo>
                  <a:pt x="632610" y="335652"/>
                  <a:pt x="623752" y="326949"/>
                  <a:pt x="612950" y="321548"/>
                </a:cubicBezTo>
                <a:cubicBezTo>
                  <a:pt x="598529" y="314338"/>
                  <a:pt x="555496" y="304672"/>
                  <a:pt x="542611" y="301451"/>
                </a:cubicBezTo>
                <a:cubicBezTo>
                  <a:pt x="545961" y="288053"/>
                  <a:pt x="544033" y="272041"/>
                  <a:pt x="552660" y="261257"/>
                </a:cubicBezTo>
                <a:cubicBezTo>
                  <a:pt x="559277" y="252986"/>
                  <a:pt x="573609" y="256464"/>
                  <a:pt x="582805" y="251209"/>
                </a:cubicBezTo>
                <a:cubicBezTo>
                  <a:pt x="597346" y="242900"/>
                  <a:pt x="609600" y="231112"/>
                  <a:pt x="622998" y="221064"/>
                </a:cubicBezTo>
                <a:cubicBezTo>
                  <a:pt x="601801" y="178672"/>
                  <a:pt x="614539" y="180464"/>
                  <a:pt x="572756" y="170822"/>
                </a:cubicBezTo>
                <a:cubicBezTo>
                  <a:pt x="539473" y="163141"/>
                  <a:pt x="472273" y="150726"/>
                  <a:pt x="472273" y="150726"/>
                </a:cubicBezTo>
                <a:cubicBezTo>
                  <a:pt x="465574" y="140678"/>
                  <a:pt x="449247" y="132297"/>
                  <a:pt x="452176" y="120581"/>
                </a:cubicBezTo>
                <a:cubicBezTo>
                  <a:pt x="454745" y="110305"/>
                  <a:pt x="471873" y="112273"/>
                  <a:pt x="482321" y="110532"/>
                </a:cubicBezTo>
                <a:cubicBezTo>
                  <a:pt x="512239" y="105546"/>
                  <a:pt x="542611" y="103833"/>
                  <a:pt x="572756" y="100484"/>
                </a:cubicBezTo>
                <a:lnTo>
                  <a:pt x="532563" y="40194"/>
                </a:lnTo>
                <a:cubicBezTo>
                  <a:pt x="525864" y="30146"/>
                  <a:pt x="524308" y="12418"/>
                  <a:pt x="512466" y="10049"/>
                </a:cubicBezTo>
                <a:lnTo>
                  <a:pt x="462225" y="0"/>
                </a:lnTo>
                <a:cubicBezTo>
                  <a:pt x="472384" y="15240"/>
                  <a:pt x="492370" y="39491"/>
                  <a:pt x="492370" y="60290"/>
                </a:cubicBezTo>
                <a:cubicBezTo>
                  <a:pt x="492370" y="63640"/>
                  <a:pt x="502418" y="53591"/>
                  <a:pt x="502418" y="6029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лилиния 31"/>
          <p:cNvSpPr/>
          <p:nvPr/>
        </p:nvSpPr>
        <p:spPr>
          <a:xfrm>
            <a:off x="7342200" y="5356080"/>
            <a:ext cx="657360" cy="1255680"/>
          </a:xfrm>
          <a:custGeom>
            <a:avLst/>
            <a:gdLst/>
            <a:ahLst/>
            <a:rect l="l" t="t" r="r" b="b"/>
            <a:pathLst>
              <a:path w="656788" h="1256044">
                <a:moveTo>
                  <a:pt x="304834" y="0"/>
                </a:moveTo>
                <a:cubicBezTo>
                  <a:pt x="301484" y="23446"/>
                  <a:pt x="301591" y="47653"/>
                  <a:pt x="294785" y="70339"/>
                </a:cubicBezTo>
                <a:cubicBezTo>
                  <a:pt x="291315" y="81906"/>
                  <a:pt x="280090" y="89682"/>
                  <a:pt x="274689" y="100484"/>
                </a:cubicBezTo>
                <a:cubicBezTo>
                  <a:pt x="233091" y="183679"/>
                  <a:pt x="302132" y="74392"/>
                  <a:pt x="244543" y="160774"/>
                </a:cubicBezTo>
                <a:cubicBezTo>
                  <a:pt x="261290" y="164123"/>
                  <a:pt x="287147" y="155546"/>
                  <a:pt x="294785" y="170822"/>
                </a:cubicBezTo>
                <a:cubicBezTo>
                  <a:pt x="311686" y="204623"/>
                  <a:pt x="261923" y="229575"/>
                  <a:pt x="244543" y="241161"/>
                </a:cubicBezTo>
                <a:cubicBezTo>
                  <a:pt x="263101" y="296832"/>
                  <a:pt x="255120" y="246451"/>
                  <a:pt x="234495" y="301451"/>
                </a:cubicBezTo>
                <a:cubicBezTo>
                  <a:pt x="228498" y="317443"/>
                  <a:pt x="232921" y="336864"/>
                  <a:pt x="224447" y="351693"/>
                </a:cubicBezTo>
                <a:cubicBezTo>
                  <a:pt x="217901" y="363149"/>
                  <a:pt x="160372" y="387412"/>
                  <a:pt x="154108" y="391886"/>
                </a:cubicBezTo>
                <a:cubicBezTo>
                  <a:pt x="142544" y="400146"/>
                  <a:pt x="134880" y="412934"/>
                  <a:pt x="123963" y="422031"/>
                </a:cubicBezTo>
                <a:cubicBezTo>
                  <a:pt x="114685" y="429762"/>
                  <a:pt x="103866" y="435429"/>
                  <a:pt x="93818" y="442128"/>
                </a:cubicBezTo>
                <a:cubicBezTo>
                  <a:pt x="103866" y="445477"/>
                  <a:pt x="113478" y="450678"/>
                  <a:pt x="123963" y="452176"/>
                </a:cubicBezTo>
                <a:cubicBezTo>
                  <a:pt x="160587" y="457408"/>
                  <a:pt x="212992" y="432120"/>
                  <a:pt x="234495" y="462225"/>
                </a:cubicBezTo>
                <a:cubicBezTo>
                  <a:pt x="251014" y="485352"/>
                  <a:pt x="194302" y="502418"/>
                  <a:pt x="174205" y="522515"/>
                </a:cubicBezTo>
                <a:cubicBezTo>
                  <a:pt x="136570" y="560150"/>
                  <a:pt x="157541" y="548166"/>
                  <a:pt x="113915" y="562708"/>
                </a:cubicBezTo>
                <a:cubicBezTo>
                  <a:pt x="123963" y="556009"/>
                  <a:pt x="141131" y="530895"/>
                  <a:pt x="144060" y="542611"/>
                </a:cubicBezTo>
                <a:cubicBezTo>
                  <a:pt x="149198" y="563163"/>
                  <a:pt x="141589" y="591151"/>
                  <a:pt x="123963" y="602902"/>
                </a:cubicBezTo>
                <a:lnTo>
                  <a:pt x="93818" y="622998"/>
                </a:lnTo>
                <a:cubicBezTo>
                  <a:pt x="100517" y="633046"/>
                  <a:pt x="116283" y="641301"/>
                  <a:pt x="113915" y="653143"/>
                </a:cubicBezTo>
                <a:cubicBezTo>
                  <a:pt x="111547" y="664985"/>
                  <a:pt x="78369" y="662438"/>
                  <a:pt x="83770" y="673240"/>
                </a:cubicBezTo>
                <a:cubicBezTo>
                  <a:pt x="92572" y="690845"/>
                  <a:pt x="184394" y="701734"/>
                  <a:pt x="194302" y="703385"/>
                </a:cubicBezTo>
                <a:cubicBezTo>
                  <a:pt x="184254" y="713433"/>
                  <a:pt x="175721" y="725270"/>
                  <a:pt x="164157" y="733530"/>
                </a:cubicBezTo>
                <a:cubicBezTo>
                  <a:pt x="142426" y="749052"/>
                  <a:pt x="118420" y="755475"/>
                  <a:pt x="93818" y="763675"/>
                </a:cubicBezTo>
                <a:cubicBezTo>
                  <a:pt x="120614" y="770374"/>
                  <a:pt x="165471" y="757569"/>
                  <a:pt x="174205" y="783772"/>
                </a:cubicBezTo>
                <a:cubicBezTo>
                  <a:pt x="181843" y="806686"/>
                  <a:pt x="113915" y="823965"/>
                  <a:pt x="113915" y="823965"/>
                </a:cubicBezTo>
                <a:cubicBezTo>
                  <a:pt x="127313" y="827315"/>
                  <a:pt x="148979" y="821192"/>
                  <a:pt x="154108" y="834014"/>
                </a:cubicBezTo>
                <a:cubicBezTo>
                  <a:pt x="159671" y="847922"/>
                  <a:pt x="141286" y="861113"/>
                  <a:pt x="134012" y="874207"/>
                </a:cubicBezTo>
                <a:cubicBezTo>
                  <a:pt x="101654" y="932453"/>
                  <a:pt x="120640" y="918858"/>
                  <a:pt x="73722" y="934497"/>
                </a:cubicBezTo>
                <a:cubicBezTo>
                  <a:pt x="0" y="1008217"/>
                  <a:pt x="74764" y="918017"/>
                  <a:pt x="154108" y="974691"/>
                </a:cubicBezTo>
                <a:cubicBezTo>
                  <a:pt x="169526" y="985704"/>
                  <a:pt x="130162" y="1005136"/>
                  <a:pt x="113915" y="1014884"/>
                </a:cubicBezTo>
                <a:cubicBezTo>
                  <a:pt x="95750" y="1025783"/>
                  <a:pt x="53625" y="1034981"/>
                  <a:pt x="53625" y="1034981"/>
                </a:cubicBezTo>
                <a:cubicBezTo>
                  <a:pt x="113915" y="1038330"/>
                  <a:pt x="175285" y="1033187"/>
                  <a:pt x="234495" y="1045029"/>
                </a:cubicBezTo>
                <a:cubicBezTo>
                  <a:pt x="278121" y="1053754"/>
                  <a:pt x="237751" y="1132208"/>
                  <a:pt x="234495" y="1135464"/>
                </a:cubicBezTo>
                <a:cubicBezTo>
                  <a:pt x="222418" y="1147541"/>
                  <a:pt x="201000" y="1142163"/>
                  <a:pt x="184253" y="1145513"/>
                </a:cubicBezTo>
                <a:cubicBezTo>
                  <a:pt x="209137" y="1151042"/>
                  <a:pt x="327477" y="1176506"/>
                  <a:pt x="355075" y="1185706"/>
                </a:cubicBezTo>
                <a:cubicBezTo>
                  <a:pt x="375172" y="1192405"/>
                  <a:pt x="396080" y="1197037"/>
                  <a:pt x="415365" y="1205803"/>
                </a:cubicBezTo>
                <a:cubicBezTo>
                  <a:pt x="433145" y="1213885"/>
                  <a:pt x="448138" y="1227214"/>
                  <a:pt x="465607" y="1235948"/>
                </a:cubicBezTo>
                <a:cubicBezTo>
                  <a:pt x="496586" y="1251437"/>
                  <a:pt x="548431" y="1252581"/>
                  <a:pt x="576139" y="1256044"/>
                </a:cubicBezTo>
                <a:cubicBezTo>
                  <a:pt x="562741" y="1249345"/>
                  <a:pt x="549714" y="1241849"/>
                  <a:pt x="535946" y="1235948"/>
                </a:cubicBezTo>
                <a:cubicBezTo>
                  <a:pt x="526210" y="1231776"/>
                  <a:pt x="496719" y="1231349"/>
                  <a:pt x="505801" y="1225899"/>
                </a:cubicBezTo>
                <a:cubicBezTo>
                  <a:pt x="529485" y="1211689"/>
                  <a:pt x="586187" y="1205803"/>
                  <a:pt x="586187" y="1205803"/>
                </a:cubicBezTo>
                <a:cubicBezTo>
                  <a:pt x="520806" y="1140422"/>
                  <a:pt x="572789" y="1208483"/>
                  <a:pt x="626381" y="1165609"/>
                </a:cubicBezTo>
                <a:cubicBezTo>
                  <a:pt x="635811" y="1158065"/>
                  <a:pt x="612983" y="1145512"/>
                  <a:pt x="606284" y="1135464"/>
                </a:cubicBezTo>
                <a:cubicBezTo>
                  <a:pt x="602935" y="1118717"/>
                  <a:pt x="607351" y="1098189"/>
                  <a:pt x="596236" y="1085222"/>
                </a:cubicBezTo>
                <a:cubicBezTo>
                  <a:pt x="584497" y="1071527"/>
                  <a:pt x="562477" y="1072452"/>
                  <a:pt x="545994" y="1065126"/>
                </a:cubicBezTo>
                <a:cubicBezTo>
                  <a:pt x="478432" y="1035099"/>
                  <a:pt x="534178" y="1052123"/>
                  <a:pt x="465607" y="1034981"/>
                </a:cubicBezTo>
                <a:cubicBezTo>
                  <a:pt x="525897" y="1031631"/>
                  <a:pt x="587700" y="1038762"/>
                  <a:pt x="646478" y="1024932"/>
                </a:cubicBezTo>
                <a:cubicBezTo>
                  <a:pt x="656788" y="1022506"/>
                  <a:pt x="643046" y="1003058"/>
                  <a:pt x="636429" y="994787"/>
                </a:cubicBezTo>
                <a:cubicBezTo>
                  <a:pt x="628885" y="985357"/>
                  <a:pt x="617320" y="979596"/>
                  <a:pt x="606284" y="974691"/>
                </a:cubicBezTo>
                <a:cubicBezTo>
                  <a:pt x="586926" y="966088"/>
                  <a:pt x="545994" y="954594"/>
                  <a:pt x="545994" y="954594"/>
                </a:cubicBezTo>
                <a:cubicBezTo>
                  <a:pt x="535946" y="947895"/>
                  <a:pt x="512920" y="946213"/>
                  <a:pt x="515849" y="934497"/>
                </a:cubicBezTo>
                <a:cubicBezTo>
                  <a:pt x="525400" y="896290"/>
                  <a:pt x="570198" y="919119"/>
                  <a:pt x="586187" y="924449"/>
                </a:cubicBezTo>
                <a:cubicBezTo>
                  <a:pt x="596236" y="921099"/>
                  <a:pt x="616333" y="924992"/>
                  <a:pt x="616333" y="914400"/>
                </a:cubicBezTo>
                <a:cubicBezTo>
                  <a:pt x="616333" y="902323"/>
                  <a:pt x="597223" y="899209"/>
                  <a:pt x="586187" y="894304"/>
                </a:cubicBezTo>
                <a:cubicBezTo>
                  <a:pt x="566829" y="885701"/>
                  <a:pt x="545994" y="880906"/>
                  <a:pt x="525897" y="874207"/>
                </a:cubicBezTo>
                <a:cubicBezTo>
                  <a:pt x="505800" y="867508"/>
                  <a:pt x="483233" y="865860"/>
                  <a:pt x="465607" y="854110"/>
                </a:cubicBezTo>
                <a:lnTo>
                  <a:pt x="435462" y="834014"/>
                </a:lnTo>
                <a:cubicBezTo>
                  <a:pt x="432113" y="820616"/>
                  <a:pt x="434255" y="804429"/>
                  <a:pt x="425414" y="793820"/>
                </a:cubicBezTo>
                <a:cubicBezTo>
                  <a:pt x="398235" y="761206"/>
                  <a:pt x="347300" y="783205"/>
                  <a:pt x="425414" y="763675"/>
                </a:cubicBezTo>
                <a:cubicBezTo>
                  <a:pt x="435462" y="767025"/>
                  <a:pt x="445725" y="777658"/>
                  <a:pt x="455559" y="773724"/>
                </a:cubicBezTo>
                <a:cubicBezTo>
                  <a:pt x="491770" y="759240"/>
                  <a:pt x="472940" y="727917"/>
                  <a:pt x="455559" y="713433"/>
                </a:cubicBezTo>
                <a:cubicBezTo>
                  <a:pt x="444051" y="703844"/>
                  <a:pt x="428371" y="700769"/>
                  <a:pt x="415365" y="693337"/>
                </a:cubicBezTo>
                <a:cubicBezTo>
                  <a:pt x="404879" y="687345"/>
                  <a:pt x="395268" y="679939"/>
                  <a:pt x="385220" y="673240"/>
                </a:cubicBezTo>
                <a:cubicBezTo>
                  <a:pt x="398618" y="669891"/>
                  <a:pt x="411933" y="666188"/>
                  <a:pt x="425414" y="663192"/>
                </a:cubicBezTo>
                <a:cubicBezTo>
                  <a:pt x="442086" y="659487"/>
                  <a:pt x="468018" y="668419"/>
                  <a:pt x="475656" y="653143"/>
                </a:cubicBezTo>
                <a:cubicBezTo>
                  <a:pt x="482011" y="640433"/>
                  <a:pt x="457075" y="631258"/>
                  <a:pt x="445511" y="622998"/>
                </a:cubicBezTo>
                <a:cubicBezTo>
                  <a:pt x="427593" y="610199"/>
                  <a:pt x="372974" y="589965"/>
                  <a:pt x="355075" y="582805"/>
                </a:cubicBezTo>
                <a:cubicBezTo>
                  <a:pt x="365123" y="579455"/>
                  <a:pt x="374751" y="574367"/>
                  <a:pt x="385220" y="572756"/>
                </a:cubicBezTo>
                <a:cubicBezTo>
                  <a:pt x="418490" y="567637"/>
                  <a:pt x="454069" y="574212"/>
                  <a:pt x="485704" y="562708"/>
                </a:cubicBezTo>
                <a:cubicBezTo>
                  <a:pt x="495658" y="559088"/>
                  <a:pt x="492403" y="542611"/>
                  <a:pt x="495752" y="532563"/>
                </a:cubicBezTo>
                <a:cubicBezTo>
                  <a:pt x="404563" y="486969"/>
                  <a:pt x="440292" y="508988"/>
                  <a:pt x="385220" y="472273"/>
                </a:cubicBezTo>
                <a:cubicBezTo>
                  <a:pt x="395268" y="465574"/>
                  <a:pt x="403649" y="455105"/>
                  <a:pt x="415365" y="452176"/>
                </a:cubicBezTo>
                <a:cubicBezTo>
                  <a:pt x="444790" y="444820"/>
                  <a:pt x="511749" y="471870"/>
                  <a:pt x="505801" y="442128"/>
                </a:cubicBezTo>
                <a:cubicBezTo>
                  <a:pt x="504225" y="434246"/>
                  <a:pt x="407613" y="402699"/>
                  <a:pt x="375172" y="391886"/>
                </a:cubicBezTo>
                <a:cubicBezTo>
                  <a:pt x="395269" y="388537"/>
                  <a:pt x="419553" y="394565"/>
                  <a:pt x="435462" y="381838"/>
                </a:cubicBezTo>
                <a:cubicBezTo>
                  <a:pt x="443733" y="375221"/>
                  <a:pt x="432903" y="359183"/>
                  <a:pt x="425414" y="351693"/>
                </a:cubicBezTo>
                <a:cubicBezTo>
                  <a:pt x="417924" y="344203"/>
                  <a:pt x="405187" y="345363"/>
                  <a:pt x="395269" y="341644"/>
                </a:cubicBezTo>
                <a:cubicBezTo>
                  <a:pt x="299147" y="305598"/>
                  <a:pt x="383305" y="334308"/>
                  <a:pt x="314882" y="311499"/>
                </a:cubicBezTo>
                <a:cubicBezTo>
                  <a:pt x="331629" y="301451"/>
                  <a:pt x="354290" y="297604"/>
                  <a:pt x="365124" y="281354"/>
                </a:cubicBezTo>
                <a:cubicBezTo>
                  <a:pt x="370999" y="272541"/>
                  <a:pt x="350338" y="260683"/>
                  <a:pt x="355075" y="251209"/>
                </a:cubicBezTo>
                <a:cubicBezTo>
                  <a:pt x="359812" y="241735"/>
                  <a:pt x="375172" y="244510"/>
                  <a:pt x="385220" y="241161"/>
                </a:cubicBezTo>
                <a:cubicBezTo>
                  <a:pt x="358424" y="223296"/>
                  <a:pt x="348377" y="222181"/>
                  <a:pt x="334979" y="190919"/>
                </a:cubicBezTo>
                <a:cubicBezTo>
                  <a:pt x="330962" y="181546"/>
                  <a:pt x="322700" y="132308"/>
                  <a:pt x="314882" y="120581"/>
                </a:cubicBezTo>
                <a:cubicBezTo>
                  <a:pt x="297162" y="94001"/>
                  <a:pt x="288107" y="92121"/>
                  <a:pt x="264640" y="80387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32"/>
          <p:cNvSpPr/>
          <p:nvPr/>
        </p:nvSpPr>
        <p:spPr>
          <a:xfrm>
            <a:off x="6578640" y="5075280"/>
            <a:ext cx="787320" cy="1500120"/>
          </a:xfrm>
          <a:custGeom>
            <a:avLst/>
            <a:gdLst/>
            <a:ahLst/>
            <a:rect l="l" t="t" r="r" b="b"/>
            <a:pathLst>
              <a:path w="786784" h="1500344">
                <a:moveTo>
                  <a:pt x="334608" y="39480"/>
                </a:moveTo>
                <a:cubicBezTo>
                  <a:pt x="331259" y="69625"/>
                  <a:pt x="329546" y="99997"/>
                  <a:pt x="324560" y="129915"/>
                </a:cubicBezTo>
                <a:cubicBezTo>
                  <a:pt x="322819" y="140363"/>
                  <a:pt x="320386" y="151247"/>
                  <a:pt x="314511" y="160060"/>
                </a:cubicBezTo>
                <a:cubicBezTo>
                  <a:pt x="306628" y="171884"/>
                  <a:pt x="294414" y="180157"/>
                  <a:pt x="284366" y="190205"/>
                </a:cubicBezTo>
                <a:cubicBezTo>
                  <a:pt x="258055" y="269139"/>
                  <a:pt x="281446" y="165728"/>
                  <a:pt x="324560" y="230399"/>
                </a:cubicBezTo>
                <a:cubicBezTo>
                  <a:pt x="349393" y="267648"/>
                  <a:pt x="302381" y="288727"/>
                  <a:pt x="284366" y="300737"/>
                </a:cubicBezTo>
                <a:cubicBezTo>
                  <a:pt x="294414" y="304086"/>
                  <a:pt x="304235" y="308216"/>
                  <a:pt x="314511" y="310785"/>
                </a:cubicBezTo>
                <a:cubicBezTo>
                  <a:pt x="331080" y="314927"/>
                  <a:pt x="352676" y="308757"/>
                  <a:pt x="364753" y="320834"/>
                </a:cubicBezTo>
                <a:cubicBezTo>
                  <a:pt x="372243" y="328324"/>
                  <a:pt x="359442" y="341505"/>
                  <a:pt x="354705" y="350979"/>
                </a:cubicBezTo>
                <a:cubicBezTo>
                  <a:pt x="340716" y="378957"/>
                  <a:pt x="326685" y="389047"/>
                  <a:pt x="304463" y="411269"/>
                </a:cubicBezTo>
                <a:cubicBezTo>
                  <a:pt x="294513" y="441119"/>
                  <a:pt x="288155" y="477818"/>
                  <a:pt x="264269" y="501704"/>
                </a:cubicBezTo>
                <a:cubicBezTo>
                  <a:pt x="255730" y="510243"/>
                  <a:pt x="244172" y="515102"/>
                  <a:pt x="234124" y="521801"/>
                </a:cubicBezTo>
                <a:cubicBezTo>
                  <a:pt x="257570" y="525150"/>
                  <a:pt x="284756" y="518712"/>
                  <a:pt x="304463" y="531849"/>
                </a:cubicBezTo>
                <a:cubicBezTo>
                  <a:pt x="313276" y="537724"/>
                  <a:pt x="301905" y="554504"/>
                  <a:pt x="294415" y="561994"/>
                </a:cubicBezTo>
                <a:cubicBezTo>
                  <a:pt x="286925" y="569484"/>
                  <a:pt x="273743" y="567306"/>
                  <a:pt x="264269" y="572043"/>
                </a:cubicBezTo>
                <a:cubicBezTo>
                  <a:pt x="253467" y="577444"/>
                  <a:pt x="244172" y="585440"/>
                  <a:pt x="234124" y="592139"/>
                </a:cubicBezTo>
                <a:cubicBezTo>
                  <a:pt x="247522" y="595489"/>
                  <a:pt x="261039" y="598394"/>
                  <a:pt x="274318" y="602188"/>
                </a:cubicBezTo>
                <a:cubicBezTo>
                  <a:pt x="284502" y="605098"/>
                  <a:pt x="304463" y="601644"/>
                  <a:pt x="304463" y="612236"/>
                </a:cubicBezTo>
                <a:cubicBezTo>
                  <a:pt x="304463" y="626446"/>
                  <a:pt x="285235" y="633284"/>
                  <a:pt x="274318" y="642381"/>
                </a:cubicBezTo>
                <a:cubicBezTo>
                  <a:pt x="241634" y="669618"/>
                  <a:pt x="239509" y="663411"/>
                  <a:pt x="193931" y="672526"/>
                </a:cubicBezTo>
                <a:cubicBezTo>
                  <a:pt x="220727" y="679225"/>
                  <a:pt x="278224" y="665280"/>
                  <a:pt x="274318" y="692623"/>
                </a:cubicBezTo>
                <a:cubicBezTo>
                  <a:pt x="270968" y="716069"/>
                  <a:pt x="274070" y="741400"/>
                  <a:pt x="264269" y="762961"/>
                </a:cubicBezTo>
                <a:cubicBezTo>
                  <a:pt x="253674" y="786271"/>
                  <a:pt x="215534" y="808849"/>
                  <a:pt x="193931" y="823251"/>
                </a:cubicBezTo>
                <a:cubicBezTo>
                  <a:pt x="216798" y="834685"/>
                  <a:pt x="257854" y="842498"/>
                  <a:pt x="244173" y="883542"/>
                </a:cubicBezTo>
                <a:cubicBezTo>
                  <a:pt x="240354" y="894999"/>
                  <a:pt x="224076" y="896939"/>
                  <a:pt x="214028" y="903638"/>
                </a:cubicBezTo>
                <a:cubicBezTo>
                  <a:pt x="250872" y="906988"/>
                  <a:pt x="289920" y="900697"/>
                  <a:pt x="324560" y="913687"/>
                </a:cubicBezTo>
                <a:cubicBezTo>
                  <a:pt x="335868" y="917927"/>
                  <a:pt x="303693" y="926052"/>
                  <a:pt x="294415" y="933783"/>
                </a:cubicBezTo>
                <a:cubicBezTo>
                  <a:pt x="283498" y="942880"/>
                  <a:pt x="276258" y="956299"/>
                  <a:pt x="264269" y="963928"/>
                </a:cubicBezTo>
                <a:cubicBezTo>
                  <a:pt x="204258" y="1002117"/>
                  <a:pt x="197860" y="1000628"/>
                  <a:pt x="143689" y="1014170"/>
                </a:cubicBezTo>
                <a:cubicBezTo>
                  <a:pt x="138705" y="1017492"/>
                  <a:pt x="78563" y="1054741"/>
                  <a:pt x="83399" y="1064412"/>
                </a:cubicBezTo>
                <a:cubicBezTo>
                  <a:pt x="89575" y="1076764"/>
                  <a:pt x="110195" y="1057713"/>
                  <a:pt x="123593" y="1054364"/>
                </a:cubicBezTo>
                <a:cubicBezTo>
                  <a:pt x="136991" y="1057713"/>
                  <a:pt x="158657" y="1051590"/>
                  <a:pt x="163786" y="1064412"/>
                </a:cubicBezTo>
                <a:cubicBezTo>
                  <a:pt x="169349" y="1078320"/>
                  <a:pt x="151121" y="1091599"/>
                  <a:pt x="143689" y="1104605"/>
                </a:cubicBezTo>
                <a:cubicBezTo>
                  <a:pt x="116893" y="1151499"/>
                  <a:pt x="133643" y="1121351"/>
                  <a:pt x="93447" y="1154847"/>
                </a:cubicBezTo>
                <a:cubicBezTo>
                  <a:pt x="82530" y="1163944"/>
                  <a:pt x="74091" y="1175744"/>
                  <a:pt x="63302" y="1184992"/>
                </a:cubicBezTo>
                <a:cubicBezTo>
                  <a:pt x="50587" y="1195891"/>
                  <a:pt x="36507" y="1205089"/>
                  <a:pt x="23109" y="1215137"/>
                </a:cubicBezTo>
                <a:cubicBezTo>
                  <a:pt x="0" y="1284467"/>
                  <a:pt x="3676" y="1240890"/>
                  <a:pt x="133641" y="1255331"/>
                </a:cubicBezTo>
                <a:cubicBezTo>
                  <a:pt x="153890" y="1257581"/>
                  <a:pt x="173834" y="1262030"/>
                  <a:pt x="193931" y="1265379"/>
                </a:cubicBezTo>
                <a:cubicBezTo>
                  <a:pt x="187232" y="1278777"/>
                  <a:pt x="183423" y="1294065"/>
                  <a:pt x="173834" y="1305572"/>
                </a:cubicBezTo>
                <a:cubicBezTo>
                  <a:pt x="166103" y="1314850"/>
                  <a:pt x="152967" y="1317938"/>
                  <a:pt x="143689" y="1325669"/>
                </a:cubicBezTo>
                <a:cubicBezTo>
                  <a:pt x="93510" y="1367485"/>
                  <a:pt x="136375" y="1348204"/>
                  <a:pt x="83399" y="1365862"/>
                </a:cubicBezTo>
                <a:cubicBezTo>
                  <a:pt x="96797" y="1372561"/>
                  <a:pt x="108946" y="1382820"/>
                  <a:pt x="123593" y="1385959"/>
                </a:cubicBezTo>
                <a:cubicBezTo>
                  <a:pt x="156507" y="1393012"/>
                  <a:pt x="190710" y="1391558"/>
                  <a:pt x="224076" y="1396007"/>
                </a:cubicBezTo>
                <a:cubicBezTo>
                  <a:pt x="264490" y="1401396"/>
                  <a:pt x="270651" y="1404834"/>
                  <a:pt x="304463" y="1416104"/>
                </a:cubicBezTo>
                <a:lnTo>
                  <a:pt x="274318" y="1406056"/>
                </a:lnTo>
                <a:cubicBezTo>
                  <a:pt x="291065" y="1419454"/>
                  <a:pt x="305035" y="1437374"/>
                  <a:pt x="324560" y="1446249"/>
                </a:cubicBezTo>
                <a:cubicBezTo>
                  <a:pt x="343108" y="1454680"/>
                  <a:pt x="364961" y="1451878"/>
                  <a:pt x="384850" y="1456298"/>
                </a:cubicBezTo>
                <a:cubicBezTo>
                  <a:pt x="395190" y="1458596"/>
                  <a:pt x="404776" y="1463559"/>
                  <a:pt x="414995" y="1466346"/>
                </a:cubicBezTo>
                <a:cubicBezTo>
                  <a:pt x="539656" y="1500344"/>
                  <a:pt x="456141" y="1473363"/>
                  <a:pt x="525527" y="1496491"/>
                </a:cubicBezTo>
                <a:cubicBezTo>
                  <a:pt x="513241" y="1471919"/>
                  <a:pt x="503087" y="1447458"/>
                  <a:pt x="485333" y="1426153"/>
                </a:cubicBezTo>
                <a:cubicBezTo>
                  <a:pt x="476236" y="1415236"/>
                  <a:pt x="463448" y="1407571"/>
                  <a:pt x="455188" y="1396007"/>
                </a:cubicBezTo>
                <a:cubicBezTo>
                  <a:pt x="446482" y="1383818"/>
                  <a:pt x="442523" y="1368820"/>
                  <a:pt x="435091" y="1355814"/>
                </a:cubicBezTo>
                <a:cubicBezTo>
                  <a:pt x="429099" y="1345329"/>
                  <a:pt x="406456" y="1334208"/>
                  <a:pt x="414995" y="1325669"/>
                </a:cubicBezTo>
                <a:cubicBezTo>
                  <a:pt x="424760" y="1315904"/>
                  <a:pt x="441909" y="1331923"/>
                  <a:pt x="455188" y="1335717"/>
                </a:cubicBezTo>
                <a:cubicBezTo>
                  <a:pt x="465372" y="1338627"/>
                  <a:pt x="475149" y="1342856"/>
                  <a:pt x="485333" y="1345766"/>
                </a:cubicBezTo>
                <a:cubicBezTo>
                  <a:pt x="498612" y="1349560"/>
                  <a:pt x="512248" y="1352020"/>
                  <a:pt x="525527" y="1355814"/>
                </a:cubicBezTo>
                <a:cubicBezTo>
                  <a:pt x="626487" y="1384658"/>
                  <a:pt x="470148" y="1344479"/>
                  <a:pt x="595865" y="1375911"/>
                </a:cubicBezTo>
                <a:cubicBezTo>
                  <a:pt x="612612" y="1372561"/>
                  <a:pt x="640706" y="1382065"/>
                  <a:pt x="646107" y="1365862"/>
                </a:cubicBezTo>
                <a:cubicBezTo>
                  <a:pt x="650844" y="1351651"/>
                  <a:pt x="619821" y="1351329"/>
                  <a:pt x="605913" y="1345766"/>
                </a:cubicBezTo>
                <a:cubicBezTo>
                  <a:pt x="586244" y="1337899"/>
                  <a:pt x="545623" y="1325669"/>
                  <a:pt x="545623" y="1325669"/>
                </a:cubicBezTo>
                <a:cubicBezTo>
                  <a:pt x="554722" y="1332493"/>
                  <a:pt x="601272" y="1368566"/>
                  <a:pt x="615962" y="1375911"/>
                </a:cubicBezTo>
                <a:cubicBezTo>
                  <a:pt x="625436" y="1380648"/>
                  <a:pt x="636059" y="1382610"/>
                  <a:pt x="646107" y="1385959"/>
                </a:cubicBezTo>
                <a:cubicBezTo>
                  <a:pt x="666204" y="1382610"/>
                  <a:pt x="691991" y="1390317"/>
                  <a:pt x="706397" y="1375911"/>
                </a:cubicBezTo>
                <a:cubicBezTo>
                  <a:pt x="714936" y="1367372"/>
                  <a:pt x="694839" y="1354305"/>
                  <a:pt x="686300" y="1345766"/>
                </a:cubicBezTo>
                <a:cubicBezTo>
                  <a:pt x="674458" y="1333924"/>
                  <a:pt x="658822" y="1326520"/>
                  <a:pt x="646107" y="1315621"/>
                </a:cubicBezTo>
                <a:cubicBezTo>
                  <a:pt x="635318" y="1306373"/>
                  <a:pt x="627526" y="1293736"/>
                  <a:pt x="615962" y="1285476"/>
                </a:cubicBezTo>
                <a:cubicBezTo>
                  <a:pt x="603773" y="1276769"/>
                  <a:pt x="565176" y="1254787"/>
                  <a:pt x="575768" y="1265379"/>
                </a:cubicBezTo>
                <a:cubicBezTo>
                  <a:pt x="609454" y="1299065"/>
                  <a:pt x="645142" y="1297329"/>
                  <a:pt x="686300" y="1315621"/>
                </a:cubicBezTo>
                <a:cubicBezTo>
                  <a:pt x="697336" y="1320526"/>
                  <a:pt x="706397" y="1329018"/>
                  <a:pt x="716445" y="1335717"/>
                </a:cubicBezTo>
                <a:cubicBezTo>
                  <a:pt x="733192" y="1332368"/>
                  <a:pt x="759959" y="1341367"/>
                  <a:pt x="766687" y="1325669"/>
                </a:cubicBezTo>
                <a:cubicBezTo>
                  <a:pt x="775032" y="1306198"/>
                  <a:pt x="756878" y="1283897"/>
                  <a:pt x="746590" y="1265379"/>
                </a:cubicBezTo>
                <a:cubicBezTo>
                  <a:pt x="739689" y="1252957"/>
                  <a:pt x="725542" y="1246151"/>
                  <a:pt x="716445" y="1235234"/>
                </a:cubicBezTo>
                <a:cubicBezTo>
                  <a:pt x="708714" y="1225957"/>
                  <a:pt x="704080" y="1214366"/>
                  <a:pt x="696349" y="1205089"/>
                </a:cubicBezTo>
                <a:cubicBezTo>
                  <a:pt x="631869" y="1127712"/>
                  <a:pt x="696008" y="1219650"/>
                  <a:pt x="646107" y="1144799"/>
                </a:cubicBezTo>
                <a:cubicBezTo>
                  <a:pt x="656155" y="1141449"/>
                  <a:pt x="665660" y="1134750"/>
                  <a:pt x="676252" y="1134750"/>
                </a:cubicBezTo>
                <a:cubicBezTo>
                  <a:pt x="693331" y="1134750"/>
                  <a:pt x="709690" y="1141744"/>
                  <a:pt x="726494" y="1144799"/>
                </a:cubicBezTo>
                <a:cubicBezTo>
                  <a:pt x="746539" y="1148444"/>
                  <a:pt x="766687" y="1151498"/>
                  <a:pt x="786784" y="1154847"/>
                </a:cubicBezTo>
                <a:cubicBezTo>
                  <a:pt x="783434" y="1141449"/>
                  <a:pt x="784396" y="1126145"/>
                  <a:pt x="776735" y="1114654"/>
                </a:cubicBezTo>
                <a:cubicBezTo>
                  <a:pt x="766011" y="1098568"/>
                  <a:pt x="706382" y="1078108"/>
                  <a:pt x="696349" y="1074460"/>
                </a:cubicBezTo>
                <a:cubicBezTo>
                  <a:pt x="676440" y="1067221"/>
                  <a:pt x="636058" y="1054364"/>
                  <a:pt x="636058" y="1054364"/>
                </a:cubicBezTo>
                <a:cubicBezTo>
                  <a:pt x="615961" y="1040966"/>
                  <a:pt x="552336" y="1020028"/>
                  <a:pt x="575768" y="1014170"/>
                </a:cubicBezTo>
                <a:lnTo>
                  <a:pt x="656155" y="994073"/>
                </a:lnTo>
                <a:cubicBezTo>
                  <a:pt x="649456" y="980675"/>
                  <a:pt x="644765" y="966069"/>
                  <a:pt x="636058" y="953880"/>
                </a:cubicBezTo>
                <a:cubicBezTo>
                  <a:pt x="603400" y="908159"/>
                  <a:pt x="610107" y="935344"/>
                  <a:pt x="565720" y="903638"/>
                </a:cubicBezTo>
                <a:cubicBezTo>
                  <a:pt x="554156" y="895378"/>
                  <a:pt x="545623" y="883541"/>
                  <a:pt x="535575" y="873493"/>
                </a:cubicBezTo>
                <a:cubicBezTo>
                  <a:pt x="538924" y="863445"/>
                  <a:pt x="549557" y="853182"/>
                  <a:pt x="545623" y="843348"/>
                </a:cubicBezTo>
                <a:cubicBezTo>
                  <a:pt x="541138" y="832135"/>
                  <a:pt x="524756" y="830982"/>
                  <a:pt x="515478" y="823251"/>
                </a:cubicBezTo>
                <a:cubicBezTo>
                  <a:pt x="504561" y="814154"/>
                  <a:pt x="496250" y="802203"/>
                  <a:pt x="485333" y="793106"/>
                </a:cubicBezTo>
                <a:cubicBezTo>
                  <a:pt x="476056" y="785375"/>
                  <a:pt x="444386" y="778411"/>
                  <a:pt x="455188" y="773010"/>
                </a:cubicBezTo>
                <a:cubicBezTo>
                  <a:pt x="470464" y="765372"/>
                  <a:pt x="488953" y="778564"/>
                  <a:pt x="505430" y="783058"/>
                </a:cubicBezTo>
                <a:cubicBezTo>
                  <a:pt x="525867" y="788632"/>
                  <a:pt x="565720" y="803155"/>
                  <a:pt x="565720" y="803155"/>
                </a:cubicBezTo>
                <a:cubicBezTo>
                  <a:pt x="574759" y="776037"/>
                  <a:pt x="585346" y="762256"/>
                  <a:pt x="565720" y="732816"/>
                </a:cubicBezTo>
                <a:cubicBezTo>
                  <a:pt x="559021" y="722768"/>
                  <a:pt x="545623" y="719419"/>
                  <a:pt x="535575" y="712720"/>
                </a:cubicBezTo>
                <a:cubicBezTo>
                  <a:pt x="532226" y="702671"/>
                  <a:pt x="533017" y="690064"/>
                  <a:pt x="525527" y="682574"/>
                </a:cubicBezTo>
                <a:cubicBezTo>
                  <a:pt x="505431" y="662478"/>
                  <a:pt x="465236" y="682574"/>
                  <a:pt x="525527" y="662478"/>
                </a:cubicBezTo>
                <a:cubicBezTo>
                  <a:pt x="508621" y="611765"/>
                  <a:pt x="527754" y="648597"/>
                  <a:pt x="485333" y="612236"/>
                </a:cubicBezTo>
                <a:cubicBezTo>
                  <a:pt x="400051" y="539137"/>
                  <a:pt x="484201" y="598084"/>
                  <a:pt x="414995" y="551946"/>
                </a:cubicBezTo>
                <a:cubicBezTo>
                  <a:pt x="411645" y="538548"/>
                  <a:pt x="400978" y="524981"/>
                  <a:pt x="404946" y="511753"/>
                </a:cubicBezTo>
                <a:cubicBezTo>
                  <a:pt x="411886" y="488618"/>
                  <a:pt x="445140" y="451462"/>
                  <a:pt x="445140" y="451462"/>
                </a:cubicBezTo>
                <a:cubicBezTo>
                  <a:pt x="464111" y="394548"/>
                  <a:pt x="456735" y="446634"/>
                  <a:pt x="425043" y="391172"/>
                </a:cubicBezTo>
                <a:cubicBezTo>
                  <a:pt x="418191" y="379182"/>
                  <a:pt x="425604" y="359820"/>
                  <a:pt x="414995" y="350979"/>
                </a:cubicBezTo>
                <a:cubicBezTo>
                  <a:pt x="401875" y="340045"/>
                  <a:pt x="381500" y="344280"/>
                  <a:pt x="364753" y="340931"/>
                </a:cubicBezTo>
                <a:cubicBezTo>
                  <a:pt x="371452" y="330882"/>
                  <a:pt x="376310" y="319325"/>
                  <a:pt x="384850" y="310785"/>
                </a:cubicBezTo>
                <a:cubicBezTo>
                  <a:pt x="393389" y="302246"/>
                  <a:pt x="414995" y="302765"/>
                  <a:pt x="414995" y="290689"/>
                </a:cubicBezTo>
                <a:lnTo>
                  <a:pt x="384850" y="260544"/>
                </a:lnTo>
                <a:cubicBezTo>
                  <a:pt x="381500" y="250496"/>
                  <a:pt x="379538" y="239873"/>
                  <a:pt x="374801" y="230399"/>
                </a:cubicBezTo>
                <a:cubicBezTo>
                  <a:pt x="369400" y="219597"/>
                  <a:pt x="352336" y="212096"/>
                  <a:pt x="354705" y="200254"/>
                </a:cubicBezTo>
                <a:cubicBezTo>
                  <a:pt x="357074" y="188412"/>
                  <a:pt x="374802" y="186856"/>
                  <a:pt x="384850" y="180157"/>
                </a:cubicBezTo>
                <a:cubicBezTo>
                  <a:pt x="374802" y="176808"/>
                  <a:pt x="364889" y="173019"/>
                  <a:pt x="354705" y="170109"/>
                </a:cubicBezTo>
                <a:cubicBezTo>
                  <a:pt x="341426" y="166315"/>
                  <a:pt x="325295" y="168687"/>
                  <a:pt x="314511" y="160060"/>
                </a:cubicBezTo>
                <a:cubicBezTo>
                  <a:pt x="306240" y="153443"/>
                  <a:pt x="307812" y="139963"/>
                  <a:pt x="304463" y="129915"/>
                </a:cubicBezTo>
                <a:cubicBezTo>
                  <a:pt x="314511" y="123216"/>
                  <a:pt x="323806" y="115219"/>
                  <a:pt x="334608" y="109818"/>
                </a:cubicBezTo>
                <a:cubicBezTo>
                  <a:pt x="344082" y="105081"/>
                  <a:pt x="364753" y="110362"/>
                  <a:pt x="364753" y="99770"/>
                </a:cubicBezTo>
                <a:cubicBezTo>
                  <a:pt x="364753" y="87693"/>
                  <a:pt x="344656" y="86372"/>
                  <a:pt x="334608" y="79673"/>
                </a:cubicBezTo>
                <a:cubicBezTo>
                  <a:pt x="337957" y="69625"/>
                  <a:pt x="338781" y="58341"/>
                  <a:pt x="344656" y="49528"/>
                </a:cubicBezTo>
                <a:cubicBezTo>
                  <a:pt x="377674" y="0"/>
                  <a:pt x="428567" y="13409"/>
                  <a:pt x="284366" y="29432"/>
                </a:cubicBezTo>
                <a:cubicBezTo>
                  <a:pt x="291065" y="39480"/>
                  <a:pt x="299062" y="48775"/>
                  <a:pt x="304463" y="59577"/>
                </a:cubicBezTo>
                <a:cubicBezTo>
                  <a:pt x="309200" y="69051"/>
                  <a:pt x="309061" y="80640"/>
                  <a:pt x="314511" y="89722"/>
                </a:cubicBezTo>
                <a:cubicBezTo>
                  <a:pt x="319385" y="97846"/>
                  <a:pt x="327909" y="103119"/>
                  <a:pt x="334608" y="1098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лилиния 33"/>
          <p:cNvSpPr/>
          <p:nvPr/>
        </p:nvSpPr>
        <p:spPr>
          <a:xfrm>
            <a:off x="5897520" y="3587760"/>
            <a:ext cx="1903320" cy="2374920"/>
          </a:xfrm>
          <a:custGeom>
            <a:avLst/>
            <a:gdLst/>
            <a:ahLst/>
            <a:rect l="l" t="t" r="r" b="b"/>
            <a:pathLst>
              <a:path w="1901937" h="2375564">
                <a:moveTo>
                  <a:pt x="130698" y="2019718"/>
                </a:moveTo>
                <a:cubicBezTo>
                  <a:pt x="150795" y="2002971"/>
                  <a:pt x="173762" y="1989164"/>
                  <a:pt x="190988" y="1969476"/>
                </a:cubicBezTo>
                <a:cubicBezTo>
                  <a:pt x="197963" y="1961505"/>
                  <a:pt x="199982" y="1949870"/>
                  <a:pt x="201036" y="1939331"/>
                </a:cubicBezTo>
                <a:cubicBezTo>
                  <a:pt x="206712" y="1882575"/>
                  <a:pt x="190300" y="1821626"/>
                  <a:pt x="211085" y="1768509"/>
                </a:cubicBezTo>
                <a:cubicBezTo>
                  <a:pt x="223290" y="1737317"/>
                  <a:pt x="267788" y="1731903"/>
                  <a:pt x="291472" y="1708219"/>
                </a:cubicBezTo>
                <a:lnTo>
                  <a:pt x="321617" y="1678074"/>
                </a:lnTo>
                <a:cubicBezTo>
                  <a:pt x="339334" y="1624921"/>
                  <a:pt x="327564" y="1665455"/>
                  <a:pt x="341713" y="1587639"/>
                </a:cubicBezTo>
                <a:cubicBezTo>
                  <a:pt x="344768" y="1570835"/>
                  <a:pt x="336768" y="1545575"/>
                  <a:pt x="351762" y="1537397"/>
                </a:cubicBezTo>
                <a:cubicBezTo>
                  <a:pt x="381313" y="1521278"/>
                  <a:pt x="418751" y="1530698"/>
                  <a:pt x="452245" y="1527349"/>
                </a:cubicBezTo>
                <a:cubicBezTo>
                  <a:pt x="509841" y="1440957"/>
                  <a:pt x="433150" y="1542625"/>
                  <a:pt x="502487" y="1487156"/>
                </a:cubicBezTo>
                <a:cubicBezTo>
                  <a:pt x="511917" y="1479612"/>
                  <a:pt x="515565" y="1466838"/>
                  <a:pt x="522584" y="1457011"/>
                </a:cubicBezTo>
                <a:cubicBezTo>
                  <a:pt x="554812" y="1411892"/>
                  <a:pt x="546354" y="1423192"/>
                  <a:pt x="582874" y="1386672"/>
                </a:cubicBezTo>
                <a:cubicBezTo>
                  <a:pt x="593270" y="1355484"/>
                  <a:pt x="594392" y="1347379"/>
                  <a:pt x="613019" y="1316334"/>
                </a:cubicBezTo>
                <a:cubicBezTo>
                  <a:pt x="625446" y="1295623"/>
                  <a:pt x="629780" y="1261901"/>
                  <a:pt x="653212" y="1256043"/>
                </a:cubicBezTo>
                <a:lnTo>
                  <a:pt x="693406" y="1245995"/>
                </a:lnTo>
                <a:cubicBezTo>
                  <a:pt x="706804" y="1239296"/>
                  <a:pt x="719831" y="1231799"/>
                  <a:pt x="733599" y="1225898"/>
                </a:cubicBezTo>
                <a:cubicBezTo>
                  <a:pt x="780438" y="1205824"/>
                  <a:pt x="817478" y="1210965"/>
                  <a:pt x="874276" y="1205802"/>
                </a:cubicBezTo>
                <a:cubicBezTo>
                  <a:pt x="884324" y="1202452"/>
                  <a:pt x="894237" y="1198663"/>
                  <a:pt x="904421" y="1195753"/>
                </a:cubicBezTo>
                <a:cubicBezTo>
                  <a:pt x="992777" y="1170508"/>
                  <a:pt x="902453" y="1199758"/>
                  <a:pt x="974760" y="1175657"/>
                </a:cubicBezTo>
                <a:cubicBezTo>
                  <a:pt x="981459" y="1165609"/>
                  <a:pt x="985579" y="1153243"/>
                  <a:pt x="994856" y="1145512"/>
                </a:cubicBezTo>
                <a:cubicBezTo>
                  <a:pt x="1006363" y="1135922"/>
                  <a:pt x="1022044" y="1132847"/>
                  <a:pt x="1035050" y="1125415"/>
                </a:cubicBezTo>
                <a:cubicBezTo>
                  <a:pt x="1085513" y="1096579"/>
                  <a:pt x="1044651" y="1111252"/>
                  <a:pt x="1105388" y="1085222"/>
                </a:cubicBezTo>
                <a:cubicBezTo>
                  <a:pt x="1115124" y="1081050"/>
                  <a:pt x="1126059" y="1079910"/>
                  <a:pt x="1135533" y="1075173"/>
                </a:cubicBezTo>
                <a:cubicBezTo>
                  <a:pt x="1213441" y="1036218"/>
                  <a:pt x="1120060" y="1070282"/>
                  <a:pt x="1195823" y="1045028"/>
                </a:cubicBezTo>
                <a:cubicBezTo>
                  <a:pt x="1205871" y="1034980"/>
                  <a:pt x="1215051" y="1023980"/>
                  <a:pt x="1225968" y="1014883"/>
                </a:cubicBezTo>
                <a:cubicBezTo>
                  <a:pt x="1235246" y="1007152"/>
                  <a:pt x="1248382" y="1004064"/>
                  <a:pt x="1256113" y="994786"/>
                </a:cubicBezTo>
                <a:cubicBezTo>
                  <a:pt x="1265702" y="983279"/>
                  <a:pt x="1269511" y="967991"/>
                  <a:pt x="1276210" y="954593"/>
                </a:cubicBezTo>
                <a:cubicBezTo>
                  <a:pt x="1279559" y="934496"/>
                  <a:pt x="1275460" y="911580"/>
                  <a:pt x="1286258" y="894303"/>
                </a:cubicBezTo>
                <a:cubicBezTo>
                  <a:pt x="1294197" y="881600"/>
                  <a:pt x="1313749" y="882145"/>
                  <a:pt x="1326452" y="874206"/>
                </a:cubicBezTo>
                <a:cubicBezTo>
                  <a:pt x="1340654" y="865330"/>
                  <a:pt x="1353017" y="853795"/>
                  <a:pt x="1366645" y="844061"/>
                </a:cubicBezTo>
                <a:cubicBezTo>
                  <a:pt x="1398451" y="821342"/>
                  <a:pt x="1404149" y="821963"/>
                  <a:pt x="1436984" y="793819"/>
                </a:cubicBezTo>
                <a:cubicBezTo>
                  <a:pt x="1447773" y="784571"/>
                  <a:pt x="1455912" y="772398"/>
                  <a:pt x="1467129" y="763674"/>
                </a:cubicBezTo>
                <a:cubicBezTo>
                  <a:pt x="1486194" y="748845"/>
                  <a:pt x="1507322" y="736879"/>
                  <a:pt x="1527419" y="723481"/>
                </a:cubicBezTo>
                <a:lnTo>
                  <a:pt x="1557564" y="703384"/>
                </a:lnTo>
                <a:lnTo>
                  <a:pt x="1587709" y="683287"/>
                </a:lnTo>
                <a:cubicBezTo>
                  <a:pt x="1597871" y="668045"/>
                  <a:pt x="1617854" y="643799"/>
                  <a:pt x="1617854" y="622997"/>
                </a:cubicBezTo>
                <a:cubicBezTo>
                  <a:pt x="1617854" y="602623"/>
                  <a:pt x="1611155" y="582804"/>
                  <a:pt x="1607806" y="562707"/>
                </a:cubicBezTo>
                <a:cubicBezTo>
                  <a:pt x="1611155" y="532562"/>
                  <a:pt x="1611034" y="501826"/>
                  <a:pt x="1617854" y="472272"/>
                </a:cubicBezTo>
                <a:cubicBezTo>
                  <a:pt x="1625402" y="439562"/>
                  <a:pt x="1644113" y="429801"/>
                  <a:pt x="1658047" y="401934"/>
                </a:cubicBezTo>
                <a:cubicBezTo>
                  <a:pt x="1674389" y="369249"/>
                  <a:pt x="1659400" y="370435"/>
                  <a:pt x="1688192" y="341643"/>
                </a:cubicBezTo>
                <a:cubicBezTo>
                  <a:pt x="1696732" y="333103"/>
                  <a:pt x="1708289" y="328246"/>
                  <a:pt x="1718338" y="321547"/>
                </a:cubicBezTo>
                <a:cubicBezTo>
                  <a:pt x="1721687" y="308149"/>
                  <a:pt x="1726286" y="295003"/>
                  <a:pt x="1728386" y="281353"/>
                </a:cubicBezTo>
                <a:cubicBezTo>
                  <a:pt x="1732998" y="251375"/>
                  <a:pt x="1731078" y="220343"/>
                  <a:pt x="1738434" y="190918"/>
                </a:cubicBezTo>
                <a:cubicBezTo>
                  <a:pt x="1743780" y="169535"/>
                  <a:pt x="1776625" y="145090"/>
                  <a:pt x="1788676" y="130628"/>
                </a:cubicBezTo>
                <a:cubicBezTo>
                  <a:pt x="1830544" y="80386"/>
                  <a:pt x="1783652" y="117230"/>
                  <a:pt x="1838918" y="80386"/>
                </a:cubicBezTo>
                <a:cubicBezTo>
                  <a:pt x="1845617" y="70338"/>
                  <a:pt x="1850475" y="58780"/>
                  <a:pt x="1859014" y="50241"/>
                </a:cubicBezTo>
                <a:cubicBezTo>
                  <a:pt x="1867554" y="41702"/>
                  <a:pt x="1881616" y="39575"/>
                  <a:pt x="1889160" y="30145"/>
                </a:cubicBezTo>
                <a:cubicBezTo>
                  <a:pt x="1895777" y="21874"/>
                  <a:pt x="1895859" y="10048"/>
                  <a:pt x="1899208" y="0"/>
                </a:cubicBezTo>
                <a:cubicBezTo>
                  <a:pt x="1895859" y="214365"/>
                  <a:pt x="1901937" y="429084"/>
                  <a:pt x="1889160" y="643094"/>
                </a:cubicBezTo>
                <a:cubicBezTo>
                  <a:pt x="1888313" y="657279"/>
                  <a:pt x="1867739" y="662022"/>
                  <a:pt x="1859014" y="673239"/>
                </a:cubicBezTo>
                <a:cubicBezTo>
                  <a:pt x="1844185" y="692304"/>
                  <a:pt x="1832219" y="713432"/>
                  <a:pt x="1818821" y="733529"/>
                </a:cubicBezTo>
                <a:cubicBezTo>
                  <a:pt x="1790413" y="776140"/>
                  <a:pt x="1804126" y="752869"/>
                  <a:pt x="1778628" y="803868"/>
                </a:cubicBezTo>
                <a:cubicBezTo>
                  <a:pt x="1775278" y="834013"/>
                  <a:pt x="1778944" y="865799"/>
                  <a:pt x="1768579" y="894303"/>
                </a:cubicBezTo>
                <a:cubicBezTo>
                  <a:pt x="1764452" y="905653"/>
                  <a:pt x="1749742" y="910160"/>
                  <a:pt x="1738434" y="914400"/>
                </a:cubicBezTo>
                <a:cubicBezTo>
                  <a:pt x="1715419" y="923031"/>
                  <a:pt x="1620223" y="932944"/>
                  <a:pt x="1607806" y="934496"/>
                </a:cubicBezTo>
                <a:cubicBezTo>
                  <a:pt x="1535692" y="982573"/>
                  <a:pt x="1564595" y="957611"/>
                  <a:pt x="1517371" y="1004835"/>
                </a:cubicBezTo>
                <a:cubicBezTo>
                  <a:pt x="1510672" y="1024932"/>
                  <a:pt x="1498899" y="1044004"/>
                  <a:pt x="1497274" y="1065125"/>
                </a:cubicBezTo>
                <a:cubicBezTo>
                  <a:pt x="1492978" y="1120975"/>
                  <a:pt x="1509602" y="1183424"/>
                  <a:pt x="1467129" y="1225898"/>
                </a:cubicBezTo>
                <a:cubicBezTo>
                  <a:pt x="1458590" y="1234438"/>
                  <a:pt x="1448700" y="1243066"/>
                  <a:pt x="1436984" y="1245995"/>
                </a:cubicBezTo>
                <a:cubicBezTo>
                  <a:pt x="1407559" y="1253351"/>
                  <a:pt x="1376694" y="1252694"/>
                  <a:pt x="1346549" y="1256043"/>
                </a:cubicBezTo>
                <a:cubicBezTo>
                  <a:pt x="1326452" y="1262742"/>
                  <a:pt x="1303884" y="1264389"/>
                  <a:pt x="1286258" y="1276140"/>
                </a:cubicBezTo>
                <a:cubicBezTo>
                  <a:pt x="1266161" y="1289538"/>
                  <a:pt x="1250060" y="1314613"/>
                  <a:pt x="1225968" y="1316334"/>
                </a:cubicBezTo>
                <a:lnTo>
                  <a:pt x="1085291" y="1326382"/>
                </a:lnTo>
                <a:cubicBezTo>
                  <a:pt x="1071893" y="1346479"/>
                  <a:pt x="1055900" y="1365069"/>
                  <a:pt x="1045098" y="1386672"/>
                </a:cubicBezTo>
                <a:cubicBezTo>
                  <a:pt x="1038399" y="1400070"/>
                  <a:pt x="1035593" y="1416273"/>
                  <a:pt x="1025001" y="1426865"/>
                </a:cubicBezTo>
                <a:cubicBezTo>
                  <a:pt x="1017511" y="1434355"/>
                  <a:pt x="1005408" y="1435996"/>
                  <a:pt x="994856" y="1436914"/>
                </a:cubicBezTo>
                <a:cubicBezTo>
                  <a:pt x="928035" y="1442725"/>
                  <a:pt x="860878" y="1443613"/>
                  <a:pt x="793889" y="1446962"/>
                </a:cubicBezTo>
                <a:cubicBezTo>
                  <a:pt x="787190" y="1457010"/>
                  <a:pt x="776970" y="1465456"/>
                  <a:pt x="773792" y="1477107"/>
                </a:cubicBezTo>
                <a:cubicBezTo>
                  <a:pt x="766687" y="1503160"/>
                  <a:pt x="767850" y="1530804"/>
                  <a:pt x="763744" y="1557494"/>
                </a:cubicBezTo>
                <a:cubicBezTo>
                  <a:pt x="761147" y="1574374"/>
                  <a:pt x="757401" y="1591064"/>
                  <a:pt x="753696" y="1607736"/>
                </a:cubicBezTo>
                <a:cubicBezTo>
                  <a:pt x="751122" y="1619320"/>
                  <a:pt x="740311" y="1664650"/>
                  <a:pt x="733599" y="1678074"/>
                </a:cubicBezTo>
                <a:cubicBezTo>
                  <a:pt x="728198" y="1688876"/>
                  <a:pt x="719367" y="1697662"/>
                  <a:pt x="713502" y="1708219"/>
                </a:cubicBezTo>
                <a:cubicBezTo>
                  <a:pt x="702590" y="1727860"/>
                  <a:pt x="696242" y="1750102"/>
                  <a:pt x="683357" y="1768509"/>
                </a:cubicBezTo>
                <a:cubicBezTo>
                  <a:pt x="672491" y="1784031"/>
                  <a:pt x="656562" y="1795305"/>
                  <a:pt x="643164" y="1808703"/>
                </a:cubicBezTo>
                <a:cubicBezTo>
                  <a:pt x="639815" y="1825450"/>
                  <a:pt x="639113" y="1842953"/>
                  <a:pt x="633116" y="1858945"/>
                </a:cubicBezTo>
                <a:cubicBezTo>
                  <a:pt x="628876" y="1870253"/>
                  <a:pt x="614221" y="1877073"/>
                  <a:pt x="613019" y="1889090"/>
                </a:cubicBezTo>
                <a:cubicBezTo>
                  <a:pt x="607167" y="1947608"/>
                  <a:pt x="632479" y="1966289"/>
                  <a:pt x="643164" y="2019718"/>
                </a:cubicBezTo>
                <a:cubicBezTo>
                  <a:pt x="646513" y="2036465"/>
                  <a:pt x="645574" y="2054684"/>
                  <a:pt x="653212" y="2069960"/>
                </a:cubicBezTo>
                <a:cubicBezTo>
                  <a:pt x="659567" y="2082670"/>
                  <a:pt x="673309" y="2090057"/>
                  <a:pt x="683357" y="2100105"/>
                </a:cubicBezTo>
                <a:cubicBezTo>
                  <a:pt x="686707" y="2120202"/>
                  <a:pt x="688986" y="2140506"/>
                  <a:pt x="693406" y="2160395"/>
                </a:cubicBezTo>
                <a:cubicBezTo>
                  <a:pt x="700878" y="2194019"/>
                  <a:pt x="715076" y="2192812"/>
                  <a:pt x="693406" y="2230734"/>
                </a:cubicBezTo>
                <a:cubicBezTo>
                  <a:pt x="686356" y="2243072"/>
                  <a:pt x="672358" y="2249962"/>
                  <a:pt x="663261" y="2260879"/>
                </a:cubicBezTo>
                <a:cubicBezTo>
                  <a:pt x="655530" y="2270157"/>
                  <a:pt x="649863" y="2280976"/>
                  <a:pt x="643164" y="2291024"/>
                </a:cubicBezTo>
                <a:cubicBezTo>
                  <a:pt x="646513" y="2301072"/>
                  <a:pt x="653212" y="2310577"/>
                  <a:pt x="653212" y="2321169"/>
                </a:cubicBezTo>
                <a:cubicBezTo>
                  <a:pt x="653212" y="2375564"/>
                  <a:pt x="614434" y="2348830"/>
                  <a:pt x="572825" y="2341265"/>
                </a:cubicBezTo>
                <a:cubicBezTo>
                  <a:pt x="559238" y="2338795"/>
                  <a:pt x="546030" y="2334566"/>
                  <a:pt x="532632" y="2331217"/>
                </a:cubicBezTo>
                <a:cubicBezTo>
                  <a:pt x="519234" y="2324518"/>
                  <a:pt x="505445" y="2318552"/>
                  <a:pt x="492439" y="2311120"/>
                </a:cubicBezTo>
                <a:cubicBezTo>
                  <a:pt x="481954" y="2305128"/>
                  <a:pt x="473096" y="2296425"/>
                  <a:pt x="462294" y="2291024"/>
                </a:cubicBezTo>
                <a:cubicBezTo>
                  <a:pt x="452820" y="2286287"/>
                  <a:pt x="442197" y="2284325"/>
                  <a:pt x="432149" y="2280975"/>
                </a:cubicBezTo>
                <a:cubicBezTo>
                  <a:pt x="351187" y="2159534"/>
                  <a:pt x="436389" y="2269606"/>
                  <a:pt x="90505" y="2240782"/>
                </a:cubicBezTo>
                <a:cubicBezTo>
                  <a:pt x="75577" y="2239538"/>
                  <a:pt x="63709" y="2227384"/>
                  <a:pt x="50311" y="2220685"/>
                </a:cubicBezTo>
                <a:cubicBezTo>
                  <a:pt x="46962" y="2210637"/>
                  <a:pt x="38522" y="2200988"/>
                  <a:pt x="40263" y="2190540"/>
                </a:cubicBezTo>
                <a:cubicBezTo>
                  <a:pt x="42249" y="2178628"/>
                  <a:pt x="60360" y="2172472"/>
                  <a:pt x="60360" y="2160395"/>
                </a:cubicBezTo>
                <a:cubicBezTo>
                  <a:pt x="60360" y="2138066"/>
                  <a:pt x="23515" y="2119085"/>
                  <a:pt x="10118" y="2110153"/>
                </a:cubicBezTo>
                <a:cubicBezTo>
                  <a:pt x="30966" y="2026759"/>
                  <a:pt x="0" y="2097035"/>
                  <a:pt x="120650" y="2059912"/>
                </a:cubicBezTo>
                <a:cubicBezTo>
                  <a:pt x="134232" y="2055733"/>
                  <a:pt x="140747" y="2039815"/>
                  <a:pt x="150795" y="2029767"/>
                </a:cubicBezTo>
                <a:lnTo>
                  <a:pt x="130698" y="2019718"/>
                </a:lnTo>
                <a:close/>
              </a:path>
            </a:pathLst>
          </a:custGeom>
          <a:solidFill>
            <a:srgbClr val="131220"/>
          </a:solidFill>
          <a:ln w="25560">
            <a:solidFill>
              <a:srgbClr val="1312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лилиния 34"/>
          <p:cNvSpPr/>
          <p:nvPr/>
        </p:nvSpPr>
        <p:spPr>
          <a:xfrm>
            <a:off x="7194600" y="3346560"/>
            <a:ext cx="2090520" cy="3357360"/>
          </a:xfrm>
          <a:custGeom>
            <a:avLst/>
            <a:gdLst/>
            <a:ahLst/>
            <a:rect l="l" t="t" r="r" b="b"/>
            <a:pathLst>
              <a:path w="2090057" h="3357339">
                <a:moveTo>
                  <a:pt x="1165609" y="30145"/>
                </a:moveTo>
                <a:cubicBezTo>
                  <a:pt x="1175657" y="46892"/>
                  <a:pt x="1187672" y="62607"/>
                  <a:pt x="1195754" y="80387"/>
                </a:cubicBezTo>
                <a:cubicBezTo>
                  <a:pt x="1213964" y="120451"/>
                  <a:pt x="1217570" y="149275"/>
                  <a:pt x="1225899" y="190919"/>
                </a:cubicBezTo>
                <a:cubicBezTo>
                  <a:pt x="1229248" y="271306"/>
                  <a:pt x="1227062" y="352115"/>
                  <a:pt x="1235947" y="432079"/>
                </a:cubicBezTo>
                <a:cubicBezTo>
                  <a:pt x="1238209" y="452436"/>
                  <a:pt x="1270530" y="475361"/>
                  <a:pt x="1286189" y="482321"/>
                </a:cubicBezTo>
                <a:cubicBezTo>
                  <a:pt x="1305547" y="490925"/>
                  <a:pt x="1327532" y="492945"/>
                  <a:pt x="1346479" y="502418"/>
                </a:cubicBezTo>
                <a:cubicBezTo>
                  <a:pt x="1371052" y="514704"/>
                  <a:pt x="1395511" y="524856"/>
                  <a:pt x="1416817" y="542611"/>
                </a:cubicBezTo>
                <a:cubicBezTo>
                  <a:pt x="1427734" y="551708"/>
                  <a:pt x="1436914" y="562708"/>
                  <a:pt x="1446962" y="572756"/>
                </a:cubicBezTo>
                <a:cubicBezTo>
                  <a:pt x="1481759" y="711939"/>
                  <a:pt x="1448266" y="566075"/>
                  <a:pt x="1467059" y="904352"/>
                </a:cubicBezTo>
                <a:cubicBezTo>
                  <a:pt x="1471750" y="988786"/>
                  <a:pt x="1475625" y="951466"/>
                  <a:pt x="1487156" y="1014884"/>
                </a:cubicBezTo>
                <a:cubicBezTo>
                  <a:pt x="1491393" y="1038186"/>
                  <a:pt x="1491878" y="1062144"/>
                  <a:pt x="1497204" y="1085222"/>
                </a:cubicBezTo>
                <a:cubicBezTo>
                  <a:pt x="1501967" y="1105863"/>
                  <a:pt x="1510602" y="1125415"/>
                  <a:pt x="1517301" y="1145512"/>
                </a:cubicBezTo>
                <a:lnTo>
                  <a:pt x="1527349" y="1175657"/>
                </a:lnTo>
                <a:cubicBezTo>
                  <a:pt x="1535521" y="1200172"/>
                  <a:pt x="1538017" y="1216470"/>
                  <a:pt x="1557494" y="1235947"/>
                </a:cubicBezTo>
                <a:cubicBezTo>
                  <a:pt x="1636543" y="1314998"/>
                  <a:pt x="1535467" y="1187409"/>
                  <a:pt x="1617784" y="1286189"/>
                </a:cubicBezTo>
                <a:cubicBezTo>
                  <a:pt x="1659652" y="1336431"/>
                  <a:pt x="1612760" y="1299587"/>
                  <a:pt x="1668026" y="1336431"/>
                </a:cubicBezTo>
                <a:cubicBezTo>
                  <a:pt x="1671376" y="1346479"/>
                  <a:pt x="1677434" y="1356003"/>
                  <a:pt x="1678075" y="1366576"/>
                </a:cubicBezTo>
                <a:cubicBezTo>
                  <a:pt x="1684157" y="1466931"/>
                  <a:pt x="1668933" y="1569335"/>
                  <a:pt x="1688123" y="1668026"/>
                </a:cubicBezTo>
                <a:cubicBezTo>
                  <a:pt x="1693548" y="1695925"/>
                  <a:pt x="1724765" y="1712552"/>
                  <a:pt x="1748413" y="1728317"/>
                </a:cubicBezTo>
                <a:cubicBezTo>
                  <a:pt x="1834804" y="1785909"/>
                  <a:pt x="1725500" y="1716860"/>
                  <a:pt x="1808703" y="1758462"/>
                </a:cubicBezTo>
                <a:cubicBezTo>
                  <a:pt x="1836684" y="1772453"/>
                  <a:pt x="1846768" y="1786478"/>
                  <a:pt x="1868993" y="1808703"/>
                </a:cubicBezTo>
                <a:cubicBezTo>
                  <a:pt x="1865644" y="1828800"/>
                  <a:pt x="1862590" y="1848948"/>
                  <a:pt x="1858945" y="1868994"/>
                </a:cubicBezTo>
                <a:cubicBezTo>
                  <a:pt x="1855890" y="1885797"/>
                  <a:pt x="1847760" y="1902194"/>
                  <a:pt x="1848896" y="1919235"/>
                </a:cubicBezTo>
                <a:cubicBezTo>
                  <a:pt x="1851168" y="1953317"/>
                  <a:pt x="1855855" y="1988189"/>
                  <a:pt x="1868993" y="2019719"/>
                </a:cubicBezTo>
                <a:cubicBezTo>
                  <a:pt x="1873638" y="2030867"/>
                  <a:pt x="1889090" y="2033116"/>
                  <a:pt x="1899138" y="2039815"/>
                </a:cubicBezTo>
                <a:cubicBezTo>
                  <a:pt x="1905837" y="2049864"/>
                  <a:pt x="1912215" y="2060134"/>
                  <a:pt x="1919235" y="2069961"/>
                </a:cubicBezTo>
                <a:cubicBezTo>
                  <a:pt x="1981566" y="2157225"/>
                  <a:pt x="1922105" y="2069243"/>
                  <a:pt x="1969477" y="2140299"/>
                </a:cubicBezTo>
                <a:cubicBezTo>
                  <a:pt x="1992516" y="2209418"/>
                  <a:pt x="1961003" y="2125468"/>
                  <a:pt x="2009670" y="2210637"/>
                </a:cubicBezTo>
                <a:cubicBezTo>
                  <a:pt x="2014925" y="2219834"/>
                  <a:pt x="2016369" y="2230734"/>
                  <a:pt x="2019718" y="2240783"/>
                </a:cubicBezTo>
                <a:cubicBezTo>
                  <a:pt x="1998196" y="2369922"/>
                  <a:pt x="1991706" y="2346144"/>
                  <a:pt x="2009670" y="2471895"/>
                </a:cubicBezTo>
                <a:cubicBezTo>
                  <a:pt x="2011168" y="2482380"/>
                  <a:pt x="2016369" y="2491992"/>
                  <a:pt x="2019718" y="2502040"/>
                </a:cubicBezTo>
                <a:cubicBezTo>
                  <a:pt x="2016369" y="2558981"/>
                  <a:pt x="2015078" y="2616080"/>
                  <a:pt x="2009670" y="2672862"/>
                </a:cubicBezTo>
                <a:cubicBezTo>
                  <a:pt x="2007987" y="2690530"/>
                  <a:pt x="1995603" y="2725111"/>
                  <a:pt x="1989573" y="2743200"/>
                </a:cubicBezTo>
                <a:cubicBezTo>
                  <a:pt x="1992923" y="2850382"/>
                  <a:pt x="1994130" y="2957653"/>
                  <a:pt x="1999622" y="3064747"/>
                </a:cubicBezTo>
                <a:cubicBezTo>
                  <a:pt x="2001306" y="3097582"/>
                  <a:pt x="2019431" y="3205137"/>
                  <a:pt x="2039815" y="3225521"/>
                </a:cubicBezTo>
                <a:cubicBezTo>
                  <a:pt x="2078499" y="3264205"/>
                  <a:pt x="2062077" y="3243842"/>
                  <a:pt x="2090057" y="3285811"/>
                </a:cubicBezTo>
                <a:cubicBezTo>
                  <a:pt x="2080009" y="3292510"/>
                  <a:pt x="2070714" y="3300507"/>
                  <a:pt x="2059912" y="3305908"/>
                </a:cubicBezTo>
                <a:cubicBezTo>
                  <a:pt x="2050438" y="3310645"/>
                  <a:pt x="2039026" y="3310812"/>
                  <a:pt x="2029767" y="3315956"/>
                </a:cubicBezTo>
                <a:cubicBezTo>
                  <a:pt x="2008653" y="3327686"/>
                  <a:pt x="1969477" y="3356150"/>
                  <a:pt x="1969477" y="3356150"/>
                </a:cubicBezTo>
                <a:cubicBezTo>
                  <a:pt x="1956079" y="3352800"/>
                  <a:pt x="1937310" y="3357339"/>
                  <a:pt x="1929283" y="3346101"/>
                </a:cubicBezTo>
                <a:cubicBezTo>
                  <a:pt x="1917441" y="3329522"/>
                  <a:pt x="1925678" y="3305139"/>
                  <a:pt x="1919235" y="3285811"/>
                </a:cubicBezTo>
                <a:cubicBezTo>
                  <a:pt x="1915416" y="3274354"/>
                  <a:pt x="1906869" y="3264944"/>
                  <a:pt x="1899138" y="3255666"/>
                </a:cubicBezTo>
                <a:cubicBezTo>
                  <a:pt x="1871541" y="3222550"/>
                  <a:pt x="1871394" y="3228672"/>
                  <a:pt x="1838848" y="3205424"/>
                </a:cubicBezTo>
                <a:cubicBezTo>
                  <a:pt x="1825220" y="3195690"/>
                  <a:pt x="1812053" y="3185327"/>
                  <a:pt x="1798655" y="3175279"/>
                </a:cubicBezTo>
                <a:cubicBezTo>
                  <a:pt x="1802004" y="3145134"/>
                  <a:pt x="1801347" y="3114269"/>
                  <a:pt x="1808703" y="3084844"/>
                </a:cubicBezTo>
                <a:cubicBezTo>
                  <a:pt x="1813366" y="3066192"/>
                  <a:pt x="1847697" y="3035802"/>
                  <a:pt x="1858945" y="3024554"/>
                </a:cubicBezTo>
                <a:cubicBezTo>
                  <a:pt x="1869980" y="2991447"/>
                  <a:pt x="1881187" y="2987786"/>
                  <a:pt x="1838848" y="2964264"/>
                </a:cubicBezTo>
                <a:cubicBezTo>
                  <a:pt x="1820330" y="2953976"/>
                  <a:pt x="1778558" y="2944167"/>
                  <a:pt x="1778558" y="2944167"/>
                </a:cubicBezTo>
                <a:cubicBezTo>
                  <a:pt x="1755411" y="2928735"/>
                  <a:pt x="1738365" y="2926282"/>
                  <a:pt x="1738365" y="2893925"/>
                </a:cubicBezTo>
                <a:cubicBezTo>
                  <a:pt x="1738365" y="2883333"/>
                  <a:pt x="1745064" y="2873828"/>
                  <a:pt x="1748413" y="2863780"/>
                </a:cubicBezTo>
                <a:cubicBezTo>
                  <a:pt x="1745064" y="2746549"/>
                  <a:pt x="1757645" y="2627771"/>
                  <a:pt x="1738365" y="2512088"/>
                </a:cubicBezTo>
                <a:cubicBezTo>
                  <a:pt x="1735557" y="2495241"/>
                  <a:pt x="1703399" y="2509678"/>
                  <a:pt x="1688123" y="2502040"/>
                </a:cubicBezTo>
                <a:cubicBezTo>
                  <a:pt x="1675413" y="2495685"/>
                  <a:pt x="1668026" y="2481943"/>
                  <a:pt x="1657978" y="2471895"/>
                </a:cubicBezTo>
                <a:cubicBezTo>
                  <a:pt x="1654628" y="2461847"/>
                  <a:pt x="1652666" y="2451224"/>
                  <a:pt x="1647929" y="2441750"/>
                </a:cubicBezTo>
                <a:cubicBezTo>
                  <a:pt x="1642528" y="2430948"/>
                  <a:pt x="1628235" y="2423674"/>
                  <a:pt x="1627833" y="2411604"/>
                </a:cubicBezTo>
                <a:cubicBezTo>
                  <a:pt x="1624818" y="2321157"/>
                  <a:pt x="1634532" y="2230734"/>
                  <a:pt x="1637881" y="2140299"/>
                </a:cubicBezTo>
                <a:cubicBezTo>
                  <a:pt x="1634532" y="2100106"/>
                  <a:pt x="1640587" y="2057982"/>
                  <a:pt x="1627833" y="2019719"/>
                </a:cubicBezTo>
                <a:cubicBezTo>
                  <a:pt x="1622537" y="2003831"/>
                  <a:pt x="1601359" y="1999178"/>
                  <a:pt x="1587639" y="1989574"/>
                </a:cubicBezTo>
                <a:cubicBezTo>
                  <a:pt x="1567852" y="1975723"/>
                  <a:pt x="1527349" y="1949380"/>
                  <a:pt x="1527349" y="1949380"/>
                </a:cubicBezTo>
                <a:cubicBezTo>
                  <a:pt x="1520650" y="1935982"/>
                  <a:pt x="1514685" y="1922192"/>
                  <a:pt x="1507253" y="1909187"/>
                </a:cubicBezTo>
                <a:cubicBezTo>
                  <a:pt x="1501261" y="1898702"/>
                  <a:pt x="1488718" y="1891017"/>
                  <a:pt x="1487156" y="1879042"/>
                </a:cubicBezTo>
                <a:cubicBezTo>
                  <a:pt x="1478481" y="1812533"/>
                  <a:pt x="1481046" y="1745032"/>
                  <a:pt x="1477107" y="1678075"/>
                </a:cubicBezTo>
                <a:cubicBezTo>
                  <a:pt x="1471232" y="1578195"/>
                  <a:pt x="1476946" y="1566975"/>
                  <a:pt x="1457011" y="1497204"/>
                </a:cubicBezTo>
                <a:cubicBezTo>
                  <a:pt x="1443191" y="1448835"/>
                  <a:pt x="1453481" y="1480912"/>
                  <a:pt x="1416817" y="1436914"/>
                </a:cubicBezTo>
                <a:cubicBezTo>
                  <a:pt x="1409086" y="1427637"/>
                  <a:pt x="1404452" y="1416046"/>
                  <a:pt x="1396721" y="1406769"/>
                </a:cubicBezTo>
                <a:cubicBezTo>
                  <a:pt x="1332241" y="1329392"/>
                  <a:pt x="1396380" y="1421330"/>
                  <a:pt x="1346479" y="1346479"/>
                </a:cubicBezTo>
                <a:cubicBezTo>
                  <a:pt x="1343130" y="1329732"/>
                  <a:pt x="1345905" y="1310447"/>
                  <a:pt x="1336431" y="1296237"/>
                </a:cubicBezTo>
                <a:cubicBezTo>
                  <a:pt x="1330555" y="1287424"/>
                  <a:pt x="1316504" y="1288976"/>
                  <a:pt x="1306285" y="1286189"/>
                </a:cubicBezTo>
                <a:cubicBezTo>
                  <a:pt x="1181630" y="1252192"/>
                  <a:pt x="1265138" y="1279171"/>
                  <a:pt x="1195754" y="1256044"/>
                </a:cubicBezTo>
                <a:cubicBezTo>
                  <a:pt x="1172025" y="1271863"/>
                  <a:pt x="1138479" y="1301864"/>
                  <a:pt x="1105318" y="1306286"/>
                </a:cubicBezTo>
                <a:cubicBezTo>
                  <a:pt x="1065339" y="1311617"/>
                  <a:pt x="1024931" y="1312985"/>
                  <a:pt x="984738" y="1316334"/>
                </a:cubicBezTo>
                <a:cubicBezTo>
                  <a:pt x="974690" y="1323033"/>
                  <a:pt x="963132" y="1327892"/>
                  <a:pt x="954593" y="1336431"/>
                </a:cubicBezTo>
                <a:cubicBezTo>
                  <a:pt x="942751" y="1348273"/>
                  <a:pt x="935347" y="1363909"/>
                  <a:pt x="924448" y="1376624"/>
                </a:cubicBezTo>
                <a:cubicBezTo>
                  <a:pt x="915200" y="1387413"/>
                  <a:pt x="904351" y="1396721"/>
                  <a:pt x="894303" y="1406769"/>
                </a:cubicBezTo>
                <a:cubicBezTo>
                  <a:pt x="787978" y="1380188"/>
                  <a:pt x="913187" y="1416278"/>
                  <a:pt x="823965" y="1376624"/>
                </a:cubicBezTo>
                <a:cubicBezTo>
                  <a:pt x="804607" y="1368021"/>
                  <a:pt x="763675" y="1356528"/>
                  <a:pt x="763675" y="1356528"/>
                </a:cubicBezTo>
                <a:cubicBezTo>
                  <a:pt x="733530" y="1359877"/>
                  <a:pt x="702013" y="1356985"/>
                  <a:pt x="673239" y="1366576"/>
                </a:cubicBezTo>
                <a:cubicBezTo>
                  <a:pt x="650325" y="1374214"/>
                  <a:pt x="635863" y="1399131"/>
                  <a:pt x="612949" y="1406769"/>
                </a:cubicBezTo>
                <a:cubicBezTo>
                  <a:pt x="602901" y="1410119"/>
                  <a:pt x="592278" y="1412081"/>
                  <a:pt x="582804" y="1416818"/>
                </a:cubicBezTo>
                <a:cubicBezTo>
                  <a:pt x="538708" y="1438866"/>
                  <a:pt x="565305" y="1439398"/>
                  <a:pt x="512466" y="1457011"/>
                </a:cubicBezTo>
                <a:cubicBezTo>
                  <a:pt x="496263" y="1462412"/>
                  <a:pt x="478971" y="1463710"/>
                  <a:pt x="462224" y="1467059"/>
                </a:cubicBezTo>
                <a:cubicBezTo>
                  <a:pt x="452176" y="1473758"/>
                  <a:pt x="442881" y="1481755"/>
                  <a:pt x="432079" y="1487156"/>
                </a:cubicBezTo>
                <a:cubicBezTo>
                  <a:pt x="422605" y="1491893"/>
                  <a:pt x="410747" y="1491329"/>
                  <a:pt x="401934" y="1497204"/>
                </a:cubicBezTo>
                <a:cubicBezTo>
                  <a:pt x="390110" y="1505087"/>
                  <a:pt x="381837" y="1517301"/>
                  <a:pt x="371789" y="1527350"/>
                </a:cubicBezTo>
                <a:cubicBezTo>
                  <a:pt x="360598" y="1560921"/>
                  <a:pt x="360104" y="1559834"/>
                  <a:pt x="351692" y="1597688"/>
                </a:cubicBezTo>
                <a:cubicBezTo>
                  <a:pt x="347987" y="1614360"/>
                  <a:pt x="346138" y="1631453"/>
                  <a:pt x="341644" y="1647930"/>
                </a:cubicBezTo>
                <a:cubicBezTo>
                  <a:pt x="336070" y="1668367"/>
                  <a:pt x="336526" y="1693241"/>
                  <a:pt x="321547" y="1708220"/>
                </a:cubicBezTo>
                <a:cubicBezTo>
                  <a:pt x="311499" y="1718268"/>
                  <a:pt x="305235" y="1735110"/>
                  <a:pt x="291402" y="1738365"/>
                </a:cubicBezTo>
                <a:cubicBezTo>
                  <a:pt x="245640" y="1749132"/>
                  <a:pt x="197617" y="1745064"/>
                  <a:pt x="150725" y="1748413"/>
                </a:cubicBezTo>
                <a:cubicBezTo>
                  <a:pt x="140677" y="1751763"/>
                  <a:pt x="129839" y="1753318"/>
                  <a:pt x="120580" y="1758462"/>
                </a:cubicBezTo>
                <a:cubicBezTo>
                  <a:pt x="99466" y="1770192"/>
                  <a:pt x="77369" y="1781576"/>
                  <a:pt x="60290" y="1798655"/>
                </a:cubicBezTo>
                <a:cubicBezTo>
                  <a:pt x="21606" y="1837339"/>
                  <a:pt x="41969" y="1820917"/>
                  <a:pt x="0" y="1848897"/>
                </a:cubicBezTo>
                <a:cubicBezTo>
                  <a:pt x="6005" y="1830881"/>
                  <a:pt x="17727" y="1790976"/>
                  <a:pt x="30145" y="1778558"/>
                </a:cubicBezTo>
                <a:cubicBezTo>
                  <a:pt x="43955" y="1764748"/>
                  <a:pt x="65271" y="1760780"/>
                  <a:pt x="80387" y="1748413"/>
                </a:cubicBezTo>
                <a:cubicBezTo>
                  <a:pt x="172860" y="1672754"/>
                  <a:pt x="102212" y="1697739"/>
                  <a:pt x="180870" y="1678075"/>
                </a:cubicBezTo>
                <a:cubicBezTo>
                  <a:pt x="190918" y="1668027"/>
                  <a:pt x="200226" y="1657178"/>
                  <a:pt x="211015" y="1647930"/>
                </a:cubicBezTo>
                <a:cubicBezTo>
                  <a:pt x="232823" y="1629238"/>
                  <a:pt x="257500" y="1613591"/>
                  <a:pt x="281354" y="1597688"/>
                </a:cubicBezTo>
                <a:cubicBezTo>
                  <a:pt x="284703" y="1587640"/>
                  <a:pt x="288833" y="1577819"/>
                  <a:pt x="291402" y="1567543"/>
                </a:cubicBezTo>
                <a:cubicBezTo>
                  <a:pt x="295544" y="1550974"/>
                  <a:pt x="294383" y="1532849"/>
                  <a:pt x="301450" y="1517301"/>
                </a:cubicBezTo>
                <a:cubicBezTo>
                  <a:pt x="311445" y="1495313"/>
                  <a:pt x="341644" y="1457011"/>
                  <a:pt x="341644" y="1457011"/>
                </a:cubicBezTo>
                <a:cubicBezTo>
                  <a:pt x="344993" y="1446963"/>
                  <a:pt x="345817" y="1435679"/>
                  <a:pt x="351692" y="1426866"/>
                </a:cubicBezTo>
                <a:cubicBezTo>
                  <a:pt x="359575" y="1415042"/>
                  <a:pt x="369499" y="1403771"/>
                  <a:pt x="381837" y="1396721"/>
                </a:cubicBezTo>
                <a:cubicBezTo>
                  <a:pt x="393828" y="1389869"/>
                  <a:pt x="408327" y="1388386"/>
                  <a:pt x="422031" y="1386673"/>
                </a:cubicBezTo>
                <a:cubicBezTo>
                  <a:pt x="462052" y="1381670"/>
                  <a:pt x="502418" y="1379974"/>
                  <a:pt x="542611" y="1376624"/>
                </a:cubicBezTo>
                <a:cubicBezTo>
                  <a:pt x="600262" y="1357408"/>
                  <a:pt x="546451" y="1380337"/>
                  <a:pt x="602901" y="1336431"/>
                </a:cubicBezTo>
                <a:cubicBezTo>
                  <a:pt x="621966" y="1321602"/>
                  <a:pt x="663191" y="1296237"/>
                  <a:pt x="663191" y="1296237"/>
                </a:cubicBezTo>
                <a:cubicBezTo>
                  <a:pt x="669890" y="1286189"/>
                  <a:pt x="672486" y="1271493"/>
                  <a:pt x="683288" y="1266092"/>
                </a:cubicBezTo>
                <a:cubicBezTo>
                  <a:pt x="707992" y="1253740"/>
                  <a:pt x="736431" y="1250537"/>
                  <a:pt x="763675" y="1245996"/>
                </a:cubicBezTo>
                <a:cubicBezTo>
                  <a:pt x="804408" y="1239207"/>
                  <a:pt x="826689" y="1237140"/>
                  <a:pt x="864158" y="1225899"/>
                </a:cubicBezTo>
                <a:cubicBezTo>
                  <a:pt x="884448" y="1219812"/>
                  <a:pt x="906822" y="1217552"/>
                  <a:pt x="924448" y="1205802"/>
                </a:cubicBezTo>
                <a:cubicBezTo>
                  <a:pt x="934496" y="1199103"/>
                  <a:pt x="944108" y="1191698"/>
                  <a:pt x="954593" y="1185706"/>
                </a:cubicBezTo>
                <a:cubicBezTo>
                  <a:pt x="980068" y="1171149"/>
                  <a:pt x="1002898" y="1165098"/>
                  <a:pt x="1024932" y="1145512"/>
                </a:cubicBezTo>
                <a:cubicBezTo>
                  <a:pt x="1046174" y="1126630"/>
                  <a:pt x="1061574" y="1100987"/>
                  <a:pt x="1085222" y="1085222"/>
                </a:cubicBezTo>
                <a:cubicBezTo>
                  <a:pt x="1105319" y="1071824"/>
                  <a:pt x="1128433" y="1062108"/>
                  <a:pt x="1145512" y="1045029"/>
                </a:cubicBezTo>
                <a:cubicBezTo>
                  <a:pt x="1180208" y="1010333"/>
                  <a:pt x="1175724" y="1017660"/>
                  <a:pt x="1205802" y="974690"/>
                </a:cubicBezTo>
                <a:cubicBezTo>
                  <a:pt x="1257090" y="901421"/>
                  <a:pt x="1223701" y="929263"/>
                  <a:pt x="1276140" y="894303"/>
                </a:cubicBezTo>
                <a:cubicBezTo>
                  <a:pt x="1279490" y="884255"/>
                  <a:pt x="1286189" y="874750"/>
                  <a:pt x="1286189" y="864158"/>
                </a:cubicBezTo>
                <a:cubicBezTo>
                  <a:pt x="1286189" y="855850"/>
                  <a:pt x="1272731" y="779165"/>
                  <a:pt x="1266092" y="763675"/>
                </a:cubicBezTo>
                <a:cubicBezTo>
                  <a:pt x="1261335" y="752575"/>
                  <a:pt x="1252694" y="743578"/>
                  <a:pt x="1245995" y="733530"/>
                </a:cubicBezTo>
                <a:cubicBezTo>
                  <a:pt x="1242646" y="720132"/>
                  <a:pt x="1238047" y="706986"/>
                  <a:pt x="1235947" y="693336"/>
                </a:cubicBezTo>
                <a:cubicBezTo>
                  <a:pt x="1231335" y="663358"/>
                  <a:pt x="1233255" y="632326"/>
                  <a:pt x="1225899" y="602901"/>
                </a:cubicBezTo>
                <a:cubicBezTo>
                  <a:pt x="1222970" y="591185"/>
                  <a:pt x="1212501" y="582804"/>
                  <a:pt x="1205802" y="572756"/>
                </a:cubicBezTo>
                <a:cubicBezTo>
                  <a:pt x="1209151" y="542611"/>
                  <a:pt x="1210864" y="512239"/>
                  <a:pt x="1215850" y="482321"/>
                </a:cubicBezTo>
                <a:cubicBezTo>
                  <a:pt x="1217591" y="471873"/>
                  <a:pt x="1227640" y="462624"/>
                  <a:pt x="1225899" y="452176"/>
                </a:cubicBezTo>
                <a:cubicBezTo>
                  <a:pt x="1221712" y="427056"/>
                  <a:pt x="1193241" y="413657"/>
                  <a:pt x="1175657" y="401934"/>
                </a:cubicBezTo>
                <a:cubicBezTo>
                  <a:pt x="1126694" y="328490"/>
                  <a:pt x="1186459" y="420837"/>
                  <a:pt x="1135464" y="331596"/>
                </a:cubicBezTo>
                <a:cubicBezTo>
                  <a:pt x="1129472" y="321111"/>
                  <a:pt x="1120768" y="312253"/>
                  <a:pt x="1115367" y="301451"/>
                </a:cubicBezTo>
                <a:cubicBezTo>
                  <a:pt x="1110630" y="291977"/>
                  <a:pt x="1110055" y="280780"/>
                  <a:pt x="1105318" y="271306"/>
                </a:cubicBezTo>
                <a:cubicBezTo>
                  <a:pt x="1057551" y="175771"/>
                  <a:pt x="1116968" y="336402"/>
                  <a:pt x="1065125" y="180870"/>
                </a:cubicBezTo>
                <a:cubicBezTo>
                  <a:pt x="1061776" y="170822"/>
                  <a:pt x="1055077" y="161317"/>
                  <a:pt x="1055077" y="150725"/>
                </a:cubicBezTo>
                <a:lnTo>
                  <a:pt x="1055077" y="0"/>
                </a:lnTo>
              </a:path>
            </a:pathLst>
          </a:custGeom>
          <a:solidFill>
            <a:srgbClr val="131220"/>
          </a:solidFill>
          <a:ln w="9360">
            <a:solidFill>
              <a:srgbClr val="1312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Полилиния 35"/>
          <p:cNvGrpSpPr/>
          <p:nvPr/>
        </p:nvGrpSpPr>
        <p:grpSpPr>
          <a:xfrm>
            <a:off x="4593960" y="3359160"/>
            <a:ext cx="989280" cy="1590840"/>
            <a:chOff x="4593960" y="3359160"/>
            <a:chExt cx="989280" cy="1590840"/>
          </a:xfrm>
        </p:grpSpPr>
        <p:pic>
          <p:nvPicPr>
            <p:cNvPr id="73" name="Полилиния 35" descr=""/>
            <p:cNvPicPr/>
            <p:nvPr/>
          </p:nvPicPr>
          <p:blipFill>
            <a:blip r:embed="rId12"/>
            <a:stretch/>
          </p:blipFill>
          <p:spPr>
            <a:xfrm>
              <a:off x="4632480" y="3359160"/>
              <a:ext cx="9507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21003600">
              <a:off x="4705200" y="3428640"/>
              <a:ext cx="676440" cy="13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Полилиния 22" descr=""/>
          <p:cNvPicPr/>
          <p:nvPr/>
        </p:nvPicPr>
        <p:blipFill>
          <a:blip r:embed="rId13"/>
          <a:stretch/>
        </p:blipFill>
        <p:spPr>
          <a:xfrm>
            <a:off x="274680" y="2992320"/>
            <a:ext cx="837576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олилиния 24"/>
          <p:cNvSpPr/>
          <p:nvPr/>
        </p:nvSpPr>
        <p:spPr>
          <a:xfrm>
            <a:off x="1008000" y="2482920"/>
            <a:ext cx="196920" cy="350640"/>
          </a:xfrm>
          <a:custGeom>
            <a:avLst/>
            <a:gdLst/>
            <a:ahLst/>
            <a:rect l="l" t="t" r="r" b="b"/>
            <a:pathLst>
              <a:path w="197922" h="350457">
                <a:moveTo>
                  <a:pt x="118109" y="79152"/>
                </a:moveTo>
                <a:cubicBezTo>
                  <a:pt x="37552" y="159709"/>
                  <a:pt x="106475" y="72811"/>
                  <a:pt x="118109" y="119345"/>
                </a:cubicBezTo>
                <a:cubicBezTo>
                  <a:pt x="122894" y="138485"/>
                  <a:pt x="76481" y="163845"/>
                  <a:pt x="67868" y="169587"/>
                </a:cubicBezTo>
                <a:cubicBezTo>
                  <a:pt x="18507" y="243628"/>
                  <a:pt x="60288" y="172584"/>
                  <a:pt x="77916" y="179635"/>
                </a:cubicBezTo>
                <a:cubicBezTo>
                  <a:pt x="91824" y="185198"/>
                  <a:pt x="91314" y="206431"/>
                  <a:pt x="98013" y="219829"/>
                </a:cubicBezTo>
                <a:cubicBezTo>
                  <a:pt x="74097" y="291576"/>
                  <a:pt x="89667" y="262493"/>
                  <a:pt x="57819" y="310264"/>
                </a:cubicBezTo>
                <a:cubicBezTo>
                  <a:pt x="54470" y="320312"/>
                  <a:pt x="43034" y="330935"/>
                  <a:pt x="47771" y="340409"/>
                </a:cubicBezTo>
                <a:cubicBezTo>
                  <a:pt x="52508" y="349883"/>
                  <a:pt x="67324" y="350457"/>
                  <a:pt x="77916" y="350457"/>
                </a:cubicBezTo>
                <a:cubicBezTo>
                  <a:pt x="108246" y="350457"/>
                  <a:pt x="138206" y="343758"/>
                  <a:pt x="168351" y="340409"/>
                </a:cubicBezTo>
                <a:cubicBezTo>
                  <a:pt x="162083" y="331007"/>
                  <a:pt x="126196" y="279879"/>
                  <a:pt x="128158" y="270070"/>
                </a:cubicBezTo>
                <a:cubicBezTo>
                  <a:pt x="130235" y="259684"/>
                  <a:pt x="148255" y="263371"/>
                  <a:pt x="158303" y="260022"/>
                </a:cubicBezTo>
                <a:cubicBezTo>
                  <a:pt x="168351" y="266721"/>
                  <a:pt x="177646" y="285520"/>
                  <a:pt x="188448" y="280119"/>
                </a:cubicBezTo>
                <a:cubicBezTo>
                  <a:pt x="197922" y="275382"/>
                  <a:pt x="185016" y="258245"/>
                  <a:pt x="178399" y="249974"/>
                </a:cubicBezTo>
                <a:cubicBezTo>
                  <a:pt x="170855" y="240544"/>
                  <a:pt x="158302" y="236576"/>
                  <a:pt x="148254" y="229877"/>
                </a:cubicBezTo>
                <a:cubicBezTo>
                  <a:pt x="158302" y="226528"/>
                  <a:pt x="178399" y="230421"/>
                  <a:pt x="178399" y="219829"/>
                </a:cubicBezTo>
                <a:cubicBezTo>
                  <a:pt x="178399" y="205619"/>
                  <a:pt x="156136" y="201508"/>
                  <a:pt x="148254" y="189684"/>
                </a:cubicBezTo>
                <a:cubicBezTo>
                  <a:pt x="142379" y="180871"/>
                  <a:pt x="129393" y="165414"/>
                  <a:pt x="138206" y="159538"/>
                </a:cubicBezTo>
                <a:cubicBezTo>
                  <a:pt x="149697" y="151877"/>
                  <a:pt x="165001" y="166237"/>
                  <a:pt x="178399" y="169587"/>
                </a:cubicBezTo>
                <a:cubicBezTo>
                  <a:pt x="171700" y="159539"/>
                  <a:pt x="163060" y="150542"/>
                  <a:pt x="158303" y="139442"/>
                </a:cubicBezTo>
                <a:cubicBezTo>
                  <a:pt x="138996" y="94391"/>
                  <a:pt x="157752" y="108194"/>
                  <a:pt x="138206" y="69103"/>
                </a:cubicBezTo>
                <a:cubicBezTo>
                  <a:pt x="132805" y="58301"/>
                  <a:pt x="124808" y="49006"/>
                  <a:pt x="118109" y="38958"/>
                </a:cubicBezTo>
                <a:cubicBezTo>
                  <a:pt x="114760" y="28910"/>
                  <a:pt x="113936" y="0"/>
                  <a:pt x="108061" y="8813"/>
                </a:cubicBezTo>
                <a:cubicBezTo>
                  <a:pt x="96760" y="25765"/>
                  <a:pt x="102433" y="49214"/>
                  <a:pt x="98013" y="69103"/>
                </a:cubicBezTo>
                <a:cubicBezTo>
                  <a:pt x="94582" y="84543"/>
                  <a:pt x="76642" y="130667"/>
                  <a:pt x="67868" y="139442"/>
                </a:cubicBezTo>
                <a:cubicBezTo>
                  <a:pt x="60379" y="146932"/>
                  <a:pt x="88508" y="109297"/>
                  <a:pt x="77916" y="109297"/>
                </a:cubicBezTo>
                <a:cubicBezTo>
                  <a:pt x="65839" y="109297"/>
                  <a:pt x="64518" y="129394"/>
                  <a:pt x="57819" y="139442"/>
                </a:cubicBezTo>
                <a:cubicBezTo>
                  <a:pt x="54470" y="149490"/>
                  <a:pt x="46273" y="159102"/>
                  <a:pt x="47771" y="169587"/>
                </a:cubicBezTo>
                <a:cubicBezTo>
                  <a:pt x="49890" y="184416"/>
                  <a:pt x="69986" y="194951"/>
                  <a:pt x="67868" y="209780"/>
                </a:cubicBezTo>
                <a:cubicBezTo>
                  <a:pt x="65858" y="223848"/>
                  <a:pt x="47771" y="229877"/>
                  <a:pt x="37723" y="239925"/>
                </a:cubicBezTo>
                <a:cubicBezTo>
                  <a:pt x="13807" y="311672"/>
                  <a:pt x="0" y="288464"/>
                  <a:pt x="47771" y="320312"/>
                </a:cubicBezTo>
                <a:cubicBezTo>
                  <a:pt x="57819" y="316963"/>
                  <a:pt x="67324" y="310264"/>
                  <a:pt x="77916" y="310264"/>
                </a:cubicBezTo>
                <a:cubicBezTo>
                  <a:pt x="88508" y="310264"/>
                  <a:pt x="108061" y="320312"/>
                  <a:pt x="108061" y="320312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вал 5" descr=""/>
          <p:cNvPicPr/>
          <p:nvPr/>
        </p:nvPicPr>
        <p:blipFill>
          <a:blip r:embed="rId14"/>
          <a:stretch/>
        </p:blipFill>
        <p:spPr>
          <a:xfrm>
            <a:off x="725400" y="2017800"/>
            <a:ext cx="1182600" cy="2212920"/>
          </a:xfrm>
          <a:prstGeom prst="rect">
            <a:avLst/>
          </a:prstGeom>
          <a:ln w="0">
            <a:noFill/>
          </a:ln>
        </p:spPr>
      </p:pic>
      <p:pic>
        <p:nvPicPr>
          <p:cNvPr id="78" name="Овал 7" descr=""/>
          <p:cNvPicPr/>
          <p:nvPr/>
        </p:nvPicPr>
        <p:blipFill>
          <a:blip r:embed="rId15"/>
          <a:stretch/>
        </p:blipFill>
        <p:spPr>
          <a:xfrm>
            <a:off x="817560" y="2176560"/>
            <a:ext cx="865080" cy="1352520"/>
          </a:xfrm>
          <a:prstGeom prst="rect">
            <a:avLst/>
          </a:prstGeom>
          <a:ln w="0">
            <a:noFill/>
          </a:ln>
        </p:spPr>
      </p:pic>
      <p:sp>
        <p:nvSpPr>
          <p:cNvPr id="79" name="Полилиния 2"/>
          <p:cNvSpPr/>
          <p:nvPr/>
        </p:nvSpPr>
        <p:spPr>
          <a:xfrm>
            <a:off x="-141120" y="1542960"/>
            <a:ext cx="9269280" cy="5462640"/>
          </a:xfrm>
          <a:custGeom>
            <a:avLst/>
            <a:gdLst/>
            <a:ahLst/>
            <a:rect l="l" t="t" r="r" b="b"/>
            <a:pathLst>
              <a:path w="9268477" h="5462106">
                <a:moveTo>
                  <a:pt x="190919" y="34300"/>
                </a:moveTo>
                <a:cubicBezTo>
                  <a:pt x="207666" y="39324"/>
                  <a:pt x="239458" y="36771"/>
                  <a:pt x="251209" y="54397"/>
                </a:cubicBezTo>
                <a:cubicBezTo>
                  <a:pt x="264607" y="74494"/>
                  <a:pt x="267332" y="112681"/>
                  <a:pt x="291402" y="114687"/>
                </a:cubicBezTo>
                <a:lnTo>
                  <a:pt x="411982" y="124735"/>
                </a:lnTo>
                <a:cubicBezTo>
                  <a:pt x="418681" y="134783"/>
                  <a:pt x="428901" y="143229"/>
                  <a:pt x="432079" y="154880"/>
                </a:cubicBezTo>
                <a:cubicBezTo>
                  <a:pt x="447370" y="210944"/>
                  <a:pt x="435562" y="282427"/>
                  <a:pt x="462224" y="335751"/>
                </a:cubicBezTo>
                <a:lnTo>
                  <a:pt x="502418" y="416138"/>
                </a:lnTo>
                <a:cubicBezTo>
                  <a:pt x="510355" y="447888"/>
                  <a:pt x="519218" y="487706"/>
                  <a:pt x="532563" y="516621"/>
                </a:cubicBezTo>
                <a:cubicBezTo>
                  <a:pt x="561813" y="579996"/>
                  <a:pt x="615990" y="639323"/>
                  <a:pt x="633046" y="707540"/>
                </a:cubicBezTo>
                <a:cubicBezTo>
                  <a:pt x="639283" y="732484"/>
                  <a:pt x="648081" y="784252"/>
                  <a:pt x="673240" y="797975"/>
                </a:cubicBezTo>
                <a:cubicBezTo>
                  <a:pt x="696947" y="810906"/>
                  <a:pt x="726831" y="804674"/>
                  <a:pt x="753626" y="808023"/>
                </a:cubicBezTo>
                <a:cubicBezTo>
                  <a:pt x="767024" y="811373"/>
                  <a:pt x="780541" y="814278"/>
                  <a:pt x="793820" y="818072"/>
                </a:cubicBezTo>
                <a:cubicBezTo>
                  <a:pt x="804004" y="820982"/>
                  <a:pt x="813689" y="825551"/>
                  <a:pt x="823965" y="828120"/>
                </a:cubicBezTo>
                <a:cubicBezTo>
                  <a:pt x="840534" y="832262"/>
                  <a:pt x="857460" y="834819"/>
                  <a:pt x="874207" y="838168"/>
                </a:cubicBezTo>
                <a:cubicBezTo>
                  <a:pt x="906286" y="827475"/>
                  <a:pt x="927362" y="815226"/>
                  <a:pt x="964642" y="838168"/>
                </a:cubicBezTo>
                <a:cubicBezTo>
                  <a:pt x="992881" y="855546"/>
                  <a:pt x="1007391" y="890114"/>
                  <a:pt x="1034980" y="908507"/>
                </a:cubicBezTo>
                <a:lnTo>
                  <a:pt x="1065125" y="928604"/>
                </a:lnTo>
                <a:cubicBezTo>
                  <a:pt x="1071824" y="938652"/>
                  <a:pt x="1080577" y="947601"/>
                  <a:pt x="1085222" y="958749"/>
                </a:cubicBezTo>
                <a:cubicBezTo>
                  <a:pt x="1141829" y="1094605"/>
                  <a:pt x="1089135" y="1009837"/>
                  <a:pt x="1135464" y="1079329"/>
                </a:cubicBezTo>
                <a:cubicBezTo>
                  <a:pt x="1138813" y="1109474"/>
                  <a:pt x="1128688" y="1144528"/>
                  <a:pt x="1145512" y="1169764"/>
                </a:cubicBezTo>
                <a:cubicBezTo>
                  <a:pt x="1152843" y="1180760"/>
                  <a:pt x="1260146" y="1214674"/>
                  <a:pt x="1276141" y="1220006"/>
                </a:cubicBezTo>
                <a:cubicBezTo>
                  <a:pt x="1289539" y="1230054"/>
                  <a:pt x="1302706" y="1240417"/>
                  <a:pt x="1316334" y="1250151"/>
                </a:cubicBezTo>
                <a:cubicBezTo>
                  <a:pt x="1326161" y="1257170"/>
                  <a:pt x="1338748" y="1260970"/>
                  <a:pt x="1346479" y="1270247"/>
                </a:cubicBezTo>
                <a:cubicBezTo>
                  <a:pt x="1356069" y="1281754"/>
                  <a:pt x="1359877" y="1297043"/>
                  <a:pt x="1366576" y="1310441"/>
                </a:cubicBezTo>
                <a:cubicBezTo>
                  <a:pt x="1390253" y="1452510"/>
                  <a:pt x="1356784" y="1281119"/>
                  <a:pt x="1406769" y="1441069"/>
                </a:cubicBezTo>
                <a:cubicBezTo>
                  <a:pt x="1475305" y="1660384"/>
                  <a:pt x="1374351" y="1401513"/>
                  <a:pt x="1457011" y="1621940"/>
                </a:cubicBezTo>
                <a:cubicBezTo>
                  <a:pt x="1465968" y="1645824"/>
                  <a:pt x="1473461" y="1670757"/>
                  <a:pt x="1487156" y="1692278"/>
                </a:cubicBezTo>
                <a:cubicBezTo>
                  <a:pt x="1497329" y="1708263"/>
                  <a:pt x="1515019" y="1718086"/>
                  <a:pt x="1527350" y="1732472"/>
                </a:cubicBezTo>
                <a:cubicBezTo>
                  <a:pt x="1535209" y="1741641"/>
                  <a:pt x="1538016" y="1755073"/>
                  <a:pt x="1547446" y="1762617"/>
                </a:cubicBezTo>
                <a:cubicBezTo>
                  <a:pt x="1553998" y="1767859"/>
                  <a:pt x="1615160" y="1782057"/>
                  <a:pt x="1617785" y="1782713"/>
                </a:cubicBezTo>
                <a:cubicBezTo>
                  <a:pt x="1668587" y="1858919"/>
                  <a:pt x="1607813" y="1784963"/>
                  <a:pt x="1778558" y="1822907"/>
                </a:cubicBezTo>
                <a:cubicBezTo>
                  <a:pt x="1794907" y="1826540"/>
                  <a:pt x="1804550" y="1844176"/>
                  <a:pt x="1818752" y="1853052"/>
                </a:cubicBezTo>
                <a:cubicBezTo>
                  <a:pt x="1861238" y="1879606"/>
                  <a:pt x="1865837" y="1874298"/>
                  <a:pt x="1919235" y="1883197"/>
                </a:cubicBezTo>
                <a:cubicBezTo>
                  <a:pt x="1977261" y="2028261"/>
                  <a:pt x="1895325" y="1811118"/>
                  <a:pt x="1949380" y="2013825"/>
                </a:cubicBezTo>
                <a:cubicBezTo>
                  <a:pt x="1955953" y="2038473"/>
                  <a:pt x="1969477" y="2060718"/>
                  <a:pt x="1979525" y="2084164"/>
                </a:cubicBezTo>
                <a:cubicBezTo>
                  <a:pt x="1986431" y="2118693"/>
                  <a:pt x="1990163" y="2141492"/>
                  <a:pt x="1999622" y="2174599"/>
                </a:cubicBezTo>
                <a:cubicBezTo>
                  <a:pt x="2002532" y="2184783"/>
                  <a:pt x="2007288" y="2194423"/>
                  <a:pt x="2009670" y="2204744"/>
                </a:cubicBezTo>
                <a:cubicBezTo>
                  <a:pt x="2017351" y="2238027"/>
                  <a:pt x="2016629" y="2273698"/>
                  <a:pt x="2029767" y="2305228"/>
                </a:cubicBezTo>
                <a:cubicBezTo>
                  <a:pt x="2036050" y="2320307"/>
                  <a:pt x="2077114" y="2331058"/>
                  <a:pt x="2090057" y="2335373"/>
                </a:cubicBezTo>
                <a:cubicBezTo>
                  <a:pt x="2100105" y="2345421"/>
                  <a:pt x="2108834" y="2356992"/>
                  <a:pt x="2120202" y="2365518"/>
                </a:cubicBezTo>
                <a:cubicBezTo>
                  <a:pt x="2135826" y="2377236"/>
                  <a:pt x="2155847" y="2382688"/>
                  <a:pt x="2170444" y="2395663"/>
                </a:cubicBezTo>
                <a:cubicBezTo>
                  <a:pt x="2186474" y="2409912"/>
                  <a:pt x="2196388" y="2429875"/>
                  <a:pt x="2210637" y="2445905"/>
                </a:cubicBezTo>
                <a:cubicBezTo>
                  <a:pt x="2223225" y="2460066"/>
                  <a:pt x="2237433" y="2472700"/>
                  <a:pt x="2250831" y="2486098"/>
                </a:cubicBezTo>
                <a:cubicBezTo>
                  <a:pt x="2272385" y="2550762"/>
                  <a:pt x="2243981" y="2480528"/>
                  <a:pt x="2291024" y="2546388"/>
                </a:cubicBezTo>
                <a:cubicBezTo>
                  <a:pt x="2299731" y="2558577"/>
                  <a:pt x="2305220" y="2572814"/>
                  <a:pt x="2311121" y="2586582"/>
                </a:cubicBezTo>
                <a:cubicBezTo>
                  <a:pt x="2315293" y="2596317"/>
                  <a:pt x="2314666" y="2608366"/>
                  <a:pt x="2321169" y="2616727"/>
                </a:cubicBezTo>
                <a:cubicBezTo>
                  <a:pt x="2338618" y="2639161"/>
                  <a:pt x="2361362" y="2656920"/>
                  <a:pt x="2381459" y="2677017"/>
                </a:cubicBezTo>
                <a:lnTo>
                  <a:pt x="2411604" y="2707162"/>
                </a:lnTo>
                <a:lnTo>
                  <a:pt x="2451798" y="2747355"/>
                </a:lnTo>
                <a:cubicBezTo>
                  <a:pt x="2455147" y="2757403"/>
                  <a:pt x="2456591" y="2768304"/>
                  <a:pt x="2461846" y="2777500"/>
                </a:cubicBezTo>
                <a:cubicBezTo>
                  <a:pt x="2489214" y="2825395"/>
                  <a:pt x="2489740" y="2808964"/>
                  <a:pt x="2522136" y="2847839"/>
                </a:cubicBezTo>
                <a:cubicBezTo>
                  <a:pt x="2529867" y="2857117"/>
                  <a:pt x="2532406" y="2870965"/>
                  <a:pt x="2542233" y="2877984"/>
                </a:cubicBezTo>
                <a:cubicBezTo>
                  <a:pt x="2556911" y="2888468"/>
                  <a:pt x="2575992" y="2890754"/>
                  <a:pt x="2592475" y="2898080"/>
                </a:cubicBezTo>
                <a:cubicBezTo>
                  <a:pt x="2606163" y="2904164"/>
                  <a:pt x="2618900" y="2912276"/>
                  <a:pt x="2632668" y="2918177"/>
                </a:cubicBezTo>
                <a:cubicBezTo>
                  <a:pt x="2642403" y="2922349"/>
                  <a:pt x="2652859" y="2924605"/>
                  <a:pt x="2662813" y="2928225"/>
                </a:cubicBezTo>
                <a:cubicBezTo>
                  <a:pt x="2689708" y="2938005"/>
                  <a:pt x="2716844" y="2947220"/>
                  <a:pt x="2743200" y="2958371"/>
                </a:cubicBezTo>
                <a:cubicBezTo>
                  <a:pt x="2803962" y="2984078"/>
                  <a:pt x="2863565" y="3012451"/>
                  <a:pt x="2924070" y="3038757"/>
                </a:cubicBezTo>
                <a:cubicBezTo>
                  <a:pt x="2940612" y="3045949"/>
                  <a:pt x="2957200" y="3053150"/>
                  <a:pt x="2974312" y="3058854"/>
                </a:cubicBezTo>
                <a:cubicBezTo>
                  <a:pt x="3047704" y="3083318"/>
                  <a:pt x="3014051" y="3073813"/>
                  <a:pt x="3074796" y="3088999"/>
                </a:cubicBezTo>
                <a:cubicBezTo>
                  <a:pt x="3084844" y="3095698"/>
                  <a:pt x="3095174" y="3101993"/>
                  <a:pt x="3104941" y="3109096"/>
                </a:cubicBezTo>
                <a:cubicBezTo>
                  <a:pt x="3132029" y="3128797"/>
                  <a:pt x="3155370" y="3154406"/>
                  <a:pt x="3185328" y="3169386"/>
                </a:cubicBezTo>
                <a:cubicBezTo>
                  <a:pt x="3198726" y="3176085"/>
                  <a:pt x="3213332" y="3180776"/>
                  <a:pt x="3225521" y="3189483"/>
                </a:cubicBezTo>
                <a:cubicBezTo>
                  <a:pt x="3237085" y="3197743"/>
                  <a:pt x="3244749" y="3210531"/>
                  <a:pt x="3255666" y="3219628"/>
                </a:cubicBezTo>
                <a:cubicBezTo>
                  <a:pt x="3298857" y="3255620"/>
                  <a:pt x="3270642" y="3227116"/>
                  <a:pt x="3315956" y="3249773"/>
                </a:cubicBezTo>
                <a:cubicBezTo>
                  <a:pt x="3339215" y="3261403"/>
                  <a:pt x="3359578" y="3280567"/>
                  <a:pt x="3376246" y="3300014"/>
                </a:cubicBezTo>
                <a:cubicBezTo>
                  <a:pt x="3387145" y="3312730"/>
                  <a:pt x="3396343" y="3326810"/>
                  <a:pt x="3406391" y="3340208"/>
                </a:cubicBezTo>
                <a:cubicBezTo>
                  <a:pt x="3409741" y="3356955"/>
                  <a:pt x="3414183" y="3373521"/>
                  <a:pt x="3416440" y="3390450"/>
                </a:cubicBezTo>
                <a:cubicBezTo>
                  <a:pt x="3420889" y="3423816"/>
                  <a:pt x="3417479" y="3458500"/>
                  <a:pt x="3426488" y="3490933"/>
                </a:cubicBezTo>
                <a:cubicBezTo>
                  <a:pt x="3443450" y="3551996"/>
                  <a:pt x="3477501" y="3579390"/>
                  <a:pt x="3506875" y="3631610"/>
                </a:cubicBezTo>
                <a:cubicBezTo>
                  <a:pt x="3525234" y="3664249"/>
                  <a:pt x="3530637" y="3705614"/>
                  <a:pt x="3557117" y="3732094"/>
                </a:cubicBezTo>
                <a:cubicBezTo>
                  <a:pt x="3570515" y="3745492"/>
                  <a:pt x="3578708" y="3768687"/>
                  <a:pt x="3597310" y="3772287"/>
                </a:cubicBezTo>
                <a:cubicBezTo>
                  <a:pt x="3686341" y="3789519"/>
                  <a:pt x="3868615" y="3792384"/>
                  <a:pt x="3868615" y="3792384"/>
                </a:cubicBezTo>
                <a:cubicBezTo>
                  <a:pt x="3941761" y="3810670"/>
                  <a:pt x="3875803" y="3792257"/>
                  <a:pt x="3959051" y="3822529"/>
                </a:cubicBezTo>
                <a:cubicBezTo>
                  <a:pt x="3978959" y="3829768"/>
                  <a:pt x="3998370" y="3839629"/>
                  <a:pt x="4019341" y="3842625"/>
                </a:cubicBezTo>
                <a:lnTo>
                  <a:pt x="4230356" y="3872771"/>
                </a:lnTo>
                <a:cubicBezTo>
                  <a:pt x="4253802" y="3882819"/>
                  <a:pt x="4277534" y="3892226"/>
                  <a:pt x="4300695" y="3902916"/>
                </a:cubicBezTo>
                <a:cubicBezTo>
                  <a:pt x="4321096" y="3912332"/>
                  <a:pt x="4339114" y="3927915"/>
                  <a:pt x="4360985" y="3933061"/>
                </a:cubicBezTo>
                <a:cubicBezTo>
                  <a:pt x="4396997" y="3941534"/>
                  <a:pt x="4434673" y="3939760"/>
                  <a:pt x="4471517" y="3943109"/>
                </a:cubicBezTo>
                <a:cubicBezTo>
                  <a:pt x="4618707" y="4001987"/>
                  <a:pt x="4393126" y="3902752"/>
                  <a:pt x="4582048" y="4033544"/>
                </a:cubicBezTo>
                <a:cubicBezTo>
                  <a:pt x="4602097" y="4047424"/>
                  <a:pt x="4629628" y="4044887"/>
                  <a:pt x="4652387" y="4053641"/>
                </a:cubicBezTo>
                <a:cubicBezTo>
                  <a:pt x="4785657" y="4104899"/>
                  <a:pt x="4624039" y="4076400"/>
                  <a:pt x="4833257" y="4093834"/>
                </a:cubicBezTo>
                <a:cubicBezTo>
                  <a:pt x="4890198" y="4087135"/>
                  <a:pt x="4947758" y="4084466"/>
                  <a:pt x="5004079" y="4073738"/>
                </a:cubicBezTo>
                <a:cubicBezTo>
                  <a:pt x="5018794" y="4070935"/>
                  <a:pt x="5029379" y="4055237"/>
                  <a:pt x="5044273" y="4053641"/>
                </a:cubicBezTo>
                <a:cubicBezTo>
                  <a:pt x="5124272" y="4045070"/>
                  <a:pt x="5205021" y="4046273"/>
                  <a:pt x="5285433" y="4043593"/>
                </a:cubicBezTo>
                <a:lnTo>
                  <a:pt x="5647174" y="4033544"/>
                </a:lnTo>
                <a:cubicBezTo>
                  <a:pt x="5735483" y="4051207"/>
                  <a:pt x="5661138" y="4030479"/>
                  <a:pt x="5747657" y="4073738"/>
                </a:cubicBezTo>
                <a:cubicBezTo>
                  <a:pt x="5763790" y="4081804"/>
                  <a:pt x="5782094" y="4085142"/>
                  <a:pt x="5797899" y="4093834"/>
                </a:cubicBezTo>
                <a:cubicBezTo>
                  <a:pt x="5849238" y="4122070"/>
                  <a:pt x="5892287" y="4168173"/>
                  <a:pt x="5948624" y="4184269"/>
                </a:cubicBezTo>
                <a:cubicBezTo>
                  <a:pt x="6038553" y="4209963"/>
                  <a:pt x="5994910" y="4200357"/>
                  <a:pt x="6079253" y="4214414"/>
                </a:cubicBezTo>
                <a:cubicBezTo>
                  <a:pt x="6117895" y="4210901"/>
                  <a:pt x="6214283" y="4193578"/>
                  <a:pt x="6260123" y="4214414"/>
                </a:cubicBezTo>
                <a:cubicBezTo>
                  <a:pt x="6277372" y="4222255"/>
                  <a:pt x="6286057" y="4242131"/>
                  <a:pt x="6300317" y="4254608"/>
                </a:cubicBezTo>
                <a:cubicBezTo>
                  <a:pt x="6312920" y="4265636"/>
                  <a:pt x="6327112" y="4274705"/>
                  <a:pt x="6340510" y="4284753"/>
                </a:cubicBezTo>
                <a:cubicBezTo>
                  <a:pt x="6347732" y="4306419"/>
                  <a:pt x="6357045" y="4344952"/>
                  <a:pt x="6380703" y="4355091"/>
                </a:cubicBezTo>
                <a:cubicBezTo>
                  <a:pt x="6393397" y="4360531"/>
                  <a:pt x="6407499" y="4348392"/>
                  <a:pt x="6420897" y="4345043"/>
                </a:cubicBezTo>
                <a:cubicBezTo>
                  <a:pt x="6541477" y="4348392"/>
                  <a:pt x="6662366" y="4345839"/>
                  <a:pt x="6782637" y="4355091"/>
                </a:cubicBezTo>
                <a:cubicBezTo>
                  <a:pt x="6816978" y="4357733"/>
                  <a:pt x="6834358" y="4420052"/>
                  <a:pt x="6842928" y="4435478"/>
                </a:cubicBezTo>
                <a:cubicBezTo>
                  <a:pt x="6876407" y="4495739"/>
                  <a:pt x="6848012" y="4435559"/>
                  <a:pt x="6893169" y="4495768"/>
                </a:cubicBezTo>
                <a:cubicBezTo>
                  <a:pt x="6951881" y="4574051"/>
                  <a:pt x="6889638" y="4522823"/>
                  <a:pt x="6973556" y="4596252"/>
                </a:cubicBezTo>
                <a:cubicBezTo>
                  <a:pt x="6982645" y="4604205"/>
                  <a:pt x="6992899" y="4610948"/>
                  <a:pt x="7003701" y="4616349"/>
                </a:cubicBezTo>
                <a:cubicBezTo>
                  <a:pt x="7013175" y="4621086"/>
                  <a:pt x="7023361" y="4624899"/>
                  <a:pt x="7033846" y="4626397"/>
                </a:cubicBezTo>
                <a:cubicBezTo>
                  <a:pt x="7117335" y="4638324"/>
                  <a:pt x="7201319" y="4646494"/>
                  <a:pt x="7285055" y="4656542"/>
                </a:cubicBezTo>
                <a:cubicBezTo>
                  <a:pt x="7308501" y="4666590"/>
                  <a:pt x="7332232" y="4675997"/>
                  <a:pt x="7355393" y="4686687"/>
                </a:cubicBezTo>
                <a:cubicBezTo>
                  <a:pt x="7375794" y="4696103"/>
                  <a:pt x="7394079" y="4710659"/>
                  <a:pt x="7415684" y="4716832"/>
                </a:cubicBezTo>
                <a:cubicBezTo>
                  <a:pt x="7441649" y="4724250"/>
                  <a:pt x="7469338" y="4723061"/>
                  <a:pt x="7496070" y="4726880"/>
                </a:cubicBezTo>
                <a:cubicBezTo>
                  <a:pt x="7516239" y="4729761"/>
                  <a:pt x="7536224" y="4733831"/>
                  <a:pt x="7556361" y="4736929"/>
                </a:cubicBezTo>
                <a:cubicBezTo>
                  <a:pt x="7579770" y="4740530"/>
                  <a:pt x="7603337" y="4743083"/>
                  <a:pt x="7626699" y="4746977"/>
                </a:cubicBezTo>
                <a:cubicBezTo>
                  <a:pt x="7643546" y="4749785"/>
                  <a:pt x="7660019" y="4754717"/>
                  <a:pt x="7676941" y="4757025"/>
                </a:cubicBezTo>
                <a:cubicBezTo>
                  <a:pt x="7733749" y="4764771"/>
                  <a:pt x="7790822" y="4770423"/>
                  <a:pt x="7847763" y="4777122"/>
                </a:cubicBezTo>
                <a:cubicBezTo>
                  <a:pt x="7973314" y="4832923"/>
                  <a:pt x="7900929" y="4812058"/>
                  <a:pt x="8038681" y="4827364"/>
                </a:cubicBezTo>
                <a:lnTo>
                  <a:pt x="8480809" y="4877606"/>
                </a:lnTo>
                <a:cubicBezTo>
                  <a:pt x="8577847" y="4942296"/>
                  <a:pt x="8424606" y="4845664"/>
                  <a:pt x="8561196" y="4907751"/>
                </a:cubicBezTo>
                <a:cubicBezTo>
                  <a:pt x="8583184" y="4917746"/>
                  <a:pt x="8600372" y="4936214"/>
                  <a:pt x="8621486" y="4947944"/>
                </a:cubicBezTo>
                <a:cubicBezTo>
                  <a:pt x="8645772" y="4961436"/>
                  <a:pt x="8704487" y="4965544"/>
                  <a:pt x="8721969" y="4968041"/>
                </a:cubicBezTo>
                <a:cubicBezTo>
                  <a:pt x="8732017" y="4971390"/>
                  <a:pt x="8743843" y="4971472"/>
                  <a:pt x="8752114" y="4978089"/>
                </a:cubicBezTo>
                <a:cubicBezTo>
                  <a:pt x="8761544" y="4985633"/>
                  <a:pt x="8760998" y="5003749"/>
                  <a:pt x="8772211" y="5008234"/>
                </a:cubicBezTo>
                <a:cubicBezTo>
                  <a:pt x="8797284" y="5018263"/>
                  <a:pt x="8825802" y="5014933"/>
                  <a:pt x="8852598" y="5018283"/>
                </a:cubicBezTo>
                <a:cubicBezTo>
                  <a:pt x="8862646" y="5024982"/>
                  <a:pt x="8873466" y="5030648"/>
                  <a:pt x="8882743" y="5038379"/>
                </a:cubicBezTo>
                <a:cubicBezTo>
                  <a:pt x="8893660" y="5047476"/>
                  <a:pt x="8900413" y="5061719"/>
                  <a:pt x="8912888" y="5068524"/>
                </a:cubicBezTo>
                <a:cubicBezTo>
                  <a:pt x="8938011" y="5082228"/>
                  <a:pt x="8966859" y="5087662"/>
                  <a:pt x="8993275" y="5098669"/>
                </a:cubicBezTo>
                <a:cubicBezTo>
                  <a:pt x="9007102" y="5104430"/>
                  <a:pt x="9018936" y="5115133"/>
                  <a:pt x="9033468" y="5118766"/>
                </a:cubicBezTo>
                <a:cubicBezTo>
                  <a:pt x="9059666" y="5125315"/>
                  <a:pt x="9087059" y="5125465"/>
                  <a:pt x="9113855" y="5128814"/>
                </a:cubicBezTo>
                <a:cubicBezTo>
                  <a:pt x="9127253" y="5138863"/>
                  <a:pt x="9142206" y="5147118"/>
                  <a:pt x="9154048" y="5158960"/>
                </a:cubicBezTo>
                <a:cubicBezTo>
                  <a:pt x="9165890" y="5170802"/>
                  <a:pt x="9170565" y="5189419"/>
                  <a:pt x="9184193" y="5199153"/>
                </a:cubicBezTo>
                <a:cubicBezTo>
                  <a:pt x="9195431" y="5207180"/>
                  <a:pt x="9211108" y="5205407"/>
                  <a:pt x="9224387" y="5209201"/>
                </a:cubicBezTo>
                <a:cubicBezTo>
                  <a:pt x="9234571" y="5212111"/>
                  <a:pt x="9244484" y="5215900"/>
                  <a:pt x="9254532" y="5219250"/>
                </a:cubicBezTo>
                <a:cubicBezTo>
                  <a:pt x="9247833" y="5229298"/>
                  <a:pt x="9240427" y="5238910"/>
                  <a:pt x="9234435" y="5249395"/>
                </a:cubicBezTo>
                <a:cubicBezTo>
                  <a:pt x="9172245" y="5358227"/>
                  <a:pt x="9268477" y="5291942"/>
                  <a:pt x="8983226" y="5279540"/>
                </a:cubicBezTo>
                <a:cubicBezTo>
                  <a:pt x="8967323" y="5277268"/>
                  <a:pt x="8843843" y="5259207"/>
                  <a:pt x="8832501" y="5259443"/>
                </a:cubicBezTo>
                <a:cubicBezTo>
                  <a:pt x="8618647" y="5263899"/>
                  <a:pt x="8488888" y="5275054"/>
                  <a:pt x="8299939" y="5289588"/>
                </a:cubicBezTo>
                <a:cubicBezTo>
                  <a:pt x="8252168" y="5321435"/>
                  <a:pt x="8281248" y="5305867"/>
                  <a:pt x="8209503" y="5329782"/>
                </a:cubicBezTo>
                <a:cubicBezTo>
                  <a:pt x="8133015" y="5355278"/>
                  <a:pt x="8169981" y="5345724"/>
                  <a:pt x="8098972" y="5359927"/>
                </a:cubicBezTo>
                <a:lnTo>
                  <a:pt x="7536264" y="5349878"/>
                </a:lnTo>
                <a:cubicBezTo>
                  <a:pt x="7519194" y="5349318"/>
                  <a:pt x="7502951" y="5342087"/>
                  <a:pt x="7486022" y="5339830"/>
                </a:cubicBezTo>
                <a:cubicBezTo>
                  <a:pt x="7452656" y="5335381"/>
                  <a:pt x="7419033" y="5333131"/>
                  <a:pt x="7385539" y="5329782"/>
                </a:cubicBezTo>
                <a:cubicBezTo>
                  <a:pt x="7224642" y="5297601"/>
                  <a:pt x="7273159" y="5303428"/>
                  <a:pt x="6963508" y="5329782"/>
                </a:cubicBezTo>
                <a:cubicBezTo>
                  <a:pt x="6928665" y="5332747"/>
                  <a:pt x="6897161" y="5352341"/>
                  <a:pt x="6863024" y="5359927"/>
                </a:cubicBezTo>
                <a:cubicBezTo>
                  <a:pt x="6836663" y="5365785"/>
                  <a:pt x="6809433" y="5366626"/>
                  <a:pt x="6782637" y="5369975"/>
                </a:cubicBezTo>
                <a:cubicBezTo>
                  <a:pt x="6506249" y="5462106"/>
                  <a:pt x="6743528" y="5390384"/>
                  <a:pt x="6039059" y="5380023"/>
                </a:cubicBezTo>
                <a:cubicBezTo>
                  <a:pt x="5998866" y="5376674"/>
                  <a:pt x="5958458" y="5375305"/>
                  <a:pt x="5918479" y="5369975"/>
                </a:cubicBezTo>
                <a:cubicBezTo>
                  <a:pt x="5907980" y="5368575"/>
                  <a:pt x="5898755" y="5361822"/>
                  <a:pt x="5888334" y="5359927"/>
                </a:cubicBezTo>
                <a:cubicBezTo>
                  <a:pt x="5861765" y="5355096"/>
                  <a:pt x="5834637" y="5353984"/>
                  <a:pt x="5807947" y="5349878"/>
                </a:cubicBezTo>
                <a:cubicBezTo>
                  <a:pt x="5791067" y="5347281"/>
                  <a:pt x="5774726" y="5341248"/>
                  <a:pt x="5757706" y="5339830"/>
                </a:cubicBezTo>
                <a:cubicBezTo>
                  <a:pt x="5694198" y="5334538"/>
                  <a:pt x="5630427" y="5333131"/>
                  <a:pt x="5566787" y="5329782"/>
                </a:cubicBezTo>
                <a:cubicBezTo>
                  <a:pt x="5472370" y="5310898"/>
                  <a:pt x="5544488" y="5320499"/>
                  <a:pt x="5395965" y="5329782"/>
                </a:cubicBezTo>
                <a:cubicBezTo>
                  <a:pt x="5329023" y="5333966"/>
                  <a:pt x="5261987" y="5336481"/>
                  <a:pt x="5194998" y="5339830"/>
                </a:cubicBezTo>
                <a:lnTo>
                  <a:pt x="4803112" y="5329782"/>
                </a:lnTo>
                <a:cubicBezTo>
                  <a:pt x="4757854" y="5327725"/>
                  <a:pt x="4759541" y="5318889"/>
                  <a:pt x="4722725" y="5309685"/>
                </a:cubicBezTo>
                <a:cubicBezTo>
                  <a:pt x="4706156" y="5305543"/>
                  <a:pt x="4689330" y="5302444"/>
                  <a:pt x="4672484" y="5299636"/>
                </a:cubicBezTo>
                <a:cubicBezTo>
                  <a:pt x="4599148" y="5287413"/>
                  <a:pt x="4573206" y="5286957"/>
                  <a:pt x="4491613" y="5279540"/>
                </a:cubicBezTo>
                <a:cubicBezTo>
                  <a:pt x="4481565" y="5276190"/>
                  <a:pt x="4471854" y="5271568"/>
                  <a:pt x="4461468" y="5269491"/>
                </a:cubicBezTo>
                <a:cubicBezTo>
                  <a:pt x="4379699" y="5253137"/>
                  <a:pt x="4337948" y="5249027"/>
                  <a:pt x="4260501" y="5239346"/>
                </a:cubicBezTo>
                <a:cubicBezTo>
                  <a:pt x="4077404" y="5178316"/>
                  <a:pt x="4197833" y="5214711"/>
                  <a:pt x="3737987" y="5239346"/>
                </a:cubicBezTo>
                <a:cubicBezTo>
                  <a:pt x="3713637" y="5240650"/>
                  <a:pt x="3690781" y="5251732"/>
                  <a:pt x="3667648" y="5259443"/>
                </a:cubicBezTo>
                <a:cubicBezTo>
                  <a:pt x="3650536" y="5265147"/>
                  <a:pt x="3635412" y="5278460"/>
                  <a:pt x="3617407" y="5279540"/>
                </a:cubicBezTo>
                <a:cubicBezTo>
                  <a:pt x="3571452" y="5282297"/>
                  <a:pt x="2645345" y="5299585"/>
                  <a:pt x="2642717" y="5299636"/>
                </a:cubicBezTo>
                <a:lnTo>
                  <a:pt x="924448" y="5289588"/>
                </a:lnTo>
                <a:cubicBezTo>
                  <a:pt x="880779" y="5289113"/>
                  <a:pt x="837251" y="5284112"/>
                  <a:pt x="793820" y="5279540"/>
                </a:cubicBezTo>
                <a:cubicBezTo>
                  <a:pt x="773558" y="5277407"/>
                  <a:pt x="753508" y="5273487"/>
                  <a:pt x="733530" y="5269491"/>
                </a:cubicBezTo>
                <a:cubicBezTo>
                  <a:pt x="719988" y="5266783"/>
                  <a:pt x="707139" y="5259888"/>
                  <a:pt x="693336" y="5259443"/>
                </a:cubicBezTo>
                <a:cubicBezTo>
                  <a:pt x="499140" y="5253179"/>
                  <a:pt x="304800" y="5252744"/>
                  <a:pt x="110532" y="5249395"/>
                </a:cubicBezTo>
                <a:cubicBezTo>
                  <a:pt x="157424" y="5179057"/>
                  <a:pt x="130628" y="5202503"/>
                  <a:pt x="180870" y="5169008"/>
                </a:cubicBezTo>
                <a:cubicBezTo>
                  <a:pt x="187569" y="5158960"/>
                  <a:pt x="195566" y="5149665"/>
                  <a:pt x="200967" y="5138863"/>
                </a:cubicBezTo>
                <a:cubicBezTo>
                  <a:pt x="211739" y="5117319"/>
                  <a:pt x="216479" y="5079109"/>
                  <a:pt x="221064" y="5058476"/>
                </a:cubicBezTo>
                <a:cubicBezTo>
                  <a:pt x="224060" y="5044995"/>
                  <a:pt x="227763" y="5031681"/>
                  <a:pt x="231112" y="5018283"/>
                </a:cubicBezTo>
                <a:cubicBezTo>
                  <a:pt x="224413" y="4984788"/>
                  <a:pt x="221060" y="4950447"/>
                  <a:pt x="211015" y="4917799"/>
                </a:cubicBezTo>
                <a:cubicBezTo>
                  <a:pt x="207464" y="4906257"/>
                  <a:pt x="198998" y="4896630"/>
                  <a:pt x="190919" y="4887654"/>
                </a:cubicBezTo>
                <a:cubicBezTo>
                  <a:pt x="168738" y="4863008"/>
                  <a:pt x="144026" y="4840762"/>
                  <a:pt x="120580" y="4817316"/>
                </a:cubicBezTo>
                <a:lnTo>
                  <a:pt x="60290" y="4757025"/>
                </a:lnTo>
                <a:lnTo>
                  <a:pt x="20097" y="4716832"/>
                </a:lnTo>
                <a:cubicBezTo>
                  <a:pt x="15357" y="4702614"/>
                  <a:pt x="0" y="4659115"/>
                  <a:pt x="0" y="4646494"/>
                </a:cubicBezTo>
                <a:cubicBezTo>
                  <a:pt x="0" y="4629415"/>
                  <a:pt x="2981" y="4611800"/>
                  <a:pt x="10048" y="4596252"/>
                </a:cubicBezTo>
                <a:cubicBezTo>
                  <a:pt x="20043" y="4574264"/>
                  <a:pt x="50242" y="4535962"/>
                  <a:pt x="50242" y="4535962"/>
                </a:cubicBezTo>
                <a:cubicBezTo>
                  <a:pt x="67139" y="4485271"/>
                  <a:pt x="66974" y="4492783"/>
                  <a:pt x="70339" y="4415382"/>
                </a:cubicBezTo>
                <a:cubicBezTo>
                  <a:pt x="75724" y="4291524"/>
                  <a:pt x="77038" y="4167523"/>
                  <a:pt x="80387" y="4043593"/>
                </a:cubicBezTo>
                <a:cubicBezTo>
                  <a:pt x="90072" y="3075028"/>
                  <a:pt x="100484" y="2185723"/>
                  <a:pt x="100484" y="1199909"/>
                </a:cubicBezTo>
                <a:cubicBezTo>
                  <a:pt x="100484" y="898440"/>
                  <a:pt x="93785" y="597008"/>
                  <a:pt x="90435" y="295557"/>
                </a:cubicBezTo>
                <a:cubicBezTo>
                  <a:pt x="93785" y="241966"/>
                  <a:pt x="95393" y="188238"/>
                  <a:pt x="100484" y="134784"/>
                </a:cubicBezTo>
                <a:cubicBezTo>
                  <a:pt x="102103" y="117782"/>
                  <a:pt x="103465" y="100090"/>
                  <a:pt x="110532" y="84542"/>
                </a:cubicBezTo>
                <a:cubicBezTo>
                  <a:pt x="120526" y="62554"/>
                  <a:pt x="130628" y="37650"/>
                  <a:pt x="150725" y="24252"/>
                </a:cubicBezTo>
                <a:cubicBezTo>
                  <a:pt x="187102" y="0"/>
                  <a:pt x="174172" y="29276"/>
                  <a:pt x="190919" y="343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Полилиния 42"/>
          <p:cNvGrpSpPr/>
          <p:nvPr/>
        </p:nvGrpSpPr>
        <p:grpSpPr>
          <a:xfrm>
            <a:off x="4175280" y="615960"/>
            <a:ext cx="3908160" cy="1908000"/>
            <a:chOff x="4175280" y="615960"/>
            <a:chExt cx="3908160" cy="1908000"/>
          </a:xfrm>
        </p:grpSpPr>
        <p:pic>
          <p:nvPicPr>
            <p:cNvPr id="81" name="Полилиния 42" descr=""/>
            <p:cNvPicPr/>
            <p:nvPr/>
          </p:nvPicPr>
          <p:blipFill>
            <a:blip r:embed="rId16"/>
            <a:stretch/>
          </p:blipFill>
          <p:spPr>
            <a:xfrm>
              <a:off x="4175280" y="615960"/>
              <a:ext cx="390816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419720" y="857160"/>
              <a:ext cx="3429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олилиния 43"/>
          <p:cNvGrpSpPr/>
          <p:nvPr/>
        </p:nvGrpSpPr>
        <p:grpSpPr>
          <a:xfrm>
            <a:off x="4214520" y="390600"/>
            <a:ext cx="1689840" cy="2060640"/>
            <a:chOff x="4214520" y="390600"/>
            <a:chExt cx="1689840" cy="2060640"/>
          </a:xfrm>
        </p:grpSpPr>
        <p:pic>
          <p:nvPicPr>
            <p:cNvPr id="84" name="Полилиния 43" descr=""/>
            <p:cNvPicPr/>
            <p:nvPr/>
          </p:nvPicPr>
          <p:blipFill>
            <a:blip r:embed="rId17"/>
            <a:stretch/>
          </p:blipFill>
          <p:spPr>
            <a:xfrm>
              <a:off x="4419720" y="390600"/>
              <a:ext cx="1457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19602600">
              <a:off x="4529160" y="599760"/>
              <a:ext cx="106056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олилиния 46"/>
          <p:cNvGrpSpPr/>
          <p:nvPr/>
        </p:nvGrpSpPr>
        <p:grpSpPr>
          <a:xfrm>
            <a:off x="4797360" y="1566720"/>
            <a:ext cx="1755720" cy="1335240"/>
            <a:chOff x="4797360" y="1566720"/>
            <a:chExt cx="1755720" cy="1335240"/>
          </a:xfrm>
        </p:grpSpPr>
        <p:pic>
          <p:nvPicPr>
            <p:cNvPr id="87" name="Полилиния 46" descr=""/>
            <p:cNvPicPr/>
            <p:nvPr/>
          </p:nvPicPr>
          <p:blipFill>
            <a:blip r:embed="rId18"/>
            <a:stretch/>
          </p:blipFill>
          <p:spPr>
            <a:xfrm>
              <a:off x="4797360" y="1566720"/>
              <a:ext cx="17557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rot="753600">
              <a:off x="4963680" y="1949400"/>
              <a:ext cx="14274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Полилиния 47"/>
          <p:cNvSpPr/>
          <p:nvPr/>
        </p:nvSpPr>
        <p:spPr>
          <a:xfrm>
            <a:off x="4278240" y="2092320"/>
            <a:ext cx="222480" cy="293760"/>
          </a:xfrm>
          <a:custGeom>
            <a:avLst/>
            <a:gdLst/>
            <a:ahLst/>
            <a:rect l="l" t="t" r="r" b="b"/>
            <a:pathLst>
              <a:path w="222427" h="294857">
                <a:moveTo>
                  <a:pt x="173876" y="18422"/>
                </a:moveTo>
                <a:cubicBezTo>
                  <a:pt x="160478" y="0"/>
                  <a:pt x="183864" y="3439"/>
                  <a:pt x="133682" y="78712"/>
                </a:cubicBezTo>
                <a:cubicBezTo>
                  <a:pt x="94853" y="136955"/>
                  <a:pt x="160908" y="84007"/>
                  <a:pt x="93489" y="128954"/>
                </a:cubicBezTo>
                <a:cubicBezTo>
                  <a:pt x="46114" y="200016"/>
                  <a:pt x="105583" y="112021"/>
                  <a:pt x="43247" y="199292"/>
                </a:cubicBezTo>
                <a:cubicBezTo>
                  <a:pt x="36228" y="209119"/>
                  <a:pt x="29850" y="219389"/>
                  <a:pt x="23151" y="229437"/>
                </a:cubicBezTo>
                <a:cubicBezTo>
                  <a:pt x="19801" y="242835"/>
                  <a:pt x="0" y="265264"/>
                  <a:pt x="13102" y="269631"/>
                </a:cubicBezTo>
                <a:cubicBezTo>
                  <a:pt x="88779" y="294857"/>
                  <a:pt x="98788" y="265167"/>
                  <a:pt x="143731" y="239486"/>
                </a:cubicBezTo>
                <a:cubicBezTo>
                  <a:pt x="156737" y="232054"/>
                  <a:pt x="171735" y="228096"/>
                  <a:pt x="183924" y="219389"/>
                </a:cubicBezTo>
                <a:cubicBezTo>
                  <a:pt x="195488" y="211129"/>
                  <a:pt x="211853" y="203281"/>
                  <a:pt x="214069" y="189244"/>
                </a:cubicBezTo>
                <a:cubicBezTo>
                  <a:pt x="222427" y="136308"/>
                  <a:pt x="187274" y="36844"/>
                  <a:pt x="173876" y="18422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6"/>
          <p:cNvSpPr/>
          <p:nvPr/>
        </p:nvSpPr>
        <p:spPr>
          <a:xfrm>
            <a:off x="7215120" y="6500880"/>
            <a:ext cx="20574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0345"/>
                </a:solidFill>
                <a:latin typeface="Calibri"/>
              </a:rPr>
              <a:t>Филинкова Татьяна «Змей-Горы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22:50Z</dcterms:created>
  <dc:creator>Admin</dc:creator>
  <dc:description/>
  <dc:language>en-US</dc:language>
  <cp:lastModifiedBy>Admin</cp:lastModifiedBy>
  <dcterms:modified xsi:type="dcterms:W3CDTF">2012-01-23T15:23:11Z</dcterms:modified>
  <cp:revision>1</cp:revision>
  <dc:subject/>
  <dc:title>Слайд 1</dc:title>
</cp:coreProperties>
</file>