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0.jpeg" ContentType="image/jpeg"/>
  <Override PartName="/ppt/media/image5.png" ContentType="image/png"/>
  <Override PartName="/ppt/media/image28.png" ContentType="image/png"/>
  <Override PartName="/ppt/media/image6.gif" ContentType="image/gif"/>
  <Override PartName="/ppt/media/image13.gif" ContentType="image/gif"/>
  <Override PartName="/ppt/media/image16.jpeg" ContentType="image/jpeg"/>
  <Override PartName="/ppt/media/image4.jpeg" ContentType="image/jpeg"/>
  <Override PartName="/ppt/media/image25.png" ContentType="image/png"/>
  <Override PartName="/ppt/media/image12.png" ContentType="image/png"/>
  <Override PartName="/ppt/media/image3.gif" ContentType="image/gif"/>
  <Override PartName="/ppt/media/image29.png" ContentType="image/png"/>
  <Override PartName="/ppt/media/image27.gif" ContentType="image/gif"/>
  <Override PartName="/ppt/media/image15.gif" ContentType="image/gif"/>
  <Override PartName="/ppt/media/image26.png" ContentType="image/png"/>
  <Override PartName="/ppt/media/image19.png" ContentType="image/png"/>
  <Override PartName="/ppt/media/image21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1.png" ContentType="image/png"/>
  <Override PartName="/ppt/media/image24.png" ContentType="image/png"/>
  <Override PartName="/ppt/media/image22.png" ContentType="image/png"/>
  <Override PartName="/ppt/media/image17.gif" ContentType="image/gi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FCD-072B-4802-A6C7-0F9C753C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47C-EDD6-4F12-A999-1FDA64F6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427-E0CE-4B96-A1DB-61EB2D07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6C9-0A8A-4D0A-B86D-B8DF271E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2CCD-5BEC-42FC-AC10-0D101474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F9D-96A1-4A60-976A-A16E2B54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860A-CA59-450B-A033-66527A0C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E907-238A-4E90-9B2A-B9C301A0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B4D6-AF9C-489D-8EC0-32DDAB6C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3039-0EEA-4669-ABE2-5546D5BD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D2C6-C52F-4838-B450-965BF65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702-3EA4-49D2-8802-448A4C8E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7E1E-7F9C-4418-B0B5-2DC9A1A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C281-E36D-434F-8A7B-FC9EB6D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AFE6-8792-4AB2-908D-96BE2F2F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F932-C40A-41E3-8537-6119224E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EC4A-926F-49B9-BE8A-C11E8DA9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09D-32EE-43B6-99F6-D9F9CAA4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21E-A281-4EE2-AE47-575B1D20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F8C-3A9D-4E4A-BC91-6EFA780C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16B-6B46-4EC9-A3FB-503D460A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89B-57B2-437A-B8EA-9E7D773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AAF-C245-4607-9449-E655ECDA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D7D-A848-47A8-A8AD-EE8F4164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636A-9AAE-459B-B449-7868C58B3C9D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8C1F-18AC-4910-81CC-115142563F95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7640" y="1773000"/>
            <a:ext cx="69454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,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Н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великое дело!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Ничего более не боится человек так,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как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ГО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...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Боясь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ГО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, удержится от того,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т чего не удержала его никакая сила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220"/>
                            </p:stCondLst>
                            <p:childTnLst>
                              <p:par>
                                <p:cTn id="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ловотворчество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0920" y="2060280"/>
            <a:ext cx="655344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етр и Иван совершенно разные. Петр – неудачник, недоучка, бездарь и неряха. Зато Иван – удачник, доучка, дарь и рях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6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PaladinPCRus"/>
              </a:rPr>
              <a:t>Приемы </a:t>
            </a:r>
            <a:br>
              <a:rPr sz="4400"/>
            </a:br>
            <a:r>
              <a:rPr b="1" i="1" lang="ru-RU" sz="4400" spc="-1" strike="noStrike">
                <a:solidFill>
                  <a:srgbClr val="0066ff"/>
                </a:solidFill>
                <a:latin typeface="PaladinPCRus"/>
              </a:rPr>
              <a:t>создания комического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59040" y="2151360"/>
            <a:ext cx="4557600" cy="3352680"/>
            <a:chOff x="2759040" y="2151360"/>
            <a:chExt cx="4557600" cy="3352680"/>
          </a:xfrm>
        </p:grpSpPr>
        <p:sp>
          <p:nvSpPr>
            <p:cNvPr id="127" name="_s188421"/>
            <p:cNvSpPr/>
            <p:nvPr/>
          </p:nvSpPr>
          <p:spPr>
            <a:xfrm>
              <a:off x="4326480" y="2627640"/>
              <a:ext cx="1424160" cy="1364760"/>
            </a:xfrm>
            <a:prstGeom prst="ellipse">
              <a:avLst/>
            </a:prstGeom>
            <a:solidFill>
              <a:srgbClr val="99ffcc">
                <a:alpha val="50000"/>
              </a:srgbClr>
            </a:solidFill>
            <a:ln w="46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8" name="_s188422"/>
            <p:cNvSpPr/>
            <p:nvPr/>
          </p:nvSpPr>
          <p:spPr>
            <a:xfrm>
              <a:off x="4502520" y="2151360"/>
              <a:ext cx="1070640" cy="339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Перенесение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9" name="_s188427"/>
            <p:cNvSpPr/>
            <p:nvPr/>
          </p:nvSpPr>
          <p:spPr>
            <a:xfrm>
              <a:off x="4794840" y="2887560"/>
              <a:ext cx="1424160" cy="136476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46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0" name="_s188428"/>
            <p:cNvSpPr/>
            <p:nvPr/>
          </p:nvSpPr>
          <p:spPr>
            <a:xfrm>
              <a:off x="6246000" y="2819520"/>
              <a:ext cx="1070640" cy="339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Словотворчество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1" name="_s188429"/>
            <p:cNvSpPr/>
            <p:nvPr/>
          </p:nvSpPr>
          <p:spPr>
            <a:xfrm>
              <a:off x="4794840" y="3406320"/>
              <a:ext cx="1424160" cy="1364400"/>
            </a:xfrm>
            <a:prstGeom prst="ellipse">
              <a:avLst/>
            </a:prstGeom>
            <a:solidFill>
              <a:srgbClr val="afb5d2">
                <a:alpha val="50000"/>
              </a:srgbClr>
            </a:solidFill>
            <a:ln w="4680">
              <a:solidFill>
                <a:srgbClr val="afb5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2" name="_s188430"/>
            <p:cNvSpPr/>
            <p:nvPr/>
          </p:nvSpPr>
          <p:spPr>
            <a:xfrm>
              <a:off x="6246000" y="4496040"/>
              <a:ext cx="1070640" cy="339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Возвышение 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низкого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3" name="_s188431"/>
            <p:cNvSpPr/>
            <p:nvPr/>
          </p:nvSpPr>
          <p:spPr>
            <a:xfrm>
              <a:off x="4326480" y="3664440"/>
              <a:ext cx="1424160" cy="1364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4" name="_s188432"/>
            <p:cNvSpPr/>
            <p:nvPr/>
          </p:nvSpPr>
          <p:spPr>
            <a:xfrm>
              <a:off x="4503960" y="5164200"/>
              <a:ext cx="1070640" cy="339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Парадокс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5" name="_s188433"/>
            <p:cNvSpPr/>
            <p:nvPr/>
          </p:nvSpPr>
          <p:spPr>
            <a:xfrm>
              <a:off x="3857760" y="3406320"/>
              <a:ext cx="1424160" cy="1364400"/>
            </a:xfrm>
            <a:prstGeom prst="ellipse">
              <a:avLst/>
            </a:prstGeom>
            <a:solidFill>
              <a:srgbClr val="ff99ff">
                <a:alpha val="50000"/>
              </a:srgbClr>
            </a:solidFill>
            <a:ln w="468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6" name="_s188434"/>
            <p:cNvSpPr/>
            <p:nvPr/>
          </p:nvSpPr>
          <p:spPr>
            <a:xfrm>
              <a:off x="2760120" y="4497120"/>
              <a:ext cx="1070640" cy="34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Снижение 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высокого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7" name="_s188435"/>
            <p:cNvSpPr/>
            <p:nvPr/>
          </p:nvSpPr>
          <p:spPr>
            <a:xfrm>
              <a:off x="3857760" y="2887560"/>
              <a:ext cx="1424160" cy="1364760"/>
            </a:xfrm>
            <a:prstGeom prst="ellipse">
              <a:avLst/>
            </a:prstGeom>
            <a:solidFill>
              <a:srgbClr val="99ffcc">
                <a:alpha val="50000"/>
              </a:srgbClr>
            </a:solidFill>
            <a:ln w="46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8" name="_s188436"/>
            <p:cNvSpPr/>
            <p:nvPr/>
          </p:nvSpPr>
          <p:spPr>
            <a:xfrm>
              <a:off x="2759040" y="2820960"/>
              <a:ext cx="1070640" cy="34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Несоответствие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451640" y="5084640"/>
            <a:ext cx="104292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5545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PaladinPCRus"/>
              </a:rPr>
              <a:t>Михаил Михайлович Зощенко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51640" y="1628640"/>
            <a:ext cx="3271680" cy="482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92360" y="220500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Почти двадцать лет взрослые считали, что я писал для их забавы. А я для забавы никогда не писал.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20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4.8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692280"/>
            <a:ext cx="67690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,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мех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великое дело!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Ничего более не боится человек так,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как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мех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...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Боясь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мех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, удержится от того,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т чего не удержала его никакая сила.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                               Н. В. Гоголь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712944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PaladinPCRus"/>
              </a:rPr>
              <a:t>«Мир уцелел, </a:t>
            </a:r>
            <a:br>
              <a:rPr sz="4400"/>
            </a:br>
            <a:r>
              <a:rPr b="1" i="1" lang="ru-RU" sz="4400" spc="-1" strike="noStrike">
                <a:solidFill>
                  <a:srgbClr val="0066ff"/>
                </a:solidFill>
                <a:latin typeface="PaladinPCRus"/>
              </a:rPr>
              <a:t>потому что смеялся…»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360" y="2924280"/>
            <a:ext cx="691200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99"/>
                </a:solidFill>
                <a:latin typeface="Magneto"/>
              </a:rPr>
              <a:t>Приемы создания комического в художественном произведени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476280"/>
            <a:ext cx="7128000" cy="17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Перенесение</a:t>
            </a:r>
            <a:br>
              <a:rPr sz="4400"/>
            </a:b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(использование слова там, где его нельзя использовать)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23640" y="2781000"/>
            <a:ext cx="648036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н тщательно намусорил во двор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95640" y="4076640"/>
            <a:ext cx="2664000" cy="2076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1079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Парадокс</a:t>
            </a:r>
            <a:br>
              <a:rPr sz="44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(соединение несоединимого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79280" y="4436640"/>
            <a:ext cx="684036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«Чтобы у нас лечиться, так это же надо иметь железное здоровье»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(М. М. Жванецкий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873080" cy="1433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1933560" cy="252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928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Несоответствие</a:t>
            </a:r>
            <a:br>
              <a:rPr sz="44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(нелогичность, неожиданность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640" y="1628280"/>
            <a:ext cx="69120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Однажды Большая Рыба сказала Маленькой Рыбке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мотри: это крючок! Не трогай его, не хватай! Если схватишь, тебя вытащат из воды, изжарят на раскаленной сковородке и съедят!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Ох, какой ужас! – воскликнула маленькая рыбка. – Огромное вам спасибо! Но почему вы так обо мне заботились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..........................................................................................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Что, по-вашему, ответила Большая Рыба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236000" y="5013360"/>
            <a:ext cx="1617480" cy="1617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9280" y="4941720"/>
            <a:ext cx="1873440" cy="170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0920" y="2473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озвышение низкого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23640" y="3716280"/>
            <a:ext cx="604836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Торжественная поэма о … битве мух!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1720800" cy="133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2449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8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800"/>
                            </p:stCondLst>
                            <p:childTnLst>
                              <p:par>
                                <p:cTn id="1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нижение высокого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8920" y="167652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Мама будит сына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овочка, вставай, в школу пора!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е пойду я в школу! Опять Сидоров будет плеваться, Мухина ябедничать, Петров драться! Не пойду!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овочка, ты должен идти: во-первых, …. , а во-вторых, …. !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360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1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1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75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1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1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15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1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1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25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1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1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нижение высокого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92000" y="2276280"/>
            <a:ext cx="7056360" cy="21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овочка, ты должен идти: во-первых, тебе 40 лет , а во-вторых, ты директор школы !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443640" y="4221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1570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450"/>
                            </p:stCondLst>
                            <p:childTnLst>
                              <p:par>
                                <p:cTn id="2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450"/>
                            </p:stCondLst>
                            <p:childTnLst>
                              <p:par>
                                <p:cTn id="2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4:34:23Z</dcterms:created>
  <dc:creator>User</dc:creator>
  <dc:description/>
  <dc:language>en-US</dc:language>
  <cp:lastModifiedBy>Света</cp:lastModifiedBy>
  <dcterms:modified xsi:type="dcterms:W3CDTF">2008-05-26T18:11:00Z</dcterms:modified>
  <cp:revision>8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