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gif" ContentType="image/gif"/>
  <Override PartName="/ppt/media/image10.jpeg" ContentType="image/jpeg"/>
  <Override PartName="/ppt/media/image5.png" ContentType="image/png"/>
  <Override PartName="/ppt/media/image28.png" ContentType="image/png"/>
  <Override PartName="/ppt/media/image6.gif" ContentType="image/gif"/>
  <Override PartName="/ppt/media/image13.gif" ContentType="image/gif"/>
  <Override PartName="/ppt/media/image16.jpeg" ContentType="image/jpeg"/>
  <Override PartName="/ppt/media/image4.jpeg" ContentType="image/jpeg"/>
  <Override PartName="/ppt/media/image25.png" ContentType="image/png"/>
  <Override PartName="/ppt/media/image12.png" ContentType="image/png"/>
  <Override PartName="/ppt/media/image3.gif" ContentType="image/gif"/>
  <Override PartName="/ppt/media/image29.png" ContentType="image/png"/>
  <Override PartName="/ppt/media/image27.gif" ContentType="image/gif"/>
  <Override PartName="/ppt/media/image15.gif" ContentType="image/gif"/>
  <Override PartName="/ppt/media/image26.png" ContentType="image/png"/>
  <Override PartName="/ppt/media/image19.png" ContentType="image/png"/>
  <Override PartName="/ppt/media/image21.png" ContentType="image/png"/>
  <Override PartName="/ppt/media/image18.gif" ContentType="image/gif"/>
  <Override PartName="/ppt/media/image23.png" ContentType="image/png"/>
  <Override PartName="/ppt/media/image20.gif" ContentType="image/gif"/>
  <Override PartName="/ppt/media/image1.png" ContentType="image/png"/>
  <Override PartName="/ppt/media/image24.png" ContentType="image/png"/>
  <Override PartName="/ppt/media/image22.png" ContentType="image/png"/>
  <Override PartName="/ppt/media/image17.gif" ContentType="image/gi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F8A1-0F10-414A-8FDA-1E3771E1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6C30-580A-4472-81BC-50BEA93D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C0F7-0E33-4F03-AB5F-65CF4546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854B-04B2-4572-9F24-5608AEA34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20A5-FA7B-46CA-85AC-7ED243CA8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0AB0-6C86-40C4-9EE7-4FA7C3F1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F9A2-7D31-44AE-845D-3D67BE8B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5F88-1050-4C8B-9212-8197B441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8D14-4083-448F-A080-55CB2800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3C14-AEF9-4F2F-930A-817CFAE6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38D7-7165-4676-A1B5-1EEA790F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0D9F-9622-419A-B114-7EDE1B39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3131-8256-45C6-B04E-EA96E848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5500-F3E7-49D9-8AD1-5CE9B830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029F-9945-46E5-8190-70BA12B5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E242-3B58-4380-B485-7A3EEF374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35F6-AFBD-4BCD-ACBA-63CBDCDA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AB33-6F86-45B0-98ED-468301D5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7879-D60C-441E-B007-4DE1144F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FA72-B0B3-4419-9B6E-EBA1EB3D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7417-B424-41C0-A875-D3A0260B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0980-0B6D-4B3B-B7AC-58C583C0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C536-B0A0-49AE-9C9D-A546CB40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6881-9AAE-42E8-8466-7EE526EC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1788-0FD8-4706-B56F-F70300A66529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3CE0-3D36-4E82-9BC6-73209388BBF5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7640" y="1773000"/>
            <a:ext cx="6945480" cy="38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О,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Н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 великое дело!</a:t>
            </a:r>
            <a:br>
              <a:rPr sz="3600"/>
            </a:b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Ничего более не боится человек так,</a:t>
            </a:r>
            <a:br>
              <a:rPr sz="3600"/>
            </a:b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как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ГО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...</a:t>
            </a:r>
            <a:br>
              <a:rPr sz="3600"/>
            </a:b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Боясь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ГО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, удержится от того,</a:t>
            </a:r>
            <a:br>
              <a:rPr sz="3600"/>
            </a:b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От чего не удержала его никакая сила.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211640" y="0"/>
            <a:ext cx="15127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9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9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9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220"/>
                            </p:stCondLst>
                            <p:childTnLst>
                              <p:par>
                                <p:cTn id="1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Словотворчество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050920" y="2060280"/>
            <a:ext cx="6553440" cy="20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Петр и Иван совершенно разные. Петр – неудачник, недоучка, бездарь и неряха. Зато Иван – удачник, доучка, дарь и ряха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948360" y="4508640"/>
            <a:ext cx="1727280" cy="1726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17431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4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6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8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600"/>
                            </p:stCondLst>
                            <p:childTnLst>
                              <p:par>
                                <p:cTn id="2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PaladinPCRus"/>
              </a:rPr>
              <a:t>Приемы </a:t>
            </a:r>
            <a:br>
              <a:rPr sz="4400"/>
            </a:br>
            <a:r>
              <a:rPr b="1" i="1" lang="ru-RU" sz="4400" spc="-1" strike="noStrike">
                <a:solidFill>
                  <a:srgbClr val="0066ff"/>
                </a:solidFill>
                <a:latin typeface="PaladinPCRus"/>
              </a:rPr>
              <a:t>создания комического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59040" y="2151360"/>
            <a:ext cx="4557600" cy="3352680"/>
            <a:chOff x="2759040" y="2151360"/>
            <a:chExt cx="4557600" cy="3352680"/>
          </a:xfrm>
        </p:grpSpPr>
        <p:sp>
          <p:nvSpPr>
            <p:cNvPr id="127" name="_s188421"/>
            <p:cNvSpPr/>
            <p:nvPr/>
          </p:nvSpPr>
          <p:spPr>
            <a:xfrm>
              <a:off x="4326480" y="2627640"/>
              <a:ext cx="1424160" cy="1364760"/>
            </a:xfrm>
            <a:prstGeom prst="ellipse">
              <a:avLst/>
            </a:prstGeom>
            <a:solidFill>
              <a:srgbClr val="99ffcc">
                <a:alpha val="50000"/>
              </a:srgbClr>
            </a:solidFill>
            <a:ln w="468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8" name="_s188422"/>
            <p:cNvSpPr/>
            <p:nvPr/>
          </p:nvSpPr>
          <p:spPr>
            <a:xfrm>
              <a:off x="4502520" y="2151360"/>
              <a:ext cx="1070640" cy="339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53966" dir="18900000" blurRad="0" rotWithShape="0">
                <a:srgbClr val="99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imes New Roman"/>
                </a:rPr>
                <a:t>Перенесение</a:t>
              </a:r>
              <a:endParaRPr b="0" lang="en-US" sz="28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9" name="_s188427"/>
            <p:cNvSpPr/>
            <p:nvPr/>
          </p:nvSpPr>
          <p:spPr>
            <a:xfrm>
              <a:off x="4794840" y="2887560"/>
              <a:ext cx="1424160" cy="1364760"/>
            </a:xfrm>
            <a:prstGeom prst="ellipse">
              <a:avLst/>
            </a:prstGeom>
            <a:solidFill>
              <a:srgbClr val="66ccff">
                <a:alpha val="50000"/>
              </a:srgbClr>
            </a:solidFill>
            <a:ln w="468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30" name="_s188428"/>
            <p:cNvSpPr/>
            <p:nvPr/>
          </p:nvSpPr>
          <p:spPr>
            <a:xfrm>
              <a:off x="6246000" y="2819520"/>
              <a:ext cx="1070640" cy="339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53966" dir="18900000" blurRad="0" rotWithShape="0">
                <a:srgbClr val="99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imes New Roman"/>
                </a:rPr>
                <a:t>Словотворчество</a:t>
              </a:r>
              <a:endParaRPr b="0" lang="en-US" sz="2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31" name="_s188429"/>
            <p:cNvSpPr/>
            <p:nvPr/>
          </p:nvSpPr>
          <p:spPr>
            <a:xfrm>
              <a:off x="4794840" y="3406320"/>
              <a:ext cx="1424160" cy="1364400"/>
            </a:xfrm>
            <a:prstGeom prst="ellipse">
              <a:avLst/>
            </a:prstGeom>
            <a:solidFill>
              <a:srgbClr val="afb5d2">
                <a:alpha val="50000"/>
              </a:srgbClr>
            </a:solidFill>
            <a:ln w="4680">
              <a:solidFill>
                <a:srgbClr val="afb5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32" name="_s188430"/>
            <p:cNvSpPr/>
            <p:nvPr/>
          </p:nvSpPr>
          <p:spPr>
            <a:xfrm>
              <a:off x="6246000" y="4496040"/>
              <a:ext cx="1070640" cy="339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53966" dir="18900000" blurRad="0" rotWithShape="0">
                <a:srgbClr val="99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imes New Roman"/>
                </a:rPr>
                <a:t>Возвышение </a:t>
              </a:r>
              <a:endParaRPr b="0" lang="en-US" sz="28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imes New Roman"/>
                </a:rPr>
                <a:t>низкого</a:t>
              </a:r>
              <a:endParaRPr b="0" lang="en-US" sz="28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33" name="_s188431"/>
            <p:cNvSpPr/>
            <p:nvPr/>
          </p:nvSpPr>
          <p:spPr>
            <a:xfrm>
              <a:off x="4326480" y="3664440"/>
              <a:ext cx="1424160" cy="136476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34" name="_s188432"/>
            <p:cNvSpPr/>
            <p:nvPr/>
          </p:nvSpPr>
          <p:spPr>
            <a:xfrm>
              <a:off x="4503960" y="5164200"/>
              <a:ext cx="1070640" cy="339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53966" dir="18900000" blurRad="0" rotWithShape="0">
                <a:srgbClr val="99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imes New Roman"/>
                </a:rPr>
                <a:t>Парадокс</a:t>
              </a:r>
              <a:endParaRPr b="0" lang="en-US" sz="2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35" name="_s188433"/>
            <p:cNvSpPr/>
            <p:nvPr/>
          </p:nvSpPr>
          <p:spPr>
            <a:xfrm>
              <a:off x="3857760" y="3406320"/>
              <a:ext cx="1424160" cy="1364400"/>
            </a:xfrm>
            <a:prstGeom prst="ellipse">
              <a:avLst/>
            </a:prstGeom>
            <a:solidFill>
              <a:srgbClr val="ff99ff">
                <a:alpha val="50000"/>
              </a:srgbClr>
            </a:solidFill>
            <a:ln w="468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36" name="_s188434"/>
            <p:cNvSpPr/>
            <p:nvPr/>
          </p:nvSpPr>
          <p:spPr>
            <a:xfrm>
              <a:off x="2760120" y="4497120"/>
              <a:ext cx="1070640" cy="340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53966" dir="18900000" blurRad="0" rotWithShape="0">
                <a:srgbClr val="99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imes New Roman"/>
                </a:rPr>
                <a:t>Снижение </a:t>
              </a:r>
              <a:endParaRPr b="0" lang="en-US" sz="28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imes New Roman"/>
                </a:rPr>
                <a:t>высокого</a:t>
              </a:r>
              <a:endParaRPr b="0" lang="en-US" sz="2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37" name="_s188435"/>
            <p:cNvSpPr/>
            <p:nvPr/>
          </p:nvSpPr>
          <p:spPr>
            <a:xfrm>
              <a:off x="3857760" y="2887560"/>
              <a:ext cx="1424160" cy="1364760"/>
            </a:xfrm>
            <a:prstGeom prst="ellipse">
              <a:avLst/>
            </a:prstGeom>
            <a:solidFill>
              <a:srgbClr val="99ffcc">
                <a:alpha val="50000"/>
              </a:srgbClr>
            </a:solidFill>
            <a:ln w="468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38" name="_s188436"/>
            <p:cNvSpPr/>
            <p:nvPr/>
          </p:nvSpPr>
          <p:spPr>
            <a:xfrm>
              <a:off x="2759040" y="2820960"/>
              <a:ext cx="1070640" cy="340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53966" dir="18900000" blurRad="0" rotWithShape="0">
                <a:srgbClr val="99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imes New Roman"/>
                </a:rPr>
                <a:t>Несоответствие</a:t>
              </a:r>
              <a:endParaRPr b="0" lang="en-US" sz="2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451640" y="5084640"/>
            <a:ext cx="1042920" cy="10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47640" y="549000"/>
            <a:ext cx="5545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PaladinPCRus"/>
              </a:rPr>
              <a:t>Михаил Михайлович Зощенко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651640" y="1628640"/>
            <a:ext cx="3271680" cy="4824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692360" y="2205000"/>
            <a:ext cx="396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0066ff"/>
                </a:solidFill>
                <a:latin typeface="Times New Roman"/>
              </a:rPr>
              <a:t>Почти двадцать лет взрослые считали, что я писал для их забавы. А я для забавы никогда не писал.</a:t>
            </a:r>
            <a:r>
              <a:rPr b="1" i="1" lang="ru-RU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200"/>
                            </p:stCondLst>
                            <p:childTnLst>
                              <p:par>
                                <p:cTn id="3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64.8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4920" y="692280"/>
            <a:ext cx="676908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О,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мех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 великое дело!</a:t>
            </a:r>
            <a:br>
              <a:rPr sz="3600"/>
            </a:b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Ничего более не боится человек так,</a:t>
            </a:r>
            <a:br>
              <a:rPr sz="3600"/>
            </a:b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как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меха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...</a:t>
            </a:r>
            <a:br>
              <a:rPr sz="3600"/>
            </a:b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Боясь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меха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, удержится от того,</a:t>
            </a:r>
            <a:br>
              <a:rPr sz="3600"/>
            </a:b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От чего не удержала его никакая сила.</a:t>
            </a:r>
            <a:br>
              <a:rPr sz="3600"/>
            </a:b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                                  Н. В. Гоголь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549360"/>
            <a:ext cx="7129440" cy="179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ff"/>
                </a:solidFill>
                <a:latin typeface="PaladinPCRus"/>
              </a:rPr>
              <a:t>«Мир уцелел, </a:t>
            </a:r>
            <a:br>
              <a:rPr sz="4400"/>
            </a:br>
            <a:r>
              <a:rPr b="1" i="1" lang="ru-RU" sz="4400" spc="-1" strike="noStrike">
                <a:solidFill>
                  <a:srgbClr val="0066ff"/>
                </a:solidFill>
                <a:latin typeface="PaladinPCRus"/>
              </a:rPr>
              <a:t>потому что смеялся…»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92360" y="2924280"/>
            <a:ext cx="6912000" cy="17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99"/>
                </a:solidFill>
                <a:latin typeface="Magneto"/>
              </a:rPr>
              <a:t>Приемы создания комического в художественном произведении.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476280"/>
            <a:ext cx="7128000" cy="179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Перенесение</a:t>
            </a:r>
            <a:br>
              <a:rPr sz="4400"/>
            </a:br>
            <a:r>
              <a:rPr b="1" lang="ru-RU" sz="3600" spc="-1" strike="noStrike">
                <a:solidFill>
                  <a:srgbClr val="0066ff"/>
                </a:solidFill>
                <a:latin typeface="Times New Roman"/>
              </a:rPr>
              <a:t>(использование слова там, где его нельзя использовать)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23640" y="2781000"/>
            <a:ext cx="6480360" cy="143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Он тщательно намусорил во дворе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995640" y="4076640"/>
            <a:ext cx="2664000" cy="2076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24000" y="2924280"/>
            <a:ext cx="1079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24000" y="69192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Парадокс</a:t>
            </a:r>
            <a:br>
              <a:rPr sz="4400"/>
            </a:b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(соединение несоединимого)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79280" y="4436640"/>
            <a:ext cx="684036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«Чтобы у нас лечиться, так это же надо иметь железное здоровье»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(М. М. Жванецкий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1873080" cy="1433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211640" y="2133720"/>
            <a:ext cx="1933560" cy="2520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95280" y="4581360"/>
            <a:ext cx="9288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Несоответствие</a:t>
            </a:r>
            <a:br>
              <a:rPr sz="4400"/>
            </a:b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(нелогичность, неожиданность)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63640" y="1628280"/>
            <a:ext cx="691200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Однажды Большая Рыба сказала Маленькой Рыбке: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Смотри: это крючок! Не трогай его, не хватай! Если схватишь, тебя вытащат из воды, изжарят на раскаленной сковородке и съедят!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Ох, какой ужас! – воскликнула маленькая рыбка. – Огромное вам спасибо! Но почему вы так обо мне заботились?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..........................................................................................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Что, по-вашему, ответила Большая Рыба?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236000" y="5013360"/>
            <a:ext cx="1617480" cy="1617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79280" y="4941720"/>
            <a:ext cx="1873440" cy="1700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250920" y="189000"/>
            <a:ext cx="12412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8000"/>
                            </p:stCondLst>
                            <p:childTnLst>
                              <p:par>
                                <p:cTn id="155" nodeType="afterEffect" fill="hold" presetClass="entr" presetID="31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10920" y="247320"/>
            <a:ext cx="6481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Возвышение низкого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123640" y="3716280"/>
            <a:ext cx="6048360" cy="144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Торжественная поэма о … битве мух!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427640" y="1916280"/>
            <a:ext cx="1720800" cy="1339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79280" y="404640"/>
            <a:ext cx="2449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8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800"/>
                            </p:stCondLst>
                            <p:childTnLst>
                              <p:par>
                                <p:cTn id="17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Снижение высокого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18920" y="1676520"/>
            <a:ext cx="7056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Мама будит сына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Вовочка, вставай, в школу пора!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Не пойду я в школу! Опять Сидоров будет плеваться, Мухина ябедничать, Петров драться! Не пойду!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Вовочка, ты должен идти: во-первых, …. , а во-вторых, …. !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13604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1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1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75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1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1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15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1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1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825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1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1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Снижение высокого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92000" y="2276280"/>
            <a:ext cx="7056360" cy="214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Вовочка, ты должен идти: во-первых, тебе 40 лет , а во-вторых, ты директор школы !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443640" y="422100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11570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1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1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450"/>
                            </p:stCondLst>
                            <p:childTnLst>
                              <p:par>
                                <p:cTn id="2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450"/>
                            </p:stCondLst>
                            <p:childTnLst>
                              <p:par>
                                <p:cTn id="24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8T14:34:23Z</dcterms:created>
  <dc:creator>User</dc:creator>
  <dc:description/>
  <dc:language>en-US</dc:language>
  <cp:lastModifiedBy>Света</cp:lastModifiedBy>
  <dcterms:modified xsi:type="dcterms:W3CDTF">2008-05-26T18:11:00Z</dcterms:modified>
  <cp:revision>8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