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A02AF-34C8-464D-9B6D-9798D38CC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4A03B-86FA-4C70-BA37-4B122C110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D5F0C-6553-41BB-9601-4C9C872F8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69011-5ECB-4DBB-AFCC-1830FF0F6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B9EB8-0203-405F-9816-332EE7B2A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8E668-6588-4A06-AAE8-2DC2AD5C1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7813F-E8BA-4F5C-B0A1-A8FA176DC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A88B8-925B-43F0-A710-55B1D8FF6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BF99B-008F-429E-A881-1BA9A83A8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DEA31-A491-49EA-AF9B-E4A168C4D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AC2C8-C4F5-43A0-9143-6E8BCEFFC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AB4B5-188D-496F-AE15-74E8F6221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6E84C-53A8-4FF6-99DD-10E8899D7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A4D73-93FF-45BA-B3FA-93502CFFA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30102-995D-4E67-8DBE-C76326A63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214E9-5C21-47F2-9840-459F6783D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5CC48-8970-4581-AD2C-24021C5EC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C18FF1-1C6B-44EE-9656-C2FC23DD18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DD5F1D-D18D-49A9-9CE0-9B81A09BD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38324-89A7-440B-9ECE-6505CD5FC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BA70B-D60E-44F4-9781-5E93CF3BEA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49FC1-E4CE-43E8-B5C4-3E28AA9CF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4A37D-C1EC-43AB-8D09-756D01CD7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3276A-AF47-4367-AEFC-6FB923E8F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EC2C2-AD31-4D70-8D47-9A91348F6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E0EC1-1015-43DF-AC3B-7659CB851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73B69-0A2B-437D-B136-F0E426332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B558E-5108-4AFF-9F3F-AE2AA52BC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E01FE3-F4C3-445E-AF2E-439252E679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A9B940-4513-4AD5-8860-CDD5634F8E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66FE08-FD2D-4EE7-AD35-690499748D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3BCA0F-8AAB-4057-BA88-0BBBFD6AC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CE1600-2BA2-4536-A615-B484FBFE4A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468CF-0B64-4A81-8656-002808FFF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EC5F89-8DF1-492D-8B16-E0EC172A7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3588C-7830-43FA-993E-874D7B760D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5DADF-1869-4403-9843-D02061B56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558D7-B53E-4D08-B059-7491E253F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28DB1-760B-4987-B8E4-369FF5A62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E015A-5AAE-4F65-A995-38C72F083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80F805-4A24-4D28-A8C7-AD7EE8202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0DFD90-849E-4212-8F21-FE0BBB00EF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C14C6A-1C72-4132-827D-DF472FE4E9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AE5C81-A8F5-40E1-8335-7124B64653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BB066-7FA0-47B3-AE9A-08A393756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A5AB69-3EB7-48C1-A93C-3113B8008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DD010-B27B-4CFE-8204-6EEF5CE90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94D08B-4A1E-4F52-8694-5257FB8BF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3CA31-4F5E-4688-8FCE-2D9BB001E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AFF847-EFF3-4DF8-9223-9E0F53791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9E485-4869-4A99-BE22-4526A7460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4B0A0-8CB9-4CE2-A0F8-74DE36DE1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662F2-DF35-456A-A68C-D05BFCE26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D9A0CD-F6B0-46C6-8FC1-5FE3DA095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BF53C6-F344-44D6-B13B-77630AFC60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D316A-F5ED-442C-986C-9BDE451C5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4CFB84-5223-44E9-82BA-2F50FF13C5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0EFD90-5247-441A-9A9F-46A0DC3C2E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27816-9AB7-4E95-9BA6-6AAD0DE5B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6BE8D-BB9B-47B6-8FF1-DE8CF8F0EF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7F188A-FA9A-4432-B448-49A9B065E6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86CDA4-369C-4252-8AFD-93831E6886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F1624-B843-4960-B974-73BEF8163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4F7A2-4932-4942-84E1-852093AED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7E870D-359D-47A6-8AAB-8F0B37B9E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8255A-2E92-4A03-9D63-794045E88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CCE08-7234-4FA9-903D-D402A855B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24829B-32A7-406E-9996-17BF9F3320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CF9034-DF45-47F6-A54E-559FDBD826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3EAEFB-5A2A-4BEA-8737-E852B3329D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639535-999E-4B7A-9E4F-1562234FC3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E8A4B-47A2-415A-A443-3D4ACB2978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B2AE0-7441-4B93-BE90-1C2491890A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06BFEF-D5D1-44B2-9641-A4A4B7244B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0FBE3C-CC05-46D8-A642-F986F1866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C2DD0F-BEB8-4853-BBCB-583ED0654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C8107-C077-4B0B-B0B1-42B8F5BB5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9A7CE-905C-4C84-BCC9-3FBAA5EC1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1638F-8737-4A62-8E96-235B53F2D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917C01-D9B9-4434-9791-246D005A0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CDB4B6-F4C3-4A82-A2A2-1FE011E1B0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1F7273-8C66-4043-9CE5-F6C0A325AA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0D5BE1-1B12-4A20-AEF5-8AB1A28335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80EFCB-1BCE-4D21-8925-0CD7614CDD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583F12-7295-4EB3-8ECE-EE1BEB949A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578561-BB60-4B6F-BB9F-C53C6E642D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FEE87F-916B-4E53-9398-A1CCF4EA1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132CBE-0AD2-43C0-8FBE-AB64CB9732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B00CE-3AEA-478A-9E64-8D1F40776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B27457-CDA8-4CA5-AF56-82BB9920E5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33AA3-0725-48D0-A012-775DB8BB11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C538D6-6423-4F71-BF0E-EE59F4FFE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53460-155C-4671-8ECC-D3B25F277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9AB9AE-9DFC-4FE0-B83C-23C1FD7B73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BEFFB1-A253-4BB5-89AB-71B26BFF76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2B1E5F-BEF7-4AD0-80F5-D27E3B04802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372C-7D2B-49BE-B8CB-44D10EC89246}"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Прямоугольник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44FE-7B5E-496F-A130-4CBDDA8A60AA}"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FD79-A545-458B-9467-886170A30050}"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748E-DF0D-4143-9D33-06EE7C77041D}"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BC99-F06F-4845-BB5D-B4CA2CA626F2}"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F5AF-06CE-4700-B3F5-BDFC5318E496}"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9A95-166F-401C-9638-3C30E7662E57}"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B55E-EE11-4BD0-8E4F-5B904F5EFBB6}"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483920"/>
            <a:ext cx="7371000" cy="13683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3d54"/>
                </a:solidFill>
                <a:latin typeface="Bookman Old Style"/>
              </a:rPr>
              <a:t>Презентация по МХК</a:t>
            </a:r>
            <a:br>
              <a:rPr sz="2400"/>
            </a:br>
            <a:r>
              <a:rPr b="1" lang="ru-RU" sz="2400" spc="-1" strike="noStrike">
                <a:solidFill>
                  <a:srgbClr val="373d54"/>
                </a:solidFill>
                <a:latin typeface="Bookman Old Style"/>
              </a:rPr>
              <a:t> на тему </a:t>
            </a:r>
            <a:br>
              <a:rPr sz="2400"/>
            </a:br>
            <a:r>
              <a:rPr b="1" lang="ru-RU" sz="2400" spc="-1" strike="noStrike">
                <a:solidFill>
                  <a:srgbClr val="373d54"/>
                </a:solidFill>
                <a:latin typeface="Bookman Old Style"/>
              </a:rPr>
              <a:t>«Добрыня Никитич»</a:t>
            </a:r>
            <a:endParaRPr b="0" lang="en-US" sz="2400" spc="-1" strike="noStrike">
              <a:solidFill>
                <a:srgbClr val="464653"/>
              </a:solidFill>
              <a:latin typeface="Cambria"/>
            </a:endParaRPr>
          </a:p>
        </p:txBody>
      </p:sp>
      <p:sp>
        <p:nvSpPr>
          <p:cNvPr id="353" name="PlaceHolder 2"/>
          <p:cNvSpPr>
            <a:spLocks noGrp="1"/>
          </p:cNvSpPr>
          <p:nvPr>
            <p:ph type="subTitle"/>
          </p:nvPr>
        </p:nvSpPr>
        <p:spPr>
          <a:xfrm>
            <a:off x="2843280" y="3499920"/>
            <a:ext cx="5976720" cy="2808360"/>
          </a:xfrm>
          <a:prstGeom prst="rect">
            <a:avLst/>
          </a:prstGeom>
          <a:solidFill>
            <a:srgbClr val="ffffff"/>
          </a:solid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Bookman Old Style"/>
              </a:rPr>
              <a:t>Подготовила ученица </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Bookman Old Style"/>
              </a:rPr>
              <a:t>9 «А» класса МОУСОШ №17</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Bookman Old Style"/>
              </a:rPr>
              <a:t>г.Подольск Московская область</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Bookman Old Style"/>
              </a:rPr>
              <a:t>Захарова Наталья</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d8525"/>
                </a:solidFill>
                <a:latin typeface="Bookman Old Style"/>
              </a:rPr>
              <a:t>Учитель : Печкурова Елена Анатольевна.</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73d54"/>
                </a:solidFill>
                <a:latin typeface="Bookman Old Style"/>
              </a:rPr>
              <a:t>Подольск, 2011</a:t>
            </a:r>
            <a:endParaRPr b="0" lang="en-US" sz="2000" spc="-1" strike="noStrike">
              <a:solidFill>
                <a:srgbClr val="000000"/>
              </a:solidFill>
              <a:latin typeface="Calibri"/>
            </a:endParaRPr>
          </a:p>
        </p:txBody>
      </p:sp>
      <p:pic>
        <p:nvPicPr>
          <p:cNvPr id="354" name="Рисунок 3" descr="820389301.jpg"/>
          <p:cNvPicPr/>
          <p:nvPr/>
        </p:nvPicPr>
        <p:blipFill>
          <a:blip r:embed="rId1"/>
          <a:stretch/>
        </p:blipFill>
        <p:spPr>
          <a:xfrm>
            <a:off x="676440" y="3206880"/>
            <a:ext cx="2199960" cy="25286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Рисунок 1" descr="tbogat98_4.jpg"/>
          <p:cNvPicPr/>
          <p:nvPr/>
        </p:nvPicPr>
        <p:blipFill>
          <a:blip r:embed="rId1"/>
          <a:stretch/>
        </p:blipFill>
        <p:spPr>
          <a:xfrm>
            <a:off x="5462640" y="738360"/>
            <a:ext cx="3211560" cy="2449440"/>
          </a:xfrm>
          <a:prstGeom prst="rect">
            <a:avLst/>
          </a:prstGeom>
          <a:ln w="0">
            <a:noFill/>
          </a:ln>
        </p:spPr>
      </p:pic>
      <p:sp>
        <p:nvSpPr>
          <p:cNvPr id="356" name="Прямоугольник 2"/>
          <p:cNvSpPr/>
          <p:nvPr/>
        </p:nvSpPr>
        <p:spPr>
          <a:xfrm>
            <a:off x="395280" y="2133720"/>
            <a:ext cx="4572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Добрыня Никитич</a:t>
            </a:r>
            <a:r>
              <a:rPr b="0" lang="ru-RU" sz="2400" spc="-1" strike="noStrike">
                <a:solidFill>
                  <a:srgbClr val="000000"/>
                </a:solidFill>
                <a:latin typeface="Arial"/>
                <a:ea typeface="Arial"/>
              </a:rPr>
              <a:t> — второй по популярности после Ильи Муромца богатырь русского народного эпоса. Он часто изображается служилым богатырём при князе Владимире.</a:t>
            </a:r>
            <a:endParaRPr b="0" lang="en-US" sz="2400" spc="-1" strike="noStrike">
              <a:solidFill>
                <a:srgbClr val="000000"/>
              </a:solidFill>
              <a:latin typeface="Arial"/>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Рисунок 1" descr="3_bogatyrya.jpg"/>
          <p:cNvPicPr/>
          <p:nvPr/>
        </p:nvPicPr>
        <p:blipFill>
          <a:blip r:embed="rId1"/>
          <a:stretch/>
        </p:blipFill>
        <p:spPr>
          <a:xfrm>
            <a:off x="3157560" y="596880"/>
            <a:ext cx="2541600" cy="1774800"/>
          </a:xfrm>
          <a:prstGeom prst="rect">
            <a:avLst/>
          </a:prstGeom>
          <a:ln w="0">
            <a:noFill/>
          </a:ln>
        </p:spPr>
      </p:pic>
      <p:sp>
        <p:nvSpPr>
          <p:cNvPr id="358" name="Прямоугольник 2"/>
          <p:cNvSpPr/>
          <p:nvPr/>
        </p:nvSpPr>
        <p:spPr>
          <a:xfrm>
            <a:off x="1116000" y="2781360"/>
            <a:ext cx="6480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a:t>
            </a:r>
            <a:r>
              <a:rPr b="0" lang="ru-RU" sz="2000" spc="-1" strike="noStrike">
                <a:solidFill>
                  <a:srgbClr val="000000"/>
                </a:solidFill>
                <a:latin typeface="Bookman Old Style"/>
              </a:rPr>
              <a:t>Средняя” позиция Добрыни Никитича объясняет подчеркнутость связующей функции у этого персонажа; благодаря его усилиям и талантам богатырская троица остается восстановленной даже после того, как Илья Муромец и Алеша Попович разойдутся. В одних былинах ДОБРЫНЯ НИКИТИЧ выступает в сообществе с Ильёй и/или Алешей, в других — с иными богатырями, в третьих — в одиночку.</a:t>
            </a:r>
            <a:endParaRPr b="0" lang="en-US" sz="20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86920" y="476280"/>
            <a:ext cx="6985080" cy="74304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ru-RU" sz="2900" spc="-1" strike="noStrike">
                <a:solidFill>
                  <a:srgbClr val="002060"/>
                </a:solidFill>
                <a:latin typeface="Cambria"/>
              </a:rPr>
              <a:t>Былинные сюжеты</a:t>
            </a:r>
            <a:endParaRPr b="0" lang="en-US" sz="2900" spc="-1" strike="noStrike">
              <a:solidFill>
                <a:srgbClr val="464653"/>
              </a:solidFill>
              <a:latin typeface="Cambria"/>
            </a:endParaRPr>
          </a:p>
        </p:txBody>
      </p:sp>
      <p:sp>
        <p:nvSpPr>
          <p:cNvPr id="360" name=""/>
          <p:cNvSpPr txBox="1"/>
          <p:nvPr/>
        </p:nvSpPr>
        <p:spPr>
          <a:xfrm>
            <a:off x="179280" y="1484280"/>
            <a:ext cx="8229600" cy="5184720"/>
          </a:xfrm>
          <a:prstGeom prst="rect">
            <a:avLst/>
          </a:prstGeom>
          <a:noFill/>
          <a:ln w="0">
            <a:noFill/>
          </a:ln>
        </p:spPr>
        <p:txBody>
          <a:bodyPr anchor="t">
            <a:normAutofit/>
          </a:bodyPr>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1.Поединок Добрыни с Ильёй Муромцем</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2.Добрыня и змей</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3.Добрыня и Маринка</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4.Добрыня и Настасья</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5.Добрыня и Алёша(«Добрыня в отъезде», «Добрыня на свадьбе своей жены»)</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6.Добрыня и Василий Каземирович </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7.Поединок Дуная Ивановича с Добрыней  Никитичем </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8. Дунай Иванович-сват (Дунай и Добрыня добывают невесту для князя Владимира)</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61" name="Рисунок 5" descr="f_5009.jpg"/>
          <p:cNvPicPr/>
          <p:nvPr/>
        </p:nvPicPr>
        <p:blipFill>
          <a:blip r:embed="rId1"/>
          <a:stretch/>
        </p:blipFill>
        <p:spPr>
          <a:xfrm rot="568800">
            <a:off x="6840360" y="1639800"/>
            <a:ext cx="2054520" cy="1144800"/>
          </a:xfrm>
          <a:prstGeom prst="rect">
            <a:avLst/>
          </a:prstGeom>
          <a:ln w="0">
            <a:noFill/>
          </a:ln>
        </p:spPr>
      </p:pic>
      <p:pic>
        <p:nvPicPr>
          <p:cNvPr id="362" name="Рисунок 6" descr="dobrinya_nikitich_i_zmey_gorinich_5_600.jpg"/>
          <p:cNvPicPr/>
          <p:nvPr/>
        </p:nvPicPr>
        <p:blipFill>
          <a:blip r:embed="rId2"/>
          <a:stretch/>
        </p:blipFill>
        <p:spPr>
          <a:xfrm>
            <a:off x="7380360" y="5732640"/>
            <a:ext cx="1295280" cy="971280"/>
          </a:xfrm>
          <a:prstGeom prst="rect">
            <a:avLst/>
          </a:prstGeom>
          <a:ln w="0">
            <a:noFill/>
          </a:ln>
        </p:spPr>
      </p:pic>
      <p:pic>
        <p:nvPicPr>
          <p:cNvPr id="363" name="Рисунок 7" descr="1294151804_dobrynya-nikitich-i-zmey-gorynych2.jpg"/>
          <p:cNvPicPr/>
          <p:nvPr/>
        </p:nvPicPr>
        <p:blipFill>
          <a:blip r:embed="rId3"/>
          <a:stretch/>
        </p:blipFill>
        <p:spPr>
          <a:xfrm rot="775800">
            <a:off x="5384520" y="2220480"/>
            <a:ext cx="1549440" cy="100980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260280"/>
            <a:ext cx="5472000" cy="1152720"/>
          </a:xfrm>
          <a:prstGeom prst="rect">
            <a:avLst/>
          </a:prstGeom>
          <a:solidFill>
            <a:srgbClr val="ebf2f4"/>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mbria"/>
              </a:rPr>
              <a:t>        </a:t>
            </a:r>
            <a:r>
              <a:rPr b="0" lang="ru-RU" sz="2400" spc="-1" strike="noStrike">
                <a:solidFill>
                  <a:srgbClr val="002060"/>
                </a:solidFill>
                <a:latin typeface="Cambria"/>
              </a:rPr>
              <a:t>«</a:t>
            </a:r>
            <a:r>
              <a:rPr b="0" lang="ru-RU" sz="2400" spc="-1" strike="noStrike">
                <a:solidFill>
                  <a:srgbClr val="002060"/>
                </a:solidFill>
                <a:latin typeface="Comic Sans MS"/>
              </a:rPr>
              <a:t>Добрыня Никитич и Змей </a:t>
            </a:r>
            <a:br>
              <a:rPr sz="2400"/>
            </a:br>
            <a:r>
              <a:rPr b="0" lang="ru-RU" sz="2400" spc="-1" strike="noStrike">
                <a:solidFill>
                  <a:srgbClr val="002060"/>
                </a:solidFill>
                <a:latin typeface="Comic Sans MS"/>
              </a:rPr>
              <a:t>                      Горыныч»</a:t>
            </a:r>
            <a:endParaRPr b="0" lang="en-US" sz="2400" spc="-1" strike="noStrike">
              <a:solidFill>
                <a:srgbClr val="464653"/>
              </a:solidFill>
              <a:latin typeface="Cambria"/>
            </a:endParaRPr>
          </a:p>
        </p:txBody>
      </p:sp>
      <p:sp>
        <p:nvSpPr>
          <p:cNvPr id="365" name=""/>
          <p:cNvSpPr txBox="1"/>
          <p:nvPr/>
        </p:nvSpPr>
        <p:spPr>
          <a:xfrm>
            <a:off x="395280" y="1523880"/>
            <a:ext cx="5472000" cy="5073840"/>
          </a:xfrm>
          <a:prstGeom prst="rect">
            <a:avLst/>
          </a:prstGeom>
          <a:solidFill>
            <a:srgbClr val="ebf2f4"/>
          </a:solid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2060"/>
                </a:solidFill>
                <a:latin typeface="Calibri"/>
              </a:rPr>
              <a:t>             </a:t>
            </a:r>
            <a:r>
              <a:rPr b="0" lang="ru-RU" sz="1600" spc="-1" strike="noStrike">
                <a:solidFill>
                  <a:srgbClr val="002060"/>
                </a:solidFill>
                <a:latin typeface="Bookman Old Style"/>
              </a:rPr>
              <a:t>Самый распространённый былинный сюжет“Добрыня Никитич и змей Горыныч”, в котором он выступает как змееборец. Для совершения главного подвига он отправляется к Пучай-реке, месту обитания Змея Горыныча. Прилетает Горыныч, дождит дождем и сыплет огненными искрами на богатыря, оставшегося безоружным. Но Добрыня Никитич несколько раз ныряет в глубь реки, прежде, чем оказывается на берегу, и, вступив в поединок, сокрушает Змея “шапкой земли греческой”. Тот пал на сыру землю. Добрыня хочет срубить “змеищу” головы. Змей вымаливает пощаду, но, пролетая над Киевом, похищает любимую племянницу князя Владимира Забаву Путятишну. Князь поручает Добрыне освободить ее: он достигает «нор змеиных»,спускается в них, освобождает Забаву и “полоны русские”. </a:t>
            </a:r>
            <a:endParaRPr b="0" lang="en-US" sz="1600" spc="-1" strike="noStrike">
              <a:solidFill>
                <a:srgbClr val="000000"/>
              </a:solidFill>
              <a:latin typeface="Calibri"/>
            </a:endParaRPr>
          </a:p>
        </p:txBody>
      </p:sp>
      <p:pic>
        <p:nvPicPr>
          <p:cNvPr id="366" name="Рисунок 6" descr="9047a760507e.jpg"/>
          <p:cNvPicPr/>
          <p:nvPr/>
        </p:nvPicPr>
        <p:blipFill>
          <a:blip r:embed="rId1"/>
          <a:stretch/>
        </p:blipFill>
        <p:spPr>
          <a:xfrm>
            <a:off x="6724800" y="1335240"/>
            <a:ext cx="1833480" cy="271908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26920" y="404280"/>
            <a:ext cx="7490160" cy="814680"/>
          </a:xfrm>
          <a:prstGeom prst="rect">
            <a:avLst/>
          </a:prstGeom>
          <a:solidFill>
            <a:srgbClr val="ffffff"/>
          </a:solidFill>
          <a:ln w="9360">
            <a:solidFill>
              <a:srgbClr val="c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ambria"/>
              </a:rPr>
              <a:t>Изобразительное искусство</a:t>
            </a:r>
            <a:endParaRPr b="0" lang="en-US" sz="3200" spc="-1" strike="noStrike">
              <a:solidFill>
                <a:srgbClr val="464653"/>
              </a:solidFill>
              <a:latin typeface="Cambria"/>
            </a:endParaRPr>
          </a:p>
        </p:txBody>
      </p:sp>
      <p:sp>
        <p:nvSpPr>
          <p:cNvPr id="368" name=""/>
          <p:cNvSpPr txBox="1"/>
          <p:nvPr/>
        </p:nvSpPr>
        <p:spPr>
          <a:xfrm>
            <a:off x="395280" y="1483920"/>
            <a:ext cx="4968720" cy="5257800"/>
          </a:xfrm>
          <a:prstGeom prst="rect">
            <a:avLst/>
          </a:prstGeom>
          <a:solidFill>
            <a:srgbClr val="ffffff"/>
          </a:solidFill>
          <a:ln w="0">
            <a:noFill/>
          </a:ln>
        </p:spPr>
        <p:txBody>
          <a:bodyPr anchor="t">
            <a:normAutofit/>
          </a:bodyPr>
          <a:p>
            <a:pPr marL="272880" indent="-272880" algn="ctr">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Виктор Васнецов изобразил Добрыню в своих картинах «Богатыри» и «Бой Добрыни Никитича с семиглавым Змеем Горынычем» (1918).</a:t>
            </a:r>
            <a:endParaRPr b="0" lang="en-US" sz="2000" spc="-1" strike="noStrike">
              <a:solidFill>
                <a:srgbClr val="000000"/>
              </a:solidFill>
              <a:latin typeface="Calibri"/>
            </a:endParaRPr>
          </a:p>
          <a:p>
            <a:pPr marL="272880" indent="-272880" algn="ctr">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Художник В. П. Верещагин написал картину «Бой Добрыни со Змеем Горынычем» для дворца великого князя Владимира Александровича, ныне Дом ученых  в Санкт-Петербург.</a:t>
            </a:r>
            <a:endParaRPr b="0" lang="en-US" sz="2000" spc="-1" strike="noStrike">
              <a:solidFill>
                <a:srgbClr val="000000"/>
              </a:solidFill>
              <a:latin typeface="Calibri"/>
            </a:endParaRPr>
          </a:p>
          <a:p>
            <a:pPr marL="272880" indent="-272880" algn="ctr">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И. Я. Билибин создал картины «Бой Добрыни со Змеем», «Добрыня Никитич освобождает от Змея Горыныча Забаву Путятичну».</a:t>
            </a:r>
            <a:endParaRPr b="0" lang="en-US" sz="2000" spc="-1" strike="noStrike">
              <a:solidFill>
                <a:srgbClr val="000000"/>
              </a:solidFill>
              <a:latin typeface="Calibri"/>
            </a:endParaRPr>
          </a:p>
          <a:p>
            <a:pPr marL="272880" indent="-272880" algn="ctr">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Битва Добрыни Никитича со Змеем» — картина Константина Васильева.</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9" name="Рисунок 4" descr="Zmej-Gorynych2.jpg"/>
          <p:cNvPicPr/>
          <p:nvPr/>
        </p:nvPicPr>
        <p:blipFill>
          <a:blip r:embed="rId1"/>
          <a:stretch/>
        </p:blipFill>
        <p:spPr>
          <a:xfrm>
            <a:off x="6114960" y="1889280"/>
            <a:ext cx="2340000" cy="3219120"/>
          </a:xfrm>
          <a:prstGeom prst="rect">
            <a:avLst/>
          </a:prstGeom>
          <a:ln w="0">
            <a:noFill/>
          </a:ln>
        </p:spPr>
      </p:pic>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340000" y="692280"/>
            <a:ext cx="6346800" cy="45072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ru-RU" sz="2900" spc="-1" strike="noStrike">
                <a:solidFill>
                  <a:srgbClr val="002060"/>
                </a:solidFill>
                <a:latin typeface="Cambria"/>
              </a:rPr>
              <a:t>Интересный факт</a:t>
            </a:r>
            <a:endParaRPr b="0" lang="en-US" sz="2900" spc="-1" strike="noStrike">
              <a:solidFill>
                <a:srgbClr val="464653"/>
              </a:solidFill>
              <a:latin typeface="Cambria"/>
            </a:endParaRPr>
          </a:p>
        </p:txBody>
      </p:sp>
      <p:sp>
        <p:nvSpPr>
          <p:cNvPr id="371" name=""/>
          <p:cNvSpPr txBox="1"/>
          <p:nvPr/>
        </p:nvSpPr>
        <p:spPr>
          <a:xfrm>
            <a:off x="4284720" y="1341360"/>
            <a:ext cx="4535280" cy="2664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ru-RU" sz="1800" spc="-1" strike="noStrike">
                <a:solidFill>
                  <a:srgbClr val="000000"/>
                </a:solidFill>
                <a:latin typeface="Bookman Old Style"/>
              </a:rPr>
              <a:t>15 мая 2011 года в городе Ярославль родился мальчик, названный родителями в честь богатыря Добрыней — Добрыня Никитич Богатырёв (отца мальчика звали Никита Богатырёв</a:t>
            </a:r>
            <a:r>
              <a:rPr b="0" lang="en-US" sz="1800" spc="-1" strike="noStrike">
                <a:solidFill>
                  <a:srgbClr val="000000"/>
                </a:solidFill>
                <a:latin typeface="Bookman Old Style"/>
              </a:rPr>
              <a:t>)</a:t>
            </a:r>
            <a:endParaRPr b="0" lang="en-US" sz="1800" spc="-1" strike="noStrike">
              <a:solidFill>
                <a:srgbClr val="000000"/>
              </a:solidFill>
              <a:latin typeface="Calibri"/>
            </a:endParaRPr>
          </a:p>
        </p:txBody>
      </p:sp>
      <p:pic>
        <p:nvPicPr>
          <p:cNvPr id="372" name="Рисунок 3" descr="052.jpg"/>
          <p:cNvPicPr/>
          <p:nvPr/>
        </p:nvPicPr>
        <p:blipFill>
          <a:blip r:embed="rId1"/>
          <a:stretch/>
        </p:blipFill>
        <p:spPr>
          <a:xfrm>
            <a:off x="611280" y="1197000"/>
            <a:ext cx="2108160" cy="2708280"/>
          </a:xfrm>
          <a:prstGeom prst="rect">
            <a:avLst/>
          </a:prstGeom>
          <a:ln w="0">
            <a:noFill/>
          </a:ln>
        </p:spPr>
      </p:pic>
      <p:pic>
        <p:nvPicPr>
          <p:cNvPr id="373" name="Рисунок 4" descr="419108.jpg"/>
          <p:cNvPicPr/>
          <p:nvPr/>
        </p:nvPicPr>
        <p:blipFill>
          <a:blip r:embed="rId2"/>
          <a:stretch/>
        </p:blipFill>
        <p:spPr>
          <a:xfrm>
            <a:off x="2340000" y="4076640"/>
            <a:ext cx="2703600" cy="2232000"/>
          </a:xfrm>
          <a:prstGeom prst="rect">
            <a:avLst/>
          </a:prstGeom>
          <a:ln w="0">
            <a:noFill/>
          </a:ln>
        </p:spPr>
      </p:pic>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Выноска-облако 3"/>
          <p:cNvSpPr/>
          <p:nvPr/>
        </p:nvSpPr>
        <p:spPr>
          <a:xfrm>
            <a:off x="1258920" y="260280"/>
            <a:ext cx="6408720" cy="1800360"/>
          </a:xfrm>
          <a:prstGeom prst="cloudCallout">
            <a:avLst>
              <a:gd name="adj1" fmla="val -20833"/>
              <a:gd name="adj2" fmla="val 62500"/>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mbria"/>
              </a:rPr>
              <a:t>Используемая литература</a:t>
            </a:r>
            <a:endParaRPr b="0" lang="en-US" sz="3200" spc="-1" strike="noStrike">
              <a:solidFill>
                <a:srgbClr val="464653"/>
              </a:solidFill>
              <a:latin typeface="Cambria"/>
            </a:endParaRPr>
          </a:p>
        </p:txBody>
      </p:sp>
      <p:sp>
        <p:nvSpPr>
          <p:cNvPr id="376" name=""/>
          <p:cNvSpPr txBox="1"/>
          <p:nvPr/>
        </p:nvSpPr>
        <p:spPr>
          <a:xfrm>
            <a:off x="1403280" y="3068280"/>
            <a:ext cx="6408720" cy="2841480"/>
          </a:xfrm>
          <a:prstGeom prst="rect">
            <a:avLst/>
          </a:prstGeom>
          <a:solidFill>
            <a:srgbClr val="ffffff"/>
          </a:solidFill>
          <a:ln w="57240">
            <a:solidFill>
              <a:srgbClr val="727ca3"/>
            </a:solidFill>
            <a:miter/>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     </a:t>
            </a:r>
            <a:r>
              <a:rPr b="0" lang="ru-RU" sz="2600" spc="-1" strike="noStrike">
                <a:solidFill>
                  <a:srgbClr val="000000"/>
                </a:solidFill>
                <a:latin typeface="Calibri"/>
              </a:rPr>
              <a:t>Добрыня Никитич // Энциклопедический словарь Брокгауза и Ефрона </a:t>
            </a:r>
            <a:endParaRPr b="0" lang="en-US" sz="26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en-US" sz="2600" spc="-1" strike="noStrike">
                <a:solidFill>
                  <a:srgbClr val="000000"/>
                </a:solidFill>
                <a:latin typeface="Gill Sans MT"/>
              </a:rPr>
              <a:t>www.gadatel.ru  </a:t>
            </a:r>
            <a:endParaRPr b="0" lang="en-US" sz="26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en-US" sz="2600" spc="-1" strike="noStrike">
                <a:solidFill>
                  <a:srgbClr val="000000"/>
                </a:solidFill>
                <a:latin typeface="Gill Sans MT"/>
              </a:rPr>
              <a:t>www.bibliotekar.ru </a:t>
            </a:r>
            <a:endParaRPr b="0" lang="en-US" sz="26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en-US" sz="2600" spc="-1" strike="noStrike">
                <a:solidFill>
                  <a:srgbClr val="000000"/>
                </a:solidFill>
                <a:latin typeface="Gill Sans MT"/>
              </a:rPr>
              <a:t>www.wikipedia.org</a:t>
            </a:r>
            <a:endParaRPr b="0" lang="en-US" sz="2600" spc="-1" strike="noStrike">
              <a:solidFill>
                <a:srgbClr val="000000"/>
              </a:solidFill>
              <a:latin typeface="Calibri"/>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6:28:34Z</dcterms:created>
  <dc:creator>BadBarmaley</dc:creator>
  <dc:description/>
  <dc:language>en-US</dc:language>
  <cp:lastModifiedBy>www.PHILka.RU</cp:lastModifiedBy>
  <dcterms:modified xsi:type="dcterms:W3CDTF">2011-12-03T11:04:39Z</dcterms:modified>
  <cp:revision>47</cp:revision>
  <dc:subject/>
  <dc:title>Добрыня Никитич</dc:title>
</cp:coreProperties>
</file>