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01B-972D-417C-B52D-E45D3D77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059-E322-47DB-9916-5ECB4D06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E24-32E1-4BD6-A533-1BBEF2BB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50D-DB69-45C7-949A-2FB98F7F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6B8-8113-453F-996B-8862706E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C97-5C03-4A20-B00F-22EB9D5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15E-1A88-4504-9014-73D4C63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945-3B1F-4F7E-8111-17A5F60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557-51DB-454E-83A3-0229E37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2BE-B473-46E3-97AB-362C78A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892-7137-4580-95F0-331E7DB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D23-9833-4B57-8D9A-64DB597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6D4-1EB8-43A8-B6D9-DB4ABA8A9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anamasterov.ru/" TargetMode="External"/><Relationship Id="rId3" Type="http://schemas.openxmlformats.org/officeDocument/2006/relationships/hyperlink" Target="http://shipnygova.ucoz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29200">
            <a:off x="0" y="1484280"/>
            <a:ext cx="8064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ССВОРД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ВИДЫ   РУКОДЕЛ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89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трудового обучения Леглер Ириной Валентиновной «ОСШИ №1 для детей с ОВР» г. Шахтинск, Карагандинской области, Республики Казахстан,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85600">
            <a:off x="3492360" y="4005000"/>
            <a:ext cx="2664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-6 к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хника с применением ниток, спиц или крю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48000" y="1341360"/>
            <a:ext cx="23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1341360"/>
            <a:ext cx="21589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яз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2360" y="1341360"/>
            <a:ext cx="2160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эчв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0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43564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32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27640" y="191628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24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1964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16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43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32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27640" y="2421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24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19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16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411280" y="2924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1636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2436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27640" y="2924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27640" y="393372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32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11280" y="342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916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24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427640" y="342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40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5164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4364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94836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3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35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32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19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24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427640" y="4437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40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3564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32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1128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6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24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27640" y="494172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43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940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35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932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5445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19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24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3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8000" y="59500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11280" y="59500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1636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1964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2436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27640" y="59500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20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евое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7964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2472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7164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5600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036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3272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6400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Рисунок 156" descr="Ганутель: Лилии МК"/>
          <p:cNvPicPr/>
          <p:nvPr/>
        </p:nvPicPr>
        <p:blipFill>
          <a:blip r:embed="rId2"/>
          <a:stretch/>
        </p:blipFill>
        <p:spPr>
          <a:xfrm>
            <a:off x="539640" y="4149720"/>
            <a:ext cx="1368360" cy="164628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218" descr="Декупаж: Два в одном."/>
          <p:cNvPicPr/>
          <p:nvPr/>
        </p:nvPicPr>
        <p:blipFill>
          <a:blip r:embed="rId3"/>
          <a:stretch/>
        </p:blipFill>
        <p:spPr>
          <a:xfrm rot="621600">
            <a:off x="7236000" y="404640"/>
            <a:ext cx="1512720" cy="1656000"/>
          </a:xfrm>
          <a:prstGeom prst="rect">
            <a:avLst/>
          </a:prstGeom>
          <a:ln w="0">
            <a:noFill/>
          </a:ln>
        </p:spPr>
      </p:pic>
      <p:pic>
        <p:nvPicPr>
          <p:cNvPr id="655" name="Рисунок 136" descr="Квиллинг: Снежный квиллинг"/>
          <p:cNvPicPr/>
          <p:nvPr/>
        </p:nvPicPr>
        <p:blipFill>
          <a:blip r:embed="rId4"/>
          <a:stretch/>
        </p:blipFill>
        <p:spPr>
          <a:xfrm rot="20739000">
            <a:off x="323640" y="260280"/>
            <a:ext cx="1947600" cy="1970280"/>
          </a:xfrm>
          <a:prstGeom prst="rect">
            <a:avLst/>
          </a:prstGeom>
          <a:ln w="0">
            <a:noFill/>
          </a:ln>
        </p:spPr>
      </p:pic>
      <p:pic>
        <p:nvPicPr>
          <p:cNvPr id="656" name="Рисунок 300" descr="Оригами: Спиральки"/>
          <p:cNvPicPr/>
          <p:nvPr/>
        </p:nvPicPr>
        <p:blipFill>
          <a:blip r:embed="rId5"/>
          <a:stretch/>
        </p:blipFill>
        <p:spPr>
          <a:xfrm rot="20650200">
            <a:off x="1907640" y="3500280"/>
            <a:ext cx="2376720" cy="1676520"/>
          </a:xfrm>
          <a:prstGeom prst="rect">
            <a:avLst/>
          </a:prstGeom>
          <a:ln w="0">
            <a:noFill/>
          </a:ln>
        </p:spPr>
      </p:pic>
      <p:pic>
        <p:nvPicPr>
          <p:cNvPr id="657" name="Рисунок 429" descr="Папье-маше, Торцевание: Апельсиновенькое деревцо мини МК"/>
          <p:cNvPicPr/>
          <p:nvPr/>
        </p:nvPicPr>
        <p:blipFill>
          <a:blip r:embed="rId6"/>
          <a:stretch/>
        </p:blipFill>
        <p:spPr>
          <a:xfrm>
            <a:off x="3851280" y="429264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 457" descr="Плетение: Плетёные листья"/>
          <p:cNvPicPr/>
          <p:nvPr/>
        </p:nvPicPr>
        <p:blipFill>
          <a:blip r:embed="rId7"/>
          <a:stretch/>
        </p:blipFill>
        <p:spPr>
          <a:xfrm rot="1561800">
            <a:off x="5508360" y="3500280"/>
            <a:ext cx="2235240" cy="172404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 733" descr="Шитьё: Трындычиха, мастер-класс"/>
          <p:cNvPicPr/>
          <p:nvPr/>
        </p:nvPicPr>
        <p:blipFill>
          <a:blip r:embed="rId8"/>
          <a:stretch/>
        </p:blipFill>
        <p:spPr>
          <a:xfrm>
            <a:off x="7236000" y="436572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3816360" cy="33829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826920" y="476280"/>
            <a:ext cx="7490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4745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ranamasterov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hipnygova.ucoz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фон для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техники основанный на плетении уз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48428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484280"/>
            <a:ext cx="25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1484280"/>
            <a:ext cx="194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р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2133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263700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3141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645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4149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4653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5157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66100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5661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рукоделия с использованием спиральной проволоки и н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191628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916280"/>
            <a:ext cx="504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1341360"/>
            <a:ext cx="22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е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1341360"/>
            <a:ext cx="215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421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29242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429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3933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4437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941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445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95008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9500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ная роспись по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34136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1341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и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1341360"/>
            <a:ext cx="172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198900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1989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49228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4922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997360"/>
            <a:ext cx="502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8800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кусочками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1413000"/>
            <a:ext cx="2160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р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5640" y="1413000"/>
            <a:ext cx="2089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эчв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32720" y="141300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яз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27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7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8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964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7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3500280"/>
            <a:ext cx="576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19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2436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35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7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3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0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35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16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0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7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2436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19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8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6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хника декорирования предметов с помощью вырезанных бумажны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мот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413000"/>
            <a:ext cx="1871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1413000"/>
            <a:ext cx="19429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1413000"/>
            <a:ext cx="2303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1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19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43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35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764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4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964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32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24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16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5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3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3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836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3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4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2764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6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11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43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0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2764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19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11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6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 фразы: бисеро…, лоз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636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е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1341360"/>
            <a:ext cx="194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27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48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4036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5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48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5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27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036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24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27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35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8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32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7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4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48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9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6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56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48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43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4036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2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1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8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43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4036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5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24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32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56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1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3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3200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35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9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24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35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4036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означающая «птичье п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56360" y="1341360"/>
            <a:ext cx="2160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134136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1341360"/>
            <a:ext cx="21592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суд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191628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64000" y="191628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191628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2421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64000" y="2421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56000" y="2421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51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43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56000" y="2924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5128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4800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4000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56000" y="3429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59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64000" y="342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4000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80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6400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7708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72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393372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770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72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6400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4437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512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400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59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4000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56000" y="494172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1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43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4800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72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45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64000" y="5445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5928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56000" y="5445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4800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32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40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43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48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51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59500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indefinite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складывания фигурок из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59640" y="134136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1341360"/>
            <a:ext cx="23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964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43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6400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59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56000" y="1989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4800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43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37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59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56000" y="2492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1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4800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56000" y="299736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000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56000" y="3500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48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43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40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8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770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592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4005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770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67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64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59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450864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51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48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43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48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51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59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5013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7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867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6400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56000" y="551664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51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348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32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35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40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4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48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51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56000" y="6021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indefinite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6:11:10Z</dcterms:created>
  <dc:creator>Customer</dc:creator>
  <dc:description/>
  <dc:language>en-US</dc:language>
  <cp:lastModifiedBy>Customer</cp:lastModifiedBy>
  <dcterms:modified xsi:type="dcterms:W3CDTF">2011-07-12T18:41:14Z</dcterms:modified>
  <cp:revision>4</cp:revision>
  <dc:subject/>
  <dc:title>Слайд 1</dc:title>
</cp:coreProperties>
</file>