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761-30E9-4054-B5B4-E63467B1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0CAD-E089-4384-995E-4B2A38D7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4D2-F761-4A93-96D1-E49B0570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DB45-CFA6-494B-B170-30D92127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1BAB-A2D0-4CB2-A0B1-585F35DD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9A95-C3C8-49C6-8DFC-14AB46D7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7748-B6A2-4833-96AE-E12819C7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A744-DC77-4D12-92CD-4D530166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02FB-45E9-455F-A19E-3E8F2EB2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239-F91A-4C78-B17F-AFCD7E42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5E2-BB9D-43B1-AA89-CA94A823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58B-38E8-468C-8103-D08A05B9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830C-485F-4B04-B881-916C72414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tranamasterov.ru/" TargetMode="External"/><Relationship Id="rId3" Type="http://schemas.openxmlformats.org/officeDocument/2006/relationships/hyperlink" Target="http://shipnygova.ucoz.ru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29200">
            <a:off x="0" y="1484280"/>
            <a:ext cx="806436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РОССВОРД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ВИДЫ   РУКОДЕЛИ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55897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зентация составлена учителем трудового обучения Леглер Ириной Валентиновной «ОСШИ №1 для детей с ОВР» г. Шахтинск, Карагандинской области, Республики Казахстан, 201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85600">
            <a:off x="3492360" y="4005000"/>
            <a:ext cx="26640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5-6 к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хника с применением ниток, спиц или крю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348000" y="1341360"/>
            <a:ext cx="23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ши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84360" y="1341360"/>
            <a:ext cx="21589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яз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72360" y="1341360"/>
            <a:ext cx="216036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эчвор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940360" y="191628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435640" y="191628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932360" y="191628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427640" y="1916280"/>
            <a:ext cx="504720" cy="502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24360" y="191628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419640" y="191628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16360" y="191628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44364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94036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43564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93236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427640" y="242100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92436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1964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91636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411280" y="2924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916360" y="2924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419640" y="2924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924360" y="2924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427640" y="292428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427640" y="393372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435640" y="342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932360" y="342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11280" y="3429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916360" y="342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419640" y="342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924360" y="342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427640" y="342900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40360" y="3933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35640" y="3933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932360" y="3933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451640" y="393372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948360" y="393372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443640" y="3933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948360" y="4437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443640" y="4437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940360" y="4437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435640" y="4437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32360" y="4437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419640" y="4437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924360" y="4437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427640" y="443700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940360" y="4941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435640" y="4941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932360" y="4941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411280" y="494172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16360" y="4941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419640" y="4941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924360" y="4941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427640" y="494172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443640" y="5445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940360" y="5445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435640" y="5445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932360" y="5445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427640" y="544500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19640" y="5445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24360" y="5445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03280" y="59500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08000" y="59500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411280" y="59500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916360" y="59500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419640" y="59500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24360" y="59500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27640" y="595008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7" dur="2000" fill="hold"/>
                                        <p:tgtEl>
                                          <p:spTgt spid="5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indefinite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indefinite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ючевое слов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87280" y="2276640"/>
            <a:ext cx="792360" cy="79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979640" y="2276640"/>
            <a:ext cx="792000" cy="79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48360" y="2276640"/>
            <a:ext cx="792000" cy="79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524720" y="2276640"/>
            <a:ext cx="792360" cy="79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771640" y="2276640"/>
            <a:ext cx="792360" cy="79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356000" y="2276640"/>
            <a:ext cx="792360" cy="79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940360" y="2276640"/>
            <a:ext cx="792360" cy="79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732720" y="2276640"/>
            <a:ext cx="792000" cy="79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564000" y="2276640"/>
            <a:ext cx="792000" cy="79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Рисунок 156" descr="Ганутель: Лилии МК"/>
          <p:cNvPicPr/>
          <p:nvPr/>
        </p:nvPicPr>
        <p:blipFill>
          <a:blip r:embed="rId2"/>
          <a:stretch/>
        </p:blipFill>
        <p:spPr>
          <a:xfrm>
            <a:off x="539640" y="4149720"/>
            <a:ext cx="1368360" cy="1646280"/>
          </a:xfrm>
          <a:prstGeom prst="rect">
            <a:avLst/>
          </a:prstGeom>
          <a:ln w="0">
            <a:noFill/>
          </a:ln>
        </p:spPr>
      </p:pic>
      <p:pic>
        <p:nvPicPr>
          <p:cNvPr id="654" name="Рисунок 218" descr="Декупаж: Два в одном."/>
          <p:cNvPicPr/>
          <p:nvPr/>
        </p:nvPicPr>
        <p:blipFill>
          <a:blip r:embed="rId3"/>
          <a:stretch/>
        </p:blipFill>
        <p:spPr>
          <a:xfrm rot="621600">
            <a:off x="7236000" y="404640"/>
            <a:ext cx="1512720" cy="1656000"/>
          </a:xfrm>
          <a:prstGeom prst="rect">
            <a:avLst/>
          </a:prstGeom>
          <a:ln w="0">
            <a:noFill/>
          </a:ln>
        </p:spPr>
      </p:pic>
      <p:pic>
        <p:nvPicPr>
          <p:cNvPr id="655" name="Рисунок 136" descr="Квиллинг: Снежный квиллинг"/>
          <p:cNvPicPr/>
          <p:nvPr/>
        </p:nvPicPr>
        <p:blipFill>
          <a:blip r:embed="rId4"/>
          <a:stretch/>
        </p:blipFill>
        <p:spPr>
          <a:xfrm rot="20739000">
            <a:off x="323640" y="260280"/>
            <a:ext cx="1947600" cy="1970280"/>
          </a:xfrm>
          <a:prstGeom prst="rect">
            <a:avLst/>
          </a:prstGeom>
          <a:ln w="0">
            <a:noFill/>
          </a:ln>
        </p:spPr>
      </p:pic>
      <p:pic>
        <p:nvPicPr>
          <p:cNvPr id="656" name="Рисунок 300" descr="Оригами: Спиральки"/>
          <p:cNvPicPr/>
          <p:nvPr/>
        </p:nvPicPr>
        <p:blipFill>
          <a:blip r:embed="rId5"/>
          <a:stretch/>
        </p:blipFill>
        <p:spPr>
          <a:xfrm rot="20650200">
            <a:off x="1907640" y="3500280"/>
            <a:ext cx="2376720" cy="1676520"/>
          </a:xfrm>
          <a:prstGeom prst="rect">
            <a:avLst/>
          </a:prstGeom>
          <a:ln w="0">
            <a:noFill/>
          </a:ln>
        </p:spPr>
      </p:pic>
      <p:pic>
        <p:nvPicPr>
          <p:cNvPr id="657" name="Рисунок 429" descr="Папье-маше, Торцевание: Апельсиновенькое деревцо мини МК"/>
          <p:cNvPicPr/>
          <p:nvPr/>
        </p:nvPicPr>
        <p:blipFill>
          <a:blip r:embed="rId6"/>
          <a:stretch/>
        </p:blipFill>
        <p:spPr>
          <a:xfrm>
            <a:off x="3851280" y="4292640"/>
            <a:ext cx="1873080" cy="2305080"/>
          </a:xfrm>
          <a:prstGeom prst="rect">
            <a:avLst/>
          </a:prstGeom>
          <a:ln w="0">
            <a:noFill/>
          </a:ln>
        </p:spPr>
      </p:pic>
      <p:pic>
        <p:nvPicPr>
          <p:cNvPr id="658" name="Рисунок 457" descr="Плетение: Плетёные листья"/>
          <p:cNvPicPr/>
          <p:nvPr/>
        </p:nvPicPr>
        <p:blipFill>
          <a:blip r:embed="rId7"/>
          <a:stretch/>
        </p:blipFill>
        <p:spPr>
          <a:xfrm rot="1561800">
            <a:off x="5508360" y="3500280"/>
            <a:ext cx="2235240" cy="1724040"/>
          </a:xfrm>
          <a:prstGeom prst="rect">
            <a:avLst/>
          </a:prstGeom>
          <a:ln w="0">
            <a:noFill/>
          </a:ln>
        </p:spPr>
      </p:pic>
      <p:pic>
        <p:nvPicPr>
          <p:cNvPr id="659" name="Рисунок 733" descr="Шитьё: Трындычиха, мастер-класс"/>
          <p:cNvPicPr/>
          <p:nvPr/>
        </p:nvPicPr>
        <p:blipFill>
          <a:blip r:embed="rId8"/>
          <a:stretch/>
        </p:blipFill>
        <p:spPr>
          <a:xfrm>
            <a:off x="7236000" y="4365720"/>
            <a:ext cx="1728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900000" y="3141720"/>
            <a:ext cx="3816360" cy="338292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826920" y="476280"/>
            <a:ext cx="7490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3"/>
          <a:stretch/>
        </p:blipFill>
        <p:spPr>
          <a:xfrm>
            <a:off x="788508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9" dur="4745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тернет 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tranamasterov.ru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- карти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hipnygova.ucoz.ru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- фон для презен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ид техники основанный на плетении узе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1484280"/>
            <a:ext cx="2160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риг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1484280"/>
            <a:ext cx="25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купа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00720" y="1484280"/>
            <a:ext cx="194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акра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5640" y="21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00360" y="21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3640" y="21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08360" y="213372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21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21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21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263700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263700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263700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08360" y="2637000"/>
            <a:ext cx="503280" cy="502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11640" y="263700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263700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19640" y="263700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360" y="263700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31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31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31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31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314172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36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36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36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36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8360" y="364500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11640" y="36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36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08360" y="414972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4149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16360" y="4149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19640" y="4149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4360" y="4149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4149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32720" y="4149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00360" y="4653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3640" y="4653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11640" y="4653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465300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4653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19640" y="4653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4653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27640" y="4653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92360" y="5157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95640" y="5157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5157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5157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515772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5157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5157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19640" y="5157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87280" y="566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5661000"/>
            <a:ext cx="5029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566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566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566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566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08360" y="566100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ид рукоделия с использованием спиральной проволоки и ни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191628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191628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43280" y="191628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0" y="1916280"/>
            <a:ext cx="503280" cy="502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1280" y="1916280"/>
            <a:ext cx="50472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191628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191628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341360"/>
            <a:ext cx="194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ану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48000" y="1341360"/>
            <a:ext cx="2232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лет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4720" y="1341360"/>
            <a:ext cx="215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вилл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242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242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242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48000" y="242100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51280" y="242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242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59280" y="242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0" y="2421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29242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29242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29242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3280" y="29242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292428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3429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3429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3429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43280" y="3429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48000" y="342900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3429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56000" y="3429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48000" y="393372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39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39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59280" y="39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49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9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39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40000" y="4437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48000" y="443700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4437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4437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4437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4437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4437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64000" y="4437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49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40000" y="49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49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32000" y="49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94172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49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64000" y="3933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49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54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4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59280" y="54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54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54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544500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5445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5950080"/>
            <a:ext cx="5029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59500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59500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35280" y="59500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40000" y="59500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59500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48000" y="595008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indefinit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чная роспись по тка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1341360"/>
            <a:ext cx="1584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ат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2360" y="1341360"/>
            <a:ext cx="1871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ис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16720" y="1341360"/>
            <a:ext cx="1727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еп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1989000"/>
            <a:ext cx="5029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56000" y="1989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1989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198900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80000" y="1989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1989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198900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24922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59280" y="2492280"/>
            <a:ext cx="5029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24922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67280" y="2492280"/>
            <a:ext cx="50328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24922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24922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24922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249228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7280" y="2997360"/>
            <a:ext cx="503280" cy="502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299736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299736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59280" y="2997360"/>
            <a:ext cx="50292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64000" y="2997360"/>
            <a:ext cx="50328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400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67280" y="350028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5928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5600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3500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76720" y="3500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76720" y="4005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8000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84720" y="4005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88000" y="4005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9308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400536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50864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88000" y="450864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8000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76720" y="450864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5928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67280" y="4508640"/>
            <a:ext cx="504720" cy="502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8000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76720" y="5013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0920" y="5013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67280" y="501336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6400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5600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551664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0920" y="551664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5600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5928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400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67280" y="551664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с кусочками тк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71640" y="1413000"/>
            <a:ext cx="216036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акра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95640" y="1413000"/>
            <a:ext cx="2089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эчвор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32720" y="1413000"/>
            <a:ext cx="201600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яз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11280" y="1989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1636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3564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2764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198900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1964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2492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1636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4036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3564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3236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2764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24360" y="249228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964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08000" y="299736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11280" y="299736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16360" y="299736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19640" y="299736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24360" y="2997360"/>
            <a:ext cx="504720" cy="502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764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93236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8000" y="3500280"/>
            <a:ext cx="57636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11280" y="3500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1964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24360" y="350028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3236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4036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3564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48360" y="4005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44364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2764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400536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364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94036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3564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3236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24360" y="4508640"/>
            <a:ext cx="504720" cy="502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08000" y="5013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3564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2764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1280" y="5013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1636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24360" y="501336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94036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3564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93236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2764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24360" y="551664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1636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41964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00000" y="6021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0328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08000" y="6021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11280" y="6021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91636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1964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24360" y="602136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indefinite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indefinite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хника декорирования предметов с помощью вырезанных бумажных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мотив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1413000"/>
            <a:ext cx="187164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за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32720" y="1413000"/>
            <a:ext cx="19429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купа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708360" y="1413000"/>
            <a:ext cx="230364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тта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91636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1964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2436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27640" y="198900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3564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4036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1636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1964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4364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036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43564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3236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27640" y="249228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2436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27640" y="2997360"/>
            <a:ext cx="504720" cy="502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4360" y="299736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19640" y="299736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11280" y="299736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99736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3564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3236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50028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2436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1964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1636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11280" y="3500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94036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3564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3236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451640" y="4005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364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48360" y="4005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27640" y="400536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48360" y="450864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44364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94036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43564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3236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1964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2436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4508640"/>
            <a:ext cx="504720" cy="502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4036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43564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3236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27640" y="501336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41964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1636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411280" y="5013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4364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4036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3564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93236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27640" y="551664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41964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2436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0328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08000" y="6021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11280" y="6021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1636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1964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2436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27640" y="602136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3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indefinite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indefinite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полните фразы: бисеро…, лоз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56360" y="1341360"/>
            <a:ext cx="208764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ану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92360" y="1341360"/>
            <a:ext cx="208764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лет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55640" y="1341360"/>
            <a:ext cx="194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риг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32000" y="1989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2728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5164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4836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43280" y="1989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40360" y="198900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635280" y="1989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5636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65164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14836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43280" y="2492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40360" y="249228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35280" y="2492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32000" y="2492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62728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140360" y="2997360"/>
            <a:ext cx="504720" cy="502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124000" y="299736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627280" y="299736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32000" y="299736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635280" y="299736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4836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43280" y="3500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140360" y="350028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35280" y="3500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132000" y="3500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62728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24000" y="3500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400536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4836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643280" y="4005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6436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5964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5636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5964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5636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65164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14836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643280" y="450864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140360" y="4508640"/>
            <a:ext cx="504720" cy="502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132000" y="450864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35280" y="450864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65164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14836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643280" y="5013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40360" y="501336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5280" y="5013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124000" y="5013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62728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32000" y="5013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5636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65164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14836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43280" y="551664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40360" y="551664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132000" y="551664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35280" y="551664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11600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1928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124000" y="6021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62728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132000" y="6021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635280" y="6021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140360" y="6021360"/>
            <a:ext cx="50472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3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indefinite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indefinite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хника означающая «птичье пе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56360" y="1341360"/>
            <a:ext cx="2160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ану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71640" y="1341360"/>
            <a:ext cx="201600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вилл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92360" y="1341360"/>
            <a:ext cx="21592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усуд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43280" y="191628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67280" y="191628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64000" y="191628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59280" y="191628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56000" y="1916280"/>
            <a:ext cx="505080" cy="502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51280" y="191628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348000" y="191628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37236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67280" y="2421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64000" y="2421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85928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356000" y="242100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85128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4800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43280" y="2421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356000" y="292428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51280" y="2924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348000" y="2924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43280" y="2924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340000" y="2924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356000" y="342900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859280" y="342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64000" y="3429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851280" y="342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348000" y="342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843280" y="342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340000" y="342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80360" y="3933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867280" y="393372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364000" y="393372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859280" y="3933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877080" y="3933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372360" y="3933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356000" y="393372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77080" y="4437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72360" y="4437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867280" y="4437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364000" y="4437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59280" y="4437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356000" y="443700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348000" y="4437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851280" y="4437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867280" y="494172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64000" y="494172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859280" y="4941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340000" y="4941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356000" y="494172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51280" y="4941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43280" y="4941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348000" y="494172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372360" y="5445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45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364000" y="5445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859280" y="5445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356000" y="544500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348000" y="5445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51280" y="5445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332000" y="59500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835280" y="59500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40000" y="59500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43280" y="59500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348000" y="59500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851280" y="59500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356000" y="595008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4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indefinite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indefinite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хника складывания фигурок из бума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659640" y="1341360"/>
            <a:ext cx="201600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риг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635280" y="1341360"/>
            <a:ext cx="23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ши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39640" y="1341360"/>
            <a:ext cx="208764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за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84328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867280" y="1989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364000" y="198900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85928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356000" y="198900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85128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348000" y="198900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84328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37236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867280" y="2492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64000" y="2492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85928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356000" y="249228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5128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348000" y="2492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356000" y="2997360"/>
            <a:ext cx="505080" cy="502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51280" y="299736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348000" y="299736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340000" y="299736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843280" y="299736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5928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364000" y="350028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56000" y="350028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85128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34800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84328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340000" y="350028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8036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87708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4005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85928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64000" y="4005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372360" y="4005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356000" y="400536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7708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7236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867280" y="450864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364000" y="4508640"/>
            <a:ext cx="50508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85928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356000" y="4508640"/>
            <a:ext cx="505080" cy="502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85128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48000" y="4508640"/>
            <a:ext cx="50472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34000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4328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34800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5128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867280" y="5013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64000" y="501336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859280" y="5013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56000" y="501336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7236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867280" y="551664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364000" y="5516640"/>
            <a:ext cx="505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85928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356000" y="551664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5128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348000" y="551664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33200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83528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4000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4328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4800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851280" y="6021360"/>
            <a:ext cx="50472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356000" y="6021360"/>
            <a:ext cx="505080" cy="503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5" dur="2000" fill="hold"/>
                                        <p:tgtEl>
                                          <p:spTgt spid="5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indefinite"/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indefinite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6:11:10Z</dcterms:created>
  <dc:creator>Customer</dc:creator>
  <dc:description/>
  <dc:language>en-US</dc:language>
  <cp:lastModifiedBy>Customer</cp:lastModifiedBy>
  <dcterms:modified xsi:type="dcterms:W3CDTF">2011-07-12T18:41:14Z</dcterms:modified>
  <cp:revision>4</cp:revision>
  <dc:subject/>
  <dc:title>Слайд 1</dc:title>
</cp:coreProperties>
</file>