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17F5-B52A-4CB4-9A76-EE63E7A32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9E6B-8AC4-4264-8304-CA7DBFAC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0E91-2F40-4A32-BCC0-D26BDFF7D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31F6-1AAE-4BF4-A97C-441F5862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81C2-631E-445C-AF7E-51EE1704D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A9D8-4F56-44B9-A2DF-42324AA9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7014-178C-4120-8187-1210802F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AC27-420F-457E-8DA5-D10F7B61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1703-AEF7-4457-A045-5863289F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CABB-D14F-4BCA-A0DE-D429886B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0359-910D-4A9B-BC22-B94DE9DF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B836-7F7A-427B-9B31-81BB3493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E762-ABA6-48E4-9940-F72DA235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A394-4BEF-4DA2-AEB5-5C11A13A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BF9A-326E-43F6-93B6-29077C8E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41D7-4017-42E6-9560-99088AD2D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2C8C4-4274-482D-AC5B-B8654A957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AFDC-E548-4241-8965-3BBFC989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E2A2-C266-40E8-9D93-24C0D0DA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BECB-3A68-44E8-8E90-B2B28FCB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51F4-85D1-48CA-876E-922F194B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B9E4-EAF6-40A4-81E3-7558AB6A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409E-535E-4D81-927A-5E297BFF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3CC3-BA5A-4DCD-A75D-CCAA9673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D1DB-D540-4FB8-B05A-75CD85EB8AD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0B94-F39A-42CC-9A84-A1E34690CB4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-1447920"/>
            <a:ext cx="9144000" cy="8305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286000" y="838080"/>
            <a:ext cx="556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Comic Sans MS"/>
              </a:rPr>
              <a:t>Развитие речи ребенка на четвертом году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56386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Презентацию подгото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учитель-логопед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Е.Л. Хлима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57200" y="1676520"/>
            <a:ext cx="56386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Comic Sans MS"/>
              </a:rPr>
              <a:t>СПАСИБ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Comic Sans MS"/>
              </a:rPr>
              <a:t>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9933ff"/>
                </a:solidFill>
                <a:latin typeface="Comic Sans MS"/>
              </a:rPr>
              <a:t>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66"/>
                </a:solidFill>
                <a:latin typeface="Comic Sans MS"/>
              </a:rPr>
              <a:t>Ваш малыш 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efec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Владеет словарем примерно до 1500 с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Называет предметы ближайшего окруж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Использует почти все части реч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Употребляет слова, обозначающие цвет, величину, отдельные призна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Говорит предложениями из 4-5 с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Выполняет просьбы и команды, даже, если нужный предмет не находится в поле зр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Правильно и четко произносит гласные звуки  А У О И во фразовой реч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Правильно и четко произносит согласные звуки П Б М Т Д Н Г Х Ф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162920" y="304920"/>
            <a:ext cx="1981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09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9ff3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    </a:t>
            </a:r>
            <a:br>
              <a:rPr sz="4800"/>
            </a:br>
            <a:br>
              <a:rPr sz="4800"/>
            </a:b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Речевые трудности</a:t>
            </a:r>
            <a:br>
              <a:rPr sz="4000"/>
            </a:b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Ребенок не говорит совс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Отсутствие речи в три года – </a:t>
            </a:r>
            <a:br>
              <a:rPr sz="3200"/>
            </a:b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   не просто запаздывание – это сиг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о грубом речевом нарушении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Основания</a:t>
            </a: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для беспокойства должны быть если…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302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Ребенок воспроизводит часть вместо целого слова или искажает е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Не строит из накопленных слов предложений. Не появляются глагол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Грамматическое оформление предложения грубо искаже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Не говорит о себе в первом лиц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Во время речи кончик языка между зуб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Звуки с носовом оттенк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В речи появились запи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934320" y="4267080"/>
            <a:ext cx="2057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122040"/>
            <a:ext cx="9144000" cy="15541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Где можно получить помощь, консультацию</a:t>
            </a:r>
            <a:br>
              <a:rPr sz="41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mic Sans MS"/>
              </a:rPr>
              <a:t>В поликлинике  на приеме у невропатолога и логопе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mic Sans MS"/>
              </a:rPr>
              <a:t>В детском саду, сделав запрос учителю-логопеду и педагогу-психологу на обследование ребе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mic Sans MS"/>
              </a:rPr>
              <a:t>В Городской психолого-медико-педагогической консульт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934320" y="4419720"/>
            <a:ext cx="1887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99ff33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Comic Sans MS"/>
              </a:rPr>
              <a:t>Играем </a:t>
            </a:r>
            <a:br>
              <a:rPr sz="3600"/>
            </a:br>
            <a:r>
              <a:rPr b="1" lang="en-US" sz="3600" spc="-1" strike="noStrike">
                <a:solidFill>
                  <a:srgbClr val="ff0066"/>
                </a:solidFill>
                <a:latin typeface="Comic Sans MS"/>
              </a:rPr>
              <a:t> язычком и пальчи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2286000" cy="2514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248520" y="3809880"/>
            <a:ext cx="2427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ff66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448920" cy="6858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efefe"/>
              </a:gs>
              <a:gs pos="100000">
                <a:srgbClr val="ffff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ГИМНАСТИКА ДЛЯ ЯЗЫЧКА</a:t>
            </a: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Для того чтобы звукопроизношение было чистым, нужны сильные и подвижные органы речи - язык, губы, мягкое небо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Гимнастика проводится ежедневно по 5 минут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Упражнения выполнять сидя перед зеркалом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Каждое упражнение выполняется по 5 раз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Упражнения выполняются после показа взрослого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Взрослый обязательно контролирует правильность и  четкость   </a:t>
            </a:r>
            <a:br>
              <a:rPr sz="2400"/>
            </a:b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 выполнения упражнений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                       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ДЫХАТЕЛЬНАЯ ГИМНАС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00"/>
                </a:solidFill>
                <a:uFillTx/>
                <a:latin typeface="Arial"/>
              </a:rPr>
              <a:t>Основные  параметры правильного ротового выдох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- выдоху предшествует сильный вдох через нос - "набираем полную грудь воздуха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- выдох происходит плавно, а не толч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- во время выдоха губы складываются трубочкой, не следует сжимать губы, надувать ще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- во время выдоха воздух выходит через рот, нельзя допускать выхода воздуха через нос (если ребенок выдыхает через нос, можно зажать ему ноздри, чтобы он ощутил, как должен выходить воздух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- выдыхать следует, пока не закончится возду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fe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7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ПАЛЬЧИКОВАЯ ГИМНАС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Что происходит, когда ребенок занимается пальчиковой гимнастик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Движения пальцами приводят к возбуждению  речевые центры головного мозга, что, в конечном итоге, стимулирует  развитие реч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Игры с пальчиками создают благоприятный эмоциональный фон, развивают умение подражать взрослому, учат вслушиваться и понимать смысл речи, повышают речевую активность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дрей</cp:lastModifiedBy>
  <dcterms:modified xsi:type="dcterms:W3CDTF">2011-12-03T03:08:2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