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4E6-79A2-4112-8AE7-F6BA44AF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0DA-0A7C-4936-8FF7-2A5D510D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421-4D09-4A23-8BDB-D81B352D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22D-E854-4C59-B38E-A5DE80AB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25F6-1203-407E-9944-E0C450DD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DFE4-EE75-4349-857D-77331636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B97-6D0D-4364-BAE4-85C80E76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14F6-17A7-43E1-A173-034D1450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4252-95FE-4EB4-A114-B9BD0630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F810-8A5F-444B-9F1E-E945E970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43ED-10DF-4FAB-BA1A-3A11022D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15B-70B8-44F3-90FC-18D9C3DD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169F-89A2-48E7-8943-D7687871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3E91-5D81-4FE4-8F4F-9F7E39D9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DDF3-C92B-4D3D-911A-756967EE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678-4013-4023-80F9-65A2550E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4757-24B7-4579-BD4B-92ABE6FD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778-F307-49DE-8721-1FFFF3A3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626-6D0E-4922-9AA7-75CF0F5F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6D0-4703-4AB9-BF83-AC17592C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864-E971-43DD-B50B-56057C77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66B-1B89-4B21-A1DD-203BE05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6B5-C0A8-4C89-A94A-DF87ACB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789-562E-4CA2-9F40-3E10449E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8E15-7A65-4682-A126-56028B8E29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6EE2-0F99-4CC3-ADA2-229A3B267E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0" y="838080"/>
            <a:ext cx="556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Развитие речи ребенка на четвертом году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учитель-логопе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Е.Л. Хлима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1676520"/>
            <a:ext cx="56386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66"/>
                </a:solidFill>
                <a:latin typeface="Comic Sans MS"/>
              </a:rPr>
              <a:t>Ваш малыш 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ладеет словарем примерно до 1500 с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Называет предметы ближайшего окру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Использует почти все части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Употребляет слова, обозначающие цвет, величину, отдельные призна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Говорит предложениями из 4-5 с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ыполняет просьбы и команды, даже, если нужный предмет не находится в поле з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Правильно и четко произносит гласные звуки  А У О И во фразово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Правильно и четко произносит согласные звуки П Б М Т Д Н Г Х Ф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   </a:t>
            </a: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Речевые трудности</a:t>
            </a:r>
            <a:br>
              <a:rPr sz="40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Ребенок не говорит совс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Отсутствие речи в три года –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не просто запаздывание – это сиг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о грубом речевом нарушени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Основания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для беспокойства должны быть если…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30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Ребенок воспроизводит часть вместо целого слова или искажает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Не строит из накопленных слов предложений. Не появляются глаг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Грамматическое оформление предложения грубо искаже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Не говорит о себе в первом лиц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о время речи кончик языка между зуб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Звуки с носовом оттен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 речи появились зап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1554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Где можно получить помощь, консультацию</a:t>
            </a:r>
            <a:br>
              <a:rPr sz="41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 поликлинике  на приеме у невропатолога и логопе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 детском саду, сделав запрос учителю-логопеду и педагогу-психологу на обследование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 Городской психолого-медико-педагогической консуль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88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3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Играем 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 язычком и пальчи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248520" y="3809880"/>
            <a:ext cx="2427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448920" cy="685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efefe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ГИМНАСТИКА ДЛЯ ЯЗЫЧКА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того чтобы звукопроизношение было чистым, нужны сильные и подвижные органы речи - язык, губы, мягкое неб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Гимнастика проводится ежедневно по 5 минут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Упражнения выполнять сидя перед зеркалом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Каждое упражнение выполняется по 5 раз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Упражнения выполняются после показа взрослого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Взрослый обязательно контролирует правильность и  четкость   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выполнения упражнений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ДЫХАТЕЛЬНАЯ 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Основные  параметры правильного ротового выдох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ыдоху предшествует сильный вдох через нос - "набираем полную грудь воздуха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ыдох происходит плавно, а не толч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о время выдоха губы складываются трубочкой, не следует сжимать губы, надувать щ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о время выдоха воздух выходит через рот, нельзя допускать выхода воздуха через нос (если ребенок выдыхает через нос, можно зажать ему ноздри, чтобы он ощутил, как должен выходить возду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- выдыхать следует, пока не закончится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ПАЛЬЧИКОВАЯ 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то происходит, когда ребенок занимается пальчиковой гимнасти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Движения пальцами приводят к возбуждению  речевые центры головного мозга, что, в конечном итоге, стимулирует  развитие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гры с пальчиками создают благоприятный эмоциональный фон, развивают умение подражать взрослому, учат вслушиваться и понимать смысл речи, повышают речевую актив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1-12-03T03:08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