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A55C3-A1F2-4E52-BFD7-C1F10412A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306AC-AE09-4AD7-99C0-016A22C53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35B259-1CC0-4BF4-A045-174CCB927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103B78-3047-41C7-BF6F-889C16C1C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99E097-5457-456C-9126-B19644B0E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28EA01-FE5B-4777-85D6-BD7B6899A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908777-40DC-4039-879D-B07BB7187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469129-EE36-4AC3-AB71-5E0DF2570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489D08-9457-4B2B-9ADF-EC11A62E5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640953-365F-446F-A474-F7F201D9A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C634C9-EC56-4F7B-BB46-F8B7C1CA3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BBD26F-6DD9-4083-8918-095E20024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1F0BA-D4CB-40AF-966A-42FECAAB1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A2A0C9-359C-4AD8-B9B8-DF44746E3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6F4C1F-8DA7-4D99-BA72-A3270890D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B84F03-EB35-4636-897B-470AAB44E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B414E8-4A20-4F4B-9D2D-1A5980A35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2ECDBA-A5C1-42C9-9439-FEB3FCF84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3C73E3-24F2-44A6-96FB-A541E7201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1A0E90-21E4-4413-A058-CFE3EA92C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9EC778-67B5-4C6F-9A53-FAEC447CF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E7C20E-E202-43C5-9744-4B4552D5D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7407D9-8575-4064-8278-40D30E4B5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492A4-585B-40DB-B517-14DE35E76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601926-DF4E-41D1-8FFE-94FC98E49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78C800-6DF4-480C-98D3-62AE5598F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EFAF4C-53BE-411D-9A38-95CD1AA19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0521B1-4E9B-4AF1-888E-B205413A2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813DE3-CB39-45FE-9F83-A31B1F684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C2E8E2-7841-4578-A6CA-FE01CF2A7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E5F3F0-17DC-469A-9BC4-85D4A511F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4F32EC-6469-44C4-8A18-B171B6E9C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01A88F-EC9F-4F30-8B6F-A6BE9FBE6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EB31FD-EF4A-4B8B-A484-EF0DD61C2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82B4D-1EFF-41BD-952D-71BC2D198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AACD66-5F3E-407C-9584-4D5E5E937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44DA2E-1E17-41BA-862B-393774E8F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CAAFAD-1236-41AA-A7AC-BF4586F58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7D634A-EC4D-4696-83E1-8FF3936BB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414BAD-76FA-4B6C-941C-475820818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150299-2C1C-4854-9061-D33CD3A1F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AC769D-38AF-409F-899C-B5F7D866E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8897D9-FF95-4C04-A652-3A0CA4F07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AB8DE1-ED1A-4A2B-B7F8-AA8E0AB4D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D6883A-0665-43FD-B908-0BA67F15F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E0802-3BAB-4C3F-9EB1-6363FA16E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2FFA1D-BA46-4C21-87A8-5BCC19927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40B1A1-AE1D-44D9-9393-E14A73D7E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08A466-CD5B-4206-A0D1-E48FFDA60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A11826-8A0F-43DB-ADF9-DA2D5509A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F81484-D57E-42FE-9744-2921E2F57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DE18A-1FD7-4C62-B372-84267F7B8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7A5D4-20B4-4B85-9E9B-B3CD0B222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EC8F1-EA16-4856-BB7C-AEC56C68F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ACF7E-61B0-46A0-817B-73A4D45FC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71890-49B0-4FD4-A2C2-7BA28962B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44C2B-4CAB-43F8-ADD8-EBB6B1BB3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E147D-81CA-4DA6-B9FD-F5CC3539D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C5A64-80A9-4E43-98FB-EEF2F5B0B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53A29-2F18-4CB6-B08D-092BBB995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8498E-03FC-478C-9C8C-B37B6FE03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623D2-D440-4C32-BB6F-2032E2EF9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AB9CDC-9F79-4153-9CA4-8FB794BB9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CB0095-77AC-4F3B-8249-0FEBAC0D9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95ABCD-9E0F-4F75-A1EC-66DF36962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DE4136-F383-453B-AF4D-D19151027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A2493D-6F43-4EC9-8E12-470ED4E3D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C2051-C1DB-451F-907E-24AA1CABC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D01556-5AB5-4CA5-AA7B-7944DBB61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613920-28ED-4CD6-B624-A9E33F323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5D5EF4-1F81-40A0-B1CA-5315C16BA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81165F-13A9-439F-9D2A-9BE355CEE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0007FA-AE52-4963-94E4-F4DE20457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08D500-D3A7-420D-BE2A-189FB2CAC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DA7CDF-AADF-404E-B902-5B3912F35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AA184F-12C3-4982-BAAD-B86F8D200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50C237-3791-48BE-A3F6-383BC86E0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999518-D01B-4DAC-8937-3A625F470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6D092-B403-44E5-A1F3-4DE93937C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EE9754-395F-4D2E-AFDE-9E484EEEE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D8B60B-5BDF-4A63-9258-C4FAF8EFA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261B96-7E5D-4D8B-AC5E-54ADFCD90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48BE27-FF06-4FCC-99B4-055EAE1FB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D93FF5-4DE8-47CC-AEF6-F0677A514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BDA0A0-3C47-4328-925B-878006E9F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961C30-23F1-498A-8D0D-0F2943BF9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F4114D-192B-421F-AC0D-0B7100C19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E1E2DE-D8E1-4F49-9811-E7650247A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E50F2D-1F8D-41A8-BA0A-9B4E02195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E8470-BAC5-4448-AF6B-DD12B0CCC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1C6B49-63B6-49AC-A769-612CD7A0D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44A033-EFAA-4280-8D82-6B7E4643E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B4EDCB-B7FA-4AB9-9934-6B2E2862D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C67D29-F326-42F7-898A-0C0D03390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F99D11-7587-4EB6-953C-694913DC7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C1FA8C-3810-4303-AC26-6B9D04CE4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E3CFD8-CB0B-438F-9D22-6C2EAC67E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28F5A9-6DAB-456B-8104-78F6273F0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ACC5F0-3B5E-4F0E-942C-251147D63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F63717-E3C2-458B-AE92-7AC9CB5B6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09C9C-5893-4DEA-9CAA-F865B26DE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812283-9C1D-43A7-8D36-B9820F801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02D191-9CE8-4D11-B470-47D845561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D52764-CF17-49E8-9F6B-B38BA6E14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F57CC2-3C4F-4EE9-9636-DA383F754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3586AD-3DA7-434D-93E0-C3C1ACF22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EE3948-398E-427F-A03C-E2AB1792B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1BA77E-85D6-4B58-B242-82124D777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CB21D6-A32F-43B9-AA24-2BB86106F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4CD508-A2F3-4D95-8B11-26E323F98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7398FE-A0AE-4941-8F92-674E1CB8D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B85C0-89A1-423D-B01E-96CB81C65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9FB290-6520-4C1C-B723-56FD1794F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324D3A-EBAB-4F17-9E87-8D8B6406A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4E14D9-5065-41A2-9481-A5EF58162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2AAB92-E7BF-43D6-B160-BBBF7EF92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913212-36C9-4BA5-B708-5FE4B09D4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82B7D5-CE88-4EF6-9AF2-A1DBB341C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556759-CDE7-40FB-8A1C-AB9FF5E9E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266E2C-EF7C-479F-AA3B-D1CCA51BF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EFE8D7-F26B-4B7A-B946-509010C02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C4B036-B5D6-40FC-B260-ED425600A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58C61-E50B-4F05-B0D7-C628AF67D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DB042E-2AC4-46DD-8749-5A75065B0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60CC57-799C-4898-B591-5E29F5F9E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1C55E6-575B-484B-8AA5-2344C59E1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7DE3A7-0682-49AB-A9F4-02985B345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2AC18B-3DCC-4EE4-9889-2BB7E8511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F72E91-5747-4233-91E3-E2AF712A9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AB3EA4-C00C-45FB-8480-7C44CDD00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2914BC-6DB8-454A-8D36-6EE8F33E0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A1FD9D-8927-4F6C-B404-E516C7E13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C2BF39-AD7D-43BF-ACA3-E64D2D089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85E65-D768-4328-82B3-6040A5445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4C02E2-4792-4731-973A-62A8359ED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48C07B-FDA3-4D2C-8034-49F4FEC26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D37331-D7D8-4098-AF16-D9083F49B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3A19F6-6D85-4C9E-8030-875202D46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5A2E09-B7ED-4DAD-9325-0F6185E03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53201F-8C13-4DC9-A22C-43908487D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FD4369-FDB2-4FC4-ADA3-C769199A4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9DA0EA-E1A9-4E58-9AAB-A2B514271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63E248-991A-4811-B19F-5747EBFE1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35F7AF-C2DE-496C-B1CA-78CE91843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A56C1-3045-471E-A73D-3B55DC23C52B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4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75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1" name="PlaceHolder 1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925B5-55FF-40B8-81AA-67C6078A01FA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509B7-8152-424B-98FD-44CBCB1BFCE2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D7E40-72FF-43E9-B0E0-231C424F0E53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71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2C12F-D5C0-41DA-ACC5-A1A85D981405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51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dt" idx="7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sldNum" idx="9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B189E-48FA-44A4-B148-64603EC036EC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195" name="PlaceHolder 1"/>
          <p:cNvSpPr>
            <a:spLocks noGrp="1"/>
          </p:cNvSpPr>
          <p:nvPr>
            <p:ph type="dt" idx="10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 type="sldNum" idx="12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AA8EB-011C-4325-A99A-E8F06868BBAD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5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236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37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9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240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dt" idx="13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 type="ftr" idx="14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 type="sldNum" idx="15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8759C-40B1-4F58-B150-AD5D26A6A666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3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284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6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287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9" name="PlaceHolder 1"/>
          <p:cNvSpPr>
            <a:spLocks noGrp="1"/>
          </p:cNvSpPr>
          <p:nvPr>
            <p:ph type="dt" idx="16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ftr" idx="17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sldNum" idx="18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004D4-B98D-42CE-8CE5-1D7B123D71D7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dt" idx="19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ftr" idx="20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 type="sldNum" idx="21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15A44-19CD-46F1-BE5C-4224C2F31D05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7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378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379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1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382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4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dt" idx="22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 type="ftr" idx="23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 type="sldNum" idx="24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337E5-3343-4619-976E-EB475CC6FF17}" type="slidenum">
              <a:rPr b="0" lang="ru-RU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7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428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3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9F2B0-109D-4E65-9C69-0720B342F7CD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1676160" y="836280"/>
            <a:ext cx="746748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80810"/>
                </a:solidFill>
                <a:latin typeface="Arial"/>
              </a:rPr>
              <a:t>Критерии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080810"/>
                </a:solidFill>
                <a:latin typeface="Arial"/>
              </a:rPr>
              <a:t>урока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080810"/>
                </a:solidFill>
                <a:latin typeface="Arial"/>
              </a:rPr>
              <a:t>здоровьесберегающей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080810"/>
                </a:solidFill>
                <a:latin typeface="Arial"/>
              </a:rPr>
              <a:t>направленности</a:t>
            </a:r>
            <a:endParaRPr b="0" lang="en-US" sz="48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611" name="" descr=""/>
          <p:cNvPicPr/>
          <p:nvPr/>
        </p:nvPicPr>
        <p:blipFill>
          <a:blip r:embed="rId1"/>
          <a:stretch/>
        </p:blipFill>
        <p:spPr>
          <a:xfrm>
            <a:off x="4021200" y="4005360"/>
            <a:ext cx="1100160" cy="172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17680" y="723600"/>
            <a:ext cx="859608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Урок осуществляется в условиях комфортности: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А) С</a:t>
            </a:r>
            <a:r>
              <a:rPr b="0" lang="en-US" sz="2000" spc="-1" strike="noStrike" u="sng">
                <a:solidFill>
                  <a:srgbClr val="003366"/>
                </a:solidFill>
                <a:uFillTx/>
                <a:latin typeface="Arial"/>
              </a:rPr>
              <a:t>анитарно-гигиенических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Свежий воздух, проветренный класс, соответствующее освещение, подходящие по росту парты, расположение слабовидящих учащихся в соответствии с рекомендациями медико-санитарной службы, а также по желанию детей и родителей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Комфортный для человека уровень шума-10 дБ (Так журчит ручей и шумит листва). Обычный разговор «в спокойных тонах»-это 40 дБ. 70 дБ-это предельно допустимое давление звука, которое не оказывает на организм человека вредного воздействия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Использование видеоэкранных средств обучения с учетом гигиенических правил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Урок осуществляется в условиях комфортности: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Б) Психологических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Создание эмоционально положительного фона в обучении, общении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Учет психического и физического здоровья ребенка; психологических особенностей класса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Стимулирование мотивации на успешность в обучении, оказание поддержки и помощи ребенку в учебе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Использование чередования интенсивности в обучении и релаксации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4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1150920" y="708120"/>
            <a:ext cx="7593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Основания для построения урока здоровьесберегающей направленности: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684360" y="2420640"/>
            <a:ext cx="769608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. Гуманистическая основа (философия: выстраивание человеческих отношений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. Психо-био-генная основа (принцип природосообразности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 Социогенная основа (опора на базовые личностные качества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Здоровьесберегающие компоненты на уроке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Утренняя гимнаст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инамические пауз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Чередование поз во время уро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рганизационное начало (выстраиваются договорные отношения, принимаются правила урок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анжирование учебного материала урока по степени сложности, новизны , актуаль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спользование активных методов обучения: поисковый, диалогический, игровой, проектный, исследовательский и д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тражение в содержании вопросов, связанных со здоровьем, здоровым образом жизни (по возможности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Гармоничное сочетание обучения-воспитания-развития в учебной деятель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9900"/>
                </a:solidFill>
                <a:latin typeface="Garamond"/>
              </a:rPr>
              <a:t>Здоровьесберегающие компоненты на уроке: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лотность урока: количество времени, затраченного на учебную деятельность не менее 60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%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, но не более-80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%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Темп завершения урока спокойный, учащийся должен иметь возможность задать учителю вопросы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Учитель комментирует домашнее задание (объем, «риски». «опасные места». Наличие выбора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Система оценивания. Внимание!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Verdana"/>
                <a:ea typeface="Times New Roman"/>
              </a:rPr>
              <a:t>Стрессогенная ситуаци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Три варианта оценивания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1.  Ученик (самооценка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2. Ученик-ученик (взаимооценка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3. Ученик-учитель (корректирующая оценка и договор на  окончательную оценку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5T10:53:01Z</dcterms:created>
  <dc:creator>лена</dc:creator>
  <dc:description/>
  <dc:language>en-US</dc:language>
  <cp:lastModifiedBy>лена</cp:lastModifiedBy>
  <dcterms:modified xsi:type="dcterms:W3CDTF">2008-11-05T14:54:28Z</dcterms:modified>
  <cp:revision>3</cp:revision>
  <dc:subject/>
  <dc:title>Критерии урока здоровьесберегающей направленности</dc:title>
</cp:coreProperties>
</file>