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8F7C-E197-4052-BE92-EAFE78290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9306-E66A-43E5-800C-98A7FFDE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EF210-8DF1-4220-B512-107A913A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14F1B-993B-41E7-B216-A8C642D2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4C0DC-BC88-4540-AF56-ACBD5F01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5BB4D-77F1-47DF-B9D6-30E459E8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C5175-3D09-4EEF-90C1-5A38992A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4619C-7328-416B-B26A-7019FEBA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B204F-0ED8-47CE-9BAD-14E7F473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91020-9E74-4567-B429-9718B31D3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400E9-2B68-4AD8-8398-8E987DE13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F0E97-D3CF-4147-96DC-4D8B4815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4805-E43C-4F21-84CF-AD37A77F5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E57398-8733-4F21-B93A-5165C01C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B04DB-24AF-4F30-8513-53C53EA4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56044-682E-409D-B575-83374EB9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97CA3-1A89-4D76-AD25-A7814C46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4BBC9-EC2C-41A2-8C3F-14E772CD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AF727-7BB8-4B4E-AC5B-5F7EE4E0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3ED7C-721F-4F44-AEF0-54F9C3F4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F443F-C63D-432E-8925-57AD8C6A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42EAE-3ABC-4DC2-A72D-D0A37F98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3A1671-4AFA-4CCE-AAB2-253E242DF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96A3-1554-4A8B-B2A1-00796852C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6E7E0-8B76-47FC-A432-84D8EA591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BCC51-BE62-44EB-B585-C7F336F7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F9F59-19F2-4749-8DA3-B715871B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5D9FC-20EF-4933-976C-81F5C83E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77EA6-6AC8-40CF-9A54-40FB7D7B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1AF1A-A7DF-4AE6-9FC8-2851DD1D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B8422-2978-43F1-9166-FFACBFCF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126B1-64DB-4FE0-A87F-5EFDF326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E948D-34B3-48CB-B0E6-3601DFBA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8DE5F-9498-4395-92CF-EA0B2877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9BB6-C741-456E-B81E-B1D7417D2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BDB2A-03CE-4B52-BFC5-E28C7730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EE0EA-56D9-4C40-8710-44146FD6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59445-F8AE-46C9-A56F-703E9AC73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4B1AEF-1998-4147-8761-6873C24D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598F45-9315-4449-9E42-7901F7F0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260F8-A342-4B69-98F4-4D6F1F56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7F550-3ACD-4A6C-B827-8959B0CE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30E86F-4E09-4AD9-8EB1-7CF1C528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85FA89-6EFF-4F6C-93A7-B40EF0F8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9F118-7562-43EF-9B7D-9D1C1478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88E4-39E2-4A5D-854A-20EB9EC9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2EAA6-0777-4B03-A776-57A43B37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804CD-DBCE-4216-85A7-319EF096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1B116-02D5-4FA2-B5EE-BF640ACB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976DA5-F281-4027-B5E1-E2CB7D260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B3ADC-7CC3-4756-AFB7-D4691FC4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8278-4963-45D6-A6AB-55F4CD6C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9324-6960-41DD-8AD6-614D92D4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45EC-71C1-4FAC-8479-6CC037BD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DA8C-FC29-47F2-AA60-A6F6464D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7C18-A548-4F07-A292-41BECCC9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27A8-4FA6-42F6-9E25-5BFB8E97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CB59-B6F3-4C1F-8587-B4F4EA01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D615-EBD7-4B6A-BEFA-77F33A39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3213-414F-48B7-A950-C3CDA8DE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E465-B06C-442F-9F4B-E0B240C9D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2D3E-F540-42EF-9FDF-C3AB9664A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E6AF9-015B-4E6D-AA20-B1C91B711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49CB8-900D-411F-B66A-6E0782CB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C980B-BAED-419D-9361-88D29971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C6DF2-7717-4A48-A8F7-B97D39F5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F0EB2-5469-4FC5-AB05-4A8BA5FF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D278-E755-4472-903D-98337340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139E8-B8B8-433B-ABBA-146EBD17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FA6D7-8D01-43F1-842C-A0080642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6CE91-B1A4-4DDC-AF47-66598B4D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0C3EE-855E-4D73-A878-38C9B57E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130E8-700F-4CF0-A9DB-8BB2B52B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33D4A-21C3-4C3C-A98B-CD83116B7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C7BBB-7D4A-44A0-B674-D546973CA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8502D-8594-4DB6-B364-BB423FB01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A37CA-C1CF-4B56-B5A0-CE6A0538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36208-BD8B-423A-8E1E-0E3F640D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F0D4-9DAC-4E44-B792-C3725C5B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D2B1B-1AC3-4FDA-A5E4-BEC9E560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D00C3-942F-4633-918C-6503C7BB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E94D3-9477-427E-A6F3-D30B7F25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6B136-9C06-4261-B6E7-48BCCD44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6C1A0-23D0-47B9-922C-2AC9BBF3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8BAE7-275B-4977-8887-D516F494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32728-5306-4A85-BA7D-E7A9DE1A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8F6D4-46AF-46C2-BDDD-32E2BD6C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3498C-EF01-4C64-B68F-E640FFBF6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12820-C4FE-4931-8061-B179A5CC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ADDD-3BDC-4A69-A6C2-EF4C6346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8D2A9-FAC8-49EE-82C3-2472516A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79D2F-4011-4A68-B7AE-DC565A84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D2349-5E23-4FE7-BB8C-D37D2956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A812E-6C17-413E-B236-33FCA1DA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0B3F9-AC97-4BA4-946A-B48D6092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2D8D0-9268-4A7A-A76A-0C818E8D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2D96A-86FA-42CE-8F3F-511624D9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62DC4-974F-4A4B-9ED3-2783BC8D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E5674-CBA7-4C20-A016-EDA8C638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3E6B3-5FA5-4B83-BA11-D414CC61A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2A42-62E7-4B92-8239-4AE9426E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3588C-2A8F-40E1-90BA-11BB7A8AD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A7C75-B030-4174-8A31-931574301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9C1E6-767A-466C-8D48-E16E1215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9F422-EAC0-4EB0-A2DB-31AFA913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E7A42-A16A-495C-B299-FC570CA1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AE01B-A8B9-44FC-8670-9279CC5B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6AEE3-036F-4073-BB25-3CF16E86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67877-474A-4B17-9E5E-B76C4EB9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53C57-0981-4DD8-9DFF-F53A0E7A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2B66F-1744-4048-B52A-C89226BD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347A-2CF2-485E-82B5-82317B8E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3F8AD-D595-42D1-9C07-A9E7A1A8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991A7-87AC-45B5-A2F2-EF0E0616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33C7F-07DD-4D26-BE39-C04B1A1CA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6DB47-D1FE-4AB4-8B45-3D8D1BF8C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AAFC3-DC6F-4199-B196-8CDADC36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7487A-5975-4873-9050-CEA7DBC0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1975B-43BE-4852-85BD-31EDC302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F51B3-ED7C-491E-9208-2CEE0132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25B6F-2173-45F2-A2EB-072BF7B6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D2046-FB7A-4FCA-B168-8BE4B139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AF59-A812-4F6A-B7F4-CC54ACB8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201CE-C79E-45CB-9860-10C28DDF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2E500-5B43-4043-B577-75ACE1DF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ACA0F-45C0-49D7-BD6C-EFDB0865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6A406-11DC-4521-8DAF-30A3AEA37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2DA96-7125-42CE-AEF6-1405DAA4C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3DD19-1744-4F78-AA9D-A47976EB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75572-A4C6-49F8-B649-1A665238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3943B-3BA6-4455-9AB4-98A63D4C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AAAE7-6895-4D20-BCE2-9B1192F1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C0296-80DB-46FC-B4E9-CD0AA4F0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D03A-098C-4C61-B3F0-21D3EB4E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EF295-8D6A-4F9A-9270-59C4C537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5FE73-7F02-4C28-820B-EF0BF83E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D14EC-5CA7-4E5F-B2A3-ABE3DD99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E3975-644F-42DE-BA46-A61EAE85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72D75-4C9B-404E-BB5C-5A5C4661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2ED5C-35DA-44BF-826D-DA5FF97F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8C0AA-48F2-41E5-A2B1-3236F27C9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EBC96-8569-4357-91C5-64D1ABE44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A5CB4-A541-426E-BD5E-B0AC9EE5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3D4A8-7E9F-4099-81A7-22095ECD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526A-6330-41C1-8125-F5A00682B28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75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87ED-74D8-49AE-8BCB-06DF38E4BFA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2D86-81D6-4A3F-BFC2-A13A88CF862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B087-3B7B-4F49-9170-144A06AF9DD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71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700B-9011-4ECF-B359-08056BEA1E1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5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C130-7122-48E9-91F6-B50154DD017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DD35-6621-4272-A841-2EEFCCD1341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36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37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40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D6FC-21CC-4B47-A978-EA76729BB5E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84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87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F5C5-773C-48A8-9F4A-57E148A9DD3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6FF6-BCDC-416A-86ED-D13E33BDFB8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7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7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38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dt" idx="2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ftr" idx="2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2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17FA-A93F-40E4-8C95-C612A4E2378E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8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7925-78AB-4F39-8E4B-93022BC820E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676160" y="836280"/>
            <a:ext cx="74674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0810"/>
                </a:solidFill>
                <a:latin typeface="Arial"/>
              </a:rPr>
              <a:t>Критерии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80810"/>
                </a:solidFill>
                <a:latin typeface="Arial"/>
              </a:rPr>
              <a:t>урока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80810"/>
                </a:solidFill>
                <a:latin typeface="Arial"/>
              </a:rPr>
              <a:t>здоровьесберегающей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80810"/>
                </a:solidFill>
                <a:latin typeface="Arial"/>
              </a:rPr>
              <a:t>направленности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4021200" y="4005360"/>
            <a:ext cx="110016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17680" y="723600"/>
            <a:ext cx="859608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Урок осуществляется в условиях комфортности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А) С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анитарно-гигиенических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Свежий воздух, проветренный класс, соответствующее освещение, подходящие по росту парты, расположение слабовидящих учащихся в соответствии с рекомендациями медико-санитарной службы, а также по желанию детей и родителе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омфортный для человека уровень шума-10 дБ (Так журчит ручей и шумит листва). Обычный разговор «в спокойных тонах»-это 40 дБ. 70 дБ-это предельно допустимое давление звука, которое не оказывает на организм человека вредного воздействия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Использование видеоэкранных средств обучения с учетом гигиенических прави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Урок осуществляется в условиях комфортности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) Психологических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оздание эмоционально положительного фона в обучении, общен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чет психического и физического здоровья ребенка; психологических особенностей класс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тимулирование мотивации на успешность в обучении, оказание поддержки и помощи ребенку в уч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спользование чередования интенсивности в обучении и релаксац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150920" y="708120"/>
            <a:ext cx="7593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Основания для построения урока здоровьесберегающей направленности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4360" y="2420640"/>
            <a:ext cx="7696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Гуманистическая основа (философия: выстраивание человеческих отношений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Психо-био-генная основа (принцип природосообразности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Социогенная основа (опора на базовые личностные качеств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Здоровьесберегающие компоненты на уроке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тренняя гимна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намические пау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ередование поз во время у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ганизационное начало (выстраиваются договорные отношения, принимаются правила уро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нжирование учебного материала урока по степени сложности, новизны , актуа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пользование активных методов обучения: поисковый, диалогический, игровой, проектный, исследовательский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ражение в содержании вопросов, связанных со здоровьем, здоровым образом жизни (по возможн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армоничное сочетание обучения-воспитания-развития в учеб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Здоровьесберегающие компоненты на уроке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лотность урока: количество времени, затраченного на учебную деятельность не менее 6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%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, но не более-8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Темп завершения урока спокойный, учащийся должен иметь возможность задать учителю вопрос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Учитель комментирует домашнее задание (объем, «риски». «опасные места». Наличие выбор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Система оценивания. Внимание!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Стрессогенная ситуац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Три варианта оценивания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1.  Ученик (самооценк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2. Ученик-ученик (взаимооценк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3. Ученик-учитель (корректирующая оценка и договор на  окончательную оценку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0:53:01Z</dcterms:created>
  <dc:creator>лена</dc:creator>
  <dc:description/>
  <dc:language>en-US</dc:language>
  <cp:lastModifiedBy>лена</cp:lastModifiedBy>
  <dcterms:modified xsi:type="dcterms:W3CDTF">2008-11-05T14:54:28Z</dcterms:modified>
  <cp:revision>3</cp:revision>
  <dc:subject/>
  <dc:title>Критерии урока здоровьесберегающей направленности</dc:title>
</cp:coreProperties>
</file>