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253-B2E9-48C4-ACCE-08BC3CDE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739-D304-450C-AE82-BF8811C2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912-895F-4A42-B1C3-9C56CF46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8B8-66FB-4D87-ADCE-96875EE9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373-E862-40CE-B006-819EFE6B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CED-B907-4752-90FC-68EFDE99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D18-6A22-423C-BB87-1BD8C619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3BA-FD5D-4569-99F9-BD9D321E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4DD-F173-4CFA-A162-44D7F385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27F-E7C5-4E2D-A477-42E3CD11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5C9-E391-40BE-9B0B-CC84F865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F51-3C3F-435A-934D-6D6485D7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35A7-0022-4899-A950-98B9F7C07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00"/>
                </a:solidFill>
                <a:latin typeface="Monotype Corsiva"/>
              </a:rPr>
              <a:t>Родители-первые учителя дет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33336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44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ff6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372360" y="3284640"/>
            <a:ext cx="2771640" cy="3313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20357400">
            <a:off x="721800" y="858960"/>
            <a:ext cx="5099040" cy="5141880"/>
          </a:xfrm>
          <a:prstGeom prst="wedgeRoundRectCallout">
            <a:avLst>
              <a:gd name="adj1" fmla="val 70833"/>
              <a:gd name="adj2" fmla="val 3519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защищайте меня от собственных ошибок. Я тоже учусь на собственном опы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давайте обещаний, которых вы не можете выполнить- это поколеблет мою веру в вас.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поправляйте меня в присутствии посторонних людей. Скажите мне спокойно с глазу на глаз. Я пойму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ощряйте в ребёнке инициати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являйте интерес к его де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имательно выслушивай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ще хвалите своего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дуйтесь вашему ребё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ьте терпели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жи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836640"/>
            <a:ext cx="4249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Делат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08720" y="2349360"/>
            <a:ext cx="3635280" cy="4508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95280" y="0"/>
            <a:ext cx="799308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Impact"/>
              </a:rPr>
              <a:t>делать или не делать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000"/>
                            </p:stCondLst>
                            <p:childTnLst>
                              <p:par>
                                <p:cTn id="3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3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3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3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3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30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30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принуждайте ребёнка делать то, к чему он не го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критикуйте его в присутствии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сравнивайте его с другим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перебивайте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щайтесь с ним так, как подсказывает родительское серд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1640" y="0"/>
            <a:ext cx="6985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Impact"/>
              </a:rPr>
              <a:t>делать или не делать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10526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Не дел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60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86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16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46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76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99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0066ff"/>
                </a:solidFill>
                <a:latin typeface="Arial"/>
              </a:rPr>
              <a:t>Заповеди для родителе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Не жди, что твой ребёнок будет таким, как ты, или таким, как ты хочешь. Помоги ему стать не тобой, а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Не требуй от ребёнка платы за всё, что ты для него сдел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Не вымещай на ребёнке свои обиды, чтобы в старости не есть горький хле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Не относись к его проблемам свысока. Жизнь дана каждому по силам, и будь уверен - ему она тяжела не меньше, а больше, поскольку у него нет опы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Не униж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3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000"/>
                            </p:stCondLst>
                            <p:childTnLst>
                              <p:par>
                                <p:cTn id="4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3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3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3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ff99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Не мучь себя, если не можешь сделать что–то для своего ребёнка. Мучь, если можешь, но не дел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Ребёнок-это не тиран, это драгоценная чаша, которую Жизнь дала тебе на хранение и развитие в нём творческого ог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Умей любить чужого ребёнка. Никогда не делай чужому то, что не хотел бы, чтобы делали тво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Люби своего ребёнка любым–взрослым, неталантливым, неудачл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Общаясь с ним, радуйся, потому что ребёнок-это праздник, который пока с тоб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8" dur="3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3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000"/>
                            </p:stCondLst>
                            <p:childTnLst>
                              <p:par>
                                <p:cTn id="4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6" dur="3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9000"/>
                            </p:stCondLst>
                            <p:childTnLst>
                              <p:par>
                                <p:cTn id="4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0" dur="3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3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00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Добр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4284720" cy="3284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 rot="19959600">
            <a:off x="395280" y="1773000"/>
            <a:ext cx="188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е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 rot="826800">
            <a:off x="6804000" y="1628280"/>
            <a:ext cx="194472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мниц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 rot="873600">
            <a:off x="250560" y="5589360"/>
            <a:ext cx="34192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горжусь тобо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 rot="688800">
            <a:off x="5435280" y="2781000"/>
            <a:ext cx="33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ы хороший друг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 rot="20896200">
            <a:off x="611280" y="2565000"/>
            <a:ext cx="2952720" cy="95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я верю в теб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59280" y="981000"/>
            <a:ext cx="264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я люблю теб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95640" y="4869000"/>
            <a:ext cx="28288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ы побед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56000" y="4076640"/>
            <a:ext cx="2638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ы уникал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 rot="20393400">
            <a:off x="0" y="4436640"/>
            <a:ext cx="2762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 уважаю тебя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 rot="21105600">
            <a:off x="250920" y="2997360"/>
            <a:ext cx="41716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 тебя всё получитс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00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9000"/>
                            </p:stCondLst>
                            <p:childTnLst>
                              <p:par>
                                <p:cTn id="5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5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ffff00"/>
            </a:gs>
            <a:gs pos="100000">
              <a:srgbClr val="99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43280" y="1197000"/>
            <a:ext cx="450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ёнок должен чувствовать себя любимым, успешным. Успех, как известно, рождает успех.        Говорите ему чаще о том, как Вы его любите, и он тоже  ответит Вам любов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87280" y="4581360"/>
            <a:ext cx="2448000" cy="1913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79080" y="5445000"/>
            <a:ext cx="486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Рождествен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Светлана Викт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254628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5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66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Дети должны жить в мире красоты, игры ,сказки, музыки, рисунка, фантазии, творчества. Этот мир должен окружать ребёнка и тогда, когда мы хотим научить его читать и писать. От того, как ребёнок будет чувствовать себя, поднимаясь на первую ступеньку лестницы познания, что он будет переживать, зависит весь его дальнейший путь к знаниям.    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6093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(В.А.Сухомли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2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Elephant"/>
              </a:rPr>
              <a:t>Как развивать речь ребён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а речь должна быть примером для подраж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а речь должна быть чёт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райтесь изолировать ребёнка от просмотра телешоу, фильмов, песен, разговоров с детьми, которые научат их неприемлемым нормам языка и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Как родители могут помочь своим детям уч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тесь заниматься регулярно в одно и тож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ивайте интересы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йте ребёнку новый материал для речев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йте ребёнка в его стремлении самостоятельно исправлять свои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обряйте применение знаний 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840"/>
                            </p:stCondLst>
                            <p:childTnLst>
                              <p:par>
                                <p:cTn id="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440"/>
                            </p:stCondLst>
                            <p:childTnLst>
                              <p:par>
                                <p:cTn id="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324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9240"/>
                            </p:stCondLst>
                            <p:childTnLst>
                              <p:par>
                                <p:cTn id="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664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1340"/>
                            </p:stCondLst>
                            <p:childTnLst>
                              <p:par>
                                <p:cTn id="1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Arial"/>
              </a:rPr>
              <a:t>Роль родителей в развитии у детей мыш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развивать мышление, предлагайте детям те предметы, которые дают возможность делать что-либо новое, эксперимент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агайте им строительный материал, головоломки, мозаики, природный матери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бывайте про наблюдения за животными и насекомыми; изготовление игрушек из лоскутков, ракушек, листьев, поездки в муз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01840" y="1557000"/>
            <a:ext cx="5041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й способ заинтересовать ребёнка чтением - ежедневно читать ему и вмес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те и обсуждайте с ним прочита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яйте знакомые истории снова и сн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айте библиотеку, покупайте новые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3382920" cy="3003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33360" y="333360"/>
            <a:ext cx="8477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ль родителей в обучении детей чтени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afdb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4470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ерите время, чтобы заниматься с ребё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готовьте для этого карандаши, ручки, бума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райтесь не замечать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ще хвалите за всё, что он пиш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шите с ним письма, открытки друзь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сывайте названия вывесок, игр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11840" y="3213000"/>
            <a:ext cx="2720880" cy="2880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52440" y="333360"/>
            <a:ext cx="8439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ль родителей в обучении детей письму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5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5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ccff99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яя любознательность детей вы тем самым помогаете  приобрести им навыки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ые шесть лет своей жизни дети учатся больше, чем за всю остальную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о знать, как и во что играть с детьми. Игра и домашние занятия помогают в учё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чему Вы их научили до школы, является солидным фундаментом для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08000" y="476280"/>
            <a:ext cx="52768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заниматься с детьм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500"/>
                            </p:stCondLst>
                            <p:childTnLst>
                              <p:par>
                                <p:cTn id="2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500"/>
                            </p:stCondLst>
                            <p:childTnLst>
                              <p:par>
                                <p:cTn id="2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3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ff6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Памятка родителям от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882880" cy="3311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20902200">
            <a:off x="396360" y="1289160"/>
            <a:ext cx="5124600" cy="5160960"/>
          </a:xfrm>
          <a:prstGeom prst="wedgeRoundRectCallout">
            <a:avLst>
              <a:gd name="adj1" fmla="val 83208"/>
              <a:gd name="adj2" fmla="val 15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беспокойтесь, что мы проводим вместе слишком мало времени. Для меня важнее то, как мы его провод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 пытайтесь от меня отделаться когда я задаю откровенные вопросы. Если вы не будете на них отвечать, я вообще перестану их вам задавать и буду искать информацию где-то на стороне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5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0:35:20Z</dcterms:created>
  <dc:creator>qwe23</dc:creator>
  <dc:description/>
  <dc:language>en-US</dc:language>
  <cp:lastModifiedBy>Admin</cp:lastModifiedBy>
  <dcterms:modified xsi:type="dcterms:W3CDTF">2011-12-03T06:26:33Z</dcterms:modified>
  <cp:revision>11</cp:revision>
  <dc:subject/>
  <dc:title>Родители-первые учителя детей</dc:title>
</cp:coreProperties>
</file>