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89C-4AD2-420A-BDBD-1B90E590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959-F601-47CA-995B-366170E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EC6-F0A9-45DD-B735-C0A0E1B4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ED7-AD42-4131-A132-923E9589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CF5-D742-40FB-8A24-A161180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041-2E99-4782-8E30-0E84664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D37-D28B-42BC-8D7C-92F81F1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F74-8388-46EA-A8E5-883C05E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F7E-5694-44B3-AB58-BC38290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CBB-449F-46DC-999A-C7DEF91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CF2-F7ED-4D1A-873F-BB686C3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64F-72D3-4BC5-A726-90A5399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76B-1CEB-48BE-8B7D-96D154E5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Monotype Corsiva"/>
              </a:rPr>
              <a:t>Родители-первые учителя де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333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771640" cy="331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20357400">
            <a:off x="721800" y="858960"/>
            <a:ext cx="5099040" cy="5141880"/>
          </a:xfrm>
          <a:prstGeom prst="wedgeRoundRectCallout">
            <a:avLst>
              <a:gd name="adj1" fmla="val 70833"/>
              <a:gd name="adj2" fmla="val 3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защищайте меня от собственных ошибок. Я тоже учусь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давайте обещаний, которых вы не можете выполнить- это поколеблет мою веру в вас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оправляйте меня в присутствии посторонних людей. Скажите мне спокойно с глазу на глаз. Я пойму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йте в ребёнке инициати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являйте интерес к его де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выслушива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ще хвалите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уйтесь вашему ребё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те терпе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и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83664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Дел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635280" cy="45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0"/>
            <a:ext cx="7993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3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3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3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3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3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3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инуждайте ребёнка делать то, к чему он не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ритикуйте его в присутстви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равнивайте его с друг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еребивайт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йтесь с ним так, как подсказывает родительское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1640" y="0"/>
            <a:ext cx="698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1052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Не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6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6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6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46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76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Заповеди для родител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жди, что твой ребёнок будет таким, как ты, или таким, как ты хочешь. Помоги ему стать не тобой, 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требуй от ребёнка платы за всё, что ты для него сде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вымещай на ребёнке свои обиды, чтобы в старости не есть горький хл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относись к его проблемам свысока. Жизнь дана каждому по силам, и будь уверен - ему она тяжела не меньше, а больше, поскольку у него нет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уни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3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3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мучь себя, если не можешь сделать что–то для своего ребёнка. Мучь, если можешь, но не дел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Ребёнок-это не тиран, это драгоценная чаша, которую Жизнь дала тебе на хранение и развитие в нём творческого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Умей любить чужого ребёнка. Никогда не делай чужому то, что не хотел бы, чтобы делали т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Люби своего ребёнка любым–взрослым, неталантливым, неудач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бщаясь с ним, радуйся, потому что ребёнок-это праздник, который пока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3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3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3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Добр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19959600">
            <a:off x="395280" y="177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826800">
            <a:off x="6804000" y="1628280"/>
            <a:ext cx="19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 rot="873600">
            <a:off x="250560" y="5589360"/>
            <a:ext cx="34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горжусь тобо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688800">
            <a:off x="5435280" y="2781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роший д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20896200">
            <a:off x="611280" y="2565000"/>
            <a:ext cx="295272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я верю в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59280" y="981000"/>
            <a:ext cx="264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 люблю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95640" y="4869000"/>
            <a:ext cx="28288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ы побед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56000" y="4076640"/>
            <a:ext cx="2638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уника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20393400">
            <a:off x="0" y="4436640"/>
            <a:ext cx="2762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уважаю теб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21105600">
            <a:off x="250920" y="2997360"/>
            <a:ext cx="41716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тебя всё получи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00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ёнок должен чувствовать себя любимым, успешным. Успех, как известно, рождает успех.        Говорите ему чаще о том, как Вы его любите, и он тоже  ответит Вам люб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4581360"/>
            <a:ext cx="2448000" cy="191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79080" y="5445000"/>
            <a:ext cx="48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Рождествен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ветла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5462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66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ети должны жить в мире красоты, игры ,сказки, музыки, рисунка, фантазии, творчества. Этот мир должен окружать ребёнка и тогда, когда мы хотим научить его читать и писать. От того, как ребёнок будет чувствовать себя, поднимаясь на первую ступеньку лестницы познания, что он будет переживать, зависит весь его дальнейший путь к знаниям.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(В.А.Сухомл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Elephant"/>
              </a:rPr>
              <a:t>Как развивать речь ребён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чё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райтесь изолировать ребёнка от просмотра телешоу, фильмов, песен, разговоров с детьми, которые научат их неприемлемым нормам языка 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Как родители могут помочь своим детя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ниматься регулярно в одно и тож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интересы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йте ребёнку новый материал для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ребёнка в его стремлении самостоятельно исправлять сво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яйте применение знаний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84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44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24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24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664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34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Роль родителей в развитии у детей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азвивать мышление, предлагайте детям те предметы, которые дают возможность делать что-либо новое, эксперимент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йте им строительный материал, головоломки, мозаики, природ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ывайте про наблюдения за животными и насекомыми; изготовление игрушек из лоскутков, ракушек, листьев, поездки в муз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01840" y="155700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способ заинтересовать ребёнка чтением - ежедневно читать ему 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те и обсуждайте с ним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йте знакомые истории снова и с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те библиотеку, покупайте новые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382920" cy="30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33360" y="333360"/>
            <a:ext cx="847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родителей в обучении детей чтени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afdb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470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время, чтобы заниматься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товьте для этого карандаши, ручки,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айтесь не замечать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ще хвалите за всё, что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шите с ним письма, открытки друзь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йте названия вывесок,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11840" y="3213000"/>
            <a:ext cx="2720880" cy="28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52440" y="333360"/>
            <a:ext cx="8439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родителей в обучении детей пись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ff99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я любознательность детей вы тем самым помогаете  приобрести им навык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е шесть лет своей жизни дети учатся больше, чем за всю осталь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знать, как и во что играть с детьми. Игра и домашние занятия помогают в учё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ему Вы их научили до школы, является солидным фундаментом для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6280"/>
            <a:ext cx="5276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заниматься с деть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5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амятка родителям от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82880" cy="331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902200">
            <a:off x="396360" y="1289160"/>
            <a:ext cx="5124600" cy="5160960"/>
          </a:xfrm>
          <a:prstGeom prst="wedgeRoundRectCallout">
            <a:avLst>
              <a:gd name="adj1" fmla="val 83208"/>
              <a:gd name="adj2" fmla="val 15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беспокойтесь, что мы проводим вместе слишком мало времени. Для меня важнее то, как мы его пров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ытайтесь от меня отделаться когда я задаю откровенные вопросы. Если вы не будете на них отвечать, я вообще перестану их вам задавать и буду искать информацию где-то на сторон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35:20Z</dcterms:created>
  <dc:creator>qwe23</dc:creator>
  <dc:description/>
  <dc:language>en-US</dc:language>
  <cp:lastModifiedBy>Admin</cp:lastModifiedBy>
  <dcterms:modified xsi:type="dcterms:W3CDTF">2011-12-03T06:26:33Z</dcterms:modified>
  <cp:revision>11</cp:revision>
  <dc:subject/>
  <dc:title>Родители-первые учителя детей</dc:title>
</cp:coreProperties>
</file>