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48635-CF32-47EB-BE91-D0BE7866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78E71-6BAD-4DFD-B42D-6C7925D5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54841-6B75-4529-848E-7978A331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FFE09-23CE-4901-9ECB-021D6767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9772-CE26-4CD0-A49D-DD62726D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F756-9869-48B8-A929-EEE1AC4F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4226-5FAB-4015-87A7-DD3D30AA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04E4-1FB2-468B-A041-A77D7A4C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0B27-48DF-4361-AC65-49CBE586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10EB-DB9A-4689-805C-D4E7A0F4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192D-E00D-432E-BECB-3247F9E3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BE0D1-88F4-440D-86C5-AB80E48E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D337-0679-4D29-93A6-657044F7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1211-A3D7-4EF6-A39B-F476A2F1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3266-4F6A-41BB-9D9E-0ED75746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2CA4-FE1E-4F0F-8CBD-0CE3807A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9F39-9A0A-4F2A-A882-9C7C5260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6F0B0-792E-4C02-B098-688CC56B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1D334-3AAE-4C24-A88A-74A6B342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A7623-750D-4D48-B707-89C4B96A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C413-F8B1-4B55-A7A0-C508B25C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355F9-CC12-4D00-B990-F36D1E83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E6A7-2D7A-4703-A7AF-9CB9B450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3C8F2-A2C9-4531-B2FE-CF0CA2C9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7C2C0-C197-49A2-9A39-71DC8C16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B7879-9025-4732-BFAE-B9F6C66D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52B5-B7F5-4145-A5A6-7FF8F657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A449-2F90-4125-BC7D-B6B8B4A0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4C47E-0009-4E8C-B880-6C3F1229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37966-1753-48AD-B4C1-AFB74F10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29E99-C925-42AD-8837-3661424F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2CE36-4560-49E2-8150-777CA982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77CB-8971-43B8-8F81-2A761F4A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67C5-0551-4235-86F2-8879305B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6323A-68C2-43BB-9A28-D89F4702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8D76D-D071-4949-8C52-E626267D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6F58C-51B0-4693-A938-606FFC2D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15422-8BD2-4BF0-A00D-82545E66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6AE0F-C482-45BF-BCFE-6BFECD68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6402F-A2E5-42FE-A7EF-C86C5831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42ECE-18D5-419A-AC88-951E60FD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D9B7A-272B-47EC-BB76-75CFEC0A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96E19-1DED-4E5A-AC22-FAFE413D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E8414-C5F9-4D5B-9D79-A377754E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CEB3B-4449-4726-9773-502B5295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829FA-0A5A-4DD1-82C1-E961AFDE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83463-F798-4B7D-AC3F-F714D01A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BF49-5C7E-48E6-B4EE-541D4652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CEF6-54AE-444F-A138-BE1701C01CF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699D-5F63-4752-B079-F48E5F636FF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F6FF-5B7D-47A8-B199-76D25BA29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85FE-65DB-4369-8409-2DB9C4E93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797"/>
                </a:solidFill>
                <a:latin typeface="Monotype Corsiva"/>
              </a:rPr>
              <a:t>С  праздником, </a:t>
            </a:r>
            <a:br>
              <a:rPr sz="6000"/>
            </a:br>
            <a:r>
              <a:rPr b="1" lang="en-US" sz="6000" spc="-1" strike="noStrike">
                <a:solidFill>
                  <a:srgbClr val="f2f797"/>
                </a:solidFill>
                <a:latin typeface="Monotype Corsiva"/>
              </a:rPr>
              <a:t>дорогие   наши </a:t>
            </a:r>
            <a:br>
              <a:rPr sz="6000"/>
            </a:br>
            <a:r>
              <a:rPr b="1" lang="en-US" sz="6000" spc="-1" strike="noStrike">
                <a:solidFill>
                  <a:srgbClr val="f2f797"/>
                </a:solidFill>
                <a:latin typeface="Monotype Corsiva"/>
              </a:rPr>
              <a:t>мальчишки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1728720" cy="15368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1729080" cy="2997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Monotype Corsiva"/>
              </a:rPr>
              <a:t>КОНКУРС №1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100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Сколько враги на Русь бы не ходили – богатыри всегда дадут отпо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spcBef>
                <a:spcPts val="1001"/>
              </a:spcBef>
              <a:buClr>
                <a:srgbClr val="4d4d4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Богатырь не только тот, кто силён, но и тот, кто умён, храбр, уда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Monotype Corsiva"/>
              </a:rPr>
              <a:t>КОНКУРС №2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мать, землю, как, Береги, родимую, любиму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4d4d4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побывать, В, цену, бою, узнать, нау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 rot="5400000">
            <a:off x="1214640" y="-746640"/>
            <a:ext cx="6858000" cy="835164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60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549360"/>
            <a:ext cx="2036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Monotype Corsiva"/>
              </a:rPr>
              <a:t>       </a:t>
            </a:r>
            <a:r>
              <a:rPr b="1" i="1" lang="en-US" sz="4400" spc="-1" strike="noStrike" u="sng">
                <a:solidFill>
                  <a:srgbClr val="cc0000"/>
                </a:solidFill>
                <a:uFillTx/>
                <a:latin typeface="Monotype Corsiva"/>
              </a:rPr>
              <a:t>УК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527400" y="1628640"/>
            <a:ext cx="10067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Monotype Corsiva"/>
              </a:rPr>
              <a:t>Я, Великая и Всемогуща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Monotype Corsiva"/>
              </a:rPr>
              <a:t>Королева Рыцарского орден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Monotype Corsiva"/>
              </a:rPr>
              <a:t>своей властью посвящаю теб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Monotype Corsiva"/>
              </a:rPr>
              <a:t>в Рыцарский орде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Monotype Corsiva"/>
              </a:rPr>
              <a:t>Отваги, Дружбы, Чест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9:26:02Z</dcterms:created>
  <dc:creator>www.PHILka.RU</dc:creator>
  <dc:description/>
  <dc:language>en-US</dc:language>
  <cp:lastModifiedBy>www.PHILka.RU</cp:lastModifiedBy>
  <dcterms:modified xsi:type="dcterms:W3CDTF">2010-02-19T21:15:21Z</dcterms:modified>
  <cp:revision>7</cp:revision>
  <dc:subject/>
  <dc:title>Слайд 1</dc:title>
</cp:coreProperties>
</file>