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46BA-EA62-4554-920C-050EC180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D984-592A-45B1-8FFF-174B524A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F5D0-BFDB-4072-B562-C9FF6D26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C820-9E61-4757-BF1A-C92A0EA2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172E-5A92-4DF8-B471-37300E74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A8A6-27DF-4C39-AA2E-448B7AFB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63F6-47D8-4EFA-A700-F7120E7E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2CAF-2974-4AF4-BC64-EE3992C0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4D1F-9555-4AFA-84EF-E09905F2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F270-72D1-46AF-AA79-25486387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A0E3-FBA0-44B6-92BC-5E85FB9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61E2-9C95-4F71-8B51-307D3814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40F3-985B-46F3-AD70-E5D7FC65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4C60-DE86-4894-B00C-2C5DB828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5BBA-0887-4915-9505-2B0C2681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7917-1180-4845-8BC1-CF7F5838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A3C3-4637-4FF5-B9E2-08C2D757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98C8-F029-4C19-91F4-042829E2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1D1F-86C2-4D75-A930-FEC28B1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E4D9-4492-4083-A6A9-D14243B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4F8F-85F1-4828-8E73-983EEC45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2584-AB98-4D08-9ABC-6369A8D5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AF54-CF9A-4ABB-BDBE-DB54A510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513A-026F-44A8-A3E4-D546FEF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9BC9-7307-48B7-8701-4FE20D00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6A9D-6AD9-4BA2-8BF5-477CBA3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D6C5-27B7-45C9-913F-7EAAB58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28A3-F988-4AB1-917D-38E6C236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B7AE-08C8-4C2A-9974-0D6F5002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E601-614A-45A9-A54D-053ABB30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DC5C9-559E-4670-B5D5-831B643C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75A3-0F37-46D0-AF91-3616A85F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9C90-64FA-46D1-A84B-690C1B58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95C1-29CF-42AD-9C2B-7C52900A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E1277-6A13-4942-A3FD-7D4C7190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1AD83-5031-4ABC-B591-EDEC3CD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53BC-0F0A-4A7C-83FE-41EB9D4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F345-B6E4-4115-A1EC-CB45E7F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DB643-07EC-4B05-B835-E2598D66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D849A-0BC7-48E7-9D0A-F163C65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6F94-78AB-4B51-96F6-AEE0D757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A52D-C0D7-4829-B53C-58FD028B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524C-FCBD-440E-BCA4-504AC814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CCA3-2F07-44EE-A986-89D37F0D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D949-56D5-443B-8A7A-1257C456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F7A5-7E05-4710-A5F8-65724FF0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D6F1-00A8-444F-949D-B595E37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931A-C6C1-44D8-A008-7D735776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66C9-F444-4213-920C-A0BE14BA65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8024-59DA-485E-90F0-50172C0014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83EA-2D11-4D0A-9C0B-64C0A8A43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D74F-3317-4773-B56A-97145FABF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797"/>
                </a:solidFill>
                <a:latin typeface="Monotype Corsiva"/>
              </a:rPr>
              <a:t>С  праздником, </a:t>
            </a:r>
            <a:br>
              <a:rPr sz="6000"/>
            </a:br>
            <a:r>
              <a:rPr b="1" lang="en-US" sz="6000" spc="-1" strike="noStrike">
                <a:solidFill>
                  <a:srgbClr val="f2f797"/>
                </a:solidFill>
                <a:latin typeface="Monotype Corsiva"/>
              </a:rPr>
              <a:t>дорогие   наши </a:t>
            </a:r>
            <a:br>
              <a:rPr sz="6000"/>
            </a:br>
            <a:r>
              <a:rPr b="1" lang="en-US" sz="6000" spc="-1" strike="noStrike">
                <a:solidFill>
                  <a:srgbClr val="f2f797"/>
                </a:solidFill>
                <a:latin typeface="Monotype Corsiva"/>
              </a:rPr>
              <a:t>мальчишки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728720" cy="1536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729080" cy="2997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КОНКУРС №1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10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Сколько враги на Русь бы не ходили – богатыри всегда дадут отпо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1001"/>
              </a:spcBef>
              <a:buClr>
                <a:srgbClr val="4d4d4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Богатырь не только тот, кто силён, но и тот, кто умён, храбр, уд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КОНКУРС №2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мать, землю, как, Береги, родимую, любиму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4d4d4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побывать, В, цену, бою, узнать, нау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5400000">
            <a:off x="1214640" y="-746640"/>
            <a:ext cx="6858000" cy="835164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60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549360"/>
            <a:ext cx="203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Monotype Corsiva"/>
              </a:rPr>
              <a:t>       </a:t>
            </a:r>
            <a:r>
              <a:rPr b="1" i="1" lang="en-US" sz="4400" spc="-1" strike="noStrike" u="sng">
                <a:solidFill>
                  <a:srgbClr val="cc0000"/>
                </a:solidFill>
                <a:uFillTx/>
                <a:latin typeface="Monotype Corsiva"/>
              </a:rPr>
              <a:t>УК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527400" y="1628640"/>
            <a:ext cx="10067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Я, Великая и Всемогущ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Королева Рыцарского орде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своей властью посвящаю теб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в Рыцарский орде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Отваги, Дружбы, Че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26:02Z</dcterms:created>
  <dc:creator>www.PHILka.RU</dc:creator>
  <dc:description/>
  <dc:language>en-US</dc:language>
  <cp:lastModifiedBy>www.PHILka.RU</cp:lastModifiedBy>
  <dcterms:modified xsi:type="dcterms:W3CDTF">2010-02-19T21:15:21Z</dcterms:modified>
  <cp:revision>7</cp:revision>
  <dc:subject/>
  <dc:title>Слайд 1</dc:title>
</cp:coreProperties>
</file>