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0CE-25C1-4370-824B-16E722B9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356-18AD-4A7F-B031-8CD447B5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E7A-A66F-4D67-8626-39E49721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FC8-A984-4673-B0C3-965DB0E9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EFBA-9503-4398-B5AB-CFF61CDD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1935-A154-4588-AD13-D308C47F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7EA9-2D00-40F2-9A9E-1895BF16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56DC-7D3B-40D5-822E-0C5D7923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A759-49A9-4043-A192-FE710A12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70A9-C627-4EB7-96E6-49512986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DBD4-1D1A-4384-AEC3-1FBE31D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307-3250-4A4E-BE8E-48E4AC48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F0C3-9C33-44A7-9A35-1E9AE3B7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BEB2-C172-4759-B023-413AF8B5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0E4E-7F93-49AB-9B15-311A7A04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1F29-5D97-45F2-8A2A-35A598B0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A4B7-09A5-4255-B541-78B3CD43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321-6FD3-4D4C-89DD-BD54F4E4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DDB-DA7D-46C5-BA46-3B58094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EAE-8304-435B-BD2F-68D1AAB7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AEB-83EA-43F3-A368-D3821CD0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161-743C-4CFA-A34E-47780F2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658-3F43-4C21-9144-E64FE09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DE6-A5F0-4C8B-8E2B-003446A9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CD3-27AF-4B6A-BC03-4FEDBE1199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28F0-BF7E-4DA8-AAB2-3B78BF06A4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ХНОЛОГИЯ ЛИЧНОСТНО-ОРИЕНТИРОВАННОГО УРОКА ПРИ ДИФФЕРЕНЦИАЦИИ И ИНТЕГРАЦИИ В УЧЕБНО-ВОСПИТАТЕЛЬНОМ ПРОЦЕССЕ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ильное обучение в основной школе и старших классах, организованное на основе психодиагностики, экспертной оценки, рекомендации учителей и родителей, самоопределения школь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66"/>
                </a:solidFill>
                <a:latin typeface="Arial"/>
              </a:rPr>
              <a:t>ТЕХНОЛОГИЯ КОЛЛЕКТИВНОГО ВЗАИМООБУЧЕНИЯ.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атическая пар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инамическая пар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ариационная пар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3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В результате регулярно повторяющихся упражнений совершенствуются навыки логического мышления и понимания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В процессе взаимного общения включается память, идет мобилизация предшествующего опыта и знаний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ый учащийся чувствует себя раскованно, работает в индивидуальном план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ается ответственность не только за свои успехи, но и за результаты коллективного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падает необходимость в сдерживании темпа занятий, что позитивно сказывается на микроклимате в коллектив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уется адекватная самооценка личности, своих возможностей и способностей, достоинств и ограничени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ждение одной информации с несколькими сменными партнерами увеличивает число ассоциативных связей, а следовательно, обеспечивает более прочное усво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66"/>
                </a:solidFill>
                <a:latin typeface="Arial"/>
              </a:rPr>
              <a:t>ТЕХНОЛОГИЯ СОТРУДНИЧЕСТВА.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лавная идея обучения – учиться вмест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УЧЕНИЕ В КОМАНД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ПИЛ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ИМСЯ ВМЕСТ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3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66"/>
                </a:solidFill>
                <a:latin typeface="Arial"/>
              </a:rPr>
              <a:t>Основные идеи.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Ребенок – существо разумное, он хорошо знает потребности, трудности своей жизни. Не деспотичные распоряжения, не навязанная дисциплина, не недоверчивый контроль, а тактичная договоренность, вера в опыт, сотрудничество и совместная жизнь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нуш Корча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ИЧНОСТНО-ОРИЕНТИРОВАННОЕ ОБУЧЕНИЕ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щность цели и задач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дивидуальная ответствен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вные возможности успех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3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3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3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ю необходимо продумать размещение рабочих мест детей, чтобы они могли видеть лица друг друг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дготовке к занятию выделить один-два задания, требующих после обычного объяснения определенных действий в группах по усвоению нового материал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ить класс на группы по два-три человека и предоставить ученикам самим определить роль каждого при выполнении зад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609480"/>
            <a:ext cx="7467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работе в группах над новым материалом необходимо сформулировать по 2-3 вопроса каждому ученику групп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ать ученикам возможность обсудить материал в парах, прежде чем даются индивидуальные зада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ставлять возможность потренироваться в парах или тройках раньше, чем проводится контрольная работа или тес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ки должны иметь возможность проверить работы друг друга в группе и обязательно добиться правильного осознанного выполнения задания каждым ученико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тко сообщать цель в начале урока и перед работой в группах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протяжении всей работы следить за активностью учащихся и помогать любой группе, если это потребу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Все наши замыслы, все поиски и построения превращаются в прах, если у ученика нет желания учитьс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А. Сухомлинск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Содержание обучения рассматривается как средство развития лич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Обучение ведется прежде всего обобщенным знаниям, умениям и навыкам и способам мыш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Достигается вариативность и дифференциация обучения на основе деятельностного подх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Активно используется положительная стимуляция 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Arial"/>
              </a:rPr>
              <a:t>ТЕХНОЛОГИИ ЛИЧНОСТНО-ОРИЕНТИРОВАННОГО ОБУЧЕНИЯ.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я разноуровневого обуч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я коллективного взаимообуч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я сотруднич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Arial"/>
              </a:rPr>
              <a:t>ТЕХНОЛОГИЯ РАЗНОУРОВНЕВОГО ОБУЧЕНИЯ.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оспособные, которые не в состоянии достичь заранее намеченного уровня знаний и умений даже при больших затратах учебного времен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лантливые, которым по силам то, с чем не могут справиться все остальны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щиеся, составляющие большинство, чьи способности к усвоению знаний и умений зависят от затрат учебного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лектование классов однородного состава с начального этапа обучения в школе на основе диагностики динамических характеристик личности и уровня овладения общеучебными умени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нутриклассная дифференциация в среднем звене, проводимая посредством отбора групп для раздельного обучения на разных уровнях. При наличии устойчивого интереса группа становится классом с углубленным изучением отдельных предме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6:31:22Z</dcterms:created>
  <dc:creator>User</dc:creator>
  <dc:description/>
  <dc:language>en-US</dc:language>
  <cp:lastModifiedBy>FoM</cp:lastModifiedBy>
  <dcterms:modified xsi:type="dcterms:W3CDTF">2011-03-28T05:50:47Z</dcterms:modified>
  <cp:revision>11</cp:revision>
  <dc:subject/>
  <dc:title>ТЕХНОЛОГИЯ ЛИЧНОСТНО-ОРИЕНТИРОВАННОГО УРОКА ПРИ ДИФФЕРЕНЦИАЦИИ И ИНТЕГРАЦИИ ОБРАЗОВАТЕЛЬНОГО ПРОЦЕССА.</dc:title>
</cp:coreProperties>
</file>