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4C5-8B4A-452E-9EB3-1215447A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8A0-F233-44CA-999A-95618EA0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308-5BF3-4B21-AB92-DBA8F170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39F-A2A9-491B-8AA4-208C5FA5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7FA3-2890-4656-BAE1-EE5FC4CA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5009-5F30-48F9-AEDD-799B33B2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A074-008C-4749-A395-2485126F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7C89-FF16-4133-8FED-4BCD24D7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B715-7E69-44AF-87D0-91F040ED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06BA-7503-49E0-863F-74CC8449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5D15-EAB0-4C9A-BE91-18268E75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E58-776C-441F-80D6-3D4A05E0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028C-2F4D-46AC-B459-C2EAF5E8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900B-C0E7-459B-929A-F6C0CE4F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2BEC-3AAE-499C-A3C7-358ED212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1957-B2FC-4A9E-BC30-8ECF25B6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FB87-D784-40BD-9B26-FB9A667C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AA8-96C0-4966-9F29-D3BAD556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AD1-676F-4507-89F0-C7C18452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844-DEE9-4094-A74E-FD07E102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CB9-0D63-486E-8CBD-3ECC4031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84C-C812-466B-B0AA-938C8CE0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10B-0D3E-45D4-85B8-DB0CA449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39C-D478-4010-BFFB-927C306B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6813-6FAC-45EF-AAE2-25CDB83879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D24B-DC51-4DAF-A3BA-279CADBFFB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ХНОЛОГИЯ ЛИЧНОСТНО-ОРИЕНТИРОВАННОГО УРОКА ПРИ ДИФФЕРЕНЦИАЦИИ И ИНТЕГРАЦИИ В УЧЕБНО-ВОСПИТАТЕЛЬНОМ ПРОЦЕССЕ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фильное обучение в основной школе и старших классах, организованное на основе психодиагностики, экспертной оценки, рекомендации учителей и родителей, самоопределения школьни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66"/>
                </a:solidFill>
                <a:latin typeface="Arial"/>
              </a:rPr>
              <a:t>ТЕХНОЛОГИЯ КОЛЛЕКТИВНОГО ВЗАИМООБУЧЕНИЯ.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093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татическая пар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инамическая пар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ариационная пар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3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3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" dur="3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В результате регулярно повторяющихся упражнений совершенствуются навыки логического мышления и понимания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В процессе взаимного общения включается память, идет мобилизация предшествующего опыта и знаний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ый учащийся чувствует себя раскованно, работает в индивидуальном план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шается ответственность не только за свои успехи, но и за результаты коллективного труд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падает необходимость в сдерживании темпа занятий, что позитивно сказывается на микроклимате в коллектив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ируется адекватная самооценка личности, своих возможностей и способностей, достоинств и ограничений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суждение одной информации с несколькими сменными партнерами увеличивает число ассоциативных связей, а следовательно, обеспечивает более прочное усво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66"/>
                </a:solidFill>
                <a:latin typeface="Arial"/>
              </a:rPr>
              <a:t>ТЕХНОЛОГИЯ СОТРУДНИЧЕСТВА.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Главная идея обучения – учиться вместе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УЧЕНИЕ В КОМАНД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ПИЛ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ЧИМСЯ ВМЕСТ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3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3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3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66"/>
                </a:solidFill>
                <a:latin typeface="Arial"/>
              </a:rPr>
              <a:t>Основные идеи.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Ребенок – существо разумное, он хорошо знает потребности, трудности своей жизни. Не деспотичные распоряжения, не навязанная дисциплина, не недоверчивый контроль, а тактичная договоренность, вера в опыт, сотрудничество и совместная жизнь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нуш Корча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ЛИЧНОСТНО-ОРИЕНТИРОВАННОЕ ОБУЧЕНИЕ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щность цели и задач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ндивидуальная ответственн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вные возможности успех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3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3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ю необходимо продумать размещение рабочих мест детей, чтобы они могли видеть лица друг друг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дготовке к занятию выделить один-два задания, требующих после обычного объяснения определенных действий в группах по усвоению нового материал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бить класс на группы по два-три человека и предоставить ученикам самим определить роль каждого при выполнении зад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90360" y="609480"/>
            <a:ext cx="7467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работе в группах над новым материалом необходимо сформулировать по 2-3 вопроса каждому ученику групп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вать ученикам возможность обсудить материал в парах, прежде чем даются индивидуальные задани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оставлять возможность потренироваться в парах или тройках раньше, чем проводится контрольная работа или тес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ники должны иметь возможность проверить работы друг друга в группе и обязательно добиться правильного осознанного выполнения задания каждым учеником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тко сообщать цель в начале урока и перед работой в группах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протяжении всей работы следить за активностью учащихся и помогать любой группе, если это потребу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Все наши замыслы, все поиски и построения превращаются в прах, если у ученика нет желания учитьс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.А. Сухомлинск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Содержание обучения рассматривается как средство развития лич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Обучение ведется прежде всего обобщенным знаниям, умениям и навыкам и способам мыш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Достигается вариативность и дифференциация обучения на основе деятельностного подх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Активно используется положительная стимуляция у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66"/>
                </a:solidFill>
                <a:latin typeface="Arial"/>
              </a:rPr>
              <a:t>ТЕХНОЛОГИИ ЛИЧНОСТНО-ОРИЕНТИРОВАННОГО ОБУЧЕНИЯ.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хнология разноуровневого обуч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хнология коллективного взаимообуч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хнология сотрудниче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5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5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75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66"/>
                </a:solidFill>
                <a:latin typeface="Arial"/>
              </a:rPr>
              <a:t>ТЕХНОЛОГИЯ РАЗНОУРОВНЕВОГО ОБУЧЕНИЯ.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оспособные, которые не в состоянии достичь заранее намеченного уровня знаний и умений даже при больших затратах учебного времен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лантливые, которым по силам то, с чем не могут справиться все остальны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щиеся, составляющие большинство, чьи способности к усвоению знаний и умений зависят от затрат учебного време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лектование классов однородного состава с начального этапа обучения в школе на основе диагностики динамических характеристик личности и уровня овладения общеучебными умени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нутриклассная дифференциация в среднем звене, проводимая посредством отбора групп для раздельного обучения на разных уровнях. При наличии устойчивого интереса группа становится классом с углубленным изучением отдельных предмет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6:31:22Z</dcterms:created>
  <dc:creator>User</dc:creator>
  <dc:description/>
  <dc:language>en-US</dc:language>
  <cp:lastModifiedBy>FoM</cp:lastModifiedBy>
  <dcterms:modified xsi:type="dcterms:W3CDTF">2011-03-28T05:50:47Z</dcterms:modified>
  <cp:revision>11</cp:revision>
  <dc:subject/>
  <dc:title>ТЕХНОЛОГИЯ ЛИЧНОСТНО-ОРИЕНТИРОВАННОГО УРОКА ПРИ ДИФФЕРЕНЦИАЦИИ И ИНТЕГРАЦИИ ОБРАЗОВАТЕЛЬНОГО ПРОЦЕССА.</dc:title>
</cp:coreProperties>
</file>