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5C0D-2919-4831-8528-EBF727238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087F-4295-4B25-AFD1-2B73F347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D71A-AA5C-492C-BBE6-48731F869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7943-DBEB-4DA6-9124-F81816AF5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1B795-82D4-4735-B590-E8A18CB9F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92CE-5AD4-454C-90E2-F8228368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6B1B-8BCA-4A88-8ABE-EF1F048B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DF04-ACCD-4D0E-8515-A5CF99AC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2E04-728E-4F96-BD19-BF0217EF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17CC-FFF8-4FBB-9F35-A1EEB17D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B387-6450-4D5B-98CC-5ED7425D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49E3-9ADC-497E-B63F-73E2F307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055E-BE29-4A5D-AB5C-C6045AF0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12A9-CA38-40B5-9E2D-AF895328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12D1-FFA0-4532-9240-E4086583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ABAE-0408-4D3D-A32A-C7272C960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057F-EC7D-4071-A7FA-6339FE99B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72EE-1388-4846-A00C-88FC5CA1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44F1-4809-4589-A1AC-088D024A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EC21-831F-43D4-BCA4-B2E49980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2BCD-A60F-4B10-B65E-AB5B5BB5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4C7F-C5FE-49D2-8B63-52BDC5DF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7341-4F6B-4AFE-ABA8-42710C26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5CD5-4809-402A-B580-1E67A9B0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E489-2896-464E-9DBF-B007C50928F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2605-D052-48F9-B6BB-A63B793D61F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Презентация 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воспитательной системы класс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160" y="2927520"/>
            <a:ext cx="42195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Классный руководитель 9 класс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МОУ Медведской ООШ Быковской Е.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465200" y="827280"/>
            <a:ext cx="5285880" cy="85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лагаемые моего успех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49000"/>
            <a:ext cx="7693200" cy="37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Мои личные качества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ринципиальность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Организованность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Требовательность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праведливост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Интерес к жизни и личности каждого воспитанник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следовательность в сочетании с широким кругозором и глубиной знани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1125000"/>
            <a:ext cx="7693200" cy="496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Мои профессиональные качества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ысшее педагогическое образован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Знание детской и возрастной психолог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Знание теоретических основ воспита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рганизаторские умения и навык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Коммуникативные способ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1052280"/>
            <a:ext cx="769320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          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Мое назначение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Максимальное развитие каждого ребенка, сохранение его неповторимости и раскрытие в нем потенциальных способностей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19280" y="88920"/>
            <a:ext cx="5923080" cy="67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Виды деятельности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гражданско-патриотическая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познавательная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художественная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трудовая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спортивна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онечный результат: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 Учащиеся должны знать и уважать народные праздники и традиции, связанные с ним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.  хранить историко-духовную память своего народа, традиции защитников нашего Отечества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. проявлять свою любовь и уважение в конкретных делах и поступках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Смысл моей воспитательной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121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деятельности – гуманизация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121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пространства детства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779760" y="2804040"/>
            <a:ext cx="7733160" cy="13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Спасибо за внимание!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05:46:05Z</dcterms:created>
  <dc:creator>МОУ Медведская ООШ</dc:creator>
  <dc:description/>
  <dc:language>en-US</dc:language>
  <cp:lastModifiedBy>МОУ Медведская ООШ</cp:lastModifiedBy>
  <dcterms:modified xsi:type="dcterms:W3CDTF">2010-04-21T07:34:06Z</dcterms:modified>
  <cp:revision>6</cp:revision>
  <dc:subject/>
  <dc:title>Презентация  воспитательной системы класса</dc:title>
</cp:coreProperties>
</file>