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D0A-8A11-4A49-B7B3-8EFCFA29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560-9E20-4633-AD8F-CE146CF6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A686-9CC0-46B6-AC4C-315DB17B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D1F4-A7E8-422C-A04A-657C1DD4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28BA-4A15-4CEF-89A9-48C1C2F9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A5BB-2FFE-4523-9C23-B1325C8C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44A8-BE13-4F19-9D6B-0E202039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7B7B-05D5-4E34-B624-74BA774D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53D3-584C-4417-9D80-6B9D3D0C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5C88-2529-456C-8242-81A2A76A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968C-82E8-4538-ACCA-F9D4CF98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2B2-08DC-48A1-919E-46AE06A9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8627-01ED-48EB-8ED5-517A22E0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EFE9-72E3-4F30-9560-A813D073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FFE0-D0B7-466F-80AF-F997E85F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D2D7-4D10-4825-A422-C26AD110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811F-FACC-4257-A643-504787B3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3F3-1862-4544-8EDB-6CC82288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8A2-A524-4AD5-97C6-69188FBE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81FA-C8C2-42FE-84ED-0940A60C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194C-559C-489B-956D-F58A5F49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5AE-FF90-4886-A8F5-F71AD16F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2A3-EEAA-4931-A1BB-DAFEFB6F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2BF-6195-43F7-8779-6B9E1784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58FD-2312-43E2-BE59-EDFAA6062BB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ED7A-6015-417C-B990-595738D2936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резентация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оспитательной системы класс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160" y="2927520"/>
            <a:ext cx="42195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Классный руководитель 9 класс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МОУ Медведской ООШ Быковской Е.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465200" y="827280"/>
            <a:ext cx="528588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лагаемые моего успех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6932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ои личные качеств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инципиальнос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рганизованнос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ребовательнос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праведлив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нтерес к жизни и личности каждого воспитанни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следовательность в сочетании с широким кругозором и глубиной знан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1125000"/>
            <a:ext cx="769320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Мои профессиональные качества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ысшее педагогическое образов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нание детской и возрастной психолог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нание теоретических основ воспит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рганизаторские умения и навы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оммуникативные способ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1052280"/>
            <a:ext cx="769320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Мое назначение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аксимальное развитие каждого ребенка, сохранение его неповторимости и раскрытие в нем потенциальных способносте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88920"/>
            <a:ext cx="5923080" cy="67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Виды деятельности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гражданско-патриотическа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познавательна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художественна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трудова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портивна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онечный результат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Учащиеся должны знать и уважать народные праздники и традиции, связанные с ним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 хранить историко-духовную память своего народа, традиции защитников нашего Отечества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проявлять свою любовь и уважение в конкретных делах и поступк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Смысл моей воспитательной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12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деятельности – гуманизация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12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пространства детства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79760" y="2804040"/>
            <a:ext cx="7733160" cy="13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Спасибо за внимание!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5:46:05Z</dcterms:created>
  <dc:creator>МОУ Медведская ООШ</dc:creator>
  <dc:description/>
  <dc:language>en-US</dc:language>
  <cp:lastModifiedBy>МОУ Медведская ООШ</cp:lastModifiedBy>
  <dcterms:modified xsi:type="dcterms:W3CDTF">2010-04-21T07:34:06Z</dcterms:modified>
  <cp:revision>6</cp:revision>
  <dc:subject/>
  <dc:title>Презентация  воспитательной системы класса</dc:title>
</cp:coreProperties>
</file>