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3.png" ContentType="image/png"/>
  <Override PartName="/ppt/media/image30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2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CA5E-7539-4901-81AE-443CDD56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BFA5-4E66-46F9-8FD6-EF8314EA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7F7C-BF77-4660-8D57-0EAA20C4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B1A5-5748-4E22-BA2E-56CB0E12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308A-CBDC-49E5-9746-E1BE61A4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D453-14AE-4123-A9E9-252B38C9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E008-255D-40B5-919C-68E3A0BB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8D34-7BA9-42AD-A814-43E52F84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B8EB-6E14-4D36-8351-B8EC98D0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2542-5D37-4E03-B66F-EB07DA5F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8CBB-8807-4AF6-AF8B-59B86590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5723-273C-477E-BDC3-6E2DB636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7111-175A-4B55-B0B9-40869BFF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D5BA-C13F-4750-BC1F-475B189A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9CA4-D4BB-4A9E-BB86-7851C921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82E0-37C2-457B-8E55-E854C97B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3002-E5E7-464C-9452-78F1DFC3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88BA6-233C-4649-8C7A-4C4E19E2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EBEC5-8FEB-4C22-BD21-7035AA41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33443-9C22-415E-A2C8-D44DB913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AB2ED-CBC4-486F-AAC4-D1B6D976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06C13-6795-448D-91D1-6491912D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3423-9371-47EC-A620-40758B97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C5319-FBC2-4254-98F8-7B3A8687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FBE50-FAC1-4FFF-AB7D-66F0410E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7BF95-BC50-4B0C-87F7-B90B0FEA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76A0D-0E08-4DDF-99BA-5EE63EA0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CF707-9432-46FB-965D-24E5E0D2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AA150-83DA-4A96-8168-9C302B6D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70606-6788-4BD1-A6AC-2E307F07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15802-C5D4-43C5-A197-42FABF8D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CFB3A-1B40-4BFB-BDBD-D0A1E028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952B4-3C99-4EBE-9259-52708142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60D5-DA56-405E-A42A-5E7F0EA7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A454E-4081-4524-9264-571B2102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96C02-DE06-4E6C-AC65-A8ACE86A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EC029-96B0-41AB-8E63-DA7AF598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46A67-2D88-4FD4-AE47-0860602D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76DFF-6631-4BCC-A6D9-0D48D28A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9AA1B-3313-4B2E-BFDA-45F2FBF6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A4BC6-6E66-4D46-BE8E-147B7C27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47CC4-7882-450E-A40C-5115A8F5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EBC97-2052-4EE7-A023-BE25D61E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E1F16-3693-435B-8029-770AF6F9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43A7-01B4-41A2-87AC-23D8F8AE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B9C8B-2D11-4496-8DAD-937583AB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DC660-86D0-4422-A88A-A209E094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9D5D3-F403-47EF-AA6F-FBD41890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E14F0-5639-4617-9E61-043DD5D1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E66AF-50A7-465F-A0CE-817CC1AE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5D4D1-D8C9-4CDE-985B-337B85C1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EAF6D-2A1D-41DF-A436-AD460CCB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15E1D-596B-435F-A7D1-92A3A0DE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6F1D6-E657-42CF-91E0-AB71E556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70A09-4E5D-4D2F-AAEA-9FFF45E9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F66F-A9CF-489F-AEAB-3E99AF4B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3945E-5F8E-4AA3-903A-00EC0656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8F228-9DEE-4B60-A29D-1C644A4A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5D81B-283A-41FA-9A2A-F05703D3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5CA6D-002C-4B58-8BE7-331E4423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6A95B-3661-4DD5-8151-E4A897FE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79EE3-0359-4F70-98F5-C1DF4FAC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CA653-AAC0-4549-91F2-03F890D4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3FE8B-135C-4F84-AB78-BC564CB6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CCEAC-D4DD-498C-A617-2BC2CEF5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A07FF-EC6B-4C81-9929-54C652DD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3C0F-229E-431E-B5F7-45BE048A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B8706-0684-478D-8FEF-8C6E8E31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5A8F0-3606-4099-AB04-7559FC8D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E796D-7BEB-404A-AFDF-1B9C93BC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727E1-0AFE-42A3-BE21-1F6F7770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D7365-6B82-41D1-BCB1-F64B6AD6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CB476-1805-4061-A811-BAF5A2BC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4F64F-6586-40F8-B8B8-67F9B8CA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376B0-7FF4-42CF-8A10-EC58A24D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86DF3-9EB8-4022-B917-C2F24B60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427EA-7CE5-4F1E-A825-36E80E49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76D0-E932-4506-8E0F-1B3D2CA6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4110B-DBEE-4B20-96E6-D3C5209F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4BE07-C8F2-474A-883F-07663BFE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9BAE2-6458-4597-AC18-2F7297C0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332D9-EF50-44FA-A890-4504F080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8DB6C-C762-47C6-9D11-CF254DB9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8D83-8D8C-4E46-B834-EFD5237F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031B-6861-4B4B-BB47-E6064EE8418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a5d72"/>
              </a:gs>
              <a:gs pos="100000">
                <a:srgbClr val="85c5d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1DC6-34F1-42A2-BCF5-97D3E9349790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F253-B2BB-4407-8275-45FFDB7A515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a5d72"/>
              </a:gs>
              <a:gs pos="100000">
                <a:srgbClr val="85c5d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03DC-3E7B-4582-8549-3A934CB6726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CE3D-64AB-4AFF-8BF4-283C6A3EA82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4589-63A1-4F4B-9534-6ECA06AA5F4D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8887-BB30-4CDD-B57D-9D278AADF2CB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4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Рисунок 4" descr="ддддеееенььььь пппп.jpg"/>
          <p:cNvPicPr/>
          <p:nvPr/>
        </p:nvPicPr>
        <p:blipFill>
          <a:blip r:embed="rId1"/>
          <a:stretch/>
        </p:blipFill>
        <p:spPr>
          <a:xfrm>
            <a:off x="539640" y="189000"/>
            <a:ext cx="8045640" cy="649584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оугольник 3" descr=""/>
          <p:cNvPicPr/>
          <p:nvPr/>
        </p:nvPicPr>
        <p:blipFill>
          <a:blip r:embed="rId2"/>
          <a:stretch/>
        </p:blipFill>
        <p:spPr>
          <a:xfrm>
            <a:off x="182520" y="1268280"/>
            <a:ext cx="877248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Прямоугольник 2" descr=""/>
          <p:cNvPicPr/>
          <p:nvPr/>
        </p:nvPicPr>
        <p:blipFill>
          <a:blip r:embed="rId1"/>
          <a:stretch/>
        </p:blipFill>
        <p:spPr>
          <a:xfrm>
            <a:off x="244440" y="182520"/>
            <a:ext cx="8508960" cy="17254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POTSDAM.jpg (141522 bytes)"/>
          <p:cNvPicPr/>
          <p:nvPr/>
        </p:nvPicPr>
        <p:blipFill>
          <a:blip r:embed="rId2"/>
          <a:stretch/>
        </p:blipFill>
        <p:spPr>
          <a:xfrm>
            <a:off x="1908000" y="1916280"/>
            <a:ext cx="5824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Прямоугольник 1" descr=""/>
          <p:cNvPicPr/>
          <p:nvPr/>
        </p:nvPicPr>
        <p:blipFill>
          <a:blip r:embed="rId1"/>
          <a:stretch/>
        </p:blipFill>
        <p:spPr>
          <a:xfrm>
            <a:off x="133200" y="262080"/>
            <a:ext cx="8974440" cy="240804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2" descr="Хиросима 6.08.45г.jpg"/>
          <p:cNvPicPr/>
          <p:nvPr/>
        </p:nvPicPr>
        <p:blipFill>
          <a:blip r:embed="rId2"/>
          <a:stretch/>
        </p:blipFill>
        <p:spPr>
          <a:xfrm>
            <a:off x="826920" y="2781360"/>
            <a:ext cx="5288040" cy="3743280"/>
          </a:xfrm>
          <a:prstGeom prst="rect">
            <a:avLst/>
          </a:prstGeom>
          <a:ln w="0">
            <a:noFill/>
          </a:ln>
        </p:spPr>
      </p:pic>
      <p:sp>
        <p:nvSpPr>
          <p:cNvPr id="335" name="TextBox 3"/>
          <p:cNvSpPr/>
          <p:nvPr/>
        </p:nvSpPr>
        <p:spPr>
          <a:xfrm>
            <a:off x="6516720" y="400536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росима, 6.08.1945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Рисунок 1" descr="американские и советские моряки, празднуют победу, 10.08.45г.jpg"/>
          <p:cNvPicPr/>
          <p:nvPr/>
        </p:nvPicPr>
        <p:blipFill>
          <a:blip r:embed="rId1"/>
          <a:stretch/>
        </p:blipFill>
        <p:spPr>
          <a:xfrm>
            <a:off x="2260440" y="2133720"/>
            <a:ext cx="4680000" cy="3887640"/>
          </a:xfrm>
          <a:prstGeom prst="rect">
            <a:avLst/>
          </a:prstGeom>
          <a:ln w="0">
            <a:noFill/>
          </a:ln>
        </p:spPr>
      </p:pic>
      <p:pic>
        <p:nvPicPr>
          <p:cNvPr id="337" name="Прямоугольник 2" descr=""/>
          <p:cNvPicPr/>
          <p:nvPr/>
        </p:nvPicPr>
        <p:blipFill>
          <a:blip r:embed="rId2"/>
          <a:stretch/>
        </p:blipFill>
        <p:spPr>
          <a:xfrm>
            <a:off x="603360" y="36360"/>
            <a:ext cx="829620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Прямоугольник 1" descr=""/>
          <p:cNvPicPr/>
          <p:nvPr/>
        </p:nvPicPr>
        <p:blipFill>
          <a:blip r:embed="rId1"/>
          <a:stretch/>
        </p:blipFill>
        <p:spPr>
          <a:xfrm>
            <a:off x="4809960" y="328680"/>
            <a:ext cx="4218120" cy="413388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2" descr="император Японии Хирохито.jpg"/>
          <p:cNvPicPr/>
          <p:nvPr/>
        </p:nvPicPr>
        <p:blipFill>
          <a:blip r:embed="rId2"/>
          <a:stretch/>
        </p:blipFill>
        <p:spPr>
          <a:xfrm>
            <a:off x="250920" y="981000"/>
            <a:ext cx="4413240" cy="5112000"/>
          </a:xfrm>
          <a:prstGeom prst="rect">
            <a:avLst/>
          </a:prstGeom>
          <a:ln w="0">
            <a:noFill/>
          </a:ln>
        </p:spPr>
      </p:pic>
      <p:sp>
        <p:nvSpPr>
          <p:cNvPr id="340" name="TextBox 3"/>
          <p:cNvSpPr/>
          <p:nvPr/>
        </p:nvSpPr>
        <p:spPr>
          <a:xfrm>
            <a:off x="5003640" y="5300640"/>
            <a:ext cx="32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мператор Японии Хироси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Прямоугольник 1" descr=""/>
          <p:cNvPicPr/>
          <p:nvPr/>
        </p:nvPicPr>
        <p:blipFill>
          <a:blip r:embed="rId1"/>
          <a:stretch/>
        </p:blipFill>
        <p:spPr>
          <a:xfrm>
            <a:off x="5370480" y="1865160"/>
            <a:ext cx="3713040" cy="367056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2" descr="открытие церемонии капитуляции Японии на борту линкора Миссури.jpg"/>
          <p:cNvPicPr/>
          <p:nvPr/>
        </p:nvPicPr>
        <p:blipFill>
          <a:blip r:embed="rId2"/>
          <a:stretch/>
        </p:blipFill>
        <p:spPr>
          <a:xfrm>
            <a:off x="325440" y="1484280"/>
            <a:ext cx="4843440" cy="4248360"/>
          </a:xfrm>
          <a:prstGeom prst="rect">
            <a:avLst/>
          </a:prstGeom>
          <a:ln w="0">
            <a:noFill/>
          </a:ln>
        </p:spPr>
      </p:pic>
      <p:sp>
        <p:nvSpPr>
          <p:cNvPr id="343" name="TextBox 3"/>
          <p:cNvSpPr/>
          <p:nvPr/>
        </p:nvSpPr>
        <p:spPr>
          <a:xfrm>
            <a:off x="611280" y="602136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крытие церемонии капитуля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Прямоугольник 4" descr=""/>
          <p:cNvPicPr/>
          <p:nvPr/>
        </p:nvPicPr>
        <p:blipFill>
          <a:blip r:embed="rId3"/>
          <a:stretch/>
        </p:blipFill>
        <p:spPr>
          <a:xfrm>
            <a:off x="907920" y="139680"/>
            <a:ext cx="754092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Прямоугольник 1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8515440" cy="302256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3" descr="евреи-узники концлагеря.png"/>
          <p:cNvPicPr/>
          <p:nvPr/>
        </p:nvPicPr>
        <p:blipFill>
          <a:blip r:embed="rId2"/>
          <a:srcRect l="50951" t="0" r="0" b="67462"/>
          <a:stretch/>
        </p:blipFill>
        <p:spPr>
          <a:xfrm>
            <a:off x="5148360" y="3357720"/>
            <a:ext cx="3747960" cy="3162240"/>
          </a:xfrm>
          <a:prstGeom prst="rect">
            <a:avLst/>
          </a:prstGeom>
          <a:ln w="0">
            <a:noFill/>
          </a:ln>
        </p:spPr>
      </p:pic>
      <p:pic>
        <p:nvPicPr>
          <p:cNvPr id="305" name="Прямоугольник 4" descr=""/>
          <p:cNvPicPr/>
          <p:nvPr/>
        </p:nvPicPr>
        <p:blipFill>
          <a:blip r:embed="rId3"/>
          <a:stretch/>
        </p:blipFill>
        <p:spPr>
          <a:xfrm>
            <a:off x="201600" y="3346560"/>
            <a:ext cx="42609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Прямоугольник 1" descr=""/>
          <p:cNvPicPr/>
          <p:nvPr/>
        </p:nvPicPr>
        <p:blipFill>
          <a:blip r:embed="rId1"/>
          <a:stretch/>
        </p:blipFill>
        <p:spPr>
          <a:xfrm>
            <a:off x="115920" y="-49320"/>
            <a:ext cx="9077400" cy="2554560"/>
          </a:xfrm>
          <a:prstGeom prst="rect">
            <a:avLst/>
          </a:prstGeom>
          <a:ln w="0">
            <a:noFill/>
          </a:ln>
        </p:spPr>
      </p:pic>
      <p:pic>
        <p:nvPicPr>
          <p:cNvPr id="307" name="Прямоугольник 3" descr=""/>
          <p:cNvPicPr/>
          <p:nvPr/>
        </p:nvPicPr>
        <p:blipFill>
          <a:blip r:embed="rId2"/>
          <a:stretch/>
        </p:blipFill>
        <p:spPr>
          <a:xfrm>
            <a:off x="-231840" y="2846520"/>
            <a:ext cx="4230720" cy="2877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C:\Documents and Settings\Admin\Рабочий стол\урок знаний\Вторая мировая война — Википедия_files\200px-Polish_infantry.jpg"/>
          <p:cNvPicPr/>
          <p:nvPr/>
        </p:nvPicPr>
        <p:blipFill>
          <a:blip r:embed="rId3"/>
          <a:stretch/>
        </p:blipFill>
        <p:spPr>
          <a:xfrm>
            <a:off x="3789360" y="2205000"/>
            <a:ext cx="4976640" cy="338472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 5"/>
          <p:cNvSpPr/>
          <p:nvPr/>
        </p:nvSpPr>
        <p:spPr>
          <a:xfrm>
            <a:off x="4500720" y="5950080"/>
            <a:ext cx="39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льские солдаты в ходе боёв за Польшу. Сентябрь 193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Прямоугольник 1" descr=""/>
          <p:cNvPicPr/>
          <p:nvPr/>
        </p:nvPicPr>
        <p:blipFill>
          <a:blip r:embed="rId1"/>
          <a:stretch/>
        </p:blipFill>
        <p:spPr>
          <a:xfrm>
            <a:off x="244440" y="165240"/>
            <a:ext cx="8435880" cy="13824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C:\Documents and Settings\Admin\Рабочий стол\урок знаний\Вторая мировая война — Википедия_files\250px-HMS_Warspite%2C_Norway_1940.jpg"/>
          <p:cNvPicPr/>
          <p:nvPr/>
        </p:nvPicPr>
        <p:blipFill>
          <a:blip r:embed="rId2"/>
          <a:stretch/>
        </p:blipFill>
        <p:spPr>
          <a:xfrm>
            <a:off x="1692360" y="1700280"/>
            <a:ext cx="5748120" cy="393372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3"/>
          <p:cNvSpPr/>
          <p:nvPr/>
        </p:nvSpPr>
        <p:spPr>
          <a:xfrm>
            <a:off x="2124000" y="5805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рское сражение возле норвежского побереж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Прямоугольник 1" descr=""/>
          <p:cNvPicPr/>
          <p:nvPr/>
        </p:nvPicPr>
        <p:blipFill>
          <a:blip r:embed="rId1"/>
          <a:stretch/>
        </p:blipFill>
        <p:spPr>
          <a:xfrm>
            <a:off x="603360" y="255600"/>
            <a:ext cx="8186760" cy="12384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C:\Documents and Settings\Admin\Рабочий стол\урок знаний\Вторая мировая война — Википедия_files\250px-Rotterdam.jpg"/>
          <p:cNvPicPr/>
          <p:nvPr/>
        </p:nvPicPr>
        <p:blipFill>
          <a:blip r:embed="rId2"/>
          <a:stretch/>
        </p:blipFill>
        <p:spPr>
          <a:xfrm>
            <a:off x="3564000" y="1700280"/>
            <a:ext cx="5143320" cy="388944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3"/>
          <p:cNvSpPr/>
          <p:nvPr/>
        </p:nvSpPr>
        <p:spPr>
          <a:xfrm>
            <a:off x="250920" y="1773360"/>
            <a:ext cx="3168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итлер уже после подписания акта о капитуляции приказал подвергнуть массированным бомбардировкам Роттерд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4"/>
          <p:cNvSpPr/>
          <p:nvPr/>
        </p:nvSpPr>
        <p:spPr>
          <a:xfrm>
            <a:off x="3851280" y="5805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нтр Роттердама после немецких бомбардиров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GK_10_011d.wav" descr=""/>
          <p:cNvPicPr/>
          <p:nvPr/>
        </p:nvPicPr>
        <p:blipFill>
          <a:blip r:embed="rId1"/>
          <a:stretch/>
        </p:blipFill>
        <p:spPr>
          <a:xfrm>
            <a:off x="39528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8" name="Прямоугольник 2" descr=""/>
          <p:cNvPicPr/>
          <p:nvPr/>
        </p:nvPicPr>
        <p:blipFill>
          <a:blip r:embed="rId2"/>
          <a:stretch/>
        </p:blipFill>
        <p:spPr>
          <a:xfrm>
            <a:off x="390600" y="237960"/>
            <a:ext cx="8362800" cy="189576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3" descr="атака на Перл Харбор.jpg"/>
          <p:cNvPicPr/>
          <p:nvPr/>
        </p:nvPicPr>
        <p:blipFill>
          <a:blip r:embed="rId3"/>
          <a:stretch/>
        </p:blipFill>
        <p:spPr>
          <a:xfrm>
            <a:off x="1979640" y="1989000"/>
            <a:ext cx="5400720" cy="429264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4" descr="атомная бомбардировка Нагасаки.png"/>
          <p:cNvPicPr/>
          <p:nvPr/>
        </p:nvPicPr>
        <p:blipFill>
          <a:blip r:embed="rId4"/>
          <a:srcRect l="0" t="33290" r="52368" b="35147"/>
          <a:stretch/>
        </p:blipFill>
        <p:spPr>
          <a:xfrm>
            <a:off x="1908000" y="1773360"/>
            <a:ext cx="5572440" cy="469872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5" descr="день побеед.jpeg"/>
          <p:cNvPicPr/>
          <p:nvPr/>
        </p:nvPicPr>
        <p:blipFill>
          <a:blip r:embed="rId5"/>
          <a:stretch/>
        </p:blipFill>
        <p:spPr>
          <a:xfrm>
            <a:off x="3276720" y="1773360"/>
            <a:ext cx="3024000" cy="4627440"/>
          </a:xfrm>
          <a:prstGeom prst="rect">
            <a:avLst/>
          </a:prstGeom>
          <a:ln w="57240">
            <a:solidFill>
              <a:srgbClr val="27130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3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Прямоугольник 1" descr=""/>
          <p:cNvPicPr/>
          <p:nvPr/>
        </p:nvPicPr>
        <p:blipFill>
          <a:blip r:embed="rId1"/>
          <a:stretch/>
        </p:blipFill>
        <p:spPr>
          <a:xfrm>
            <a:off x="92160" y="133200"/>
            <a:ext cx="5254560" cy="2378160"/>
          </a:xfrm>
          <a:prstGeom prst="rect">
            <a:avLst/>
          </a:prstGeom>
          <a:ln w="0">
            <a:noFill/>
          </a:ln>
        </p:spPr>
      </p:pic>
      <p:pic>
        <p:nvPicPr>
          <p:cNvPr id="323" name="Прямоугольник 2" descr=""/>
          <p:cNvPicPr/>
          <p:nvPr/>
        </p:nvPicPr>
        <p:blipFill>
          <a:blip r:embed="rId2"/>
          <a:stretch/>
        </p:blipFill>
        <p:spPr>
          <a:xfrm>
            <a:off x="109440" y="3243240"/>
            <a:ext cx="8516880" cy="36212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http://www.sakhalin.ru/Region/WORLDWAR2/images/yalta.jpg"/>
          <p:cNvPicPr/>
          <p:nvPr/>
        </p:nvPicPr>
        <p:blipFill>
          <a:blip r:embed="rId3"/>
          <a:stretch/>
        </p:blipFill>
        <p:spPr>
          <a:xfrm>
            <a:off x="5219640" y="620640"/>
            <a:ext cx="3710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Прямоугольник 1" descr=""/>
          <p:cNvPicPr/>
          <p:nvPr/>
        </p:nvPicPr>
        <p:blipFill>
          <a:blip r:embed="rId1"/>
          <a:stretch/>
        </p:blipFill>
        <p:spPr>
          <a:xfrm>
            <a:off x="390600" y="328680"/>
            <a:ext cx="8508960" cy="172548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2"/>
          <p:cNvSpPr/>
          <p:nvPr/>
        </p:nvSpPr>
        <p:spPr>
          <a:xfrm>
            <a:off x="755640" y="310500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1.   Поддерживать мирные и дружественные отнош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Прямоугольник 3"/>
          <p:cNvSpPr/>
          <p:nvPr/>
        </p:nvSpPr>
        <p:spPr>
          <a:xfrm>
            <a:off x="684360" y="458136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2.    В случае, если одна из сторон окажется объектом военных действий, другая сторона будет соблюдать нейтралит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Прямоугольник 1"/>
          <p:cNvSpPr/>
          <p:nvPr/>
        </p:nvSpPr>
        <p:spPr>
          <a:xfrm>
            <a:off x="250920" y="1700280"/>
            <a:ext cx="280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прель-май 1945 г. Советские вооруженные силы разгромили в Берлинской и Пражской операциях последние группировки немецко-фашистских войс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Прямоугольник 3"/>
          <p:cNvSpPr/>
          <p:nvPr/>
        </p:nvSpPr>
        <p:spPr>
          <a:xfrm>
            <a:off x="826920" y="333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йна в Европе окончилась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Рисунок 4" descr="ддддеееенььььь пппп.jpg"/>
          <p:cNvPicPr/>
          <p:nvPr/>
        </p:nvPicPr>
        <p:blipFill>
          <a:blip r:embed="rId1"/>
          <a:stretch/>
        </p:blipFill>
        <p:spPr>
          <a:xfrm>
            <a:off x="3348000" y="1628640"/>
            <a:ext cx="5438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02:39:28Z</dcterms:created>
  <dc:creator>Рагулина СА</dc:creator>
  <dc:description/>
  <dc:language>en-US</dc:language>
  <cp:lastModifiedBy>1</cp:lastModifiedBy>
  <dcterms:modified xsi:type="dcterms:W3CDTF">2010-08-31T01:09:51Z</dcterms:modified>
  <cp:revision>20</cp:revision>
  <dc:subject/>
  <dc:title>Слайд 1</dc:title>
</cp:coreProperties>
</file>