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9C9-04CE-46A0-989A-4BA79495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FD2-2CE5-4D07-81E7-E6A72B1D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58B-DEA3-4429-BD48-2901BC06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7EE-60E0-4FD5-AD29-4E40E6E6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47C1-A83C-441C-95C7-10CAD7FE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27FB-62D1-4614-8C16-0C211E94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4604-5E6D-42FC-B8A0-5B2A4199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0519-A68D-439A-B502-B584F7A1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2414-7978-456F-82F7-78566698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B2C9-0579-4938-9533-0E9DF3C1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1013-F814-4759-A88F-440DA11E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3C6-DC83-4A78-9CD6-2490021A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CF90-E501-4517-9349-A4E4AEB3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63B1-2116-4FCD-A0ED-B4B97A54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EC77-BFE5-4061-A723-646C0B94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980A-1BD8-48E7-873A-F21A373C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01DC-2296-466E-B5DC-E4736DA0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8C2-F80D-4F66-B8D2-49F0C546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A69-53C4-4382-BC66-0A19DA6F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5BB-F214-4101-899A-1F772AE5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3BB-A339-4382-9C08-A18ABD2B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768-D037-4006-B115-7BC18D59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437-7846-4727-9EA3-944A3C9F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3C3-697D-4229-85B4-2773FB07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EC62-6AFC-4F33-B37A-71C2130F6F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34BF-AAE9-4E59-A18C-DA4462E1BC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663300"/>
                </a:solidFill>
                <a:latin typeface="Times New Roman"/>
              </a:rPr>
              <a:t>Анализ</a:t>
            </a:r>
            <a:br>
              <a:rPr sz="5400"/>
            </a:br>
            <a:r>
              <a:rPr b="0" i="1" lang="ru-RU" sz="5400" spc="-1" strike="noStrike">
                <a:solidFill>
                  <a:srgbClr val="663300"/>
                </a:solidFill>
                <a:latin typeface="Times New Roman"/>
              </a:rPr>
              <a:t> методической работы </a:t>
            </a:r>
            <a:br>
              <a:rPr sz="5400"/>
            </a:br>
            <a:r>
              <a:rPr b="0" i="1" lang="ru-RU" sz="5400" spc="-1" strike="noStrike">
                <a:solidFill>
                  <a:srgbClr val="663300"/>
                </a:solidFill>
                <a:latin typeface="Times New Roman"/>
              </a:rPr>
              <a:t>творческой группы </a:t>
            </a:r>
            <a:br>
              <a:rPr sz="5400"/>
            </a:br>
            <a:r>
              <a:rPr b="0" i="1" lang="ru-RU" sz="5400" spc="-1" strike="noStrike">
                <a:solidFill>
                  <a:srgbClr val="663300"/>
                </a:solidFill>
                <a:latin typeface="Times New Roman"/>
              </a:rPr>
              <a:t>по обществоведческим дисциплина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5428800"/>
            <a:ext cx="734364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ководитель группы Титова Е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зультативность по итогам года и итоговой аттест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00040" y="2786040"/>
          <a:ext cx="7958160" cy="3591000"/>
        </p:xfrm>
        <a:graphic>
          <a:graphicData uri="http://schemas.openxmlformats.org/drawingml/2006/table">
            <a:tbl>
              <a:tblPr/>
              <a:tblGrid>
                <a:gridCol w="2652840"/>
                <a:gridCol w="2652480"/>
                <a:gridCol w="265284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18720">
                      <a:solidFill>
                        <a:srgbClr val="ffffee"/>
                      </a:solidFill>
                    </a:lnB>
                    <a:solidFill>
                      <a:srgbClr val="9cb3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енная успева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18720">
                      <a:solidFill>
                        <a:srgbClr val="ffffee"/>
                      </a:solidFill>
                    </a:lnB>
                    <a:solidFill>
                      <a:srgbClr val="9cb3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енная успеваемость итоговой аттес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18720">
                      <a:solidFill>
                        <a:srgbClr val="ffffee"/>
                      </a:solidFill>
                    </a:lnB>
                    <a:solidFill>
                      <a:srgbClr val="9cb3d8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икова М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1872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dee5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1872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dee5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1872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dee5f0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това Е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ef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ef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eff2f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тлованов В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dee5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dee5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dee5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нее применять новые педагогические технологии в образовательном процесс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ть деятельностный подход в преподавании предметов географии, биологии и обществозн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ить проектную деятельность  с учащимися, воспитывая ответственность, патриотизм и экологическую грамотнос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ть в работе МО рекомендации и решения педагогических сове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одическая тем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овые технолог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обучении и воспитан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 уроках с учёт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ичностно-ориетированного обучения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МО в 2008-2009 уч. году была направлена на выполнение поставленных задач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иск новых форм урочной и внеклассн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влечение учащихся в исследовательскую деятель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ИКТ на уро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стие в краеведческих конференциях, экологических конкурсах и викторинах, в олимпиад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над темами само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посещение уро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по оснащению дидактическими материалами, их систематизац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мы сам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корикова М.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Новые технологии в обучении и воспитании на уроках биолог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итова Е.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Использование новых технологий в преподавании географ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тлованов В.П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Использование краеведческого материала в изучении регионального компонента в преподавании истор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астие учителей М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общешкольных, районных, областных мероприятиях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150012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корикова М.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тупление  на РМО по теме «Использование ИКТ на уроке биологии», на конференции «Использование и возможности электронного микроскоп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йонный  экологический конкурс «Тропин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Благоустройство и озеленение  школьной территории» - районный конкур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това Е.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тупление  на РМО по теме  «Роль кабинета географии  в преподавании»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Благоустройство и озеленение  школьной территории»- районный конкур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тлованов В.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тупление  на МО по теме самообра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жи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пагандировать достижения науки, привлекать учащихся к активному участию в конкурсах, викторинах, олимпиадах, используя  Интернет-ресурс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роприятия учителей МО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това ЕГ –в рамках предметной недели «Географическое лото» (7кл), акция «Экология и здоровь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икова МА - в рамках предметной недели «Быть здоровым –это здорово»(5,6,7кл), «Международный день Земли» (5-11к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лованов ВП – месячник по военно-патриотическому воспитанию по утверждённому план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частие учащих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ждународные олимпиа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бществознанию – вышли в 3 тур Джадова Эллада и Чернова Валерия (7к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йонные олимпиа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праву – Котлованова Татьяна – 2 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бществознанию – Ларина Ольга – 2 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вышение квалификации, педагогического мастер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C:\Documents and Settings\Учитель\Рабочий стол\вкнук.jpg"/>
          <p:cNvPicPr/>
          <p:nvPr/>
        </p:nvPicPr>
        <p:blipFill>
          <a:blip r:embed="rId1"/>
          <a:stretch/>
        </p:blipFill>
        <p:spPr>
          <a:xfrm rot="4909200">
            <a:off x="2857680" y="2916360"/>
            <a:ext cx="4473360" cy="3070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Documents and Settings\Учитель\Рабочий стол\аппрар.jpg"/>
          <p:cNvPicPr/>
          <p:nvPr/>
        </p:nvPicPr>
        <p:blipFill>
          <a:blip r:embed="rId2"/>
          <a:stretch/>
        </p:blipFill>
        <p:spPr>
          <a:xfrm rot="1332000">
            <a:off x="3970440" y="772920"/>
            <a:ext cx="4730760" cy="3271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Documents and Settings\Учитель\Рабочий стол\олгр.jpg"/>
          <p:cNvPicPr/>
          <p:nvPr/>
        </p:nvPicPr>
        <p:blipFill>
          <a:blip r:embed="rId3"/>
          <a:stretch/>
        </p:blipFill>
        <p:spPr>
          <a:xfrm rot="4779000">
            <a:off x="1025280" y="1346040"/>
            <a:ext cx="33354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вторские учебно-методические разработ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това ЕГ –по теме «Урал» (9), «Природа Челябинской области»(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икова МА – «Значение млекопитающих»(7), «Где живут организмы?»(5), « Происхождение человека»(11), «Экологические кризисы на Южном Урале»(9,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8:35:18Z</dcterms:created>
  <dc:creator>Емелина</dc:creator>
  <dc:description/>
  <cp:keywords/>
  <dc:language>en-US</dc:language>
  <cp:lastModifiedBy>SAMSUNG</cp:lastModifiedBy>
  <dcterms:modified xsi:type="dcterms:W3CDTF">2011-12-03T17:30:40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49</vt:lpwstr>
  </property>
</Properties>
</file>