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69C-7E10-4ECA-8902-C1B12ED5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2D4-E010-4084-8AFA-BC5C4391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D9E-3005-4F63-BBD9-E538AE48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DDC-2471-433D-9F66-81454250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6101-9CA3-47BE-8E8F-8CFDEFDB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4C8E-0D81-46BB-9EF5-029992B4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7261-A2F2-48C1-A2FB-B2D3BBA3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1B4B-68FD-44C6-9E8D-93CA59A7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0E25-90A9-4967-8DED-7A948C1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1E45-CD78-449F-8D51-65962317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2DC-6CE5-4801-887C-9C4DE38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923-E555-4DE2-B997-A98E7DA6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9B8-1F9E-4DC0-A5E5-F28ACA9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0175-E3D0-4BA0-B8DA-78FDC2D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984A-E9DF-4FBC-8D29-E44EF68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D8E-FDD8-4F4F-BE2D-86336643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C657-B3B4-48CD-8EC7-A72FF99F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0E3-3EAE-4FAC-B8B9-C781730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711-9AB0-4F77-9AE5-B912BEC2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182-E27B-451B-B383-55915E9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620-D448-4B47-A55C-303330BF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C4E-6405-4266-83E3-F82575F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387-937D-4D39-951C-61C4313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20B-9C0A-41C4-94D3-5E822E96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894D-5DC6-471C-A1E0-D951952B81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30D-F6E0-4591-8AB7-5C596C3AC4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Анализ</a:t>
            </a:r>
            <a:br>
              <a:rPr sz="5400"/>
            </a:b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 методической работы </a:t>
            </a:r>
            <a:br>
              <a:rPr sz="5400"/>
            </a:b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творческой группы </a:t>
            </a:r>
            <a:br>
              <a:rPr sz="5400"/>
            </a:br>
            <a:r>
              <a:rPr b="0" i="1" lang="ru-RU" sz="5400" spc="-1" strike="noStrike">
                <a:solidFill>
                  <a:srgbClr val="663300"/>
                </a:solidFill>
                <a:latin typeface="Times New Roman"/>
              </a:rPr>
              <a:t>по обществоведческим дисциплина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5428800"/>
            <a:ext cx="734364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ководитель группы Титова Е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зультативность по итогам года и итоговой аттес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0040" y="2786040"/>
          <a:ext cx="7958160" cy="3591000"/>
        </p:xfrm>
        <a:graphic>
          <a:graphicData uri="http://schemas.openxmlformats.org/drawingml/2006/table">
            <a:tbl>
              <a:tblPr/>
              <a:tblGrid>
                <a:gridCol w="2652840"/>
                <a:gridCol w="2652480"/>
                <a:gridCol w="265284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18720">
                      <a:solidFill>
                        <a:srgbClr val="ffffee"/>
                      </a:solidFill>
                    </a:lnB>
                    <a:solidFill>
                      <a:srgbClr val="9cb3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ая успев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18720">
                      <a:solidFill>
                        <a:srgbClr val="ffffee"/>
                      </a:solidFill>
                    </a:lnB>
                    <a:solidFill>
                      <a:srgbClr val="9cb3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ая успеваемость итоговой аттес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18720">
                      <a:solidFill>
                        <a:srgbClr val="ffffee"/>
                      </a:solidFill>
                    </a:lnB>
                    <a:solidFill>
                      <a:srgbClr val="9cb3d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икова М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1872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1872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1872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това Е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ef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eff2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eff2f8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лованов В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solidFill>
                      <a:srgbClr val="dee5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ее применять новые педагогические технологии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деятельностный подход в преподавании предметов географии, биологии и обществозн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ить проектную деятельность  с учащимися, воспитывая ответственность, патриотизм и экологическую грамотн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в работе МО рекомендации и решения педагогических сове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одическая те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вые технолог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обучении и воспитан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 уроках с учёт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чностно-ориетированного обучени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МО в 2008-2009 уч. году была направлена на выполнение поставленных задач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иск новых форм урочной и внекласс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влечение учащихся в исследовательскую деятель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ИКТ на уро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стие в краеведческих конференциях, экологических конкурсах и викторинах, в олимпиад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над темами само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посещение уро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по оснащению дидактическими материалами, их систематиза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мы сам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орикова М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овые технологии в обучении и воспитании на уроках биолог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итова Е.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спользование новых технологий в преподавании географ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тлованов В.П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спользование краеведческого материала в изучении регионального компонента в преподавании истор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астие учителей 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общешкольных, районных, областных мероприятия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150012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орикова М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упление  на РМО по теме «Использование ИКТ на уроке биологии», на конференции «Использование и возможности электронного микроскоп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йонный  экологический конкурс «Тропин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Благоустройство и озеленение  школьной территории» - районный конкур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това Е.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упление  на РМО по теме  «Роль кабинета географии  в преподавании»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Благоустройство и озеленение  школьной территории»- районный конкур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тлованов В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упление  на МО по теме само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пагандировать достижения науки, привлекать учащихся к активному участию в конкурсах, викторинах, олимпиадах, используя  Интернет-ресурс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роприятия учителей МО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това ЕГ –в рамках предметной недели «Географическое лото» (7кл), акция «Экология и здоровь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икова МА - в рамках предметной недели «Быть здоровым –это здорово»(5,6,7кл), «Международный день Земли» (5-11к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лованов ВП – месячник по военно-патриотическому воспитанию по утверждённому пла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частие учащих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ые олимпиа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бществознанию – вышли в 3 тур Джадова Эллада и Чернова Валерия (7к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йонные олимпиа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раву – Котлованова Татьяна – 2 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бществознанию – Ларина Ольга – 2 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вышение квалификации, педагогического мастер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C:\Documents and Settings\Учитель\Рабочий стол\вкнук.jpg"/>
          <p:cNvPicPr/>
          <p:nvPr/>
        </p:nvPicPr>
        <p:blipFill>
          <a:blip r:embed="rId1"/>
          <a:stretch/>
        </p:blipFill>
        <p:spPr>
          <a:xfrm rot="4909200">
            <a:off x="2857680" y="2916360"/>
            <a:ext cx="4473360" cy="307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Documents and Settings\Учитель\Рабочий стол\аппрар.jpg"/>
          <p:cNvPicPr/>
          <p:nvPr/>
        </p:nvPicPr>
        <p:blipFill>
          <a:blip r:embed="rId2"/>
          <a:stretch/>
        </p:blipFill>
        <p:spPr>
          <a:xfrm rot="1332000">
            <a:off x="3970440" y="772920"/>
            <a:ext cx="4730760" cy="3271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Учитель\Рабочий стол\олгр.jpg"/>
          <p:cNvPicPr/>
          <p:nvPr/>
        </p:nvPicPr>
        <p:blipFill>
          <a:blip r:embed="rId3"/>
          <a:stretch/>
        </p:blipFill>
        <p:spPr>
          <a:xfrm rot="4779000">
            <a:off x="1025280" y="1346040"/>
            <a:ext cx="3335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вторские учебно-методические разработ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това ЕГ –по теме «Урал» (9), «Природа Челябинской области»(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икова МА – «Значение млекопитающих»(7), «Где живут организмы?»(5), « Происхождение человека»(11), «Экологические кризисы на Южном Урале»(9,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8:35:18Z</dcterms:created>
  <dc:creator>Емелина</dc:creator>
  <dc:description/>
  <cp:keywords/>
  <dc:language>en-US</dc:language>
  <cp:lastModifiedBy>SAMSUNG</cp:lastModifiedBy>
  <dcterms:modified xsi:type="dcterms:W3CDTF">2011-12-03T17:30:40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