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jpeg" ContentType="image/jpeg"/>
  <Override PartName="/ppt/media/image24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870-EC49-4752-A648-BFB326EA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0CD-A0F7-4AA9-AC5E-BE87AF10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B81-CAEA-4667-AE02-1B6EC94C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38C-B9F0-4D12-B85A-ABA47A88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A25E-9E07-45AF-8EF7-617E7BEB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7C0D-A690-4C52-A533-B4450A1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27E1-327D-41FD-8AC2-A35A812D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A95D-7A71-4BAE-897A-17F704AF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3864-B89B-4CCC-865B-39CE13DB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CE84-8A3E-4556-8FE6-3CE777E7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7D3A-3BB1-4595-BFBE-12D81FA2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1E8-D1C8-44BE-9D91-35EF38A5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7640-8057-4868-A071-D44C7FF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B430-FD27-4F75-B94C-BB16EBA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023C-ED3A-46F8-82FB-72A8CA96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EFF-5CA5-458F-8610-4ECB9AA0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8174-3717-4C74-A59E-CFF228C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A4FD-D5B9-44B0-BD9E-100308E6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7865-491B-4C34-95EF-0C14527E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BF95-30FF-4B5C-BE45-62DE22D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34E1-F98E-4C41-AD5E-2223747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CCAD-832F-44A1-B9DC-80BB8F3D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047-51C5-4A41-85D3-C16A6862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05A0-A00D-4CC3-86E7-64A216D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E95D-B0EB-462E-BC4C-F186CDB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5FE0-E5AF-4B34-9D94-8F892067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6F51-168C-4741-A0B2-2FC88FF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578E-6203-4355-AA6E-EBB66B0A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1100-7350-4F6A-93CB-960CB23E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9A80-0533-4DBD-A689-A9A26863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459C-09DD-41F4-A4FD-F9BA5A99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896A-C506-4DE5-A771-21EEDA8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10C4-2521-4B87-9259-F6CCBC4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52D-AF4D-445C-B771-585D08C9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4226-429B-4113-93D9-AF09C49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2C2B-E151-4E54-B427-E326EA3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F637D-60BE-4F05-BEBA-F71518E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76CF-3D41-4036-8534-482DB7B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25808-7336-4B16-A5CA-77EAE5D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5191-AEE0-4625-BCB2-B6B1653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D926-CFE7-4BEB-B2A8-6C1DB80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0586A-602D-467A-AA01-DF8D0B57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1B37-7C4D-490F-A43D-2058E9C9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D83F-61B3-4A1C-91EC-C0BADAED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602-1B99-4BCA-9C57-BF78AF4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E0E4-BE76-48A0-984B-75B3760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A547-2878-41C8-B6CD-9FAF38E5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42EA-3DC3-4ABC-A98C-26CD14FD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2C16-4E51-473A-ACD4-7B9E2A9C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ED7FE-9E86-49A9-9A0D-EE146517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BDB21-528B-4AC2-806D-47E7CEE1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81305-852C-4785-B6CA-1F3C9D39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10BA-5263-4C7D-8DC1-51B4BB0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2A11-4C1A-45F7-BB98-C9731FB3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E4FC-B28B-4AEA-9046-92EC0255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1E4-2F9F-4ECF-9E65-FBD61CD9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3147-FB11-445E-82F9-36C5F4C3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A02-C6FA-4732-BA3E-56DD7C8A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295-9530-4BD7-8242-22E96B3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647-3F6A-482C-977B-9FA1CFB3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9B5-9FF3-4648-87FD-79616615C46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5D69-4FD1-4F7D-9896-8F226F5299D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72C-315F-4468-894C-97597F7EF86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250-E59A-43E1-BCFA-68D9D28E1CE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6A6C-15BE-4D40-8EA9-5D84B6A43EE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40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281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внеклассного мероприят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ungsuh"/>
                <a:ea typeface="Gungsuh"/>
              </a:rPr>
              <a:t>«Физическая лихорадка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ungsuh"/>
                <a:ea typeface="Gungsuh"/>
              </a:rPr>
              <a:t>Преподаватель физики:</a:t>
            </a:r>
            <a:r>
              <a:rPr b="0" lang="en-US" sz="1800" spc="-1" strike="noStrike">
                <a:solidFill>
                  <a:srgbClr val="ffffff"/>
                </a:solidFill>
                <a:latin typeface="Gungsuh"/>
                <a:ea typeface="Gungsuh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ungsuh"/>
                <a:ea typeface="Gungsuh"/>
              </a:rPr>
              <a:t>Коваленко Маргарита Юрьев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ungsuh"/>
                <a:ea typeface="Gungsuh"/>
              </a:rPr>
              <a:t>ГБОУ НПО ПУ № 80 г. Электростал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4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a3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:\Слушатель Коваленко М.Ю. курс 278\Презентация  Коваленко М.Ю гр.278\игра\Фото0033.jpg"/>
          <p:cNvPicPr/>
          <p:nvPr/>
        </p:nvPicPr>
        <p:blipFill>
          <a:blip r:embed="rId3"/>
          <a:stretch/>
        </p:blipFill>
        <p:spPr>
          <a:xfrm>
            <a:off x="1409760" y="2276640"/>
            <a:ext cx="5470560" cy="40845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f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H:\Слушатель Коваленко М.Ю. курс 278\Презентация  Коваленко М.Ю гр.278\игра\Фото0035.jpg"/>
          <p:cNvPicPr/>
          <p:nvPr/>
        </p:nvPicPr>
        <p:blipFill>
          <a:blip r:embed="rId1"/>
          <a:stretch/>
        </p:blipFill>
        <p:spPr>
          <a:xfrm>
            <a:off x="1225440" y="1628640"/>
            <a:ext cx="5592960" cy="41767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9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:\Слушатель Коваленко М.Ю. курс 278\Презентация  Коваленко М.Ю гр.278\игра\Фото0041.jpg"/>
          <p:cNvPicPr/>
          <p:nvPr/>
        </p:nvPicPr>
        <p:blipFill>
          <a:blip r:embed="rId3"/>
          <a:stretch/>
        </p:blipFill>
        <p:spPr>
          <a:xfrm>
            <a:off x="1076400" y="2101680"/>
            <a:ext cx="5440320" cy="40611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8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:\Слушатель Коваленко М.Ю. курс 278\Презентация  Коваленко М.Ю гр.278\игра\Фото0027.jpg"/>
          <p:cNvPicPr/>
          <p:nvPr/>
        </p:nvPicPr>
        <p:blipFill>
          <a:blip r:embed="rId3"/>
          <a:stretch/>
        </p:blipFill>
        <p:spPr>
          <a:xfrm>
            <a:off x="1547640" y="1665360"/>
            <a:ext cx="4608720" cy="39085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8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28400" y="2214360"/>
            <a:ext cx="6810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ение победителей по количеству балл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ведение итога мероприят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граждение победител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f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3" descr=""/>
          <p:cNvPicPr/>
          <p:nvPr/>
        </p:nvPicPr>
        <p:blipFill>
          <a:blip r:embed="rId1"/>
          <a:stretch/>
        </p:blipFill>
        <p:spPr>
          <a:xfrm>
            <a:off x="212760" y="133200"/>
            <a:ext cx="7462800" cy="1695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68360" y="1988640"/>
            <a:ext cx="3519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идактическая иг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Физическая лихорадка» проводится после изучения темы «Законы постоянного тока» раздела «Электродинамика» для учащихся НПО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курс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гра подходит для учащихся любого уровня подготовки. Используются задания разн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211280" y="1988640"/>
            <a:ext cx="352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астниками игры могут быть все желающие. Создаются две команды из числа присутствующих. Команда - победитель определяется по сумме набранных балл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ля успешного проведения игры необходимо поддерживать положительный эмоциональный фон, демократический стиль общения между участника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f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9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725472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56760" y="2214720"/>
            <a:ext cx="3521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Формирование и развитие интереса к предмету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витие умений решения расчетных и качественных задач по тем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28720" y="3643200"/>
            <a:ext cx="3521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ширение кругозор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ащихся по теме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здание ситуации успеха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a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4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Я мыслю, следовательно, я существую» Рено Декар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стыдно  не знать, стыдно не учиться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усская пословиц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4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88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3" descr=""/>
          <p:cNvPicPr/>
          <p:nvPr/>
        </p:nvPicPr>
        <p:blipFill>
          <a:blip r:embed="rId1"/>
          <a:stretch/>
        </p:blipFill>
        <p:spPr>
          <a:xfrm>
            <a:off x="317520" y="92088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96840"/>
            <a:ext cx="7461360" cy="1695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H:\Слушатель Коваленко М.Ю. курс 278\Презентация  Коваленко М.Ю гр.278\игра\Фото0068.jpg"/>
          <p:cNvPicPr/>
          <p:nvPr/>
        </p:nvPicPr>
        <p:blipFill>
          <a:blip r:embed="rId2"/>
          <a:stretch/>
        </p:blipFill>
        <p:spPr>
          <a:xfrm>
            <a:off x="1476360" y="1916280"/>
            <a:ext cx="4915080" cy="40338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:\Слушатель Коваленко М.Ю. курс 278\Презентация  Коваленко М.Ю гр.278\игра\Фото0023.jpg"/>
          <p:cNvPicPr/>
          <p:nvPr/>
        </p:nvPicPr>
        <p:blipFill>
          <a:blip r:embed="rId2"/>
          <a:stretch/>
        </p:blipFill>
        <p:spPr>
          <a:xfrm>
            <a:off x="1619280" y="1863720"/>
            <a:ext cx="5086440" cy="379728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:\Слушатель Коваленко М.Ю. курс 278\Презентация  Коваленко М.Ю гр.278\игра\Фото0028.jpg"/>
          <p:cNvPicPr/>
          <p:nvPr/>
        </p:nvPicPr>
        <p:blipFill>
          <a:blip r:embed="rId1"/>
          <a:stretch/>
        </p:blipFill>
        <p:spPr>
          <a:xfrm>
            <a:off x="1469880" y="1341360"/>
            <a:ext cx="5303880" cy="39592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a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H:\Слушатель Коваленко М.Ю. курс 278\Презентация  Коваленко М.Ю гр.278\игра\Фото0047.jpg"/>
          <p:cNvPicPr/>
          <p:nvPr/>
        </p:nvPicPr>
        <p:blipFill>
          <a:blip r:embed="rId1"/>
          <a:stretch/>
        </p:blipFill>
        <p:spPr>
          <a:xfrm>
            <a:off x="1467000" y="1547640"/>
            <a:ext cx="5413320" cy="4042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6:00:52Z</dcterms:created>
  <dc:creator>Маргарита Юрьевна</dc:creator>
  <dc:description/>
  <dc:language>en-US</dc:language>
  <cp:lastModifiedBy>Волошко</cp:lastModifiedBy>
  <dcterms:modified xsi:type="dcterms:W3CDTF">2011-12-04T16:39:06Z</dcterms:modified>
  <cp:revision>28</cp:revision>
  <dc:subject/>
  <dc:title>методическая рекомендация</dc:title>
</cp:coreProperties>
</file>