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5.jpeg" ContentType="image/jpeg"/>
  <Override PartName="/ppt/media/image24.png" ContentType="image/png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760D-DCD5-4D06-A031-4F7D77FF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6615-D9E8-4F42-BC00-8552E6C8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3431-F070-4C19-935D-5B74366E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632-7843-481D-BA8C-D1DE75D6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3D45-D033-42B1-8B1C-53871B26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F91A-A089-4A34-B7AD-F99A4986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481A-B5D5-4BAC-B339-1E476C4B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7769-4635-46EB-8E6B-5108F96A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CFAC-4069-4F9E-83EA-0439A464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3919-3EBA-44CC-943C-3BBEB14D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78C2-813E-40BA-928F-C6B21F64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73D-4BBF-47CC-8B60-18E5433F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4744-D47C-4E52-9727-E8234E75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192E-A6C7-4DDA-BF5A-FD7A2B25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5E92-B549-402D-A0B8-92E140C3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6D93-ACF6-463B-9E1C-E5BF2A4E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A857-9F77-43EA-8F43-CC068854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31CC0-B4E8-4847-AFE8-B8ACD6E8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7A37F-892B-403A-A516-1BEC27DE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7ADA1-39BB-4C52-A674-8186DDFA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30524-F090-4562-B943-D851FDB5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68B57-9371-4248-9769-12C663AA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900-5F7E-4F6A-9329-94F73C4A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45C31-E971-49CD-8AFE-990BA889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85CCE-020B-4DEC-8C13-9F91B833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24A41-42CE-4A4E-BE8A-D4564396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FE548-B5BE-4A1E-80C4-B7AB3D18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6D24F-A812-47FA-907C-34EC23B1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8F795-124E-4DF7-AF23-43A6848C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26BA1-9A35-4B6B-A2BD-98A2B456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1E77F-A470-4672-8360-4241A16A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62924-1F2F-4621-ABC0-008A34C2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98B42-C3E4-4ACF-BBDF-2F380D7B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745-412B-4090-842C-44F39426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486FA-024E-4B1D-A0E2-A86480F9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790A2-F98E-46B5-B40D-C0C14B1B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431E0-68BC-4ECE-A274-F81E6086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5B6F0-9F80-4D2B-B836-F38F5D76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E2D84-CA58-412D-83FB-7A1E3D32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3E857-1638-44E6-8A0F-3CA044A1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B8972-FA56-48E5-9080-489E9EBC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6C896-45EC-4F67-B3EE-36537BBB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87F63-F109-447B-9F22-F130C4A9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6CFB7-6062-41F9-B658-28F8C30B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DAC-2396-4AA5-AF04-AC9F2402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2FDB2-7B7D-402A-B1D1-A50541AA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F12CB-667A-4DF0-B96B-5F1858C6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24460-77F2-4040-B93F-96D4225A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9D1BE-070D-4F00-9911-6E9DE31B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8034D-9827-4D93-A90D-6176D5F8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F6BEA-9A4E-497C-AD4B-9E04122F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B760F-A9D4-4729-BE35-22C952C7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D1B97-6A8D-48C2-B4E1-63E78317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44981-BBE9-4675-9124-5F35CC41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F69AD-229F-4D01-A53C-CAC59C66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FFA8-565B-4FE7-88BA-60145175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AD41A-F21D-4AAB-921A-314DA2B4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D315-8C13-4728-B844-2E0F5472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AD7-0D79-4006-8F21-9D652C0D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E12-DFC6-448F-912C-BF49ECF8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B504-1E97-4FDD-9F69-B1B25394E39F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6E8B-736F-4577-B46F-A657A6A23BFC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3C1A-D424-4778-A723-A6BCBE54A94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D77A-374F-487F-B4A4-4A7F7A8DD630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1DB8-0977-45F4-909F-3B7F5B425CA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19560" cy="2401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39880"/>
            <a:ext cx="5114880" cy="2817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внеклассного мероприят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«Физическая лихорадка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ungsuh"/>
                <a:ea typeface="Gungsuh"/>
              </a:rPr>
              <a:t>Преподаватель физики:</a:t>
            </a:r>
            <a:r>
              <a:rPr b="0" lang="en-US" sz="1800" spc="-1" strike="noStrike">
                <a:solidFill>
                  <a:srgbClr val="ffffff"/>
                </a:solidFill>
                <a:latin typeface="Gungsuh"/>
                <a:ea typeface="Gungsuh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ungsuh"/>
                <a:ea typeface="Gungsuh"/>
              </a:rPr>
              <a:t>Коваленко Маргарита Юрьев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ungsuh"/>
                <a:ea typeface="Gungsuh"/>
              </a:rPr>
              <a:t>ГБОУ НПО ПУ № 80 г. Электростал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advTm="4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a3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H:\Слушатель Коваленко М.Ю. курс 278\Презентация  Коваленко М.Ю гр.278\игра\Фото0033.jpg"/>
          <p:cNvPicPr/>
          <p:nvPr/>
        </p:nvPicPr>
        <p:blipFill>
          <a:blip r:embed="rId3"/>
          <a:stretch/>
        </p:blipFill>
        <p:spPr>
          <a:xfrm>
            <a:off x="1409760" y="2276640"/>
            <a:ext cx="5470560" cy="408456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af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H:\Слушатель Коваленко М.Ю. курс 278\Презентация  Коваленко М.Ю гр.278\игра\Фото0035.jpg"/>
          <p:cNvPicPr/>
          <p:nvPr/>
        </p:nvPicPr>
        <p:blipFill>
          <a:blip r:embed="rId1"/>
          <a:stretch/>
        </p:blipFill>
        <p:spPr>
          <a:xfrm>
            <a:off x="1225440" y="1628640"/>
            <a:ext cx="5592960" cy="417672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9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H:\Слушатель Коваленко М.Ю. курс 278\Презентация  Коваленко М.Ю гр.278\игра\Фото0041.jpg"/>
          <p:cNvPicPr/>
          <p:nvPr/>
        </p:nvPicPr>
        <p:blipFill>
          <a:blip r:embed="rId3"/>
          <a:stretch/>
        </p:blipFill>
        <p:spPr>
          <a:xfrm>
            <a:off x="1076400" y="2101680"/>
            <a:ext cx="5440320" cy="406116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8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H:\Слушатель Коваленко М.Ю. курс 278\Презентация  Коваленко М.Ю гр.278\игра\Фото0027.jpg"/>
          <p:cNvPicPr/>
          <p:nvPr/>
        </p:nvPicPr>
        <p:blipFill>
          <a:blip r:embed="rId3"/>
          <a:stretch/>
        </p:blipFill>
        <p:spPr>
          <a:xfrm>
            <a:off x="1547640" y="1665360"/>
            <a:ext cx="4608720" cy="390852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8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5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28400" y="2214360"/>
            <a:ext cx="68101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пределение победителей по количеству балл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ведение итога мероприят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граждение победител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af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3" descr=""/>
          <p:cNvPicPr/>
          <p:nvPr/>
        </p:nvPicPr>
        <p:blipFill>
          <a:blip r:embed="rId1"/>
          <a:stretch/>
        </p:blipFill>
        <p:spPr>
          <a:xfrm>
            <a:off x="212760" y="133200"/>
            <a:ext cx="7462800" cy="1695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68360" y="1988640"/>
            <a:ext cx="3519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идактическая игр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«Физическая лихорадка» проводится после изучения темы «Законы постоянного тока» раздела «Электродинамика» для учащихся НПО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курс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гра подходит для учащихся любого уровня подготовки. Используются задания разного уровня сложност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211280" y="1988640"/>
            <a:ext cx="352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частниками игры могут быть все желающие. Создаются две команды из числа присутствующих. Команда - победитель определяется по сумме набранных балло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ля успешного проведения игры необходимо поддерживать положительный эмоциональный фон, демократический стиль общения между участникам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advTm="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af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9" descr=""/>
          <p:cNvPicPr/>
          <p:nvPr/>
        </p:nvPicPr>
        <p:blipFill>
          <a:blip r:embed="rId1"/>
          <a:stretch/>
        </p:blipFill>
        <p:spPr>
          <a:xfrm>
            <a:off x="420840" y="281160"/>
            <a:ext cx="725472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356760" y="2214720"/>
            <a:ext cx="3521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Формирование и развитие интереса к предмету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звитие умений решения расчетных и качественных задач по тем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428720" y="3643200"/>
            <a:ext cx="35211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сширение кругозор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чащихся по теме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здание ситуации успеха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advTm="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a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4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Я мыслю, следовательно, я существую» Рено Декар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 стыдно  не знать, стыдно не учиться.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усская пословиц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advTm="4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8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3" descr=""/>
          <p:cNvPicPr/>
          <p:nvPr/>
        </p:nvPicPr>
        <p:blipFill>
          <a:blip r:embed="rId1"/>
          <a:stretch/>
        </p:blipFill>
        <p:spPr>
          <a:xfrm>
            <a:off x="317520" y="920880"/>
            <a:ext cx="762012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44440" y="96840"/>
            <a:ext cx="7461360" cy="1695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H:\Слушатель Коваленко М.Ю. курс 278\Презентация  Коваленко М.Ю гр.278\игра\Фото0068.jpg"/>
          <p:cNvPicPr/>
          <p:nvPr/>
        </p:nvPicPr>
        <p:blipFill>
          <a:blip r:embed="rId2"/>
          <a:stretch/>
        </p:blipFill>
        <p:spPr>
          <a:xfrm>
            <a:off x="1476360" y="1916280"/>
            <a:ext cx="4915080" cy="40338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:\Слушатель Коваленко М.Ю. курс 278\Презентация  Коваленко М.Ю гр.278\игра\Фото0023.jpg"/>
          <p:cNvPicPr/>
          <p:nvPr/>
        </p:nvPicPr>
        <p:blipFill>
          <a:blip r:embed="rId2"/>
          <a:stretch/>
        </p:blipFill>
        <p:spPr>
          <a:xfrm>
            <a:off x="1619280" y="1863720"/>
            <a:ext cx="5086440" cy="379728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:\Слушатель Коваленко М.Ю. курс 278\Презентация  Коваленко М.Ю гр.278\игра\Фото0028.jpg"/>
          <p:cNvPicPr/>
          <p:nvPr/>
        </p:nvPicPr>
        <p:blipFill>
          <a:blip r:embed="rId1"/>
          <a:stretch/>
        </p:blipFill>
        <p:spPr>
          <a:xfrm>
            <a:off x="1469880" y="1341360"/>
            <a:ext cx="5303880" cy="39592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a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H:\Слушатель Коваленко М.Ю. курс 278\Презентация  Коваленко М.Ю гр.278\игра\Фото0047.jpg"/>
          <p:cNvPicPr/>
          <p:nvPr/>
        </p:nvPicPr>
        <p:blipFill>
          <a:blip r:embed="rId1"/>
          <a:stretch/>
        </p:blipFill>
        <p:spPr>
          <a:xfrm>
            <a:off x="1467000" y="1547640"/>
            <a:ext cx="5413320" cy="40420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6:00:52Z</dcterms:created>
  <dc:creator>Маргарита Юрьевна</dc:creator>
  <dc:description/>
  <dc:language>en-US</dc:language>
  <cp:lastModifiedBy>Волошко</cp:lastModifiedBy>
  <dcterms:modified xsi:type="dcterms:W3CDTF">2011-12-04T16:39:06Z</dcterms:modified>
  <cp:revision>28</cp:revision>
  <dc:subject/>
  <dc:title>методическая рекомендация</dc:title>
</cp:coreProperties>
</file>