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303-9395-420F-92C0-72C00F9B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F15-6012-43FA-A421-69F0D642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ABF-1F92-41AE-8F6C-81D4C8EB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C17-AC78-4863-8B2C-C33FE3B6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7EDC-EC99-4626-9917-74B58BB8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642-4B0F-4B23-AD2A-12A24A63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EC8E-6497-4563-AE39-6B50FB6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460-A37B-4181-ACBB-31498A26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BADB-DB05-418D-AC84-033D7E33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38A3-44C4-48D5-9D84-C5611FA3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E2ED-A70E-4B6B-8750-8DD5438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6C7-30DD-48AF-AE98-C9998718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8E44-69DA-4841-86BC-254C3FCF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9A30-7443-4EA5-BFE0-B3808F1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FD6C-A70C-4C70-AEBB-285F468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7587-13E2-48D5-A7B9-E2C4D332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A371-F57E-4A87-A5B2-923B8CF7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3A4-F62C-4ECE-B02E-5CEEABDD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559-2777-4621-ABFF-4C1475D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26B-F902-45E6-84AE-2B9DC65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27B-1C3E-4CFD-9E75-B8D914E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343-9497-4512-922C-524E0A8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002-0F73-45B3-9BD1-0B10E7F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17F-DF44-46A3-BE6F-4ED7C43D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394-5946-4A76-AC97-840915A63A1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46BD-FEC5-4D5C-A6A0-F4161DEC011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-60372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Verdana"/>
              </a:rPr>
              <a:t>Презентация проекта </a:t>
            </a:r>
            <a:br>
              <a:rPr sz="3200"/>
            </a:br>
            <a:r>
              <a:rPr b="1" i="1" lang="en-US" sz="3200" spc="-1" strike="noStrike">
                <a:solidFill>
                  <a:srgbClr val="990099"/>
                </a:solidFill>
                <a:latin typeface="Verdana"/>
              </a:rPr>
              <a:t>по русскому языку.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181440" y="1773000"/>
            <a:ext cx="932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66ff"/>
                </a:solidFill>
                <a:latin typeface="Verdana"/>
              </a:rPr>
              <a:t>«Источники возникновения фразеологизмов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66ff"/>
                </a:solidFill>
                <a:latin typeface="Verdana"/>
              </a:rPr>
              <a:t> </a:t>
            </a:r>
            <a:r>
              <a:rPr b="0" i="1" lang="ru-RU" sz="4400" spc="-1" strike="noStrike">
                <a:solidFill>
                  <a:srgbClr val="6666ff"/>
                </a:solidFill>
                <a:latin typeface="Verdana"/>
              </a:rPr>
              <a:t>и их толкование»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90099"/>
                </a:solidFill>
                <a:uFillTx/>
                <a:latin typeface="Verdana"/>
              </a:rPr>
              <a:t>Выполнил:</a:t>
            </a: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 ученик 6 «Б» кл.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ГОУ СОШ №769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г.Москвы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Муравьев</a:t>
            </a:r>
            <a:r>
              <a:rPr b="0" i="1" lang="ru-RU" sz="1800" spc="-1" strike="noStrike">
                <a:solidFill>
                  <a:srgbClr val="6666ff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Александр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90099"/>
                </a:solidFill>
                <a:uFillTx/>
                <a:latin typeface="Verdana"/>
              </a:rPr>
              <a:t>Руководитель:</a:t>
            </a: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 Сомова О.Н.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950920" cy="3313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796000" y="3213000"/>
            <a:ext cx="2951280" cy="31640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779640" y="1052640"/>
            <a:ext cx="45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варить кашу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расхлебывать кашу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797360"/>
            <a:ext cx="40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рубить на носу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0" t="3459" r="2364" b="4113"/>
          <a:stretch/>
        </p:blipFill>
        <p:spPr>
          <a:xfrm>
            <a:off x="395280" y="476280"/>
            <a:ext cx="2881440" cy="38163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0" t="4329" r="0" b="0"/>
          <a:stretch/>
        </p:blipFill>
        <p:spPr>
          <a:xfrm>
            <a:off x="5796000" y="3357720"/>
            <a:ext cx="2951280" cy="31924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636360" y="1341360"/>
            <a:ext cx="46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 словом в карман н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лезет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8720" y="5013360"/>
            <a:ext cx="334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проще парено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репы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Verdana"/>
              </a:rPr>
              <a:t>Заключение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i="1" lang="en-US" sz="2500" spc="-1" strike="noStrike">
                <a:solidFill>
                  <a:srgbClr val="990099"/>
                </a:solidFill>
                <a:latin typeface="Verdana"/>
              </a:rPr>
              <a:t>Язык – великое сокровище народа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90099"/>
                </a:solidFill>
                <a:latin typeface="Verdana"/>
              </a:rPr>
              <a:t>       </a:t>
            </a:r>
            <a:r>
              <a:rPr b="0" i="1" lang="en-US" sz="2500" spc="-1" strike="noStrike">
                <a:solidFill>
                  <a:srgbClr val="990099"/>
                </a:solidFill>
                <a:latin typeface="Verdana"/>
              </a:rPr>
              <a:t>Фразеологизмы – его мудрость, которая  передается через поколения, делая язык образным и метким.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Фразеологизмы с давних времен использовались в речи людей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Постоянно происходит обмен фразеологизмами между  разными языками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Много интересных фактов, связанных с возникновением фразеологизмов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В русских словах скрыто много разных тайн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123640" y="3715920"/>
            <a:ext cx="8425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990099"/>
                </a:solidFill>
                <a:latin typeface="Verdana"/>
              </a:rPr>
              <a:t>СПАСИБО ЗА ВНИМАНИЕ!</a:t>
            </a:r>
            <a:endParaRPr b="0" lang="en-US" sz="4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199040" cy="3500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0240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Verdana"/>
              </a:rPr>
              <a:t>«Источники возникновения и                толкование фразеологизмов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f2dffd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выявление основных источник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зникновения фразеологизмов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х семантических групп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отбор и изучение материалов п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анной теме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систематизация источников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зникновения фразеологизм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формирование семантических групп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толкование фразеологизмов, и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актическая обоснованность                                                    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553080" cy="1287720"/>
          </a:xfrm>
          <a:prstGeom prst="rect">
            <a:avLst/>
          </a:prstGeom>
          <a:solidFill>
            <a:srgbClr val="edfad2">
              <a:alpha val="34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99"/>
                </a:solidFill>
                <a:latin typeface="Verdana"/>
              </a:rPr>
              <a:t>ЧТО ТАКОЕ ФРАЗЕОЛОГИЗМЫ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047960" y="5516640"/>
            <a:ext cx="716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Фразеологизм – устойчивое выражение 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самостоятельным значение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0920" y="1989000"/>
            <a:ext cx="8568720" cy="3094560"/>
            <a:chOff x="250920" y="1989000"/>
            <a:chExt cx="8568720" cy="3094560"/>
          </a:xfrm>
        </p:grpSpPr>
        <p:cxnSp>
          <p:nvCxnSpPr>
            <p:cNvPr id="174" name="_s2074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892840" y="1868760"/>
              <a:ext cx="619560" cy="333396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cxnSp>
          <p:nvCxnSpPr>
            <p:cNvPr id="177" name="_s2067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4781880" y="2979720"/>
              <a:ext cx="619560" cy="111204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cxnSp>
          <p:nvCxnSpPr>
            <p:cNvPr id="179" name="_s2066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670920" y="2980080"/>
              <a:ext cx="619560" cy="111132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cxnSp>
          <p:nvCxnSpPr>
            <p:cNvPr id="181" name="_s2065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559960" y="1869120"/>
              <a:ext cx="619560" cy="333360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sp>
          <p:nvSpPr>
            <p:cNvPr id="176" name="_s2061"/>
            <p:cNvSpPr/>
            <p:nvPr/>
          </p:nvSpPr>
          <p:spPr>
            <a:xfrm>
              <a:off x="3582000" y="1989000"/>
              <a:ext cx="1904760" cy="1237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99ff"/>
              </a:solidFill>
              <a:miter/>
            </a:ln>
            <a:effectLst>
              <a:outerShdw dist="63504" dir="19383909" blurRad="0" rotWithShape="0">
                <a:srgbClr val="cc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отражают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_s2062"/>
            <p:cNvSpPr/>
            <p:nvPr/>
          </p:nvSpPr>
          <p:spPr>
            <a:xfrm>
              <a:off x="250920" y="3845880"/>
              <a:ext cx="1904760" cy="1237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историю 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_s2063"/>
            <p:cNvSpPr/>
            <p:nvPr/>
          </p:nvSpPr>
          <p:spPr>
            <a:xfrm>
              <a:off x="2472840" y="3845880"/>
              <a:ext cx="1904760" cy="1237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труд 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_s2064"/>
            <p:cNvSpPr/>
            <p:nvPr/>
          </p:nvSpPr>
          <p:spPr>
            <a:xfrm>
              <a:off x="4695120" y="3845880"/>
              <a:ext cx="1904760" cy="1237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быт 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_s2073"/>
            <p:cNvSpPr/>
            <p:nvPr/>
          </p:nvSpPr>
          <p:spPr>
            <a:xfrm>
              <a:off x="6917400" y="3845880"/>
              <a:ext cx="1902240" cy="1237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культуру 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Verdana"/>
              </a:rPr>
              <a:t>Источники фразеологизмов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Verdana"/>
              </a:rPr>
              <a:t>русского языка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9708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221000"/>
            <a:ext cx="4176720" cy="1400400"/>
          </a:xfrm>
          <a:prstGeom prst="flowChartProcess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Фразеологизмы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русског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роисхождения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221000"/>
            <a:ext cx="3816360" cy="1400400"/>
          </a:xfrm>
          <a:prstGeom prst="flowChartProcess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Фразеологизм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заимствованные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117200">
            <a:off x="2339640" y="249192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853600">
            <a:off x="6300360" y="2492280"/>
            <a:ext cx="486000" cy="1479600"/>
          </a:xfrm>
          <a:prstGeom prst="downArrow">
            <a:avLst>
              <a:gd name="adj1" fmla="val 50000"/>
              <a:gd name="adj2" fmla="val 7611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Verdana"/>
              </a:rPr>
              <a:t>Заимствованные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старославянского языка (Библия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«запретный плод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латинского языка («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lma mater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мифов Древней Греци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«сизифов труд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европейских язык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англ. – «синий чулок», нем.- «вот где собака зарыта»,франц.-«идти ва-банк»,испанск.- «голубая кровь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произведений зарубежных писател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«выкурить трубку мира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6.    Исторические события («жребий брошен»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Verdana"/>
              </a:rPr>
              <a:t>Русское происхождение</a:t>
            </a:r>
            <a:r>
              <a:rPr b="0" i="1" lang="en-US" sz="4000" spc="-1" strike="noStrike">
                <a:solidFill>
                  <a:srgbClr val="990099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30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месла и профессии («топорная работа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ыт и труд крестьян («быть начеку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ревние воины («ошеломить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тарые пословицы («собаку съел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торические события («крепкий орешек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изведения русских писателей («медвежья услуга»).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7748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4010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580000" y="1270080"/>
            <a:ext cx="2664000" cy="1224000"/>
          </a:xfr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осточные славяне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русск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краинц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белорус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270080"/>
            <a:ext cx="1368360" cy="609480"/>
          </a:xfr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ападные славян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811600"/>
            <a:ext cx="1292400" cy="609480"/>
          </a:xfr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Южные славян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3800" y="2781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Индоевропейц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4365720"/>
            <a:ext cx="7920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Общеславянские фразеологизмы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(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возникли в период выделения   группы славян из индоевропейских народов  2в.до н.э.- 5в.н.э.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Восточнославянские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 с 5 по 7 век 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Собственно русские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 примерно 15 век 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Язык наших предков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Verdana"/>
              </a:rPr>
              <a:t>Символы в русской фразеологии.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13372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1399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заяц, лиса, лошадь, баран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737000">
            <a:off x="1979280" y="1052640"/>
            <a:ext cx="360360" cy="790560"/>
          </a:xfrm>
          <a:prstGeom prst="downArrow">
            <a:avLst>
              <a:gd name="adj1" fmla="val 50000"/>
              <a:gd name="adj2" fmla="val 5484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21080" y="213372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1917720"/>
            <a:ext cx="2159280" cy="1224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части те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141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голова, руки, нос, глаза, уши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1125360"/>
            <a:ext cx="358560" cy="71604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1916280"/>
            <a:ext cx="2158920" cy="1223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мер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веса, длин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деньг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31399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пуд, вершок, аршин, рубль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046600">
            <a:off x="6948000" y="1052280"/>
            <a:ext cx="358920" cy="715680"/>
          </a:xfrm>
          <a:prstGeom prst="downArrow">
            <a:avLst>
              <a:gd name="adj1" fmla="val 50000"/>
              <a:gd name="adj2" fmla="val 498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141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заяц, лиса, лошадь, баран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91772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141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заяц, лиса, лошадь, баран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5661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белый-черный, розовый, красный, зеленый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443700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цвет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412200">
            <a:off x="2916000" y="1198440"/>
            <a:ext cx="358560" cy="3021120"/>
          </a:xfrm>
          <a:prstGeom prst="downArrow">
            <a:avLst>
              <a:gd name="adj1" fmla="val 56639"/>
              <a:gd name="adj2" fmla="val 9385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5734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каша, хлеб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4437000"/>
            <a:ext cx="2160720" cy="1297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пищ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1382800">
            <a:off x="6013080" y="1195560"/>
            <a:ext cx="358920" cy="2949480"/>
          </a:xfrm>
          <a:prstGeom prst="downArrow">
            <a:avLst>
              <a:gd name="adj1" fmla="val 56639"/>
              <a:gd name="adj2" fmla="val 9153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edfad2">
              <a:alpha val="3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Verdana"/>
              </a:rPr>
              <a:t>Фразеологизмы истинно русского происхожде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951280" cy="2519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953080" cy="25257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3852360" y="1724040"/>
            <a:ext cx="349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спустя рукава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сучив рукава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640" y="4797360"/>
            <a:ext cx="33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бить баклуши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2:36:11Z</dcterms:created>
  <dc:creator>Vista</dc:creator>
  <dc:description/>
  <dc:language>en-US</dc:language>
  <cp:lastModifiedBy>olga</cp:lastModifiedBy>
  <dcterms:modified xsi:type="dcterms:W3CDTF">2011-03-11T09:28:47Z</dcterms:modified>
  <cp:revision>18</cp:revision>
  <dc:subject/>
  <dc:title>ЗАГОЛОВОК</dc:title>
</cp:coreProperties>
</file>