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215F-67A8-4A2F-9017-CBA3FCFDE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F387-6279-4594-93F0-081074C1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E424-A1EF-4086-95B4-08FD70684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8DBC-F5E5-456F-9EE9-312CC5547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D5B9-1DF5-4B28-902D-64D316C17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B092-69E0-49FB-BDBA-604C4DD6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E5D0D-DF87-43B7-A453-086F4E60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C786-0A4C-4D33-BAA6-58E6388C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6AEB-A968-4191-9694-6032D34E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5796-A742-4164-AF16-1BBCA79E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B4A0-870C-473F-93E1-6677641A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0EC7-A3B1-42F2-B17E-FE1CD16F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F9E5-BF5F-4FBE-8E44-4B5853B3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CA86E-65AB-46B9-B0CB-A1E55F91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9F27-840C-4457-B1B7-A474ECE4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6153-0C93-42F8-9CFB-0F94AC676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ABBB-F264-425F-9782-A707EFBA9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45E2-DCD9-4DB3-AE70-061B2013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F759-3E18-4D9C-9E0D-A9796AD0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A86B-6357-4A35-987A-95F46A3A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A4B6-D244-4DF6-A546-E76D320B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824D-CCAD-4FBF-8EA0-E3C58ABB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DD4E-77F8-4108-93B3-1F4AEE5B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CA67-CE06-4DA9-9B93-71244E14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708E-7A2D-429E-978B-5834B4FFBE46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4BC1-9A82-428C-9064-706FA6B585FF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1280" y="-60372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99"/>
                </a:solidFill>
                <a:latin typeface="Verdana"/>
              </a:rPr>
              <a:t>Презентация проекта </a:t>
            </a:r>
            <a:br>
              <a:rPr sz="3200"/>
            </a:br>
            <a:r>
              <a:rPr b="1" i="1" lang="en-US" sz="3200" spc="-1" strike="noStrike">
                <a:solidFill>
                  <a:srgbClr val="990099"/>
                </a:solidFill>
                <a:latin typeface="Verdana"/>
              </a:rPr>
              <a:t>по русскому языку.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-181440" y="1773000"/>
            <a:ext cx="93250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6666ff"/>
                </a:solidFill>
                <a:latin typeface="Verdana"/>
              </a:rPr>
              <a:t>«Источники возникновения фразеологизмов</a:t>
            </a: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6666ff"/>
                </a:solidFill>
                <a:latin typeface="Verdana"/>
              </a:rPr>
              <a:t> </a:t>
            </a:r>
            <a:r>
              <a:rPr b="0" i="1" lang="ru-RU" sz="4400" spc="-1" strike="noStrike">
                <a:solidFill>
                  <a:srgbClr val="6666ff"/>
                </a:solidFill>
                <a:latin typeface="Verdana"/>
              </a:rPr>
              <a:t>и их толкование»</a:t>
            </a: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990099"/>
                </a:solidFill>
                <a:uFillTx/>
                <a:latin typeface="Verdana"/>
              </a:rPr>
              <a:t>Выполнил:</a:t>
            </a:r>
            <a:r>
              <a:rPr b="0" i="1" lang="ru-RU" sz="1800" spc="-1" strike="noStrike">
                <a:solidFill>
                  <a:srgbClr val="990099"/>
                </a:solidFill>
                <a:latin typeface="Verdana"/>
              </a:rPr>
              <a:t> ученик 6 «Б» кл.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0099"/>
                </a:solidFill>
                <a:latin typeface="Verdana"/>
              </a:rPr>
              <a:t>ГОУ СОШ №769 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0099"/>
                </a:solidFill>
                <a:latin typeface="Verdana"/>
              </a:rPr>
              <a:t>г.Москвы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0099"/>
                </a:solidFill>
                <a:latin typeface="Verdana"/>
              </a:rPr>
              <a:t>Муравьев</a:t>
            </a:r>
            <a:r>
              <a:rPr b="0" i="1" lang="ru-RU" sz="1800" spc="-1" strike="noStrike">
                <a:solidFill>
                  <a:srgbClr val="6666ff"/>
                </a:solidFill>
                <a:latin typeface="Verdana"/>
              </a:rPr>
              <a:t> </a:t>
            </a:r>
            <a:r>
              <a:rPr b="0" i="1" lang="ru-RU" sz="1800" spc="-1" strike="noStrike">
                <a:solidFill>
                  <a:srgbClr val="990099"/>
                </a:solidFill>
                <a:latin typeface="Verdana"/>
              </a:rPr>
              <a:t>Александр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990099"/>
                </a:solidFill>
                <a:uFillTx/>
                <a:latin typeface="Verdana"/>
              </a:rPr>
              <a:t>Руководитель:</a:t>
            </a:r>
            <a:r>
              <a:rPr b="0" i="1" lang="ru-RU" sz="1800" spc="-1" strike="noStrike">
                <a:solidFill>
                  <a:srgbClr val="990099"/>
                </a:solidFill>
                <a:latin typeface="Verdana"/>
              </a:rPr>
              <a:t> Сомова О.Н.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2950920" cy="331344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796000" y="3213000"/>
            <a:ext cx="2951280" cy="316404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sp>
        <p:nvSpPr>
          <p:cNvPr id="232" name=""/>
          <p:cNvSpPr/>
          <p:nvPr/>
        </p:nvSpPr>
        <p:spPr>
          <a:xfrm>
            <a:off x="3779640" y="1052640"/>
            <a:ext cx="453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Arial"/>
              </a:rPr>
              <a:t>«заварить кашу»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Arial"/>
              </a:rPr>
              <a:t>«расхлебывать кашу»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71640" y="4797360"/>
            <a:ext cx="401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Arial"/>
              </a:rPr>
              <a:t>«зарубить на носу»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rcRect l="0" t="3459" r="2364" b="4113"/>
          <a:stretch/>
        </p:blipFill>
        <p:spPr>
          <a:xfrm>
            <a:off x="395280" y="476280"/>
            <a:ext cx="2881440" cy="381636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pic>
        <p:nvPicPr>
          <p:cNvPr id="235" name="" descr=""/>
          <p:cNvPicPr/>
          <p:nvPr/>
        </p:nvPicPr>
        <p:blipFill>
          <a:blip r:embed="rId2"/>
          <a:srcRect l="0" t="4329" r="0" b="0"/>
          <a:stretch/>
        </p:blipFill>
        <p:spPr>
          <a:xfrm>
            <a:off x="5796000" y="3357720"/>
            <a:ext cx="2951280" cy="319248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sp>
        <p:nvSpPr>
          <p:cNvPr id="236" name=""/>
          <p:cNvSpPr/>
          <p:nvPr/>
        </p:nvSpPr>
        <p:spPr>
          <a:xfrm>
            <a:off x="3636360" y="1341360"/>
            <a:ext cx="46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Arial"/>
              </a:rPr>
              <a:t>«за словом в карман не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Arial"/>
              </a:rPr>
              <a:t>лезет»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08720" y="5013360"/>
            <a:ext cx="334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Arial"/>
              </a:rPr>
              <a:t>«проще пареной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Arial"/>
              </a:rPr>
              <a:t>           </a:t>
            </a:r>
            <a:r>
              <a:rPr b="0" i="1" lang="en-US" sz="3200" spc="-1" strike="noStrike">
                <a:solidFill>
                  <a:srgbClr val="006699"/>
                </a:solidFill>
                <a:latin typeface="Arial"/>
              </a:rPr>
              <a:t>репы»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99"/>
                </a:solidFill>
                <a:latin typeface="Verdana"/>
              </a:rPr>
              <a:t>Заключение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6699"/>
                </a:solidFill>
                <a:latin typeface="Verdana"/>
              </a:rPr>
              <a:t>           </a:t>
            </a:r>
            <a:r>
              <a:rPr b="0" i="1" lang="en-US" sz="2500" spc="-1" strike="noStrike">
                <a:solidFill>
                  <a:srgbClr val="990099"/>
                </a:solidFill>
                <a:latin typeface="Verdana"/>
              </a:rPr>
              <a:t>Язык – великое сокровище народа.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90099"/>
                </a:solidFill>
                <a:latin typeface="Verdana"/>
              </a:rPr>
              <a:t>       </a:t>
            </a:r>
            <a:r>
              <a:rPr b="0" i="1" lang="en-US" sz="2500" spc="-1" strike="noStrike">
                <a:solidFill>
                  <a:srgbClr val="990099"/>
                </a:solidFill>
                <a:latin typeface="Verdana"/>
              </a:rPr>
              <a:t>Фразеологизмы – его мудрость, которая  передается через поколения, делая язык образным и метким. 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6666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6666ff"/>
                </a:solidFill>
                <a:latin typeface="Verdana"/>
              </a:rPr>
              <a:t>Фразеологизмы с давних времен использовались в речи людей.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6666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6666ff"/>
                </a:solidFill>
                <a:latin typeface="Verdana"/>
              </a:rPr>
              <a:t>Постоянно происходит обмен фразеологизмами между  разными языками.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6666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6666ff"/>
                </a:solidFill>
                <a:latin typeface="Verdana"/>
              </a:rPr>
              <a:t>Много интересных фактов, связанных с возникновением фразеологизмов.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6666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6666ff"/>
                </a:solidFill>
                <a:latin typeface="Verdana"/>
              </a:rPr>
              <a:t>В русских словах скрыто много разных тайн.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2123640" y="3715920"/>
            <a:ext cx="84250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990099"/>
                </a:solidFill>
                <a:latin typeface="Verdana"/>
              </a:rPr>
              <a:t>СПАСИБО ЗА ВНИМАНИЕ!</a:t>
            </a:r>
            <a:endParaRPr b="0" lang="en-US" sz="4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284720" y="0"/>
            <a:ext cx="4199040" cy="35002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302400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ff"/>
                </a:solidFill>
                <a:latin typeface="Verdana"/>
              </a:rPr>
              <a:t>«Источники возникновения и                толкование фразеологизмов»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Verdana"/>
              </a:rPr>
              <a:t>ЦЕЛЬ:</a:t>
            </a:r>
            <a:r>
              <a:rPr b="1" lang="en-US" sz="2400" spc="-1" strike="noStrike">
                <a:solidFill>
                  <a:srgbClr val="f2dffd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выявление основных источнико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             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возникновения фразеологизмов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             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их семантических групп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Verdana"/>
              </a:rPr>
              <a:t>ЗАДАЧИ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           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- отбор и изучение материалов по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              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данной теме     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           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- систематизация источников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              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возникновения фразеологизмо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           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- формирование семантических групп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           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- толкование фразеологизмов, их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              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практическая обоснованность                                                                                    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31640" y="404280"/>
            <a:ext cx="6553080" cy="1287720"/>
          </a:xfrm>
          <a:prstGeom prst="rect">
            <a:avLst/>
          </a:prstGeom>
          <a:solidFill>
            <a:srgbClr val="edfad2">
              <a:alpha val="34000"/>
            </a:srgbClr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990099"/>
                </a:solidFill>
                <a:latin typeface="Verdana"/>
              </a:rPr>
              <a:t>ЧТО ТАКОЕ ФРАЗЕОЛОГИЗМЫ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1047960" y="5516640"/>
            <a:ext cx="716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Фразеологизм – устойчивое выражение с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самостоятельным значением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50920" y="1989000"/>
            <a:ext cx="8568720" cy="3094560"/>
            <a:chOff x="250920" y="1989000"/>
            <a:chExt cx="8568720" cy="3094560"/>
          </a:xfrm>
        </p:grpSpPr>
        <p:cxnSp>
          <p:nvCxnSpPr>
            <p:cNvPr id="174" name="_s2074"/>
            <p:cNvCxnSpPr>
              <a:stCxn id="175" idx="0"/>
              <a:endCxn id="176" idx="2"/>
            </p:cNvCxnSpPr>
            <p:nvPr/>
          </p:nvCxnSpPr>
          <p:spPr>
            <a:xfrm flipV="1" rot="16200000">
              <a:off x="5892840" y="1868760"/>
              <a:ext cx="619560" cy="3333960"/>
            </a:xfrm>
            <a:prstGeom prst="bentConnector3">
              <a:avLst>
                <a:gd name="adj1" fmla="val 21976"/>
              </a:avLst>
            </a:prstGeom>
            <a:ln w="28440">
              <a:solidFill>
                <a:srgbClr val="ffffcc"/>
              </a:solidFill>
              <a:miter/>
            </a:ln>
          </p:spPr>
        </p:cxnSp>
        <p:cxnSp>
          <p:nvCxnSpPr>
            <p:cNvPr id="177" name="_s2067"/>
            <p:cNvCxnSpPr>
              <a:stCxn id="178" idx="0"/>
              <a:endCxn id="176" idx="2"/>
            </p:cNvCxnSpPr>
            <p:nvPr/>
          </p:nvCxnSpPr>
          <p:spPr>
            <a:xfrm flipV="1" rot="16200000">
              <a:off x="4781880" y="2979720"/>
              <a:ext cx="619560" cy="1112040"/>
            </a:xfrm>
            <a:prstGeom prst="bentConnector3">
              <a:avLst>
                <a:gd name="adj1" fmla="val 21976"/>
              </a:avLst>
            </a:prstGeom>
            <a:ln w="28440">
              <a:solidFill>
                <a:srgbClr val="ffffcc"/>
              </a:solidFill>
              <a:miter/>
            </a:ln>
          </p:spPr>
        </p:cxnSp>
        <p:cxnSp>
          <p:nvCxnSpPr>
            <p:cNvPr id="179" name="_s2066"/>
            <p:cNvCxnSpPr>
              <a:stCxn id="180" idx="0"/>
              <a:endCxn id="176" idx="2"/>
            </p:cNvCxnSpPr>
            <p:nvPr/>
          </p:nvCxnSpPr>
          <p:spPr>
            <a:xfrm flipH="1" flipV="1" rot="5400000">
              <a:off x="3670920" y="2980080"/>
              <a:ext cx="619560" cy="1111320"/>
            </a:xfrm>
            <a:prstGeom prst="bentConnector3">
              <a:avLst>
                <a:gd name="adj1" fmla="val 21976"/>
              </a:avLst>
            </a:prstGeom>
            <a:ln w="28440">
              <a:solidFill>
                <a:srgbClr val="ffffcc"/>
              </a:solidFill>
              <a:miter/>
            </a:ln>
          </p:spPr>
        </p:cxnSp>
        <p:cxnSp>
          <p:nvCxnSpPr>
            <p:cNvPr id="181" name="_s2065"/>
            <p:cNvCxnSpPr>
              <a:stCxn id="182" idx="0"/>
              <a:endCxn id="176" idx="2"/>
            </p:cNvCxnSpPr>
            <p:nvPr/>
          </p:nvCxnSpPr>
          <p:spPr>
            <a:xfrm flipH="1" flipV="1" rot="5400000">
              <a:off x="2559960" y="1869120"/>
              <a:ext cx="619560" cy="3333600"/>
            </a:xfrm>
            <a:prstGeom prst="bentConnector3">
              <a:avLst>
                <a:gd name="adj1" fmla="val 21976"/>
              </a:avLst>
            </a:prstGeom>
            <a:ln w="28440">
              <a:solidFill>
                <a:srgbClr val="ffffcc"/>
              </a:solidFill>
              <a:miter/>
            </a:ln>
          </p:spPr>
        </p:cxnSp>
        <p:sp>
          <p:nvSpPr>
            <p:cNvPr id="176" name="_s2061"/>
            <p:cNvSpPr/>
            <p:nvPr/>
          </p:nvSpPr>
          <p:spPr>
            <a:xfrm>
              <a:off x="3582000" y="1989000"/>
              <a:ext cx="1904760" cy="12376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cc99ff"/>
              </a:solidFill>
              <a:miter/>
            </a:ln>
            <a:effectLst>
              <a:outerShdw dist="63504" dir="19383909" blurRad="0" rotWithShape="0">
                <a:srgbClr val="cc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99"/>
                  </a:solidFill>
                  <a:latin typeface="Arial"/>
                </a:rPr>
                <a:t>Фразеологизмы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99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990099"/>
                  </a:solidFill>
                  <a:latin typeface="Arial"/>
                </a:rPr>
                <a:t>отражают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2" name="_s2062"/>
            <p:cNvSpPr/>
            <p:nvPr/>
          </p:nvSpPr>
          <p:spPr>
            <a:xfrm>
              <a:off x="250920" y="3845880"/>
              <a:ext cx="1904760" cy="12376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2dffd"/>
              </a:solidFill>
              <a:miter/>
            </a:ln>
            <a:effectLst>
              <a:outerShdw dist="63504" dir="19383909" blurRad="0" rotWithShape="0">
                <a:srgbClr val="f2dff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990099"/>
                  </a:solidFill>
                  <a:latin typeface="Arial"/>
                </a:rPr>
                <a:t>историю народа</a:t>
              </a:r>
              <a:endParaRPr b="0" lang="en-US" sz="21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0" name="_s2063"/>
            <p:cNvSpPr/>
            <p:nvPr/>
          </p:nvSpPr>
          <p:spPr>
            <a:xfrm>
              <a:off x="2472840" y="3845880"/>
              <a:ext cx="1904760" cy="12376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2dffd"/>
              </a:solidFill>
              <a:miter/>
            </a:ln>
            <a:effectLst>
              <a:outerShdw dist="63504" dir="19383909" blurRad="0" rotWithShape="0">
                <a:srgbClr val="f2dff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990099"/>
                  </a:solidFill>
                  <a:latin typeface="Arial"/>
                </a:rPr>
                <a:t>труд </a:t>
              </a:r>
              <a:endParaRPr b="0" lang="en-US" sz="21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990099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990099"/>
                  </a:solidFill>
                  <a:latin typeface="Arial"/>
                </a:rPr>
                <a:t>народа</a:t>
              </a:r>
              <a:endParaRPr b="0" lang="en-US" sz="21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8" name="_s2064"/>
            <p:cNvSpPr/>
            <p:nvPr/>
          </p:nvSpPr>
          <p:spPr>
            <a:xfrm>
              <a:off x="4695120" y="3845880"/>
              <a:ext cx="1904760" cy="12376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2dffd"/>
              </a:solidFill>
              <a:miter/>
            </a:ln>
            <a:effectLst>
              <a:outerShdw dist="63504" dir="19383909" blurRad="0" rotWithShape="0">
                <a:srgbClr val="f2dff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990099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990099"/>
                  </a:solidFill>
                  <a:latin typeface="Arial"/>
                </a:rPr>
                <a:t>быт </a:t>
              </a:r>
              <a:endParaRPr b="0" lang="en-US" sz="21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990099"/>
                  </a:solidFill>
                  <a:latin typeface="Arial"/>
                </a:rPr>
                <a:t>народа</a:t>
              </a:r>
              <a:endParaRPr b="0" lang="en-US" sz="21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75" name="_s2073"/>
            <p:cNvSpPr/>
            <p:nvPr/>
          </p:nvSpPr>
          <p:spPr>
            <a:xfrm>
              <a:off x="6917400" y="3845880"/>
              <a:ext cx="1902240" cy="12376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2dffd"/>
              </a:solidFill>
              <a:miter/>
            </a:ln>
            <a:effectLst>
              <a:outerShdw dist="63504" dir="19383909" blurRad="0" rotWithShape="0">
                <a:srgbClr val="f2dff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990099"/>
                  </a:solidFill>
                  <a:latin typeface="Arial"/>
                </a:rPr>
                <a:t>культуру народа</a:t>
              </a:r>
              <a:endParaRPr b="0" lang="en-US" sz="21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Verdana"/>
              </a:rPr>
              <a:t>Источники фразеологизмов</a:t>
            </a:r>
            <a:br>
              <a:rPr sz="4000"/>
            </a:br>
            <a:r>
              <a:rPr b="1" lang="en-US" sz="4000" spc="-1" strike="noStrike">
                <a:solidFill>
                  <a:srgbClr val="990099"/>
                </a:solidFill>
                <a:latin typeface="Verdana"/>
              </a:rPr>
              <a:t>русского языка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2197080"/>
            <a:ext cx="8229600" cy="38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     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4221000"/>
            <a:ext cx="4176720" cy="1400400"/>
          </a:xfrm>
          <a:prstGeom prst="flowChartProcess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Фразеологизмы</a:t>
            </a: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русского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происхождения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88000" y="4221000"/>
            <a:ext cx="3816360" cy="1400400"/>
          </a:xfrm>
          <a:prstGeom prst="flowChartProcess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Фразеологизмы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заимствованные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117200">
            <a:off x="2339640" y="2491920"/>
            <a:ext cx="485640" cy="1479600"/>
          </a:xfrm>
          <a:prstGeom prst="downArrow">
            <a:avLst>
              <a:gd name="adj1" fmla="val 50000"/>
              <a:gd name="adj2" fmla="val 76168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20853600">
            <a:off x="6300360" y="2492280"/>
            <a:ext cx="486000" cy="1479600"/>
          </a:xfrm>
          <a:prstGeom prst="downArrow">
            <a:avLst>
              <a:gd name="adj1" fmla="val 50000"/>
              <a:gd name="adj2" fmla="val 76111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99"/>
                </a:solidFill>
                <a:latin typeface="Verdana"/>
              </a:rPr>
              <a:t>Заимствованные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362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Из старославянского языка (Библия)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(«запретный плод»)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Из латинского языка («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lma mater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»)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Из мифов Древней Греции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(«сизифов труд»)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Из европейских языко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(англ. – «синий чулок», нем.- «вот где собака зарыта»,франц.-«идти ва-банк»,испанск.- «голубая кровь»)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Из произведений зарубежных писателей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(«выкурить трубку мира»)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6.    Исторические события («жребий брошен»)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  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82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99"/>
                </a:solidFill>
                <a:latin typeface="Verdana"/>
              </a:rPr>
              <a:t>Русское происхождение</a:t>
            </a:r>
            <a:r>
              <a:rPr b="0" i="1" lang="en-US" sz="4000" spc="-1" strike="noStrike">
                <a:solidFill>
                  <a:srgbClr val="990099"/>
                </a:solidFill>
                <a:latin typeface="Verdana"/>
              </a:rPr>
              <a:t>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530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Ремесла и профессии («топорная работа»)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Быт и труд крестьян («быть начеку»)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Древние воины («ошеломить»)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Старые пословицы («собаку съел»)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Исторические события («крепкий орешек»)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Произведения русских писателей («медвежья услуга»).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                                     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900000" y="1774800"/>
            <a:ext cx="691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7619760" cy="40100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5580000" y="1270080"/>
            <a:ext cx="2664000" cy="1224000"/>
          </a:xfr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Восточные славяне: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русские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украинцы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белорусы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1270080"/>
            <a:ext cx="1368360" cy="609480"/>
          </a:xfr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Западные славяне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2811600"/>
            <a:ext cx="1292400" cy="609480"/>
          </a:xfr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Южные славяне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53800" y="2781360"/>
            <a:ext cx="24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Индоевропейцы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5640" y="4365720"/>
            <a:ext cx="792000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Общеславянские фразеологизмы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( 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возникли в период выделения   группы славян из индоевропейских народов  2в.до н.э.- 5в.н.э.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Восточнославянские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( с 5 по 7 век 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Собственно русские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( примерно 15 век 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Verdana"/>
              </a:rPr>
              <a:t>Язык наших предков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Verdana"/>
              </a:rPr>
              <a:t>Символы в русской фразеологии. 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"/>
          <p:cNvSpPr/>
          <p:nvPr/>
        </p:nvSpPr>
        <p:spPr>
          <a:xfrm>
            <a:off x="468360" y="2133720"/>
            <a:ext cx="295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40" y="1916280"/>
            <a:ext cx="2160720" cy="122544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животные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4000" y="313992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99"/>
                </a:solidFill>
                <a:latin typeface="Times New Roman"/>
              </a:rPr>
              <a:t>(заяц, лиса, лошадь, баран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737000">
            <a:off x="1979280" y="1052640"/>
            <a:ext cx="360360" cy="790560"/>
          </a:xfrm>
          <a:prstGeom prst="downArrow">
            <a:avLst>
              <a:gd name="adj1" fmla="val 50000"/>
              <a:gd name="adj2" fmla="val 54845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21080" y="2133720"/>
            <a:ext cx="295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2360" y="1917720"/>
            <a:ext cx="2159280" cy="122400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части тела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314172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99"/>
                </a:solidFill>
                <a:latin typeface="Times New Roman"/>
              </a:rPr>
              <a:t>(голова, руки, нос, глаза, уши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00720" y="1125360"/>
            <a:ext cx="358560" cy="716040"/>
          </a:xfrm>
          <a:prstGeom prst="downArrow">
            <a:avLst>
              <a:gd name="adj1" fmla="val 50000"/>
              <a:gd name="adj2" fmla="val 49925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43640" y="1916280"/>
            <a:ext cx="2158920" cy="122364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мер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веса, длины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деньги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227640" y="313992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99"/>
                </a:solidFill>
                <a:latin typeface="Times New Roman"/>
              </a:rPr>
              <a:t>(пуд, вершок, аршин, рубль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20046600">
            <a:off x="6948000" y="1052280"/>
            <a:ext cx="358920" cy="715680"/>
          </a:xfrm>
          <a:prstGeom prst="downArrow">
            <a:avLst>
              <a:gd name="adj1" fmla="val 50000"/>
              <a:gd name="adj2" fmla="val 4985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39640" y="1916280"/>
            <a:ext cx="2160720" cy="122544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животные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4000" y="314172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99"/>
                </a:solidFill>
                <a:latin typeface="Times New Roman"/>
              </a:rPr>
              <a:t>(заяц, лиса, лошадь, баран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9640" y="1917720"/>
            <a:ext cx="2160720" cy="122544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животные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9640" y="1916280"/>
            <a:ext cx="2160720" cy="122544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животные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4000" y="314172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99"/>
                </a:solidFill>
                <a:latin typeface="Times New Roman"/>
              </a:rPr>
              <a:t>(заяц, лиса, лошадь, баран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9640" y="1916280"/>
            <a:ext cx="2160720" cy="122544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животные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47640" y="566100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99"/>
                </a:solidFill>
                <a:latin typeface="Times New Roman"/>
              </a:rPr>
              <a:t>(белый-черный, розовый, красный, зеленый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63640" y="4437000"/>
            <a:ext cx="2160720" cy="122544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цвета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412200">
            <a:off x="2916000" y="1198440"/>
            <a:ext cx="358560" cy="3021120"/>
          </a:xfrm>
          <a:prstGeom prst="downArrow">
            <a:avLst>
              <a:gd name="adj1" fmla="val 56639"/>
              <a:gd name="adj2" fmla="val 93853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57340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99"/>
                </a:solidFill>
                <a:latin typeface="Times New Roman"/>
              </a:rPr>
              <a:t>(каша, хлеб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2360" y="4437000"/>
            <a:ext cx="2160720" cy="129708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пища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21382800">
            <a:off x="6013080" y="1195560"/>
            <a:ext cx="358920" cy="2949480"/>
          </a:xfrm>
          <a:prstGeom prst="downArrow">
            <a:avLst>
              <a:gd name="adj1" fmla="val 56639"/>
              <a:gd name="adj2" fmla="val 91535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8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08000"/>
          </a:xfrm>
          <a:prstGeom prst="rect">
            <a:avLst/>
          </a:prstGeom>
          <a:solidFill>
            <a:srgbClr val="edfad2">
              <a:alpha val="3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99"/>
                </a:solidFill>
                <a:latin typeface="Verdana"/>
              </a:rPr>
              <a:t>Фразеологизмы истинно русского происхождения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2951280" cy="251964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724360" y="3789360"/>
            <a:ext cx="2953080" cy="252576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sp>
        <p:nvSpPr>
          <p:cNvPr id="228" name=""/>
          <p:cNvSpPr/>
          <p:nvPr/>
        </p:nvSpPr>
        <p:spPr>
          <a:xfrm>
            <a:off x="3852360" y="1724040"/>
            <a:ext cx="349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Arial"/>
              </a:rPr>
              <a:t>«спустя рукава»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Arial"/>
              </a:rPr>
              <a:t>«засучив рукава»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35640" y="4797360"/>
            <a:ext cx="339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Arial"/>
              </a:rPr>
              <a:t>«бить баклуши»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3T12:36:11Z</dcterms:created>
  <dc:creator>Vista</dc:creator>
  <dc:description/>
  <dc:language>en-US</dc:language>
  <cp:lastModifiedBy>olga</cp:lastModifiedBy>
  <dcterms:modified xsi:type="dcterms:W3CDTF">2011-03-11T09:28:47Z</dcterms:modified>
  <cp:revision>18</cp:revision>
  <dc:subject/>
  <dc:title>ЗАГОЛОВОК</dc:title>
</cp:coreProperties>
</file>